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AB4-3E57-4A4E-BD02-40F2A5D4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CD9-2595-4A88-B6F1-A580156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670-3239-461E-9832-9A58C2B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BA2-5056-4C22-9D6D-2620E03C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54D9-82D8-47A1-B702-C2A75426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CF30-3FE1-40B1-99EE-5C996820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006-A2C8-4B44-9B27-B93847BA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275D-45B1-479C-9765-B50664D3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9472-C877-4F16-B27C-C6327F38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1A99-1BD9-4025-97E6-3E5FBA36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2FE-34BD-4950-9F07-BD8A945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2AC-BFB4-4893-B40F-3370A0FC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00B-A1D9-45E2-AE49-672CFBA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EC7-E04A-4D99-AEC3-CD5759B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DBD3-2D2D-4134-8E6A-12D4950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DF0-F791-4E72-BA39-BB041EA3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5EF2-879A-4F64-8B0B-E968648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76A-FB20-4B12-BDAD-2F2820AC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FAD-D0B6-4E94-B7E6-B5A3BB0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6C7-299B-422F-A55F-E298004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DC4-C1B1-4752-8B17-01535EC8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4CB-85ED-409D-B572-75BFCAB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F1A-5012-496B-B9BB-4330F1A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160-F0E5-4ECC-9810-9A55607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03A9-5080-42FD-8FF8-E95453C048C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DBB-22B0-4915-B665-2D848AD6AFE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" TargetMode="External"/><Relationship Id="rId2" Type="http://schemas.openxmlformats.org/officeDocument/2006/relationships/hyperlink" Target="http://www.isa.cie.uva.es/~prada" TargetMode="External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anet.ru/isa/students/ex.s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prada@autom.uva.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sa.cie.uva.es/~prada/" TargetMode="External"/><Relationship Id="rId2" Type="http://schemas.openxmlformats.org/officeDocument/2006/relationships/hyperlink" Target="http://www.isa.cie.uva.es/~prada/" TargetMode="External"/><Relationship Id="rId3" Type="http://schemas.openxmlformats.org/officeDocument/2006/relationships/hyperlink" Target="http://www.isa.cie.uva.es/~prada/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 de Procesos Quím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f. Cesar de 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pto. de Ingeniería de Sistemas y Auto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SA-U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5721480" y="2368440"/>
            <a:ext cx="2273040" cy="13590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0748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11640" y="29019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334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97920" y="1357200"/>
            <a:ext cx="157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 contr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24000" y="2744640"/>
            <a:ext cx="1511280" cy="74952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11240" y="4654440"/>
            <a:ext cx="5245200" cy="1396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357920" y="3988440"/>
            <a:ext cx="1246320" cy="444600"/>
          </a:xfrm>
          <a:prstGeom prst="rightArrow">
            <a:avLst>
              <a:gd name="adj1" fmla="val 50000"/>
              <a:gd name="adj2" fmla="val 140174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0" y="356724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11440" y="2749680"/>
            <a:ext cx="151128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25640" y="29782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6160" y="28814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4040" y="5014800"/>
            <a:ext cx="224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me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81480" y="1808280"/>
            <a:ext cx="153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533700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s concentraremos en los reguladores y en el funcionamiento del conjunto en lazo cer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441360" y="429120"/>
            <a:ext cx="8486640" cy="5568480"/>
            <a:chOff x="441360" y="429120"/>
            <a:chExt cx="8486640" cy="5568480"/>
          </a:xfrm>
        </p:grpSpPr>
        <p:grpSp>
          <p:nvGrpSpPr>
            <p:cNvPr id="250" name=""/>
            <p:cNvGrpSpPr/>
            <p:nvPr/>
          </p:nvGrpSpPr>
          <p:grpSpPr>
            <a:xfrm>
              <a:off x="2116080" y="4392720"/>
              <a:ext cx="304920" cy="304200"/>
              <a:chOff x="2116080" y="4392720"/>
              <a:chExt cx="304920" cy="30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2151720" y="45752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154960" y="4570200"/>
                <a:ext cx="22680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54960" y="457524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85360" y="457524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268360" y="447840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116080" y="4392720"/>
                <a:ext cx="304920" cy="860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64000" y="1268280"/>
              <a:ext cx="761760" cy="342900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3429000"/>
                <a:gd name="textAreaBottom" fmla="*/ 3391920 h 3429000"/>
              </a:gdLst>
              <a:ahLst/>
              <a:rect l="textAreaLeft" t="textAreaTop" r="textAreaRight" b="textAreaBottom"/>
              <a:pathLst>
                <a:path w="21600" h="97195">
                  <a:moveTo>
                    <a:pt x="3600" y="0"/>
                  </a:moveTo>
                  <a:arcTo wR="3600" hR="3600" stAng="16200000" swAng="-5400000"/>
                  <a:lnTo>
                    <a:pt x="0" y="93595"/>
                  </a:lnTo>
                  <a:arcTo wR="3600" hR="3600" stAng="10800000" swAng="-5400000"/>
                  <a:lnTo>
                    <a:pt x="18000" y="97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55760" y="2938320"/>
              <a:ext cx="129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728800" y="4468680"/>
              <a:ext cx="455760" cy="4590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879640" y="4622760"/>
              <a:ext cx="1526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79640" y="4699080"/>
              <a:ext cx="1526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2381400" y="4621320"/>
              <a:ext cx="650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2953800" y="4927680"/>
              <a:ext cx="18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420640" y="477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4880" y="469728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563640" y="424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792240" y="378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63640" y="3325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792240" y="286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563640" y="2411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792240" y="1954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4160" y="50785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27600" y="5207040"/>
              <a:ext cx="29196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4360" y="4468680"/>
              <a:ext cx="292320" cy="2923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25400" y="4621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8440" y="4624560"/>
              <a:ext cx="0" cy="58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32160" y="5359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76600" y="4479840"/>
              <a:ext cx="741240" cy="5580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954160" y="43160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54160" y="43164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06600" y="4621320"/>
              <a:ext cx="64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21000" y="4773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06600" y="394812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14640" y="393552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658880" y="42397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1160" y="4087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8360" y="424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59000" y="3630600"/>
              <a:ext cx="936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1360" y="4391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p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336560" y="1592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07200" y="1801800"/>
              <a:ext cx="1066680" cy="533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551560" y="2685960"/>
              <a:ext cx="304560" cy="304560"/>
              <a:chOff x="5551560" y="2685960"/>
              <a:chExt cx="304560" cy="30456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5587200" y="269100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90440" y="2685960"/>
                <a:ext cx="22680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590440" y="269100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820480" y="269100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03840" y="274716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551560" y="2904120"/>
                <a:ext cx="30456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V="1">
              <a:off x="3944880" y="963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44880" y="9637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9480" y="582480"/>
              <a:ext cx="74952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916680" y="430200"/>
              <a:ext cx="457200" cy="3808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16680" y="811080"/>
              <a:ext cx="0" cy="1526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687720" y="981000"/>
              <a:ext cx="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687720" y="811080"/>
              <a:ext cx="228600" cy="1526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8080" y="811080"/>
              <a:ext cx="0" cy="1699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5641560" y="1212480"/>
              <a:ext cx="383040" cy="396720"/>
              <a:chOff x="5641560" y="1212480"/>
              <a:chExt cx="383040" cy="396720"/>
            </a:xfrm>
          </p:grpSpPr>
          <p:sp>
            <p:nvSpPr>
              <p:cNvPr id="308" name=""/>
              <p:cNvSpPr/>
              <p:nvPr/>
            </p:nvSpPr>
            <p:spPr>
              <a:xfrm>
                <a:off x="5764320" y="1505520"/>
                <a:ext cx="58320" cy="10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828040" y="1385280"/>
                <a:ext cx="13248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5766840" y="1490760"/>
                <a:ext cx="25488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66280" y="1388160"/>
                <a:ext cx="58320" cy="10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5816520" y="1363320"/>
                <a:ext cx="78840" cy="13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91000">
                <a:off x="5642280" y="128304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554360" y="11160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87880" y="11160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9800" y="1268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59280" y="1268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2800" y="126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02280" y="963720"/>
              <a:ext cx="685800" cy="4572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40360" y="126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40360" y="2335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8059680" y="2487600"/>
              <a:ext cx="304920" cy="304560"/>
              <a:chOff x="8059680" y="2487600"/>
              <a:chExt cx="304920" cy="304560"/>
            </a:xfrm>
          </p:grpSpPr>
          <p:sp>
            <p:nvSpPr>
              <p:cNvPr id="323" name=""/>
              <p:cNvSpPr/>
              <p:nvPr/>
            </p:nvSpPr>
            <p:spPr>
              <a:xfrm>
                <a:off x="8095320" y="267048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098560" y="2665080"/>
                <a:ext cx="22680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98560" y="2670480"/>
                <a:ext cx="22680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28960" y="2670480"/>
                <a:ext cx="0" cy="11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8211960" y="2573640"/>
                <a:ext cx="0" cy="15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59680" y="248760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526160" y="20304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59680" y="2030400"/>
              <a:ext cx="292320" cy="291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64600" y="27162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56120" y="2736720"/>
              <a:ext cx="22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3880" y="218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31080" y="218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1960" y="233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11960" y="1801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93760" y="294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3040" y="2031840"/>
              <a:ext cx="1038240" cy="74880"/>
            </a:xfrm>
            <a:custGeom>
              <a:avLst/>
              <a:gdLst/>
              <a:ahLst/>
              <a:rect l="l" t="t" r="r" b="b"/>
              <a:pathLst>
                <a:path w="654" h="47">
                  <a:moveTo>
                    <a:pt x="0" y="10"/>
                  </a:moveTo>
                  <a:cubicBezTo>
                    <a:pt x="52" y="28"/>
                    <a:pt x="118" y="10"/>
                    <a:pt x="179" y="18"/>
                  </a:cubicBezTo>
                  <a:cubicBezTo>
                    <a:pt x="238" y="39"/>
                    <a:pt x="169" y="18"/>
                    <a:pt x="296" y="18"/>
                  </a:cubicBezTo>
                  <a:cubicBezTo>
                    <a:pt x="332" y="18"/>
                    <a:pt x="369" y="23"/>
                    <a:pt x="405" y="26"/>
                  </a:cubicBezTo>
                  <a:cubicBezTo>
                    <a:pt x="474" y="47"/>
                    <a:pt x="521" y="7"/>
                    <a:pt x="584" y="2"/>
                  </a:cubicBezTo>
                  <a:cubicBezTo>
                    <a:pt x="607" y="0"/>
                    <a:pt x="631" y="2"/>
                    <a:pt x="654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544720" y="1573200"/>
              <a:ext cx="228600" cy="1522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24520" y="1604880"/>
              <a:ext cx="0" cy="11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022360" y="2752560"/>
              <a:ext cx="54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9480" y="313848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41960" y="3164040"/>
              <a:ext cx="29232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84880" y="2741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839920" y="329724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691240" y="2976480"/>
              <a:ext cx="1260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9000" y="248652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43720" y="239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47120" y="4402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6000" y="5537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8520" y="207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9560" y="3890880"/>
              <a:ext cx="291960" cy="2923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3470400"/>
              <a:ext cx="29196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41160" y="4064040"/>
              <a:ext cx="2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95720" y="3755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65480" y="3632040"/>
              <a:ext cx="77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92480" y="319896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4520" y="1689120"/>
              <a:ext cx="29232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84520" y="3149640"/>
              <a:ext cx="292320" cy="291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330440" y="183816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27440" y="1986120"/>
              <a:ext cx="0" cy="117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82960" y="3325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240160" y="1420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630680" y="341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20160" y="42912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friger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879720" y="5222880"/>
              <a:ext cx="304560" cy="304920"/>
              <a:chOff x="3879720" y="5222880"/>
              <a:chExt cx="304560" cy="304920"/>
            </a:xfrm>
          </p:grpSpPr>
          <p:sp>
            <p:nvSpPr>
              <p:cNvPr id="367" name=""/>
              <p:cNvSpPr/>
              <p:nvPr/>
            </p:nvSpPr>
            <p:spPr>
              <a:xfrm flipH="1">
                <a:off x="3884760" y="5258520"/>
                <a:ext cx="11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79720" y="5261760"/>
                <a:ext cx="12708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3884760" y="5261760"/>
                <a:ext cx="11664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3884760" y="5492160"/>
                <a:ext cx="11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40920" y="5375160"/>
                <a:ext cx="15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3988440" y="5331960"/>
                <a:ext cx="304920" cy="864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3930480" y="5504040"/>
              <a:ext cx="1296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92640" y="521028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44920" y="509256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159080" y="5375160"/>
              <a:ext cx="14616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4597200" y="536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95880" y="484344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33720" y="500364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1080" y="459756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508720" y="3645000"/>
            <a:ext cx="338436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operación y el control de un  proceso necesitan: 1 comprender su funcionamiento dinámico  2 mantener sus variables en los valores deseados a pesar de perturb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6720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5796000" y="1915920"/>
            <a:ext cx="2952360" cy="3533760"/>
            <a:chOff x="5796000" y="1915920"/>
            <a:chExt cx="2952360" cy="3533760"/>
          </a:xfrm>
        </p:grpSpPr>
        <p:grpSp>
          <p:nvGrpSpPr>
            <p:cNvPr id="385" name=""/>
            <p:cNvGrpSpPr/>
            <p:nvPr/>
          </p:nvGrpSpPr>
          <p:grpSpPr>
            <a:xfrm>
              <a:off x="5797080" y="4380120"/>
              <a:ext cx="240480" cy="218160"/>
              <a:chOff x="5797080" y="4380120"/>
              <a:chExt cx="240480" cy="218160"/>
            </a:xfrm>
          </p:grpSpPr>
          <p:sp>
            <p:nvSpPr>
              <p:cNvPr id="386" name=""/>
              <p:cNvSpPr/>
              <p:nvPr/>
            </p:nvSpPr>
            <p:spPr>
              <a:xfrm>
                <a:off x="5825160" y="4511160"/>
                <a:ext cx="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827680" y="4507200"/>
                <a:ext cx="17892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27680" y="4511160"/>
                <a:ext cx="17892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09480" y="4511160"/>
                <a:ext cx="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917320" y="444168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97080" y="4380120"/>
                <a:ext cx="240480" cy="61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939720" y="2134800"/>
              <a:ext cx="600840" cy="2463840"/>
            </a:xfrm>
            <a:custGeom>
              <a:avLst/>
              <a:gdLst>
                <a:gd name="textAreaLeft" fmla="*/ 29160 w 600840"/>
                <a:gd name="textAreaRight" fmla="*/ 571680 w 600840"/>
                <a:gd name="textAreaTop" fmla="*/ 29160 h 2463840"/>
                <a:gd name="textAreaBottom" fmla="*/ 2434680 h 2463840"/>
              </a:gdLst>
              <a:ahLst/>
              <a:rect l="textAreaLeft" t="textAreaTop" r="textAreaRight" b="textAreaBottom"/>
              <a:pathLst>
                <a:path w="21600" h="88534">
                  <a:moveTo>
                    <a:pt x="3600" y="0"/>
                  </a:moveTo>
                  <a:arcTo wR="3600" hR="3600" stAng="16200000" swAng="-5400000"/>
                  <a:lnTo>
                    <a:pt x="0" y="84934"/>
                  </a:lnTo>
                  <a:arcTo wR="3600" hR="3600" stAng="10800000" swAng="-5400000"/>
                  <a:lnTo>
                    <a:pt x="18000" y="88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07240" y="3335040"/>
              <a:ext cx="102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279840" y="4434480"/>
              <a:ext cx="359640" cy="32976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399360" y="4545360"/>
              <a:ext cx="119880" cy="5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99720" y="4600080"/>
              <a:ext cx="119880" cy="5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006240" y="4544280"/>
              <a:ext cx="51336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6458040" y="4764240"/>
              <a:ext cx="108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37560" y="46537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0320" y="4599000"/>
              <a:ext cx="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939720" y="4270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120080" y="394200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939720" y="3613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120080" y="3284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939720" y="295632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20080" y="26276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58400" y="4872960"/>
              <a:ext cx="78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36920" y="496512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21280" y="4434480"/>
              <a:ext cx="230400" cy="20988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540560" y="454428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56080" y="45468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177040" y="507456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49440" y="4442760"/>
              <a:ext cx="584640" cy="3996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458400" y="4324680"/>
              <a:ext cx="0" cy="1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58400" y="4325040"/>
              <a:ext cx="48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7560" y="465372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405144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16960" y="427032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909760" y="3832560"/>
              <a:ext cx="7200" cy="218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549200" y="2367720"/>
              <a:ext cx="54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508240" y="3153960"/>
              <a:ext cx="240120" cy="218520"/>
              <a:chOff x="8508240" y="3153960"/>
              <a:chExt cx="240120" cy="218520"/>
            </a:xfrm>
          </p:grpSpPr>
          <p:sp>
            <p:nvSpPr>
              <p:cNvPr id="422" name=""/>
              <p:cNvSpPr/>
              <p:nvPr/>
            </p:nvSpPr>
            <p:spPr>
              <a:xfrm flipV="1">
                <a:off x="8536320" y="315720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38840" y="3153960"/>
                <a:ext cx="178560" cy="9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538840" y="3157200"/>
                <a:ext cx="17856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8720280" y="315720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8120" y="3197520"/>
                <a:ext cx="0" cy="1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8508240" y="3310560"/>
                <a:ext cx="240120" cy="6192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 flipV="1">
              <a:off x="7240320" y="1915920"/>
              <a:ext cx="0" cy="21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21280" y="202536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42480" y="2025360"/>
              <a:ext cx="230400" cy="209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80800" y="2134800"/>
              <a:ext cx="2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61760" y="21348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2960" y="213480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502840" y="2354040"/>
              <a:ext cx="180360" cy="1090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92440" y="2376720"/>
              <a:ext cx="0" cy="82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090640" y="3201480"/>
              <a:ext cx="43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14360" y="347868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618400" y="3362400"/>
              <a:ext cx="972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2878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69280" y="432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3160" y="265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33640" y="4019400"/>
              <a:ext cx="230400" cy="20988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32200" y="371736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63680" y="414396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648840" y="392256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914080" y="383328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46320" y="3522240"/>
              <a:ext cx="0" cy="20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66200" y="243720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6200" y="3486960"/>
              <a:ext cx="230400" cy="2095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544520" y="2544480"/>
              <a:ext cx="12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8880" y="2650680"/>
              <a:ext cx="0" cy="84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1640" y="3613320"/>
              <a:ext cx="60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262360" y="2244240"/>
              <a:ext cx="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781400" y="3678480"/>
              <a:ext cx="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188840" y="4976640"/>
              <a:ext cx="240480" cy="218880"/>
              <a:chOff x="7188840" y="4976640"/>
              <a:chExt cx="240480" cy="21888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7192800" y="50022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88840" y="5004360"/>
                <a:ext cx="10008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192800" y="5004360"/>
                <a:ext cx="92160" cy="16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192800" y="51699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37440" y="5086080"/>
                <a:ext cx="124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5400000">
                <a:off x="7285680" y="5051880"/>
                <a:ext cx="218880" cy="680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7228800" y="5178600"/>
              <a:ext cx="10080" cy="27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14640" y="496764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34880" y="4883040"/>
              <a:ext cx="0" cy="8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409160" y="5086080"/>
              <a:ext cx="115200" cy="9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754760" y="507600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17160" y="4703760"/>
              <a:ext cx="230400" cy="209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1320" y="4818960"/>
              <a:ext cx="2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63200" y="4527360"/>
              <a:ext cx="88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716360" y="3357720"/>
            <a:ext cx="576360" cy="433080"/>
          </a:xfrm>
          <a:prstGeom prst="leftRightArrow">
            <a:avLst>
              <a:gd name="adj1" fmla="val 50000"/>
              <a:gd name="adj2" fmla="val 264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530064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l control del proceso se lleva a cabo desde salas de control usando sistemas de control distrib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92000" y="2133720"/>
            <a:ext cx="7490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 esta asignatura se pretende que el alumn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quiera unos conocimientos básicos y una metodología de trabajo 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Dinámica de Sist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Regulación Automátic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le permit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entender el funciona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modeliz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analizar 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ahoma"/>
              </a:rPr>
              <a:t>diseña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stemas de control automático de la industria de    proces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quiera una experiencia práctica de la instrumentación, herramientas y sistemas necesarios en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E Process Systems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asignatura se inserta dentro del campo denominado PSE (Ingeniera de Sistemas de Proce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cess Systems Engineering (PSE) trata del desarrollo de métodos y herramentas basadas en ordenador para realizar un tratamiento integrado de todos los aspectos de modelado, simulación, diseño, operación control y gestión de las industrias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una área multidisciplinar, donde colaboran desde la ingeniería química, electrica, control, etc. a las matemáticas aplicadas, las ciencias básicas (química, física, biología,..) y en particular la informá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etodología de Siste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alizar la re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r los problemas en términos matemá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lver los problemas con las herramientas de cálcu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pretar las soluciones en términos fís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licar las solu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nstru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tómatas Program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delos diná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álisis de sistemas lin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ño e implementación de sistemas d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179280" y="1898280"/>
            <a:ext cx="8640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ol e Instrumentación de procesos químic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llero, Fdez.-Camacho, Edt. Sintesis, 1997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genieria de control modern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gata, Edt. Prentice Hall Inter. 4ª edc, 2003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cess Dynamics, Modeling and Contro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B.A. Ogunnaike, W.H. Ray, Oxford Univ. Press, 1994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nciples and practice of Automatic process contro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,Smith,Corripio, Edt. John Wiley, 2006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sentials of process control,W.L. Luyben, M.L. Luyben, Edt. Mc Graw-Hill, 1997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modeling, simulation and control for chemical eng., Luyben, Edt. McGraw Hill, 1990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Dynamics, Modelling, Analysis and simulation,  B. Wayne Bequette, Edt. Prentice Hall, 19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omatic Tunning of PID Regulators, Astrom, Hagglund, Edt. ISA, 1995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uning of industrial control systems, A. B. Corripio., Edt. ISA, 1990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ual de instrumentación y control de Procesos, Edt. Alción, 199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Avanzado de Procesos, José Acedo Sanchez, Edt. Diaz de Santos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systems Engineering, N.S. Nise, 2ª edic. Addison Wesley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 Dynamics and Control, D.E. Seborg, T.F. Edgar, D.A. Mellichamp, J. Willey, 19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ondensed Handbook of Measurement and Control, N.E. Battikh, Edt. ISA, 2nd Edition, 200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1440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oc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558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Toda la documentación de la asignatura se encuentra en ficheros PowerPoint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isa.cie.uva.es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~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ác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jemplos de problemas de exam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ahoma"/>
              </a:rPr>
              <a:t>Prada@autom.uva.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5977080" y="29700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443640" y="2924280"/>
            <a:ext cx="20448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oo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34920" y="2023920"/>
            <a:ext cx="7150320" cy="4235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94800" y="94464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tp://docenweb.isa.cie.uva.es/moodl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trol e Instrument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rientación y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ivi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structura doc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teóricas L,M,X a las 10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rcicios, Test   Moo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render practic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Laboratorio M a las 4 y 6 (2Grup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ocer herramientas y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acticar con: Procesos reales, Sistemas de control, Instrumentación, Software, Técnicas y herramientas básicas de modelado, análisis y diseño, procesos simul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mpleo de un Simulador de sala d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sitas, Con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alización de 3 proyectos práct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abor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855960" cy="28922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292720" y="-117000"/>
            <a:ext cx="316692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Objetivo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lustrar la teoría y permitir al  alumno aplicarla utilizando herramientas y sistemas re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render a utilizar herramientas y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ntas de laboratorio con instrumentación y equipos de control indust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uiones /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Miniproyectos: combinan desarrollos en simulación y realizaciones en plantas de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4240" y="5337000"/>
            <a:ext cx="61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  Plantas, Autómatas  y sistem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lado e Identificación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nálisis de sistemas diná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ntonía de Reguladores PID y estructur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Visitas a Indust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234936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actoría de AC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en Olmedo (Vallado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las de control y sistema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1 de Ener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finería de Petrono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en Amuski (Vizc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y sistemas de control incluyendo control avanzado 8 de Mayo 2008  (inscripción hasta el 30 de Abr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ooperación con la sección de estudiantes de la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11937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fer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358920" y="2313000"/>
            <a:ext cx="83534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 proyecto de Control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uel Bollain,  4 de Abril de 2008, 4.30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la de 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ooperación con la sección de estudiantes de la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"Control Predictivo Multivariable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fael Gonzalez, Petronor, 8 de May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1512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mulador de sala de control de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4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or grupos se harán practicas en un simulador de sala de control de procesos para entrenamiento de pers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ábricas azucare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do en el CTA por 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572000" y="216864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yectos Prác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38504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0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lantas y Sistemas de control, Autómatas Programables y Simulación. Prueba practica el 14 de Marz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1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odelado e Identificación de procesos. Entrega el 18 de Abril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Análisis de sistemas dinámicos.  Entrega el 5 de May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3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Reguladores PID y estructuras de control.  Entrega el 3 de Juni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regas 1 por grupo. Notificación de grupos de alumnos (3) al delegado (20 de Febre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sentación oral el 4 de Junio de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l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Asignatura tiene dos partes: Los temas de Instrumentación (1.2 y 1.3) impartidos por el profesor Urueña del Dpt. de Ing. Química en el primer cuatrimestre, y el resto de la asignatura impartida por el profesor C. de Prada del Dpt. de Ing. de Sistemas. En la calificación de la asignatura la primera parte contará un 25% y la segunda un 75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da parte puede aprobarse independientemente y se guarda la calificación hasta Septiembre. También puede compensarse una parte con la otra, con los pesos antes indicados y siempre que se haya alcanzado, al menos, una calificación de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lificación 2ª parte (Contro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7280" y="2023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valorará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yectos prácticos (3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amen final (7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a quienes saquen al menos un 4 en el ex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Revista EuroXchang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/ Premio ISA estudi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alumnos pueden publicar sus trabajos de prácticas o en el simulador en la Revista 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uroXchange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la Federación Europea de estudiantes de ISA. Las trabajos aceptados para publicación tendrán especial consideración cara a su valoración en la calificación  (hasta el 25/3/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lificación 2ª parte (contro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" y="1919520"/>
            <a:ext cx="806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echas de examen:  23 de  Junio  2008  /  12 de Septiembre 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realizará un examen con dos par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de problemas y otra de teoría y cuest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uración prevista: 3 h. de  problemas y 1.h de te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ación: 60 % de la nota para problemas y el 40 % para la teoría. Nota mínima para aprobar la asignatura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alumno puede encontrar problemas de exámenes típicos en la pagina web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utor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pacho en el Dpto.de Ingenieria de Sistemas y Automática. Planta baja, ala derecha de la Facultad de 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rreo electronico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sarabia@autom.uva.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formación gene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9280" y="1989000"/>
          <a:ext cx="7991280" cy="4027680"/>
        </p:xfrm>
        <a:graphic>
          <a:graphicData uri="http://schemas.openxmlformats.org/drawingml/2006/table">
            <a:tbl>
              <a:tblPr/>
              <a:tblGrid>
                <a:gridCol w="1731960"/>
                <a:gridCol w="6259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ncal,  10.5 créditos  (3 + 7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º,    anual     codigo 44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 cuatrimestre: Jueves de 9 a 11h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 cuatrimestre: Lun., Mar. y  Miércoles de 10 a 11h.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la 1 Alfonso VI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Práctica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 cuatrimestre: Martes de 16 a 18 h y de 18 a 20 h.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1 y 2  en el  Laboratorio del Dpto. de Ingeniería de Sistemas y Automática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sar de Prada Moraga, Dpto. Ingeniería de Sistemas y Automática, Facultad de Cie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ctubre a Enero los temas de Instrumentación  1.2 y 1.3 serán impartidos por el profesor Urueña del Dpto. de Ing. Quí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890720" y="6165720"/>
            <a:ext cx="530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PAGINA WEB:     www.isa.cie.uva.es/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~p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219320" y="549360"/>
            <a:ext cx="738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yectos Fin de carr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y proyectos o trabajos de investigación disponibles para quienes quieran realizarlos en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mas en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isa.cie.uva.es/~prada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icipación en proyectos de investigación del departamento: Petronor, CERN, HYCON, OPEN-GAIN, EA, CTA etc. sobre temas de optimización, modelado y simulacion, control avanzado, gestión de redes,… con participación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yectos con plantas piloto en el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008000" y="476280"/>
            <a:ext cx="792504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signaturas optativas: Perfil de Control de procesos y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3640" y="188136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trol por 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formática aplicada a la Ingeniería Quí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stemas de supervis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Asignatura de libre configuració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Simulación de sistemas diná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166920" y="4616280"/>
            <a:ext cx="2232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signaturas en Ingl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ximo curso 2008-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erta de Control e Instrumentación de Procesos Quí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timización de Procesos Quí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upos en Español e I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tras optativas e ingl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areas de un Ingeniero Quí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4178160" cy="274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242100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3068640"/>
          <a:ext cx="1506600" cy="14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068640"/>
                    <a:ext cx="15066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59280" y="443700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096920" cy="1127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59280" y="447372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ol auto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43700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queremos que func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87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debe de fun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84720" y="4869000"/>
          <a:ext cx="13716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4720" y="4869000"/>
                    <a:ext cx="13716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624720" y="5157720"/>
            <a:ext cx="22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cer que funcione automáticamente de la forma 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7280" y="1808280"/>
            <a:ext cx="6264360" cy="478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0360" y="2492280"/>
            <a:ext cx="2082960" cy="14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56360" y="3357720"/>
            <a:ext cx="576360" cy="287280"/>
          </a:xfrm>
          <a:prstGeom prst="leftRightArrow">
            <a:avLst>
              <a:gd name="adj1" fmla="val 50000"/>
              <a:gd name="adj2" fmla="val 3993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de proce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manual de un 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14920" y="4578480"/>
            <a:ext cx="596880" cy="596880"/>
          </a:xfrm>
          <a:prstGeom prst="ellipse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8920" y="4708440"/>
            <a:ext cx="5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43720" y="41972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5840" y="4654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531120" y="5111640"/>
            <a:ext cx="2412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2320" y="511164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3720" y="4724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49880" y="4730760"/>
            <a:ext cx="3938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987960" y="4730760"/>
            <a:ext cx="889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77040" y="4413240"/>
            <a:ext cx="977760" cy="317520"/>
          </a:xfrm>
          <a:prstGeom prst="line">
            <a:avLst/>
          </a:prstGeom>
          <a:ln w="12600">
            <a:solidFill>
              <a:srgbClr val="ffcf0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2160" y="4343400"/>
            <a:ext cx="7632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0" y="48"/>
                </a:moveTo>
                <a:lnTo>
                  <a:pt x="47" y="24"/>
                </a:lnTo>
                <a:lnTo>
                  <a:pt x="0" y="0"/>
                </a:lnTo>
                <a:lnTo>
                  <a:pt x="0" y="48"/>
                </a:lnTo>
              </a:path>
            </a:pathLst>
          </a:custGeom>
          <a:solidFill>
            <a:srgbClr val="00e4a8"/>
          </a:solidFill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84840" y="4495680"/>
            <a:ext cx="95400" cy="119160"/>
          </a:xfrm>
          <a:custGeom>
            <a:avLst/>
            <a:gdLst/>
            <a:ahLst/>
            <a:rect l="l" t="t" r="r" b="b"/>
            <a:pathLst>
              <a:path w="60" h="75">
                <a:moveTo>
                  <a:pt x="3" y="0"/>
                </a:moveTo>
                <a:lnTo>
                  <a:pt x="0" y="45"/>
                </a:lnTo>
                <a:lnTo>
                  <a:pt x="59" y="74"/>
                </a:lnTo>
              </a:path>
            </a:pathLst>
          </a:custGeom>
          <a:noFill/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45160" y="4343400"/>
            <a:ext cx="141480" cy="133200"/>
          </a:xfrm>
          <a:custGeom>
            <a:avLst/>
            <a:gdLst/>
            <a:ahLst/>
            <a:rect l="l" t="t" r="r" b="b"/>
            <a:pathLst>
              <a:path w="89" h="84">
                <a:moveTo>
                  <a:pt x="43" y="0"/>
                </a:moveTo>
                <a:lnTo>
                  <a:pt x="0" y="53"/>
                </a:lnTo>
                <a:lnTo>
                  <a:pt x="59" y="83"/>
                </a:lnTo>
                <a:lnTo>
                  <a:pt x="88" y="24"/>
                </a:lnTo>
                <a:lnTo>
                  <a:pt x="43" y="0"/>
                </a:lnTo>
              </a:path>
            </a:pathLst>
          </a:custGeom>
          <a:solidFill>
            <a:srgbClr val="00e4a8"/>
          </a:solidFill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2760" y="4876920"/>
            <a:ext cx="330480" cy="0"/>
          </a:xfrm>
          <a:prstGeom prst="line">
            <a:avLst/>
          </a:prstGeom>
          <a:ln w="507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2440" y="4280040"/>
            <a:ext cx="0" cy="14983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86320" y="2139840"/>
            <a:ext cx="1511280" cy="17398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854600" y="4718160"/>
            <a:ext cx="241200" cy="241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39960" y="2271600"/>
            <a:ext cx="1402200" cy="15519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22440" y="4572000"/>
            <a:ext cx="1905120" cy="1219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327560" y="4343400"/>
            <a:ext cx="0" cy="14479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22440" y="5791320"/>
            <a:ext cx="190512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54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75480" y="55623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75480" y="55627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563868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6268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75480" y="5410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84360" y="342900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32280" y="3429000"/>
            <a:ext cx="75960" cy="5335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32280" y="4038480"/>
            <a:ext cx="7596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2280" y="4267080"/>
            <a:ext cx="7596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25760" y="5661000"/>
            <a:ext cx="1440000" cy="730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 un proces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968640" y="2521080"/>
            <a:ext cx="2273400" cy="135864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3240" y="2978280"/>
            <a:ext cx="1206720" cy="368280"/>
          </a:xfrm>
          <a:prstGeom prst="rightArrow">
            <a:avLst>
              <a:gd name="adj1" fmla="val 50000"/>
              <a:gd name="adj2" fmla="val 163847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73360" y="305424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0920" y="30337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66560" y="371952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6840" y="356724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91520" y="4176720"/>
            <a:ext cx="261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29920" y="5337000"/>
            <a:ext cx="599400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manual o en laz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4200" y="234792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13920" y="227160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6680" y="273996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33680" y="33368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22280" y="4175280"/>
            <a:ext cx="3175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9800" y="4175280"/>
            <a:ext cx="21600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5240" y="35593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565440"/>
            <a:ext cx="291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21040" y="3565440"/>
            <a:ext cx="3682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349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507760" y="4952880"/>
            <a:ext cx="4660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050920" y="4184640"/>
            <a:ext cx="470160" cy="77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11200" y="2955960"/>
            <a:ext cx="139680" cy="633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9800" y="2955960"/>
            <a:ext cx="139680" cy="633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7360" y="3254400"/>
            <a:ext cx="204840" cy="63360"/>
          </a:xfrm>
          <a:custGeom>
            <a:avLst/>
            <a:gdLst/>
            <a:ahLst/>
            <a:rect l="l" t="t" r="r" b="b"/>
            <a:pathLst>
              <a:path w="129" h="40">
                <a:moveTo>
                  <a:pt x="0" y="0"/>
                </a:moveTo>
                <a:lnTo>
                  <a:pt x="70" y="39"/>
                </a:lnTo>
                <a:lnTo>
                  <a:pt x="128" y="10"/>
                </a:lnTo>
              </a:path>
            </a:pathLst>
          </a:custGeom>
          <a:noFill/>
          <a:ln cap="rnd"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2200" y="2097000"/>
            <a:ext cx="1402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Operación automá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4440" y="2444760"/>
            <a:ext cx="2273400" cy="13590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9040" y="2901960"/>
            <a:ext cx="1739880" cy="368280"/>
          </a:xfrm>
          <a:prstGeom prst="rightArrow">
            <a:avLst>
              <a:gd name="adj1" fmla="val 50000"/>
              <a:gd name="adj2" fmla="val 236239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4240" y="2978280"/>
            <a:ext cx="1435320" cy="368280"/>
          </a:xfrm>
          <a:prstGeom prst="rightArrow">
            <a:avLst>
              <a:gd name="adj1" fmla="val 50000"/>
              <a:gd name="adj2" fmla="val 194886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66720" y="295740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38160" y="341460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32640" y="34909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0000" y="227160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9720" y="21956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5440" y="2749680"/>
            <a:ext cx="1587600" cy="74916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rot="16200000">
            <a:off x="7320240" y="3663720"/>
            <a:ext cx="977760" cy="368280"/>
          </a:xfrm>
          <a:prstGeom prst="rightArrow">
            <a:avLst>
              <a:gd name="adj1" fmla="val 50000"/>
              <a:gd name="adj2" fmla="val 132759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4343400"/>
            <a:ext cx="5653080" cy="1652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793880" y="3933360"/>
            <a:ext cx="755640" cy="368280"/>
          </a:xfrm>
          <a:prstGeom prst="rightArrow">
            <a:avLst>
              <a:gd name="adj1" fmla="val 50000"/>
              <a:gd name="adj2" fmla="val 102599"/>
            </a:avLst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79800" y="29574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0" y="371952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3200" y="5121360"/>
            <a:ext cx="636732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automática en lazo cer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1736640"/>
            <a:ext cx="17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stituye al operado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Automát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813200" y="4273560"/>
            <a:ext cx="444600" cy="4446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92680" y="4295880"/>
            <a:ext cx="68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c1c1c"/>
                </a:solidFill>
                <a:latin typeface="Times New Roman"/>
              </a:rPr>
              <a:t>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0600" y="4287960"/>
            <a:ext cx="520560" cy="44424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79960" y="429264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c1c1c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7400" y="4508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9560" y="44956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37240" y="2139840"/>
            <a:ext cx="1511280" cy="17398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0880" y="2271600"/>
            <a:ext cx="1402200" cy="15519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Dec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Times New Roman"/>
              </a:rPr>
              <a:t>Act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8480" y="5486400"/>
            <a:ext cx="482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73360" y="4280040"/>
            <a:ext cx="0" cy="14983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73360" y="4572000"/>
            <a:ext cx="1905120" cy="1219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4343400"/>
            <a:ext cx="0" cy="14479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73360" y="5791320"/>
            <a:ext cx="190512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6680" y="5638680"/>
            <a:ext cx="1449360" cy="586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2604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26040" y="556236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556272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728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7280" y="563868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13600" y="5409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429000"/>
            <a:ext cx="1523880" cy="763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82840" y="3429000"/>
            <a:ext cx="76320" cy="5335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82840" y="4038480"/>
            <a:ext cx="7632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82840" y="4267080"/>
            <a:ext cx="76320" cy="15264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50080" y="5257800"/>
            <a:ext cx="533160" cy="15228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0880" y="4782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3568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6:46:23Z</dcterms:created>
  <dc:creator>Dpto. de Ing. de Sistemas y Automatica</dc:creator>
  <dc:description/>
  <dc:language>en-US</dc:language>
  <cp:lastModifiedBy>isa</cp:lastModifiedBy>
  <dcterms:modified xsi:type="dcterms:W3CDTF">2008-02-17T19:30:01Z</dcterms:modified>
  <cp:revision>30</cp:revision>
  <dc:subject/>
  <dc:title>Control e Instrumentación de Procesos Químicos</dc:title>
</cp:coreProperties>
</file>