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19F-CFEA-4D8D-9307-43A07603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491-4A1D-4A22-9F31-6348DEBA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541-CB4C-4734-B84D-54D82E99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065-DDD8-4D95-8487-C1C08DD7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359-1BD0-411D-95AD-C21A1969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8DF5-140F-43B1-A0AE-69037AB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DC28-DC44-4CD3-9126-41C19A94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72D-3D04-43DB-AA59-FF4AF178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C7E7-A74D-4B0C-B1F3-58D3479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F7DD-899B-4FE9-B524-BE5E4F86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A82E-CA79-49CE-9566-81E1448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F2F-B34F-4478-8825-13D903A3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A171-7158-4CBD-AB35-F4C1E32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755A-F8FD-40EF-90A4-7378D94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938F-FAF7-4C26-838A-369E00E6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0E64-FF11-410F-B051-C36E6042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6670-96A1-48FC-9D59-9CE4BA84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C48-DC12-4116-8C44-890889E5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D51-DE73-4017-8923-9276B33D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3BB-6D2A-47E8-963E-DCE1456F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7EC-69B2-47C6-879F-D8EE6AEA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409-9BB8-4F32-B176-2F4C20E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EF9-AFDA-4BC8-A14F-2917E2E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251-5EED-4F3B-905C-3F5AFD59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166B-7ED5-4BFA-A6E8-FB511DB2F8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D5F-97F5-4909-B6E1-BE70982B14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C:\EDIT\CLASE\computador\polos1.mdl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C:\EDIT\CLASE\computador\mv1.mdl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C:\EDIT\CLASE\computador\mv2.mdl" TargetMode="Externa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adores digit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esar de P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SA-U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ada@autom.uva.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seño por asignación de polos (Wellstea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54200" y="2189160"/>
                <a:ext cx="770256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79600" y="4343400"/>
            <a:ext cx="766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se desea que los polos en lazo cerrado estén situados en posiciones escogidas que correspondan a las raíces de un polinomio H(q), deberá cumpli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68360" y="5300640"/>
                <a:ext cx="3886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685800" y="57754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ta es una ecuación diofántica que deberá resolverse en las incógnitas R y S igualando los coeficientes de los términos de igual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E3C-B106-4733-89BB-761803D446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gnación de po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93720" y="2162160"/>
                <a:ext cx="77025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25320" y="3870360"/>
            <a:ext cx="81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se quiere tener ganancia estacionaria unidad ante cambos en la referencia en lazo cerrado deberá cumpli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75080" y="4470480"/>
                <a:ext cx="1003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822240" y="5303880"/>
            <a:ext cx="75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lo que T puede escogerse como un esca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617-4243-483B-8D38-F7D14735A8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gnación de po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868320" y="2117880"/>
            <a:ext cx="75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a alternativa para eliminar errores estacionarios (ante entradas salto en la referencia) es incluir un integrador en la ecuación del regul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43280" y="2909880"/>
                <a:ext cx="5475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853920" y="38401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 lo que la ecuación diofántica a resolver que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17880" y="4400640"/>
                <a:ext cx="4787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FE0-BF9E-4BC2-B8BE-52D6E815C3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440" y="2052720"/>
                <a:ext cx="85726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29280" y="4430880"/>
                <a:ext cx="3886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04920" y="387036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se ha escogido H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373560" y="3913200"/>
                <a:ext cx="30351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11120" y="4389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 que la ecuación diof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4876920"/>
            <a:ext cx="7116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ueda resolverse se necesita: grado (H)=h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max(r+n,m+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isten r + s +1 incognitas, luego para tener una solución ú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0200" y="5745240"/>
            <a:ext cx="28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x(r+n,m+s) = r+s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ED6-457E-404F-972E-C1910A053D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944640" y="2193840"/>
            <a:ext cx="6827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isten muchas posibles alternativas que cumplen la relación max(r+n,m+s) = r+s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o obstante para tener unas ecuaciones con polinomios de ordenes equilibrados, puede tomarse:  n+r = m+s   , con lo c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5840" y="3641760"/>
            <a:ext cx="1674720" cy="120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 = m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n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 + n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9120" y="4998960"/>
            <a:ext cx="81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ótese que A y B no deben tener factores comunes, porque, si los tuvieran,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689200" y="5373720"/>
                <a:ext cx="3886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593640" y="5776920"/>
            <a:ext cx="79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os factores deberían estar incluidos en H, lo cual no tiene por que ocurr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7E9-2194-4494-A3C7-432A55EF62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884160" y="3427560"/>
            <a:ext cx="698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cual corresponde a T=1 sg, se quiere diseñar un regulador digital tal que no presente error estacionario ante entradas salto en la referencia y proporcione en lazo cerrado una respuesta sobre-amortiguada con tiempo de asentamiento no superior a 5 s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" y="2133720"/>
            <a:ext cx="74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do un proceso de función de transferencia discre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152880" y="2560680"/>
                <a:ext cx="1892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914400" y="5256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este caso n= 2, m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3960" y="4816440"/>
            <a:ext cx="1674720" cy="120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 = m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n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 + n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52578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02440" y="4846680"/>
            <a:ext cx="16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    =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CDC-8000-4C86-9121-99C352002C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1.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2133720"/>
            <a:ext cx="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421000"/>
            <a:ext cx="1944720" cy="947520"/>
          </a:xfrm>
          <a:custGeom>
            <a:avLst/>
            <a:gdLst/>
            <a:ahLst/>
            <a:rect l="l" t="t" r="r" b="b"/>
            <a:pathLst>
              <a:path w="1225" h="597">
                <a:moveTo>
                  <a:pt x="0" y="597"/>
                </a:moveTo>
                <a:cubicBezTo>
                  <a:pt x="0" y="540"/>
                  <a:pt x="1" y="483"/>
                  <a:pt x="46" y="415"/>
                </a:cubicBezTo>
                <a:cubicBezTo>
                  <a:pt x="91" y="347"/>
                  <a:pt x="175" y="249"/>
                  <a:pt x="273" y="188"/>
                </a:cubicBezTo>
                <a:cubicBezTo>
                  <a:pt x="371" y="127"/>
                  <a:pt x="499" y="82"/>
                  <a:pt x="635" y="52"/>
                </a:cubicBezTo>
                <a:cubicBezTo>
                  <a:pt x="771" y="22"/>
                  <a:pt x="991" y="14"/>
                  <a:pt x="1089" y="7"/>
                </a:cubicBezTo>
                <a:cubicBezTo>
                  <a:pt x="1187" y="0"/>
                  <a:pt x="1206" y="3"/>
                  <a:pt x="1225" y="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036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24360" y="2205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z=e-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T/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-3/5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0.5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92680" y="267480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omaremos H(q) = q -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(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) = 1 – 0.5 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5640" y="3645000"/>
                <a:ext cx="3886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24000" y="4292640"/>
                <a:ext cx="8216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9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774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9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855-1514-45F9-809F-A1A0CFDC8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1.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009800" y="459252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141720"/>
            <a:ext cx="158760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894440" y="3343320"/>
            <a:ext cx="353520" cy="454680"/>
            <a:chOff x="7894440" y="3343320"/>
            <a:chExt cx="353520" cy="454680"/>
          </a:xfrm>
        </p:grpSpPr>
        <p:sp>
          <p:nvSpPr>
            <p:cNvPr id="296" name=""/>
            <p:cNvSpPr/>
            <p:nvPr/>
          </p:nvSpPr>
          <p:spPr>
            <a:xfrm>
              <a:off x="7921800" y="344664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94440" y="33433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273480" y="3294000"/>
            <a:ext cx="172404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965840" y="3591000"/>
            <a:ext cx="9493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39760" y="3294000"/>
            <a:ext cx="97812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16360" y="4437000"/>
            <a:ext cx="172692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3446640"/>
            <a:ext cx="29232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0280" y="35924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26360" y="35924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40560" y="35924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30480" y="35924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6280" y="3592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664000" y="4723920"/>
            <a:ext cx="252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657520" y="373824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55400" y="311472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31720" y="37242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67600" y="29131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524800" y="359892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643280" y="4726080"/>
            <a:ext cx="3888000" cy="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31640" y="3357720"/>
            <a:ext cx="71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25240" y="3375000"/>
            <a:ext cx="17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/(1-0.33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98080" y="4508640"/>
            <a:ext cx="165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.73-0.88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5200" y="2760840"/>
            <a:ext cx="4241520" cy="2425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1240" y="4105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80200" y="3114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01080" y="2565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504280" y="3038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0560" y="33433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9040" y="30765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844640" y="1989000"/>
                <a:ext cx="53848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838080" y="5334120"/>
            <a:ext cx="35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lazo cerr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078000" y="5396040"/>
                <a:ext cx="1740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622840" y="5121360"/>
            <a:ext cx="31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robar que la ley de control es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/>
          </p:cNvPr>
          <p:cNvSpPr/>
          <p:nvPr/>
        </p:nvSpPr>
        <p:spPr>
          <a:xfrm>
            <a:off x="6361200" y="5883120"/>
            <a:ext cx="1114200" cy="411480"/>
          </a:xfrm>
          <a:custGeom>
            <a:avLst/>
            <a:gdLst>
              <a:gd name="textAreaLeft" fmla="*/ 26640 w 1114200"/>
              <a:gd name="textAreaRight" fmla="*/ 1087560 w 11142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58456" h="21600">
                <a:moveTo>
                  <a:pt x="0" y="0"/>
                </a:moveTo>
                <a:lnTo>
                  <a:pt x="58456" y="0"/>
                </a:lnTo>
                <a:lnTo>
                  <a:pt x="58456" y="21600"/>
                </a:lnTo>
                <a:lnTo>
                  <a:pt x="0" y="21600"/>
                </a:lnTo>
                <a:close/>
              </a:path>
              <a:path fill="lightenLess" w="58456" h="21600">
                <a:moveTo>
                  <a:pt x="0" y="0"/>
                </a:moveTo>
                <a:lnTo>
                  <a:pt x="58456" y="0"/>
                </a:lnTo>
                <a:lnTo>
                  <a:pt x="57056" y="1400"/>
                </a:lnTo>
                <a:lnTo>
                  <a:pt x="1400" y="1400"/>
                </a:lnTo>
                <a:close/>
              </a:path>
              <a:path fill="darken" w="58456" h="21600">
                <a:moveTo>
                  <a:pt x="58456" y="0"/>
                </a:moveTo>
                <a:lnTo>
                  <a:pt x="58456" y="21600"/>
                </a:lnTo>
                <a:lnTo>
                  <a:pt x="57056" y="20200"/>
                </a:lnTo>
                <a:lnTo>
                  <a:pt x="57056" y="1400"/>
                </a:lnTo>
                <a:close/>
              </a:path>
              <a:path fill="darkenLess" w="58456" h="21600">
                <a:moveTo>
                  <a:pt x="58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56" y="20200"/>
                </a:lnTo>
                <a:close/>
              </a:path>
              <a:path fill="lighten" w="58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mu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687-0121-4E37-9403-30C39AA02A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42920" y="2133720"/>
            <a:ext cx="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0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1600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36600" y="3238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22600" y="3530520"/>
            <a:ext cx="126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65360" y="2708280"/>
            <a:ext cx="28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z=e-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T/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-4/5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0.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95640" y="3645000"/>
                <a:ext cx="3886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36520" y="4361040"/>
                <a:ext cx="864864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7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28840" y="1901880"/>
                <a:ext cx="5461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037120" y="272088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omaremos H(q) = (q - 0.45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(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) = 1 – 0.9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+ 0.2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50840" y="2535120"/>
            <a:ext cx="1676520" cy="801720"/>
          </a:xfrm>
          <a:custGeom>
            <a:avLst/>
            <a:gdLst/>
            <a:ahLst/>
            <a:rect l="l" t="t" r="r" b="b"/>
            <a:pathLst>
              <a:path w="1056" h="486">
                <a:moveTo>
                  <a:pt x="0" y="486"/>
                </a:moveTo>
                <a:cubicBezTo>
                  <a:pt x="30" y="480"/>
                  <a:pt x="60" y="475"/>
                  <a:pt x="87" y="458"/>
                </a:cubicBezTo>
                <a:cubicBezTo>
                  <a:pt x="114" y="441"/>
                  <a:pt x="137" y="416"/>
                  <a:pt x="164" y="381"/>
                </a:cubicBezTo>
                <a:cubicBezTo>
                  <a:pt x="191" y="346"/>
                  <a:pt x="215" y="292"/>
                  <a:pt x="250" y="246"/>
                </a:cubicBezTo>
                <a:cubicBezTo>
                  <a:pt x="285" y="200"/>
                  <a:pt x="316" y="140"/>
                  <a:pt x="375" y="102"/>
                </a:cubicBezTo>
                <a:cubicBezTo>
                  <a:pt x="434" y="64"/>
                  <a:pt x="538" y="32"/>
                  <a:pt x="605" y="16"/>
                </a:cubicBezTo>
                <a:cubicBezTo>
                  <a:pt x="672" y="0"/>
                  <a:pt x="703" y="6"/>
                  <a:pt x="778" y="6"/>
                </a:cubicBezTo>
                <a:cubicBezTo>
                  <a:pt x="853" y="6"/>
                  <a:pt x="954" y="11"/>
                  <a:pt x="1056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1D8-2E79-49FB-9268-6F9670BADB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09800" y="459252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0360" y="3141720"/>
            <a:ext cx="158760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894440" y="3343320"/>
            <a:ext cx="353520" cy="454680"/>
            <a:chOff x="7894440" y="3343320"/>
            <a:chExt cx="353520" cy="454680"/>
          </a:xfrm>
        </p:grpSpPr>
        <p:sp>
          <p:nvSpPr>
            <p:cNvPr id="347" name=""/>
            <p:cNvSpPr/>
            <p:nvPr/>
          </p:nvSpPr>
          <p:spPr>
            <a:xfrm>
              <a:off x="7921800" y="344664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94440" y="33433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273480" y="3294000"/>
            <a:ext cx="172404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965840" y="3591000"/>
            <a:ext cx="9493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39760" y="3294000"/>
            <a:ext cx="97812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360" y="4437000"/>
            <a:ext cx="172692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11360" y="3446640"/>
            <a:ext cx="29232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0280" y="35924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26360" y="35924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40560" y="35924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30480" y="35924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16280" y="3592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664000" y="4723920"/>
            <a:ext cx="252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57520" y="373824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55400" y="311472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31720" y="37242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067600" y="29131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524800" y="359892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4643280" y="4726080"/>
            <a:ext cx="3888000" cy="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5320" y="3357720"/>
            <a:ext cx="71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25240" y="3375000"/>
            <a:ext cx="17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/(1-0.29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98080" y="4508640"/>
            <a:ext cx="172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.29+0.77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5200" y="2760840"/>
            <a:ext cx="4241520" cy="2425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41240" y="4105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80200" y="3114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01080" y="2565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04280" y="3038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33433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9040" y="30765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641600" y="1989000"/>
                <a:ext cx="5790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838080" y="5334120"/>
            <a:ext cx="35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lazo cerr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95560" y="5396040"/>
                <a:ext cx="19051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5622840" y="5121360"/>
            <a:ext cx="31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robar que la ley de control es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B92-24FC-4147-A95E-CEAD1AC03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Ind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oladores digi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odología de diseñ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uladores PID digi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uladores 2D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uladores de asignación de p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uladores de varianza mín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ol adapt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uladores dead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uladores LQ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imación de es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incipio de equival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F7B-D1D9-4383-9BFA-8605E62A38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r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414600" y="4446720"/>
                <a:ext cx="46483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51160" y="2211480"/>
                <a:ext cx="39276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960480" y="23320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lazo cerr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3559320"/>
            <a:ext cx="81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eliminar el efecto de los ceros en lazo abierto se pueden tomar dos alternat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311120" y="4325760"/>
                <a:ext cx="1155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15960" y="515160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o solo son posibles si B no tiene ceros fuera del círculo unidad. En caso contrario, con modelos inexactos, no habrá cancelación perfecta y pueden aparecer inestabilidades. Por otra parte no suele tener interés cancelar los ceros estables, los cuales adelantan la respue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29908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 ceros en lazo abierto aparecen como ceros en lazo c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900-3D21-4149-9ED8-6220D6C8A9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zo cerrado. Robuste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5773680" y="1960560"/>
            <a:ext cx="158760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727400" y="2162160"/>
            <a:ext cx="353520" cy="454680"/>
            <a:chOff x="7727400" y="2162160"/>
            <a:chExt cx="353520" cy="454680"/>
          </a:xfrm>
        </p:grpSpPr>
        <p:sp>
          <p:nvSpPr>
            <p:cNvPr id="391" name=""/>
            <p:cNvSpPr/>
            <p:nvPr/>
          </p:nvSpPr>
          <p:spPr>
            <a:xfrm>
              <a:off x="7754760" y="2265480"/>
              <a:ext cx="29196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27400" y="216216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106800" y="211284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097160" y="2409840"/>
            <a:ext cx="16513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73080" y="2112840"/>
            <a:ext cx="97812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06800" y="325584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44680" y="2265480"/>
            <a:ext cx="29232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3600" y="241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59680" y="241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73880" y="2411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63800" y="2411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49600" y="2411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96960" y="3554280"/>
            <a:ext cx="59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490840" y="25570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88720" y="19335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65040" y="254304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900920" y="17319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58120" y="24177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084200" y="3554280"/>
            <a:ext cx="428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1000" y="21621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31720" y="2162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/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84720" y="33051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8160" y="1892160"/>
            <a:ext cx="3797640" cy="2113200"/>
          </a:xfrm>
          <a:prstGeom prst="rect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74560" y="292428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13520" y="193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18560" y="1773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37600" y="1857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0640" y="2178000"/>
            <a:ext cx="1018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1960" y="20145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5440" y="4433760"/>
                <a:ext cx="74419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w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Tw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w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554880" y="3803760"/>
                <a:ext cx="15494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575400" y="5111640"/>
            <a:ext cx="22716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 ley de control puede ser inestable si B es in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7920" y="40878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 tiene que tener a B como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4760" y="5999040"/>
            <a:ext cx="406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se cancela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actamente p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08400" y="37242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7360" y="6340320"/>
                <a:ext cx="3632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B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886-D57A-4880-A970-14A9BE9A7C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dores de varianza mín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2212920"/>
            <a:ext cx="752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criterio útil desde el punto de vista de regulación cuando sobre el sistema actúan perturbaciones estocásticas es minimizar la varianza de la salida sobre el valor de refer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338120" y="3645000"/>
            <a:ext cx="4692960" cy="25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36640" y="3303720"/>
            <a:ext cx="3841920" cy="631800"/>
          </a:xfrm>
          <a:custGeom>
            <a:avLst/>
            <a:gdLst/>
            <a:ahLst/>
            <a:rect l="l" t="t" r="r" b="b"/>
            <a:pathLst>
              <a:path w="2420" h="398">
                <a:moveTo>
                  <a:pt x="0" y="223"/>
                </a:moveTo>
                <a:cubicBezTo>
                  <a:pt x="15" y="175"/>
                  <a:pt x="21" y="169"/>
                  <a:pt x="58" y="206"/>
                </a:cubicBezTo>
                <a:cubicBezTo>
                  <a:pt x="68" y="237"/>
                  <a:pt x="86" y="261"/>
                  <a:pt x="100" y="290"/>
                </a:cubicBezTo>
                <a:cubicBezTo>
                  <a:pt x="118" y="262"/>
                  <a:pt x="167" y="215"/>
                  <a:pt x="167" y="215"/>
                </a:cubicBezTo>
                <a:cubicBezTo>
                  <a:pt x="205" y="272"/>
                  <a:pt x="181" y="259"/>
                  <a:pt x="225" y="273"/>
                </a:cubicBezTo>
                <a:cubicBezTo>
                  <a:pt x="290" y="229"/>
                  <a:pt x="331" y="223"/>
                  <a:pt x="359" y="140"/>
                </a:cubicBezTo>
                <a:cubicBezTo>
                  <a:pt x="375" y="92"/>
                  <a:pt x="357" y="128"/>
                  <a:pt x="400" y="64"/>
                </a:cubicBezTo>
                <a:cubicBezTo>
                  <a:pt x="406" y="56"/>
                  <a:pt x="417" y="39"/>
                  <a:pt x="417" y="39"/>
                </a:cubicBezTo>
                <a:cubicBezTo>
                  <a:pt x="470" y="58"/>
                  <a:pt x="452" y="96"/>
                  <a:pt x="442" y="140"/>
                </a:cubicBezTo>
                <a:cubicBezTo>
                  <a:pt x="448" y="203"/>
                  <a:pt x="449" y="247"/>
                  <a:pt x="484" y="298"/>
                </a:cubicBezTo>
                <a:cubicBezTo>
                  <a:pt x="487" y="306"/>
                  <a:pt x="485" y="328"/>
                  <a:pt x="492" y="323"/>
                </a:cubicBezTo>
                <a:cubicBezTo>
                  <a:pt x="550" y="287"/>
                  <a:pt x="498" y="259"/>
                  <a:pt x="559" y="240"/>
                </a:cubicBezTo>
                <a:cubicBezTo>
                  <a:pt x="565" y="232"/>
                  <a:pt x="571" y="224"/>
                  <a:pt x="576" y="215"/>
                </a:cubicBezTo>
                <a:cubicBezTo>
                  <a:pt x="580" y="207"/>
                  <a:pt x="577" y="185"/>
                  <a:pt x="584" y="190"/>
                </a:cubicBezTo>
                <a:cubicBezTo>
                  <a:pt x="601" y="200"/>
                  <a:pt x="606" y="223"/>
                  <a:pt x="617" y="240"/>
                </a:cubicBezTo>
                <a:cubicBezTo>
                  <a:pt x="623" y="248"/>
                  <a:pt x="634" y="265"/>
                  <a:pt x="634" y="265"/>
                </a:cubicBezTo>
                <a:cubicBezTo>
                  <a:pt x="660" y="184"/>
                  <a:pt x="676" y="107"/>
                  <a:pt x="692" y="23"/>
                </a:cubicBezTo>
                <a:cubicBezTo>
                  <a:pt x="720" y="51"/>
                  <a:pt x="743" y="65"/>
                  <a:pt x="759" y="98"/>
                </a:cubicBezTo>
                <a:cubicBezTo>
                  <a:pt x="773" y="127"/>
                  <a:pt x="776" y="159"/>
                  <a:pt x="784" y="190"/>
                </a:cubicBezTo>
                <a:cubicBezTo>
                  <a:pt x="793" y="224"/>
                  <a:pt x="815" y="261"/>
                  <a:pt x="834" y="290"/>
                </a:cubicBezTo>
                <a:cubicBezTo>
                  <a:pt x="876" y="228"/>
                  <a:pt x="864" y="260"/>
                  <a:pt x="876" y="198"/>
                </a:cubicBezTo>
                <a:cubicBezTo>
                  <a:pt x="886" y="218"/>
                  <a:pt x="899" y="236"/>
                  <a:pt x="909" y="256"/>
                </a:cubicBezTo>
                <a:cubicBezTo>
                  <a:pt x="922" y="283"/>
                  <a:pt x="926" y="306"/>
                  <a:pt x="943" y="332"/>
                </a:cubicBezTo>
                <a:cubicBezTo>
                  <a:pt x="954" y="366"/>
                  <a:pt x="954" y="378"/>
                  <a:pt x="985" y="398"/>
                </a:cubicBezTo>
                <a:cubicBezTo>
                  <a:pt x="1045" y="383"/>
                  <a:pt x="1074" y="359"/>
                  <a:pt x="1118" y="315"/>
                </a:cubicBezTo>
                <a:cubicBezTo>
                  <a:pt x="1124" y="240"/>
                  <a:pt x="1119" y="183"/>
                  <a:pt x="1160" y="123"/>
                </a:cubicBezTo>
                <a:cubicBezTo>
                  <a:pt x="1169" y="96"/>
                  <a:pt x="1202" y="48"/>
                  <a:pt x="1202" y="48"/>
                </a:cubicBezTo>
                <a:cubicBezTo>
                  <a:pt x="1205" y="34"/>
                  <a:pt x="1200" y="16"/>
                  <a:pt x="1210" y="6"/>
                </a:cubicBezTo>
                <a:cubicBezTo>
                  <a:pt x="1216" y="0"/>
                  <a:pt x="1216" y="23"/>
                  <a:pt x="1218" y="31"/>
                </a:cubicBezTo>
                <a:cubicBezTo>
                  <a:pt x="1228" y="69"/>
                  <a:pt x="1230" y="91"/>
                  <a:pt x="1252" y="123"/>
                </a:cubicBezTo>
                <a:cubicBezTo>
                  <a:pt x="1263" y="179"/>
                  <a:pt x="1277" y="224"/>
                  <a:pt x="1327" y="256"/>
                </a:cubicBezTo>
                <a:cubicBezTo>
                  <a:pt x="1366" y="314"/>
                  <a:pt x="1349" y="323"/>
                  <a:pt x="1377" y="281"/>
                </a:cubicBezTo>
                <a:cubicBezTo>
                  <a:pt x="1370" y="235"/>
                  <a:pt x="1371" y="209"/>
                  <a:pt x="1385" y="165"/>
                </a:cubicBezTo>
                <a:cubicBezTo>
                  <a:pt x="1393" y="168"/>
                  <a:pt x="1404" y="167"/>
                  <a:pt x="1410" y="173"/>
                </a:cubicBezTo>
                <a:cubicBezTo>
                  <a:pt x="1412" y="175"/>
                  <a:pt x="1437" y="237"/>
                  <a:pt x="1444" y="248"/>
                </a:cubicBezTo>
                <a:cubicBezTo>
                  <a:pt x="1447" y="256"/>
                  <a:pt x="1447" y="266"/>
                  <a:pt x="1452" y="273"/>
                </a:cubicBezTo>
                <a:cubicBezTo>
                  <a:pt x="1492" y="324"/>
                  <a:pt x="1491" y="233"/>
                  <a:pt x="1494" y="215"/>
                </a:cubicBezTo>
                <a:cubicBezTo>
                  <a:pt x="1532" y="253"/>
                  <a:pt x="1534" y="268"/>
                  <a:pt x="1561" y="215"/>
                </a:cubicBezTo>
                <a:cubicBezTo>
                  <a:pt x="1569" y="218"/>
                  <a:pt x="1580" y="217"/>
                  <a:pt x="1586" y="223"/>
                </a:cubicBezTo>
                <a:cubicBezTo>
                  <a:pt x="1592" y="229"/>
                  <a:pt x="1585" y="250"/>
                  <a:pt x="1594" y="248"/>
                </a:cubicBezTo>
                <a:cubicBezTo>
                  <a:pt x="1607" y="245"/>
                  <a:pt x="1609" y="225"/>
                  <a:pt x="1619" y="215"/>
                </a:cubicBezTo>
                <a:cubicBezTo>
                  <a:pt x="1626" y="208"/>
                  <a:pt x="1636" y="204"/>
                  <a:pt x="1644" y="198"/>
                </a:cubicBezTo>
                <a:cubicBezTo>
                  <a:pt x="1652" y="204"/>
                  <a:pt x="1661" y="209"/>
                  <a:pt x="1669" y="215"/>
                </a:cubicBezTo>
                <a:cubicBezTo>
                  <a:pt x="1678" y="223"/>
                  <a:pt x="1682" y="240"/>
                  <a:pt x="1694" y="240"/>
                </a:cubicBezTo>
                <a:cubicBezTo>
                  <a:pt x="1706" y="240"/>
                  <a:pt x="1711" y="223"/>
                  <a:pt x="1719" y="215"/>
                </a:cubicBezTo>
                <a:cubicBezTo>
                  <a:pt x="1727" y="218"/>
                  <a:pt x="1738" y="217"/>
                  <a:pt x="1744" y="223"/>
                </a:cubicBezTo>
                <a:cubicBezTo>
                  <a:pt x="1753" y="232"/>
                  <a:pt x="1750" y="250"/>
                  <a:pt x="1761" y="256"/>
                </a:cubicBezTo>
                <a:cubicBezTo>
                  <a:pt x="1771" y="261"/>
                  <a:pt x="1783" y="251"/>
                  <a:pt x="1794" y="248"/>
                </a:cubicBezTo>
                <a:cubicBezTo>
                  <a:pt x="1851" y="210"/>
                  <a:pt x="1825" y="222"/>
                  <a:pt x="1869" y="206"/>
                </a:cubicBezTo>
                <a:cubicBezTo>
                  <a:pt x="1909" y="244"/>
                  <a:pt x="1908" y="235"/>
                  <a:pt x="1945" y="198"/>
                </a:cubicBezTo>
                <a:cubicBezTo>
                  <a:pt x="1997" y="215"/>
                  <a:pt x="1960" y="239"/>
                  <a:pt x="2011" y="223"/>
                </a:cubicBezTo>
                <a:cubicBezTo>
                  <a:pt x="2053" y="194"/>
                  <a:pt x="2053" y="216"/>
                  <a:pt x="2087" y="248"/>
                </a:cubicBezTo>
                <a:cubicBezTo>
                  <a:pt x="2119" y="216"/>
                  <a:pt x="2125" y="196"/>
                  <a:pt x="2153" y="240"/>
                </a:cubicBezTo>
                <a:cubicBezTo>
                  <a:pt x="2161" y="232"/>
                  <a:pt x="2200" y="190"/>
                  <a:pt x="2212" y="190"/>
                </a:cubicBezTo>
                <a:cubicBezTo>
                  <a:pt x="2224" y="190"/>
                  <a:pt x="2229" y="207"/>
                  <a:pt x="2237" y="215"/>
                </a:cubicBezTo>
                <a:cubicBezTo>
                  <a:pt x="2295" y="199"/>
                  <a:pt x="2304" y="222"/>
                  <a:pt x="2354" y="240"/>
                </a:cubicBezTo>
                <a:cubicBezTo>
                  <a:pt x="2392" y="226"/>
                  <a:pt x="2370" y="231"/>
                  <a:pt x="2420" y="23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18160" y="33004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7920" y="31939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2200" y="4094280"/>
            <a:ext cx="2173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44960" y="407052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62000" y="420048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nza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0" y="42307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nz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4770360"/>
            <a:ext cx="7858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 reguladores de varianza mínima son reguladores lineales  de dos grados de libertad que están diseñados para conseguir varianza mínima en la variable contro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enen en cuenta el posible retardo del proceso y para su diseño se utiliza un modelo CARMA del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429-EC43-416C-BF21-C377EC58B5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63560" y="4262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34080" y="2778120"/>
            <a:ext cx="158760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687800" y="2979720"/>
            <a:ext cx="353520" cy="454680"/>
            <a:chOff x="7687800" y="2979720"/>
            <a:chExt cx="353520" cy="454680"/>
          </a:xfrm>
        </p:grpSpPr>
        <p:sp>
          <p:nvSpPr>
            <p:cNvPr id="441" name=""/>
            <p:cNvSpPr/>
            <p:nvPr/>
          </p:nvSpPr>
          <p:spPr>
            <a:xfrm>
              <a:off x="7715160" y="308304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87800" y="29797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067200" y="2930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057560" y="3227400"/>
            <a:ext cx="16509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33480" y="2930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67200" y="4073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05080" y="308304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3228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020080" y="3228840"/>
            <a:ext cx="92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34280" y="32288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24200" y="32288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610000" y="322884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57360" y="4371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451240" y="337464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049120" y="275112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5440" y="33606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61320" y="25495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704440" y="323532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044960" y="4371840"/>
            <a:ext cx="466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11040" y="297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91760" y="29797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/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344760" y="412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8560" y="2808360"/>
            <a:ext cx="3797280" cy="2014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934960" y="30272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73560" y="2751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966080" y="243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8000" y="2674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57360" y="2195640"/>
                <a:ext cx="3541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484520" y="3797280"/>
                <a:ext cx="4091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d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212760" y="27129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Reguladores de varianza mínima (Astrom, Wittenmark 19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040" y="503568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riterio: el controlador debe generar una señal de control u(t) que minim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006720" y="5497560"/>
                <a:ext cx="2070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689040" y="5962680"/>
            <a:ext cx="80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(t+d|t) es el valor esperado de y(t) en el instante t+d con medidas hasta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CA2-8C2E-4FF1-92A8-E74DD4B222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316160" y="1982880"/>
                <a:ext cx="40910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710320" y="1986120"/>
            <a:ext cx="30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r los valores impredecibles d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n el futuro de los valores calculables d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266840" y="3289320"/>
                <a:ext cx="62103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ecuación diofántica en D y F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grado d-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grado n-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282680" y="5018040"/>
                <a:ext cx="5622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902280" y="4048200"/>
                <a:ext cx="60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D06-F073-4BE5-ADB2-E7EFF9B1AA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966960" y="1944720"/>
                <a:ext cx="524340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754200" y="3484440"/>
            <a:ext cx="76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 errores futur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+j) no son predecibles, pero l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) pasados son calculables usando los datos pasados y el mode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04800" y="4095720"/>
                <a:ext cx="8118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d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d</m:t>
                        </m:r>
                      </m:sup>
                    </m:sSup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95240" y="4853160"/>
                <a:ext cx="705348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1C6-449A-4D81-B013-B7FFA964D7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44400" y="1981080"/>
                <a:ext cx="7597800" cy="303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 como</m:t>
                        </m:r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C</m:t>
                                    </m:r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-1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3246480" y="1855800"/>
            <a:ext cx="1231920" cy="993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697200" y="2874960"/>
            <a:ext cx="1065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97040" y="5226120"/>
                <a:ext cx="6540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2B9-CCA9-403F-8EB5-9408288E5B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nza mín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100160" y="2031840"/>
                <a:ext cx="65404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66960" y="3021120"/>
            <a:ext cx="72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mínimo de esta función será cero, lue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81160" y="4584600"/>
            <a:ext cx="3855960" cy="86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392200" y="3449520"/>
                <a:ext cx="483876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F02-C881-43ED-A88B-EE6BCF02A6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nza mín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54280" y="2092320"/>
                <a:ext cx="3149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369720" y="42544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o cerr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3680" y="2927520"/>
            <a:ext cx="8204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es aplicable a sistemas de fase no mínima pues resulta una ley in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ede generar esfuerzos excesivos en la señal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 modelos incorrectos puede generar errores estac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103480" y="4451400"/>
                <a:ext cx="583884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la ley de control hace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entonces, bajo la hipótesis de modelo perfecto: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0EC-5208-4EE2-9EE2-7DA15321BD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buste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5775480" y="2004840"/>
            <a:ext cx="158724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729200" y="2206800"/>
            <a:ext cx="353520" cy="454680"/>
            <a:chOff x="7729200" y="2206800"/>
            <a:chExt cx="353520" cy="454680"/>
          </a:xfrm>
        </p:grpSpPr>
        <p:sp>
          <p:nvSpPr>
            <p:cNvPr id="504" name=""/>
            <p:cNvSpPr/>
            <p:nvPr/>
          </p:nvSpPr>
          <p:spPr>
            <a:xfrm>
              <a:off x="7756560" y="231012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29200" y="22068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flipV="1">
            <a:off x="4514760" y="2453760"/>
            <a:ext cx="12351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48040" y="24843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061480" y="24559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75680" y="24559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902720" y="1776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332920" y="2448000"/>
            <a:ext cx="14040" cy="86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059360" y="3328920"/>
            <a:ext cx="42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961960" y="2860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4960" y="19782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905600" y="15177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39040" y="1901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080" y="2222640"/>
            <a:ext cx="1018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97360" y="2048040"/>
            <a:ext cx="6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14360" y="2781360"/>
                <a:ext cx="3149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156200" y="1168560"/>
                <a:ext cx="3606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d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5083200" y="7207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668160" y="3638520"/>
                <a:ext cx="6553440" cy="27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3576600" y="2192400"/>
            <a:ext cx="968400" cy="56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075200" y="274320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65B-C342-438C-9021-049502429D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adores digit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124080"/>
            <a:ext cx="1600200" cy="6098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4290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53280" y="34290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05520" y="46483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9040" y="4425840"/>
            <a:ext cx="444600" cy="444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4290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3560" y="495288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6576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75880" y="28954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743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0481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422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124080" y="32634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4225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0481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3429000"/>
            <a:ext cx="10666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483080" y="4641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2670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92160" y="46418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98640" y="3873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3520" y="34225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82320" y="4164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4720" y="26668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8954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00600" y="44193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362320"/>
            <a:ext cx="4572000" cy="29718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dor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3213000"/>
            <a:ext cx="292320" cy="4446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3920" y="259092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5166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implementación de los controladores digitales se hace en software en un sistema operativo en tiempo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A68-20BE-4C13-A62C-B43397D022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298520" y="2813040"/>
                <a:ext cx="551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781200" y="209556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eñar un regulador de varianza mínima para un proceso cuyo modelo viene dado p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036880" y="4011480"/>
                <a:ext cx="62103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ecuación diofántica en D y F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755640" y="3760920"/>
            <a:ext cx="45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984320" y="5749920"/>
                <a:ext cx="5334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7242120" y="2786040"/>
                <a:ext cx="1562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ero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os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7196040" y="3538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tardo d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4120" y="52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8520" y="478296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EF2-94B0-4243-B92E-09E6A90C8D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893880" y="3884760"/>
                <a:ext cx="7010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8" name="">
            <a:hlinkClick r:id="rId1"/>
          </p:cNvPr>
          <p:cNvSpPr/>
          <p:nvPr/>
        </p:nvSpPr>
        <p:spPr>
          <a:xfrm>
            <a:off x="7130880" y="5657760"/>
            <a:ext cx="1333800" cy="522360"/>
          </a:xfrm>
          <a:custGeom>
            <a:avLst/>
            <a:gdLst>
              <a:gd name="textAreaLeft" fmla="*/ 33840 w 1333800"/>
              <a:gd name="textAreaRight" fmla="*/ 1299960 w 13338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55131" h="21600">
                <a:moveTo>
                  <a:pt x="0" y="0"/>
                </a:moveTo>
                <a:lnTo>
                  <a:pt x="55131" y="0"/>
                </a:lnTo>
                <a:lnTo>
                  <a:pt x="55131" y="21600"/>
                </a:lnTo>
                <a:lnTo>
                  <a:pt x="0" y="21600"/>
                </a:lnTo>
                <a:close/>
              </a:path>
              <a:path fill="lightenLess" w="55131" h="21600">
                <a:moveTo>
                  <a:pt x="0" y="0"/>
                </a:moveTo>
                <a:lnTo>
                  <a:pt x="55131" y="0"/>
                </a:lnTo>
                <a:lnTo>
                  <a:pt x="53731" y="1400"/>
                </a:lnTo>
                <a:lnTo>
                  <a:pt x="1400" y="1400"/>
                </a:lnTo>
                <a:close/>
              </a:path>
              <a:path fill="darken" w="55131" h="21600">
                <a:moveTo>
                  <a:pt x="55131" y="0"/>
                </a:moveTo>
                <a:lnTo>
                  <a:pt x="55131" y="21600"/>
                </a:lnTo>
                <a:lnTo>
                  <a:pt x="53731" y="20200"/>
                </a:lnTo>
                <a:lnTo>
                  <a:pt x="53731" y="1400"/>
                </a:lnTo>
                <a:close/>
              </a:path>
              <a:path fill="darkenLess" w="55131" h="21600">
                <a:moveTo>
                  <a:pt x="55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31" y="20200"/>
                </a:lnTo>
                <a:close/>
              </a:path>
              <a:path fill="lighten" w="55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mu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730520" y="2263680"/>
                <a:ext cx="53337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4422600" y="5291280"/>
            <a:ext cx="1136880" cy="556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925600" y="5307120"/>
            <a:ext cx="353520" cy="454680"/>
            <a:chOff x="5925600" y="5307120"/>
            <a:chExt cx="353520" cy="454680"/>
          </a:xfrm>
        </p:grpSpPr>
        <p:sp>
          <p:nvSpPr>
            <p:cNvPr id="542" name=""/>
            <p:cNvSpPr/>
            <p:nvPr/>
          </p:nvSpPr>
          <p:spPr>
            <a:xfrm>
              <a:off x="5952960" y="541044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25600" y="53071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363600" y="5584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57880" y="55562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572080" y="5556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99120" y="48769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515280" y="5548320"/>
            <a:ext cx="2664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051000" y="6429240"/>
            <a:ext cx="34848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75200" y="5011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02360" y="4618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535800" y="50022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08640" y="5335560"/>
            <a:ext cx="1018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2920" y="5148360"/>
            <a:ext cx="6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92160" y="5292720"/>
            <a:ext cx="968400" cy="56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0.2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525760" y="571356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000160" y="6175440"/>
            <a:ext cx="1047960" cy="4903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7-0.8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97240" y="5446800"/>
            <a:ext cx="279360" cy="264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60560" y="557856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09960" y="5295960"/>
            <a:ext cx="1060560" cy="56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1-0.3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90640" y="5578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81320" y="557856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F55-A090-412D-A7E4-D45EB23343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2.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298520" y="2813040"/>
                <a:ext cx="551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781200" y="209556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eñar un regulador de varianza mínima para un proceso cuyo modelo viene dado p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036880" y="4011480"/>
                <a:ext cx="62103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ecuación diofántica en D y F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755640" y="3760920"/>
            <a:ext cx="45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96960" y="5749920"/>
                <a:ext cx="6108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242120" y="2786040"/>
                <a:ext cx="1562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ero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os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7196040" y="3538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ar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4120" y="52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8520" y="478296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A5F-F632-48E9-9729-420B3B0825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2.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985680" y="2138400"/>
                <a:ext cx="711216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6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66720" y="4214880"/>
                <a:ext cx="7416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5124600" y="5305320"/>
            <a:ext cx="1136520" cy="557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627600" y="5321160"/>
            <a:ext cx="353520" cy="454680"/>
            <a:chOff x="6627600" y="5321160"/>
            <a:chExt cx="353520" cy="454680"/>
          </a:xfrm>
        </p:grpSpPr>
        <p:sp>
          <p:nvSpPr>
            <p:cNvPr id="579" name=""/>
            <p:cNvSpPr/>
            <p:nvPr/>
          </p:nvSpPr>
          <p:spPr>
            <a:xfrm>
              <a:off x="6654960" y="542448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27600" y="532116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04840" y="5584680"/>
            <a:ext cx="41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959520" y="55706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73720" y="5570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00760" y="518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2879280" y="6429240"/>
            <a:ext cx="43722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64240" y="5065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86480" y="5018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37440" y="5016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10280" y="5349960"/>
            <a:ext cx="1018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7200" y="51483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47640" y="5292720"/>
            <a:ext cx="968400" cy="56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0.2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81240" y="571356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09840" y="6175440"/>
            <a:ext cx="1339560" cy="4903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0.17-0.56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2720" y="5446800"/>
            <a:ext cx="279360" cy="264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16040" y="557856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38440" y="5295960"/>
            <a:ext cx="2120760" cy="56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(1+0.4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0.21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46480" y="5578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84760" y="560376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7236000" y="55652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rId1"/>
          </p:cNvPr>
          <p:cNvSpPr/>
          <p:nvPr/>
        </p:nvSpPr>
        <p:spPr>
          <a:xfrm>
            <a:off x="7513560" y="5803920"/>
            <a:ext cx="1352520" cy="490680"/>
          </a:xfrm>
          <a:custGeom>
            <a:avLst/>
            <a:gdLst>
              <a:gd name="textAreaLeft" fmla="*/ 31680 w 1352520"/>
              <a:gd name="textAreaRight" fmla="*/ 1320840 w 1352520"/>
              <a:gd name="textAreaTop" fmla="*/ 31680 h 490680"/>
              <a:gd name="textAreaBottom" fmla="*/ 459000 h 490680"/>
            </a:gdLst>
            <a:ahLst/>
            <a:rect l="textAreaLeft" t="textAreaTop" r="textAreaRight" b="textAreaBottom"/>
            <a:pathLst>
              <a:path w="59511" h="21600">
                <a:moveTo>
                  <a:pt x="0" y="0"/>
                </a:moveTo>
                <a:lnTo>
                  <a:pt x="59511" y="0"/>
                </a:lnTo>
                <a:lnTo>
                  <a:pt x="59511" y="21600"/>
                </a:lnTo>
                <a:lnTo>
                  <a:pt x="0" y="21600"/>
                </a:lnTo>
                <a:close/>
              </a:path>
              <a:path fill="lightenLess" w="59511" h="21600">
                <a:moveTo>
                  <a:pt x="0" y="0"/>
                </a:moveTo>
                <a:lnTo>
                  <a:pt x="59511" y="0"/>
                </a:lnTo>
                <a:lnTo>
                  <a:pt x="58111" y="1400"/>
                </a:lnTo>
                <a:lnTo>
                  <a:pt x="1400" y="1400"/>
                </a:lnTo>
                <a:close/>
              </a:path>
              <a:path fill="darken" w="59511" h="21600">
                <a:moveTo>
                  <a:pt x="59511" y="0"/>
                </a:moveTo>
                <a:lnTo>
                  <a:pt x="59511" y="21600"/>
                </a:lnTo>
                <a:lnTo>
                  <a:pt x="58111" y="20200"/>
                </a:lnTo>
                <a:lnTo>
                  <a:pt x="58111" y="1400"/>
                </a:lnTo>
                <a:close/>
              </a:path>
              <a:path fill="darkenLess" w="59511" h="21600">
                <a:moveTo>
                  <a:pt x="59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11" y="20200"/>
                </a:lnTo>
                <a:close/>
              </a:path>
              <a:path fill="lighten" w="59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mu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B37-6FF6-4DEC-A223-6F0F143BB8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trol Adapt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4782960" y="2558880"/>
            <a:ext cx="1427400" cy="557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590880" y="2576520"/>
            <a:ext cx="353520" cy="454680"/>
            <a:chOff x="6590880" y="2576520"/>
            <a:chExt cx="353520" cy="454680"/>
          </a:xfrm>
        </p:grpSpPr>
        <p:sp>
          <p:nvSpPr>
            <p:cNvPr id="604" name=""/>
            <p:cNvSpPr/>
            <p:nvPr/>
          </p:nvSpPr>
          <p:spPr>
            <a:xfrm>
              <a:off x="6618240" y="267984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90880" y="25765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 flipV="1">
            <a:off x="3403440" y="2824200"/>
            <a:ext cx="1393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09720" y="28544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23160" y="28256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237360" y="2825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764400" y="21463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194600" y="2817720"/>
            <a:ext cx="1440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20680" y="3699000"/>
            <a:ext cx="428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69800" y="308628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076640" y="2347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67640" y="1887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201080" y="2271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73760" y="2592360"/>
            <a:ext cx="1018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859040" y="24177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2562120"/>
            <a:ext cx="968400" cy="5637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936880" y="311292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68400" y="3962520"/>
            <a:ext cx="74484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el proceso cambia, ¿Cómo puede adaptarse el regulador en línea a la nueva situ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control adaptativo modifica continuamente el regulador para adaptarlo al criterio de diseño de acuerdo con las características cambiantes del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guladores autosinton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trol por referencia a un mod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DA9-8B58-4F1D-BC85-4DE8130D67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guladores autosintoniz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5975280" y="4083120"/>
            <a:ext cx="1427400" cy="557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7783200" y="4100400"/>
            <a:ext cx="353520" cy="454680"/>
            <a:chOff x="7783200" y="4100400"/>
            <a:chExt cx="353520" cy="454680"/>
          </a:xfrm>
        </p:grpSpPr>
        <p:sp>
          <p:nvSpPr>
            <p:cNvPr id="625" name=""/>
            <p:cNvSpPr/>
            <p:nvPr/>
          </p:nvSpPr>
          <p:spPr>
            <a:xfrm>
              <a:off x="7810560" y="420372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83200" y="4100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 flipV="1">
            <a:off x="4595760" y="4347720"/>
            <a:ext cx="1393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02040" y="43783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15480" y="43498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29680" y="434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956720" y="36702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388360" y="4365720"/>
            <a:ext cx="14400" cy="86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113360" y="5222880"/>
            <a:ext cx="42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84000" y="41497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268960" y="3871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59600" y="3411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393040" y="37958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1000" y="3941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30600" y="4086360"/>
            <a:ext cx="968400" cy="56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129200" y="463716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77080" y="2941560"/>
            <a:ext cx="1365120" cy="517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672160" y="3193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72160" y="319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8388360" y="3213000"/>
            <a:ext cx="0" cy="112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653160" y="2492280"/>
            <a:ext cx="648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511440" y="2914560"/>
            <a:ext cx="1273320" cy="515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-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140360" y="249228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04000" y="234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/A 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2349360"/>
            <a:ext cx="237672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usa un algoritmo de identificación recursiva para estimar A/B, C en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aplican las ecuaciones de diseño para adaptar en tiempo real el controlador al nuevo modelo que se va esti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7380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C92-C196-407A-B451-814A310215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guladores autosinton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9640" y="2349360"/>
            <a:ext cx="2376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licto control - Iden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lemas de estabilidad debido a los dos lazos de realimentación que apar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lemas de seguridad debido a posible falta de excitación y “explosión” del algoritmo de iden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75280" y="4083120"/>
            <a:ext cx="1427400" cy="557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783200" y="4100400"/>
            <a:ext cx="353520" cy="454680"/>
            <a:chOff x="7783200" y="4100400"/>
            <a:chExt cx="353520" cy="454680"/>
          </a:xfrm>
        </p:grpSpPr>
        <p:sp>
          <p:nvSpPr>
            <p:cNvPr id="657" name=""/>
            <p:cNvSpPr/>
            <p:nvPr/>
          </p:nvSpPr>
          <p:spPr>
            <a:xfrm>
              <a:off x="7810560" y="420372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83200" y="4100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 flipV="1">
            <a:off x="4595760" y="4347720"/>
            <a:ext cx="1393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002040" y="43783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115480" y="43498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29680" y="434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956720" y="36702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388360" y="4365720"/>
            <a:ext cx="14400" cy="86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113360" y="5222880"/>
            <a:ext cx="42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84000" y="41497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68960" y="3871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959600" y="3411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393040" y="37958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51000" y="3941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30600" y="4086360"/>
            <a:ext cx="968400" cy="56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129200" y="463716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977080" y="2941560"/>
            <a:ext cx="1365120" cy="517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72160" y="3193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672160" y="319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8388360" y="3213000"/>
            <a:ext cx="0" cy="112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653160" y="2492280"/>
            <a:ext cx="648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11440" y="2914560"/>
            <a:ext cx="1273320" cy="515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-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140360" y="249228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4036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04000" y="234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/A 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380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4653000"/>
            <a:ext cx="3529080" cy="552240"/>
          </a:xfrm>
          <a:custGeom>
            <a:avLst/>
            <a:gdLst/>
            <a:ahLst/>
            <a:rect l="l" t="t" r="r" b="b"/>
            <a:pathLst>
              <a:path w="2223" h="348">
                <a:moveTo>
                  <a:pt x="2223" y="0"/>
                </a:moveTo>
                <a:cubicBezTo>
                  <a:pt x="2166" y="113"/>
                  <a:pt x="2109" y="227"/>
                  <a:pt x="1905" y="272"/>
                </a:cubicBezTo>
                <a:cubicBezTo>
                  <a:pt x="1701" y="317"/>
                  <a:pt x="1270" y="264"/>
                  <a:pt x="998" y="272"/>
                </a:cubicBezTo>
                <a:cubicBezTo>
                  <a:pt x="726" y="280"/>
                  <a:pt x="438" y="348"/>
                  <a:pt x="272" y="318"/>
                </a:cubicBezTo>
                <a:cubicBezTo>
                  <a:pt x="106" y="288"/>
                  <a:pt x="45" y="129"/>
                  <a:pt x="0" y="9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43280" y="2792520"/>
            <a:ext cx="3529080" cy="1212840"/>
          </a:xfrm>
          <a:custGeom>
            <a:avLst/>
            <a:gdLst/>
            <a:ahLst/>
            <a:rect l="l" t="t" r="r" b="b"/>
            <a:pathLst>
              <a:path w="1769" h="764">
                <a:moveTo>
                  <a:pt x="1769" y="764"/>
                </a:moveTo>
                <a:cubicBezTo>
                  <a:pt x="1705" y="613"/>
                  <a:pt x="1641" y="462"/>
                  <a:pt x="1543" y="356"/>
                </a:cubicBezTo>
                <a:cubicBezTo>
                  <a:pt x="1445" y="250"/>
                  <a:pt x="1377" y="175"/>
                  <a:pt x="1180" y="129"/>
                </a:cubicBezTo>
                <a:cubicBezTo>
                  <a:pt x="983" y="83"/>
                  <a:pt x="560" y="0"/>
                  <a:pt x="363" y="83"/>
                </a:cubicBezTo>
                <a:cubicBezTo>
                  <a:pt x="166" y="166"/>
                  <a:pt x="83" y="397"/>
                  <a:pt x="0" y="62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E99-14A4-437A-952F-AA7696ACC9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guladores de respuesta plana (Deadbea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534960" y="264636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884160" y="246024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98800" y="2671920"/>
            <a:ext cx="66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06640" y="2362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83320" y="268920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310520" y="2490480"/>
            <a:ext cx="2347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72240" y="2725560"/>
            <a:ext cx="93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21480" y="2405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53160" y="237168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771640" y="2349360"/>
            <a:ext cx="1041480" cy="640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(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48040" y="266868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4599000" y="245880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63960" y="2705040"/>
            <a:ext cx="665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86200" y="2384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407200" y="2157480"/>
            <a:ext cx="1358640" cy="1090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54600" y="22669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219320" y="217800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2720" y="2703600"/>
            <a:ext cx="8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781280" y="2463840"/>
            <a:ext cx="365040" cy="331920"/>
          </a:xfrm>
          <a:prstGeom prst="flowChartSummingJunction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185840" y="26463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917720" y="2806200"/>
            <a:ext cx="22320" cy="9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372096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511360" y="3492360"/>
            <a:ext cx="2509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762280" y="3709800"/>
            <a:ext cx="42861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026120" y="26812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54120" y="3435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2246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66840" y="337644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85800" y="2131920"/>
            <a:ext cx="3668760" cy="118908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721480" y="2376360"/>
                <a:ext cx="749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7912080" y="294156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1120" y="4173480"/>
            <a:ext cx="844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riterio de 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s un salto en la referencia, y(t) debe igualar a w(t) en un número mínimo, s, de periodos de muestreo y permanecer después constante en ese valor. También u(t) debe ser constante a partir d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69040" y="5273640"/>
            <a:ext cx="1260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031080" y="6122880"/>
            <a:ext cx="196056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269040" y="5532480"/>
            <a:ext cx="1550880" cy="588960"/>
          </a:xfrm>
          <a:custGeom>
            <a:avLst/>
            <a:gdLst/>
            <a:ahLst/>
            <a:rect l="l" t="t" r="r" b="b"/>
            <a:pathLst>
              <a:path w="977" h="371">
                <a:moveTo>
                  <a:pt x="0" y="371"/>
                </a:moveTo>
                <a:cubicBezTo>
                  <a:pt x="55" y="339"/>
                  <a:pt x="111" y="308"/>
                  <a:pt x="158" y="271"/>
                </a:cubicBezTo>
                <a:cubicBezTo>
                  <a:pt x="205" y="234"/>
                  <a:pt x="234" y="186"/>
                  <a:pt x="284" y="146"/>
                </a:cubicBezTo>
                <a:cubicBezTo>
                  <a:pt x="334" y="106"/>
                  <a:pt x="403" y="53"/>
                  <a:pt x="459" y="29"/>
                </a:cubicBezTo>
                <a:cubicBezTo>
                  <a:pt x="515" y="5"/>
                  <a:pt x="561" y="8"/>
                  <a:pt x="618" y="4"/>
                </a:cubicBezTo>
                <a:cubicBezTo>
                  <a:pt x="675" y="0"/>
                  <a:pt x="741" y="4"/>
                  <a:pt x="801" y="4"/>
                </a:cubicBezTo>
                <a:cubicBezTo>
                  <a:pt x="861" y="4"/>
                  <a:pt x="919" y="4"/>
                  <a:pt x="977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097840" y="59896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910120" y="527364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16840" y="60548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803920"/>
            <a:ext cx="2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C1D-E429-44F0-8616-7778103C65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guladores deadb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135080" y="2716200"/>
                <a:ext cx="49658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1073160" y="2041560"/>
            <a:ext cx="61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y(t) , u(t) han de estabilizarse tras s periodos de muestreo deberá cumpli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6638760" y="3159000"/>
                <a:ext cx="1003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555480" y="35514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554040" y="3995640"/>
                <a:ext cx="8191440" cy="26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s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A10-DB10-4493-8A32-CE77C53E16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por realimentación de estados  LQ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981000" y="218592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o en variables de estado sometido a perturbaciones ale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895480" y="2716200"/>
                <a:ext cx="303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847800" y="363060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(t) y e(t) son dos secuencias de ruidos aleatorios de media nula y no correlacionadas una con la o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35200" y="4398840"/>
                <a:ext cx="5727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941400" y="5300640"/>
            <a:ext cx="520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(t): ruido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(t): ruido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C00-5C41-416B-8597-CA8B2DDC5E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ología de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0360" y="2017800"/>
            <a:ext cx="850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ocer el proceso y elegir los objetivos de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leccionar las variables manipuladas y controladas y la instrumentación adecu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leccionar las especificaciones de diseño: velocidad de respuesta, error estacionario, tipo de respuesta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egir un tipo de regulador y un procedimiento de cálculo o sintoní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mprobar el diseño en simul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alizar la implementación y la puesta a punto con la instrumentación elegi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ar un regulador continuo y discretizar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ar en el dominio dig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asistido por ordenador  (software integrado para cálculo, simulación, generación de código,…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0D1-33BA-4D0F-9821-3FD406BB63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LQ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901800" y="2214720"/>
            <a:ext cx="72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desea encontrar una secuencia de valores de la señal de control u(0), u(1),….,u(N-1) que hagan evolucionar el sistema desde un estado x(0) hasta un estado x(N) minimizando la fun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108160" y="3206880"/>
                <a:ext cx="4927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'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954000" y="4200480"/>
            <a:ext cx="5513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y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simétricas y definidas semi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simétrica y definida pos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63720" y="5208480"/>
                <a:ext cx="303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B5E-8C5C-4DEA-940B-6D8D966735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ación dinám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4842000" y="2295360"/>
            <a:ext cx="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97520" y="2862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18320" y="3062160"/>
            <a:ext cx="6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02040" y="241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02040" y="280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314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00600" y="3529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63880" y="2311560"/>
            <a:ext cx="0" cy="15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24280" y="243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824280" y="2816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822840" y="316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822840" y="35434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847960" y="2316240"/>
            <a:ext cx="0" cy="15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08360" y="2436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08360" y="2820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06560" y="3165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806560" y="3548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14400" y="2341440"/>
            <a:ext cx="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774800" y="2462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774800" y="2846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773360" y="31910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73360" y="35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836600" y="2941560"/>
            <a:ext cx="1073160" cy="636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4800600" y="2482920"/>
            <a:ext cx="1139760" cy="411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4854600" y="2919240"/>
            <a:ext cx="1046160" cy="2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885840" y="2852640"/>
            <a:ext cx="941400" cy="74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852640" y="2878200"/>
            <a:ext cx="1008000" cy="34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858840" y="2481120"/>
            <a:ext cx="981000" cy="371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860640" y="2852640"/>
            <a:ext cx="981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849920" y="2835360"/>
            <a:ext cx="1073160" cy="66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855960" y="3578040"/>
            <a:ext cx="954000" cy="126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98800" y="2865600"/>
            <a:ext cx="968400" cy="3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59200" y="2852640"/>
            <a:ext cx="993960" cy="716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895560" y="3193560"/>
            <a:ext cx="928800" cy="39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895560" y="2490480"/>
            <a:ext cx="954360" cy="108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25680" y="304812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513240" y="25970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70040" y="4027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apas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7920" y="2490840"/>
            <a:ext cx="1592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cret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2320" y="2544840"/>
            <a:ext cx="517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089840" y="2465280"/>
            <a:ext cx="609480" cy="1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037280" y="2716200"/>
            <a:ext cx="153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mino óptimo desde un estado hasta e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9040" y="4584600"/>
            <a:ext cx="779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ste óptimo desde A = coste de A a B + coste óptimo desd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(x,t)=coste óptimo desde x en la etapa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(x(t),t)=min [coste de A a B + J(x(t+1),t+1))]   ecuación de Bel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CAD-AF2A-454F-A133-AD30896D73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ción mediante Programación dinám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785880" y="2179800"/>
                <a:ext cx="75438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'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'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u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'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768240" y="4014720"/>
            <a:ext cx="7369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lución por indu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ipótesis: J(x,t) tiene la forma cuadrática:  J(x,t) = x’S(t)x +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cierto para t=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oniendo que es cierto para t+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(x(t+1),t+1)=x(t+1)’S(t+1)x(t+1)+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ar que es cierto para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933-ACF8-48CB-A810-B48B501764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Q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601560" y="2328840"/>
                <a:ext cx="807732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Ealignl</m:t>
                        </m:r>
                        <m:eqAr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'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'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Φ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Γu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Φ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Γu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</m:e>
                              <m:e/>
                            </m:d>
                          </m:e>
                        </m:eqArr>
                        <m:d>
                          <m:dPr>
                            <m:begChr m:val="{"/>
                            <m:endChr m:val="}"/>
                          </m:dPr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841320" y="4370400"/>
                <a:ext cx="3987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z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268200" y="4927680"/>
                <a:ext cx="8636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5D8-F4F5-4E42-A5F0-0DFFA05B34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Q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81160" y="2144880"/>
                <a:ext cx="8635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411120" y="3139920"/>
            <a:ext cx="30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ínimo con respecto a u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19480" y="4334040"/>
            <a:ext cx="2093760" cy="411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21080" y="3554280"/>
                <a:ext cx="43434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'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91960" y="5343480"/>
                <a:ext cx="858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'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'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L</m:t>
                        </m:r>
                      </m:e>
                    </m:d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z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173160" y="5989680"/>
            <a:ext cx="35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ión cuadrática, luego está probado que J es cuad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655640" y="5711760"/>
            <a:ext cx="3989520" cy="12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3362400" y="5807160"/>
                <a:ext cx="431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3" name=""/>
          <p:cNvSpPr/>
          <p:nvPr/>
        </p:nvSpPr>
        <p:spPr>
          <a:xfrm flipV="1">
            <a:off x="6373800" y="5711400"/>
            <a:ext cx="2425680" cy="12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7375680" y="5824440"/>
                <a:ext cx="469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BAF-2D6E-45B9-9F31-0ABF12166A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Q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1103400" y="2208240"/>
                <a:ext cx="473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'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L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raz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1109520" y="3537000"/>
                <a:ext cx="379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4425840" y="4308480"/>
            <a:ext cx="152424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65760" y="4321080"/>
            <a:ext cx="663840" cy="636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37120" y="4638600"/>
            <a:ext cx="70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29600" y="4613400"/>
            <a:ext cx="528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083440" y="4206960"/>
            <a:ext cx="5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70680" y="417528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254640" y="464040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863960" y="5183280"/>
            <a:ext cx="703440" cy="45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5592240" y="54212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4029120" y="5421240"/>
            <a:ext cx="8222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016160" y="4705200"/>
            <a:ext cx="1260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016520" y="4692240"/>
            <a:ext cx="369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724200" y="429408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87400" y="466416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imentación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99160" y="531324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do acce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189840" y="2373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cuación de Ric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21964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812000" y="4508640"/>
            <a:ext cx="216000" cy="215640"/>
          </a:xfrm>
          <a:prstGeom prst="flowChar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61480" y="46134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935840" y="42400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48440" y="390996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593120" y="41227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1D3-70E1-41D9-9BAA-A4127D743C8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olución estacionaria de la ecuación de Ricca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160640" y="2728800"/>
                <a:ext cx="3746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'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'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'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Γ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1144440" y="3537000"/>
                <a:ext cx="2641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'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∞</m:t>
                                    </m:r>
                                  </m:sub>
                                </m:sSub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'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Φ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4413240" y="4957920"/>
            <a:ext cx="176220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53160" y="4970520"/>
            <a:ext cx="663480" cy="636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162840" y="52880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16640" y="5262480"/>
            <a:ext cx="5288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070840" y="48560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323040" y="482436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15200" y="5302080"/>
            <a:ext cx="0" cy="7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851360" y="5832360"/>
            <a:ext cx="703440" cy="451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579640" y="6083280"/>
            <a:ext cx="847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016520" y="6070680"/>
            <a:ext cx="8222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4003560" y="5354640"/>
            <a:ext cx="1296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003560" y="5341680"/>
            <a:ext cx="370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711600" y="49435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047600" y="5234040"/>
            <a:ext cx="27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matriz de realimentación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86560" y="596268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do acce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380200" y="2690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cuación de Riccati estaci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353200" y="4681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799400" y="5157720"/>
            <a:ext cx="216000" cy="216000"/>
          </a:xfrm>
          <a:prstGeom prst="flowChar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048520" y="52624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923240" y="488952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94240" y="45054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580160" y="477216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87560" y="2173320"/>
            <a:ext cx="40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¿A qué valor tiende S(t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BF6-16C6-4B32-84FE-79EA796ADB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ción de estados: Observ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539640" y="2349360"/>
            <a:ext cx="331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uchas veces el estado no es medible y se desea estimar su va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so sin rui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73160" y="4322880"/>
            <a:ext cx="450036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430200" y="4410000"/>
                <a:ext cx="4032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525600" y="38419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dor de es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03200" y="5000760"/>
            <a:ext cx="350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órmula recursiva de estimación (predicción- corrección) con un término de corrección proporcional al error de esti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303880" y="4156200"/>
            <a:ext cx="152388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168800"/>
            <a:ext cx="663480" cy="636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15160" y="4486320"/>
            <a:ext cx="70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207280" y="446076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340840" y="39956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948360" y="4022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49680" y="5297400"/>
            <a:ext cx="703440" cy="451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5277960" y="556092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4893840" y="4552920"/>
            <a:ext cx="1260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894200" y="4539960"/>
            <a:ext cx="370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788000" y="41148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11920" y="5288040"/>
            <a:ext cx="1352520" cy="558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03920" y="50482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600960" y="50482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469360" y="446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454960" y="4465800"/>
            <a:ext cx="0" cy="10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276680" y="5553000"/>
            <a:ext cx="11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491080" y="526428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>
            <a:off x="4559400" y="59896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matriz de ganancia del obser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257800" y="2244600"/>
            <a:ext cx="152388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497720" y="2257560"/>
            <a:ext cx="663480" cy="636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69080" y="2575080"/>
            <a:ext cx="70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161200" y="2549520"/>
            <a:ext cx="5288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8294760" y="20844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902280" y="211140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695920" y="3119400"/>
            <a:ext cx="703440" cy="45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6424560" y="335772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861080" y="3357720"/>
            <a:ext cx="8222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 flipV="1">
            <a:off x="4848120" y="2641680"/>
            <a:ext cx="1296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4848120" y="2628720"/>
            <a:ext cx="370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556160" y="223056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275600" y="3108240"/>
            <a:ext cx="14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do no acce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915240" y="28209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8FF-13BE-4B69-B7C1-CEBD32D2CE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es de estim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754200" y="2344680"/>
                <a:ext cx="71341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K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tando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Φ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Φ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Φ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r>
                          <m:t xml:space="preserve">Φ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C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2928960" y="5022720"/>
            <a:ext cx="2755800" cy="424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6202440" y="1947960"/>
                <a:ext cx="241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3086280" y="5073480"/>
                <a:ext cx="2361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e>
                    </m:d>
                    <m:r>
                      <m:t xml:space="preserve">Φ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701640" y="5592600"/>
            <a:ext cx="79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que el error de estimación tienda a cero:  los autovalores de (I-KC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ben estar dentro del círculo unidad  (Criterio de selección de K, se fija la dinámica del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3F6-02DA-406F-A6CA-360260AD99B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iltro de Kalm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460440" y="20988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lema de estimación de estados con perturb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73160" y="4322880"/>
            <a:ext cx="450036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316080" y="4395960"/>
                <a:ext cx="428760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444600" y="28749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tro de Kalman: Elección óptima de la matriz de ganancias del observador para minimizar la varianza del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3200" y="5000760"/>
            <a:ext cx="350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os formula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tro y predi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4195800"/>
            <a:ext cx="663480" cy="636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632800" y="4075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549680" y="5297400"/>
            <a:ext cx="703440" cy="451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277960" y="556092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893840" y="4552920"/>
            <a:ext cx="1260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4894200" y="4539960"/>
            <a:ext cx="370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788000" y="41148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911920" y="5288040"/>
            <a:ext cx="1352520" cy="558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t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Ka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03920" y="50482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600960" y="50482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8469360" y="446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825040" y="4505400"/>
            <a:ext cx="0" cy="10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7276680" y="5553000"/>
            <a:ext cx="152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5491080" y="526428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4359240" y="5964120"/>
            <a:ext cx="43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K(t) matriz de Kalman: ganancia del 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703760" y="2320920"/>
            <a:ext cx="176364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3680" y="2333520"/>
            <a:ext cx="663480" cy="636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265104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07160" y="2625840"/>
            <a:ext cx="5288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361360" y="22194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46960" y="2212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1880" y="3195720"/>
            <a:ext cx="703440" cy="45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5870520" y="343368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307040" y="3433680"/>
            <a:ext cx="82224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4294080" y="2717280"/>
            <a:ext cx="12960" cy="7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4294080" y="2704680"/>
            <a:ext cx="370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002120" y="230652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45320" y="3259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do no acce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497560" y="2017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089920" y="2521080"/>
            <a:ext cx="216000" cy="215640"/>
          </a:xfrm>
          <a:prstGeom prst="flowChar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339040" y="26258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213760" y="225252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526000" y="19224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870680" y="213516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32560" y="295596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264280" y="4205160"/>
            <a:ext cx="176364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+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042320" y="453564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107120" y="40971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058080" y="39020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086520" y="38070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207280" y="4510080"/>
            <a:ext cx="303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464680" y="4405320"/>
            <a:ext cx="215640" cy="216000"/>
          </a:xfrm>
          <a:prstGeom prst="flowChar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588520" y="4137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339040" y="388944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693280" y="4492800"/>
            <a:ext cx="26496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D86-17FA-4819-91DF-201165881E2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scretización de reguladores PI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826920" y="1916280"/>
                <a:ext cx="7683840" cy="31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63640" y="5229360"/>
                <a:ext cx="5639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292720" y="206064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ximación rect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E6B-B24F-4C07-8A85-809887D65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EC5-FA42-4D88-9D65-CC1F8B26C2A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Discretización de un PID con filtr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844640"/>
                <a:ext cx="8550360" cy="484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79280" y="4724280"/>
            <a:ext cx="5268960" cy="1936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2060640"/>
            <a:ext cx="30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ximación rect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49800" y="4816440"/>
            <a:ext cx="291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os reguladores buscan acercarse al comportamiento del regulador continuo, pero esto no siempre debe ser el criterio de diseñ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1B2-54EC-4259-93E3-3E0019AEE8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6200" y="4309920"/>
            <a:ext cx="3214440" cy="838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1880" y="2822400"/>
            <a:ext cx="1600200" cy="6098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3080" y="2822400"/>
            <a:ext cx="609840" cy="60984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2920" y="31273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2080" y="31273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39120" y="3127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23760" y="3952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00360" y="330804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5200" y="267012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2720" y="3127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2000" y="312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95520" y="2898720"/>
            <a:ext cx="457200" cy="474840"/>
            <a:chOff x="1595520" y="2898720"/>
            <a:chExt cx="457200" cy="474840"/>
          </a:xfrm>
        </p:grpSpPr>
        <p:sp>
          <p:nvSpPr>
            <p:cNvPr id="158" name=""/>
            <p:cNvSpPr/>
            <p:nvPr/>
          </p:nvSpPr>
          <p:spPr>
            <a:xfrm>
              <a:off x="1595520" y="289872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95520" y="297504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47800" y="31273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86480" y="257796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3320" y="254628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22280" y="515880"/>
            <a:ext cx="701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guladores de un grado de libert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57560" y="2622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313080" y="4398840"/>
                <a:ext cx="2630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942240" y="3003480"/>
            <a:ext cx="228600" cy="228600"/>
          </a:xfrm>
          <a:prstGeom prst="flowChar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24440" y="1936800"/>
            <a:ext cx="1600200" cy="609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24640" y="2241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58160" y="2241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0920" y="2241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52840" y="193680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20600" y="5354640"/>
            <a:ext cx="74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se escoge R(s) para tener una buena respuesta ante cambios en la referencia, el tipo de respuesta ante perturbaciones queda prefijado, y viceversa. Válido en s y en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23D-7E94-4B6B-A9A9-A85A25C609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dores de dos grados de libertad 2DO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763560" y="4262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34080" y="2778120"/>
            <a:ext cx="158760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87800" y="2979720"/>
            <a:ext cx="353520" cy="454680"/>
            <a:chOff x="7687800" y="2979720"/>
            <a:chExt cx="353520" cy="454680"/>
          </a:xfrm>
        </p:grpSpPr>
        <p:sp>
          <p:nvSpPr>
            <p:cNvPr id="177" name=""/>
            <p:cNvSpPr/>
            <p:nvPr/>
          </p:nvSpPr>
          <p:spPr>
            <a:xfrm>
              <a:off x="7715160" y="308304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7800" y="29797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67200" y="2930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057560" y="3227400"/>
            <a:ext cx="16509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33480" y="2930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7200" y="4073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05080" y="308304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228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20080" y="3228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34280" y="32288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24200" y="32288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10000" y="322884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57360" y="4371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451240" y="337464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49120" y="275112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440" y="33606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61320" y="25495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18520" y="323532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44600" y="4371840"/>
            <a:ext cx="428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1040" y="297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91760" y="29797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/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4760" y="412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8560" y="2808360"/>
            <a:ext cx="3797280" cy="2014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4960" y="37418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73560" y="2751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66080" y="243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98000" y="2674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64280" y="29797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30200" y="2031840"/>
                <a:ext cx="4552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499000" y="1951200"/>
                <a:ext cx="24829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212760" y="27129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7240" y="4971960"/>
                <a:ext cx="770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82480" y="5791320"/>
            <a:ext cx="803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puede escoger R y S para obtener una respuesta frente a perturbaciones y T para modificar la respuesta frente a cambios de 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F98-3489-43CC-9A15-E7FB90F90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seño por asignación de po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34080" y="2778120"/>
            <a:ext cx="158760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687800" y="2979720"/>
            <a:ext cx="353520" cy="454680"/>
            <a:chOff x="7687800" y="2979720"/>
            <a:chExt cx="353520" cy="454680"/>
          </a:xfrm>
        </p:grpSpPr>
        <p:sp>
          <p:nvSpPr>
            <p:cNvPr id="213" name=""/>
            <p:cNvSpPr/>
            <p:nvPr/>
          </p:nvSpPr>
          <p:spPr>
            <a:xfrm>
              <a:off x="7715160" y="3083040"/>
              <a:ext cx="292320" cy="2919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29797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067200" y="2930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057560" y="3227400"/>
            <a:ext cx="16509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33480" y="2930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7200" y="4073400"/>
            <a:ext cx="977760" cy="5968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05080" y="308304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3228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20080" y="3228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4280" y="32288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24200" y="32288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10000" y="322884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57360" y="43718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451240" y="337464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49120" y="275112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5440" y="33606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61320" y="25495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18520" y="323532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044600" y="4371840"/>
            <a:ext cx="428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1040" y="297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91760" y="29797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/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4760" y="412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8560" y="2397240"/>
            <a:ext cx="3797280" cy="2425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34960" y="37418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73560" y="2751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88160" y="206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98000" y="2674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64280" y="29797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760" y="27129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3040" y="4952880"/>
            <a:ext cx="79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desea encontrar un regulador lineal que proporcione un determinado tipo de respuesta en lazo cerrado (lo cual puede especificarse fijando los polos en lazo cerrado) y que no tenga estado estacionario (para lo cual la ganancia en lazo cerrado debe ser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ar de Prada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B92-829D-4AC1-B2E9-90CBBBA2E1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44:31Z</dcterms:created>
  <dc:creator>Dpto. de Ing. de Sistemas y Automatica</dc:creator>
  <dc:description/>
  <dc:language>en-US</dc:language>
  <cp:lastModifiedBy>Dpto. de Ing. de Sistemas y Automatica</cp:lastModifiedBy>
  <dcterms:modified xsi:type="dcterms:W3CDTF">2004-04-03T11:39:26Z</dcterms:modified>
  <cp:revision>27</cp:revision>
  <dc:subject/>
  <dc:title>Controladores digitales</dc:title>
</cp:coreProperties>
</file>