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10.png" ContentType="image/png"/>
  <Override PartName="/ppt/media/image5.wmf" ContentType="image/x-wmf"/>
  <Override PartName="/ppt/media/image9.png" ContentType="image/png"/>
  <Override PartName="/ppt/media/image8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"/>
          <p:cNvSpPr/>
          <p:nvPr/>
        </p:nvSpPr>
        <p:spPr>
          <a:xfrm>
            <a:off x="3884760" y="6480"/>
            <a:ext cx="29732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884760" y="9304200"/>
            <a:ext cx="29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-1440" y="930420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-1440" y="64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1150920" y="8571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3884760" y="6480"/>
            <a:ext cx="29732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884760" y="9304200"/>
            <a:ext cx="29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-1440" y="930420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-1440" y="64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sldImg"/>
          </p:nvPr>
        </p:nvSpPr>
        <p:spPr>
          <a:xfrm>
            <a:off x="1150920" y="8571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3840" y="7920"/>
            <a:ext cx="17536680" cy="13677480"/>
            <a:chOff x="-8403840" y="7920"/>
            <a:chExt cx="17536680" cy="1367748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3840" y="7920"/>
              <a:ext cx="16807680" cy="136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image" Target="../media/image3.png"/><Relationship Id="rId8" Type="http://schemas.openxmlformats.org/officeDocument/2006/relationships/image" Target="../media/image13.png"/><Relationship Id="rId9" Type="http://schemas.openxmlformats.org/officeDocument/2006/relationships/image" Target="../media/image2.jpeg"/><Relationship Id="rId10" Type="http://schemas.openxmlformats.org/officeDocument/2006/relationships/image" Target="../media/image14.jpeg"/><Relationship Id="rId11" Type="http://schemas.openxmlformats.org/officeDocument/2006/relationships/image" Target="../media/image12.wmf"/><Relationship Id="rId12" Type="http://schemas.openxmlformats.org/officeDocument/2006/relationships/image" Target="../media/image3.png"/><Relationship Id="rId13" Type="http://schemas.openxmlformats.org/officeDocument/2006/relationships/image" Target="../media/image2.jpe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2.wmf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3.png"/><Relationship Id="rId22" Type="http://schemas.openxmlformats.org/officeDocument/2006/relationships/image" Target="../media/image21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ontroladore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5280" y="236196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sar de Pr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pto. Ingeniería de Sistemas y Automá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ultad de Cie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da@autom.uva.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94320" y="5487480"/>
            <a:ext cx="340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versidad de Valladol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ontrol discreto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92480" y="3816360"/>
            <a:ext cx="1663560" cy="1054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286000" y="311796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962520" y="311796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87760" y="3505320"/>
            <a:ext cx="825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82840" y="3435480"/>
            <a:ext cx="292320" cy="1396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87760" y="4114800"/>
            <a:ext cx="82548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82840" y="4044960"/>
            <a:ext cx="292320" cy="1396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25840" y="3359160"/>
            <a:ext cx="292320" cy="901800"/>
          </a:xfrm>
          <a:prstGeom prst="rect">
            <a:avLst/>
          </a:prstGeom>
          <a:solidFill>
            <a:srgbClr val="767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8640" y="4876920"/>
            <a:ext cx="173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715000" y="4197240"/>
            <a:ext cx="457200" cy="838440"/>
            <a:chOff x="5715000" y="4197240"/>
            <a:chExt cx="457200" cy="838440"/>
          </a:xfrm>
        </p:grpSpPr>
        <p:sp>
          <p:nvSpPr>
            <p:cNvPr id="268" name=""/>
            <p:cNvSpPr/>
            <p:nvPr/>
          </p:nvSpPr>
          <p:spPr>
            <a:xfrm>
              <a:off x="5715000" y="4708440"/>
              <a:ext cx="0" cy="29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5721480" y="4695840"/>
              <a:ext cx="444240" cy="33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21480" y="4708440"/>
              <a:ext cx="444240" cy="29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72200" y="4708440"/>
              <a:ext cx="0" cy="29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43600" y="4570560"/>
              <a:ext cx="0" cy="28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97440" y="4197240"/>
              <a:ext cx="266760" cy="36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97440" y="4197240"/>
              <a:ext cx="266760" cy="360360"/>
            </a:xfrm>
            <a:prstGeom prst="rtTriangl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4730760" y="3581280"/>
            <a:ext cx="825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45160" y="3282840"/>
            <a:ext cx="596880" cy="5968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43600" y="3892680"/>
            <a:ext cx="0" cy="291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54640" y="3581280"/>
            <a:ext cx="749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78680" y="4876920"/>
            <a:ext cx="977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33600" y="2043000"/>
            <a:ext cx="2734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or de máxi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mínima a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63120" y="5243400"/>
            <a:ext cx="1963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ectroválvu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N/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33040" y="2805120"/>
            <a:ext cx="74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3400" y="5237280"/>
            <a:ext cx="2767680" cy="1186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s variables so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ten un conjun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 estados fin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03280" y="2201760"/>
            <a:ext cx="1524240" cy="76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51200" y="2201760"/>
            <a:ext cx="76320" cy="5335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1200" y="2811600"/>
            <a:ext cx="76320" cy="1522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51200" y="3040200"/>
            <a:ext cx="76320" cy="1522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Diagramas de proceso P&amp;I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9400" y="3605040"/>
            <a:ext cx="26748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rumentos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da y regu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resentados p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írculos c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úmeros y let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040" y="1738440"/>
            <a:ext cx="27234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idades de proc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actu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presentados c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mbolos espec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1320" y="5719680"/>
            <a:ext cx="2554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eas de conex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4120" y="4500720"/>
            <a:ext cx="755640" cy="75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500720"/>
            <a:ext cx="852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4424400"/>
            <a:ext cx="76212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29400" y="4424400"/>
            <a:ext cx="838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56200" y="4881600"/>
            <a:ext cx="749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38880" y="4881600"/>
            <a:ext cx="5079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57800" y="5872320"/>
            <a:ext cx="4827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4665600"/>
            <a:ext cx="0" cy="149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352680" y="4957920"/>
            <a:ext cx="1905120" cy="121896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5257800" y="472896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52680" y="617688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81480" y="6024600"/>
            <a:ext cx="1524240" cy="76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5948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705720" y="5947920"/>
            <a:ext cx="3808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05720" y="5948280"/>
            <a:ext cx="3808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86600" y="5948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86600" y="6024600"/>
            <a:ext cx="1523880" cy="76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892920" y="579564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14600" y="3814920"/>
            <a:ext cx="1523880" cy="7596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3814920"/>
            <a:ext cx="75960" cy="53316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62520" y="4424400"/>
            <a:ext cx="75960" cy="1522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4653000"/>
            <a:ext cx="75960" cy="1522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5643720"/>
            <a:ext cx="53352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10560" y="5168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15000" y="511020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75520" y="1989000"/>
            <a:ext cx="9633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939080" y="1976400"/>
            <a:ext cx="5079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86200" y="1774800"/>
            <a:ext cx="0" cy="149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2066760"/>
            <a:ext cx="1905120" cy="1219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791320" y="183816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328608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0120" y="3133800"/>
            <a:ext cx="1089000" cy="7596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95680" y="1533600"/>
            <a:ext cx="76320" cy="1522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95680" y="1762200"/>
            <a:ext cx="76320" cy="1522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58120" y="2217600"/>
            <a:ext cx="0" cy="411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80200" y="196056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670720" y="2521080"/>
            <a:ext cx="701640" cy="5569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7238880" y="2589120"/>
            <a:ext cx="505080" cy="7383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7113600" y="1832040"/>
            <a:ext cx="806400" cy="3412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5715000" y="3133800"/>
            <a:ext cx="1523880" cy="7596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6bf69"/>
                </a:solidFill>
                <a:latin typeface="Arial"/>
              </a:rPr>
              <a:t>Señales normalizad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33800" y="2519280"/>
            <a:ext cx="1600200" cy="60984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81120" y="2519280"/>
            <a:ext cx="1447920" cy="609840"/>
          </a:xfrm>
          <a:prstGeom prst="rect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3080" y="2824200"/>
            <a:ext cx="12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50200" y="2824200"/>
            <a:ext cx="1114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47600" y="2824200"/>
            <a:ext cx="506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91200" y="284004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266560" y="3662280"/>
            <a:ext cx="4737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266920" y="3128760"/>
            <a:ext cx="0" cy="555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746760" y="3048120"/>
            <a:ext cx="444600" cy="4442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54480" y="2602080"/>
            <a:ext cx="291960" cy="4442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67320" y="2824200"/>
            <a:ext cx="35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97200" y="3022560"/>
            <a:ext cx="1572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mi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66040" y="1986120"/>
            <a:ext cx="131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ctu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95680" y="22147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33600" y="22906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43840" y="22906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51200" y="3240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-20 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29040" y="28242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-20 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71680" y="4010040"/>
            <a:ext cx="3906000" cy="2357640"/>
            <a:chOff x="571680" y="4010040"/>
            <a:chExt cx="3906000" cy="2357640"/>
          </a:xfrm>
        </p:grpSpPr>
        <p:sp>
          <p:nvSpPr>
            <p:cNvPr id="352" name=""/>
            <p:cNvSpPr/>
            <p:nvPr/>
          </p:nvSpPr>
          <p:spPr>
            <a:xfrm>
              <a:off x="571680" y="4772160"/>
              <a:ext cx="652320" cy="14990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1230480" y="5303160"/>
              <a:ext cx="1155960" cy="9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1191600" y="4443480"/>
              <a:ext cx="1194840" cy="32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390040" y="4449600"/>
              <a:ext cx="0" cy="85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71680" y="4443480"/>
              <a:ext cx="1350000" cy="32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28160" y="4446720"/>
              <a:ext cx="45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762120" y="5258880"/>
              <a:ext cx="0" cy="48960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839520" y="5150880"/>
              <a:ext cx="0" cy="5972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6480" y="5879880"/>
              <a:ext cx="22608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36440" y="5488920"/>
              <a:ext cx="148680" cy="101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36440" y="5273640"/>
              <a:ext cx="148680" cy="101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748440" y="6004080"/>
              <a:ext cx="65520" cy="109800"/>
            </a:xfrm>
            <a:prstGeom prst="rightArrow">
              <a:avLst>
                <a:gd name="adj1" fmla="val 75000"/>
                <a:gd name="adj2" fmla="val 50005"/>
              </a:avLst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rot="16200000">
              <a:off x="747360" y="6075720"/>
              <a:ext cx="65520" cy="109800"/>
            </a:xfrm>
            <a:prstGeom prst="rightArrow">
              <a:avLst>
                <a:gd name="adj1" fmla="val 75000"/>
                <a:gd name="adj2" fmla="val 50005"/>
              </a:avLst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9040" y="4798800"/>
              <a:ext cx="6814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P  4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V 45.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36440" y="6026400"/>
              <a:ext cx="109800" cy="1011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90040" y="4245120"/>
              <a:ext cx="763920" cy="417240"/>
            </a:xfrm>
            <a:custGeom>
              <a:avLst/>
              <a:gdLst/>
              <a:ahLst/>
              <a:rect l="l" t="t" r="r" b="b"/>
              <a:pathLst>
                <a:path w="946" h="559">
                  <a:moveTo>
                    <a:pt x="0" y="558"/>
                  </a:moveTo>
                  <a:lnTo>
                    <a:pt x="45" y="540"/>
                  </a:lnTo>
                  <a:lnTo>
                    <a:pt x="105" y="510"/>
                  </a:lnTo>
                  <a:lnTo>
                    <a:pt x="165" y="480"/>
                  </a:lnTo>
                  <a:lnTo>
                    <a:pt x="225" y="480"/>
                  </a:lnTo>
                  <a:lnTo>
                    <a:pt x="285" y="450"/>
                  </a:lnTo>
                  <a:lnTo>
                    <a:pt x="345" y="420"/>
                  </a:lnTo>
                  <a:lnTo>
                    <a:pt x="405" y="360"/>
                  </a:lnTo>
                  <a:lnTo>
                    <a:pt x="465" y="330"/>
                  </a:lnTo>
                  <a:lnTo>
                    <a:pt x="495" y="270"/>
                  </a:lnTo>
                  <a:lnTo>
                    <a:pt x="555" y="210"/>
                  </a:lnTo>
                  <a:lnTo>
                    <a:pt x="585" y="150"/>
                  </a:lnTo>
                  <a:lnTo>
                    <a:pt x="675" y="90"/>
                  </a:lnTo>
                  <a:lnTo>
                    <a:pt x="735" y="30"/>
                  </a:lnTo>
                  <a:lnTo>
                    <a:pt x="795" y="30"/>
                  </a:lnTo>
                  <a:lnTo>
                    <a:pt x="855" y="30"/>
                  </a:lnTo>
                  <a:lnTo>
                    <a:pt x="915" y="60"/>
                  </a:lnTo>
                  <a:lnTo>
                    <a:pt x="94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90040" y="4316760"/>
              <a:ext cx="763920" cy="417240"/>
            </a:xfrm>
            <a:custGeom>
              <a:avLst/>
              <a:gdLst/>
              <a:ahLst/>
              <a:rect l="l" t="t" r="r" b="b"/>
              <a:pathLst>
                <a:path w="946" h="559">
                  <a:moveTo>
                    <a:pt x="0" y="558"/>
                  </a:moveTo>
                  <a:lnTo>
                    <a:pt x="45" y="540"/>
                  </a:lnTo>
                  <a:lnTo>
                    <a:pt x="105" y="510"/>
                  </a:lnTo>
                  <a:lnTo>
                    <a:pt x="165" y="480"/>
                  </a:lnTo>
                  <a:lnTo>
                    <a:pt x="225" y="480"/>
                  </a:lnTo>
                  <a:lnTo>
                    <a:pt x="285" y="450"/>
                  </a:lnTo>
                  <a:lnTo>
                    <a:pt x="345" y="420"/>
                  </a:lnTo>
                  <a:lnTo>
                    <a:pt x="405" y="360"/>
                  </a:lnTo>
                  <a:lnTo>
                    <a:pt x="465" y="330"/>
                  </a:lnTo>
                  <a:lnTo>
                    <a:pt x="495" y="270"/>
                  </a:lnTo>
                  <a:lnTo>
                    <a:pt x="555" y="210"/>
                  </a:lnTo>
                  <a:lnTo>
                    <a:pt x="585" y="150"/>
                  </a:lnTo>
                  <a:lnTo>
                    <a:pt x="675" y="90"/>
                  </a:lnTo>
                  <a:lnTo>
                    <a:pt x="735" y="30"/>
                  </a:lnTo>
                  <a:lnTo>
                    <a:pt x="795" y="30"/>
                  </a:lnTo>
                  <a:lnTo>
                    <a:pt x="855" y="30"/>
                  </a:lnTo>
                  <a:lnTo>
                    <a:pt x="915" y="60"/>
                  </a:lnTo>
                  <a:lnTo>
                    <a:pt x="94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90040" y="5055840"/>
              <a:ext cx="788040" cy="85680"/>
            </a:xfrm>
            <a:custGeom>
              <a:avLst/>
              <a:gdLst/>
              <a:ahLst/>
              <a:rect l="l" t="t" r="r" b="b"/>
              <a:pathLst>
                <a:path w="976" h="115">
                  <a:moveTo>
                    <a:pt x="0" y="0"/>
                  </a:moveTo>
                  <a:lnTo>
                    <a:pt x="75" y="54"/>
                  </a:lnTo>
                  <a:lnTo>
                    <a:pt x="255" y="54"/>
                  </a:lnTo>
                  <a:lnTo>
                    <a:pt x="435" y="84"/>
                  </a:lnTo>
                  <a:lnTo>
                    <a:pt x="495" y="84"/>
                  </a:lnTo>
                  <a:lnTo>
                    <a:pt x="555" y="84"/>
                  </a:lnTo>
                  <a:lnTo>
                    <a:pt x="615" y="54"/>
                  </a:lnTo>
                  <a:lnTo>
                    <a:pt x="675" y="54"/>
                  </a:lnTo>
                  <a:lnTo>
                    <a:pt x="735" y="54"/>
                  </a:lnTo>
                  <a:lnTo>
                    <a:pt x="795" y="54"/>
                  </a:lnTo>
                  <a:lnTo>
                    <a:pt x="855" y="84"/>
                  </a:lnTo>
                  <a:lnTo>
                    <a:pt x="915" y="114"/>
                  </a:lnTo>
                  <a:lnTo>
                    <a:pt x="975" y="1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90040" y="5127480"/>
              <a:ext cx="788040" cy="85680"/>
            </a:xfrm>
            <a:custGeom>
              <a:avLst/>
              <a:gdLst/>
              <a:ahLst/>
              <a:rect l="l" t="t" r="r" b="b"/>
              <a:pathLst>
                <a:path w="976" h="115">
                  <a:moveTo>
                    <a:pt x="0" y="0"/>
                  </a:moveTo>
                  <a:lnTo>
                    <a:pt x="75" y="54"/>
                  </a:lnTo>
                  <a:lnTo>
                    <a:pt x="255" y="54"/>
                  </a:lnTo>
                  <a:lnTo>
                    <a:pt x="435" y="84"/>
                  </a:lnTo>
                  <a:lnTo>
                    <a:pt x="495" y="84"/>
                  </a:lnTo>
                  <a:lnTo>
                    <a:pt x="555" y="84"/>
                  </a:lnTo>
                  <a:lnTo>
                    <a:pt x="615" y="54"/>
                  </a:lnTo>
                  <a:lnTo>
                    <a:pt x="675" y="54"/>
                  </a:lnTo>
                  <a:lnTo>
                    <a:pt x="735" y="54"/>
                  </a:lnTo>
                  <a:lnTo>
                    <a:pt x="795" y="54"/>
                  </a:lnTo>
                  <a:lnTo>
                    <a:pt x="855" y="84"/>
                  </a:lnTo>
                  <a:lnTo>
                    <a:pt x="915" y="114"/>
                  </a:lnTo>
                  <a:lnTo>
                    <a:pt x="975" y="1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96080" y="4010040"/>
              <a:ext cx="1281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imes New Roman"/>
                </a:rPr>
                <a:t>4-20 mA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imes New Roman"/>
                </a:rPr>
                <a:t>transmis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36760" y="4905000"/>
              <a:ext cx="11048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4-20 mA 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actuad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41400" y="5726160"/>
              <a:ext cx="384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V 3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4995720" y="4035600"/>
            <a:ext cx="179712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6bf69"/>
                </a:solidFill>
                <a:latin typeface="Arial"/>
              </a:rPr>
              <a:t>Sala de Contr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385920" cy="668160"/>
          </a:xfrm>
          <a:prstGeom prst="rect">
            <a:avLst/>
          </a:prstGeom>
          <a:ln w="0">
            <a:noFill/>
          </a:ln>
        </p:spPr>
      </p:pic>
      <p:grpSp>
        <p:nvGrpSpPr>
          <p:cNvPr id="377" name=""/>
          <p:cNvGrpSpPr/>
          <p:nvPr/>
        </p:nvGrpSpPr>
        <p:grpSpPr>
          <a:xfrm>
            <a:off x="539640" y="4365720"/>
            <a:ext cx="475920" cy="829800"/>
            <a:chOff x="539640" y="4365720"/>
            <a:chExt cx="475920" cy="829800"/>
          </a:xfrm>
        </p:grpSpPr>
        <p:sp>
          <p:nvSpPr>
            <p:cNvPr id="378" name=""/>
            <p:cNvSpPr/>
            <p:nvPr/>
          </p:nvSpPr>
          <p:spPr>
            <a:xfrm>
              <a:off x="655560" y="5065560"/>
              <a:ext cx="273960" cy="124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75000" y="4636800"/>
              <a:ext cx="205200" cy="312480"/>
            </a:xfrm>
            <a:custGeom>
              <a:avLst/>
              <a:gdLst>
                <a:gd name="textAreaLeft" fmla="*/ 7200 w 205200"/>
                <a:gd name="textAreaRight" fmla="*/ 198000 w 205200"/>
                <a:gd name="textAreaTop" fmla="*/ 7200 h 312480"/>
                <a:gd name="textAreaBottom" fmla="*/ 305280 h 312480"/>
              </a:gdLst>
              <a:ahLst/>
              <a:rect l="textAreaLeft" t="textAreaTop" r="textAreaRight" b="textAreaBottom"/>
              <a:pathLst>
                <a:path w="21600" h="32873">
                  <a:moveTo>
                    <a:pt x="2699" y="0"/>
                  </a:moveTo>
                  <a:arcTo wR="2699" hR="2699" stAng="16200000" swAng="-5400000"/>
                  <a:lnTo>
                    <a:pt x="0" y="30174"/>
                  </a:lnTo>
                  <a:arcTo wR="2699" hR="2699" stAng="10800000" swAng="-5400000"/>
                  <a:lnTo>
                    <a:pt x="18901" y="32873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1f4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5240" y="4663800"/>
              <a:ext cx="144720" cy="263160"/>
            </a:xfrm>
            <a:custGeom>
              <a:avLst/>
              <a:gdLst>
                <a:gd name="textAreaLeft" fmla="*/ 5040 w 144720"/>
                <a:gd name="textAreaRight" fmla="*/ 139680 w 144720"/>
                <a:gd name="textAreaTop" fmla="*/ 5040 h 263160"/>
                <a:gd name="textAreaBottom" fmla="*/ 258120 h 263160"/>
              </a:gdLst>
              <a:ahLst/>
              <a:rect l="textAreaLeft" t="textAreaTop" r="textAreaRight" b="textAreaBottom"/>
              <a:pathLst>
                <a:path w="21600" h="39234">
                  <a:moveTo>
                    <a:pt x="2699" y="0"/>
                  </a:moveTo>
                  <a:arcTo wR="2699" hR="2699" stAng="16200000" swAng="-5400000"/>
                  <a:lnTo>
                    <a:pt x="0" y="36535"/>
                  </a:lnTo>
                  <a:arcTo wR="2699" hR="2699" stAng="10800000" swAng="-5400000"/>
                  <a:lnTo>
                    <a:pt x="18901" y="39234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6400" y="4478040"/>
              <a:ext cx="124200" cy="144360"/>
            </a:xfrm>
            <a:prstGeom prst="rect">
              <a:avLst/>
            </a:prstGeom>
            <a:solidFill>
              <a:srgbClr val="1f4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6920" y="4365720"/>
              <a:ext cx="69840" cy="12600"/>
            </a:xfrm>
            <a:prstGeom prst="roundRect">
              <a:avLst>
                <a:gd name="adj" fmla="val 12495"/>
              </a:avLst>
            </a:prstGeom>
            <a:solidFill>
              <a:srgbClr val="1f4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5720" y="4378320"/>
              <a:ext cx="379080" cy="88200"/>
            </a:xfrm>
            <a:prstGeom prst="roundRect">
              <a:avLst>
                <a:gd name="adj" fmla="val 12495"/>
              </a:avLst>
            </a:prstGeom>
            <a:solidFill>
              <a:srgbClr val="1f4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2880" y="4419360"/>
              <a:ext cx="467640" cy="12240"/>
            </a:xfrm>
            <a:prstGeom prst="rect">
              <a:avLst/>
            </a:prstGeom>
            <a:solidFill>
              <a:srgbClr val="1f4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39640" y="4424040"/>
              <a:ext cx="47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550800" y="4402080"/>
              <a:ext cx="19080" cy="59400"/>
              <a:chOff x="550800" y="4402080"/>
              <a:chExt cx="19080" cy="5940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550800" y="4402080"/>
                <a:ext cx="15840" cy="16560"/>
                <a:chOff x="550800" y="4402080"/>
                <a:chExt cx="15840" cy="1656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550800" y="4406400"/>
                  <a:ext cx="15840" cy="122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554040" y="4402080"/>
                  <a:ext cx="0" cy="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66640" y="4403160"/>
                  <a:ext cx="0" cy="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550800" y="4433400"/>
                <a:ext cx="15840" cy="16560"/>
                <a:chOff x="550800" y="4433400"/>
                <a:chExt cx="15840" cy="1656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550800" y="4437720"/>
                  <a:ext cx="15840" cy="122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54040" y="4433400"/>
                  <a:ext cx="0" cy="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66640" y="4434480"/>
                  <a:ext cx="0" cy="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5" name=""/>
              <p:cNvSpPr/>
              <p:nvPr/>
            </p:nvSpPr>
            <p:spPr>
              <a:xfrm>
                <a:off x="557280" y="4449240"/>
                <a:ext cx="12600" cy="1224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554040" y="4449240"/>
                <a:ext cx="12600" cy="2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554040" y="4444560"/>
                <a:ext cx="12600" cy="2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635040" y="4402080"/>
              <a:ext cx="19080" cy="59400"/>
              <a:chOff x="635040" y="4402080"/>
              <a:chExt cx="19080" cy="5940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635040" y="4402080"/>
                <a:ext cx="17280" cy="16560"/>
                <a:chOff x="635040" y="4402080"/>
                <a:chExt cx="17280" cy="1656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635040" y="4406400"/>
                  <a:ext cx="17280" cy="122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35040" y="4402080"/>
                  <a:ext cx="0" cy="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52320" y="4403160"/>
                  <a:ext cx="0" cy="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635040" y="4433400"/>
                <a:ext cx="17280" cy="16560"/>
                <a:chOff x="635040" y="4433400"/>
                <a:chExt cx="17280" cy="1656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635040" y="4437720"/>
                  <a:ext cx="17280" cy="122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35040" y="4433400"/>
                  <a:ext cx="0" cy="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52320" y="4434480"/>
                  <a:ext cx="0" cy="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641160" y="4449240"/>
                <a:ext cx="12960" cy="1224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638280" y="4449240"/>
                <a:ext cx="10800" cy="2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638280" y="4444560"/>
                <a:ext cx="10800" cy="2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727560" y="4402080"/>
              <a:ext cx="18720" cy="59400"/>
              <a:chOff x="727560" y="4402080"/>
              <a:chExt cx="18720" cy="5940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727560" y="4402080"/>
                <a:ext cx="15840" cy="16560"/>
                <a:chOff x="727560" y="4402080"/>
                <a:chExt cx="15840" cy="165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727560" y="4406400"/>
                  <a:ext cx="15840" cy="122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29000" y="4402080"/>
                  <a:ext cx="0" cy="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43400" y="4403160"/>
                  <a:ext cx="0" cy="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727560" y="4433400"/>
                <a:ext cx="15840" cy="16560"/>
                <a:chOff x="727560" y="4433400"/>
                <a:chExt cx="15840" cy="1656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727560" y="4437720"/>
                  <a:ext cx="15840" cy="122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29000" y="4433400"/>
                  <a:ext cx="0" cy="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43400" y="4434480"/>
                  <a:ext cx="0" cy="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9" name=""/>
              <p:cNvSpPr/>
              <p:nvPr/>
            </p:nvSpPr>
            <p:spPr>
              <a:xfrm>
                <a:off x="733680" y="4449240"/>
                <a:ext cx="12600" cy="1224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729000" y="4449240"/>
                <a:ext cx="12600" cy="2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729000" y="4444560"/>
                <a:ext cx="12600" cy="2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819720" y="4402080"/>
              <a:ext cx="19080" cy="59400"/>
              <a:chOff x="819720" y="4402080"/>
              <a:chExt cx="19080" cy="5940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819720" y="4402080"/>
                <a:ext cx="15840" cy="16560"/>
                <a:chOff x="819720" y="4402080"/>
                <a:chExt cx="15840" cy="1656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819720" y="4406400"/>
                  <a:ext cx="15840" cy="122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819720" y="4402080"/>
                  <a:ext cx="0" cy="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35560" y="4403160"/>
                  <a:ext cx="0" cy="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819720" y="4433400"/>
                <a:ext cx="15840" cy="16560"/>
                <a:chOff x="819720" y="4433400"/>
                <a:chExt cx="15840" cy="165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819720" y="4437720"/>
                  <a:ext cx="15840" cy="122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19720" y="4433400"/>
                  <a:ext cx="0" cy="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35560" y="4434480"/>
                  <a:ext cx="0" cy="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826200" y="4449240"/>
                <a:ext cx="12600" cy="1224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821520" y="4449240"/>
                <a:ext cx="12600" cy="2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821520" y="4444560"/>
                <a:ext cx="12600" cy="2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902880" y="4402080"/>
              <a:ext cx="20520" cy="59400"/>
              <a:chOff x="902880" y="4402080"/>
              <a:chExt cx="20520" cy="59400"/>
            </a:xfrm>
          </p:grpSpPr>
          <p:grpSp>
            <p:nvGrpSpPr>
              <p:cNvPr id="435" name=""/>
              <p:cNvGrpSpPr/>
              <p:nvPr/>
            </p:nvGrpSpPr>
            <p:grpSpPr>
              <a:xfrm>
                <a:off x="902880" y="4402080"/>
                <a:ext cx="19080" cy="16560"/>
                <a:chOff x="902880" y="4402080"/>
                <a:chExt cx="19080" cy="1656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902880" y="4406400"/>
                  <a:ext cx="19080" cy="122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904320" y="4402080"/>
                  <a:ext cx="0" cy="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918720" y="4403160"/>
                  <a:ext cx="0" cy="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902880" y="4433400"/>
                <a:ext cx="19080" cy="16560"/>
                <a:chOff x="902880" y="4433400"/>
                <a:chExt cx="19080" cy="1656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902880" y="4437720"/>
                  <a:ext cx="19080" cy="122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904320" y="4433400"/>
                  <a:ext cx="0" cy="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918720" y="4434480"/>
                  <a:ext cx="0" cy="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"/>
              <p:cNvSpPr/>
              <p:nvPr/>
            </p:nvSpPr>
            <p:spPr>
              <a:xfrm>
                <a:off x="910800" y="4449240"/>
                <a:ext cx="12600" cy="1224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904320" y="4449240"/>
                <a:ext cx="14400" cy="2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904320" y="4444560"/>
                <a:ext cx="14400" cy="2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983880" y="4402080"/>
              <a:ext cx="20520" cy="59400"/>
              <a:chOff x="983880" y="4402080"/>
              <a:chExt cx="20520" cy="5940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983880" y="4402080"/>
                <a:ext cx="18720" cy="16560"/>
                <a:chOff x="983880" y="4402080"/>
                <a:chExt cx="18720" cy="1656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983880" y="4406400"/>
                  <a:ext cx="18720" cy="122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986760" y="4402080"/>
                  <a:ext cx="0" cy="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001160" y="4403160"/>
                  <a:ext cx="0" cy="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983880" y="4433400"/>
                <a:ext cx="18720" cy="16560"/>
                <a:chOff x="983880" y="4433400"/>
                <a:chExt cx="18720" cy="1656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983880" y="4437720"/>
                  <a:ext cx="18720" cy="122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986760" y="4433400"/>
                  <a:ext cx="0" cy="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1001160" y="4434480"/>
                  <a:ext cx="0" cy="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5" name=""/>
              <p:cNvSpPr/>
              <p:nvPr/>
            </p:nvSpPr>
            <p:spPr>
              <a:xfrm>
                <a:off x="991800" y="4449240"/>
                <a:ext cx="12600" cy="1224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986760" y="4449240"/>
                <a:ext cx="12960" cy="2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986760" y="4444560"/>
                <a:ext cx="12960" cy="2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756000" y="4665600"/>
              <a:ext cx="42840" cy="406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75080" y="4717800"/>
              <a:ext cx="12600" cy="209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9240" y="4744800"/>
              <a:ext cx="38160" cy="52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0680" y="4733640"/>
              <a:ext cx="31680" cy="12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67160" y="472896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88040" y="472896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41600" y="4808520"/>
              <a:ext cx="73080" cy="12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760680" y="4811400"/>
              <a:ext cx="31680" cy="16920"/>
              <a:chOff x="760680" y="4811400"/>
              <a:chExt cx="31680" cy="16920"/>
            </a:xfrm>
          </p:grpSpPr>
          <p:sp>
            <p:nvSpPr>
              <p:cNvPr id="466" name=""/>
              <p:cNvSpPr/>
              <p:nvPr/>
            </p:nvSpPr>
            <p:spPr>
              <a:xfrm>
                <a:off x="760680" y="4816080"/>
                <a:ext cx="31680" cy="122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67160" y="4811400"/>
                <a:ext cx="0" cy="9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87680" y="4811400"/>
                <a:ext cx="0" cy="9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706680" y="5040000"/>
              <a:ext cx="143280" cy="140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560520" y="5054400"/>
              <a:ext cx="126720" cy="136080"/>
              <a:chOff x="560520" y="5054400"/>
              <a:chExt cx="126720" cy="136080"/>
            </a:xfrm>
          </p:grpSpPr>
          <p:sp>
            <p:nvSpPr>
              <p:cNvPr id="471" name=""/>
              <p:cNvSpPr/>
              <p:nvPr/>
            </p:nvSpPr>
            <p:spPr>
              <a:xfrm>
                <a:off x="612720" y="5088960"/>
                <a:ext cx="74520" cy="61560"/>
              </a:xfrm>
              <a:prstGeom prst="rect">
                <a:avLst/>
              </a:prstGeom>
              <a:solidFill>
                <a:srgbClr val="3366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60520" y="5054400"/>
                <a:ext cx="39600" cy="136080"/>
              </a:xfrm>
              <a:prstGeom prst="rect">
                <a:avLst/>
              </a:prstGeom>
              <a:solidFill>
                <a:srgbClr val="3366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867600" y="5049720"/>
              <a:ext cx="129960" cy="137520"/>
              <a:chOff x="867600" y="5049720"/>
              <a:chExt cx="129960" cy="137520"/>
            </a:xfrm>
          </p:grpSpPr>
          <p:sp>
            <p:nvSpPr>
              <p:cNvPr id="474" name=""/>
              <p:cNvSpPr/>
              <p:nvPr/>
            </p:nvSpPr>
            <p:spPr>
              <a:xfrm>
                <a:off x="867600" y="5085720"/>
                <a:ext cx="72720" cy="60120"/>
              </a:xfrm>
              <a:prstGeom prst="rect">
                <a:avLst/>
              </a:prstGeom>
              <a:solidFill>
                <a:srgbClr val="3366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953280" y="5049720"/>
                <a:ext cx="44280" cy="137520"/>
              </a:xfrm>
              <a:prstGeom prst="rect">
                <a:avLst/>
              </a:prstGeom>
              <a:solidFill>
                <a:srgbClr val="3366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675000" y="5037120"/>
              <a:ext cx="200520" cy="158400"/>
            </a:xfrm>
            <a:prstGeom prst="ellipse">
              <a:avLst/>
            </a:prstGeom>
            <a:solidFill>
              <a:srgbClr val="3366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5480" y="4962240"/>
              <a:ext cx="83880" cy="4896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95520" y="5020920"/>
              <a:ext cx="168840" cy="12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838800" y="4995720"/>
              <a:ext cx="17640" cy="25920"/>
              <a:chOff x="838800" y="4995720"/>
              <a:chExt cx="17640" cy="2592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838800" y="5004720"/>
                <a:ext cx="15840" cy="16920"/>
                <a:chOff x="838800" y="5004720"/>
                <a:chExt cx="15840" cy="1692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838800" y="5009400"/>
                  <a:ext cx="15840" cy="12240"/>
                </a:xfrm>
                <a:prstGeom prst="rect">
                  <a:avLst/>
                </a:prstGeom>
                <a:solidFill>
                  <a:srgbClr val="3366c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840600" y="5004720"/>
                  <a:ext cx="0" cy="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V="1">
                  <a:off x="854640" y="5004720"/>
                  <a:ext cx="0" cy="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>
                <a:off x="843480" y="5000040"/>
                <a:ext cx="12960" cy="12240"/>
              </a:xfrm>
              <a:prstGeom prst="rect">
                <a:avLst/>
              </a:prstGeom>
              <a:solidFill>
                <a:srgbClr val="3366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42040" y="4995720"/>
                <a:ext cx="12600" cy="2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42040" y="5000040"/>
                <a:ext cx="12600" cy="2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702000" y="4995720"/>
              <a:ext cx="19080" cy="27360"/>
              <a:chOff x="702000" y="4995720"/>
              <a:chExt cx="19080" cy="27360"/>
            </a:xfrm>
          </p:grpSpPr>
          <p:grpSp>
            <p:nvGrpSpPr>
              <p:cNvPr id="488" name=""/>
              <p:cNvGrpSpPr/>
              <p:nvPr/>
            </p:nvGrpSpPr>
            <p:grpSpPr>
              <a:xfrm>
                <a:off x="702000" y="5004720"/>
                <a:ext cx="17640" cy="18360"/>
                <a:chOff x="702000" y="5004720"/>
                <a:chExt cx="17640" cy="183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702000" y="5010840"/>
                  <a:ext cx="17640" cy="12240"/>
                </a:xfrm>
                <a:prstGeom prst="rect">
                  <a:avLst/>
                </a:prstGeom>
                <a:solidFill>
                  <a:srgbClr val="3366c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V="1">
                  <a:off x="702000" y="5004720"/>
                  <a:ext cx="0" cy="10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V="1">
                  <a:off x="717840" y="5004720"/>
                  <a:ext cx="0" cy="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2" name=""/>
              <p:cNvSpPr/>
              <p:nvPr/>
            </p:nvSpPr>
            <p:spPr>
              <a:xfrm>
                <a:off x="708480" y="5000040"/>
                <a:ext cx="12600" cy="12240"/>
              </a:xfrm>
              <a:prstGeom prst="rect">
                <a:avLst/>
              </a:prstGeom>
              <a:solidFill>
                <a:srgbClr val="3366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05240" y="4995720"/>
                <a:ext cx="11160" cy="4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05240" y="5000040"/>
                <a:ext cx="11160" cy="4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744840" y="4995720"/>
              <a:ext cx="19080" cy="25920"/>
              <a:chOff x="744840" y="4995720"/>
              <a:chExt cx="19080" cy="2592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744840" y="5004720"/>
                <a:ext cx="17640" cy="16920"/>
                <a:chOff x="744840" y="5004720"/>
                <a:chExt cx="17640" cy="169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744840" y="5009400"/>
                  <a:ext cx="17640" cy="12240"/>
                </a:xfrm>
                <a:prstGeom prst="rect">
                  <a:avLst/>
                </a:prstGeom>
                <a:solidFill>
                  <a:srgbClr val="3366c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748080" y="5004720"/>
                  <a:ext cx="0" cy="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762480" y="5004720"/>
                  <a:ext cx="0" cy="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0" name=""/>
              <p:cNvSpPr/>
              <p:nvPr/>
            </p:nvSpPr>
            <p:spPr>
              <a:xfrm>
                <a:off x="751320" y="5000040"/>
                <a:ext cx="12600" cy="12240"/>
              </a:xfrm>
              <a:prstGeom prst="rect">
                <a:avLst/>
              </a:prstGeom>
              <a:solidFill>
                <a:srgbClr val="3366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48080" y="4995720"/>
                <a:ext cx="14400" cy="2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48080" y="5000040"/>
                <a:ext cx="14400" cy="2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791280" y="4995720"/>
              <a:ext cx="19080" cy="25920"/>
              <a:chOff x="791280" y="4995720"/>
              <a:chExt cx="19080" cy="25920"/>
            </a:xfrm>
          </p:grpSpPr>
          <p:grpSp>
            <p:nvGrpSpPr>
              <p:cNvPr id="504" name=""/>
              <p:cNvGrpSpPr/>
              <p:nvPr/>
            </p:nvGrpSpPr>
            <p:grpSpPr>
              <a:xfrm>
                <a:off x="791280" y="5002920"/>
                <a:ext cx="17280" cy="18720"/>
                <a:chOff x="791280" y="5002920"/>
                <a:chExt cx="17280" cy="1872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791280" y="5009400"/>
                  <a:ext cx="17280" cy="12240"/>
                </a:xfrm>
                <a:prstGeom prst="rect">
                  <a:avLst/>
                </a:prstGeom>
                <a:solidFill>
                  <a:srgbClr val="3366c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V="1">
                  <a:off x="792720" y="5004360"/>
                  <a:ext cx="0" cy="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V="1">
                  <a:off x="808560" y="5002920"/>
                  <a:ext cx="0" cy="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8" name=""/>
              <p:cNvSpPr/>
              <p:nvPr/>
            </p:nvSpPr>
            <p:spPr>
              <a:xfrm>
                <a:off x="797760" y="4998600"/>
                <a:ext cx="12600" cy="12240"/>
              </a:xfrm>
              <a:prstGeom prst="rect">
                <a:avLst/>
              </a:prstGeom>
              <a:solidFill>
                <a:srgbClr val="3366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94520" y="4995720"/>
                <a:ext cx="11160" cy="2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94520" y="4998600"/>
                <a:ext cx="11160" cy="4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711000" y="4473360"/>
              <a:ext cx="126000" cy="173880"/>
              <a:chOff x="711000" y="4473360"/>
              <a:chExt cx="126000" cy="173880"/>
            </a:xfrm>
          </p:grpSpPr>
          <p:sp>
            <p:nvSpPr>
              <p:cNvPr id="512" name=""/>
              <p:cNvSpPr/>
              <p:nvPr/>
            </p:nvSpPr>
            <p:spPr>
              <a:xfrm>
                <a:off x="756000" y="4520520"/>
                <a:ext cx="38160" cy="1260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17840" y="4533480"/>
                <a:ext cx="114480" cy="10764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6920" y="4565160"/>
                <a:ext cx="79200" cy="6300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711360" y="4632840"/>
                <a:ext cx="20880" cy="14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 flipV="1">
                <a:off x="821160" y="4635000"/>
                <a:ext cx="1584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 flipV="1">
                <a:off x="711000" y="4548960"/>
                <a:ext cx="19080" cy="9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821160" y="4545720"/>
                <a:ext cx="15840" cy="14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48080" y="4473360"/>
                <a:ext cx="54000" cy="45720"/>
              </a:xfrm>
              <a:prstGeom prst="ellipse">
                <a:avLst/>
              </a:prstGeom>
              <a:solidFill>
                <a:srgbClr val="676767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52760" y="4477680"/>
                <a:ext cx="44640" cy="36360"/>
              </a:xfrm>
              <a:prstGeom prst="ellipse">
                <a:avLst/>
              </a:prstGeom>
              <a:solidFill>
                <a:srgbClr val="676767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48080" y="44733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0"/>
                    </a:moveTo>
                    <a:lnTo>
                      <a:pt x="4" y="16"/>
                    </a:lnTo>
                    <a:lnTo>
                      <a:pt x="16" y="5"/>
                    </a:lnTo>
                    <a:lnTo>
                      <a:pt x="11" y="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676767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90920" y="45097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9"/>
                    </a:moveTo>
                    <a:lnTo>
                      <a:pt x="4" y="16"/>
                    </a:lnTo>
                    <a:lnTo>
                      <a:pt x="16" y="6"/>
                    </a:lnTo>
                    <a:lnTo>
                      <a:pt x="12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676767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41600" y="4606560"/>
                <a:ext cx="22320" cy="1836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90920" y="4606560"/>
                <a:ext cx="22320" cy="1836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"/>
          <p:cNvSpPr/>
          <p:nvPr/>
        </p:nvSpPr>
        <p:spPr>
          <a:xfrm>
            <a:off x="900000" y="3141720"/>
            <a:ext cx="1871640" cy="252360"/>
          </a:xfrm>
          <a:custGeom>
            <a:avLst/>
            <a:gdLst/>
            <a:ahLst/>
            <a:rect l="l" t="t" r="r" b="b"/>
            <a:pathLst>
              <a:path w="1179" h="159">
                <a:moveTo>
                  <a:pt x="0" y="136"/>
                </a:moveTo>
                <a:cubicBezTo>
                  <a:pt x="98" y="113"/>
                  <a:pt x="197" y="90"/>
                  <a:pt x="272" y="90"/>
                </a:cubicBezTo>
                <a:cubicBezTo>
                  <a:pt x="347" y="90"/>
                  <a:pt x="355" y="128"/>
                  <a:pt x="453" y="136"/>
                </a:cubicBezTo>
                <a:cubicBezTo>
                  <a:pt x="551" y="144"/>
                  <a:pt x="740" y="159"/>
                  <a:pt x="861" y="136"/>
                </a:cubicBezTo>
                <a:cubicBezTo>
                  <a:pt x="982" y="113"/>
                  <a:pt x="1080" y="56"/>
                  <a:pt x="1179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900000" y="3213000"/>
            <a:ext cx="1871640" cy="252360"/>
          </a:xfrm>
          <a:custGeom>
            <a:avLst/>
            <a:gdLst/>
            <a:ahLst/>
            <a:rect l="l" t="t" r="r" b="b"/>
            <a:pathLst>
              <a:path w="1179" h="159">
                <a:moveTo>
                  <a:pt x="0" y="136"/>
                </a:moveTo>
                <a:cubicBezTo>
                  <a:pt x="98" y="113"/>
                  <a:pt x="197" y="90"/>
                  <a:pt x="272" y="90"/>
                </a:cubicBezTo>
                <a:cubicBezTo>
                  <a:pt x="347" y="90"/>
                  <a:pt x="355" y="128"/>
                  <a:pt x="453" y="136"/>
                </a:cubicBezTo>
                <a:cubicBezTo>
                  <a:pt x="551" y="144"/>
                  <a:pt x="740" y="159"/>
                  <a:pt x="861" y="136"/>
                </a:cubicBezTo>
                <a:cubicBezTo>
                  <a:pt x="982" y="113"/>
                  <a:pt x="1080" y="56"/>
                  <a:pt x="1179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00000" y="4437000"/>
            <a:ext cx="1871640" cy="252360"/>
          </a:xfrm>
          <a:custGeom>
            <a:avLst/>
            <a:gdLst/>
            <a:ahLst/>
            <a:rect l="l" t="t" r="r" b="b"/>
            <a:pathLst>
              <a:path w="1179" h="159">
                <a:moveTo>
                  <a:pt x="0" y="136"/>
                </a:moveTo>
                <a:cubicBezTo>
                  <a:pt x="98" y="113"/>
                  <a:pt x="197" y="90"/>
                  <a:pt x="272" y="90"/>
                </a:cubicBezTo>
                <a:cubicBezTo>
                  <a:pt x="347" y="90"/>
                  <a:pt x="355" y="128"/>
                  <a:pt x="453" y="136"/>
                </a:cubicBezTo>
                <a:cubicBezTo>
                  <a:pt x="551" y="144"/>
                  <a:pt x="740" y="159"/>
                  <a:pt x="861" y="136"/>
                </a:cubicBezTo>
                <a:cubicBezTo>
                  <a:pt x="982" y="113"/>
                  <a:pt x="1080" y="56"/>
                  <a:pt x="1179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4508640"/>
            <a:ext cx="1871640" cy="252360"/>
          </a:xfrm>
          <a:custGeom>
            <a:avLst/>
            <a:gdLst/>
            <a:ahLst/>
            <a:rect l="l" t="t" r="r" b="b"/>
            <a:pathLst>
              <a:path w="1179" h="159">
                <a:moveTo>
                  <a:pt x="0" y="136"/>
                </a:moveTo>
                <a:cubicBezTo>
                  <a:pt x="98" y="113"/>
                  <a:pt x="197" y="90"/>
                  <a:pt x="272" y="90"/>
                </a:cubicBezTo>
                <a:cubicBezTo>
                  <a:pt x="347" y="90"/>
                  <a:pt x="355" y="128"/>
                  <a:pt x="453" y="136"/>
                </a:cubicBezTo>
                <a:cubicBezTo>
                  <a:pt x="551" y="144"/>
                  <a:pt x="740" y="159"/>
                  <a:pt x="861" y="136"/>
                </a:cubicBezTo>
                <a:cubicBezTo>
                  <a:pt x="982" y="113"/>
                  <a:pt x="1080" y="56"/>
                  <a:pt x="1179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71640" y="386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– 20 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95640" y="765000"/>
            <a:ext cx="0" cy="5472360"/>
          </a:xfrm>
          <a:prstGeom prst="line">
            <a:avLst/>
          </a:prstGeom>
          <a:ln w="1260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4000" y="566100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6372360" y="1628640"/>
            <a:ext cx="1942920" cy="155124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5364000" y="2492280"/>
            <a:ext cx="863640" cy="289080"/>
          </a:xfrm>
          <a:prstGeom prst="leftRightArrow">
            <a:avLst>
              <a:gd name="adj1" fmla="val 50000"/>
              <a:gd name="adj2" fmla="val 59474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372360" y="32130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2746440" y="1655640"/>
            <a:ext cx="2571840" cy="468180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4"/>
          <a:stretch/>
        </p:blipFill>
        <p:spPr>
          <a:xfrm>
            <a:off x="5675400" y="3816360"/>
            <a:ext cx="3279600" cy="245916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5"/>
          <a:stretch/>
        </p:blipFill>
        <p:spPr>
          <a:xfrm>
            <a:off x="1163520" y="1476360"/>
            <a:ext cx="1644840" cy="69552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2728800" y="2060640"/>
            <a:ext cx="971640" cy="7556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6bf69"/>
                </a:solidFill>
                <a:latin typeface="Arial"/>
              </a:rPr>
              <a:t>Control por computad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1803240" y="2165400"/>
            <a:ext cx="3721320" cy="157464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5735520" y="4516560"/>
            <a:ext cx="1587600" cy="825480"/>
          </a:xfrm>
          <a:prstGeom prst="rect">
            <a:avLst/>
          </a:prstGeom>
          <a:solidFill>
            <a:srgbClr val="ce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008000" y="4516560"/>
            <a:ext cx="2200320" cy="825480"/>
          </a:xfrm>
          <a:prstGeom prst="rect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procesa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228840" y="4890960"/>
            <a:ext cx="430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3686040" y="4727520"/>
            <a:ext cx="49320" cy="176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38680" y="4890960"/>
            <a:ext cx="277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35320" y="4516560"/>
            <a:ext cx="901800" cy="825480"/>
          </a:xfrm>
          <a:prstGeom prst="rect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057640" y="4890960"/>
            <a:ext cx="658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343640" y="4890960"/>
            <a:ext cx="1040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939080" y="4905360"/>
            <a:ext cx="0" cy="119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5641920" y="6110280"/>
            <a:ext cx="2309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743440" y="6110280"/>
            <a:ext cx="4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5489280" y="5870160"/>
            <a:ext cx="176040" cy="252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032080" y="6110280"/>
            <a:ext cx="328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35320" y="5735520"/>
            <a:ext cx="901800" cy="673200"/>
          </a:xfrm>
          <a:prstGeom prst="rect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2441160" y="6110280"/>
            <a:ext cx="1700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452680" y="5336640"/>
            <a:ext cx="0" cy="785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39760" y="4876920"/>
            <a:ext cx="735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10080" y="617220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743920" y="5638680"/>
            <a:ext cx="87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y(k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277800" y="404028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(k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3560" y="6168960"/>
            <a:ext cx="33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 periodo de muestr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49360" y="152388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tencia,  Ethernet   AI   AO     Controlador  DI   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3035160" y="2211480"/>
            <a:ext cx="3306960" cy="1105920"/>
            <a:chOff x="3035160" y="2211480"/>
            <a:chExt cx="3306960" cy="1105920"/>
          </a:xfrm>
        </p:grpSpPr>
        <p:sp>
          <p:nvSpPr>
            <p:cNvPr id="564" name=""/>
            <p:cNvSpPr/>
            <p:nvPr/>
          </p:nvSpPr>
          <p:spPr>
            <a:xfrm>
              <a:off x="3052800" y="2287440"/>
              <a:ext cx="0" cy="6019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29320" y="2211480"/>
              <a:ext cx="0" cy="650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316560" y="2338560"/>
              <a:ext cx="0" cy="550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35160" y="2870280"/>
              <a:ext cx="33069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3244680" y="2854440"/>
              <a:ext cx="0" cy="450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5657760" y="2841120"/>
              <a:ext cx="0" cy="438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4451400" y="2830320"/>
              <a:ext cx="0" cy="487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419040" y="254160"/>
            <a:ext cx="7594560" cy="72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rquitectur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2349360" y="1427040"/>
            <a:ext cx="1390680" cy="1040040"/>
          </a:xfrm>
          <a:prstGeom prst="rect">
            <a:avLst/>
          </a:prstGeom>
          <a:ln w="0">
            <a:noFill/>
          </a:ln>
        </p:spPr>
      </p:pic>
      <p:grpSp>
        <p:nvGrpSpPr>
          <p:cNvPr id="573" name=""/>
          <p:cNvGrpSpPr/>
          <p:nvPr/>
        </p:nvGrpSpPr>
        <p:grpSpPr>
          <a:xfrm>
            <a:off x="4089240" y="1427040"/>
            <a:ext cx="1390680" cy="1039680"/>
            <a:chOff x="4089240" y="1427040"/>
            <a:chExt cx="1390680" cy="1039680"/>
          </a:xfrm>
        </p:grpSpPr>
        <p:pic>
          <p:nvPicPr>
            <p:cNvPr id="574" name="" descr=""/>
            <p:cNvPicPr/>
            <p:nvPr/>
          </p:nvPicPr>
          <p:blipFill>
            <a:blip r:embed="rId2"/>
            <a:stretch/>
          </p:blipFill>
          <p:spPr>
            <a:xfrm>
              <a:off x="4089240" y="1427040"/>
              <a:ext cx="139068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" descr=""/>
            <p:cNvPicPr/>
            <p:nvPr/>
          </p:nvPicPr>
          <p:blipFill>
            <a:blip r:embed="rId3"/>
            <a:stretch/>
          </p:blipFill>
          <p:spPr>
            <a:xfrm>
              <a:off x="4530600" y="1515960"/>
              <a:ext cx="735120" cy="52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6" name="" descr=""/>
          <p:cNvPicPr/>
          <p:nvPr/>
        </p:nvPicPr>
        <p:blipFill>
          <a:blip r:embed="rId4"/>
          <a:stretch/>
        </p:blipFill>
        <p:spPr>
          <a:xfrm>
            <a:off x="5830920" y="1427040"/>
            <a:ext cx="1390680" cy="104004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5"/>
          <a:stretch/>
        </p:blipFill>
        <p:spPr>
          <a:xfrm>
            <a:off x="6970680" y="4478400"/>
            <a:ext cx="503280" cy="55080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6"/>
          <a:stretch/>
        </p:blipFill>
        <p:spPr>
          <a:xfrm>
            <a:off x="6291360" y="4468680"/>
            <a:ext cx="557280" cy="47484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6438960" y="4292640"/>
            <a:ext cx="0" cy="228600"/>
          </a:xfrm>
          <a:prstGeom prst="line">
            <a:avLst/>
          </a:prstGeom>
          <a:ln w="28440">
            <a:solidFill>
              <a:srgbClr val="7b02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137360" y="4292640"/>
            <a:ext cx="0" cy="228600"/>
          </a:xfrm>
          <a:prstGeom prst="line">
            <a:avLst/>
          </a:prstGeom>
          <a:ln w="28440">
            <a:solidFill>
              <a:srgbClr val="7b02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3730320" y="3341160"/>
            <a:ext cx="6120" cy="916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3649680" y="3328560"/>
            <a:ext cx="0" cy="857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673440" y="3366720"/>
            <a:ext cx="0" cy="839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3705120" y="3333240"/>
            <a:ext cx="0" cy="900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7"/>
          <a:stretch/>
        </p:blipFill>
        <p:spPr>
          <a:xfrm>
            <a:off x="4336920" y="3254400"/>
            <a:ext cx="806760" cy="34128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8"/>
          <a:stretch/>
        </p:blipFill>
        <p:spPr>
          <a:xfrm>
            <a:off x="311040" y="4373640"/>
            <a:ext cx="550800" cy="56016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9"/>
          <a:stretch/>
        </p:blipFill>
        <p:spPr>
          <a:xfrm>
            <a:off x="2119320" y="4378320"/>
            <a:ext cx="504720" cy="73836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10"/>
          <a:stretch/>
        </p:blipFill>
        <p:spPr>
          <a:xfrm>
            <a:off x="1519200" y="4440240"/>
            <a:ext cx="388800" cy="3412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 rot="15488400">
            <a:off x="1514880" y="4632480"/>
            <a:ext cx="478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00"/>
              </a:gs>
              <a:gs pos="50000">
                <a:srgbClr val="a8a8a8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15488400">
            <a:off x="1373760" y="4611960"/>
            <a:ext cx="17640" cy="2318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000000"/>
              </a:gs>
              <a:gs pos="50000">
                <a:srgbClr val="a8a8a8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1"/>
          <a:stretch/>
        </p:blipFill>
        <p:spPr>
          <a:xfrm>
            <a:off x="846000" y="4886280"/>
            <a:ext cx="757440" cy="62388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12"/>
          <a:stretch/>
        </p:blipFill>
        <p:spPr>
          <a:xfrm>
            <a:off x="3137040" y="3254400"/>
            <a:ext cx="806400" cy="34128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1054080" y="4206960"/>
            <a:ext cx="263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677960" y="4230720"/>
            <a:ext cx="2027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347920" y="4254480"/>
            <a:ext cx="1388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00120" y="4172040"/>
            <a:ext cx="3068640" cy="725040"/>
            <a:chOff x="600120" y="4172040"/>
            <a:chExt cx="3068640" cy="725040"/>
          </a:xfrm>
        </p:grpSpPr>
        <p:sp>
          <p:nvSpPr>
            <p:cNvPr id="597" name=""/>
            <p:cNvSpPr/>
            <p:nvPr/>
          </p:nvSpPr>
          <p:spPr>
            <a:xfrm>
              <a:off x="612720" y="4172040"/>
              <a:ext cx="30560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00120" y="4179600"/>
              <a:ext cx="3240" cy="26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1057320" y="4212720"/>
              <a:ext cx="3240" cy="68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1663560" y="4229280"/>
              <a:ext cx="0" cy="23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2333520" y="4255560"/>
              <a:ext cx="324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1041120" y="3878280"/>
            <a:ext cx="10540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RT I/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778280" y="3514320"/>
            <a:ext cx="0" cy="2151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4726080" y="5654520"/>
            <a:ext cx="0" cy="271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3"/>
          <a:stretch/>
        </p:blipFill>
        <p:spPr>
          <a:xfrm>
            <a:off x="3349800" y="5761080"/>
            <a:ext cx="504720" cy="73800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14"/>
          <a:stretch/>
        </p:blipFill>
        <p:spPr>
          <a:xfrm>
            <a:off x="1873080" y="5823000"/>
            <a:ext cx="862200" cy="37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890720" y="5656320"/>
            <a:ext cx="2889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2041560" y="5660640"/>
            <a:ext cx="0" cy="260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3011400" y="5661000"/>
            <a:ext cx="0" cy="271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5"/>
          <a:stretch/>
        </p:blipFill>
        <p:spPr>
          <a:xfrm>
            <a:off x="2722680" y="5816520"/>
            <a:ext cx="527040" cy="4683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 flipV="1">
            <a:off x="3570120" y="5660640"/>
            <a:ext cx="0" cy="1191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6"/>
          <a:stretch/>
        </p:blipFill>
        <p:spPr>
          <a:xfrm>
            <a:off x="4021200" y="4797360"/>
            <a:ext cx="442800" cy="62712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17"/>
          <a:stretch/>
        </p:blipFill>
        <p:spPr>
          <a:xfrm>
            <a:off x="4614840" y="5840280"/>
            <a:ext cx="353880" cy="2145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2962080" y="5294160"/>
            <a:ext cx="4248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8"/>
          <a:stretch/>
        </p:blipFill>
        <p:spPr>
          <a:xfrm>
            <a:off x="6583320" y="5611680"/>
            <a:ext cx="557280" cy="47484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5743440" y="3284640"/>
            <a:ext cx="1800" cy="2054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427880" y="5346720"/>
            <a:ext cx="0" cy="23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742000" y="5337000"/>
            <a:ext cx="237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9"/>
          <a:srcRect l="56246" t="30739" r="40224" b="58356"/>
          <a:stretch/>
        </p:blipFill>
        <p:spPr>
          <a:xfrm>
            <a:off x="7621560" y="4527720"/>
            <a:ext cx="216000" cy="46332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6732720" y="5337000"/>
            <a:ext cx="0" cy="34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018120" y="5337000"/>
            <a:ext cx="0" cy="352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918400" y="5019840"/>
            <a:ext cx="570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-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0"/>
          <a:srcRect l="15581" t="5697" r="25981" b="5213"/>
          <a:stretch/>
        </p:blipFill>
        <p:spPr>
          <a:xfrm>
            <a:off x="7359480" y="5545080"/>
            <a:ext cx="105120" cy="35892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21"/>
          <a:stretch/>
        </p:blipFill>
        <p:spPr>
          <a:xfrm>
            <a:off x="5537160" y="3241800"/>
            <a:ext cx="806400" cy="34128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 flipH="1">
            <a:off x="4370400" y="5078520"/>
            <a:ext cx="419040" cy="1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970600" y="4295880"/>
            <a:ext cx="2087640" cy="0"/>
          </a:xfrm>
          <a:prstGeom prst="line">
            <a:avLst/>
          </a:prstGeom>
          <a:ln w="28440">
            <a:solidFill>
              <a:srgbClr val="7b02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22"/>
          <a:stretch/>
        </p:blipFill>
        <p:spPr>
          <a:xfrm>
            <a:off x="3973680" y="5799240"/>
            <a:ext cx="502920" cy="55080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 flipV="1">
            <a:off x="4179960" y="5660640"/>
            <a:ext cx="0" cy="1191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969160" y="3543480"/>
            <a:ext cx="0" cy="766440"/>
          </a:xfrm>
          <a:prstGeom prst="line">
            <a:avLst/>
          </a:prstGeom>
          <a:ln w="28440">
            <a:solidFill>
              <a:srgbClr val="7b02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36120" y="3954600"/>
            <a:ext cx="2079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iceNet/Profibu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23"/>
          <a:stretch/>
        </p:blipFill>
        <p:spPr>
          <a:xfrm>
            <a:off x="5865840" y="5545080"/>
            <a:ext cx="503280" cy="5508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7740720" y="4292640"/>
            <a:ext cx="0" cy="228600"/>
          </a:xfrm>
          <a:prstGeom prst="line">
            <a:avLst/>
          </a:prstGeom>
          <a:ln w="28440">
            <a:solidFill>
              <a:srgbClr val="7b02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0" y="0"/>
            <a:ext cx="8724960" cy="2062080"/>
            <a:chOff x="0" y="0"/>
            <a:chExt cx="8724960" cy="2062080"/>
          </a:xfrm>
        </p:grpSpPr>
        <p:sp>
          <p:nvSpPr>
            <p:cNvPr id="634" name=""/>
            <p:cNvSpPr/>
            <p:nvPr/>
          </p:nvSpPr>
          <p:spPr>
            <a:xfrm>
              <a:off x="0" y="947880"/>
              <a:ext cx="8724960" cy="0"/>
            </a:xfrm>
            <a:prstGeom prst="line">
              <a:avLst/>
            </a:prstGeom>
            <a:ln w="93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469800" y="0"/>
              <a:ext cx="0" cy="2062080"/>
            </a:xfrm>
            <a:prstGeom prst="line">
              <a:avLst/>
            </a:prstGeom>
            <a:ln w="93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Un sistema de contro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724280" y="5135400"/>
            <a:ext cx="1524240" cy="76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3280" y="2163600"/>
            <a:ext cx="1742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turb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398640" y="5288040"/>
            <a:ext cx="1639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264920" y="2773440"/>
            <a:ext cx="1537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778800" y="3230640"/>
            <a:ext cx="150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035680" y="3770280"/>
            <a:ext cx="44424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014440" y="382572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192720" y="3784680"/>
            <a:ext cx="52092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172200" y="384012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499000" y="3992400"/>
            <a:ext cx="749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81680" y="3992400"/>
            <a:ext cx="5079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800600" y="4983120"/>
            <a:ext cx="4827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895480" y="3776760"/>
            <a:ext cx="0" cy="149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895480" y="4068720"/>
            <a:ext cx="1905120" cy="1219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4800600" y="384012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895480" y="528804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248520" y="5059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6248520" y="5059080"/>
            <a:ext cx="3808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248520" y="5059440"/>
            <a:ext cx="3808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29400" y="5059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629400" y="5135400"/>
            <a:ext cx="1523880" cy="76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6435720" y="490644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057400" y="2925720"/>
            <a:ext cx="1523880" cy="76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505320" y="2925720"/>
            <a:ext cx="75960" cy="5335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05320" y="3535200"/>
            <a:ext cx="75960" cy="1526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505320" y="3763800"/>
            <a:ext cx="75960" cy="1526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172200" y="4754520"/>
            <a:ext cx="53352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453360" y="428004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57800" y="422100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Book Antiqua"/>
              </a:rPr>
              <a:t>DIAGRAMA DE BLO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635040" y="1930320"/>
                <a:ext cx="8267760" cy="422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9" name=""/>
          <p:cNvSpPr/>
          <p:nvPr/>
        </p:nvSpPr>
        <p:spPr>
          <a:xfrm>
            <a:off x="5035680" y="3282840"/>
            <a:ext cx="1968480" cy="978120"/>
          </a:xfrm>
          <a:prstGeom prst="rect">
            <a:avLst/>
          </a:prstGeom>
          <a:solidFill>
            <a:srgbClr val="ce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682640" y="3282840"/>
            <a:ext cx="1739880" cy="978120"/>
          </a:xfrm>
          <a:prstGeom prst="rect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443400" y="3809880"/>
            <a:ext cx="1573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024680" y="3809880"/>
            <a:ext cx="1344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848720" y="3824280"/>
            <a:ext cx="0" cy="13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2503080" y="5181480"/>
            <a:ext cx="5357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2514600" y="4255560"/>
            <a:ext cx="0" cy="938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28800" y="3809880"/>
            <a:ext cx="73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943600" y="2376360"/>
            <a:ext cx="0" cy="887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114800" y="3276720"/>
            <a:ext cx="380880" cy="380880"/>
          </a:xfrm>
          <a:custGeom>
            <a:avLst/>
            <a:gdLst>
              <a:gd name="textAreaLeft" fmla="*/ 14040 w 380880"/>
              <a:gd name="textAreaRight" fmla="*/ 366840 w 380880"/>
              <a:gd name="textAreaTop" fmla="*/ 14040 h 380880"/>
              <a:gd name="textAreaBottom" fmla="*/ 304200 h 380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7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895320" y="32497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848720" y="3276720"/>
            <a:ext cx="533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72200" y="25146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95320" y="3859200"/>
            <a:ext cx="58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974360" y="3859200"/>
            <a:ext cx="603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465520" y="2413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89240" y="3859200"/>
            <a:ext cx="638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84720" y="2428920"/>
            <a:ext cx="632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4572000" y="3460680"/>
            <a:ext cx="596880" cy="762120"/>
            <a:chOff x="4572000" y="3460680"/>
            <a:chExt cx="596880" cy="762120"/>
          </a:xfrm>
        </p:grpSpPr>
        <p:sp>
          <p:nvSpPr>
            <p:cNvPr id="688" name=""/>
            <p:cNvSpPr/>
            <p:nvPr/>
          </p:nvSpPr>
          <p:spPr>
            <a:xfrm>
              <a:off x="4641840" y="3917880"/>
              <a:ext cx="0" cy="29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648320" y="3905280"/>
              <a:ext cx="444240" cy="31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48320" y="3917880"/>
              <a:ext cx="444240" cy="29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99040" y="3917880"/>
              <a:ext cx="0" cy="29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4870440" y="3676320"/>
              <a:ext cx="0" cy="39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72000" y="3460680"/>
              <a:ext cx="596880" cy="2160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5105520" y="4064040"/>
            <a:ext cx="1054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638680" y="34606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322160" y="351648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641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ontrol de fluj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3917880"/>
            <a:ext cx="685800" cy="3049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90920" y="4070520"/>
            <a:ext cx="685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962520" y="4070520"/>
            <a:ext cx="685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6172200" y="3460680"/>
            <a:ext cx="0" cy="609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72200" y="3460680"/>
            <a:ext cx="2133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352680" y="38419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52680" y="42991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276720" y="2394000"/>
            <a:ext cx="609480" cy="60948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3581280" y="300312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86200" y="269892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876920" y="26989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819520" y="269892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286000" y="2470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952880" y="2698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705720" y="3308400"/>
            <a:ext cx="1066680" cy="3049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1981080" y="4030560"/>
            <a:ext cx="609840" cy="533520"/>
          </a:xfrm>
          <a:prstGeom prst="flowChartMagneticTap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371600" y="4292640"/>
            <a:ext cx="9428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14640" y="4547520"/>
            <a:ext cx="371520" cy="98280"/>
          </a:xfrm>
          <a:custGeom>
            <a:avLst/>
            <a:gdLst>
              <a:gd name="textAreaLeft" fmla="*/ 81720 w 371520"/>
              <a:gd name="textAreaRight" fmla="*/ 289800 w 371520"/>
              <a:gd name="textAreaTop" fmla="*/ 21600 h 98280"/>
              <a:gd name="textAreaBottom" fmla="*/ 76680 h 9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ontrol de niv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rot="5400000">
            <a:off x="2057040" y="2361960"/>
            <a:ext cx="1752840" cy="1905120"/>
          </a:xfrm>
          <a:prstGeom prst="flowChartDelay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5334120" y="4495680"/>
            <a:ext cx="596880" cy="762120"/>
            <a:chOff x="5334120" y="4495680"/>
            <a:chExt cx="596880" cy="762120"/>
          </a:xfrm>
        </p:grpSpPr>
        <p:sp>
          <p:nvSpPr>
            <p:cNvPr id="719" name=""/>
            <p:cNvSpPr/>
            <p:nvPr/>
          </p:nvSpPr>
          <p:spPr>
            <a:xfrm>
              <a:off x="5403960" y="4952880"/>
              <a:ext cx="0" cy="29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5410440" y="4940280"/>
              <a:ext cx="444240" cy="31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410440" y="4952880"/>
              <a:ext cx="444240" cy="29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861160" y="4952880"/>
              <a:ext cx="0" cy="29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5632560" y="4711320"/>
              <a:ext cx="0" cy="39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334120" y="4495680"/>
              <a:ext cx="596880" cy="2160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6400800" y="52578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191120" y="5105520"/>
            <a:ext cx="1218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334120" y="3429000"/>
            <a:ext cx="609480" cy="60948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638680" y="40384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71500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867280" y="3962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038480" y="3429000"/>
            <a:ext cx="609840" cy="60948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733920" y="37339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648320" y="3733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638680" y="3124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867280" y="5105520"/>
            <a:ext cx="990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1981080" y="1981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3886200" y="1981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914400" y="1676520"/>
            <a:ext cx="1752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666880" y="167652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918360" y="190512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03848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3627360" y="5075280"/>
            <a:ext cx="609840" cy="533520"/>
          </a:xfrm>
          <a:prstGeom prst="flowChartMagneticTap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894040" y="5337000"/>
            <a:ext cx="1066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3760920" y="5592600"/>
            <a:ext cx="371520" cy="98640"/>
          </a:xfrm>
          <a:custGeom>
            <a:avLst/>
            <a:gdLst>
              <a:gd name="textAreaLeft" fmla="*/ 81720 w 371520"/>
              <a:gd name="textAreaRight" fmla="*/ 289800 w 371520"/>
              <a:gd name="textAreaTop" fmla="*/ 21600 h 98640"/>
              <a:gd name="textAreaBottom" fmla="*/ 77040 h 9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906640" y="4194000"/>
            <a:ext cx="0" cy="1162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Operación manual de un proceso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45160" y="4578480"/>
            <a:ext cx="596880" cy="59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99160" y="4708440"/>
            <a:ext cx="55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73960" y="4197240"/>
            <a:ext cx="4446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46544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461360" y="5111640"/>
            <a:ext cx="241200" cy="29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02560" y="5111640"/>
            <a:ext cx="139680" cy="29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73960" y="4724280"/>
            <a:ext cx="520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7080120" y="4730760"/>
            <a:ext cx="393840" cy="291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7918200" y="4730760"/>
            <a:ext cx="8892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407280" y="4413240"/>
            <a:ext cx="977760" cy="3175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72400" y="4343400"/>
            <a:ext cx="7632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0" y="48"/>
                </a:moveTo>
                <a:lnTo>
                  <a:pt x="47" y="24"/>
                </a:lnTo>
                <a:lnTo>
                  <a:pt x="0" y="0"/>
                </a:lnTo>
                <a:lnTo>
                  <a:pt x="0" y="48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15080" y="4495680"/>
            <a:ext cx="95400" cy="119160"/>
          </a:xfrm>
          <a:custGeom>
            <a:avLst/>
            <a:gdLst/>
            <a:ahLst/>
            <a:rect l="l" t="t" r="r" b="b"/>
            <a:pathLst>
              <a:path w="60" h="75">
                <a:moveTo>
                  <a:pt x="3" y="0"/>
                </a:moveTo>
                <a:lnTo>
                  <a:pt x="0" y="45"/>
                </a:lnTo>
                <a:lnTo>
                  <a:pt x="59" y="7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75400" y="4343400"/>
            <a:ext cx="141480" cy="133200"/>
          </a:xfrm>
          <a:custGeom>
            <a:avLst/>
            <a:gdLst/>
            <a:ahLst/>
            <a:rect l="l" t="t" r="r" b="b"/>
            <a:pathLst>
              <a:path w="89" h="84">
                <a:moveTo>
                  <a:pt x="43" y="0"/>
                </a:moveTo>
                <a:lnTo>
                  <a:pt x="0" y="53"/>
                </a:lnTo>
                <a:lnTo>
                  <a:pt x="59" y="83"/>
                </a:lnTo>
                <a:lnTo>
                  <a:pt x="88" y="24"/>
                </a:lnTo>
                <a:lnTo>
                  <a:pt x="43" y="0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83360" y="4876920"/>
            <a:ext cx="330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4280040"/>
            <a:ext cx="0" cy="149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6560" y="2139840"/>
            <a:ext cx="1511280" cy="1739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5784840" y="4718160"/>
            <a:ext cx="241200" cy="2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70200" y="2271600"/>
            <a:ext cx="14022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4572000"/>
            <a:ext cx="1905120" cy="1219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257800" y="43434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579132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5638680"/>
            <a:ext cx="1524240" cy="76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55627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705720" y="5562360"/>
            <a:ext cx="3808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5562720"/>
            <a:ext cx="3808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55627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6600" y="5638680"/>
            <a:ext cx="1523880" cy="76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892920" y="540972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541008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429000"/>
            <a:ext cx="1523880" cy="76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3429000"/>
            <a:ext cx="75960" cy="5335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4038480"/>
            <a:ext cx="75960" cy="1526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4267080"/>
            <a:ext cx="75960" cy="1526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ontrol de temperatur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313400" y="1981080"/>
            <a:ext cx="1402200" cy="15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5943600" cy="36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ontroladore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eneran una señal de control normalizada al actuador en función del valor medido de la variable que se quiere controlar y de su valor dese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787480" y="4597560"/>
            <a:ext cx="787680" cy="7873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822320" y="4971960"/>
            <a:ext cx="927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181320" y="5403960"/>
            <a:ext cx="0" cy="7365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425840" y="4349880"/>
            <a:ext cx="2025720" cy="133956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489720" y="5029200"/>
            <a:ext cx="13460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973440" y="4405320"/>
            <a:ext cx="150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410280" y="5776920"/>
            <a:ext cx="2598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riable control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-20 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566160" y="4405320"/>
            <a:ext cx="82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804760" y="478620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49560" y="5030640"/>
            <a:ext cx="30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88440" y="3719520"/>
            <a:ext cx="16063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nipul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-20 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629600" y="4557600"/>
            <a:ext cx="1929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álculo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587760" y="5029200"/>
            <a:ext cx="749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Implementació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nologí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umá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ón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g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adores de lazo (PI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ómatas (PL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stemas de Control Distribuido (D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por ordenador (P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Book Antiqua"/>
              </a:rPr>
              <a:t>EL REGULADOR PI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7200" y="4038480"/>
            <a:ext cx="8001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gulador basado en señ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no incorpora conocimiento explícito del proce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3 parámetros de sintonia K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T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T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versas modificacio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1353960" y="2014560"/>
                <a:ext cx="56865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dt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502240" y="3078000"/>
            <a:ext cx="1600200" cy="60984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967040" y="2743200"/>
            <a:ext cx="2192040" cy="1189080"/>
          </a:xfrm>
          <a:prstGeom prst="rect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176720" y="3382920"/>
            <a:ext cx="701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02440" y="3382920"/>
            <a:ext cx="1114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95440" y="3352680"/>
            <a:ext cx="506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635960" y="338292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1279440" y="4221000"/>
            <a:ext cx="6369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281240" y="3565080"/>
            <a:ext cx="0" cy="662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645240" y="3992400"/>
            <a:ext cx="444600" cy="4446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892760" y="3154320"/>
            <a:ext cx="29196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197320" y="3382920"/>
            <a:ext cx="354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43160" y="280368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313160" y="28656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509840" y="33526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09840" y="2819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900000" y="2470320"/>
            <a:ext cx="3368880" cy="1995480"/>
          </a:xfrm>
          <a:prstGeom prst="rect">
            <a:avLst/>
          </a:prstGeom>
          <a:noFill/>
          <a:ln w="1260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1052640" y="3124080"/>
            <a:ext cx="457200" cy="474840"/>
            <a:chOff x="1052640" y="3124080"/>
            <a:chExt cx="457200" cy="474840"/>
          </a:xfrm>
        </p:grpSpPr>
        <p:sp>
          <p:nvSpPr>
            <p:cNvPr id="789" name=""/>
            <p:cNvSpPr/>
            <p:nvPr/>
          </p:nvSpPr>
          <p:spPr>
            <a:xfrm>
              <a:off x="1052640" y="3124080"/>
              <a:ext cx="444240" cy="44460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052640" y="320040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204920" y="335268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6537240" y="466236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nsmi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2019240" y="3013200"/>
                <a:ext cx="20829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4" name=""/>
          <p:cNvSpPr/>
          <p:nvPr/>
        </p:nvSpPr>
        <p:spPr>
          <a:xfrm>
            <a:off x="1374840" y="3692520"/>
            <a:ext cx="33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784760" y="2544840"/>
            <a:ext cx="14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ctu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610400" y="28400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Señales del regulad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562720" y="2514600"/>
            <a:ext cx="1600200" cy="60948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505320" y="2514600"/>
            <a:ext cx="609480" cy="609480"/>
          </a:xfrm>
          <a:prstGeom prst="rect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114800" y="2819520"/>
            <a:ext cx="824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162920" y="2819520"/>
            <a:ext cx="1114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09480" y="2819520"/>
            <a:ext cx="506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696080" y="281952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2514240" y="3657600"/>
            <a:ext cx="5194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2514600" y="3047760"/>
            <a:ext cx="0" cy="631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705720" y="3429000"/>
            <a:ext cx="444240" cy="4446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952880" y="2590920"/>
            <a:ext cx="292320" cy="4442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257800" y="2819520"/>
            <a:ext cx="35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248160" y="3962520"/>
            <a:ext cx="1007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00/sp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342320" y="1752480"/>
            <a:ext cx="131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ctu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04560" y="2286000"/>
            <a:ext cx="46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808920" y="4422600"/>
            <a:ext cx="713088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señales de entrada y salida al regulador suel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presarse en % del span del transmisor y del actu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pectivament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conversión del regulador debe corresponder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libración del transmi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267440" y="23623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09880" y="36576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743200" y="28195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143000" y="2590920"/>
            <a:ext cx="609480" cy="533160"/>
          </a:xfrm>
          <a:prstGeom prst="rect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752480" y="28195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191120" y="28954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828800" y="2971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2286000" y="2590920"/>
            <a:ext cx="457200" cy="474840"/>
            <a:chOff x="2286000" y="2590920"/>
            <a:chExt cx="457200" cy="474840"/>
          </a:xfrm>
        </p:grpSpPr>
        <p:sp>
          <p:nvSpPr>
            <p:cNvPr id="821" name=""/>
            <p:cNvSpPr/>
            <p:nvPr/>
          </p:nvSpPr>
          <p:spPr>
            <a:xfrm>
              <a:off x="2286000" y="2590920"/>
              <a:ext cx="444240" cy="44460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286000" y="266724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438280" y="281952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7696440" y="22860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61760" y="3276720"/>
            <a:ext cx="1007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00/sp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arámetros PID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c0128"/>
                </a:solidFill>
                <a:latin typeface="Times New Roman"/>
              </a:rPr>
              <a:t>K</a:t>
            </a:r>
            <a:r>
              <a:rPr b="0" lang="es-ES_tradnl" sz="3200" spc="-1" strike="noStrike" baseline="-25000">
                <a:solidFill>
                  <a:srgbClr val="fc0128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fc0128"/>
                </a:solidFill>
                <a:latin typeface="Times New Roman"/>
              </a:rPr>
              <a:t> ganancia / Término propor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% span control / % span variable control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anda proporcional PB=100/ K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c0128"/>
                </a:solidFill>
                <a:latin typeface="Times New Roman"/>
              </a:rPr>
              <a:t>T</a:t>
            </a:r>
            <a:r>
              <a:rPr b="0" lang="es-ES_tradnl" sz="3200" spc="-1" strike="noStrike" baseline="-25000">
                <a:solidFill>
                  <a:srgbClr val="fc0128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fc0128"/>
                </a:solidFill>
                <a:latin typeface="Times New Roman"/>
              </a:rPr>
              <a:t> tiempo integral / Término integ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uto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 sg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(por repetición) (reset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peticiones por min = 1/ T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c0128"/>
                </a:solidFill>
                <a:latin typeface="Times New Roman"/>
              </a:rPr>
              <a:t>T</a:t>
            </a:r>
            <a:r>
              <a:rPr b="0" lang="es-ES_tradnl" sz="3200" spc="-1" strike="noStrike" baseline="-25000">
                <a:solidFill>
                  <a:srgbClr val="fc0128"/>
                </a:solidFill>
                <a:latin typeface="Times New Roman"/>
              </a:rPr>
              <a:t>d</a:t>
            </a:r>
            <a:r>
              <a:rPr b="0" lang="es-ES_tradnl" sz="3200" spc="-1" strike="noStrike">
                <a:solidFill>
                  <a:srgbClr val="fc0128"/>
                </a:solidFill>
                <a:latin typeface="Times New Roman"/>
              </a:rPr>
              <a:t> tiempo derivativo / Término deriva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uto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 sg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cción proporcion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2290680" y="1886040"/>
                <a:ext cx="53420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ia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0" name=""/>
          <p:cNvSpPr/>
          <p:nvPr/>
        </p:nvSpPr>
        <p:spPr>
          <a:xfrm>
            <a:off x="2133720" y="3062160"/>
            <a:ext cx="0" cy="1268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95480" y="4038480"/>
            <a:ext cx="2411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133720" y="3498840"/>
            <a:ext cx="2114280" cy="884160"/>
          </a:xfrm>
          <a:custGeom>
            <a:avLst/>
            <a:gdLst/>
            <a:ahLst/>
            <a:rect l="l" t="t" r="r" b="b"/>
            <a:pathLst>
              <a:path w="1332" h="557">
                <a:moveTo>
                  <a:pt x="0" y="340"/>
                </a:moveTo>
                <a:lnTo>
                  <a:pt x="14" y="293"/>
                </a:lnTo>
                <a:lnTo>
                  <a:pt x="43" y="234"/>
                </a:lnTo>
                <a:lnTo>
                  <a:pt x="73" y="176"/>
                </a:lnTo>
                <a:lnTo>
                  <a:pt x="102" y="117"/>
                </a:lnTo>
                <a:lnTo>
                  <a:pt x="160" y="88"/>
                </a:lnTo>
                <a:lnTo>
                  <a:pt x="190" y="29"/>
                </a:lnTo>
                <a:lnTo>
                  <a:pt x="248" y="29"/>
                </a:lnTo>
                <a:lnTo>
                  <a:pt x="307" y="0"/>
                </a:lnTo>
                <a:lnTo>
                  <a:pt x="365" y="29"/>
                </a:lnTo>
                <a:lnTo>
                  <a:pt x="424" y="29"/>
                </a:lnTo>
                <a:lnTo>
                  <a:pt x="482" y="29"/>
                </a:lnTo>
                <a:lnTo>
                  <a:pt x="541" y="58"/>
                </a:lnTo>
                <a:lnTo>
                  <a:pt x="599" y="88"/>
                </a:lnTo>
                <a:lnTo>
                  <a:pt x="658" y="146"/>
                </a:lnTo>
                <a:lnTo>
                  <a:pt x="687" y="205"/>
                </a:lnTo>
                <a:lnTo>
                  <a:pt x="716" y="263"/>
                </a:lnTo>
                <a:lnTo>
                  <a:pt x="746" y="322"/>
                </a:lnTo>
                <a:lnTo>
                  <a:pt x="804" y="380"/>
                </a:lnTo>
                <a:lnTo>
                  <a:pt x="863" y="410"/>
                </a:lnTo>
                <a:lnTo>
                  <a:pt x="921" y="468"/>
                </a:lnTo>
                <a:lnTo>
                  <a:pt x="980" y="497"/>
                </a:lnTo>
                <a:lnTo>
                  <a:pt x="1038" y="527"/>
                </a:lnTo>
                <a:lnTo>
                  <a:pt x="1097" y="527"/>
                </a:lnTo>
                <a:lnTo>
                  <a:pt x="1156" y="527"/>
                </a:lnTo>
                <a:lnTo>
                  <a:pt x="1214" y="527"/>
                </a:lnTo>
                <a:lnTo>
                  <a:pt x="1273" y="556"/>
                </a:lnTo>
                <a:lnTo>
                  <a:pt x="1331" y="556"/>
                </a:lnTo>
              </a:path>
            </a:pathLst>
          </a:custGeom>
          <a:noFill/>
          <a:ln cap="rnd" w="50760">
            <a:solidFill>
              <a:srgbClr val="6e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731600" y="2874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093560" y="356076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562720" y="3062160"/>
            <a:ext cx="0" cy="1268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424480" y="4038480"/>
            <a:ext cx="2411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562720" y="3048120"/>
            <a:ext cx="2114280" cy="1182600"/>
          </a:xfrm>
          <a:custGeom>
            <a:avLst/>
            <a:gdLst/>
            <a:ahLst/>
            <a:rect l="l" t="t" r="r" b="b"/>
            <a:pathLst>
              <a:path w="1332" h="745">
                <a:moveTo>
                  <a:pt x="0" y="455"/>
                </a:moveTo>
                <a:lnTo>
                  <a:pt x="14" y="392"/>
                </a:lnTo>
                <a:lnTo>
                  <a:pt x="43" y="313"/>
                </a:lnTo>
                <a:lnTo>
                  <a:pt x="73" y="236"/>
                </a:lnTo>
                <a:lnTo>
                  <a:pt x="102" y="157"/>
                </a:lnTo>
                <a:lnTo>
                  <a:pt x="160" y="118"/>
                </a:lnTo>
                <a:lnTo>
                  <a:pt x="190" y="39"/>
                </a:lnTo>
                <a:lnTo>
                  <a:pt x="248" y="39"/>
                </a:lnTo>
                <a:lnTo>
                  <a:pt x="307" y="0"/>
                </a:lnTo>
                <a:lnTo>
                  <a:pt x="365" y="39"/>
                </a:lnTo>
                <a:lnTo>
                  <a:pt x="424" y="39"/>
                </a:lnTo>
                <a:lnTo>
                  <a:pt x="482" y="39"/>
                </a:lnTo>
                <a:lnTo>
                  <a:pt x="541" y="78"/>
                </a:lnTo>
                <a:lnTo>
                  <a:pt x="599" y="118"/>
                </a:lnTo>
                <a:lnTo>
                  <a:pt x="658" y="195"/>
                </a:lnTo>
                <a:lnTo>
                  <a:pt x="687" y="274"/>
                </a:lnTo>
                <a:lnTo>
                  <a:pt x="716" y="352"/>
                </a:lnTo>
                <a:lnTo>
                  <a:pt x="746" y="431"/>
                </a:lnTo>
                <a:lnTo>
                  <a:pt x="804" y="508"/>
                </a:lnTo>
                <a:lnTo>
                  <a:pt x="863" y="549"/>
                </a:lnTo>
                <a:lnTo>
                  <a:pt x="921" y="626"/>
                </a:lnTo>
                <a:lnTo>
                  <a:pt x="980" y="665"/>
                </a:lnTo>
                <a:lnTo>
                  <a:pt x="1038" y="705"/>
                </a:lnTo>
                <a:lnTo>
                  <a:pt x="1097" y="705"/>
                </a:lnTo>
                <a:lnTo>
                  <a:pt x="1156" y="705"/>
                </a:lnTo>
                <a:lnTo>
                  <a:pt x="1214" y="705"/>
                </a:lnTo>
                <a:lnTo>
                  <a:pt x="1273" y="744"/>
                </a:lnTo>
                <a:lnTo>
                  <a:pt x="1331" y="744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160960" y="2874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522560" y="356076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724760" y="4703760"/>
            <a:ext cx="6064200" cy="17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 error del x %  provoca una acción de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l </a:t>
            </a:r>
            <a:r>
              <a:rPr b="0" lang="es-ES_tradnl" sz="2400" spc="-1" strike="noStrike">
                <a:solidFill>
                  <a:srgbClr val="f6bf69"/>
                </a:solidFill>
                <a:latin typeface="Times New Roman"/>
              </a:rPr>
              <a:t>K</a:t>
            </a:r>
            <a:r>
              <a:rPr b="0" lang="es-ES_tradnl" sz="3200" spc="-1" strike="noStrike" baseline="-25000">
                <a:solidFill>
                  <a:srgbClr val="f6bf69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f6bf69"/>
                </a:solidFill>
                <a:latin typeface="Times New Roman"/>
              </a:rPr>
              <a:t> x % sobre el actu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6bf69"/>
                </a:solidFill>
                <a:latin typeface="Times New Roman"/>
              </a:rPr>
              <a:t>bias = manual reset   (CV = S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7010280" y="4711680"/>
            <a:ext cx="1047960" cy="66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595600" y="4667400"/>
            <a:ext cx="1047600" cy="66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cción directa/invers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749680" y="3478320"/>
            <a:ext cx="414360" cy="387360"/>
          </a:xfrm>
          <a:prstGeom prst="ellipse">
            <a:avLst/>
          </a:prstGeom>
          <a:solidFill>
            <a:srgbClr val="e7f8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605040" y="3490920"/>
            <a:ext cx="357480" cy="387360"/>
          </a:xfrm>
          <a:prstGeom prst="ellipse">
            <a:avLst/>
          </a:prstGeom>
          <a:solidFill>
            <a:srgbClr val="e7f8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29120" y="3672000"/>
            <a:ext cx="514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010040" y="3672000"/>
            <a:ext cx="34920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647800" y="4535640"/>
            <a:ext cx="3319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338120" y="3484440"/>
            <a:ext cx="0" cy="130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338120" y="3738600"/>
            <a:ext cx="1309680" cy="10620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2647800" y="3539880"/>
            <a:ext cx="0" cy="12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338120" y="4800600"/>
            <a:ext cx="13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43200" y="4602240"/>
            <a:ext cx="0" cy="19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3643200" y="4601880"/>
            <a:ext cx="262080" cy="19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43200" y="4602240"/>
            <a:ext cx="262080" cy="19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905280" y="4602240"/>
            <a:ext cx="0" cy="19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905280" y="4667400"/>
            <a:ext cx="1047600" cy="66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3772080" y="4468320"/>
            <a:ext cx="0" cy="26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2743200"/>
            <a:ext cx="1047600" cy="66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757520" y="2743200"/>
            <a:ext cx="52200" cy="4651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757520" y="3273480"/>
            <a:ext cx="52200" cy="1332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57520" y="3473280"/>
            <a:ext cx="52200" cy="1317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91000" y="4335480"/>
            <a:ext cx="366480" cy="133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784680" y="3922560"/>
            <a:ext cx="0" cy="398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962440" y="3871800"/>
            <a:ext cx="0" cy="66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467480" y="2133720"/>
            <a:ext cx="34920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7010280" y="4482720"/>
            <a:ext cx="331920" cy="126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57840" y="3484440"/>
            <a:ext cx="0" cy="130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757840" y="3738600"/>
            <a:ext cx="1309680" cy="10620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7067520" y="3539880"/>
            <a:ext cx="0" cy="12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757840" y="4800600"/>
            <a:ext cx="13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809880" y="2743200"/>
            <a:ext cx="1047960" cy="66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57840" y="2678040"/>
            <a:ext cx="0" cy="19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4857840" y="2677680"/>
            <a:ext cx="261720" cy="19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857840" y="2678040"/>
            <a:ext cx="261720" cy="19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19560" y="2678040"/>
            <a:ext cx="0" cy="19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119560" y="2743200"/>
            <a:ext cx="1047960" cy="66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4986360" y="2544840"/>
            <a:ext cx="0" cy="264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176880" y="2743200"/>
            <a:ext cx="52560" cy="4651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176880" y="3273480"/>
            <a:ext cx="52560" cy="1332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176880" y="3473280"/>
            <a:ext cx="52560" cy="1317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805280" y="2411280"/>
            <a:ext cx="366840" cy="133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029200" y="2133720"/>
            <a:ext cx="0" cy="245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315200" y="3809880"/>
            <a:ext cx="0" cy="66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029200" y="213372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7315200" y="228564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35320" y="5029200"/>
            <a:ext cx="396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c0128"/>
                </a:solidFill>
                <a:latin typeface="Times New Roman"/>
              </a:rPr>
              <a:t>Direct acting controller  K</a:t>
            </a:r>
            <a:r>
              <a:rPr b="0" lang="es-ES_tradnl" sz="2400" spc="-1" strike="noStrike" baseline="-25000">
                <a:solidFill>
                  <a:srgbClr val="fc0128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fc0128"/>
                </a:solidFill>
                <a:latin typeface="Times New Roman"/>
              </a:rPr>
              <a:t> &lt;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574520" y="5029200"/>
            <a:ext cx="418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c0128"/>
                </a:solidFill>
                <a:latin typeface="Times New Roman"/>
              </a:rPr>
              <a:t>Reverse acting controller  K</a:t>
            </a:r>
            <a:r>
              <a:rPr b="0" lang="es-ES_tradnl" sz="2400" spc="-1" strike="noStrike" baseline="-25000">
                <a:solidFill>
                  <a:srgbClr val="fc0128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fc0128"/>
                </a:solidFill>
                <a:latin typeface="Times New Roman"/>
              </a:rPr>
              <a:t> &gt;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14400" y="5638680"/>
            <a:ext cx="701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(t)=K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w-y)    si aument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crec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 K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osi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371600" y="18288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siderar el tipo de válvu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570120" y="3494160"/>
            <a:ext cx="414360" cy="387360"/>
          </a:xfrm>
          <a:prstGeom prst="ellipse">
            <a:avLst/>
          </a:prstGeom>
          <a:solidFill>
            <a:srgbClr val="e7f8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107120" y="3408480"/>
            <a:ext cx="414360" cy="387360"/>
          </a:xfrm>
          <a:prstGeom prst="ellipse">
            <a:avLst/>
          </a:prstGeom>
          <a:solidFill>
            <a:srgbClr val="e7f8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21520" y="1949400"/>
            <a:ext cx="357120" cy="387360"/>
          </a:xfrm>
          <a:prstGeom prst="ellipse">
            <a:avLst/>
          </a:prstGeom>
          <a:solidFill>
            <a:srgbClr val="e7f8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086600" y="1952640"/>
            <a:ext cx="414360" cy="387360"/>
          </a:xfrm>
          <a:prstGeom prst="ellipse">
            <a:avLst/>
          </a:prstGeom>
          <a:solidFill>
            <a:srgbClr val="e7f8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cción proporcion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757840" y="4664160"/>
            <a:ext cx="469800" cy="2365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729400" y="3016080"/>
            <a:ext cx="469800" cy="2368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183280" y="3191040"/>
            <a:ext cx="1608120" cy="153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5950080" y="2831760"/>
            <a:ext cx="0" cy="183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987880" y="4897440"/>
            <a:ext cx="0" cy="210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987880" y="3995640"/>
            <a:ext cx="231300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725560" y="2523960"/>
            <a:ext cx="609840" cy="609840"/>
          </a:xfrm>
          <a:prstGeom prst="rect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353960" y="2828880"/>
            <a:ext cx="506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039760" y="3057120"/>
            <a:ext cx="0" cy="243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25720" y="229536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997440" y="23335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268360" y="28288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744560" y="4502160"/>
            <a:ext cx="609840" cy="533520"/>
          </a:xfrm>
          <a:prstGeom prst="rect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116080" y="3743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357800" y="2523960"/>
            <a:ext cx="1022400" cy="6098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335400" y="2828880"/>
            <a:ext cx="1033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268360" y="2295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658880" y="2371680"/>
            <a:ext cx="2300400" cy="3392640"/>
          </a:xfrm>
          <a:prstGeom prst="rect">
            <a:avLst/>
          </a:prstGeom>
          <a:noFill/>
          <a:ln w="1260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216240" y="331164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1811160" y="2600280"/>
            <a:ext cx="457200" cy="474840"/>
            <a:chOff x="1811160" y="2600280"/>
            <a:chExt cx="457200" cy="474840"/>
          </a:xfrm>
        </p:grpSpPr>
        <p:sp>
          <p:nvSpPr>
            <p:cNvPr id="916" name=""/>
            <p:cNvSpPr/>
            <p:nvPr/>
          </p:nvSpPr>
          <p:spPr>
            <a:xfrm>
              <a:off x="1811160" y="2600280"/>
              <a:ext cx="444240" cy="44460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811160" y="267660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963440" y="282888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5356080" y="2833560"/>
            <a:ext cx="59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348680" y="4008600"/>
            <a:ext cx="581040" cy="382320"/>
          </a:xfrm>
          <a:prstGeom prst="roundRect">
            <a:avLst>
              <a:gd name="adj" fmla="val 16667"/>
            </a:avLst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041560" y="5479920"/>
            <a:ext cx="562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669080" y="4390920"/>
            <a:ext cx="0" cy="108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5838840" y="5095440"/>
            <a:ext cx="3222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900760" y="5183280"/>
            <a:ext cx="185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999040" y="5245200"/>
            <a:ext cx="25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904160" y="4689360"/>
            <a:ext cx="102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500 rp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49400" y="2413080"/>
            <a:ext cx="119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500 rp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917720" y="6037200"/>
            <a:ext cx="284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(t)=K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(t) + 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624120" y="2720880"/>
            <a:ext cx="260640" cy="223920"/>
          </a:xfrm>
          <a:prstGeom prst="flowChartOr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3747960" y="2957400"/>
            <a:ext cx="0" cy="28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651200" y="5745240"/>
            <a:ext cx="404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o puede alcanzarse un punto de equilibrio con error c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Operación de un proceso 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68640" y="2521080"/>
            <a:ext cx="2273400" cy="13586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83240" y="2978280"/>
            <a:ext cx="1206720" cy="368280"/>
          </a:xfrm>
          <a:prstGeom prst="rightArrow">
            <a:avLst>
              <a:gd name="adj1" fmla="val 50000"/>
              <a:gd name="adj2" fmla="val 163847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73360" y="3054240"/>
            <a:ext cx="1054080" cy="368280"/>
          </a:xfrm>
          <a:prstGeom prst="rightArrow">
            <a:avLst>
              <a:gd name="adj1" fmla="val 50000"/>
              <a:gd name="adj2" fmla="val 143122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80920" y="303372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66560" y="3719520"/>
            <a:ext cx="92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46840" y="3567240"/>
            <a:ext cx="101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u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91520" y="4176720"/>
            <a:ext cx="261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puesta dinám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80640" y="5381640"/>
            <a:ext cx="5994000" cy="5763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ción manual o en lazo abier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94200" y="2347920"/>
            <a:ext cx="1266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b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13920" y="2271600"/>
            <a:ext cx="153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pue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9480" y="2444760"/>
            <a:ext cx="596880" cy="5968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054240"/>
            <a:ext cx="0" cy="825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136520" y="3892680"/>
            <a:ext cx="31752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54040" y="3892680"/>
            <a:ext cx="21600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9480" y="3276720"/>
            <a:ext cx="67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73160" y="3282840"/>
            <a:ext cx="29196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3282840"/>
            <a:ext cx="368280" cy="13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43498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507760" y="4952880"/>
            <a:ext cx="46609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050920" y="4184640"/>
            <a:ext cx="470160" cy="7747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25440" y="2673360"/>
            <a:ext cx="139680" cy="633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54040" y="2673360"/>
            <a:ext cx="139680" cy="633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2971800"/>
            <a:ext cx="204840" cy="63360"/>
          </a:xfrm>
          <a:custGeom>
            <a:avLst/>
            <a:gdLst/>
            <a:ahLst/>
            <a:rect l="l" t="t" r="r" b="b"/>
            <a:pathLst>
              <a:path w="129" h="40">
                <a:moveTo>
                  <a:pt x="0" y="0"/>
                </a:moveTo>
                <a:lnTo>
                  <a:pt x="70" y="39"/>
                </a:lnTo>
                <a:lnTo>
                  <a:pt x="128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6440" y="1814400"/>
            <a:ext cx="1402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r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d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Acción proporcion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765680" y="2590920"/>
            <a:ext cx="34920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4022640" y="4939920"/>
            <a:ext cx="576360" cy="12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770200" y="3941640"/>
            <a:ext cx="0" cy="130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770200" y="4195800"/>
            <a:ext cx="1309680" cy="10620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4079880" y="3997080"/>
            <a:ext cx="0" cy="12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770200" y="5257800"/>
            <a:ext cx="13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2240" y="3200400"/>
            <a:ext cx="1047960" cy="66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870200" y="3135240"/>
            <a:ext cx="0" cy="19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1870200" y="3134880"/>
            <a:ext cx="261720" cy="19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870200" y="3135240"/>
            <a:ext cx="261720" cy="19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31920" y="3135240"/>
            <a:ext cx="0" cy="19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131920" y="3200400"/>
            <a:ext cx="1047960" cy="66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1998720" y="3002040"/>
            <a:ext cx="0" cy="264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189240" y="3200400"/>
            <a:ext cx="52560" cy="4651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189240" y="3730680"/>
            <a:ext cx="52560" cy="1332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189240" y="3930480"/>
            <a:ext cx="52560" cy="1317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817640" y="2868480"/>
            <a:ext cx="366840" cy="133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41560" y="2590920"/>
            <a:ext cx="0" cy="245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613400" y="4267080"/>
            <a:ext cx="0" cy="66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41560" y="2590920"/>
            <a:ext cx="103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4613400" y="274284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405320" y="3865680"/>
            <a:ext cx="414360" cy="387360"/>
          </a:xfrm>
          <a:prstGeom prst="ellipse">
            <a:avLst/>
          </a:prstGeom>
          <a:solidFill>
            <a:srgbClr val="e7f8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rot="16200000">
            <a:off x="2865240" y="5732280"/>
            <a:ext cx="1047600" cy="66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657600" y="5897520"/>
            <a:ext cx="0" cy="671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78000" y="2239920"/>
            <a:ext cx="595440" cy="7160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3687480" y="2575080"/>
            <a:ext cx="701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178600" y="227016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006800" y="2087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803920" y="3446640"/>
            <a:ext cx="28465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(t) = w –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(t)=K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(t) + b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392200" y="2438280"/>
            <a:ext cx="290520" cy="304920"/>
          </a:xfrm>
          <a:prstGeom prst="flowChartOr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530440" y="1935000"/>
            <a:ext cx="0" cy="503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722600" y="1585800"/>
            <a:ext cx="7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523880" y="2362320"/>
            <a:ext cx="4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705200" y="3306600"/>
            <a:ext cx="5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414680" y="2422440"/>
            <a:ext cx="365400" cy="336600"/>
          </a:xfrm>
          <a:prstGeom prst="flowChartSummingJunction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721400" y="2255760"/>
            <a:ext cx="3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613400" y="262080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cción Integr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757840" y="5270400"/>
            <a:ext cx="469800" cy="2365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729400" y="3622680"/>
            <a:ext cx="469800" cy="2365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183280" y="3797280"/>
            <a:ext cx="1608120" cy="15336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5950080" y="3438360"/>
            <a:ext cx="0" cy="184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987880" y="5504040"/>
            <a:ext cx="0" cy="210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987880" y="4602240"/>
            <a:ext cx="231300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725560" y="3130560"/>
            <a:ext cx="609840" cy="609480"/>
          </a:xfrm>
          <a:prstGeom prst="rect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353960" y="3435480"/>
            <a:ext cx="506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2039760" y="3663720"/>
            <a:ext cx="0" cy="243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25720" y="290196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997440" y="29401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268360" y="34354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744560" y="5108400"/>
            <a:ext cx="609840" cy="533520"/>
          </a:xfrm>
          <a:prstGeom prst="rect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116080" y="4349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357800" y="3130560"/>
            <a:ext cx="1022400" cy="6094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335400" y="3435480"/>
            <a:ext cx="1033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268360" y="29019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658880" y="2978280"/>
            <a:ext cx="2300400" cy="3392280"/>
          </a:xfrm>
          <a:prstGeom prst="rect">
            <a:avLst/>
          </a:prstGeom>
          <a:noFill/>
          <a:ln w="1260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1811160" y="3206880"/>
            <a:ext cx="457200" cy="474840"/>
            <a:chOff x="1811160" y="3206880"/>
            <a:chExt cx="457200" cy="474840"/>
          </a:xfrm>
        </p:grpSpPr>
        <p:sp>
          <p:nvSpPr>
            <p:cNvPr id="990" name=""/>
            <p:cNvSpPr/>
            <p:nvPr/>
          </p:nvSpPr>
          <p:spPr>
            <a:xfrm>
              <a:off x="1811160" y="3206880"/>
              <a:ext cx="444240" cy="44460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811160" y="328320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963440" y="343548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5356080" y="3440160"/>
            <a:ext cx="59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348680" y="4614840"/>
            <a:ext cx="581040" cy="382680"/>
          </a:xfrm>
          <a:prstGeom prst="roundRect">
            <a:avLst>
              <a:gd name="adj" fmla="val 16667"/>
            </a:avLst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041560" y="6086520"/>
            <a:ext cx="562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69080" y="4997520"/>
            <a:ext cx="0" cy="108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5838840" y="5702400"/>
            <a:ext cx="3222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900760" y="5789520"/>
            <a:ext cx="185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999040" y="5851440"/>
            <a:ext cx="25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904160" y="5295960"/>
            <a:ext cx="102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500 rp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624120" y="3327480"/>
            <a:ext cx="260640" cy="223920"/>
          </a:xfrm>
          <a:prstGeom prst="flowChartOr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35120" y="2103480"/>
            <a:ext cx="1040040" cy="76824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2665440" y="2146320"/>
                <a:ext cx="181764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04" name=""/>
          <p:cNvSpPr/>
          <p:nvPr/>
        </p:nvSpPr>
        <p:spPr>
          <a:xfrm flipV="1">
            <a:off x="2387520" y="2487600"/>
            <a:ext cx="0" cy="952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387520" y="2487600"/>
            <a:ext cx="160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575160" y="2462040"/>
            <a:ext cx="185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760920" y="2462040"/>
            <a:ext cx="0" cy="865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52280" y="3073320"/>
            <a:ext cx="102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500 rp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           </a:t>
            </a: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P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870280" y="1050840"/>
            <a:ext cx="1039680" cy="76860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955960" y="1109520"/>
                <a:ext cx="181764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12" name=""/>
          <p:cNvSpPr/>
          <p:nvPr/>
        </p:nvSpPr>
        <p:spPr>
          <a:xfrm>
            <a:off x="4765680" y="2590920"/>
            <a:ext cx="34920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4022640" y="4939920"/>
            <a:ext cx="576360" cy="12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770200" y="3941640"/>
            <a:ext cx="0" cy="130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770200" y="4195800"/>
            <a:ext cx="1309680" cy="10620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4079880" y="3997080"/>
            <a:ext cx="0" cy="12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770200" y="5257800"/>
            <a:ext cx="13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22240" y="3200400"/>
            <a:ext cx="1047960" cy="66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870200" y="3135240"/>
            <a:ext cx="0" cy="19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1870200" y="3134880"/>
            <a:ext cx="261720" cy="19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870200" y="3135240"/>
            <a:ext cx="261720" cy="19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131920" y="3135240"/>
            <a:ext cx="0" cy="19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131920" y="3200400"/>
            <a:ext cx="1047960" cy="66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1998720" y="3002040"/>
            <a:ext cx="0" cy="264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189240" y="3200400"/>
            <a:ext cx="52560" cy="4651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189240" y="3730680"/>
            <a:ext cx="52560" cy="1332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189240" y="3930480"/>
            <a:ext cx="52560" cy="1317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817640" y="2868480"/>
            <a:ext cx="366840" cy="133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041560" y="2590920"/>
            <a:ext cx="0" cy="245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613400" y="4267080"/>
            <a:ext cx="0" cy="66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041560" y="2590920"/>
            <a:ext cx="103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4613400" y="274284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405320" y="3865680"/>
            <a:ext cx="414360" cy="387360"/>
          </a:xfrm>
          <a:prstGeom prst="ellipse">
            <a:avLst/>
          </a:prstGeom>
          <a:solidFill>
            <a:srgbClr val="e7f8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rot="16200000">
            <a:off x="2865240" y="5732280"/>
            <a:ext cx="1047600" cy="66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657600" y="5897520"/>
            <a:ext cx="0" cy="671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078000" y="2239920"/>
            <a:ext cx="595440" cy="7160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3687480" y="2575080"/>
            <a:ext cx="701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78600" y="227016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098960" y="2087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803920" y="3446640"/>
            <a:ext cx="28465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(t) = w –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(t)=K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(t) + b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392200" y="2438280"/>
            <a:ext cx="290520" cy="304920"/>
          </a:xfrm>
          <a:prstGeom prst="flowChartOr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530440" y="1432080"/>
            <a:ext cx="15840" cy="1006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523880" y="2362320"/>
            <a:ext cx="4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05200" y="3306600"/>
            <a:ext cx="5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414680" y="2422440"/>
            <a:ext cx="365400" cy="336600"/>
          </a:xfrm>
          <a:prstGeom prst="flowChartSummingJunction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721400" y="2255760"/>
            <a:ext cx="3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613400" y="262080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4114800" y="1417320"/>
            <a:ext cx="0" cy="1157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3931920" y="1432080"/>
            <a:ext cx="182520" cy="31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2544840" y="144792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55560" y="1311120"/>
            <a:ext cx="14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ias ajus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6bf69"/>
                </a:solidFill>
                <a:latin typeface="Arial"/>
              </a:rPr>
              <a:t>Acción integral </a:t>
            </a:r>
            <a:r>
              <a:rPr b="0" lang="es-ES_tradnl" sz="3600" spc="-1" strike="noStrike">
                <a:solidFill>
                  <a:srgbClr val="f6bf69"/>
                </a:solidFill>
                <a:latin typeface="Arial"/>
              </a:rPr>
              <a:t>(automatic reset)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295280" y="1996920"/>
            <a:ext cx="0" cy="164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082520" y="3429000"/>
            <a:ext cx="324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522440" y="2668680"/>
            <a:ext cx="2290680" cy="763560"/>
          </a:xfrm>
          <a:custGeom>
            <a:avLst/>
            <a:gdLst/>
            <a:ahLst/>
            <a:rect l="l" t="t" r="r" b="b"/>
            <a:pathLst>
              <a:path w="1443" h="481">
                <a:moveTo>
                  <a:pt x="0" y="480"/>
                </a:moveTo>
                <a:lnTo>
                  <a:pt x="42" y="429"/>
                </a:lnTo>
                <a:lnTo>
                  <a:pt x="83" y="379"/>
                </a:lnTo>
                <a:lnTo>
                  <a:pt x="118" y="331"/>
                </a:lnTo>
                <a:lnTo>
                  <a:pt x="145" y="287"/>
                </a:lnTo>
                <a:lnTo>
                  <a:pt x="156" y="267"/>
                </a:lnTo>
                <a:lnTo>
                  <a:pt x="163" y="247"/>
                </a:lnTo>
                <a:lnTo>
                  <a:pt x="173" y="210"/>
                </a:lnTo>
                <a:lnTo>
                  <a:pt x="180" y="172"/>
                </a:lnTo>
                <a:lnTo>
                  <a:pt x="194" y="142"/>
                </a:lnTo>
                <a:lnTo>
                  <a:pt x="215" y="115"/>
                </a:lnTo>
                <a:lnTo>
                  <a:pt x="235" y="88"/>
                </a:lnTo>
                <a:lnTo>
                  <a:pt x="263" y="68"/>
                </a:lnTo>
                <a:lnTo>
                  <a:pt x="291" y="47"/>
                </a:lnTo>
                <a:lnTo>
                  <a:pt x="322" y="30"/>
                </a:lnTo>
                <a:lnTo>
                  <a:pt x="356" y="13"/>
                </a:lnTo>
                <a:lnTo>
                  <a:pt x="391" y="3"/>
                </a:lnTo>
                <a:lnTo>
                  <a:pt x="432" y="0"/>
                </a:lnTo>
                <a:lnTo>
                  <a:pt x="453" y="3"/>
                </a:lnTo>
                <a:lnTo>
                  <a:pt x="477" y="7"/>
                </a:lnTo>
                <a:lnTo>
                  <a:pt x="526" y="20"/>
                </a:lnTo>
                <a:lnTo>
                  <a:pt x="578" y="37"/>
                </a:lnTo>
                <a:lnTo>
                  <a:pt x="626" y="47"/>
                </a:lnTo>
                <a:lnTo>
                  <a:pt x="671" y="51"/>
                </a:lnTo>
                <a:lnTo>
                  <a:pt x="716" y="51"/>
                </a:lnTo>
                <a:lnTo>
                  <a:pt x="764" y="47"/>
                </a:lnTo>
                <a:lnTo>
                  <a:pt x="816" y="47"/>
                </a:lnTo>
                <a:lnTo>
                  <a:pt x="875" y="47"/>
                </a:lnTo>
                <a:lnTo>
                  <a:pt x="941" y="47"/>
                </a:lnTo>
                <a:lnTo>
                  <a:pt x="1003" y="47"/>
                </a:lnTo>
                <a:lnTo>
                  <a:pt x="1031" y="47"/>
                </a:lnTo>
                <a:lnTo>
                  <a:pt x="1058" y="47"/>
                </a:lnTo>
                <a:lnTo>
                  <a:pt x="1079" y="47"/>
                </a:lnTo>
                <a:lnTo>
                  <a:pt x="1100" y="47"/>
                </a:lnTo>
                <a:lnTo>
                  <a:pt x="1131" y="47"/>
                </a:lnTo>
                <a:lnTo>
                  <a:pt x="1162" y="47"/>
                </a:lnTo>
                <a:lnTo>
                  <a:pt x="1179" y="47"/>
                </a:lnTo>
                <a:lnTo>
                  <a:pt x="1200" y="47"/>
                </a:lnTo>
                <a:lnTo>
                  <a:pt x="1228" y="47"/>
                </a:lnTo>
                <a:lnTo>
                  <a:pt x="1259" y="47"/>
                </a:lnTo>
                <a:lnTo>
                  <a:pt x="1331" y="47"/>
                </a:lnTo>
                <a:lnTo>
                  <a:pt x="1366" y="47"/>
                </a:lnTo>
                <a:lnTo>
                  <a:pt x="1397" y="47"/>
                </a:lnTo>
                <a:lnTo>
                  <a:pt x="1421" y="47"/>
                </a:lnTo>
                <a:lnTo>
                  <a:pt x="1442" y="47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311120" y="2286000"/>
            <a:ext cx="30956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029200" y="1996920"/>
            <a:ext cx="0" cy="164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816440" y="3429000"/>
            <a:ext cx="324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57800" y="2130480"/>
            <a:ext cx="2060640" cy="1301760"/>
          </a:xfrm>
          <a:custGeom>
            <a:avLst/>
            <a:gdLst/>
            <a:ahLst/>
            <a:rect l="l" t="t" r="r" b="b"/>
            <a:pathLst>
              <a:path w="1298" h="820">
                <a:moveTo>
                  <a:pt x="0" y="819"/>
                </a:moveTo>
                <a:lnTo>
                  <a:pt x="38" y="734"/>
                </a:lnTo>
                <a:lnTo>
                  <a:pt x="74" y="648"/>
                </a:lnTo>
                <a:lnTo>
                  <a:pt x="103" y="563"/>
                </a:lnTo>
                <a:lnTo>
                  <a:pt x="129" y="489"/>
                </a:lnTo>
                <a:lnTo>
                  <a:pt x="138" y="455"/>
                </a:lnTo>
                <a:lnTo>
                  <a:pt x="145" y="421"/>
                </a:lnTo>
                <a:lnTo>
                  <a:pt x="155" y="359"/>
                </a:lnTo>
                <a:lnTo>
                  <a:pt x="161" y="302"/>
                </a:lnTo>
                <a:lnTo>
                  <a:pt x="174" y="245"/>
                </a:lnTo>
                <a:lnTo>
                  <a:pt x="190" y="199"/>
                </a:lnTo>
                <a:lnTo>
                  <a:pt x="209" y="154"/>
                </a:lnTo>
                <a:lnTo>
                  <a:pt x="258" y="86"/>
                </a:lnTo>
                <a:lnTo>
                  <a:pt x="287" y="52"/>
                </a:lnTo>
                <a:lnTo>
                  <a:pt x="319" y="29"/>
                </a:lnTo>
                <a:lnTo>
                  <a:pt x="355" y="6"/>
                </a:lnTo>
                <a:lnTo>
                  <a:pt x="390" y="0"/>
                </a:lnTo>
                <a:lnTo>
                  <a:pt x="410" y="6"/>
                </a:lnTo>
                <a:lnTo>
                  <a:pt x="429" y="12"/>
                </a:lnTo>
                <a:lnTo>
                  <a:pt x="471" y="34"/>
                </a:lnTo>
                <a:lnTo>
                  <a:pt x="516" y="63"/>
                </a:lnTo>
                <a:lnTo>
                  <a:pt x="561" y="86"/>
                </a:lnTo>
                <a:lnTo>
                  <a:pt x="603" y="91"/>
                </a:lnTo>
                <a:lnTo>
                  <a:pt x="645" y="91"/>
                </a:lnTo>
                <a:lnTo>
                  <a:pt x="690" y="86"/>
                </a:lnTo>
                <a:lnTo>
                  <a:pt x="735" y="86"/>
                </a:lnTo>
                <a:lnTo>
                  <a:pt x="787" y="86"/>
                </a:lnTo>
                <a:lnTo>
                  <a:pt x="845" y="86"/>
                </a:lnTo>
                <a:lnTo>
                  <a:pt x="900" y="86"/>
                </a:lnTo>
                <a:lnTo>
                  <a:pt x="926" y="86"/>
                </a:lnTo>
                <a:lnTo>
                  <a:pt x="948" y="86"/>
                </a:lnTo>
                <a:lnTo>
                  <a:pt x="968" y="86"/>
                </a:lnTo>
                <a:lnTo>
                  <a:pt x="987" y="86"/>
                </a:lnTo>
                <a:lnTo>
                  <a:pt x="1016" y="86"/>
                </a:lnTo>
                <a:lnTo>
                  <a:pt x="1045" y="86"/>
                </a:lnTo>
                <a:lnTo>
                  <a:pt x="1061" y="86"/>
                </a:lnTo>
                <a:lnTo>
                  <a:pt x="1081" y="86"/>
                </a:lnTo>
                <a:lnTo>
                  <a:pt x="1107" y="86"/>
                </a:lnTo>
                <a:lnTo>
                  <a:pt x="1136" y="86"/>
                </a:lnTo>
                <a:lnTo>
                  <a:pt x="1197" y="86"/>
                </a:lnTo>
                <a:lnTo>
                  <a:pt x="1229" y="86"/>
                </a:lnTo>
                <a:lnTo>
                  <a:pt x="1255" y="86"/>
                </a:lnTo>
                <a:lnTo>
                  <a:pt x="1281" y="86"/>
                </a:lnTo>
                <a:lnTo>
                  <a:pt x="1297" y="86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045040" y="2286000"/>
            <a:ext cx="30956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57080" y="20527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567320" y="197640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967120" y="1900080"/>
            <a:ext cx="6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310520" y="1900080"/>
            <a:ext cx="6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95280" y="4052880"/>
            <a:ext cx="0" cy="119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157400" y="5105520"/>
            <a:ext cx="317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017240" y="295128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751160" y="295128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817560" y="38656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169520" y="455148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293840" y="4648320"/>
            <a:ext cx="2746440" cy="460080"/>
          </a:xfrm>
          <a:custGeom>
            <a:avLst/>
            <a:gdLst/>
            <a:ahLst/>
            <a:rect l="l" t="t" r="r" b="b"/>
            <a:pathLst>
              <a:path w="1730" h="290">
                <a:moveTo>
                  <a:pt x="0" y="289"/>
                </a:moveTo>
                <a:lnTo>
                  <a:pt x="50" y="258"/>
                </a:lnTo>
                <a:lnTo>
                  <a:pt x="100" y="228"/>
                </a:lnTo>
                <a:lnTo>
                  <a:pt x="141" y="199"/>
                </a:lnTo>
                <a:lnTo>
                  <a:pt x="174" y="173"/>
                </a:lnTo>
                <a:lnTo>
                  <a:pt x="187" y="161"/>
                </a:lnTo>
                <a:lnTo>
                  <a:pt x="195" y="149"/>
                </a:lnTo>
                <a:lnTo>
                  <a:pt x="207" y="126"/>
                </a:lnTo>
                <a:lnTo>
                  <a:pt x="216" y="104"/>
                </a:lnTo>
                <a:lnTo>
                  <a:pt x="233" y="85"/>
                </a:lnTo>
                <a:lnTo>
                  <a:pt x="258" y="69"/>
                </a:lnTo>
                <a:lnTo>
                  <a:pt x="282" y="53"/>
                </a:lnTo>
                <a:lnTo>
                  <a:pt x="315" y="41"/>
                </a:lnTo>
                <a:lnTo>
                  <a:pt x="349" y="28"/>
                </a:lnTo>
                <a:lnTo>
                  <a:pt x="386" y="18"/>
                </a:lnTo>
                <a:lnTo>
                  <a:pt x="427" y="8"/>
                </a:lnTo>
                <a:lnTo>
                  <a:pt x="469" y="2"/>
                </a:lnTo>
                <a:lnTo>
                  <a:pt x="518" y="0"/>
                </a:lnTo>
                <a:lnTo>
                  <a:pt x="543" y="2"/>
                </a:lnTo>
                <a:lnTo>
                  <a:pt x="572" y="4"/>
                </a:lnTo>
                <a:lnTo>
                  <a:pt x="631" y="12"/>
                </a:lnTo>
                <a:lnTo>
                  <a:pt x="693" y="22"/>
                </a:lnTo>
                <a:lnTo>
                  <a:pt x="751" y="28"/>
                </a:lnTo>
                <a:lnTo>
                  <a:pt x="805" y="31"/>
                </a:lnTo>
                <a:lnTo>
                  <a:pt x="859" y="31"/>
                </a:lnTo>
                <a:lnTo>
                  <a:pt x="916" y="28"/>
                </a:lnTo>
                <a:lnTo>
                  <a:pt x="978" y="28"/>
                </a:lnTo>
                <a:lnTo>
                  <a:pt x="1049" y="28"/>
                </a:lnTo>
                <a:lnTo>
                  <a:pt x="1128" y="28"/>
                </a:lnTo>
                <a:lnTo>
                  <a:pt x="1203" y="28"/>
                </a:lnTo>
                <a:lnTo>
                  <a:pt x="1236" y="28"/>
                </a:lnTo>
                <a:lnTo>
                  <a:pt x="1269" y="28"/>
                </a:lnTo>
                <a:lnTo>
                  <a:pt x="1294" y="28"/>
                </a:lnTo>
                <a:lnTo>
                  <a:pt x="1319" y="28"/>
                </a:lnTo>
                <a:lnTo>
                  <a:pt x="1356" y="28"/>
                </a:lnTo>
                <a:lnTo>
                  <a:pt x="1393" y="28"/>
                </a:lnTo>
                <a:lnTo>
                  <a:pt x="1414" y="28"/>
                </a:lnTo>
                <a:lnTo>
                  <a:pt x="1439" y="28"/>
                </a:lnTo>
                <a:lnTo>
                  <a:pt x="1472" y="28"/>
                </a:lnTo>
                <a:lnTo>
                  <a:pt x="1510" y="28"/>
                </a:lnTo>
                <a:lnTo>
                  <a:pt x="1596" y="28"/>
                </a:lnTo>
                <a:lnTo>
                  <a:pt x="1638" y="28"/>
                </a:lnTo>
                <a:lnTo>
                  <a:pt x="1675" y="28"/>
                </a:lnTo>
                <a:lnTo>
                  <a:pt x="1704" y="28"/>
                </a:lnTo>
                <a:lnTo>
                  <a:pt x="1729" y="28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029200" y="4052880"/>
            <a:ext cx="0" cy="119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890960" y="5105520"/>
            <a:ext cx="317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51480" y="38656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903440" y="455148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027760" y="4114800"/>
            <a:ext cx="2746080" cy="993600"/>
          </a:xfrm>
          <a:custGeom>
            <a:avLst/>
            <a:gdLst/>
            <a:ahLst/>
            <a:rect l="l" t="t" r="r" b="b"/>
            <a:pathLst>
              <a:path w="1730" h="626">
                <a:moveTo>
                  <a:pt x="0" y="625"/>
                </a:moveTo>
                <a:lnTo>
                  <a:pt x="50" y="559"/>
                </a:lnTo>
                <a:lnTo>
                  <a:pt x="100" y="493"/>
                </a:lnTo>
                <a:lnTo>
                  <a:pt x="141" y="431"/>
                </a:lnTo>
                <a:lnTo>
                  <a:pt x="174" y="374"/>
                </a:lnTo>
                <a:lnTo>
                  <a:pt x="187" y="348"/>
                </a:lnTo>
                <a:lnTo>
                  <a:pt x="195" y="322"/>
                </a:lnTo>
                <a:lnTo>
                  <a:pt x="207" y="273"/>
                </a:lnTo>
                <a:lnTo>
                  <a:pt x="216" y="224"/>
                </a:lnTo>
                <a:lnTo>
                  <a:pt x="233" y="185"/>
                </a:lnTo>
                <a:lnTo>
                  <a:pt x="258" y="150"/>
                </a:lnTo>
                <a:lnTo>
                  <a:pt x="282" y="115"/>
                </a:lnTo>
                <a:lnTo>
                  <a:pt x="315" y="89"/>
                </a:lnTo>
                <a:lnTo>
                  <a:pt x="349" y="61"/>
                </a:lnTo>
                <a:lnTo>
                  <a:pt x="386" y="39"/>
                </a:lnTo>
                <a:lnTo>
                  <a:pt x="427" y="17"/>
                </a:lnTo>
                <a:lnTo>
                  <a:pt x="469" y="4"/>
                </a:lnTo>
                <a:lnTo>
                  <a:pt x="518" y="0"/>
                </a:lnTo>
                <a:lnTo>
                  <a:pt x="543" y="4"/>
                </a:lnTo>
                <a:lnTo>
                  <a:pt x="572" y="9"/>
                </a:lnTo>
                <a:lnTo>
                  <a:pt x="631" y="26"/>
                </a:lnTo>
                <a:lnTo>
                  <a:pt x="693" y="48"/>
                </a:lnTo>
                <a:lnTo>
                  <a:pt x="751" y="61"/>
                </a:lnTo>
                <a:lnTo>
                  <a:pt x="805" y="66"/>
                </a:lnTo>
                <a:lnTo>
                  <a:pt x="859" y="66"/>
                </a:lnTo>
                <a:lnTo>
                  <a:pt x="916" y="61"/>
                </a:lnTo>
                <a:lnTo>
                  <a:pt x="978" y="61"/>
                </a:lnTo>
                <a:lnTo>
                  <a:pt x="1049" y="61"/>
                </a:lnTo>
                <a:lnTo>
                  <a:pt x="1128" y="61"/>
                </a:lnTo>
                <a:lnTo>
                  <a:pt x="1203" y="61"/>
                </a:lnTo>
                <a:lnTo>
                  <a:pt x="1236" y="61"/>
                </a:lnTo>
                <a:lnTo>
                  <a:pt x="1269" y="61"/>
                </a:lnTo>
                <a:lnTo>
                  <a:pt x="1294" y="61"/>
                </a:lnTo>
                <a:lnTo>
                  <a:pt x="1319" y="61"/>
                </a:lnTo>
                <a:lnTo>
                  <a:pt x="1356" y="61"/>
                </a:lnTo>
                <a:lnTo>
                  <a:pt x="1393" y="61"/>
                </a:lnTo>
                <a:lnTo>
                  <a:pt x="1414" y="61"/>
                </a:lnTo>
                <a:lnTo>
                  <a:pt x="1439" y="61"/>
                </a:lnTo>
                <a:lnTo>
                  <a:pt x="1472" y="61"/>
                </a:lnTo>
                <a:lnTo>
                  <a:pt x="1510" y="61"/>
                </a:lnTo>
                <a:lnTo>
                  <a:pt x="1596" y="61"/>
                </a:lnTo>
                <a:lnTo>
                  <a:pt x="1638" y="61"/>
                </a:lnTo>
                <a:lnTo>
                  <a:pt x="1675" y="61"/>
                </a:lnTo>
                <a:lnTo>
                  <a:pt x="1704" y="61"/>
                </a:lnTo>
                <a:lnTo>
                  <a:pt x="1729" y="61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813600" y="5465880"/>
            <a:ext cx="3420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 regulador P no elim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error estacionario 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cesos autoregul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926600" y="5389560"/>
            <a:ext cx="3641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acción integral continu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biando la u hasta que 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ror es c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5796000" y="4348080"/>
                <a:ext cx="181764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cción Integr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676520" y="3443400"/>
            <a:ext cx="0" cy="12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538280" y="4419720"/>
            <a:ext cx="2563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728720" y="4038480"/>
            <a:ext cx="2030400" cy="0"/>
          </a:xfrm>
          <a:prstGeom prst="line">
            <a:avLst/>
          </a:prstGeom>
          <a:ln w="50760">
            <a:solidFill>
              <a:srgbClr val="6e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350360" y="340848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864960" y="394164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181480" y="3443400"/>
            <a:ext cx="0" cy="12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043600" y="4419720"/>
            <a:ext cx="256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234040" y="3733920"/>
            <a:ext cx="2030400" cy="0"/>
          </a:xfrm>
          <a:prstGeom prst="line">
            <a:avLst/>
          </a:prstGeom>
          <a:ln w="50760">
            <a:solidFill>
              <a:srgbClr val="6e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855680" y="340848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369920" y="394164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456680" y="3484440"/>
            <a:ext cx="669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5234040" y="2922480"/>
            <a:ext cx="2182680" cy="15480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186640" y="3332160"/>
            <a:ext cx="1252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e=c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7319880" y="2214720"/>
                <a:ext cx="181764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95" name=""/>
          <p:cNvSpPr/>
          <p:nvPr/>
        </p:nvSpPr>
        <p:spPr>
          <a:xfrm>
            <a:off x="6248520" y="3747960"/>
            <a:ext cx="0" cy="658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923440" y="4551480"/>
            <a:ext cx="226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= 1 repeti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4726080" y="5267160"/>
                <a:ext cx="40701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e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⇒</m:t>
                    </m:r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98" name=""/>
          <p:cNvSpPr/>
          <p:nvPr/>
        </p:nvSpPr>
        <p:spPr>
          <a:xfrm>
            <a:off x="816840" y="5008680"/>
            <a:ext cx="3278160" cy="160236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mpo que tarda 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cción integral en igua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la acción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un repetición) si  e=c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2062080" y="1905120"/>
                <a:ext cx="4884840" cy="19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Acción derivativ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757840" y="4157640"/>
            <a:ext cx="469800" cy="2365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729400" y="2509920"/>
            <a:ext cx="469800" cy="2365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183280" y="2684520"/>
            <a:ext cx="1608120" cy="15336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5950080" y="2325600"/>
            <a:ext cx="0" cy="184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987880" y="4390920"/>
            <a:ext cx="0" cy="21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987880" y="3489480"/>
            <a:ext cx="2313000" cy="30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725560" y="2017800"/>
            <a:ext cx="609840" cy="609480"/>
          </a:xfrm>
          <a:prstGeom prst="rect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353960" y="2322360"/>
            <a:ext cx="506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2039760" y="2550960"/>
            <a:ext cx="0" cy="2438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125720" y="17892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997440" y="18273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268360" y="232236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744560" y="3995640"/>
            <a:ext cx="609840" cy="533520"/>
          </a:xfrm>
          <a:prstGeom prst="rect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4960" y="3227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357800" y="2017800"/>
            <a:ext cx="1022400" cy="6094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335400" y="2322360"/>
            <a:ext cx="1033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68360" y="178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58880" y="1865160"/>
            <a:ext cx="2300400" cy="3392640"/>
          </a:xfrm>
          <a:prstGeom prst="rect">
            <a:avLst/>
          </a:prstGeom>
          <a:noFill/>
          <a:ln w="1260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1811160" y="2093760"/>
            <a:ext cx="457200" cy="474840"/>
            <a:chOff x="1811160" y="2093760"/>
            <a:chExt cx="457200" cy="474840"/>
          </a:xfrm>
        </p:grpSpPr>
        <p:sp>
          <p:nvSpPr>
            <p:cNvPr id="1120" name=""/>
            <p:cNvSpPr/>
            <p:nvPr/>
          </p:nvSpPr>
          <p:spPr>
            <a:xfrm>
              <a:off x="1811160" y="2093760"/>
              <a:ext cx="444240" cy="44460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811160" y="217008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963440" y="23223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5356080" y="2327400"/>
            <a:ext cx="59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348680" y="3502080"/>
            <a:ext cx="581040" cy="382680"/>
          </a:xfrm>
          <a:prstGeom prst="roundRect">
            <a:avLst>
              <a:gd name="adj" fmla="val 16667"/>
            </a:avLst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041560" y="4973760"/>
            <a:ext cx="562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669080" y="3884760"/>
            <a:ext cx="0" cy="108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5838840" y="4589640"/>
            <a:ext cx="3222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900760" y="4676760"/>
            <a:ext cx="185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999040" y="4738680"/>
            <a:ext cx="25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624120" y="2214720"/>
            <a:ext cx="260640" cy="223560"/>
          </a:xfrm>
          <a:prstGeom prst="flowChartOr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3747960" y="2451240"/>
            <a:ext cx="0" cy="90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054080" y="5477040"/>
            <a:ext cx="686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 acción derivativa corrige los cambios bruscos de la señal de control u debidos a cambios rápidos del 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28640" y="2822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378160" y="3352680"/>
            <a:ext cx="160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565440" y="3327480"/>
            <a:ext cx="185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365200" y="2315880"/>
            <a:ext cx="0" cy="1033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525760" y="2968560"/>
            <a:ext cx="1039680" cy="76824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2571840" y="2995560"/>
                <a:ext cx="9097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cción derivativ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295280" y="1692360"/>
            <a:ext cx="0" cy="1647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082520" y="3124080"/>
            <a:ext cx="324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311120" y="1981080"/>
            <a:ext cx="30956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029200" y="1692360"/>
            <a:ext cx="0" cy="1647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16440" y="3124080"/>
            <a:ext cx="324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045040" y="1981080"/>
            <a:ext cx="30956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7080" y="174780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054760" y="147312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814480" y="1519200"/>
            <a:ext cx="6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310520" y="1519200"/>
            <a:ext cx="6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295280" y="3747960"/>
            <a:ext cx="0" cy="119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157400" y="4800600"/>
            <a:ext cx="317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017240" y="264636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751160" y="264636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817560" y="35607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69520" y="424656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029200" y="3747960"/>
            <a:ext cx="0" cy="119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890960" y="4800600"/>
            <a:ext cx="317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127480" y="3511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903440" y="424656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027760" y="3809880"/>
            <a:ext cx="3848040" cy="993960"/>
          </a:xfrm>
          <a:custGeom>
            <a:avLst/>
            <a:gdLst/>
            <a:ahLst/>
            <a:rect l="l" t="t" r="r" b="b"/>
            <a:pathLst>
              <a:path w="1730" h="626">
                <a:moveTo>
                  <a:pt x="0" y="625"/>
                </a:moveTo>
                <a:lnTo>
                  <a:pt x="50" y="559"/>
                </a:lnTo>
                <a:lnTo>
                  <a:pt x="100" y="493"/>
                </a:lnTo>
                <a:lnTo>
                  <a:pt x="141" y="431"/>
                </a:lnTo>
                <a:lnTo>
                  <a:pt x="174" y="374"/>
                </a:lnTo>
                <a:lnTo>
                  <a:pt x="187" y="348"/>
                </a:lnTo>
                <a:lnTo>
                  <a:pt x="195" y="322"/>
                </a:lnTo>
                <a:lnTo>
                  <a:pt x="207" y="273"/>
                </a:lnTo>
                <a:lnTo>
                  <a:pt x="216" y="224"/>
                </a:lnTo>
                <a:lnTo>
                  <a:pt x="233" y="185"/>
                </a:lnTo>
                <a:lnTo>
                  <a:pt x="258" y="150"/>
                </a:lnTo>
                <a:lnTo>
                  <a:pt x="282" y="115"/>
                </a:lnTo>
                <a:lnTo>
                  <a:pt x="315" y="89"/>
                </a:lnTo>
                <a:lnTo>
                  <a:pt x="349" y="61"/>
                </a:lnTo>
                <a:lnTo>
                  <a:pt x="386" y="39"/>
                </a:lnTo>
                <a:lnTo>
                  <a:pt x="427" y="17"/>
                </a:lnTo>
                <a:lnTo>
                  <a:pt x="469" y="4"/>
                </a:lnTo>
                <a:lnTo>
                  <a:pt x="518" y="0"/>
                </a:lnTo>
                <a:lnTo>
                  <a:pt x="543" y="4"/>
                </a:lnTo>
                <a:lnTo>
                  <a:pt x="572" y="9"/>
                </a:lnTo>
                <a:lnTo>
                  <a:pt x="631" y="26"/>
                </a:lnTo>
                <a:lnTo>
                  <a:pt x="693" y="48"/>
                </a:lnTo>
                <a:lnTo>
                  <a:pt x="751" y="61"/>
                </a:lnTo>
                <a:lnTo>
                  <a:pt x="805" y="66"/>
                </a:lnTo>
                <a:lnTo>
                  <a:pt x="859" y="66"/>
                </a:lnTo>
                <a:lnTo>
                  <a:pt x="916" y="61"/>
                </a:lnTo>
                <a:lnTo>
                  <a:pt x="978" y="61"/>
                </a:lnTo>
                <a:lnTo>
                  <a:pt x="1049" y="61"/>
                </a:lnTo>
                <a:lnTo>
                  <a:pt x="1128" y="61"/>
                </a:lnTo>
                <a:lnTo>
                  <a:pt x="1203" y="61"/>
                </a:lnTo>
                <a:lnTo>
                  <a:pt x="1236" y="61"/>
                </a:lnTo>
                <a:lnTo>
                  <a:pt x="1269" y="61"/>
                </a:lnTo>
                <a:lnTo>
                  <a:pt x="1294" y="61"/>
                </a:lnTo>
                <a:lnTo>
                  <a:pt x="1319" y="61"/>
                </a:lnTo>
                <a:lnTo>
                  <a:pt x="1356" y="61"/>
                </a:lnTo>
                <a:lnTo>
                  <a:pt x="1393" y="61"/>
                </a:lnTo>
                <a:lnTo>
                  <a:pt x="1414" y="61"/>
                </a:lnTo>
                <a:lnTo>
                  <a:pt x="1439" y="61"/>
                </a:lnTo>
                <a:lnTo>
                  <a:pt x="1472" y="61"/>
                </a:lnTo>
                <a:lnTo>
                  <a:pt x="1510" y="61"/>
                </a:lnTo>
                <a:lnTo>
                  <a:pt x="1596" y="61"/>
                </a:lnTo>
                <a:lnTo>
                  <a:pt x="1638" y="61"/>
                </a:lnTo>
                <a:lnTo>
                  <a:pt x="1675" y="61"/>
                </a:lnTo>
                <a:lnTo>
                  <a:pt x="1704" y="61"/>
                </a:lnTo>
                <a:lnTo>
                  <a:pt x="1729" y="61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963000" y="5084640"/>
            <a:ext cx="37447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 regulador P con gana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a para dar respuesta ráp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ede provocar oscilaci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r u exces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897440" y="5124600"/>
            <a:ext cx="4110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acción derivativa modera 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 si e decrece rapidamente, evitando oscil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287360" y="1725480"/>
            <a:ext cx="2557440" cy="1419480"/>
          </a:xfrm>
          <a:custGeom>
            <a:avLst/>
            <a:gdLst/>
            <a:ahLst/>
            <a:rect l="l" t="t" r="r" b="b"/>
            <a:pathLst>
              <a:path w="1611" h="894">
                <a:moveTo>
                  <a:pt x="16" y="893"/>
                </a:moveTo>
                <a:lnTo>
                  <a:pt x="0" y="849"/>
                </a:lnTo>
                <a:lnTo>
                  <a:pt x="29" y="791"/>
                </a:lnTo>
                <a:lnTo>
                  <a:pt x="29" y="732"/>
                </a:lnTo>
                <a:lnTo>
                  <a:pt x="29" y="673"/>
                </a:lnTo>
                <a:lnTo>
                  <a:pt x="59" y="615"/>
                </a:lnTo>
                <a:lnTo>
                  <a:pt x="59" y="556"/>
                </a:lnTo>
                <a:lnTo>
                  <a:pt x="88" y="498"/>
                </a:lnTo>
                <a:lnTo>
                  <a:pt x="88" y="439"/>
                </a:lnTo>
                <a:lnTo>
                  <a:pt x="117" y="381"/>
                </a:lnTo>
                <a:lnTo>
                  <a:pt x="117" y="322"/>
                </a:lnTo>
                <a:lnTo>
                  <a:pt x="147" y="264"/>
                </a:lnTo>
                <a:lnTo>
                  <a:pt x="176" y="205"/>
                </a:lnTo>
                <a:lnTo>
                  <a:pt x="176" y="147"/>
                </a:lnTo>
                <a:lnTo>
                  <a:pt x="205" y="88"/>
                </a:lnTo>
                <a:lnTo>
                  <a:pt x="264" y="59"/>
                </a:lnTo>
                <a:lnTo>
                  <a:pt x="293" y="0"/>
                </a:lnTo>
                <a:lnTo>
                  <a:pt x="351" y="0"/>
                </a:lnTo>
                <a:lnTo>
                  <a:pt x="410" y="0"/>
                </a:lnTo>
                <a:lnTo>
                  <a:pt x="468" y="0"/>
                </a:lnTo>
                <a:lnTo>
                  <a:pt x="527" y="0"/>
                </a:lnTo>
                <a:lnTo>
                  <a:pt x="556" y="59"/>
                </a:lnTo>
                <a:lnTo>
                  <a:pt x="615" y="88"/>
                </a:lnTo>
                <a:lnTo>
                  <a:pt x="615" y="147"/>
                </a:lnTo>
                <a:lnTo>
                  <a:pt x="673" y="176"/>
                </a:lnTo>
                <a:lnTo>
                  <a:pt x="673" y="234"/>
                </a:lnTo>
                <a:lnTo>
                  <a:pt x="732" y="264"/>
                </a:lnTo>
                <a:lnTo>
                  <a:pt x="790" y="264"/>
                </a:lnTo>
                <a:lnTo>
                  <a:pt x="849" y="234"/>
                </a:lnTo>
                <a:lnTo>
                  <a:pt x="908" y="234"/>
                </a:lnTo>
                <a:lnTo>
                  <a:pt x="966" y="205"/>
                </a:lnTo>
                <a:lnTo>
                  <a:pt x="995" y="147"/>
                </a:lnTo>
                <a:lnTo>
                  <a:pt x="1054" y="117"/>
                </a:lnTo>
                <a:lnTo>
                  <a:pt x="1112" y="117"/>
                </a:lnTo>
                <a:lnTo>
                  <a:pt x="1171" y="117"/>
                </a:lnTo>
                <a:lnTo>
                  <a:pt x="1200" y="176"/>
                </a:lnTo>
                <a:lnTo>
                  <a:pt x="1259" y="205"/>
                </a:lnTo>
                <a:lnTo>
                  <a:pt x="1317" y="205"/>
                </a:lnTo>
                <a:lnTo>
                  <a:pt x="1376" y="205"/>
                </a:lnTo>
                <a:lnTo>
                  <a:pt x="1434" y="205"/>
                </a:lnTo>
                <a:lnTo>
                  <a:pt x="1434" y="147"/>
                </a:lnTo>
                <a:lnTo>
                  <a:pt x="1493" y="147"/>
                </a:lnTo>
                <a:lnTo>
                  <a:pt x="1551" y="147"/>
                </a:lnTo>
                <a:lnTo>
                  <a:pt x="1610" y="147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297080" y="3529080"/>
            <a:ext cx="2388960" cy="1272960"/>
          </a:xfrm>
          <a:custGeom>
            <a:avLst/>
            <a:gdLst/>
            <a:ahLst/>
            <a:rect l="l" t="t" r="r" b="b"/>
            <a:pathLst>
              <a:path w="1611" h="721">
                <a:moveTo>
                  <a:pt x="16" y="720"/>
                </a:moveTo>
                <a:lnTo>
                  <a:pt x="0" y="685"/>
                </a:lnTo>
                <a:lnTo>
                  <a:pt x="29" y="638"/>
                </a:lnTo>
                <a:lnTo>
                  <a:pt x="29" y="590"/>
                </a:lnTo>
                <a:lnTo>
                  <a:pt x="29" y="543"/>
                </a:lnTo>
                <a:lnTo>
                  <a:pt x="59" y="496"/>
                </a:lnTo>
                <a:lnTo>
                  <a:pt x="59" y="448"/>
                </a:lnTo>
                <a:lnTo>
                  <a:pt x="88" y="402"/>
                </a:lnTo>
                <a:lnTo>
                  <a:pt x="88" y="354"/>
                </a:lnTo>
                <a:lnTo>
                  <a:pt x="117" y="307"/>
                </a:lnTo>
                <a:lnTo>
                  <a:pt x="117" y="260"/>
                </a:lnTo>
                <a:lnTo>
                  <a:pt x="147" y="213"/>
                </a:lnTo>
                <a:lnTo>
                  <a:pt x="176" y="165"/>
                </a:lnTo>
                <a:lnTo>
                  <a:pt x="176" y="119"/>
                </a:lnTo>
                <a:lnTo>
                  <a:pt x="205" y="71"/>
                </a:lnTo>
                <a:lnTo>
                  <a:pt x="264" y="48"/>
                </a:lnTo>
                <a:lnTo>
                  <a:pt x="293" y="0"/>
                </a:lnTo>
                <a:lnTo>
                  <a:pt x="351" y="0"/>
                </a:lnTo>
                <a:lnTo>
                  <a:pt x="410" y="0"/>
                </a:lnTo>
                <a:lnTo>
                  <a:pt x="468" y="0"/>
                </a:lnTo>
                <a:lnTo>
                  <a:pt x="527" y="0"/>
                </a:lnTo>
                <a:lnTo>
                  <a:pt x="556" y="48"/>
                </a:lnTo>
                <a:lnTo>
                  <a:pt x="615" y="71"/>
                </a:lnTo>
                <a:lnTo>
                  <a:pt x="615" y="119"/>
                </a:lnTo>
                <a:lnTo>
                  <a:pt x="673" y="142"/>
                </a:lnTo>
                <a:lnTo>
                  <a:pt x="673" y="189"/>
                </a:lnTo>
                <a:lnTo>
                  <a:pt x="732" y="213"/>
                </a:lnTo>
                <a:lnTo>
                  <a:pt x="790" y="213"/>
                </a:lnTo>
                <a:lnTo>
                  <a:pt x="849" y="189"/>
                </a:lnTo>
                <a:lnTo>
                  <a:pt x="908" y="189"/>
                </a:lnTo>
                <a:lnTo>
                  <a:pt x="966" y="165"/>
                </a:lnTo>
                <a:lnTo>
                  <a:pt x="995" y="119"/>
                </a:lnTo>
                <a:lnTo>
                  <a:pt x="1054" y="94"/>
                </a:lnTo>
                <a:lnTo>
                  <a:pt x="1112" y="94"/>
                </a:lnTo>
                <a:lnTo>
                  <a:pt x="1171" y="94"/>
                </a:lnTo>
                <a:lnTo>
                  <a:pt x="1200" y="142"/>
                </a:lnTo>
                <a:lnTo>
                  <a:pt x="1259" y="165"/>
                </a:lnTo>
                <a:lnTo>
                  <a:pt x="1317" y="165"/>
                </a:lnTo>
                <a:lnTo>
                  <a:pt x="1376" y="165"/>
                </a:lnTo>
                <a:lnTo>
                  <a:pt x="1434" y="165"/>
                </a:lnTo>
                <a:lnTo>
                  <a:pt x="1434" y="119"/>
                </a:lnTo>
                <a:lnTo>
                  <a:pt x="1493" y="119"/>
                </a:lnTo>
                <a:lnTo>
                  <a:pt x="1551" y="119"/>
                </a:lnTo>
                <a:lnTo>
                  <a:pt x="1610" y="119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638680" y="4114800"/>
                <a:ext cx="182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  <m:r>
                          <m:t xml:space="preserve">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6" name=""/>
          <p:cNvSpPr/>
          <p:nvPr/>
        </p:nvSpPr>
        <p:spPr>
          <a:xfrm>
            <a:off x="5019840" y="1886040"/>
            <a:ext cx="2773080" cy="1244520"/>
          </a:xfrm>
          <a:custGeom>
            <a:avLst/>
            <a:gdLst/>
            <a:ahLst/>
            <a:rect l="l" t="t" r="r" b="b"/>
            <a:pathLst>
              <a:path w="1747" h="784">
                <a:moveTo>
                  <a:pt x="0" y="784"/>
                </a:moveTo>
                <a:cubicBezTo>
                  <a:pt x="44" y="770"/>
                  <a:pt x="88" y="756"/>
                  <a:pt x="131" y="740"/>
                </a:cubicBezTo>
                <a:cubicBezTo>
                  <a:pt x="133" y="734"/>
                  <a:pt x="133" y="726"/>
                  <a:pt x="137" y="722"/>
                </a:cubicBezTo>
                <a:cubicBezTo>
                  <a:pt x="142" y="717"/>
                  <a:pt x="150" y="718"/>
                  <a:pt x="156" y="715"/>
                </a:cubicBezTo>
                <a:cubicBezTo>
                  <a:pt x="187" y="697"/>
                  <a:pt x="215" y="670"/>
                  <a:pt x="250" y="659"/>
                </a:cubicBezTo>
                <a:cubicBezTo>
                  <a:pt x="263" y="651"/>
                  <a:pt x="275" y="642"/>
                  <a:pt x="288" y="634"/>
                </a:cubicBezTo>
                <a:cubicBezTo>
                  <a:pt x="294" y="630"/>
                  <a:pt x="307" y="621"/>
                  <a:pt x="307" y="621"/>
                </a:cubicBezTo>
                <a:cubicBezTo>
                  <a:pt x="321" y="591"/>
                  <a:pt x="345" y="567"/>
                  <a:pt x="375" y="553"/>
                </a:cubicBezTo>
                <a:cubicBezTo>
                  <a:pt x="393" y="526"/>
                  <a:pt x="415" y="500"/>
                  <a:pt x="438" y="477"/>
                </a:cubicBezTo>
                <a:cubicBezTo>
                  <a:pt x="446" y="454"/>
                  <a:pt x="462" y="447"/>
                  <a:pt x="476" y="427"/>
                </a:cubicBezTo>
                <a:cubicBezTo>
                  <a:pt x="490" y="384"/>
                  <a:pt x="469" y="435"/>
                  <a:pt x="507" y="396"/>
                </a:cubicBezTo>
                <a:cubicBezTo>
                  <a:pt x="518" y="385"/>
                  <a:pt x="523" y="370"/>
                  <a:pt x="532" y="358"/>
                </a:cubicBezTo>
                <a:cubicBezTo>
                  <a:pt x="538" y="349"/>
                  <a:pt x="551" y="333"/>
                  <a:pt x="551" y="333"/>
                </a:cubicBezTo>
                <a:cubicBezTo>
                  <a:pt x="558" y="313"/>
                  <a:pt x="582" y="277"/>
                  <a:pt x="582" y="277"/>
                </a:cubicBezTo>
                <a:cubicBezTo>
                  <a:pt x="589" y="256"/>
                  <a:pt x="595" y="240"/>
                  <a:pt x="607" y="221"/>
                </a:cubicBezTo>
                <a:cubicBezTo>
                  <a:pt x="614" y="193"/>
                  <a:pt x="614" y="181"/>
                  <a:pt x="638" y="164"/>
                </a:cubicBezTo>
                <a:cubicBezTo>
                  <a:pt x="659" y="110"/>
                  <a:pt x="678" y="77"/>
                  <a:pt x="726" y="45"/>
                </a:cubicBezTo>
                <a:cubicBezTo>
                  <a:pt x="742" y="35"/>
                  <a:pt x="763" y="41"/>
                  <a:pt x="782" y="39"/>
                </a:cubicBezTo>
                <a:cubicBezTo>
                  <a:pt x="844" y="0"/>
                  <a:pt x="1015" y="63"/>
                  <a:pt x="1089" y="64"/>
                </a:cubicBezTo>
                <a:cubicBezTo>
                  <a:pt x="1308" y="66"/>
                  <a:pt x="1528" y="64"/>
                  <a:pt x="1747" y="6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57200" y="676440"/>
            <a:ext cx="16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 = w -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cción derivativ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2300400" y="1684440"/>
                <a:ext cx="4776840" cy="18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f>
                      <m:num>
                        <m:r>
                          <m:t xml:space="preserve">de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0" name=""/>
          <p:cNvSpPr/>
          <p:nvPr/>
        </p:nvSpPr>
        <p:spPr>
          <a:xfrm>
            <a:off x="1981080" y="3214800"/>
            <a:ext cx="0" cy="12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843200" y="4191120"/>
            <a:ext cx="256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2033640" y="3760920"/>
            <a:ext cx="2030400" cy="480960"/>
          </a:xfrm>
          <a:prstGeom prst="line">
            <a:avLst/>
          </a:prstGeom>
          <a:ln w="50760">
            <a:solidFill>
              <a:srgbClr val="6e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655280" y="317988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169520" y="371304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486400" y="3214800"/>
            <a:ext cx="0" cy="12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48160" y="4191120"/>
            <a:ext cx="2563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38960" y="3505320"/>
            <a:ext cx="2030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160600" y="317988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674840" y="371304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774920" y="3255840"/>
            <a:ext cx="1031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5538960" y="2693880"/>
            <a:ext cx="2182680" cy="1548000"/>
          </a:xfrm>
          <a:prstGeom prst="line">
            <a:avLst/>
          </a:prstGeom>
          <a:ln w="50760">
            <a:solidFill>
              <a:srgbClr val="6e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491920" y="3103560"/>
            <a:ext cx="119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 e= a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553080" y="3519360"/>
            <a:ext cx="0" cy="658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227640" y="4322880"/>
            <a:ext cx="711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837560" y="2494080"/>
            <a:ext cx="669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5500800" y="2046240"/>
            <a:ext cx="2259000" cy="1471680"/>
          </a:xfrm>
          <a:prstGeom prst="line">
            <a:avLst/>
          </a:prstGeom>
          <a:ln w="12600">
            <a:solidFill>
              <a:srgbClr val="fafd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269720" y="4703760"/>
            <a:ext cx="72666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 e variando linealmente, la acción derivativa da 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isma u que la acción proporcional daría 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g. mas tar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cción anticip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influye en el estado estacion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828560" y="188424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cción derivativ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2900520" y="1839960"/>
                <a:ext cx="3589200" cy="18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f>
                      <m:num>
                        <m:r>
                          <m:t xml:space="preserve">de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1676520" y="3443400"/>
            <a:ext cx="0" cy="12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538280" y="4419720"/>
            <a:ext cx="2563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1728720" y="3989520"/>
            <a:ext cx="2030400" cy="480960"/>
          </a:xfrm>
          <a:prstGeom prst="line">
            <a:avLst/>
          </a:prstGeom>
          <a:ln w="50760">
            <a:solidFill>
              <a:srgbClr val="6e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350360" y="340848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864960" y="394164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181480" y="3443400"/>
            <a:ext cx="0" cy="12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043600" y="4419720"/>
            <a:ext cx="256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234040" y="3733920"/>
            <a:ext cx="2030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855680" y="340848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369920" y="394164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470000" y="3484440"/>
            <a:ext cx="1031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5234040" y="2922480"/>
            <a:ext cx="2182680" cy="1548000"/>
          </a:xfrm>
          <a:prstGeom prst="line">
            <a:avLst/>
          </a:prstGeom>
          <a:ln w="50760">
            <a:solidFill>
              <a:srgbClr val="6e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187000" y="3332160"/>
            <a:ext cx="119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 e= a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248520" y="3747960"/>
            <a:ext cx="0" cy="658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923080" y="4551480"/>
            <a:ext cx="71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4734000" y="5172120"/>
                <a:ext cx="4330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f>
                      <m:num>
                        <m:r>
                          <m:t xml:space="preserve">de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⇒</m:t>
                    </m:r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07" name=""/>
          <p:cNvSpPr/>
          <p:nvPr/>
        </p:nvSpPr>
        <p:spPr>
          <a:xfrm>
            <a:off x="816480" y="5008680"/>
            <a:ext cx="3566160" cy="160236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tiempo que tarda 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cción derivativa en igua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la acción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 e= a.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533000" y="2722680"/>
            <a:ext cx="669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Métodos de sintonía de PID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c0128"/>
                </a:solidFill>
                <a:latin typeface="Times New Roman"/>
              </a:rPr>
              <a:t>Métodos de prueba y err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c0128"/>
                </a:solidFill>
                <a:latin typeface="Times New Roman"/>
              </a:rPr>
              <a:t>Métodos basados en experi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r ciertas características dinámicas del proceso con un exper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álcular los parámetros del regulador mediante tablas o fórmulas deducidas en función de las características dinámicas estim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c0128"/>
                </a:solidFill>
                <a:latin typeface="Times New Roman"/>
              </a:rPr>
              <a:t>Métodos analíticos basados en mode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inimización de indices de 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árgenes de Fase y/o gana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Operación automátic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54440" y="2444760"/>
            <a:ext cx="2273400" cy="13590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69040" y="2901960"/>
            <a:ext cx="1739880" cy="368280"/>
          </a:xfrm>
          <a:prstGeom prst="rightArrow">
            <a:avLst>
              <a:gd name="adj1" fmla="val 50000"/>
              <a:gd name="adj2" fmla="val 236239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54240" y="2978280"/>
            <a:ext cx="1435320" cy="368280"/>
          </a:xfrm>
          <a:prstGeom prst="rightArrow">
            <a:avLst>
              <a:gd name="adj1" fmla="val 50000"/>
              <a:gd name="adj2" fmla="val 194886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66720" y="295740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38160" y="3414600"/>
            <a:ext cx="92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2640" y="3490920"/>
            <a:ext cx="101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u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0000" y="2271600"/>
            <a:ext cx="1266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b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99720" y="2195640"/>
            <a:ext cx="153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pue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25440" y="2749680"/>
            <a:ext cx="1587600" cy="7491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5080" y="2901960"/>
            <a:ext cx="825480" cy="444600"/>
          </a:xfrm>
          <a:prstGeom prst="rightArrow">
            <a:avLst>
              <a:gd name="adj1" fmla="val 50000"/>
              <a:gd name="adj2" fmla="val 92843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rot="16200000">
            <a:off x="7320240" y="3663720"/>
            <a:ext cx="977760" cy="368280"/>
          </a:xfrm>
          <a:prstGeom prst="rightArrow">
            <a:avLst>
              <a:gd name="adj1" fmla="val 50000"/>
              <a:gd name="adj2" fmla="val 132759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63880" y="4343400"/>
            <a:ext cx="5784840" cy="1461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793880" y="3933360"/>
            <a:ext cx="755640" cy="368280"/>
          </a:xfrm>
          <a:prstGeom prst="rightArrow">
            <a:avLst>
              <a:gd name="adj1" fmla="val 50000"/>
              <a:gd name="adj2" fmla="val 102599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79800" y="2957400"/>
            <a:ext cx="145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560" y="3719520"/>
            <a:ext cx="1350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o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e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64040" y="5153040"/>
            <a:ext cx="4476240" cy="5763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ción en lazo cerr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ueba y Error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800600" y="1920960"/>
            <a:ext cx="0" cy="1647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587840" y="3352680"/>
            <a:ext cx="324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027760" y="2517840"/>
            <a:ext cx="1452240" cy="838080"/>
          </a:xfrm>
          <a:custGeom>
            <a:avLst/>
            <a:gdLst/>
            <a:ahLst/>
            <a:rect l="l" t="t" r="r" b="b"/>
            <a:pathLst>
              <a:path w="915" h="528">
                <a:moveTo>
                  <a:pt x="0" y="527"/>
                </a:moveTo>
                <a:lnTo>
                  <a:pt x="52" y="415"/>
                </a:lnTo>
                <a:lnTo>
                  <a:pt x="72" y="361"/>
                </a:lnTo>
                <a:lnTo>
                  <a:pt x="91" y="314"/>
                </a:lnTo>
                <a:lnTo>
                  <a:pt x="104" y="270"/>
                </a:lnTo>
                <a:lnTo>
                  <a:pt x="111" y="229"/>
                </a:lnTo>
                <a:lnTo>
                  <a:pt x="111" y="189"/>
                </a:lnTo>
                <a:lnTo>
                  <a:pt x="124" y="155"/>
                </a:lnTo>
                <a:lnTo>
                  <a:pt x="137" y="125"/>
                </a:lnTo>
                <a:lnTo>
                  <a:pt x="150" y="98"/>
                </a:lnTo>
                <a:lnTo>
                  <a:pt x="183" y="50"/>
                </a:lnTo>
                <a:lnTo>
                  <a:pt x="202" y="30"/>
                </a:lnTo>
                <a:lnTo>
                  <a:pt x="228" y="16"/>
                </a:lnTo>
                <a:lnTo>
                  <a:pt x="248" y="3"/>
                </a:lnTo>
                <a:lnTo>
                  <a:pt x="274" y="0"/>
                </a:lnTo>
                <a:lnTo>
                  <a:pt x="287" y="3"/>
                </a:lnTo>
                <a:lnTo>
                  <a:pt x="300" y="6"/>
                </a:lnTo>
                <a:lnTo>
                  <a:pt x="333" y="23"/>
                </a:lnTo>
                <a:lnTo>
                  <a:pt x="366" y="40"/>
                </a:lnTo>
                <a:lnTo>
                  <a:pt x="385" y="47"/>
                </a:lnTo>
                <a:lnTo>
                  <a:pt x="398" y="50"/>
                </a:lnTo>
                <a:lnTo>
                  <a:pt x="424" y="54"/>
                </a:lnTo>
                <a:lnTo>
                  <a:pt x="457" y="54"/>
                </a:lnTo>
                <a:lnTo>
                  <a:pt x="483" y="50"/>
                </a:lnTo>
                <a:lnTo>
                  <a:pt x="516" y="50"/>
                </a:lnTo>
                <a:lnTo>
                  <a:pt x="555" y="50"/>
                </a:lnTo>
                <a:lnTo>
                  <a:pt x="594" y="50"/>
                </a:lnTo>
                <a:lnTo>
                  <a:pt x="633" y="50"/>
                </a:lnTo>
                <a:lnTo>
                  <a:pt x="672" y="50"/>
                </a:lnTo>
                <a:lnTo>
                  <a:pt x="699" y="50"/>
                </a:lnTo>
                <a:lnTo>
                  <a:pt x="718" y="50"/>
                </a:lnTo>
                <a:lnTo>
                  <a:pt x="738" y="50"/>
                </a:lnTo>
                <a:lnTo>
                  <a:pt x="764" y="50"/>
                </a:lnTo>
                <a:lnTo>
                  <a:pt x="803" y="50"/>
                </a:lnTo>
                <a:lnTo>
                  <a:pt x="842" y="50"/>
                </a:lnTo>
                <a:lnTo>
                  <a:pt x="888" y="50"/>
                </a:lnTo>
                <a:lnTo>
                  <a:pt x="914" y="5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816440" y="2209680"/>
            <a:ext cx="30956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914400" y="1920960"/>
            <a:ext cx="0" cy="1647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01640" y="3352680"/>
            <a:ext cx="324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141560" y="2592360"/>
            <a:ext cx="2290680" cy="763560"/>
          </a:xfrm>
          <a:custGeom>
            <a:avLst/>
            <a:gdLst/>
            <a:ahLst/>
            <a:rect l="l" t="t" r="r" b="b"/>
            <a:pathLst>
              <a:path w="1443" h="481">
                <a:moveTo>
                  <a:pt x="0" y="480"/>
                </a:moveTo>
                <a:lnTo>
                  <a:pt x="42" y="429"/>
                </a:lnTo>
                <a:lnTo>
                  <a:pt x="83" y="379"/>
                </a:lnTo>
                <a:lnTo>
                  <a:pt x="118" y="331"/>
                </a:lnTo>
                <a:lnTo>
                  <a:pt x="145" y="287"/>
                </a:lnTo>
                <a:lnTo>
                  <a:pt x="156" y="267"/>
                </a:lnTo>
                <a:lnTo>
                  <a:pt x="163" y="247"/>
                </a:lnTo>
                <a:lnTo>
                  <a:pt x="173" y="210"/>
                </a:lnTo>
                <a:lnTo>
                  <a:pt x="180" y="172"/>
                </a:lnTo>
                <a:lnTo>
                  <a:pt x="194" y="142"/>
                </a:lnTo>
                <a:lnTo>
                  <a:pt x="215" y="115"/>
                </a:lnTo>
                <a:lnTo>
                  <a:pt x="235" y="88"/>
                </a:lnTo>
                <a:lnTo>
                  <a:pt x="263" y="68"/>
                </a:lnTo>
                <a:lnTo>
                  <a:pt x="291" y="47"/>
                </a:lnTo>
                <a:lnTo>
                  <a:pt x="322" y="30"/>
                </a:lnTo>
                <a:lnTo>
                  <a:pt x="356" y="13"/>
                </a:lnTo>
                <a:lnTo>
                  <a:pt x="391" y="3"/>
                </a:lnTo>
                <a:lnTo>
                  <a:pt x="432" y="0"/>
                </a:lnTo>
                <a:lnTo>
                  <a:pt x="453" y="3"/>
                </a:lnTo>
                <a:lnTo>
                  <a:pt x="477" y="7"/>
                </a:lnTo>
                <a:lnTo>
                  <a:pt x="526" y="20"/>
                </a:lnTo>
                <a:lnTo>
                  <a:pt x="578" y="37"/>
                </a:lnTo>
                <a:lnTo>
                  <a:pt x="626" y="47"/>
                </a:lnTo>
                <a:lnTo>
                  <a:pt x="671" y="51"/>
                </a:lnTo>
                <a:lnTo>
                  <a:pt x="716" y="51"/>
                </a:lnTo>
                <a:lnTo>
                  <a:pt x="764" y="47"/>
                </a:lnTo>
                <a:lnTo>
                  <a:pt x="816" y="47"/>
                </a:lnTo>
                <a:lnTo>
                  <a:pt x="875" y="47"/>
                </a:lnTo>
                <a:lnTo>
                  <a:pt x="941" y="47"/>
                </a:lnTo>
                <a:lnTo>
                  <a:pt x="1003" y="47"/>
                </a:lnTo>
                <a:lnTo>
                  <a:pt x="1031" y="47"/>
                </a:lnTo>
                <a:lnTo>
                  <a:pt x="1058" y="47"/>
                </a:lnTo>
                <a:lnTo>
                  <a:pt x="1079" y="47"/>
                </a:lnTo>
                <a:lnTo>
                  <a:pt x="1100" y="47"/>
                </a:lnTo>
                <a:lnTo>
                  <a:pt x="1131" y="47"/>
                </a:lnTo>
                <a:lnTo>
                  <a:pt x="1162" y="47"/>
                </a:lnTo>
                <a:lnTo>
                  <a:pt x="1179" y="47"/>
                </a:lnTo>
                <a:lnTo>
                  <a:pt x="1200" y="47"/>
                </a:lnTo>
                <a:lnTo>
                  <a:pt x="1228" y="47"/>
                </a:lnTo>
                <a:lnTo>
                  <a:pt x="1259" y="47"/>
                </a:lnTo>
                <a:lnTo>
                  <a:pt x="1331" y="47"/>
                </a:lnTo>
                <a:lnTo>
                  <a:pt x="1366" y="47"/>
                </a:lnTo>
                <a:lnTo>
                  <a:pt x="1397" y="47"/>
                </a:lnTo>
                <a:lnTo>
                  <a:pt x="1421" y="47"/>
                </a:lnTo>
                <a:lnTo>
                  <a:pt x="1442" y="47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930240" y="2209680"/>
            <a:ext cx="30956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914400" y="4206960"/>
            <a:ext cx="0" cy="1647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01640" y="5638680"/>
            <a:ext cx="324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143000" y="4340160"/>
            <a:ext cx="2060640" cy="1301760"/>
          </a:xfrm>
          <a:custGeom>
            <a:avLst/>
            <a:gdLst/>
            <a:ahLst/>
            <a:rect l="l" t="t" r="r" b="b"/>
            <a:pathLst>
              <a:path w="1298" h="820">
                <a:moveTo>
                  <a:pt x="0" y="819"/>
                </a:moveTo>
                <a:lnTo>
                  <a:pt x="38" y="734"/>
                </a:lnTo>
                <a:lnTo>
                  <a:pt x="74" y="648"/>
                </a:lnTo>
                <a:lnTo>
                  <a:pt x="103" y="563"/>
                </a:lnTo>
                <a:lnTo>
                  <a:pt x="129" y="489"/>
                </a:lnTo>
                <a:lnTo>
                  <a:pt x="138" y="455"/>
                </a:lnTo>
                <a:lnTo>
                  <a:pt x="145" y="421"/>
                </a:lnTo>
                <a:lnTo>
                  <a:pt x="155" y="359"/>
                </a:lnTo>
                <a:lnTo>
                  <a:pt x="161" y="302"/>
                </a:lnTo>
                <a:lnTo>
                  <a:pt x="174" y="245"/>
                </a:lnTo>
                <a:lnTo>
                  <a:pt x="190" y="199"/>
                </a:lnTo>
                <a:lnTo>
                  <a:pt x="209" y="154"/>
                </a:lnTo>
                <a:lnTo>
                  <a:pt x="258" y="86"/>
                </a:lnTo>
                <a:lnTo>
                  <a:pt x="287" y="52"/>
                </a:lnTo>
                <a:lnTo>
                  <a:pt x="319" y="29"/>
                </a:lnTo>
                <a:lnTo>
                  <a:pt x="355" y="6"/>
                </a:lnTo>
                <a:lnTo>
                  <a:pt x="390" y="0"/>
                </a:lnTo>
                <a:lnTo>
                  <a:pt x="410" y="6"/>
                </a:lnTo>
                <a:lnTo>
                  <a:pt x="429" y="12"/>
                </a:lnTo>
                <a:lnTo>
                  <a:pt x="471" y="34"/>
                </a:lnTo>
                <a:lnTo>
                  <a:pt x="516" y="63"/>
                </a:lnTo>
                <a:lnTo>
                  <a:pt x="561" y="86"/>
                </a:lnTo>
                <a:lnTo>
                  <a:pt x="603" y="91"/>
                </a:lnTo>
                <a:lnTo>
                  <a:pt x="645" y="91"/>
                </a:lnTo>
                <a:lnTo>
                  <a:pt x="690" y="86"/>
                </a:lnTo>
                <a:lnTo>
                  <a:pt x="735" y="86"/>
                </a:lnTo>
                <a:lnTo>
                  <a:pt x="787" y="86"/>
                </a:lnTo>
                <a:lnTo>
                  <a:pt x="845" y="86"/>
                </a:lnTo>
                <a:lnTo>
                  <a:pt x="900" y="86"/>
                </a:lnTo>
                <a:lnTo>
                  <a:pt x="926" y="86"/>
                </a:lnTo>
                <a:lnTo>
                  <a:pt x="948" y="86"/>
                </a:lnTo>
                <a:lnTo>
                  <a:pt x="968" y="86"/>
                </a:lnTo>
                <a:lnTo>
                  <a:pt x="987" y="86"/>
                </a:lnTo>
                <a:lnTo>
                  <a:pt x="1016" y="86"/>
                </a:lnTo>
                <a:lnTo>
                  <a:pt x="1045" y="86"/>
                </a:lnTo>
                <a:lnTo>
                  <a:pt x="1061" y="86"/>
                </a:lnTo>
                <a:lnTo>
                  <a:pt x="1081" y="86"/>
                </a:lnTo>
                <a:lnTo>
                  <a:pt x="1107" y="86"/>
                </a:lnTo>
                <a:lnTo>
                  <a:pt x="1136" y="86"/>
                </a:lnTo>
                <a:lnTo>
                  <a:pt x="1197" y="86"/>
                </a:lnTo>
                <a:lnTo>
                  <a:pt x="1229" y="86"/>
                </a:lnTo>
                <a:lnTo>
                  <a:pt x="1255" y="86"/>
                </a:lnTo>
                <a:lnTo>
                  <a:pt x="1281" y="86"/>
                </a:lnTo>
                <a:lnTo>
                  <a:pt x="1297" y="8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930240" y="4495680"/>
            <a:ext cx="30956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802040" y="3963960"/>
            <a:ext cx="3730680" cy="28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rtir de valores bajos de K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y sin acción integral o deriv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umentar K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asta obtener una forma de respuesta aceptable sin excesivos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umentar ligeramente T</a:t>
            </a:r>
            <a:r>
              <a:rPr b="0" lang="es-ES_tradnl" sz="1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para mejorar la respue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isminuir T</a:t>
            </a:r>
            <a:r>
              <a:rPr b="0" lang="es-ES_tradnl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hasta eliminar el error estaciona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068480" y="3430440"/>
            <a:ext cx="28162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 Aumentar K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259240" y="3430440"/>
            <a:ext cx="25876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 Aumentar T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068480" y="5716440"/>
            <a:ext cx="2282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Disminuir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82680" y="1982880"/>
            <a:ext cx="37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344840" y="1982880"/>
            <a:ext cx="378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82680" y="4268880"/>
            <a:ext cx="37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592360" y="183024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554880" y="183024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201840" y="411624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Respuesta dinámic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416560" y="2139840"/>
            <a:ext cx="1739880" cy="1739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355000" y="2195640"/>
            <a:ext cx="16063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ón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645160" y="4578480"/>
            <a:ext cx="596880" cy="59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699160" y="4708440"/>
            <a:ext cx="55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473960" y="4197240"/>
            <a:ext cx="4446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696080" y="46544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7461360" y="5111640"/>
            <a:ext cx="241200" cy="29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702560" y="5111640"/>
            <a:ext cx="139680" cy="29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473960" y="4724280"/>
            <a:ext cx="520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7080120" y="4730760"/>
            <a:ext cx="393840" cy="291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7918200" y="4730760"/>
            <a:ext cx="8892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772400" y="4343400"/>
            <a:ext cx="7632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0" y="48"/>
                </a:moveTo>
                <a:lnTo>
                  <a:pt x="47" y="24"/>
                </a:lnTo>
                <a:lnTo>
                  <a:pt x="0" y="0"/>
                </a:lnTo>
                <a:lnTo>
                  <a:pt x="0" y="48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615080" y="4495680"/>
            <a:ext cx="95400" cy="119160"/>
          </a:xfrm>
          <a:custGeom>
            <a:avLst/>
            <a:gdLst/>
            <a:ahLst/>
            <a:rect l="l" t="t" r="r" b="b"/>
            <a:pathLst>
              <a:path w="60" h="75">
                <a:moveTo>
                  <a:pt x="3" y="0"/>
                </a:moveTo>
                <a:lnTo>
                  <a:pt x="0" y="45"/>
                </a:lnTo>
                <a:lnTo>
                  <a:pt x="59" y="7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475400" y="4343400"/>
            <a:ext cx="141480" cy="133200"/>
          </a:xfrm>
          <a:custGeom>
            <a:avLst/>
            <a:gdLst/>
            <a:ahLst/>
            <a:rect l="l" t="t" r="r" b="b"/>
            <a:pathLst>
              <a:path w="89" h="84">
                <a:moveTo>
                  <a:pt x="43" y="0"/>
                </a:moveTo>
                <a:lnTo>
                  <a:pt x="0" y="53"/>
                </a:lnTo>
                <a:lnTo>
                  <a:pt x="59" y="83"/>
                </a:lnTo>
                <a:lnTo>
                  <a:pt x="88" y="24"/>
                </a:lnTo>
                <a:lnTo>
                  <a:pt x="43" y="0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283360" y="4876920"/>
            <a:ext cx="330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352680" y="4280040"/>
            <a:ext cx="0" cy="149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 flipV="1">
            <a:off x="5784840" y="4718160"/>
            <a:ext cx="241200" cy="2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352680" y="4572000"/>
            <a:ext cx="1905120" cy="1219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5257800" y="43434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352680" y="579132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181480" y="5638680"/>
            <a:ext cx="1524240" cy="76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705720" y="55627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6705720" y="5562360"/>
            <a:ext cx="3808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705720" y="5562720"/>
            <a:ext cx="3808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086600" y="55627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086600" y="5638680"/>
            <a:ext cx="1523880" cy="76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6892920" y="540972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705720" y="541008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514600" y="3429000"/>
            <a:ext cx="1523880" cy="76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962520" y="3429000"/>
            <a:ext cx="75960" cy="5335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962520" y="4038480"/>
            <a:ext cx="75960" cy="1526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62520" y="4267080"/>
            <a:ext cx="75960" cy="1526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00800" y="6400800"/>
            <a:ext cx="53352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6934320" y="6095520"/>
            <a:ext cx="0" cy="30492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934320" y="6095880"/>
            <a:ext cx="76176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33520" y="380988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04920" y="5029200"/>
            <a:ext cx="2361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752480" y="5181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33520" y="3429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49360" y="4267080"/>
            <a:ext cx="1461960" cy="366840"/>
          </a:xfrm>
          <a:custGeom>
            <a:avLst/>
            <a:gdLst/>
            <a:ahLst/>
            <a:rect l="l" t="t" r="r" b="b"/>
            <a:pathLst>
              <a:path w="921" h="231">
                <a:moveTo>
                  <a:pt x="0" y="221"/>
                </a:moveTo>
                <a:cubicBezTo>
                  <a:pt x="90" y="226"/>
                  <a:pt x="181" y="231"/>
                  <a:pt x="240" y="221"/>
                </a:cubicBezTo>
                <a:cubicBezTo>
                  <a:pt x="299" y="211"/>
                  <a:pt x="312" y="190"/>
                  <a:pt x="355" y="163"/>
                </a:cubicBezTo>
                <a:cubicBezTo>
                  <a:pt x="398" y="136"/>
                  <a:pt x="448" y="84"/>
                  <a:pt x="499" y="58"/>
                </a:cubicBezTo>
                <a:cubicBezTo>
                  <a:pt x="550" y="32"/>
                  <a:pt x="606" y="18"/>
                  <a:pt x="662" y="10"/>
                </a:cubicBezTo>
                <a:cubicBezTo>
                  <a:pt x="718" y="2"/>
                  <a:pt x="792" y="12"/>
                  <a:pt x="835" y="10"/>
                </a:cubicBezTo>
                <a:cubicBezTo>
                  <a:pt x="878" y="8"/>
                  <a:pt x="907" y="2"/>
                  <a:pt x="921" y="0"/>
                </a:cubicBez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Respuesta dinámic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490920" y="2597040"/>
            <a:ext cx="2273400" cy="13590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815080" y="3168720"/>
            <a:ext cx="1206360" cy="368280"/>
          </a:xfrm>
          <a:prstGeom prst="rightArrow">
            <a:avLst>
              <a:gd name="adj1" fmla="val 50000"/>
              <a:gd name="adj2" fmla="val 163798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347920" y="3206880"/>
            <a:ext cx="1054080" cy="368280"/>
          </a:xfrm>
          <a:prstGeom prst="rightArrow">
            <a:avLst>
              <a:gd name="adj1" fmla="val 50000"/>
              <a:gd name="adj2" fmla="val 143122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002840" y="307188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71400" y="3333600"/>
            <a:ext cx="36828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1046160" y="2717640"/>
            <a:ext cx="0" cy="60336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052640" y="2724120"/>
            <a:ext cx="86364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60800" y="2138400"/>
            <a:ext cx="672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36680" y="2463840"/>
            <a:ext cx="0" cy="151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28680" y="3828960"/>
            <a:ext cx="1778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486800" y="3852720"/>
            <a:ext cx="103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256520" y="2654280"/>
            <a:ext cx="0" cy="135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110360" y="3828960"/>
            <a:ext cx="1778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318800" y="2290680"/>
            <a:ext cx="603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116200" y="3852720"/>
            <a:ext cx="103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332840" y="2990880"/>
            <a:ext cx="1715760" cy="534960"/>
          </a:xfrm>
          <a:custGeom>
            <a:avLst/>
            <a:gdLst/>
            <a:ahLst/>
            <a:rect l="l" t="t" r="r" b="b"/>
            <a:pathLst>
              <a:path w="1081" h="337">
                <a:moveTo>
                  <a:pt x="0" y="336"/>
                </a:moveTo>
                <a:lnTo>
                  <a:pt x="48" y="336"/>
                </a:lnTo>
                <a:lnTo>
                  <a:pt x="96" y="312"/>
                </a:lnTo>
                <a:lnTo>
                  <a:pt x="144" y="312"/>
                </a:lnTo>
                <a:lnTo>
                  <a:pt x="192" y="312"/>
                </a:lnTo>
                <a:lnTo>
                  <a:pt x="240" y="288"/>
                </a:lnTo>
                <a:lnTo>
                  <a:pt x="288" y="312"/>
                </a:lnTo>
                <a:lnTo>
                  <a:pt x="336" y="288"/>
                </a:lnTo>
                <a:lnTo>
                  <a:pt x="384" y="288"/>
                </a:lnTo>
                <a:lnTo>
                  <a:pt x="432" y="288"/>
                </a:lnTo>
                <a:lnTo>
                  <a:pt x="480" y="288"/>
                </a:lnTo>
                <a:lnTo>
                  <a:pt x="528" y="264"/>
                </a:lnTo>
                <a:lnTo>
                  <a:pt x="552" y="216"/>
                </a:lnTo>
                <a:lnTo>
                  <a:pt x="600" y="192"/>
                </a:lnTo>
                <a:lnTo>
                  <a:pt x="624" y="144"/>
                </a:lnTo>
                <a:lnTo>
                  <a:pt x="648" y="96"/>
                </a:lnTo>
                <a:lnTo>
                  <a:pt x="696" y="72"/>
                </a:lnTo>
                <a:lnTo>
                  <a:pt x="744" y="24"/>
                </a:lnTo>
                <a:lnTo>
                  <a:pt x="792" y="24"/>
                </a:lnTo>
                <a:lnTo>
                  <a:pt x="840" y="24"/>
                </a:lnTo>
                <a:lnTo>
                  <a:pt x="888" y="24"/>
                </a:lnTo>
                <a:lnTo>
                  <a:pt x="936" y="0"/>
                </a:lnTo>
                <a:lnTo>
                  <a:pt x="984" y="0"/>
                </a:lnTo>
                <a:lnTo>
                  <a:pt x="1032" y="0"/>
                </a:lnTo>
                <a:lnTo>
                  <a:pt x="1080" y="24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847160" y="4767120"/>
            <a:ext cx="2739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men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o matemá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Respuesta dinámic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564160" y="2481120"/>
            <a:ext cx="1708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cion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101600" y="2387520"/>
            <a:ext cx="0" cy="3119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54120" y="5272200"/>
            <a:ext cx="5502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108080" y="4935600"/>
            <a:ext cx="89532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2009880" y="4543560"/>
            <a:ext cx="0" cy="39816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016000" y="4549680"/>
            <a:ext cx="4130640" cy="32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101600" y="2908440"/>
            <a:ext cx="3780000" cy="871560"/>
          </a:xfrm>
          <a:custGeom>
            <a:avLst/>
            <a:gdLst/>
            <a:ahLst/>
            <a:rect l="l" t="t" r="r" b="b"/>
            <a:pathLst>
              <a:path w="2698" h="395">
                <a:moveTo>
                  <a:pt x="0" y="394"/>
                </a:moveTo>
                <a:lnTo>
                  <a:pt x="82" y="394"/>
                </a:lnTo>
                <a:lnTo>
                  <a:pt x="163" y="394"/>
                </a:lnTo>
                <a:lnTo>
                  <a:pt x="245" y="394"/>
                </a:lnTo>
                <a:lnTo>
                  <a:pt x="327" y="394"/>
                </a:lnTo>
                <a:lnTo>
                  <a:pt x="409" y="394"/>
                </a:lnTo>
                <a:lnTo>
                  <a:pt x="490" y="394"/>
                </a:lnTo>
                <a:lnTo>
                  <a:pt x="572" y="394"/>
                </a:lnTo>
                <a:lnTo>
                  <a:pt x="654" y="364"/>
                </a:lnTo>
                <a:lnTo>
                  <a:pt x="695" y="303"/>
                </a:lnTo>
                <a:lnTo>
                  <a:pt x="776" y="273"/>
                </a:lnTo>
                <a:lnTo>
                  <a:pt x="858" y="242"/>
                </a:lnTo>
                <a:lnTo>
                  <a:pt x="899" y="182"/>
                </a:lnTo>
                <a:lnTo>
                  <a:pt x="981" y="152"/>
                </a:lnTo>
                <a:lnTo>
                  <a:pt x="1022" y="91"/>
                </a:lnTo>
                <a:lnTo>
                  <a:pt x="1103" y="30"/>
                </a:lnTo>
                <a:lnTo>
                  <a:pt x="1185" y="30"/>
                </a:lnTo>
                <a:lnTo>
                  <a:pt x="1267" y="0"/>
                </a:lnTo>
                <a:lnTo>
                  <a:pt x="1349" y="30"/>
                </a:lnTo>
                <a:lnTo>
                  <a:pt x="1430" y="61"/>
                </a:lnTo>
                <a:lnTo>
                  <a:pt x="1471" y="121"/>
                </a:lnTo>
                <a:lnTo>
                  <a:pt x="1553" y="121"/>
                </a:lnTo>
                <a:lnTo>
                  <a:pt x="1635" y="121"/>
                </a:lnTo>
                <a:lnTo>
                  <a:pt x="1716" y="91"/>
                </a:lnTo>
                <a:lnTo>
                  <a:pt x="1757" y="30"/>
                </a:lnTo>
                <a:lnTo>
                  <a:pt x="1839" y="30"/>
                </a:lnTo>
                <a:lnTo>
                  <a:pt x="1921" y="30"/>
                </a:lnTo>
                <a:lnTo>
                  <a:pt x="2002" y="61"/>
                </a:lnTo>
                <a:lnTo>
                  <a:pt x="2084" y="91"/>
                </a:lnTo>
                <a:lnTo>
                  <a:pt x="2166" y="91"/>
                </a:lnTo>
                <a:lnTo>
                  <a:pt x="2207" y="30"/>
                </a:lnTo>
                <a:lnTo>
                  <a:pt x="2288" y="61"/>
                </a:lnTo>
                <a:lnTo>
                  <a:pt x="2370" y="91"/>
                </a:lnTo>
                <a:lnTo>
                  <a:pt x="2452" y="91"/>
                </a:lnTo>
                <a:lnTo>
                  <a:pt x="2534" y="91"/>
                </a:lnTo>
                <a:lnTo>
                  <a:pt x="2615" y="121"/>
                </a:lnTo>
                <a:lnTo>
                  <a:pt x="2697" y="9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577760" y="5457960"/>
            <a:ext cx="103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254480" y="45435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254480" y="3338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892760" y="3112920"/>
            <a:ext cx="2651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630880" y="2481120"/>
            <a:ext cx="153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ito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2070000" y="2724120"/>
            <a:ext cx="432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4216320" y="2709720"/>
            <a:ext cx="628560" cy="14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 flipV="1">
            <a:off x="4927320" y="2709720"/>
            <a:ext cx="584280" cy="14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340760" y="2724120"/>
            <a:ext cx="7873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Tipos de proceso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393920" y="2214720"/>
            <a:ext cx="1978200" cy="4546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utoregul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355720" y="2214720"/>
            <a:ext cx="2342520" cy="8204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autoregul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 Integ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838080" y="3301920"/>
            <a:ext cx="0" cy="246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77800" y="5581800"/>
            <a:ext cx="322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844560" y="5315040"/>
            <a:ext cx="52056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1371600" y="5003640"/>
            <a:ext cx="0" cy="31752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378080" y="5010120"/>
            <a:ext cx="173988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838080" y="3905280"/>
            <a:ext cx="2516400" cy="496800"/>
          </a:xfrm>
          <a:custGeom>
            <a:avLst/>
            <a:gdLst/>
            <a:ahLst/>
            <a:rect l="l" t="t" r="r" b="b"/>
            <a:pathLst>
              <a:path w="1585" h="313">
                <a:moveTo>
                  <a:pt x="0" y="312"/>
                </a:moveTo>
                <a:lnTo>
                  <a:pt x="48" y="312"/>
                </a:lnTo>
                <a:lnTo>
                  <a:pt x="96" y="312"/>
                </a:lnTo>
                <a:lnTo>
                  <a:pt x="144" y="312"/>
                </a:lnTo>
                <a:lnTo>
                  <a:pt x="192" y="312"/>
                </a:lnTo>
                <a:lnTo>
                  <a:pt x="240" y="312"/>
                </a:lnTo>
                <a:lnTo>
                  <a:pt x="288" y="312"/>
                </a:lnTo>
                <a:lnTo>
                  <a:pt x="336" y="312"/>
                </a:lnTo>
                <a:lnTo>
                  <a:pt x="384" y="288"/>
                </a:lnTo>
                <a:lnTo>
                  <a:pt x="408" y="240"/>
                </a:lnTo>
                <a:lnTo>
                  <a:pt x="456" y="216"/>
                </a:lnTo>
                <a:lnTo>
                  <a:pt x="504" y="192"/>
                </a:lnTo>
                <a:lnTo>
                  <a:pt x="528" y="144"/>
                </a:lnTo>
                <a:lnTo>
                  <a:pt x="576" y="120"/>
                </a:lnTo>
                <a:lnTo>
                  <a:pt x="600" y="72"/>
                </a:lnTo>
                <a:lnTo>
                  <a:pt x="648" y="24"/>
                </a:lnTo>
                <a:lnTo>
                  <a:pt x="696" y="24"/>
                </a:lnTo>
                <a:lnTo>
                  <a:pt x="744" y="0"/>
                </a:lnTo>
                <a:lnTo>
                  <a:pt x="792" y="24"/>
                </a:lnTo>
                <a:lnTo>
                  <a:pt x="840" y="48"/>
                </a:lnTo>
                <a:lnTo>
                  <a:pt x="864" y="96"/>
                </a:lnTo>
                <a:lnTo>
                  <a:pt x="912" y="96"/>
                </a:lnTo>
                <a:lnTo>
                  <a:pt x="960" y="96"/>
                </a:lnTo>
                <a:lnTo>
                  <a:pt x="1008" y="72"/>
                </a:lnTo>
                <a:lnTo>
                  <a:pt x="1032" y="24"/>
                </a:lnTo>
                <a:lnTo>
                  <a:pt x="1080" y="24"/>
                </a:lnTo>
                <a:lnTo>
                  <a:pt x="1128" y="24"/>
                </a:lnTo>
                <a:lnTo>
                  <a:pt x="1176" y="48"/>
                </a:lnTo>
                <a:lnTo>
                  <a:pt x="1224" y="72"/>
                </a:lnTo>
                <a:lnTo>
                  <a:pt x="1272" y="72"/>
                </a:lnTo>
                <a:lnTo>
                  <a:pt x="1296" y="24"/>
                </a:lnTo>
                <a:lnTo>
                  <a:pt x="1344" y="48"/>
                </a:lnTo>
                <a:lnTo>
                  <a:pt x="1392" y="72"/>
                </a:lnTo>
                <a:lnTo>
                  <a:pt x="1440" y="72"/>
                </a:lnTo>
                <a:lnTo>
                  <a:pt x="1488" y="72"/>
                </a:lnTo>
                <a:lnTo>
                  <a:pt x="1536" y="96"/>
                </a:lnTo>
                <a:lnTo>
                  <a:pt x="1584" y="7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840760" y="5719680"/>
            <a:ext cx="103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652840" y="49957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652840" y="40435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952880" y="3301920"/>
            <a:ext cx="0" cy="246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692600" y="5581800"/>
            <a:ext cx="322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959360" y="5315040"/>
            <a:ext cx="52056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5486400" y="5003640"/>
            <a:ext cx="0" cy="31752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92880" y="5010120"/>
            <a:ext cx="173988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955560" y="5719680"/>
            <a:ext cx="103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767640" y="49957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767640" y="40435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971960" y="3191040"/>
            <a:ext cx="2724120" cy="1096920"/>
          </a:xfrm>
          <a:custGeom>
            <a:avLst/>
            <a:gdLst/>
            <a:ahLst/>
            <a:rect l="l" t="t" r="r" b="b"/>
            <a:pathLst>
              <a:path w="1441" h="553">
                <a:moveTo>
                  <a:pt x="0" y="528"/>
                </a:moveTo>
                <a:lnTo>
                  <a:pt x="48" y="528"/>
                </a:lnTo>
                <a:lnTo>
                  <a:pt x="96" y="528"/>
                </a:lnTo>
                <a:lnTo>
                  <a:pt x="144" y="528"/>
                </a:lnTo>
                <a:lnTo>
                  <a:pt x="192" y="528"/>
                </a:lnTo>
                <a:lnTo>
                  <a:pt x="240" y="552"/>
                </a:lnTo>
                <a:lnTo>
                  <a:pt x="288" y="552"/>
                </a:lnTo>
                <a:lnTo>
                  <a:pt x="336" y="552"/>
                </a:lnTo>
                <a:lnTo>
                  <a:pt x="384" y="552"/>
                </a:lnTo>
                <a:lnTo>
                  <a:pt x="432" y="528"/>
                </a:lnTo>
                <a:lnTo>
                  <a:pt x="480" y="504"/>
                </a:lnTo>
                <a:lnTo>
                  <a:pt x="528" y="504"/>
                </a:lnTo>
                <a:lnTo>
                  <a:pt x="576" y="480"/>
                </a:lnTo>
                <a:lnTo>
                  <a:pt x="624" y="432"/>
                </a:lnTo>
                <a:lnTo>
                  <a:pt x="672" y="408"/>
                </a:lnTo>
                <a:lnTo>
                  <a:pt x="720" y="384"/>
                </a:lnTo>
                <a:lnTo>
                  <a:pt x="768" y="360"/>
                </a:lnTo>
                <a:lnTo>
                  <a:pt x="792" y="312"/>
                </a:lnTo>
                <a:lnTo>
                  <a:pt x="840" y="288"/>
                </a:lnTo>
                <a:lnTo>
                  <a:pt x="888" y="264"/>
                </a:lnTo>
                <a:lnTo>
                  <a:pt x="936" y="240"/>
                </a:lnTo>
                <a:lnTo>
                  <a:pt x="984" y="216"/>
                </a:lnTo>
                <a:lnTo>
                  <a:pt x="1032" y="192"/>
                </a:lnTo>
                <a:lnTo>
                  <a:pt x="1080" y="168"/>
                </a:lnTo>
                <a:lnTo>
                  <a:pt x="1128" y="120"/>
                </a:lnTo>
                <a:lnTo>
                  <a:pt x="1176" y="96"/>
                </a:lnTo>
                <a:lnTo>
                  <a:pt x="1224" y="72"/>
                </a:lnTo>
                <a:lnTo>
                  <a:pt x="1248" y="24"/>
                </a:lnTo>
                <a:lnTo>
                  <a:pt x="1296" y="48"/>
                </a:lnTo>
                <a:lnTo>
                  <a:pt x="1344" y="24"/>
                </a:lnTo>
                <a:lnTo>
                  <a:pt x="1392" y="0"/>
                </a:lnTo>
                <a:lnTo>
                  <a:pt x="1440" y="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Tipos de proceso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1392120" y="2214720"/>
            <a:ext cx="1751040" cy="4546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se mín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354640" y="2214720"/>
            <a:ext cx="2505600" cy="8204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se no-mín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respuesta inver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838080" y="3301920"/>
            <a:ext cx="0" cy="246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77800" y="5581800"/>
            <a:ext cx="322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44560" y="5315040"/>
            <a:ext cx="52056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1371600" y="5003640"/>
            <a:ext cx="0" cy="31752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378080" y="5010120"/>
            <a:ext cx="173988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838080" y="3905280"/>
            <a:ext cx="2516400" cy="496800"/>
          </a:xfrm>
          <a:custGeom>
            <a:avLst/>
            <a:gdLst/>
            <a:ahLst/>
            <a:rect l="l" t="t" r="r" b="b"/>
            <a:pathLst>
              <a:path w="1585" h="313">
                <a:moveTo>
                  <a:pt x="0" y="312"/>
                </a:moveTo>
                <a:lnTo>
                  <a:pt x="48" y="312"/>
                </a:lnTo>
                <a:lnTo>
                  <a:pt x="96" y="312"/>
                </a:lnTo>
                <a:lnTo>
                  <a:pt x="144" y="312"/>
                </a:lnTo>
                <a:lnTo>
                  <a:pt x="192" y="312"/>
                </a:lnTo>
                <a:lnTo>
                  <a:pt x="240" y="312"/>
                </a:lnTo>
                <a:lnTo>
                  <a:pt x="288" y="312"/>
                </a:lnTo>
                <a:lnTo>
                  <a:pt x="336" y="312"/>
                </a:lnTo>
                <a:lnTo>
                  <a:pt x="384" y="288"/>
                </a:lnTo>
                <a:lnTo>
                  <a:pt x="408" y="240"/>
                </a:lnTo>
                <a:lnTo>
                  <a:pt x="456" y="216"/>
                </a:lnTo>
                <a:lnTo>
                  <a:pt x="504" y="192"/>
                </a:lnTo>
                <a:lnTo>
                  <a:pt x="528" y="144"/>
                </a:lnTo>
                <a:lnTo>
                  <a:pt x="576" y="120"/>
                </a:lnTo>
                <a:lnTo>
                  <a:pt x="600" y="72"/>
                </a:lnTo>
                <a:lnTo>
                  <a:pt x="648" y="24"/>
                </a:lnTo>
                <a:lnTo>
                  <a:pt x="696" y="24"/>
                </a:lnTo>
                <a:lnTo>
                  <a:pt x="744" y="0"/>
                </a:lnTo>
                <a:lnTo>
                  <a:pt x="792" y="24"/>
                </a:lnTo>
                <a:lnTo>
                  <a:pt x="840" y="48"/>
                </a:lnTo>
                <a:lnTo>
                  <a:pt x="864" y="96"/>
                </a:lnTo>
                <a:lnTo>
                  <a:pt x="912" y="96"/>
                </a:lnTo>
                <a:lnTo>
                  <a:pt x="960" y="96"/>
                </a:lnTo>
                <a:lnTo>
                  <a:pt x="1008" y="72"/>
                </a:lnTo>
                <a:lnTo>
                  <a:pt x="1032" y="24"/>
                </a:lnTo>
                <a:lnTo>
                  <a:pt x="1080" y="24"/>
                </a:lnTo>
                <a:lnTo>
                  <a:pt x="1128" y="24"/>
                </a:lnTo>
                <a:lnTo>
                  <a:pt x="1176" y="48"/>
                </a:lnTo>
                <a:lnTo>
                  <a:pt x="1224" y="72"/>
                </a:lnTo>
                <a:lnTo>
                  <a:pt x="1272" y="72"/>
                </a:lnTo>
                <a:lnTo>
                  <a:pt x="1296" y="24"/>
                </a:lnTo>
                <a:lnTo>
                  <a:pt x="1344" y="48"/>
                </a:lnTo>
                <a:lnTo>
                  <a:pt x="1392" y="72"/>
                </a:lnTo>
                <a:lnTo>
                  <a:pt x="1440" y="72"/>
                </a:lnTo>
                <a:lnTo>
                  <a:pt x="1488" y="72"/>
                </a:lnTo>
                <a:lnTo>
                  <a:pt x="1536" y="96"/>
                </a:lnTo>
                <a:lnTo>
                  <a:pt x="1584" y="7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840760" y="5719680"/>
            <a:ext cx="103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652840" y="49957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652840" y="40435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952880" y="3301920"/>
            <a:ext cx="0" cy="246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692600" y="5581800"/>
            <a:ext cx="322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959360" y="5315040"/>
            <a:ext cx="52056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5486400" y="5003640"/>
            <a:ext cx="0" cy="31752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492880" y="5010120"/>
            <a:ext cx="173988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955560" y="5719680"/>
            <a:ext cx="103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767640" y="49957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767640" y="40435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959360" y="4343400"/>
            <a:ext cx="520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5486400" y="3790800"/>
            <a:ext cx="1925640" cy="763560"/>
          </a:xfrm>
          <a:custGeom>
            <a:avLst/>
            <a:gdLst/>
            <a:ahLst/>
            <a:rect l="l" t="t" r="r" b="b"/>
            <a:pathLst>
              <a:path w="1213" h="481">
                <a:moveTo>
                  <a:pt x="0" y="348"/>
                </a:moveTo>
                <a:lnTo>
                  <a:pt x="36" y="360"/>
                </a:lnTo>
                <a:lnTo>
                  <a:pt x="60" y="408"/>
                </a:lnTo>
                <a:lnTo>
                  <a:pt x="108" y="408"/>
                </a:lnTo>
                <a:lnTo>
                  <a:pt x="108" y="456"/>
                </a:lnTo>
                <a:lnTo>
                  <a:pt x="156" y="456"/>
                </a:lnTo>
                <a:lnTo>
                  <a:pt x="204" y="480"/>
                </a:lnTo>
                <a:lnTo>
                  <a:pt x="252" y="480"/>
                </a:lnTo>
                <a:lnTo>
                  <a:pt x="300" y="480"/>
                </a:lnTo>
                <a:lnTo>
                  <a:pt x="348" y="456"/>
                </a:lnTo>
                <a:lnTo>
                  <a:pt x="396" y="432"/>
                </a:lnTo>
                <a:lnTo>
                  <a:pt x="420" y="384"/>
                </a:lnTo>
                <a:lnTo>
                  <a:pt x="468" y="360"/>
                </a:lnTo>
                <a:lnTo>
                  <a:pt x="468" y="312"/>
                </a:lnTo>
                <a:lnTo>
                  <a:pt x="516" y="312"/>
                </a:lnTo>
                <a:lnTo>
                  <a:pt x="540" y="264"/>
                </a:lnTo>
                <a:lnTo>
                  <a:pt x="564" y="216"/>
                </a:lnTo>
                <a:lnTo>
                  <a:pt x="612" y="192"/>
                </a:lnTo>
                <a:lnTo>
                  <a:pt x="660" y="144"/>
                </a:lnTo>
                <a:lnTo>
                  <a:pt x="708" y="96"/>
                </a:lnTo>
                <a:lnTo>
                  <a:pt x="756" y="72"/>
                </a:lnTo>
                <a:lnTo>
                  <a:pt x="780" y="24"/>
                </a:lnTo>
                <a:lnTo>
                  <a:pt x="828" y="24"/>
                </a:lnTo>
                <a:lnTo>
                  <a:pt x="876" y="24"/>
                </a:lnTo>
                <a:lnTo>
                  <a:pt x="924" y="0"/>
                </a:lnTo>
                <a:lnTo>
                  <a:pt x="972" y="0"/>
                </a:lnTo>
                <a:lnTo>
                  <a:pt x="1020" y="0"/>
                </a:lnTo>
                <a:lnTo>
                  <a:pt x="1068" y="0"/>
                </a:lnTo>
                <a:lnTo>
                  <a:pt x="1116" y="0"/>
                </a:lnTo>
                <a:lnTo>
                  <a:pt x="1164" y="0"/>
                </a:lnTo>
                <a:lnTo>
                  <a:pt x="1212" y="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Estabilidad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08120" y="1974960"/>
            <a:ext cx="3564000" cy="267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76480" y="4349880"/>
            <a:ext cx="275112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176480" y="2171880"/>
            <a:ext cx="275112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1170000" y="2165040"/>
            <a:ext cx="0" cy="219060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3933720" y="2165040"/>
            <a:ext cx="0" cy="219060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170000" y="2171880"/>
            <a:ext cx="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933720" y="4349880"/>
            <a:ext cx="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176480" y="4349880"/>
            <a:ext cx="275112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170000" y="2165040"/>
            <a:ext cx="0" cy="219060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170000" y="4349880"/>
            <a:ext cx="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1170000" y="4314960"/>
            <a:ext cx="0" cy="410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170000" y="2178000"/>
            <a:ext cx="0" cy="158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058760" y="4338720"/>
            <a:ext cx="22572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4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1720800" y="4314960"/>
            <a:ext cx="0" cy="410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720800" y="2178000"/>
            <a:ext cx="0" cy="158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609560" y="4338720"/>
            <a:ext cx="22572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40000"/>
                </a:solidFill>
                <a:latin typeface="Times New Roman"/>
              </a:rPr>
              <a:t>2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2273400" y="4314960"/>
            <a:ext cx="0" cy="410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273400" y="2178000"/>
            <a:ext cx="0" cy="158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160720" y="4338720"/>
            <a:ext cx="22572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40000"/>
                </a:solidFill>
                <a:latin typeface="Times New Roman"/>
              </a:rPr>
              <a:t>4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2830680" y="4314960"/>
            <a:ext cx="0" cy="410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830680" y="2178000"/>
            <a:ext cx="0" cy="158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719440" y="4338720"/>
            <a:ext cx="22572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40000"/>
                </a:solidFill>
                <a:latin typeface="Times New Roman"/>
              </a:rPr>
              <a:t>6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3382920" y="4314960"/>
            <a:ext cx="0" cy="410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82920" y="2178000"/>
            <a:ext cx="0" cy="158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270240" y="4338720"/>
            <a:ext cx="22572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40000"/>
                </a:solidFill>
                <a:latin typeface="Times New Roman"/>
              </a:rPr>
              <a:t>8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3933720" y="4314960"/>
            <a:ext cx="0" cy="410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933720" y="2178000"/>
            <a:ext cx="0" cy="158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792600" y="4338720"/>
            <a:ext cx="27000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40000"/>
                </a:solidFill>
                <a:latin typeface="Times New Roman"/>
              </a:rPr>
              <a:t>10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176480" y="4349880"/>
            <a:ext cx="158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H="1">
            <a:off x="3898440" y="4349880"/>
            <a:ext cx="4140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894240" y="4253040"/>
            <a:ext cx="32148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40000"/>
                </a:solidFill>
                <a:latin typeface="Times New Roman"/>
              </a:rPr>
              <a:t>-0.5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176480" y="3913200"/>
            <a:ext cx="158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3898440" y="3913200"/>
            <a:ext cx="4140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01880" y="3816360"/>
            <a:ext cx="22572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4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176480" y="3476520"/>
            <a:ext cx="158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H="1">
            <a:off x="3898440" y="3476520"/>
            <a:ext cx="4140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921960" y="3378240"/>
            <a:ext cx="29268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40000"/>
                </a:solidFill>
                <a:latin typeface="Times New Roman"/>
              </a:rPr>
              <a:t>0.5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176480" y="3046320"/>
            <a:ext cx="158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3898440" y="3046320"/>
            <a:ext cx="4140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001880" y="2949480"/>
            <a:ext cx="22572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40000"/>
                </a:solidFill>
                <a:latin typeface="Times New Roman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176480" y="2610000"/>
            <a:ext cx="158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H="1">
            <a:off x="3898440" y="2610000"/>
            <a:ext cx="4140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921960" y="2511360"/>
            <a:ext cx="29268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40000"/>
                </a:solidFill>
                <a:latin typeface="Times New Roman"/>
              </a:rPr>
              <a:t>1.5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176480" y="2171880"/>
            <a:ext cx="158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flipH="1">
            <a:off x="3898440" y="2171880"/>
            <a:ext cx="4140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001880" y="2075040"/>
            <a:ext cx="22572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40000"/>
                </a:solidFill>
                <a:latin typeface="Times New Roman"/>
              </a:rPr>
              <a:t>2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176480" y="4349880"/>
            <a:ext cx="275112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176480" y="2171880"/>
            <a:ext cx="275112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1170000" y="2165040"/>
            <a:ext cx="0" cy="219060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V="1">
            <a:off x="3933720" y="2165040"/>
            <a:ext cx="0" cy="219060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170000" y="4349880"/>
            <a:ext cx="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933720" y="2171880"/>
            <a:ext cx="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170000" y="2917800"/>
            <a:ext cx="2765520" cy="996840"/>
          </a:xfrm>
          <a:custGeom>
            <a:avLst/>
            <a:gdLst/>
            <a:ahLst/>
            <a:rect l="l" t="t" r="r" b="b"/>
            <a:pathLst>
              <a:path w="1742" h="628">
                <a:moveTo>
                  <a:pt x="0" y="627"/>
                </a:moveTo>
                <a:lnTo>
                  <a:pt x="18" y="622"/>
                </a:lnTo>
                <a:lnTo>
                  <a:pt x="36" y="613"/>
                </a:lnTo>
                <a:lnTo>
                  <a:pt x="54" y="600"/>
                </a:lnTo>
                <a:lnTo>
                  <a:pt x="68" y="577"/>
                </a:lnTo>
                <a:lnTo>
                  <a:pt x="86" y="555"/>
                </a:lnTo>
                <a:lnTo>
                  <a:pt x="104" y="527"/>
                </a:lnTo>
                <a:lnTo>
                  <a:pt x="122" y="496"/>
                </a:lnTo>
                <a:lnTo>
                  <a:pt x="140" y="464"/>
                </a:lnTo>
                <a:lnTo>
                  <a:pt x="158" y="433"/>
                </a:lnTo>
                <a:lnTo>
                  <a:pt x="176" y="397"/>
                </a:lnTo>
                <a:lnTo>
                  <a:pt x="190" y="365"/>
                </a:lnTo>
                <a:lnTo>
                  <a:pt x="208" y="329"/>
                </a:lnTo>
                <a:lnTo>
                  <a:pt x="226" y="297"/>
                </a:lnTo>
                <a:lnTo>
                  <a:pt x="244" y="266"/>
                </a:lnTo>
                <a:lnTo>
                  <a:pt x="262" y="234"/>
                </a:lnTo>
                <a:lnTo>
                  <a:pt x="280" y="207"/>
                </a:lnTo>
                <a:lnTo>
                  <a:pt x="298" y="176"/>
                </a:lnTo>
                <a:lnTo>
                  <a:pt x="311" y="153"/>
                </a:lnTo>
                <a:lnTo>
                  <a:pt x="329" y="130"/>
                </a:lnTo>
                <a:lnTo>
                  <a:pt x="347" y="108"/>
                </a:lnTo>
                <a:lnTo>
                  <a:pt x="365" y="90"/>
                </a:lnTo>
                <a:lnTo>
                  <a:pt x="384" y="72"/>
                </a:lnTo>
                <a:lnTo>
                  <a:pt x="402" y="54"/>
                </a:lnTo>
                <a:lnTo>
                  <a:pt x="420" y="40"/>
                </a:lnTo>
                <a:lnTo>
                  <a:pt x="438" y="31"/>
                </a:lnTo>
                <a:lnTo>
                  <a:pt x="451" y="22"/>
                </a:lnTo>
                <a:lnTo>
                  <a:pt x="469" y="13"/>
                </a:lnTo>
                <a:lnTo>
                  <a:pt x="487" y="9"/>
                </a:lnTo>
                <a:lnTo>
                  <a:pt x="505" y="4"/>
                </a:lnTo>
                <a:lnTo>
                  <a:pt x="523" y="0"/>
                </a:lnTo>
                <a:lnTo>
                  <a:pt x="541" y="0"/>
                </a:lnTo>
                <a:lnTo>
                  <a:pt x="559" y="0"/>
                </a:lnTo>
                <a:lnTo>
                  <a:pt x="573" y="0"/>
                </a:lnTo>
                <a:lnTo>
                  <a:pt x="591" y="0"/>
                </a:lnTo>
                <a:lnTo>
                  <a:pt x="609" y="4"/>
                </a:lnTo>
                <a:lnTo>
                  <a:pt x="627" y="9"/>
                </a:lnTo>
                <a:lnTo>
                  <a:pt x="645" y="9"/>
                </a:lnTo>
                <a:lnTo>
                  <a:pt x="663" y="13"/>
                </a:lnTo>
                <a:lnTo>
                  <a:pt x="681" y="18"/>
                </a:lnTo>
                <a:lnTo>
                  <a:pt x="695" y="22"/>
                </a:lnTo>
                <a:lnTo>
                  <a:pt x="713" y="27"/>
                </a:lnTo>
                <a:lnTo>
                  <a:pt x="731" y="36"/>
                </a:lnTo>
                <a:lnTo>
                  <a:pt x="749" y="40"/>
                </a:lnTo>
                <a:lnTo>
                  <a:pt x="767" y="45"/>
                </a:lnTo>
                <a:lnTo>
                  <a:pt x="785" y="49"/>
                </a:lnTo>
                <a:lnTo>
                  <a:pt x="803" y="54"/>
                </a:lnTo>
                <a:lnTo>
                  <a:pt x="816" y="58"/>
                </a:lnTo>
                <a:lnTo>
                  <a:pt x="835" y="63"/>
                </a:lnTo>
                <a:lnTo>
                  <a:pt x="853" y="67"/>
                </a:lnTo>
                <a:lnTo>
                  <a:pt x="871" y="67"/>
                </a:lnTo>
                <a:lnTo>
                  <a:pt x="889" y="72"/>
                </a:lnTo>
                <a:lnTo>
                  <a:pt x="907" y="76"/>
                </a:lnTo>
                <a:lnTo>
                  <a:pt x="925" y="76"/>
                </a:lnTo>
                <a:lnTo>
                  <a:pt x="938" y="81"/>
                </a:lnTo>
                <a:lnTo>
                  <a:pt x="956" y="81"/>
                </a:lnTo>
                <a:lnTo>
                  <a:pt x="974" y="85"/>
                </a:lnTo>
                <a:lnTo>
                  <a:pt x="992" y="85"/>
                </a:lnTo>
                <a:lnTo>
                  <a:pt x="1010" y="85"/>
                </a:lnTo>
                <a:lnTo>
                  <a:pt x="1028" y="90"/>
                </a:lnTo>
                <a:lnTo>
                  <a:pt x="1046" y="90"/>
                </a:lnTo>
                <a:lnTo>
                  <a:pt x="1060" y="90"/>
                </a:lnTo>
                <a:lnTo>
                  <a:pt x="1078" y="90"/>
                </a:lnTo>
                <a:lnTo>
                  <a:pt x="1096" y="90"/>
                </a:lnTo>
                <a:lnTo>
                  <a:pt x="1114" y="90"/>
                </a:lnTo>
                <a:lnTo>
                  <a:pt x="1132" y="90"/>
                </a:lnTo>
                <a:lnTo>
                  <a:pt x="1150" y="90"/>
                </a:lnTo>
                <a:lnTo>
                  <a:pt x="1168" y="90"/>
                </a:lnTo>
                <a:lnTo>
                  <a:pt x="1182" y="90"/>
                </a:lnTo>
                <a:lnTo>
                  <a:pt x="1200" y="90"/>
                </a:lnTo>
                <a:lnTo>
                  <a:pt x="1218" y="90"/>
                </a:lnTo>
                <a:lnTo>
                  <a:pt x="1236" y="85"/>
                </a:lnTo>
                <a:lnTo>
                  <a:pt x="1254" y="85"/>
                </a:lnTo>
                <a:lnTo>
                  <a:pt x="1272" y="85"/>
                </a:lnTo>
                <a:lnTo>
                  <a:pt x="1290" y="85"/>
                </a:lnTo>
                <a:lnTo>
                  <a:pt x="1308" y="85"/>
                </a:lnTo>
                <a:lnTo>
                  <a:pt x="1322" y="85"/>
                </a:lnTo>
                <a:lnTo>
                  <a:pt x="1340" y="85"/>
                </a:lnTo>
                <a:lnTo>
                  <a:pt x="1358" y="81"/>
                </a:lnTo>
                <a:lnTo>
                  <a:pt x="1376" y="81"/>
                </a:lnTo>
                <a:lnTo>
                  <a:pt x="1394" y="81"/>
                </a:lnTo>
                <a:lnTo>
                  <a:pt x="1412" y="81"/>
                </a:lnTo>
                <a:lnTo>
                  <a:pt x="1430" y="81"/>
                </a:lnTo>
                <a:lnTo>
                  <a:pt x="1443" y="81"/>
                </a:lnTo>
                <a:lnTo>
                  <a:pt x="1461" y="81"/>
                </a:lnTo>
                <a:lnTo>
                  <a:pt x="1479" y="81"/>
                </a:lnTo>
                <a:lnTo>
                  <a:pt x="1497" y="81"/>
                </a:lnTo>
                <a:lnTo>
                  <a:pt x="1516" y="76"/>
                </a:lnTo>
                <a:lnTo>
                  <a:pt x="1534" y="76"/>
                </a:lnTo>
                <a:lnTo>
                  <a:pt x="1552" y="76"/>
                </a:lnTo>
                <a:lnTo>
                  <a:pt x="1565" y="76"/>
                </a:lnTo>
                <a:lnTo>
                  <a:pt x="1583" y="76"/>
                </a:lnTo>
                <a:lnTo>
                  <a:pt x="1601" y="76"/>
                </a:lnTo>
                <a:lnTo>
                  <a:pt x="1619" y="76"/>
                </a:lnTo>
                <a:lnTo>
                  <a:pt x="1637" y="76"/>
                </a:lnTo>
                <a:lnTo>
                  <a:pt x="1655" y="76"/>
                </a:lnTo>
                <a:lnTo>
                  <a:pt x="1673" y="76"/>
                </a:lnTo>
                <a:lnTo>
                  <a:pt x="1687" y="76"/>
                </a:lnTo>
                <a:lnTo>
                  <a:pt x="1705" y="76"/>
                </a:lnTo>
                <a:lnTo>
                  <a:pt x="1723" y="76"/>
                </a:lnTo>
                <a:lnTo>
                  <a:pt x="1741" y="76"/>
                </a:lnTo>
              </a:path>
            </a:pathLst>
          </a:custGeom>
          <a:solidFill>
            <a:srgbClr val="ffffff"/>
          </a:solidFill>
          <a:ln cap="rnd" w="38160">
            <a:solidFill>
              <a:srgbClr val="15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41120" y="1960560"/>
            <a:ext cx="105768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40000"/>
                </a:solidFill>
                <a:latin typeface="Times New Roman"/>
              </a:rPr>
              <a:t>respuesta en lazo abiert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898880" y="2013120"/>
            <a:ext cx="3480120" cy="260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356080" y="4330800"/>
            <a:ext cx="268632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356080" y="2205000"/>
            <a:ext cx="268632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5349960" y="2198520"/>
            <a:ext cx="0" cy="213840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8048520" y="2198520"/>
            <a:ext cx="0" cy="213840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349960" y="2205000"/>
            <a:ext cx="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8048520" y="4330800"/>
            <a:ext cx="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356080" y="4330800"/>
            <a:ext cx="268632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5349960" y="2198520"/>
            <a:ext cx="0" cy="213840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349960" y="4330800"/>
            <a:ext cx="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5349960" y="4295880"/>
            <a:ext cx="0" cy="410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49960" y="2211480"/>
            <a:ext cx="0" cy="158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238720" y="4314960"/>
            <a:ext cx="22572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4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5888160" y="4295880"/>
            <a:ext cx="0" cy="410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888160" y="2211480"/>
            <a:ext cx="0" cy="158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776920" y="4314960"/>
            <a:ext cx="22572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40000"/>
                </a:solidFill>
                <a:latin typeface="Times New Roman"/>
              </a:rPr>
              <a:t>2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6426360" y="4295880"/>
            <a:ext cx="0" cy="410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426360" y="2211480"/>
            <a:ext cx="0" cy="158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315120" y="4314960"/>
            <a:ext cx="22572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40000"/>
                </a:solidFill>
                <a:latin typeface="Times New Roman"/>
              </a:rPr>
              <a:t>4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6972480" y="4295880"/>
            <a:ext cx="0" cy="410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972480" y="2211480"/>
            <a:ext cx="0" cy="158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861240" y="4314960"/>
            <a:ext cx="22572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40000"/>
                </a:solidFill>
                <a:latin typeface="Times New Roman"/>
              </a:rPr>
              <a:t>6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7510320" y="4295880"/>
            <a:ext cx="0" cy="410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510320" y="2211480"/>
            <a:ext cx="0" cy="158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7399440" y="4314960"/>
            <a:ext cx="22572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40000"/>
                </a:solidFill>
                <a:latin typeface="Times New Roman"/>
              </a:rPr>
              <a:t>8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8048520" y="4295880"/>
            <a:ext cx="0" cy="410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8048520" y="2211480"/>
            <a:ext cx="0" cy="158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7908840" y="4314960"/>
            <a:ext cx="27000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40000"/>
                </a:solidFill>
                <a:latin typeface="Times New Roman"/>
              </a:rPr>
              <a:t>10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356080" y="4330800"/>
            <a:ext cx="1620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8015400" y="4330800"/>
            <a:ext cx="3960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078880" y="4230720"/>
            <a:ext cx="32148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40000"/>
                </a:solidFill>
                <a:latin typeface="Times New Roman"/>
              </a:rPr>
              <a:t>-0.5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356080" y="3903840"/>
            <a:ext cx="1620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8015400" y="3903840"/>
            <a:ext cx="3960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183280" y="3805200"/>
            <a:ext cx="22572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4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356080" y="3478320"/>
            <a:ext cx="1620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8015400" y="3478320"/>
            <a:ext cx="3960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105160" y="3378240"/>
            <a:ext cx="29268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40000"/>
                </a:solidFill>
                <a:latin typeface="Times New Roman"/>
              </a:rPr>
              <a:t>0.5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5356080" y="3057480"/>
            <a:ext cx="1620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8015400" y="3057480"/>
            <a:ext cx="3960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183280" y="2959200"/>
            <a:ext cx="22572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40000"/>
                </a:solidFill>
                <a:latin typeface="Times New Roman"/>
              </a:rPr>
              <a:t>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356080" y="2631960"/>
            <a:ext cx="1620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8015400" y="2631960"/>
            <a:ext cx="3960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105160" y="2533680"/>
            <a:ext cx="29268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40000"/>
                </a:solidFill>
                <a:latin typeface="Times New Roman"/>
              </a:rPr>
              <a:t>1.5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356080" y="2205000"/>
            <a:ext cx="1620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8015400" y="2205000"/>
            <a:ext cx="3960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83280" y="2106720"/>
            <a:ext cx="22572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40000"/>
                </a:solidFill>
                <a:latin typeface="Times New Roman"/>
              </a:rPr>
              <a:t>2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356080" y="4330800"/>
            <a:ext cx="268632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356080" y="2205000"/>
            <a:ext cx="268632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5349960" y="2198520"/>
            <a:ext cx="0" cy="213840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8048520" y="2198520"/>
            <a:ext cx="0" cy="213840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349960" y="4330800"/>
            <a:ext cx="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8048520" y="2205000"/>
            <a:ext cx="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349960" y="2009880"/>
            <a:ext cx="2490840" cy="2168280"/>
          </a:xfrm>
          <a:custGeom>
            <a:avLst/>
            <a:gdLst/>
            <a:ahLst/>
            <a:rect l="l" t="t" r="r" b="b"/>
            <a:pathLst>
              <a:path w="1569" h="1366">
                <a:moveTo>
                  <a:pt x="0" y="1193"/>
                </a:moveTo>
                <a:lnTo>
                  <a:pt x="18" y="1189"/>
                </a:lnTo>
                <a:lnTo>
                  <a:pt x="35" y="1167"/>
                </a:lnTo>
                <a:lnTo>
                  <a:pt x="53" y="1131"/>
                </a:lnTo>
                <a:lnTo>
                  <a:pt x="66" y="1083"/>
                </a:lnTo>
                <a:lnTo>
                  <a:pt x="84" y="1021"/>
                </a:lnTo>
                <a:lnTo>
                  <a:pt x="102" y="951"/>
                </a:lnTo>
                <a:lnTo>
                  <a:pt x="119" y="872"/>
                </a:lnTo>
                <a:lnTo>
                  <a:pt x="137" y="788"/>
                </a:lnTo>
                <a:lnTo>
                  <a:pt x="154" y="696"/>
                </a:lnTo>
                <a:lnTo>
                  <a:pt x="172" y="608"/>
                </a:lnTo>
                <a:lnTo>
                  <a:pt x="185" y="515"/>
                </a:lnTo>
                <a:lnTo>
                  <a:pt x="203" y="427"/>
                </a:lnTo>
                <a:lnTo>
                  <a:pt x="220" y="348"/>
                </a:lnTo>
                <a:lnTo>
                  <a:pt x="238" y="273"/>
                </a:lnTo>
                <a:lnTo>
                  <a:pt x="256" y="211"/>
                </a:lnTo>
                <a:lnTo>
                  <a:pt x="273" y="158"/>
                </a:lnTo>
                <a:lnTo>
                  <a:pt x="291" y="119"/>
                </a:lnTo>
                <a:lnTo>
                  <a:pt x="304" y="92"/>
                </a:lnTo>
                <a:lnTo>
                  <a:pt x="322" y="84"/>
                </a:lnTo>
                <a:lnTo>
                  <a:pt x="339" y="92"/>
                </a:lnTo>
                <a:lnTo>
                  <a:pt x="357" y="114"/>
                </a:lnTo>
                <a:lnTo>
                  <a:pt x="375" y="150"/>
                </a:lnTo>
                <a:lnTo>
                  <a:pt x="392" y="198"/>
                </a:lnTo>
                <a:lnTo>
                  <a:pt x="410" y="264"/>
                </a:lnTo>
                <a:lnTo>
                  <a:pt x="427" y="339"/>
                </a:lnTo>
                <a:lnTo>
                  <a:pt x="441" y="423"/>
                </a:lnTo>
                <a:lnTo>
                  <a:pt x="458" y="511"/>
                </a:lnTo>
                <a:lnTo>
                  <a:pt x="476" y="608"/>
                </a:lnTo>
                <a:lnTo>
                  <a:pt x="494" y="704"/>
                </a:lnTo>
                <a:lnTo>
                  <a:pt x="511" y="801"/>
                </a:lnTo>
                <a:lnTo>
                  <a:pt x="529" y="898"/>
                </a:lnTo>
                <a:lnTo>
                  <a:pt x="546" y="986"/>
                </a:lnTo>
                <a:lnTo>
                  <a:pt x="560" y="1065"/>
                </a:lnTo>
                <a:lnTo>
                  <a:pt x="577" y="1136"/>
                </a:lnTo>
                <a:lnTo>
                  <a:pt x="595" y="1189"/>
                </a:lnTo>
                <a:lnTo>
                  <a:pt x="612" y="1233"/>
                </a:lnTo>
                <a:lnTo>
                  <a:pt x="630" y="1264"/>
                </a:lnTo>
                <a:lnTo>
                  <a:pt x="648" y="1272"/>
                </a:lnTo>
                <a:lnTo>
                  <a:pt x="665" y="1268"/>
                </a:lnTo>
                <a:lnTo>
                  <a:pt x="678" y="1246"/>
                </a:lnTo>
                <a:lnTo>
                  <a:pt x="696" y="1211"/>
                </a:lnTo>
                <a:lnTo>
                  <a:pt x="714" y="1158"/>
                </a:lnTo>
                <a:lnTo>
                  <a:pt x="731" y="1087"/>
                </a:lnTo>
                <a:lnTo>
                  <a:pt x="749" y="1013"/>
                </a:lnTo>
                <a:lnTo>
                  <a:pt x="767" y="920"/>
                </a:lnTo>
                <a:lnTo>
                  <a:pt x="784" y="823"/>
                </a:lnTo>
                <a:lnTo>
                  <a:pt x="797" y="722"/>
                </a:lnTo>
                <a:lnTo>
                  <a:pt x="815" y="621"/>
                </a:lnTo>
                <a:lnTo>
                  <a:pt x="833" y="515"/>
                </a:lnTo>
                <a:lnTo>
                  <a:pt x="850" y="414"/>
                </a:lnTo>
                <a:lnTo>
                  <a:pt x="868" y="317"/>
                </a:lnTo>
                <a:lnTo>
                  <a:pt x="885" y="233"/>
                </a:lnTo>
                <a:lnTo>
                  <a:pt x="903" y="158"/>
                </a:lnTo>
                <a:lnTo>
                  <a:pt x="916" y="92"/>
                </a:lnTo>
                <a:lnTo>
                  <a:pt x="934" y="44"/>
                </a:lnTo>
                <a:lnTo>
                  <a:pt x="952" y="13"/>
                </a:lnTo>
                <a:lnTo>
                  <a:pt x="969" y="0"/>
                </a:lnTo>
                <a:lnTo>
                  <a:pt x="987" y="4"/>
                </a:lnTo>
                <a:lnTo>
                  <a:pt x="1004" y="26"/>
                </a:lnTo>
                <a:lnTo>
                  <a:pt x="1022" y="66"/>
                </a:lnTo>
                <a:lnTo>
                  <a:pt x="1035" y="119"/>
                </a:lnTo>
                <a:lnTo>
                  <a:pt x="1053" y="189"/>
                </a:lnTo>
                <a:lnTo>
                  <a:pt x="1070" y="273"/>
                </a:lnTo>
                <a:lnTo>
                  <a:pt x="1088" y="365"/>
                </a:lnTo>
                <a:lnTo>
                  <a:pt x="1106" y="471"/>
                </a:lnTo>
                <a:lnTo>
                  <a:pt x="1123" y="577"/>
                </a:lnTo>
                <a:lnTo>
                  <a:pt x="1141" y="691"/>
                </a:lnTo>
                <a:lnTo>
                  <a:pt x="1154" y="801"/>
                </a:lnTo>
                <a:lnTo>
                  <a:pt x="1172" y="911"/>
                </a:lnTo>
                <a:lnTo>
                  <a:pt x="1189" y="1013"/>
                </a:lnTo>
                <a:lnTo>
                  <a:pt x="1207" y="1105"/>
                </a:lnTo>
                <a:lnTo>
                  <a:pt x="1225" y="1189"/>
                </a:lnTo>
                <a:lnTo>
                  <a:pt x="1242" y="1259"/>
                </a:lnTo>
                <a:lnTo>
                  <a:pt x="1260" y="1312"/>
                </a:lnTo>
                <a:lnTo>
                  <a:pt x="1277" y="1347"/>
                </a:lnTo>
                <a:lnTo>
                  <a:pt x="1291" y="1365"/>
                </a:lnTo>
                <a:lnTo>
                  <a:pt x="1308" y="1360"/>
                </a:lnTo>
                <a:lnTo>
                  <a:pt x="1326" y="1343"/>
                </a:lnTo>
                <a:lnTo>
                  <a:pt x="1343" y="1303"/>
                </a:lnTo>
                <a:lnTo>
                  <a:pt x="1361" y="1246"/>
                </a:lnTo>
                <a:lnTo>
                  <a:pt x="1379" y="1171"/>
                </a:lnTo>
                <a:lnTo>
                  <a:pt x="1396" y="1083"/>
                </a:lnTo>
                <a:lnTo>
                  <a:pt x="1410" y="982"/>
                </a:lnTo>
                <a:lnTo>
                  <a:pt x="1427" y="872"/>
                </a:lnTo>
                <a:lnTo>
                  <a:pt x="1445" y="757"/>
                </a:lnTo>
                <a:lnTo>
                  <a:pt x="1462" y="638"/>
                </a:lnTo>
                <a:lnTo>
                  <a:pt x="1480" y="515"/>
                </a:lnTo>
                <a:lnTo>
                  <a:pt x="1498" y="401"/>
                </a:lnTo>
                <a:lnTo>
                  <a:pt x="1515" y="291"/>
                </a:lnTo>
                <a:lnTo>
                  <a:pt x="1528" y="189"/>
                </a:lnTo>
                <a:lnTo>
                  <a:pt x="1546" y="97"/>
                </a:lnTo>
                <a:lnTo>
                  <a:pt x="1564" y="22"/>
                </a:lnTo>
                <a:lnTo>
                  <a:pt x="1568" y="0"/>
                </a:lnTo>
              </a:path>
            </a:pathLst>
          </a:custGeom>
          <a:solidFill>
            <a:srgbClr val="ffffff"/>
          </a:solidFill>
          <a:ln cap="rnd" w="38160">
            <a:solidFill>
              <a:srgbClr val="15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8007480" y="2009880"/>
            <a:ext cx="42840" cy="162000"/>
          </a:xfrm>
          <a:custGeom>
            <a:avLst/>
            <a:gdLst/>
            <a:ahLst/>
            <a:rect l="l" t="t" r="r" b="b"/>
            <a:pathLst>
              <a:path w="27" h="102">
                <a:moveTo>
                  <a:pt x="0" y="0"/>
                </a:moveTo>
                <a:lnTo>
                  <a:pt x="9" y="26"/>
                </a:lnTo>
                <a:lnTo>
                  <a:pt x="26" y="10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15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102000" y="1995480"/>
            <a:ext cx="105768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40000"/>
                </a:solidFill>
                <a:latin typeface="Times New Roman"/>
              </a:rPr>
              <a:t>respuesta en lazo abiert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279080" y="4862520"/>
            <a:ext cx="1080720" cy="4546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698080" y="4900680"/>
            <a:ext cx="1284840" cy="4546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es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87040" y="5662440"/>
            <a:ext cx="692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una entrada limitada corresponde una salida limit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389400" y="5446800"/>
            <a:ext cx="48240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3886200" y="5060880"/>
            <a:ext cx="0" cy="3938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3892680" y="5067360"/>
            <a:ext cx="67284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176720" y="50911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47760" y="19288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614840" y="19670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mortiguamiento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555480" y="1898640"/>
            <a:ext cx="3794400" cy="284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054080" y="4425840"/>
            <a:ext cx="292896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054080" y="2108160"/>
            <a:ext cx="292896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1047600" y="2101680"/>
            <a:ext cx="0" cy="23306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3989520" y="2101680"/>
            <a:ext cx="0" cy="23306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047600" y="2108160"/>
            <a:ext cx="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989520" y="4425840"/>
            <a:ext cx="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054080" y="4425840"/>
            <a:ext cx="292896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1047600" y="2101680"/>
            <a:ext cx="0" cy="23306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047600" y="4425840"/>
            <a:ext cx="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1047600" y="4387680"/>
            <a:ext cx="0" cy="446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047600" y="2114640"/>
            <a:ext cx="0" cy="1908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934200" y="4406760"/>
            <a:ext cx="233280" cy="21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1635120" y="4387680"/>
            <a:ext cx="0" cy="446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635120" y="2114640"/>
            <a:ext cx="0" cy="1908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520280" y="4406760"/>
            <a:ext cx="233280" cy="21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2220840" y="4387680"/>
            <a:ext cx="0" cy="446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220840" y="2114640"/>
            <a:ext cx="0" cy="1908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107440" y="4406760"/>
            <a:ext cx="233280" cy="21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2816280" y="4387680"/>
            <a:ext cx="0" cy="446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2816280" y="2114640"/>
            <a:ext cx="0" cy="1908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701080" y="4406760"/>
            <a:ext cx="233280" cy="21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000"/>
                </a:solidFill>
                <a:latin typeface="Times New Roman"/>
              </a:rPr>
              <a:t>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3402000" y="4387680"/>
            <a:ext cx="0" cy="446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402000" y="2114640"/>
            <a:ext cx="0" cy="1908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288600" y="4406760"/>
            <a:ext cx="233280" cy="21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3989520" y="4387680"/>
            <a:ext cx="0" cy="446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3989520" y="2114640"/>
            <a:ext cx="0" cy="1908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843720" y="4406760"/>
            <a:ext cx="285120" cy="21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054080" y="4425840"/>
            <a:ext cx="176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3952440" y="4425840"/>
            <a:ext cx="428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57440" y="4314960"/>
            <a:ext cx="344520" cy="21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000"/>
                </a:solidFill>
                <a:latin typeface="Times New Roman"/>
              </a:rPr>
              <a:t>-0.5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054080" y="3960720"/>
            <a:ext cx="176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3952440" y="3960720"/>
            <a:ext cx="428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872280" y="3849840"/>
            <a:ext cx="233280" cy="21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054080" y="3495600"/>
            <a:ext cx="176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H="1">
            <a:off x="3952440" y="3495600"/>
            <a:ext cx="428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87680" y="3386160"/>
            <a:ext cx="311040" cy="21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000"/>
                </a:solidFill>
                <a:latin typeface="Times New Roman"/>
              </a:rPr>
              <a:t>0.5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054080" y="3038400"/>
            <a:ext cx="176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3952440" y="3038400"/>
            <a:ext cx="428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872280" y="2928960"/>
            <a:ext cx="233280" cy="21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54080" y="2573280"/>
            <a:ext cx="176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3952440" y="2573280"/>
            <a:ext cx="428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787680" y="2463840"/>
            <a:ext cx="311040" cy="21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000"/>
                </a:solidFill>
                <a:latin typeface="Times New Roman"/>
              </a:rPr>
              <a:t>1.5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1054080" y="2108160"/>
            <a:ext cx="176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H="1">
            <a:off x="3952440" y="2108160"/>
            <a:ext cx="428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872280" y="1998720"/>
            <a:ext cx="233280" cy="21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054080" y="4425840"/>
            <a:ext cx="292896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054080" y="2108160"/>
            <a:ext cx="292896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1047600" y="2101680"/>
            <a:ext cx="0" cy="23306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3989520" y="2101680"/>
            <a:ext cx="0" cy="23306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047600" y="4425840"/>
            <a:ext cx="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989520" y="2108160"/>
            <a:ext cx="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861560" y="1876320"/>
            <a:ext cx="1198080" cy="21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000"/>
                </a:solidFill>
                <a:latin typeface="Times New Roman"/>
              </a:rPr>
              <a:t>respuesta en lazo abierto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047600" y="3038400"/>
            <a:ext cx="2943360" cy="924120"/>
          </a:xfrm>
          <a:custGeom>
            <a:avLst/>
            <a:gdLst/>
            <a:ahLst/>
            <a:rect l="l" t="t" r="r" b="b"/>
            <a:pathLst>
              <a:path w="1854" h="582">
                <a:moveTo>
                  <a:pt x="0" y="581"/>
                </a:moveTo>
                <a:lnTo>
                  <a:pt x="19" y="581"/>
                </a:lnTo>
                <a:lnTo>
                  <a:pt x="38" y="571"/>
                </a:lnTo>
                <a:lnTo>
                  <a:pt x="58" y="562"/>
                </a:lnTo>
                <a:lnTo>
                  <a:pt x="72" y="552"/>
                </a:lnTo>
                <a:lnTo>
                  <a:pt x="91" y="538"/>
                </a:lnTo>
                <a:lnTo>
                  <a:pt x="110" y="523"/>
                </a:lnTo>
                <a:lnTo>
                  <a:pt x="130" y="504"/>
                </a:lnTo>
                <a:lnTo>
                  <a:pt x="149" y="485"/>
                </a:lnTo>
                <a:lnTo>
                  <a:pt x="168" y="466"/>
                </a:lnTo>
                <a:lnTo>
                  <a:pt x="187" y="446"/>
                </a:lnTo>
                <a:lnTo>
                  <a:pt x="202" y="427"/>
                </a:lnTo>
                <a:lnTo>
                  <a:pt x="221" y="408"/>
                </a:lnTo>
                <a:lnTo>
                  <a:pt x="240" y="389"/>
                </a:lnTo>
                <a:lnTo>
                  <a:pt x="259" y="374"/>
                </a:lnTo>
                <a:lnTo>
                  <a:pt x="278" y="355"/>
                </a:lnTo>
                <a:lnTo>
                  <a:pt x="298" y="336"/>
                </a:lnTo>
                <a:lnTo>
                  <a:pt x="317" y="317"/>
                </a:lnTo>
                <a:lnTo>
                  <a:pt x="331" y="302"/>
                </a:lnTo>
                <a:lnTo>
                  <a:pt x="350" y="283"/>
                </a:lnTo>
                <a:lnTo>
                  <a:pt x="370" y="269"/>
                </a:lnTo>
                <a:lnTo>
                  <a:pt x="389" y="254"/>
                </a:lnTo>
                <a:lnTo>
                  <a:pt x="408" y="240"/>
                </a:lnTo>
                <a:lnTo>
                  <a:pt x="427" y="226"/>
                </a:lnTo>
                <a:lnTo>
                  <a:pt x="446" y="211"/>
                </a:lnTo>
                <a:lnTo>
                  <a:pt x="466" y="202"/>
                </a:lnTo>
                <a:lnTo>
                  <a:pt x="480" y="187"/>
                </a:lnTo>
                <a:lnTo>
                  <a:pt x="499" y="178"/>
                </a:lnTo>
                <a:lnTo>
                  <a:pt x="518" y="168"/>
                </a:lnTo>
                <a:lnTo>
                  <a:pt x="538" y="154"/>
                </a:lnTo>
                <a:lnTo>
                  <a:pt x="557" y="144"/>
                </a:lnTo>
                <a:lnTo>
                  <a:pt x="576" y="134"/>
                </a:lnTo>
                <a:lnTo>
                  <a:pt x="595" y="130"/>
                </a:lnTo>
                <a:lnTo>
                  <a:pt x="610" y="120"/>
                </a:lnTo>
                <a:lnTo>
                  <a:pt x="629" y="110"/>
                </a:lnTo>
                <a:lnTo>
                  <a:pt x="648" y="106"/>
                </a:lnTo>
                <a:lnTo>
                  <a:pt x="667" y="96"/>
                </a:lnTo>
                <a:lnTo>
                  <a:pt x="686" y="91"/>
                </a:lnTo>
                <a:lnTo>
                  <a:pt x="706" y="86"/>
                </a:lnTo>
                <a:lnTo>
                  <a:pt x="725" y="82"/>
                </a:lnTo>
                <a:lnTo>
                  <a:pt x="739" y="77"/>
                </a:lnTo>
                <a:lnTo>
                  <a:pt x="758" y="67"/>
                </a:lnTo>
                <a:lnTo>
                  <a:pt x="778" y="67"/>
                </a:lnTo>
                <a:lnTo>
                  <a:pt x="797" y="62"/>
                </a:lnTo>
                <a:lnTo>
                  <a:pt x="816" y="58"/>
                </a:lnTo>
                <a:lnTo>
                  <a:pt x="835" y="53"/>
                </a:lnTo>
                <a:lnTo>
                  <a:pt x="854" y="48"/>
                </a:lnTo>
                <a:lnTo>
                  <a:pt x="869" y="43"/>
                </a:lnTo>
                <a:lnTo>
                  <a:pt x="888" y="43"/>
                </a:lnTo>
                <a:lnTo>
                  <a:pt x="907" y="38"/>
                </a:lnTo>
                <a:lnTo>
                  <a:pt x="926" y="38"/>
                </a:lnTo>
                <a:lnTo>
                  <a:pt x="946" y="34"/>
                </a:lnTo>
                <a:lnTo>
                  <a:pt x="965" y="34"/>
                </a:lnTo>
                <a:lnTo>
                  <a:pt x="984" y="29"/>
                </a:lnTo>
                <a:lnTo>
                  <a:pt x="998" y="29"/>
                </a:lnTo>
                <a:lnTo>
                  <a:pt x="1018" y="24"/>
                </a:lnTo>
                <a:lnTo>
                  <a:pt x="1037" y="24"/>
                </a:lnTo>
                <a:lnTo>
                  <a:pt x="1056" y="19"/>
                </a:lnTo>
                <a:lnTo>
                  <a:pt x="1075" y="19"/>
                </a:lnTo>
                <a:lnTo>
                  <a:pt x="1094" y="19"/>
                </a:lnTo>
                <a:lnTo>
                  <a:pt x="1114" y="19"/>
                </a:lnTo>
                <a:lnTo>
                  <a:pt x="1128" y="14"/>
                </a:lnTo>
                <a:lnTo>
                  <a:pt x="1147" y="14"/>
                </a:lnTo>
                <a:lnTo>
                  <a:pt x="1166" y="14"/>
                </a:lnTo>
                <a:lnTo>
                  <a:pt x="1186" y="14"/>
                </a:lnTo>
                <a:lnTo>
                  <a:pt x="1205" y="10"/>
                </a:lnTo>
                <a:lnTo>
                  <a:pt x="1224" y="10"/>
                </a:lnTo>
                <a:lnTo>
                  <a:pt x="1243" y="10"/>
                </a:lnTo>
                <a:lnTo>
                  <a:pt x="1258" y="10"/>
                </a:lnTo>
                <a:lnTo>
                  <a:pt x="1277" y="10"/>
                </a:lnTo>
                <a:lnTo>
                  <a:pt x="1296" y="10"/>
                </a:lnTo>
                <a:lnTo>
                  <a:pt x="1315" y="5"/>
                </a:lnTo>
                <a:lnTo>
                  <a:pt x="1334" y="5"/>
                </a:lnTo>
                <a:lnTo>
                  <a:pt x="1354" y="5"/>
                </a:lnTo>
                <a:lnTo>
                  <a:pt x="1373" y="5"/>
                </a:lnTo>
                <a:lnTo>
                  <a:pt x="1392" y="5"/>
                </a:lnTo>
                <a:lnTo>
                  <a:pt x="1406" y="5"/>
                </a:lnTo>
                <a:lnTo>
                  <a:pt x="1426" y="5"/>
                </a:lnTo>
                <a:lnTo>
                  <a:pt x="1445" y="5"/>
                </a:lnTo>
                <a:lnTo>
                  <a:pt x="1464" y="5"/>
                </a:lnTo>
                <a:lnTo>
                  <a:pt x="1483" y="5"/>
                </a:lnTo>
                <a:lnTo>
                  <a:pt x="1502" y="0"/>
                </a:lnTo>
                <a:lnTo>
                  <a:pt x="1522" y="0"/>
                </a:lnTo>
                <a:lnTo>
                  <a:pt x="1536" y="0"/>
                </a:lnTo>
                <a:lnTo>
                  <a:pt x="1555" y="0"/>
                </a:lnTo>
                <a:lnTo>
                  <a:pt x="1574" y="0"/>
                </a:lnTo>
                <a:lnTo>
                  <a:pt x="1594" y="0"/>
                </a:lnTo>
                <a:lnTo>
                  <a:pt x="1613" y="0"/>
                </a:lnTo>
                <a:lnTo>
                  <a:pt x="1632" y="0"/>
                </a:lnTo>
                <a:lnTo>
                  <a:pt x="1651" y="0"/>
                </a:lnTo>
                <a:lnTo>
                  <a:pt x="1666" y="0"/>
                </a:lnTo>
                <a:lnTo>
                  <a:pt x="1685" y="0"/>
                </a:lnTo>
                <a:lnTo>
                  <a:pt x="1704" y="0"/>
                </a:lnTo>
                <a:lnTo>
                  <a:pt x="1723" y="0"/>
                </a:lnTo>
                <a:lnTo>
                  <a:pt x="1742" y="0"/>
                </a:lnTo>
                <a:lnTo>
                  <a:pt x="1762" y="0"/>
                </a:lnTo>
                <a:lnTo>
                  <a:pt x="1781" y="0"/>
                </a:lnTo>
                <a:lnTo>
                  <a:pt x="1795" y="0"/>
                </a:lnTo>
                <a:lnTo>
                  <a:pt x="1814" y="0"/>
                </a:lnTo>
                <a:lnTo>
                  <a:pt x="1834" y="0"/>
                </a:lnTo>
                <a:lnTo>
                  <a:pt x="1853" y="0"/>
                </a:lnTo>
              </a:path>
            </a:pathLst>
          </a:custGeom>
          <a:solidFill>
            <a:srgbClr val="ffffff"/>
          </a:solidFill>
          <a:ln cap="rnd" w="38160">
            <a:solidFill>
              <a:srgbClr val="15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4861080" y="1898640"/>
            <a:ext cx="3716280" cy="278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349960" y="4375080"/>
            <a:ext cx="286848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349960" y="2104920"/>
            <a:ext cx="286848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5343480" y="2098440"/>
            <a:ext cx="0" cy="228276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8224920" y="2098440"/>
            <a:ext cx="0" cy="228276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343480" y="2104920"/>
            <a:ext cx="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8224920" y="4375080"/>
            <a:ext cx="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349960" y="4375080"/>
            <a:ext cx="286848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5343480" y="2098440"/>
            <a:ext cx="0" cy="228276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343480" y="4375080"/>
            <a:ext cx="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V="1">
            <a:off x="5343480" y="4338360"/>
            <a:ext cx="0" cy="428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343480" y="2111400"/>
            <a:ext cx="0" cy="1728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230080" y="4354560"/>
            <a:ext cx="233280" cy="21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5918040" y="4338360"/>
            <a:ext cx="0" cy="428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918040" y="2111400"/>
            <a:ext cx="0" cy="1728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804640" y="4354560"/>
            <a:ext cx="233280" cy="21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6492960" y="4338360"/>
            <a:ext cx="0" cy="428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492960" y="2111400"/>
            <a:ext cx="0" cy="1728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379560" y="4354560"/>
            <a:ext cx="233280" cy="21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V="1">
            <a:off x="7074000" y="4338360"/>
            <a:ext cx="0" cy="428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074000" y="2111400"/>
            <a:ext cx="0" cy="1728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960600" y="4354560"/>
            <a:ext cx="233280" cy="21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000"/>
                </a:solidFill>
                <a:latin typeface="Times New Roman"/>
              </a:rPr>
              <a:t>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7650000" y="4338360"/>
            <a:ext cx="0" cy="428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650000" y="2111400"/>
            <a:ext cx="0" cy="1728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7535160" y="4354560"/>
            <a:ext cx="233280" cy="21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8224920" y="4338360"/>
            <a:ext cx="0" cy="4284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8224920" y="2111400"/>
            <a:ext cx="0" cy="1728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8080920" y="4354560"/>
            <a:ext cx="285120" cy="21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349960" y="4375080"/>
            <a:ext cx="158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8187840" y="4375080"/>
            <a:ext cx="428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056200" y="4264200"/>
            <a:ext cx="344520" cy="21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000"/>
                </a:solidFill>
                <a:latin typeface="Times New Roman"/>
              </a:rPr>
              <a:t>-0.5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349960" y="3919680"/>
            <a:ext cx="158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H="1">
            <a:off x="8187840" y="3919680"/>
            <a:ext cx="428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5169600" y="3808440"/>
            <a:ext cx="233280" cy="21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5349960" y="3463920"/>
            <a:ext cx="158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H="1">
            <a:off x="8187840" y="3463920"/>
            <a:ext cx="428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5086440" y="3352680"/>
            <a:ext cx="311040" cy="21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000"/>
                </a:solidFill>
                <a:latin typeface="Times New Roman"/>
              </a:rPr>
              <a:t>0.5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349960" y="3016080"/>
            <a:ext cx="158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H="1">
            <a:off x="8187840" y="3016080"/>
            <a:ext cx="428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169600" y="2905200"/>
            <a:ext cx="233280" cy="21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5349960" y="2560680"/>
            <a:ext cx="158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8187840" y="2560680"/>
            <a:ext cx="428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086440" y="2449440"/>
            <a:ext cx="311040" cy="21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000"/>
                </a:solidFill>
                <a:latin typeface="Times New Roman"/>
              </a:rPr>
              <a:t>1.5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5349960" y="2104920"/>
            <a:ext cx="158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H="1">
            <a:off x="8187840" y="2104920"/>
            <a:ext cx="4284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169600" y="1994040"/>
            <a:ext cx="233280" cy="21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5349960" y="4375080"/>
            <a:ext cx="286848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349960" y="2104920"/>
            <a:ext cx="286848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V="1">
            <a:off x="5343480" y="2098440"/>
            <a:ext cx="0" cy="228276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V="1">
            <a:off x="8224920" y="2098440"/>
            <a:ext cx="0" cy="228276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343480" y="4375080"/>
            <a:ext cx="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8224920" y="2104920"/>
            <a:ext cx="0" cy="0"/>
          </a:xfrm>
          <a:prstGeom prst="line">
            <a:avLst/>
          </a:prstGeom>
          <a:ln w="12600">
            <a:solidFill>
              <a:srgbClr val="1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43480" y="2440080"/>
            <a:ext cx="2882880" cy="1481040"/>
          </a:xfrm>
          <a:custGeom>
            <a:avLst/>
            <a:gdLst/>
            <a:ahLst/>
            <a:rect l="l" t="t" r="r" b="b"/>
            <a:pathLst>
              <a:path w="1816" h="933">
                <a:moveTo>
                  <a:pt x="0" y="932"/>
                </a:moveTo>
                <a:lnTo>
                  <a:pt x="18" y="880"/>
                </a:lnTo>
                <a:lnTo>
                  <a:pt x="37" y="739"/>
                </a:lnTo>
                <a:lnTo>
                  <a:pt x="56" y="541"/>
                </a:lnTo>
                <a:lnTo>
                  <a:pt x="70" y="339"/>
                </a:lnTo>
                <a:lnTo>
                  <a:pt x="89" y="165"/>
                </a:lnTo>
                <a:lnTo>
                  <a:pt x="108" y="47"/>
                </a:lnTo>
                <a:lnTo>
                  <a:pt x="127" y="0"/>
                </a:lnTo>
                <a:lnTo>
                  <a:pt x="145" y="24"/>
                </a:lnTo>
                <a:lnTo>
                  <a:pt x="164" y="109"/>
                </a:lnTo>
                <a:lnTo>
                  <a:pt x="183" y="231"/>
                </a:lnTo>
                <a:lnTo>
                  <a:pt x="197" y="358"/>
                </a:lnTo>
                <a:lnTo>
                  <a:pt x="216" y="471"/>
                </a:lnTo>
                <a:lnTo>
                  <a:pt x="235" y="551"/>
                </a:lnTo>
                <a:lnTo>
                  <a:pt x="254" y="588"/>
                </a:lnTo>
                <a:lnTo>
                  <a:pt x="272" y="574"/>
                </a:lnTo>
                <a:lnTo>
                  <a:pt x="291" y="527"/>
                </a:lnTo>
                <a:lnTo>
                  <a:pt x="310" y="452"/>
                </a:lnTo>
                <a:lnTo>
                  <a:pt x="324" y="372"/>
                </a:lnTo>
                <a:lnTo>
                  <a:pt x="343" y="297"/>
                </a:lnTo>
                <a:lnTo>
                  <a:pt x="362" y="245"/>
                </a:lnTo>
                <a:lnTo>
                  <a:pt x="380" y="221"/>
                </a:lnTo>
                <a:lnTo>
                  <a:pt x="399" y="221"/>
                </a:lnTo>
                <a:lnTo>
                  <a:pt x="418" y="250"/>
                </a:lnTo>
                <a:lnTo>
                  <a:pt x="437" y="297"/>
                </a:lnTo>
                <a:lnTo>
                  <a:pt x="456" y="348"/>
                </a:lnTo>
                <a:lnTo>
                  <a:pt x="470" y="396"/>
                </a:lnTo>
                <a:lnTo>
                  <a:pt x="489" y="428"/>
                </a:lnTo>
                <a:lnTo>
                  <a:pt x="507" y="447"/>
                </a:lnTo>
                <a:lnTo>
                  <a:pt x="526" y="447"/>
                </a:lnTo>
                <a:lnTo>
                  <a:pt x="545" y="433"/>
                </a:lnTo>
                <a:lnTo>
                  <a:pt x="564" y="405"/>
                </a:lnTo>
                <a:lnTo>
                  <a:pt x="583" y="372"/>
                </a:lnTo>
                <a:lnTo>
                  <a:pt x="597" y="344"/>
                </a:lnTo>
                <a:lnTo>
                  <a:pt x="616" y="320"/>
                </a:lnTo>
                <a:lnTo>
                  <a:pt x="634" y="306"/>
                </a:lnTo>
                <a:lnTo>
                  <a:pt x="653" y="306"/>
                </a:lnTo>
                <a:lnTo>
                  <a:pt x="672" y="316"/>
                </a:lnTo>
                <a:lnTo>
                  <a:pt x="691" y="330"/>
                </a:lnTo>
                <a:lnTo>
                  <a:pt x="710" y="348"/>
                </a:lnTo>
                <a:lnTo>
                  <a:pt x="724" y="367"/>
                </a:lnTo>
                <a:lnTo>
                  <a:pt x="743" y="386"/>
                </a:lnTo>
                <a:lnTo>
                  <a:pt x="761" y="396"/>
                </a:lnTo>
                <a:lnTo>
                  <a:pt x="780" y="396"/>
                </a:lnTo>
                <a:lnTo>
                  <a:pt x="799" y="391"/>
                </a:lnTo>
                <a:lnTo>
                  <a:pt x="818" y="381"/>
                </a:lnTo>
                <a:lnTo>
                  <a:pt x="837" y="367"/>
                </a:lnTo>
                <a:lnTo>
                  <a:pt x="851" y="358"/>
                </a:lnTo>
                <a:lnTo>
                  <a:pt x="870" y="348"/>
                </a:lnTo>
                <a:lnTo>
                  <a:pt x="888" y="339"/>
                </a:lnTo>
                <a:lnTo>
                  <a:pt x="907" y="339"/>
                </a:lnTo>
                <a:lnTo>
                  <a:pt x="926" y="339"/>
                </a:lnTo>
                <a:lnTo>
                  <a:pt x="945" y="348"/>
                </a:lnTo>
                <a:lnTo>
                  <a:pt x="964" y="353"/>
                </a:lnTo>
                <a:lnTo>
                  <a:pt x="978" y="363"/>
                </a:lnTo>
                <a:lnTo>
                  <a:pt x="996" y="367"/>
                </a:lnTo>
                <a:lnTo>
                  <a:pt x="1015" y="372"/>
                </a:lnTo>
                <a:lnTo>
                  <a:pt x="1034" y="377"/>
                </a:lnTo>
                <a:lnTo>
                  <a:pt x="1053" y="372"/>
                </a:lnTo>
                <a:lnTo>
                  <a:pt x="1072" y="372"/>
                </a:lnTo>
                <a:lnTo>
                  <a:pt x="1090" y="367"/>
                </a:lnTo>
                <a:lnTo>
                  <a:pt x="1105" y="363"/>
                </a:lnTo>
                <a:lnTo>
                  <a:pt x="1123" y="358"/>
                </a:lnTo>
                <a:lnTo>
                  <a:pt x="1142" y="353"/>
                </a:lnTo>
                <a:lnTo>
                  <a:pt x="1161" y="353"/>
                </a:lnTo>
                <a:lnTo>
                  <a:pt x="1180" y="353"/>
                </a:lnTo>
                <a:lnTo>
                  <a:pt x="1199" y="353"/>
                </a:lnTo>
                <a:lnTo>
                  <a:pt x="1217" y="358"/>
                </a:lnTo>
                <a:lnTo>
                  <a:pt x="1232" y="363"/>
                </a:lnTo>
                <a:lnTo>
                  <a:pt x="1250" y="363"/>
                </a:lnTo>
                <a:lnTo>
                  <a:pt x="1269" y="367"/>
                </a:lnTo>
                <a:lnTo>
                  <a:pt x="1288" y="367"/>
                </a:lnTo>
                <a:lnTo>
                  <a:pt x="1307" y="367"/>
                </a:lnTo>
                <a:lnTo>
                  <a:pt x="1326" y="363"/>
                </a:lnTo>
                <a:lnTo>
                  <a:pt x="1344" y="363"/>
                </a:lnTo>
                <a:lnTo>
                  <a:pt x="1363" y="363"/>
                </a:lnTo>
                <a:lnTo>
                  <a:pt x="1377" y="358"/>
                </a:lnTo>
                <a:lnTo>
                  <a:pt x="1396" y="358"/>
                </a:lnTo>
                <a:lnTo>
                  <a:pt x="1415" y="358"/>
                </a:lnTo>
                <a:lnTo>
                  <a:pt x="1434" y="358"/>
                </a:lnTo>
                <a:lnTo>
                  <a:pt x="1453" y="358"/>
                </a:lnTo>
                <a:lnTo>
                  <a:pt x="1471" y="358"/>
                </a:lnTo>
                <a:lnTo>
                  <a:pt x="1490" y="363"/>
                </a:lnTo>
                <a:lnTo>
                  <a:pt x="1504" y="363"/>
                </a:lnTo>
                <a:lnTo>
                  <a:pt x="1523" y="363"/>
                </a:lnTo>
                <a:lnTo>
                  <a:pt x="1542" y="363"/>
                </a:lnTo>
                <a:lnTo>
                  <a:pt x="1561" y="363"/>
                </a:lnTo>
                <a:lnTo>
                  <a:pt x="1580" y="363"/>
                </a:lnTo>
                <a:lnTo>
                  <a:pt x="1598" y="363"/>
                </a:lnTo>
                <a:lnTo>
                  <a:pt x="1617" y="363"/>
                </a:lnTo>
                <a:lnTo>
                  <a:pt x="1631" y="363"/>
                </a:lnTo>
                <a:lnTo>
                  <a:pt x="1650" y="358"/>
                </a:lnTo>
                <a:lnTo>
                  <a:pt x="1669" y="358"/>
                </a:lnTo>
                <a:lnTo>
                  <a:pt x="1688" y="358"/>
                </a:lnTo>
                <a:lnTo>
                  <a:pt x="1706" y="358"/>
                </a:lnTo>
                <a:lnTo>
                  <a:pt x="1725" y="358"/>
                </a:lnTo>
                <a:lnTo>
                  <a:pt x="1744" y="363"/>
                </a:lnTo>
                <a:lnTo>
                  <a:pt x="1758" y="363"/>
                </a:lnTo>
                <a:lnTo>
                  <a:pt x="1777" y="363"/>
                </a:lnTo>
                <a:lnTo>
                  <a:pt x="1796" y="363"/>
                </a:lnTo>
                <a:lnTo>
                  <a:pt x="1815" y="363"/>
                </a:lnTo>
              </a:path>
            </a:pathLst>
          </a:custGeom>
          <a:solidFill>
            <a:srgbClr val="ffffff"/>
          </a:solidFill>
          <a:ln cap="rnd" w="38160">
            <a:solidFill>
              <a:srgbClr val="15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138360" y="1874880"/>
            <a:ext cx="1198080" cy="21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40000"/>
                </a:solidFill>
                <a:latin typeface="Times New Roman"/>
              </a:rPr>
              <a:t>respuesta en lazo abierto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068480" y="5167440"/>
            <a:ext cx="2436840" cy="4546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obreamortigu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259960" y="5129280"/>
            <a:ext cx="2199240" cy="4546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ubamortigu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968640" y="5448240"/>
            <a:ext cx="36828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4343400" y="5137200"/>
            <a:ext cx="0" cy="31752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338720" y="5132520"/>
            <a:ext cx="48240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481640" y="50911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176040" y="1814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519440" y="18525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Respuesta dinámic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6406560" y="5114880"/>
            <a:ext cx="103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534360" y="1738440"/>
            <a:ext cx="255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5% del valor f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1101600" y="2387520"/>
            <a:ext cx="0" cy="3119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54120" y="5272200"/>
            <a:ext cx="5502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108080" y="4935600"/>
            <a:ext cx="89532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2009880" y="4543560"/>
            <a:ext cx="0" cy="39816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016000" y="4549680"/>
            <a:ext cx="4130640" cy="32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254480" y="45435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492360" y="28051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2831760" y="1886040"/>
            <a:ext cx="43164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V="1">
            <a:off x="4959360" y="1909800"/>
            <a:ext cx="474480" cy="1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H="1">
            <a:off x="6136920" y="2119320"/>
            <a:ext cx="298440" cy="2952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111320" y="3981600"/>
            <a:ext cx="1511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851120" y="571968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ar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981080" y="3645000"/>
            <a:ext cx="0" cy="162540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673360" y="3981600"/>
            <a:ext cx="128268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666880" y="2244600"/>
            <a:ext cx="3468960" cy="1717920"/>
          </a:xfrm>
          <a:custGeom>
            <a:avLst/>
            <a:gdLst/>
            <a:ahLst/>
            <a:rect l="l" t="t" r="r" b="b"/>
            <a:pathLst>
              <a:path w="2185" h="1069">
                <a:moveTo>
                  <a:pt x="0" y="1068"/>
                </a:moveTo>
                <a:lnTo>
                  <a:pt x="48" y="1056"/>
                </a:lnTo>
                <a:lnTo>
                  <a:pt x="96" y="1032"/>
                </a:lnTo>
                <a:lnTo>
                  <a:pt x="120" y="984"/>
                </a:lnTo>
                <a:lnTo>
                  <a:pt x="168" y="960"/>
                </a:lnTo>
                <a:lnTo>
                  <a:pt x="168" y="912"/>
                </a:lnTo>
                <a:lnTo>
                  <a:pt x="216" y="888"/>
                </a:lnTo>
                <a:lnTo>
                  <a:pt x="240" y="840"/>
                </a:lnTo>
                <a:lnTo>
                  <a:pt x="264" y="792"/>
                </a:lnTo>
                <a:lnTo>
                  <a:pt x="288" y="744"/>
                </a:lnTo>
                <a:lnTo>
                  <a:pt x="312" y="696"/>
                </a:lnTo>
                <a:lnTo>
                  <a:pt x="336" y="648"/>
                </a:lnTo>
                <a:lnTo>
                  <a:pt x="360" y="600"/>
                </a:lnTo>
                <a:lnTo>
                  <a:pt x="360" y="552"/>
                </a:lnTo>
                <a:lnTo>
                  <a:pt x="384" y="504"/>
                </a:lnTo>
                <a:lnTo>
                  <a:pt x="384" y="456"/>
                </a:lnTo>
                <a:lnTo>
                  <a:pt x="408" y="408"/>
                </a:lnTo>
                <a:lnTo>
                  <a:pt x="408" y="360"/>
                </a:lnTo>
                <a:lnTo>
                  <a:pt x="456" y="336"/>
                </a:lnTo>
                <a:lnTo>
                  <a:pt x="456" y="288"/>
                </a:lnTo>
                <a:lnTo>
                  <a:pt x="480" y="240"/>
                </a:lnTo>
                <a:lnTo>
                  <a:pt x="504" y="192"/>
                </a:lnTo>
                <a:lnTo>
                  <a:pt x="552" y="168"/>
                </a:lnTo>
                <a:lnTo>
                  <a:pt x="576" y="120"/>
                </a:lnTo>
                <a:lnTo>
                  <a:pt x="624" y="96"/>
                </a:lnTo>
                <a:lnTo>
                  <a:pt x="648" y="48"/>
                </a:lnTo>
                <a:lnTo>
                  <a:pt x="696" y="24"/>
                </a:lnTo>
                <a:lnTo>
                  <a:pt x="744" y="24"/>
                </a:lnTo>
                <a:lnTo>
                  <a:pt x="792" y="0"/>
                </a:lnTo>
                <a:lnTo>
                  <a:pt x="840" y="0"/>
                </a:lnTo>
                <a:lnTo>
                  <a:pt x="888" y="0"/>
                </a:lnTo>
                <a:lnTo>
                  <a:pt x="936" y="24"/>
                </a:lnTo>
                <a:lnTo>
                  <a:pt x="984" y="48"/>
                </a:lnTo>
                <a:lnTo>
                  <a:pt x="1008" y="96"/>
                </a:lnTo>
                <a:lnTo>
                  <a:pt x="1032" y="144"/>
                </a:lnTo>
                <a:lnTo>
                  <a:pt x="1056" y="192"/>
                </a:lnTo>
                <a:lnTo>
                  <a:pt x="1104" y="192"/>
                </a:lnTo>
                <a:lnTo>
                  <a:pt x="1128" y="240"/>
                </a:lnTo>
                <a:lnTo>
                  <a:pt x="1176" y="264"/>
                </a:lnTo>
                <a:lnTo>
                  <a:pt x="1224" y="288"/>
                </a:lnTo>
                <a:lnTo>
                  <a:pt x="1272" y="312"/>
                </a:lnTo>
                <a:lnTo>
                  <a:pt x="1320" y="312"/>
                </a:lnTo>
                <a:lnTo>
                  <a:pt x="1368" y="312"/>
                </a:lnTo>
                <a:lnTo>
                  <a:pt x="1416" y="288"/>
                </a:lnTo>
                <a:lnTo>
                  <a:pt x="1464" y="264"/>
                </a:lnTo>
                <a:lnTo>
                  <a:pt x="1488" y="216"/>
                </a:lnTo>
                <a:lnTo>
                  <a:pt x="1536" y="192"/>
                </a:lnTo>
                <a:lnTo>
                  <a:pt x="1584" y="168"/>
                </a:lnTo>
                <a:lnTo>
                  <a:pt x="1632" y="144"/>
                </a:lnTo>
                <a:lnTo>
                  <a:pt x="1656" y="96"/>
                </a:lnTo>
                <a:lnTo>
                  <a:pt x="1704" y="96"/>
                </a:lnTo>
                <a:lnTo>
                  <a:pt x="1752" y="120"/>
                </a:lnTo>
                <a:lnTo>
                  <a:pt x="1800" y="144"/>
                </a:lnTo>
                <a:lnTo>
                  <a:pt x="1848" y="168"/>
                </a:lnTo>
                <a:lnTo>
                  <a:pt x="1896" y="168"/>
                </a:lnTo>
                <a:lnTo>
                  <a:pt x="1944" y="168"/>
                </a:lnTo>
                <a:lnTo>
                  <a:pt x="1992" y="168"/>
                </a:lnTo>
                <a:lnTo>
                  <a:pt x="2040" y="168"/>
                </a:lnTo>
                <a:lnTo>
                  <a:pt x="2088" y="168"/>
                </a:lnTo>
                <a:lnTo>
                  <a:pt x="2136" y="192"/>
                </a:lnTo>
                <a:lnTo>
                  <a:pt x="2184" y="168"/>
                </a:lnTo>
                <a:lnTo>
                  <a:pt x="2136" y="19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145200" y="2514600"/>
            <a:ext cx="1054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4565160" y="2590920"/>
            <a:ext cx="2374920" cy="0"/>
          </a:xfrm>
          <a:prstGeom prst="line">
            <a:avLst/>
          </a:prstGeom>
          <a:ln w="12600">
            <a:solidFill>
              <a:srgbClr val="fafd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5489640" y="1882440"/>
            <a:ext cx="0" cy="46980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334680" y="1433520"/>
            <a:ext cx="1793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emp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ent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4565160" y="2438280"/>
            <a:ext cx="2374920" cy="0"/>
          </a:xfrm>
          <a:prstGeom prst="line">
            <a:avLst/>
          </a:prstGeom>
          <a:ln w="12600">
            <a:solidFill>
              <a:srgbClr val="fafd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968480" y="5543640"/>
            <a:ext cx="711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2666880" y="1746360"/>
            <a:ext cx="0" cy="351792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respuesta dinámic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39920" y="1738440"/>
            <a:ext cx="389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c0128"/>
                </a:solidFill>
                <a:latin typeface="Times New Roman"/>
              </a:rPr>
              <a:t>Sobrepico en %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00 Mp/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0280" y="2576520"/>
            <a:ext cx="257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Gananc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/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339920" y="5653080"/>
            <a:ext cx="652140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793880" y="5316480"/>
            <a:ext cx="89532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652840" y="4702320"/>
            <a:ext cx="5056200" cy="288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40280" y="4924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140360" y="36050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797120" y="4362480"/>
            <a:ext cx="1511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359160" y="4362480"/>
            <a:ext cx="434988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V="1">
            <a:off x="7104240" y="2870280"/>
            <a:ext cx="1387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 flipV="1">
            <a:off x="4020840" y="2868120"/>
            <a:ext cx="3498840" cy="3240"/>
          </a:xfrm>
          <a:prstGeom prst="line">
            <a:avLst/>
          </a:prstGeom>
          <a:ln w="12600">
            <a:solidFill>
              <a:srgbClr val="fafd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295800" y="2152800"/>
            <a:ext cx="3811320" cy="2211120"/>
          </a:xfrm>
          <a:custGeom>
            <a:avLst/>
            <a:gdLst/>
            <a:ahLst/>
            <a:rect l="l" t="t" r="r" b="b"/>
            <a:pathLst>
              <a:path w="2401" h="1393">
                <a:moveTo>
                  <a:pt x="0" y="1392"/>
                </a:moveTo>
                <a:lnTo>
                  <a:pt x="48" y="1368"/>
                </a:lnTo>
                <a:lnTo>
                  <a:pt x="96" y="1344"/>
                </a:lnTo>
                <a:lnTo>
                  <a:pt x="144" y="1320"/>
                </a:lnTo>
                <a:lnTo>
                  <a:pt x="168" y="1272"/>
                </a:lnTo>
                <a:lnTo>
                  <a:pt x="216" y="1248"/>
                </a:lnTo>
                <a:lnTo>
                  <a:pt x="240" y="1200"/>
                </a:lnTo>
                <a:lnTo>
                  <a:pt x="288" y="1176"/>
                </a:lnTo>
                <a:lnTo>
                  <a:pt x="312" y="1128"/>
                </a:lnTo>
                <a:lnTo>
                  <a:pt x="360" y="1104"/>
                </a:lnTo>
                <a:lnTo>
                  <a:pt x="360" y="1056"/>
                </a:lnTo>
                <a:lnTo>
                  <a:pt x="408" y="1008"/>
                </a:lnTo>
                <a:lnTo>
                  <a:pt x="432" y="960"/>
                </a:lnTo>
                <a:lnTo>
                  <a:pt x="480" y="912"/>
                </a:lnTo>
                <a:lnTo>
                  <a:pt x="504" y="864"/>
                </a:lnTo>
                <a:lnTo>
                  <a:pt x="528" y="816"/>
                </a:lnTo>
                <a:lnTo>
                  <a:pt x="576" y="792"/>
                </a:lnTo>
                <a:lnTo>
                  <a:pt x="576" y="744"/>
                </a:lnTo>
                <a:lnTo>
                  <a:pt x="624" y="696"/>
                </a:lnTo>
                <a:lnTo>
                  <a:pt x="648" y="648"/>
                </a:lnTo>
                <a:lnTo>
                  <a:pt x="696" y="600"/>
                </a:lnTo>
                <a:lnTo>
                  <a:pt x="720" y="552"/>
                </a:lnTo>
                <a:lnTo>
                  <a:pt x="720" y="504"/>
                </a:lnTo>
                <a:lnTo>
                  <a:pt x="744" y="456"/>
                </a:lnTo>
                <a:lnTo>
                  <a:pt x="768" y="408"/>
                </a:lnTo>
                <a:lnTo>
                  <a:pt x="792" y="360"/>
                </a:lnTo>
                <a:lnTo>
                  <a:pt x="816" y="312"/>
                </a:lnTo>
                <a:lnTo>
                  <a:pt x="864" y="264"/>
                </a:lnTo>
                <a:lnTo>
                  <a:pt x="888" y="216"/>
                </a:lnTo>
                <a:lnTo>
                  <a:pt x="912" y="168"/>
                </a:lnTo>
                <a:lnTo>
                  <a:pt x="960" y="120"/>
                </a:lnTo>
                <a:lnTo>
                  <a:pt x="1008" y="72"/>
                </a:lnTo>
                <a:lnTo>
                  <a:pt x="1056" y="48"/>
                </a:lnTo>
                <a:lnTo>
                  <a:pt x="1104" y="24"/>
                </a:lnTo>
                <a:lnTo>
                  <a:pt x="1152" y="24"/>
                </a:lnTo>
                <a:lnTo>
                  <a:pt x="1200" y="0"/>
                </a:lnTo>
                <a:lnTo>
                  <a:pt x="1248" y="0"/>
                </a:lnTo>
                <a:lnTo>
                  <a:pt x="1296" y="24"/>
                </a:lnTo>
                <a:lnTo>
                  <a:pt x="1344" y="48"/>
                </a:lnTo>
                <a:lnTo>
                  <a:pt x="1392" y="72"/>
                </a:lnTo>
                <a:lnTo>
                  <a:pt x="1440" y="120"/>
                </a:lnTo>
                <a:lnTo>
                  <a:pt x="1488" y="144"/>
                </a:lnTo>
                <a:lnTo>
                  <a:pt x="1536" y="192"/>
                </a:lnTo>
                <a:lnTo>
                  <a:pt x="1584" y="216"/>
                </a:lnTo>
                <a:lnTo>
                  <a:pt x="1608" y="264"/>
                </a:lnTo>
                <a:lnTo>
                  <a:pt x="1656" y="264"/>
                </a:lnTo>
                <a:lnTo>
                  <a:pt x="1680" y="312"/>
                </a:lnTo>
                <a:lnTo>
                  <a:pt x="1728" y="336"/>
                </a:lnTo>
                <a:lnTo>
                  <a:pt x="1752" y="384"/>
                </a:lnTo>
                <a:lnTo>
                  <a:pt x="1800" y="408"/>
                </a:lnTo>
                <a:lnTo>
                  <a:pt x="1848" y="432"/>
                </a:lnTo>
                <a:lnTo>
                  <a:pt x="1872" y="480"/>
                </a:lnTo>
                <a:lnTo>
                  <a:pt x="1920" y="480"/>
                </a:lnTo>
                <a:lnTo>
                  <a:pt x="1968" y="504"/>
                </a:lnTo>
                <a:lnTo>
                  <a:pt x="2016" y="528"/>
                </a:lnTo>
                <a:lnTo>
                  <a:pt x="2064" y="528"/>
                </a:lnTo>
                <a:lnTo>
                  <a:pt x="2112" y="528"/>
                </a:lnTo>
                <a:lnTo>
                  <a:pt x="2160" y="528"/>
                </a:lnTo>
                <a:lnTo>
                  <a:pt x="2208" y="528"/>
                </a:lnTo>
                <a:lnTo>
                  <a:pt x="2256" y="504"/>
                </a:lnTo>
                <a:lnTo>
                  <a:pt x="2304" y="480"/>
                </a:lnTo>
                <a:lnTo>
                  <a:pt x="2352" y="480"/>
                </a:lnTo>
                <a:lnTo>
                  <a:pt x="2400" y="456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7053120" y="3319560"/>
            <a:ext cx="51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7639200" y="2959200"/>
            <a:ext cx="0" cy="13586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900840" y="4767120"/>
            <a:ext cx="51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7602120" y="4768920"/>
            <a:ext cx="4680" cy="558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238720" y="2235240"/>
            <a:ext cx="0" cy="635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735440" y="2328840"/>
            <a:ext cx="54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133720" y="3664080"/>
            <a:ext cx="0" cy="234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7298640" y="5776920"/>
            <a:ext cx="103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666880" y="4691160"/>
            <a:ext cx="0" cy="63648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597040" y="5324400"/>
            <a:ext cx="53215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Operación Automátic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92880" y="4273560"/>
            <a:ext cx="44424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71640" y="432900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49920" y="4287960"/>
            <a:ext cx="52092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434340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56200" y="4495680"/>
            <a:ext cx="749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4495680"/>
            <a:ext cx="5079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6560" y="2139840"/>
            <a:ext cx="1511280" cy="1739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70200" y="2271600"/>
            <a:ext cx="14022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5486400"/>
            <a:ext cx="4827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4280040"/>
            <a:ext cx="0" cy="149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4572000"/>
            <a:ext cx="1905120" cy="1219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43434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579132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5638680"/>
            <a:ext cx="1524240" cy="76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55627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705720" y="5562360"/>
            <a:ext cx="3808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5562720"/>
            <a:ext cx="3808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55627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5638680"/>
            <a:ext cx="1523880" cy="76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892920" y="540972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3429000"/>
            <a:ext cx="1523880" cy="76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3429000"/>
            <a:ext cx="75960" cy="5335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4038480"/>
            <a:ext cx="75960" cy="1526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4267080"/>
            <a:ext cx="75960" cy="1526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257800"/>
            <a:ext cx="53352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10560" y="478296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472428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Gananci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1391760" y="2214720"/>
            <a:ext cx="2377440" cy="4546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nancia posi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353920" y="2214720"/>
            <a:ext cx="2444760" cy="8204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nancia neg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inver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838080" y="3301920"/>
            <a:ext cx="0" cy="246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77800" y="5581800"/>
            <a:ext cx="322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844560" y="5315040"/>
            <a:ext cx="52056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 flipV="1">
            <a:off x="1371600" y="5003640"/>
            <a:ext cx="0" cy="31752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378080" y="5010120"/>
            <a:ext cx="173988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838080" y="3905280"/>
            <a:ext cx="2516400" cy="496800"/>
          </a:xfrm>
          <a:custGeom>
            <a:avLst/>
            <a:gdLst/>
            <a:ahLst/>
            <a:rect l="l" t="t" r="r" b="b"/>
            <a:pathLst>
              <a:path w="1585" h="313">
                <a:moveTo>
                  <a:pt x="0" y="312"/>
                </a:moveTo>
                <a:lnTo>
                  <a:pt x="48" y="312"/>
                </a:lnTo>
                <a:lnTo>
                  <a:pt x="96" y="312"/>
                </a:lnTo>
                <a:lnTo>
                  <a:pt x="144" y="312"/>
                </a:lnTo>
                <a:lnTo>
                  <a:pt x="192" y="312"/>
                </a:lnTo>
                <a:lnTo>
                  <a:pt x="240" y="312"/>
                </a:lnTo>
                <a:lnTo>
                  <a:pt x="288" y="312"/>
                </a:lnTo>
                <a:lnTo>
                  <a:pt x="336" y="312"/>
                </a:lnTo>
                <a:lnTo>
                  <a:pt x="384" y="288"/>
                </a:lnTo>
                <a:lnTo>
                  <a:pt x="408" y="240"/>
                </a:lnTo>
                <a:lnTo>
                  <a:pt x="456" y="216"/>
                </a:lnTo>
                <a:lnTo>
                  <a:pt x="504" y="192"/>
                </a:lnTo>
                <a:lnTo>
                  <a:pt x="528" y="144"/>
                </a:lnTo>
                <a:lnTo>
                  <a:pt x="576" y="120"/>
                </a:lnTo>
                <a:lnTo>
                  <a:pt x="600" y="72"/>
                </a:lnTo>
                <a:lnTo>
                  <a:pt x="648" y="24"/>
                </a:lnTo>
                <a:lnTo>
                  <a:pt x="696" y="24"/>
                </a:lnTo>
                <a:lnTo>
                  <a:pt x="744" y="0"/>
                </a:lnTo>
                <a:lnTo>
                  <a:pt x="792" y="24"/>
                </a:lnTo>
                <a:lnTo>
                  <a:pt x="840" y="48"/>
                </a:lnTo>
                <a:lnTo>
                  <a:pt x="864" y="96"/>
                </a:lnTo>
                <a:lnTo>
                  <a:pt x="912" y="96"/>
                </a:lnTo>
                <a:lnTo>
                  <a:pt x="960" y="96"/>
                </a:lnTo>
                <a:lnTo>
                  <a:pt x="1008" y="72"/>
                </a:lnTo>
                <a:lnTo>
                  <a:pt x="1032" y="24"/>
                </a:lnTo>
                <a:lnTo>
                  <a:pt x="1080" y="24"/>
                </a:lnTo>
                <a:lnTo>
                  <a:pt x="1128" y="24"/>
                </a:lnTo>
                <a:lnTo>
                  <a:pt x="1176" y="48"/>
                </a:lnTo>
                <a:lnTo>
                  <a:pt x="1224" y="72"/>
                </a:lnTo>
                <a:lnTo>
                  <a:pt x="1272" y="72"/>
                </a:lnTo>
                <a:lnTo>
                  <a:pt x="1296" y="24"/>
                </a:lnTo>
                <a:lnTo>
                  <a:pt x="1344" y="48"/>
                </a:lnTo>
                <a:lnTo>
                  <a:pt x="1392" y="72"/>
                </a:lnTo>
                <a:lnTo>
                  <a:pt x="1440" y="72"/>
                </a:lnTo>
                <a:lnTo>
                  <a:pt x="1488" y="72"/>
                </a:lnTo>
                <a:lnTo>
                  <a:pt x="1536" y="96"/>
                </a:lnTo>
                <a:lnTo>
                  <a:pt x="1584" y="7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840760" y="5719680"/>
            <a:ext cx="103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652840" y="49957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652840" y="40435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952880" y="3301920"/>
            <a:ext cx="0" cy="246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692600" y="5581800"/>
            <a:ext cx="322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4959360" y="5315040"/>
            <a:ext cx="52056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V="1">
            <a:off x="5486400" y="5003640"/>
            <a:ext cx="0" cy="31752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492880" y="5010120"/>
            <a:ext cx="173988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955560" y="5719680"/>
            <a:ext cx="103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767640" y="49957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453440" y="4424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959360" y="4287960"/>
            <a:ext cx="520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486400" y="4249800"/>
            <a:ext cx="1849320" cy="496800"/>
          </a:xfrm>
          <a:custGeom>
            <a:avLst/>
            <a:gdLst/>
            <a:ahLst/>
            <a:rect l="l" t="t" r="r" b="b"/>
            <a:pathLst>
              <a:path w="1165" h="313">
                <a:moveTo>
                  <a:pt x="0" y="24"/>
                </a:moveTo>
                <a:lnTo>
                  <a:pt x="36" y="0"/>
                </a:lnTo>
                <a:lnTo>
                  <a:pt x="84" y="24"/>
                </a:lnTo>
                <a:lnTo>
                  <a:pt x="132" y="48"/>
                </a:lnTo>
                <a:lnTo>
                  <a:pt x="180" y="72"/>
                </a:lnTo>
                <a:lnTo>
                  <a:pt x="204" y="120"/>
                </a:lnTo>
                <a:lnTo>
                  <a:pt x="252" y="144"/>
                </a:lnTo>
                <a:lnTo>
                  <a:pt x="276" y="192"/>
                </a:lnTo>
                <a:lnTo>
                  <a:pt x="324" y="192"/>
                </a:lnTo>
                <a:lnTo>
                  <a:pt x="348" y="240"/>
                </a:lnTo>
                <a:lnTo>
                  <a:pt x="396" y="240"/>
                </a:lnTo>
                <a:lnTo>
                  <a:pt x="444" y="264"/>
                </a:lnTo>
                <a:lnTo>
                  <a:pt x="492" y="288"/>
                </a:lnTo>
                <a:lnTo>
                  <a:pt x="540" y="288"/>
                </a:lnTo>
                <a:lnTo>
                  <a:pt x="588" y="288"/>
                </a:lnTo>
                <a:lnTo>
                  <a:pt x="636" y="312"/>
                </a:lnTo>
                <a:lnTo>
                  <a:pt x="684" y="312"/>
                </a:lnTo>
                <a:lnTo>
                  <a:pt x="732" y="288"/>
                </a:lnTo>
                <a:lnTo>
                  <a:pt x="780" y="288"/>
                </a:lnTo>
                <a:lnTo>
                  <a:pt x="828" y="288"/>
                </a:lnTo>
                <a:lnTo>
                  <a:pt x="876" y="288"/>
                </a:lnTo>
                <a:lnTo>
                  <a:pt x="924" y="264"/>
                </a:lnTo>
                <a:lnTo>
                  <a:pt x="972" y="288"/>
                </a:lnTo>
                <a:lnTo>
                  <a:pt x="1020" y="288"/>
                </a:lnTo>
                <a:lnTo>
                  <a:pt x="1068" y="288"/>
                </a:lnTo>
                <a:lnTo>
                  <a:pt x="1116" y="288"/>
                </a:lnTo>
                <a:lnTo>
                  <a:pt x="1164" y="28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1454040" y="4419720"/>
            <a:ext cx="18925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416560" y="4267080"/>
            <a:ext cx="20448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respuesta dinámic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1339920" y="5653080"/>
            <a:ext cx="652140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793880" y="5316480"/>
            <a:ext cx="895320" cy="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2695680" y="4924080"/>
            <a:ext cx="0" cy="39852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01800" y="4930920"/>
            <a:ext cx="5007240" cy="288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940280" y="4924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140360" y="36050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797120" y="4362480"/>
            <a:ext cx="1511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359160" y="4362480"/>
            <a:ext cx="434988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flipH="1">
            <a:off x="4927680" y="2063880"/>
            <a:ext cx="31680" cy="95868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133720" y="2673360"/>
            <a:ext cx="0" cy="3340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7298640" y="5776920"/>
            <a:ext cx="103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276720" y="2505240"/>
            <a:ext cx="4440240" cy="1868400"/>
          </a:xfrm>
          <a:custGeom>
            <a:avLst/>
            <a:gdLst/>
            <a:ahLst/>
            <a:rect l="l" t="t" r="r" b="b"/>
            <a:pathLst>
              <a:path w="2797" h="1177">
                <a:moveTo>
                  <a:pt x="0" y="1164"/>
                </a:moveTo>
                <a:lnTo>
                  <a:pt x="36" y="1176"/>
                </a:lnTo>
                <a:lnTo>
                  <a:pt x="84" y="1176"/>
                </a:lnTo>
                <a:lnTo>
                  <a:pt x="132" y="1152"/>
                </a:lnTo>
                <a:lnTo>
                  <a:pt x="156" y="1104"/>
                </a:lnTo>
                <a:lnTo>
                  <a:pt x="204" y="1104"/>
                </a:lnTo>
                <a:lnTo>
                  <a:pt x="228" y="1056"/>
                </a:lnTo>
                <a:lnTo>
                  <a:pt x="252" y="1008"/>
                </a:lnTo>
                <a:lnTo>
                  <a:pt x="300" y="984"/>
                </a:lnTo>
                <a:lnTo>
                  <a:pt x="324" y="936"/>
                </a:lnTo>
                <a:lnTo>
                  <a:pt x="372" y="912"/>
                </a:lnTo>
                <a:lnTo>
                  <a:pt x="396" y="864"/>
                </a:lnTo>
                <a:lnTo>
                  <a:pt x="420" y="816"/>
                </a:lnTo>
                <a:lnTo>
                  <a:pt x="468" y="768"/>
                </a:lnTo>
                <a:lnTo>
                  <a:pt x="492" y="720"/>
                </a:lnTo>
                <a:lnTo>
                  <a:pt x="516" y="672"/>
                </a:lnTo>
                <a:lnTo>
                  <a:pt x="540" y="624"/>
                </a:lnTo>
                <a:lnTo>
                  <a:pt x="564" y="576"/>
                </a:lnTo>
                <a:lnTo>
                  <a:pt x="588" y="528"/>
                </a:lnTo>
                <a:lnTo>
                  <a:pt x="612" y="480"/>
                </a:lnTo>
                <a:lnTo>
                  <a:pt x="636" y="432"/>
                </a:lnTo>
                <a:lnTo>
                  <a:pt x="636" y="384"/>
                </a:lnTo>
                <a:lnTo>
                  <a:pt x="660" y="336"/>
                </a:lnTo>
                <a:lnTo>
                  <a:pt x="708" y="336"/>
                </a:lnTo>
                <a:lnTo>
                  <a:pt x="732" y="288"/>
                </a:lnTo>
                <a:lnTo>
                  <a:pt x="780" y="240"/>
                </a:lnTo>
                <a:lnTo>
                  <a:pt x="828" y="192"/>
                </a:lnTo>
                <a:lnTo>
                  <a:pt x="852" y="144"/>
                </a:lnTo>
                <a:lnTo>
                  <a:pt x="900" y="96"/>
                </a:lnTo>
                <a:lnTo>
                  <a:pt x="924" y="48"/>
                </a:lnTo>
                <a:lnTo>
                  <a:pt x="972" y="24"/>
                </a:lnTo>
                <a:lnTo>
                  <a:pt x="1020" y="0"/>
                </a:lnTo>
                <a:lnTo>
                  <a:pt x="1068" y="0"/>
                </a:lnTo>
                <a:lnTo>
                  <a:pt x="1116" y="24"/>
                </a:lnTo>
                <a:lnTo>
                  <a:pt x="1164" y="48"/>
                </a:lnTo>
                <a:lnTo>
                  <a:pt x="1188" y="96"/>
                </a:lnTo>
                <a:lnTo>
                  <a:pt x="1236" y="144"/>
                </a:lnTo>
                <a:lnTo>
                  <a:pt x="1260" y="192"/>
                </a:lnTo>
                <a:lnTo>
                  <a:pt x="1308" y="216"/>
                </a:lnTo>
                <a:lnTo>
                  <a:pt x="1356" y="240"/>
                </a:lnTo>
                <a:lnTo>
                  <a:pt x="1404" y="240"/>
                </a:lnTo>
                <a:lnTo>
                  <a:pt x="1452" y="192"/>
                </a:lnTo>
                <a:lnTo>
                  <a:pt x="1500" y="144"/>
                </a:lnTo>
                <a:lnTo>
                  <a:pt x="1548" y="120"/>
                </a:lnTo>
                <a:lnTo>
                  <a:pt x="1596" y="72"/>
                </a:lnTo>
                <a:lnTo>
                  <a:pt x="1644" y="72"/>
                </a:lnTo>
                <a:lnTo>
                  <a:pt x="1692" y="72"/>
                </a:lnTo>
                <a:lnTo>
                  <a:pt x="1740" y="96"/>
                </a:lnTo>
                <a:lnTo>
                  <a:pt x="1788" y="144"/>
                </a:lnTo>
                <a:lnTo>
                  <a:pt x="1836" y="144"/>
                </a:lnTo>
                <a:lnTo>
                  <a:pt x="1884" y="168"/>
                </a:lnTo>
                <a:lnTo>
                  <a:pt x="1932" y="192"/>
                </a:lnTo>
                <a:lnTo>
                  <a:pt x="1980" y="192"/>
                </a:lnTo>
                <a:lnTo>
                  <a:pt x="2028" y="192"/>
                </a:lnTo>
                <a:lnTo>
                  <a:pt x="2076" y="192"/>
                </a:lnTo>
                <a:lnTo>
                  <a:pt x="2100" y="144"/>
                </a:lnTo>
                <a:lnTo>
                  <a:pt x="2148" y="144"/>
                </a:lnTo>
                <a:lnTo>
                  <a:pt x="2196" y="120"/>
                </a:lnTo>
                <a:lnTo>
                  <a:pt x="2244" y="120"/>
                </a:lnTo>
                <a:lnTo>
                  <a:pt x="2268" y="168"/>
                </a:lnTo>
                <a:lnTo>
                  <a:pt x="2316" y="168"/>
                </a:lnTo>
                <a:lnTo>
                  <a:pt x="2364" y="168"/>
                </a:lnTo>
                <a:lnTo>
                  <a:pt x="2412" y="144"/>
                </a:lnTo>
                <a:lnTo>
                  <a:pt x="2460" y="144"/>
                </a:lnTo>
                <a:lnTo>
                  <a:pt x="2508" y="144"/>
                </a:lnTo>
                <a:lnTo>
                  <a:pt x="2556" y="144"/>
                </a:lnTo>
                <a:lnTo>
                  <a:pt x="2604" y="144"/>
                </a:lnTo>
                <a:lnTo>
                  <a:pt x="2652" y="144"/>
                </a:lnTo>
                <a:lnTo>
                  <a:pt x="2700" y="144"/>
                </a:lnTo>
                <a:lnTo>
                  <a:pt x="2748" y="168"/>
                </a:lnTo>
                <a:lnTo>
                  <a:pt x="2796" y="168"/>
                </a:lnTo>
                <a:lnTo>
                  <a:pt x="2748" y="16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867280" y="2063880"/>
            <a:ext cx="0" cy="90144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flipH="1">
            <a:off x="3346560" y="2743200"/>
            <a:ext cx="4356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581280" y="4273560"/>
            <a:ext cx="0" cy="44460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495680" y="2825640"/>
            <a:ext cx="0" cy="181620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554360" y="1357200"/>
            <a:ext cx="1784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 osci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959360" y="2286000"/>
            <a:ext cx="9018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411360" y="4498920"/>
            <a:ext cx="226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empo de sub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587760" y="4513320"/>
            <a:ext cx="9018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H="1">
            <a:off x="2126880" y="4229280"/>
            <a:ext cx="1460520" cy="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2203200" y="2895480"/>
            <a:ext cx="2298600" cy="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1000" y="2652840"/>
            <a:ext cx="1114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90 % 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981000" y="3897360"/>
            <a:ext cx="1114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 % 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227000" y="2195640"/>
            <a:ext cx="1743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valor f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omponentes 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21480" y="2368440"/>
            <a:ext cx="2273040" cy="13590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07480" y="2901960"/>
            <a:ext cx="1054080" cy="368280"/>
          </a:xfrm>
          <a:prstGeom prst="rightArrow">
            <a:avLst>
              <a:gd name="adj1" fmla="val 50000"/>
              <a:gd name="adj2" fmla="val 143122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11640" y="2901960"/>
            <a:ext cx="596880" cy="368280"/>
          </a:xfrm>
          <a:prstGeom prst="rightArrow">
            <a:avLst>
              <a:gd name="adj1" fmla="val 50000"/>
              <a:gd name="adj2" fmla="val 81044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33400" y="288144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97920" y="1357200"/>
            <a:ext cx="1572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 contro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5440" y="2749680"/>
            <a:ext cx="1511280" cy="7491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5080" y="2901960"/>
            <a:ext cx="825480" cy="444600"/>
          </a:xfrm>
          <a:prstGeom prst="rightArrow">
            <a:avLst>
              <a:gd name="adj1" fmla="val 50000"/>
              <a:gd name="adj2" fmla="val 92843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rot="16200000">
            <a:off x="7930080" y="3587760"/>
            <a:ext cx="978120" cy="368280"/>
          </a:xfrm>
          <a:prstGeom prst="rightArrow">
            <a:avLst>
              <a:gd name="adj1" fmla="val 50000"/>
              <a:gd name="adj2" fmla="val 132808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11240" y="4654440"/>
            <a:ext cx="5245200" cy="1396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1415880" y="3930480"/>
            <a:ext cx="1130400" cy="444600"/>
          </a:xfrm>
          <a:prstGeom prst="rightArrow">
            <a:avLst>
              <a:gd name="adj1" fmla="val 50000"/>
              <a:gd name="adj2" fmla="val 127137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79800" y="2957400"/>
            <a:ext cx="145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560" y="3567240"/>
            <a:ext cx="1350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o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e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11440" y="2749680"/>
            <a:ext cx="1511280" cy="7491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21680" y="4349880"/>
            <a:ext cx="1663560" cy="7491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25640" y="2978280"/>
            <a:ext cx="596880" cy="368280"/>
          </a:xfrm>
          <a:prstGeom prst="rightArrow">
            <a:avLst>
              <a:gd name="adj1" fmla="val 50000"/>
              <a:gd name="adj2" fmla="val 81044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66160" y="2881440"/>
            <a:ext cx="131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u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74960" y="4481640"/>
            <a:ext cx="1572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84040" y="5014800"/>
            <a:ext cx="2241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ores med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35400" y="1662120"/>
            <a:ext cx="1530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b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 actu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181480" y="5638680"/>
            <a:ext cx="1524240" cy="76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Terminologí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40480" y="2666880"/>
            <a:ext cx="1742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turb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5840" y="5791320"/>
            <a:ext cx="1639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2120" y="3276720"/>
            <a:ext cx="1537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6000" y="3733920"/>
            <a:ext cx="150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92880" y="4273560"/>
            <a:ext cx="44424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71640" y="432900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49920" y="4287960"/>
            <a:ext cx="52092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9400" y="434340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56200" y="4495680"/>
            <a:ext cx="749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4495680"/>
            <a:ext cx="5079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5486400"/>
            <a:ext cx="4827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52680" y="4280040"/>
            <a:ext cx="0" cy="149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4572000"/>
            <a:ext cx="1905120" cy="1219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257800" y="43434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579132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05720" y="55627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705720" y="5562360"/>
            <a:ext cx="3808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5562720"/>
            <a:ext cx="3808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55627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5638680"/>
            <a:ext cx="1523880" cy="76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892920" y="540972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14600" y="3429000"/>
            <a:ext cx="1523880" cy="76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3429000"/>
            <a:ext cx="75960" cy="5335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4038480"/>
            <a:ext cx="75960" cy="1526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4267080"/>
            <a:ext cx="75960" cy="1526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5257800"/>
            <a:ext cx="53352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10560" y="478296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472428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533920" y="2368440"/>
            <a:ext cx="2273400" cy="13590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19920" y="2901960"/>
            <a:ext cx="1054080" cy="368280"/>
          </a:xfrm>
          <a:prstGeom prst="rightArrow">
            <a:avLst>
              <a:gd name="adj1" fmla="val 50000"/>
              <a:gd name="adj2" fmla="val 143122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11680" y="2901960"/>
            <a:ext cx="1709640" cy="358920"/>
          </a:xfrm>
          <a:prstGeom prst="rightArrow">
            <a:avLst>
              <a:gd name="adj1" fmla="val 50000"/>
              <a:gd name="adj2" fmla="val 238186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46200" y="288144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rot="16200000">
            <a:off x="7930080" y="3587760"/>
            <a:ext cx="978120" cy="368280"/>
          </a:xfrm>
          <a:prstGeom prst="rightArrow">
            <a:avLst>
              <a:gd name="adj1" fmla="val 50000"/>
              <a:gd name="adj2" fmla="val 132808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87560" y="4730760"/>
            <a:ext cx="5245200" cy="1396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2324160" y="3860280"/>
            <a:ext cx="1266840" cy="444600"/>
          </a:xfrm>
          <a:prstGeom prst="rightArrow">
            <a:avLst>
              <a:gd name="adj1" fmla="val 50000"/>
              <a:gd name="adj2" fmla="val 142483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257480" y="2749680"/>
            <a:ext cx="2501640" cy="749160"/>
            <a:chOff x="1257480" y="2749680"/>
            <a:chExt cx="2501640" cy="749160"/>
          </a:xfrm>
        </p:grpSpPr>
        <p:sp>
          <p:nvSpPr>
            <p:cNvPr id="209" name=""/>
            <p:cNvSpPr/>
            <p:nvPr/>
          </p:nvSpPr>
          <p:spPr>
            <a:xfrm>
              <a:off x="2247840" y="2749680"/>
              <a:ext cx="1511280" cy="74916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57480" y="2901960"/>
              <a:ext cx="825480" cy="444600"/>
            </a:xfrm>
            <a:prstGeom prst="rightArrow">
              <a:avLst>
                <a:gd name="adj1" fmla="val 50000"/>
                <a:gd name="adj2" fmla="val 92843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02200" y="2957400"/>
              <a:ext cx="1452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gulad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321680" y="4349880"/>
            <a:ext cx="1663560" cy="7491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74960" y="4481640"/>
            <a:ext cx="1572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3320" y="5014800"/>
            <a:ext cx="30283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riable Control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roled Variable C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cess Variable P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lida (del proces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3560" y="1971720"/>
            <a:ext cx="150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g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5720" y="3411360"/>
            <a:ext cx="178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t Point  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50240" y="577800"/>
            <a:ext cx="3420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riable manipul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nipulated Variable M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utput to Process 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rada  (al proces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0400" y="29005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00960" y="2389320"/>
            <a:ext cx="120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V     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46680" y="3365640"/>
            <a:ext cx="149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y (Europ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437320" y="2351160"/>
            <a:ext cx="41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756640" y="34113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rot="16200000">
            <a:off x="6366240" y="1761840"/>
            <a:ext cx="682560" cy="451080"/>
          </a:xfrm>
          <a:prstGeom prst="rightArrow">
            <a:avLst>
              <a:gd name="adj1" fmla="val 75000"/>
              <a:gd name="adj2" fmla="val 7566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04520" y="530280"/>
            <a:ext cx="3147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rturb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viation Variables D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7240" y="5430960"/>
            <a:ext cx="3044880" cy="4546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a de blo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ontrol Continuo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2000" y="1752480"/>
            <a:ext cx="7719120" cy="11862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variable controlada, toma valores en un rango continuo, 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de y se actúa continuamente sobre un rango de val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l actu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5840" y="5791320"/>
            <a:ext cx="1639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22120" y="3276720"/>
            <a:ext cx="1537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36000" y="3733920"/>
            <a:ext cx="150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92880" y="4273560"/>
            <a:ext cx="44424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72000" y="4297320"/>
            <a:ext cx="49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49920" y="4287960"/>
            <a:ext cx="52092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61080" y="4311720"/>
            <a:ext cx="506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56200" y="4495680"/>
            <a:ext cx="749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8880" y="4495680"/>
            <a:ext cx="5079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57800" y="5486400"/>
            <a:ext cx="4827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4280040"/>
            <a:ext cx="0" cy="149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4572000"/>
            <a:ext cx="1905120" cy="1219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257800" y="43434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579132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5638680"/>
            <a:ext cx="1524240" cy="76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55627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705720" y="5562360"/>
            <a:ext cx="3808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05720" y="5562720"/>
            <a:ext cx="3808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86600" y="55627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86600" y="5638680"/>
            <a:ext cx="1523880" cy="76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892920" y="540972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3429000"/>
            <a:ext cx="1523880" cy="763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3429000"/>
            <a:ext cx="75960" cy="5335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4038480"/>
            <a:ext cx="75960" cy="1526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4267080"/>
            <a:ext cx="75960" cy="1526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5257800"/>
            <a:ext cx="53352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10560" y="478296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472428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4160" y="3733920"/>
            <a:ext cx="1742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turb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0T18:47:30Z</dcterms:created>
  <dc:creator/>
  <dc:description/>
  <cp:keywords/>
  <dc:language>en-US</dc:language>
  <cp:lastModifiedBy>isa</cp:lastModifiedBy>
  <dcterms:modified xsi:type="dcterms:W3CDTF">2008-02-18T19:43:16Z</dcterms:modified>
  <cp:revision>73</cp:revision>
  <dc:subject/>
  <dc:title>Training</dc:title>
</cp:coreProperties>
</file>