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984-0369-4915-A2BB-0DF229DD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CD2-7ECD-40F1-9F32-E444298F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A8F3-DCE3-4407-B0EE-D3CA319D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F4A-FA3D-41AD-B409-362A6956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8C08-EE74-4E78-9CBB-87ACF6C1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23C6-A02B-408E-906F-1242CDDA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EA14-39FB-4CC8-9759-481EC43B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8CCF-1EB2-4382-AC3F-82AD451E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102A-98DA-4243-BD4C-F04BA3EE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B4BA-520B-4FFF-9236-22BD2FC5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E326-9315-4059-9A98-B80C376C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429-D843-452C-8756-A0660BF5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38EE-86B2-4D33-B1BE-C10FE5CE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4AC1-1C71-48BD-94E5-1F620573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36F0-0B0B-4262-9EC8-C5B1EE80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3259-0252-45E7-AA99-EB736E2C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367C-4224-4C23-842A-5D7B7FB9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765-748E-4DFB-9235-687B29C2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1B4-7419-45B2-A738-4262A9C1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7E31-B4D8-4BB4-9557-2227D45C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9C68-0C9A-4D5F-AB5A-DC14158F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47C1-2BFF-469D-B2BA-EA525E0A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665C-0275-47D5-9CD3-B2C8B357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B83E-F302-4B84-82BA-81750405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2CB5-AB43-4E80-8968-6A95FBA6C2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0B9E-2E0B-4854-9DFF-9EE965A435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Filtro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esar de P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SA-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ada@autom.uva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40F6-505A-4E89-A808-424A3C7C19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pos de filtros típic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63680" y="202248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76400" y="30751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95360" y="182232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G(j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16400" y="28576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89120" y="321804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6160" y="2036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55760" y="2214720"/>
            <a:ext cx="2603520" cy="860400"/>
          </a:xfrm>
          <a:custGeom>
            <a:avLst/>
            <a:gdLst/>
            <a:ahLst/>
            <a:rect l="l" t="t" r="r" b="b"/>
            <a:pathLst>
              <a:path w="1640" h="542">
                <a:moveTo>
                  <a:pt x="0" y="15"/>
                </a:moveTo>
                <a:cubicBezTo>
                  <a:pt x="266" y="7"/>
                  <a:pt x="532" y="0"/>
                  <a:pt x="683" y="15"/>
                </a:cubicBezTo>
                <a:cubicBezTo>
                  <a:pt x="834" y="30"/>
                  <a:pt x="835" y="35"/>
                  <a:pt x="908" y="102"/>
                </a:cubicBezTo>
                <a:cubicBezTo>
                  <a:pt x="981" y="169"/>
                  <a:pt x="1047" y="346"/>
                  <a:pt x="1123" y="415"/>
                </a:cubicBezTo>
                <a:cubicBezTo>
                  <a:pt x="1199" y="484"/>
                  <a:pt x="1281" y="492"/>
                  <a:pt x="1367" y="513"/>
                </a:cubicBezTo>
                <a:cubicBezTo>
                  <a:pt x="1453" y="534"/>
                  <a:pt x="1546" y="538"/>
                  <a:pt x="1640" y="54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78120" y="2252520"/>
            <a:ext cx="1584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0" y="2238480"/>
            <a:ext cx="4777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78320" y="1757520"/>
            <a:ext cx="0" cy="21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91040" y="353844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11800" y="177480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G(j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43680" y="31654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27960" y="36036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15080" y="2036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67360" y="2313000"/>
            <a:ext cx="16200" cy="120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56360" y="2300400"/>
            <a:ext cx="164304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86240" y="2308320"/>
            <a:ext cx="2791080" cy="1218960"/>
          </a:xfrm>
          <a:custGeom>
            <a:avLst/>
            <a:gdLst/>
            <a:ahLst/>
            <a:rect l="l" t="t" r="r" b="b"/>
            <a:pathLst>
              <a:path w="1758" h="768">
                <a:moveTo>
                  <a:pt x="0" y="81"/>
                </a:moveTo>
                <a:cubicBezTo>
                  <a:pt x="31" y="63"/>
                  <a:pt x="62" y="45"/>
                  <a:pt x="88" y="32"/>
                </a:cubicBezTo>
                <a:cubicBezTo>
                  <a:pt x="114" y="19"/>
                  <a:pt x="136" y="6"/>
                  <a:pt x="157" y="3"/>
                </a:cubicBezTo>
                <a:cubicBezTo>
                  <a:pt x="178" y="0"/>
                  <a:pt x="194" y="5"/>
                  <a:pt x="215" y="13"/>
                </a:cubicBezTo>
                <a:cubicBezTo>
                  <a:pt x="236" y="21"/>
                  <a:pt x="264" y="37"/>
                  <a:pt x="284" y="52"/>
                </a:cubicBezTo>
                <a:cubicBezTo>
                  <a:pt x="304" y="67"/>
                  <a:pt x="308" y="96"/>
                  <a:pt x="332" y="101"/>
                </a:cubicBezTo>
                <a:cubicBezTo>
                  <a:pt x="356" y="106"/>
                  <a:pt x="404" y="89"/>
                  <a:pt x="430" y="81"/>
                </a:cubicBezTo>
                <a:cubicBezTo>
                  <a:pt x="456" y="73"/>
                  <a:pt x="471" y="63"/>
                  <a:pt x="489" y="52"/>
                </a:cubicBezTo>
                <a:cubicBezTo>
                  <a:pt x="507" y="41"/>
                  <a:pt x="513" y="19"/>
                  <a:pt x="537" y="13"/>
                </a:cubicBezTo>
                <a:cubicBezTo>
                  <a:pt x="561" y="7"/>
                  <a:pt x="609" y="7"/>
                  <a:pt x="635" y="13"/>
                </a:cubicBezTo>
                <a:cubicBezTo>
                  <a:pt x="661" y="19"/>
                  <a:pt x="668" y="39"/>
                  <a:pt x="694" y="52"/>
                </a:cubicBezTo>
                <a:cubicBezTo>
                  <a:pt x="720" y="65"/>
                  <a:pt x="762" y="94"/>
                  <a:pt x="791" y="91"/>
                </a:cubicBezTo>
                <a:cubicBezTo>
                  <a:pt x="820" y="88"/>
                  <a:pt x="846" y="43"/>
                  <a:pt x="869" y="32"/>
                </a:cubicBezTo>
                <a:cubicBezTo>
                  <a:pt x="892" y="21"/>
                  <a:pt x="909" y="15"/>
                  <a:pt x="928" y="23"/>
                </a:cubicBezTo>
                <a:cubicBezTo>
                  <a:pt x="947" y="31"/>
                  <a:pt x="966" y="60"/>
                  <a:pt x="986" y="81"/>
                </a:cubicBezTo>
                <a:cubicBezTo>
                  <a:pt x="1006" y="102"/>
                  <a:pt x="1029" y="124"/>
                  <a:pt x="1045" y="150"/>
                </a:cubicBezTo>
                <a:cubicBezTo>
                  <a:pt x="1061" y="176"/>
                  <a:pt x="1069" y="201"/>
                  <a:pt x="1084" y="237"/>
                </a:cubicBezTo>
                <a:cubicBezTo>
                  <a:pt x="1099" y="273"/>
                  <a:pt x="1114" y="325"/>
                  <a:pt x="1133" y="364"/>
                </a:cubicBezTo>
                <a:cubicBezTo>
                  <a:pt x="1152" y="403"/>
                  <a:pt x="1177" y="433"/>
                  <a:pt x="1201" y="472"/>
                </a:cubicBezTo>
                <a:cubicBezTo>
                  <a:pt x="1225" y="511"/>
                  <a:pt x="1253" y="568"/>
                  <a:pt x="1279" y="599"/>
                </a:cubicBezTo>
                <a:cubicBezTo>
                  <a:pt x="1305" y="630"/>
                  <a:pt x="1321" y="636"/>
                  <a:pt x="1357" y="657"/>
                </a:cubicBezTo>
                <a:cubicBezTo>
                  <a:pt x="1393" y="678"/>
                  <a:pt x="1457" y="711"/>
                  <a:pt x="1494" y="726"/>
                </a:cubicBezTo>
                <a:cubicBezTo>
                  <a:pt x="1531" y="741"/>
                  <a:pt x="1551" y="738"/>
                  <a:pt x="1582" y="745"/>
                </a:cubicBezTo>
                <a:cubicBezTo>
                  <a:pt x="1613" y="752"/>
                  <a:pt x="1651" y="762"/>
                  <a:pt x="1680" y="765"/>
                </a:cubicBezTo>
                <a:cubicBezTo>
                  <a:pt x="1709" y="768"/>
                  <a:pt x="1733" y="766"/>
                  <a:pt x="1758" y="76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78320" y="4021200"/>
            <a:ext cx="0" cy="21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91040" y="58024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11800" y="403848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G(j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21560" y="597708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915080" y="4300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961320" y="4576680"/>
            <a:ext cx="31680" cy="1457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56360" y="4564080"/>
            <a:ext cx="1706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67320" y="5707080"/>
            <a:ext cx="48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86240" y="4546440"/>
            <a:ext cx="2713320" cy="1247760"/>
          </a:xfrm>
          <a:custGeom>
            <a:avLst/>
            <a:gdLst/>
            <a:ahLst/>
            <a:rect l="l" t="t" r="r" b="b"/>
            <a:pathLst>
              <a:path w="1709" h="786">
                <a:moveTo>
                  <a:pt x="0" y="10"/>
                </a:moveTo>
                <a:cubicBezTo>
                  <a:pt x="294" y="5"/>
                  <a:pt x="589" y="0"/>
                  <a:pt x="732" y="10"/>
                </a:cubicBezTo>
                <a:cubicBezTo>
                  <a:pt x="875" y="20"/>
                  <a:pt x="826" y="42"/>
                  <a:pt x="859" y="68"/>
                </a:cubicBezTo>
                <a:cubicBezTo>
                  <a:pt x="892" y="94"/>
                  <a:pt x="905" y="106"/>
                  <a:pt x="928" y="166"/>
                </a:cubicBezTo>
                <a:cubicBezTo>
                  <a:pt x="951" y="226"/>
                  <a:pt x="978" y="358"/>
                  <a:pt x="996" y="429"/>
                </a:cubicBezTo>
                <a:cubicBezTo>
                  <a:pt x="1014" y="500"/>
                  <a:pt x="1024" y="553"/>
                  <a:pt x="1035" y="595"/>
                </a:cubicBezTo>
                <a:cubicBezTo>
                  <a:pt x="1046" y="637"/>
                  <a:pt x="1056" y="657"/>
                  <a:pt x="1064" y="683"/>
                </a:cubicBezTo>
                <a:cubicBezTo>
                  <a:pt x="1072" y="709"/>
                  <a:pt x="1069" y="736"/>
                  <a:pt x="1084" y="752"/>
                </a:cubicBezTo>
                <a:cubicBezTo>
                  <a:pt x="1099" y="768"/>
                  <a:pt x="1131" y="786"/>
                  <a:pt x="1152" y="781"/>
                </a:cubicBezTo>
                <a:cubicBezTo>
                  <a:pt x="1173" y="776"/>
                  <a:pt x="1193" y="738"/>
                  <a:pt x="1211" y="722"/>
                </a:cubicBezTo>
                <a:cubicBezTo>
                  <a:pt x="1229" y="706"/>
                  <a:pt x="1232" y="688"/>
                  <a:pt x="1260" y="683"/>
                </a:cubicBezTo>
                <a:cubicBezTo>
                  <a:pt x="1288" y="678"/>
                  <a:pt x="1349" y="680"/>
                  <a:pt x="1377" y="693"/>
                </a:cubicBezTo>
                <a:cubicBezTo>
                  <a:pt x="1405" y="706"/>
                  <a:pt x="1398" y="753"/>
                  <a:pt x="1426" y="761"/>
                </a:cubicBezTo>
                <a:cubicBezTo>
                  <a:pt x="1454" y="769"/>
                  <a:pt x="1517" y="753"/>
                  <a:pt x="1543" y="742"/>
                </a:cubicBezTo>
                <a:cubicBezTo>
                  <a:pt x="1569" y="731"/>
                  <a:pt x="1563" y="703"/>
                  <a:pt x="1582" y="693"/>
                </a:cubicBezTo>
                <a:cubicBezTo>
                  <a:pt x="1601" y="683"/>
                  <a:pt x="1639" y="675"/>
                  <a:pt x="1660" y="683"/>
                </a:cubicBezTo>
                <a:cubicBezTo>
                  <a:pt x="1681" y="691"/>
                  <a:pt x="1701" y="732"/>
                  <a:pt x="1709" y="74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62240" y="473544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74600" y="578808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93920" y="453564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G(j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87680" y="5931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44720" y="47498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76680" y="4965840"/>
            <a:ext cx="1584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41360" y="4906800"/>
            <a:ext cx="1392480" cy="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49280" y="4911840"/>
            <a:ext cx="2613240" cy="860400"/>
          </a:xfrm>
          <a:custGeom>
            <a:avLst/>
            <a:gdLst/>
            <a:ahLst/>
            <a:rect l="l" t="t" r="r" b="b"/>
            <a:pathLst>
              <a:path w="1646" h="542">
                <a:moveTo>
                  <a:pt x="0" y="88"/>
                </a:moveTo>
                <a:cubicBezTo>
                  <a:pt x="21" y="63"/>
                  <a:pt x="43" y="38"/>
                  <a:pt x="64" y="24"/>
                </a:cubicBezTo>
                <a:cubicBezTo>
                  <a:pt x="85" y="10"/>
                  <a:pt x="102" y="0"/>
                  <a:pt x="128" y="5"/>
                </a:cubicBezTo>
                <a:cubicBezTo>
                  <a:pt x="154" y="10"/>
                  <a:pt x="190" y="40"/>
                  <a:pt x="220" y="51"/>
                </a:cubicBezTo>
                <a:cubicBezTo>
                  <a:pt x="250" y="62"/>
                  <a:pt x="282" y="73"/>
                  <a:pt x="311" y="69"/>
                </a:cubicBezTo>
                <a:cubicBezTo>
                  <a:pt x="340" y="65"/>
                  <a:pt x="367" y="33"/>
                  <a:pt x="393" y="24"/>
                </a:cubicBezTo>
                <a:cubicBezTo>
                  <a:pt x="419" y="15"/>
                  <a:pt x="446" y="10"/>
                  <a:pt x="467" y="15"/>
                </a:cubicBezTo>
                <a:cubicBezTo>
                  <a:pt x="488" y="20"/>
                  <a:pt x="503" y="42"/>
                  <a:pt x="521" y="51"/>
                </a:cubicBezTo>
                <a:cubicBezTo>
                  <a:pt x="539" y="60"/>
                  <a:pt x="555" y="70"/>
                  <a:pt x="576" y="69"/>
                </a:cubicBezTo>
                <a:cubicBezTo>
                  <a:pt x="597" y="68"/>
                  <a:pt x="619" y="48"/>
                  <a:pt x="649" y="42"/>
                </a:cubicBezTo>
                <a:cubicBezTo>
                  <a:pt x="679" y="36"/>
                  <a:pt x="725" y="28"/>
                  <a:pt x="759" y="33"/>
                </a:cubicBezTo>
                <a:cubicBezTo>
                  <a:pt x="793" y="38"/>
                  <a:pt x="827" y="51"/>
                  <a:pt x="851" y="69"/>
                </a:cubicBezTo>
                <a:cubicBezTo>
                  <a:pt x="875" y="87"/>
                  <a:pt x="890" y="112"/>
                  <a:pt x="905" y="143"/>
                </a:cubicBezTo>
                <a:cubicBezTo>
                  <a:pt x="920" y="174"/>
                  <a:pt x="930" y="217"/>
                  <a:pt x="942" y="252"/>
                </a:cubicBezTo>
                <a:cubicBezTo>
                  <a:pt x="954" y="287"/>
                  <a:pt x="968" y="324"/>
                  <a:pt x="979" y="353"/>
                </a:cubicBezTo>
                <a:cubicBezTo>
                  <a:pt x="990" y="382"/>
                  <a:pt x="1000" y="405"/>
                  <a:pt x="1006" y="426"/>
                </a:cubicBezTo>
                <a:cubicBezTo>
                  <a:pt x="1012" y="447"/>
                  <a:pt x="1006" y="466"/>
                  <a:pt x="1015" y="481"/>
                </a:cubicBezTo>
                <a:cubicBezTo>
                  <a:pt x="1024" y="496"/>
                  <a:pt x="1035" y="508"/>
                  <a:pt x="1061" y="517"/>
                </a:cubicBezTo>
                <a:cubicBezTo>
                  <a:pt x="1087" y="526"/>
                  <a:pt x="1145" y="542"/>
                  <a:pt x="1171" y="536"/>
                </a:cubicBezTo>
                <a:cubicBezTo>
                  <a:pt x="1197" y="530"/>
                  <a:pt x="1199" y="492"/>
                  <a:pt x="1216" y="481"/>
                </a:cubicBezTo>
                <a:cubicBezTo>
                  <a:pt x="1233" y="470"/>
                  <a:pt x="1253" y="468"/>
                  <a:pt x="1271" y="472"/>
                </a:cubicBezTo>
                <a:cubicBezTo>
                  <a:pt x="1289" y="476"/>
                  <a:pt x="1303" y="497"/>
                  <a:pt x="1326" y="508"/>
                </a:cubicBezTo>
                <a:cubicBezTo>
                  <a:pt x="1349" y="519"/>
                  <a:pt x="1382" y="537"/>
                  <a:pt x="1408" y="536"/>
                </a:cubicBezTo>
                <a:cubicBezTo>
                  <a:pt x="1434" y="535"/>
                  <a:pt x="1454" y="510"/>
                  <a:pt x="1481" y="499"/>
                </a:cubicBezTo>
                <a:cubicBezTo>
                  <a:pt x="1508" y="488"/>
                  <a:pt x="1546" y="469"/>
                  <a:pt x="1573" y="472"/>
                </a:cubicBezTo>
                <a:cubicBezTo>
                  <a:pt x="1600" y="475"/>
                  <a:pt x="1623" y="496"/>
                  <a:pt x="1646" y="5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76560" y="1684440"/>
            <a:ext cx="167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terw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es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90880" y="468792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ip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86760" y="1871640"/>
            <a:ext cx="14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ebyshev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26200" y="4510080"/>
            <a:ext cx="16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ebyshev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4DF-DC92-42FC-AA9F-DAE2013DAF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979640" y="2060640"/>
            <a:ext cx="1441440" cy="1368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Filtros tipo Butterworth de orden 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00360" y="177336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16000" y="278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16360" y="184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40000" y="210168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028960" y="237960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52640" y="273672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76480" y="307656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338560" y="330984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40360" y="3146400"/>
            <a:ext cx="45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polos distribuidos uniformemente en la semicircunferencia unidad del semiplano izquierdo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140360" y="2133720"/>
                <a:ext cx="36446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1255680" y="4184640"/>
            <a:ext cx="19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uesta en frecuen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516480" y="4143240"/>
                <a:ext cx="49021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jω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1247760" y="510048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60480" y="61531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79440" y="490068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G(j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00480" y="59356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73200" y="629604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30240" y="5114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39840" y="5292720"/>
            <a:ext cx="2603520" cy="860400"/>
          </a:xfrm>
          <a:custGeom>
            <a:avLst/>
            <a:gdLst/>
            <a:ahLst/>
            <a:rect l="l" t="t" r="r" b="b"/>
            <a:pathLst>
              <a:path w="1640" h="542">
                <a:moveTo>
                  <a:pt x="0" y="15"/>
                </a:moveTo>
                <a:cubicBezTo>
                  <a:pt x="266" y="7"/>
                  <a:pt x="532" y="0"/>
                  <a:pt x="683" y="15"/>
                </a:cubicBezTo>
                <a:cubicBezTo>
                  <a:pt x="834" y="30"/>
                  <a:pt x="835" y="35"/>
                  <a:pt x="908" y="102"/>
                </a:cubicBezTo>
                <a:cubicBezTo>
                  <a:pt x="981" y="169"/>
                  <a:pt x="1047" y="346"/>
                  <a:pt x="1123" y="415"/>
                </a:cubicBezTo>
                <a:cubicBezTo>
                  <a:pt x="1199" y="484"/>
                  <a:pt x="1281" y="492"/>
                  <a:pt x="1367" y="513"/>
                </a:cubicBezTo>
                <a:cubicBezTo>
                  <a:pt x="1453" y="534"/>
                  <a:pt x="1546" y="538"/>
                  <a:pt x="1640" y="54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662200" y="5330880"/>
            <a:ext cx="1584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70080" y="5316480"/>
            <a:ext cx="477720" cy="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13280" y="5175360"/>
            <a:ext cx="2914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puesta sin ri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o sobre |G(j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alización sobre G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91320" y="5464080"/>
            <a:ext cx="1322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G(j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= 0.7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0720" y="5051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714400" y="5268960"/>
            <a:ext cx="3762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7857-C5A4-410A-87E7-B5E33192D6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Filtros tipo Butterworth de orden 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01840" y="1722600"/>
            <a:ext cx="0" cy="21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14560" y="35035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34960" y="1739880"/>
            <a:ext cx="9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G(j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67200" y="31305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56000" y="395604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38240" y="20019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9760" y="2239920"/>
            <a:ext cx="2587680" cy="1263600"/>
          </a:xfrm>
          <a:custGeom>
            <a:avLst/>
            <a:gdLst/>
            <a:ahLst/>
            <a:rect l="l" t="t" r="r" b="b"/>
            <a:pathLst>
              <a:path w="1640" h="542">
                <a:moveTo>
                  <a:pt x="0" y="15"/>
                </a:moveTo>
                <a:cubicBezTo>
                  <a:pt x="266" y="7"/>
                  <a:pt x="532" y="0"/>
                  <a:pt x="683" y="15"/>
                </a:cubicBezTo>
                <a:cubicBezTo>
                  <a:pt x="834" y="30"/>
                  <a:pt x="835" y="35"/>
                  <a:pt x="908" y="102"/>
                </a:cubicBezTo>
                <a:cubicBezTo>
                  <a:pt x="981" y="169"/>
                  <a:pt x="1047" y="346"/>
                  <a:pt x="1123" y="415"/>
                </a:cubicBezTo>
                <a:cubicBezTo>
                  <a:pt x="1199" y="484"/>
                  <a:pt x="1281" y="492"/>
                  <a:pt x="1367" y="513"/>
                </a:cubicBezTo>
                <a:cubicBezTo>
                  <a:pt x="1453" y="534"/>
                  <a:pt x="1546" y="538"/>
                  <a:pt x="1640" y="54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2278080"/>
            <a:ext cx="15840" cy="172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55840" y="2265480"/>
            <a:ext cx="4492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09760" y="2362320"/>
            <a:ext cx="1307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701800" y="2376360"/>
            <a:ext cx="15840" cy="110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3360" y="2232000"/>
            <a:ext cx="5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85880" y="3456000"/>
            <a:ext cx="48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95360" y="3316320"/>
            <a:ext cx="1890720" cy="0"/>
          </a:xfrm>
          <a:prstGeom prst="line">
            <a:avLst/>
          </a:prstGeom>
          <a:ln w="9360">
            <a:solidFill>
              <a:srgbClr val="66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86080" y="3316320"/>
            <a:ext cx="0" cy="17136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5880" y="3454560"/>
            <a:ext cx="48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416480" y="2092320"/>
            <a:ext cx="43099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diseño del filtro prototipo se reduce a escoger el orden n del m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ello puede utilizarse el criterio de fijar la frecuenci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r debajo de la cual la distorsión es inferior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bien fijar la frecuenci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r encima de la cual la atenuación es superior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1279440" y="4560840"/>
                <a:ext cx="689616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r>
                                        <m:t xml:space="preserve">G</m:t>
                                      </m:r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jω</m:t>
                                          </m:r>
                                        </m:e>
                                        <m:sub>
                                          <m:r>
                                            <m:t xml:space="preserve">l</m:t>
                                          </m:r>
                                        </m:sub>
                                      </m:sSub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sSup>
                                        <m:e/>
                                        <m:sup>
                                          <m:r>
                                            <m:t xml:space="preserve">l</m:t>
                                          </m:r>
                                        </m:sup>
                                      </m:sSup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  <m:r>
                                        <m:t xml:space="preserve">n</m:t>
                                      </m:r>
                                    </m:sup>
                                  </m:sSubSup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ε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ε</m:t>
                                          </m:r>
                                        </m:num>
                                        <m:den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ε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r>
                                        <m:t xml:space="preserve">G</m:t>
                                      </m:r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jω</m:t>
                                          </m:r>
                                        </m:e>
                                        <m:sub>
                                          <m:r>
                                            <m:t xml:space="preserve">s</m:t>
                                          </m:r>
                                        </m:sub>
                                      </m:sSub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  <m:r>
                                        <m:t xml:space="preserve">n</m:t>
                                      </m:r>
                                    </m:sup>
                                  </m:sSubSup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δ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δ</m:t>
                                          </m:r>
                                        </m:num>
                                        <m:den>
                                          <m:r>
                                            <m:t xml:space="preserve">δ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orden n del filtr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1038240" y="311472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92480" y="206208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846160" y="2279520"/>
            <a:ext cx="3762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52CD-B8F2-4D43-A035-3F9FD5C5DF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0033"/>
                </a:solidFill>
                <a:latin typeface="Times New Roman"/>
              </a:rPr>
              <a:t>Filtros de Chebyshev de orden n (Tipo I)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17680" y="2031840"/>
            <a:ext cx="0" cy="21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30400" y="38131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50800" y="2049480"/>
            <a:ext cx="9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G(j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83040" y="3440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66960" y="387828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054080" y="2311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06720" y="2587680"/>
            <a:ext cx="15840" cy="120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95360" y="2575080"/>
            <a:ext cx="164304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11200" y="2759040"/>
            <a:ext cx="162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006720" y="2744640"/>
            <a:ext cx="15840" cy="10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9200" y="2541600"/>
            <a:ext cx="5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11200" y="3625920"/>
            <a:ext cx="2108160" cy="0"/>
          </a:xfrm>
          <a:prstGeom prst="line">
            <a:avLst/>
          </a:prstGeom>
          <a:ln w="9360">
            <a:solidFill>
              <a:srgbClr val="66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33760" y="3610080"/>
            <a:ext cx="0" cy="20304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43320" y="3763800"/>
            <a:ext cx="48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987800" y="1849320"/>
                <a:ext cx="26416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4711680" y="2898720"/>
            <a:ext cx="3595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polinomio de Chebyshev de orden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857840" y="3516480"/>
                <a:ext cx="4140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rc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h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rc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h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1082520" y="4587840"/>
            <a:ext cx="10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ñ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25600" y="2583000"/>
            <a:ext cx="2790720" cy="1218960"/>
          </a:xfrm>
          <a:custGeom>
            <a:avLst/>
            <a:gdLst/>
            <a:ahLst/>
            <a:rect l="l" t="t" r="r" b="b"/>
            <a:pathLst>
              <a:path w="1758" h="768">
                <a:moveTo>
                  <a:pt x="0" y="81"/>
                </a:moveTo>
                <a:cubicBezTo>
                  <a:pt x="31" y="63"/>
                  <a:pt x="62" y="45"/>
                  <a:pt x="88" y="32"/>
                </a:cubicBezTo>
                <a:cubicBezTo>
                  <a:pt x="114" y="19"/>
                  <a:pt x="136" y="6"/>
                  <a:pt x="157" y="3"/>
                </a:cubicBezTo>
                <a:cubicBezTo>
                  <a:pt x="178" y="0"/>
                  <a:pt x="194" y="5"/>
                  <a:pt x="215" y="13"/>
                </a:cubicBezTo>
                <a:cubicBezTo>
                  <a:pt x="236" y="21"/>
                  <a:pt x="264" y="37"/>
                  <a:pt x="284" y="52"/>
                </a:cubicBezTo>
                <a:cubicBezTo>
                  <a:pt x="304" y="67"/>
                  <a:pt x="308" y="96"/>
                  <a:pt x="332" y="101"/>
                </a:cubicBezTo>
                <a:cubicBezTo>
                  <a:pt x="356" y="106"/>
                  <a:pt x="404" y="89"/>
                  <a:pt x="430" y="81"/>
                </a:cubicBezTo>
                <a:cubicBezTo>
                  <a:pt x="456" y="73"/>
                  <a:pt x="471" y="63"/>
                  <a:pt x="489" y="52"/>
                </a:cubicBezTo>
                <a:cubicBezTo>
                  <a:pt x="507" y="41"/>
                  <a:pt x="513" y="19"/>
                  <a:pt x="537" y="13"/>
                </a:cubicBezTo>
                <a:cubicBezTo>
                  <a:pt x="561" y="7"/>
                  <a:pt x="609" y="7"/>
                  <a:pt x="635" y="13"/>
                </a:cubicBezTo>
                <a:cubicBezTo>
                  <a:pt x="661" y="19"/>
                  <a:pt x="668" y="39"/>
                  <a:pt x="694" y="52"/>
                </a:cubicBezTo>
                <a:cubicBezTo>
                  <a:pt x="720" y="65"/>
                  <a:pt x="762" y="94"/>
                  <a:pt x="791" y="91"/>
                </a:cubicBezTo>
                <a:cubicBezTo>
                  <a:pt x="820" y="88"/>
                  <a:pt x="846" y="43"/>
                  <a:pt x="869" y="32"/>
                </a:cubicBezTo>
                <a:cubicBezTo>
                  <a:pt x="892" y="21"/>
                  <a:pt x="909" y="15"/>
                  <a:pt x="928" y="23"/>
                </a:cubicBezTo>
                <a:cubicBezTo>
                  <a:pt x="947" y="31"/>
                  <a:pt x="966" y="60"/>
                  <a:pt x="986" y="81"/>
                </a:cubicBezTo>
                <a:cubicBezTo>
                  <a:pt x="1006" y="102"/>
                  <a:pt x="1029" y="124"/>
                  <a:pt x="1045" y="150"/>
                </a:cubicBezTo>
                <a:cubicBezTo>
                  <a:pt x="1061" y="176"/>
                  <a:pt x="1069" y="201"/>
                  <a:pt x="1084" y="237"/>
                </a:cubicBezTo>
                <a:cubicBezTo>
                  <a:pt x="1099" y="273"/>
                  <a:pt x="1114" y="325"/>
                  <a:pt x="1133" y="364"/>
                </a:cubicBezTo>
                <a:cubicBezTo>
                  <a:pt x="1152" y="403"/>
                  <a:pt x="1177" y="433"/>
                  <a:pt x="1201" y="472"/>
                </a:cubicBezTo>
                <a:cubicBezTo>
                  <a:pt x="1225" y="511"/>
                  <a:pt x="1253" y="568"/>
                  <a:pt x="1279" y="599"/>
                </a:cubicBezTo>
                <a:cubicBezTo>
                  <a:pt x="1305" y="630"/>
                  <a:pt x="1321" y="636"/>
                  <a:pt x="1357" y="657"/>
                </a:cubicBezTo>
                <a:cubicBezTo>
                  <a:pt x="1393" y="678"/>
                  <a:pt x="1457" y="711"/>
                  <a:pt x="1494" y="726"/>
                </a:cubicBezTo>
                <a:cubicBezTo>
                  <a:pt x="1531" y="741"/>
                  <a:pt x="1551" y="738"/>
                  <a:pt x="1582" y="745"/>
                </a:cubicBezTo>
                <a:cubicBezTo>
                  <a:pt x="1613" y="752"/>
                  <a:pt x="1651" y="762"/>
                  <a:pt x="1680" y="765"/>
                </a:cubicBezTo>
                <a:cubicBezTo>
                  <a:pt x="1709" y="768"/>
                  <a:pt x="1733" y="766"/>
                  <a:pt x="1758" y="76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16000" y="5068800"/>
            <a:ext cx="36115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ta la frecuenci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 la distorsión es menor d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frecuencias superiores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 atenuación es inferior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4917960" y="5330880"/>
                <a:ext cx="32133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δ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εδ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1038240" y="339408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3CF-B132-462E-87DB-AF044B289D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0033"/>
                </a:solidFill>
                <a:latin typeface="Times New Roman"/>
              </a:rPr>
              <a:t>Filtros de Chebyshev de orden n (Tipo I)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51160" y="175572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465200" y="306216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87560" y="1816200"/>
            <a:ext cx="2556000" cy="2452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5840" y="2467080"/>
            <a:ext cx="1247760" cy="1174680"/>
          </a:xfrm>
          <a:prstGeom prst="ellipse">
            <a:avLst/>
          </a:prstGeom>
          <a:noFill/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37080" y="306216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75040" y="307800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47600" y="4853160"/>
                <a:ext cx="490248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rad>
                                  </m:den>
                                </m:f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ε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  <m:r>
                          <m:t xml:space="preserve">±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ε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ε</m:t>
                                        </m:r>
                                      </m:den>
                                    </m:f>
                                  </m:e>
                                </m:rad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ε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2452680" y="1828800"/>
            <a:ext cx="797040" cy="12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55720" y="2293920"/>
            <a:ext cx="1481040" cy="754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68600" y="201780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32200" y="2017440"/>
            <a:ext cx="0" cy="52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87560" y="19591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033720" y="2598840"/>
            <a:ext cx="590400" cy="463320"/>
          </a:xfrm>
          <a:custGeom>
            <a:avLst/>
            <a:gdLst/>
            <a:ahLst/>
            <a:rect l="l" t="t" r="r" b="b"/>
            <a:pathLst>
              <a:path w="372" h="292">
                <a:moveTo>
                  <a:pt x="0" y="54"/>
                </a:moveTo>
                <a:cubicBezTo>
                  <a:pt x="15" y="35"/>
                  <a:pt x="31" y="16"/>
                  <a:pt x="64" y="9"/>
                </a:cubicBezTo>
                <a:cubicBezTo>
                  <a:pt x="97" y="2"/>
                  <a:pt x="165" y="0"/>
                  <a:pt x="201" y="9"/>
                </a:cubicBezTo>
                <a:cubicBezTo>
                  <a:pt x="237" y="18"/>
                  <a:pt x="262" y="44"/>
                  <a:pt x="283" y="64"/>
                </a:cubicBezTo>
                <a:cubicBezTo>
                  <a:pt x="304" y="84"/>
                  <a:pt x="315" y="102"/>
                  <a:pt x="329" y="128"/>
                </a:cubicBezTo>
                <a:cubicBezTo>
                  <a:pt x="343" y="154"/>
                  <a:pt x="360" y="192"/>
                  <a:pt x="366" y="219"/>
                </a:cubicBezTo>
                <a:cubicBezTo>
                  <a:pt x="372" y="246"/>
                  <a:pt x="366" y="280"/>
                  <a:pt x="366" y="29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51160" y="2641680"/>
            <a:ext cx="52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84880" y="207504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os del filt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402160" y="2610000"/>
                <a:ext cx="2374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b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5370480" y="3192480"/>
            <a:ext cx="3308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ulos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istribuidos uniformemente en función del orden del filtro como en el filtro de Butterw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52560" y="3072960"/>
            <a:ext cx="1382760" cy="698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503440" y="3055680"/>
            <a:ext cx="744480" cy="122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612880" y="4092480"/>
            <a:ext cx="3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946240" y="3556080"/>
            <a:ext cx="0" cy="52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914560" y="403236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6540480" y="4888080"/>
                <a:ext cx="1841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nary>
                          <m:naryPr>
                            <m:chr m:val="∏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1B4F-34A9-4A03-B057-BCAEA71607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14400" y="277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0033"/>
                </a:solidFill>
                <a:latin typeface="Times New Roman"/>
              </a:rPr>
              <a:t>Filtros de Chebyshev de orden n (Tipo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17680" y="2031840"/>
            <a:ext cx="0" cy="21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30400" y="38131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50800" y="2049480"/>
            <a:ext cx="9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G(j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06880" y="3701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60560" y="398772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54080" y="2311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00320" y="2587680"/>
            <a:ext cx="31680" cy="1457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95360" y="2575080"/>
            <a:ext cx="1706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11200" y="2759040"/>
            <a:ext cx="14274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836800" y="2759040"/>
            <a:ext cx="15840" cy="10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9200" y="2541600"/>
            <a:ext cx="5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11200" y="3625920"/>
            <a:ext cx="2898720" cy="0"/>
          </a:xfrm>
          <a:prstGeom prst="line">
            <a:avLst/>
          </a:prstGeom>
          <a:ln w="9360">
            <a:solidFill>
              <a:srgbClr val="66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6680" y="3718080"/>
            <a:ext cx="48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886280" y="1657440"/>
                <a:ext cx="28447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4711680" y="2898720"/>
            <a:ext cx="3595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polinomio de Chebyshev de orden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857840" y="3516480"/>
                <a:ext cx="4140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rc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h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rc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h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1082520" y="4587840"/>
            <a:ext cx="10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ñ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16000" y="5068800"/>
            <a:ext cx="361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ta la frecuenci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istorsión es menor d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frecuencias superiores a 1 la atenuación es inferior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4873680" y="5330880"/>
                <a:ext cx="33019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εδ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1038240" y="339408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25600" y="2557440"/>
            <a:ext cx="2712960" cy="1247760"/>
          </a:xfrm>
          <a:custGeom>
            <a:avLst/>
            <a:gdLst/>
            <a:ahLst/>
            <a:rect l="l" t="t" r="r" b="b"/>
            <a:pathLst>
              <a:path w="1709" h="786">
                <a:moveTo>
                  <a:pt x="0" y="10"/>
                </a:moveTo>
                <a:cubicBezTo>
                  <a:pt x="294" y="5"/>
                  <a:pt x="589" y="0"/>
                  <a:pt x="732" y="10"/>
                </a:cubicBezTo>
                <a:cubicBezTo>
                  <a:pt x="875" y="20"/>
                  <a:pt x="826" y="42"/>
                  <a:pt x="859" y="68"/>
                </a:cubicBezTo>
                <a:cubicBezTo>
                  <a:pt x="892" y="94"/>
                  <a:pt x="905" y="106"/>
                  <a:pt x="928" y="166"/>
                </a:cubicBezTo>
                <a:cubicBezTo>
                  <a:pt x="951" y="226"/>
                  <a:pt x="978" y="358"/>
                  <a:pt x="996" y="429"/>
                </a:cubicBezTo>
                <a:cubicBezTo>
                  <a:pt x="1014" y="500"/>
                  <a:pt x="1024" y="553"/>
                  <a:pt x="1035" y="595"/>
                </a:cubicBezTo>
                <a:cubicBezTo>
                  <a:pt x="1046" y="637"/>
                  <a:pt x="1056" y="657"/>
                  <a:pt x="1064" y="683"/>
                </a:cubicBezTo>
                <a:cubicBezTo>
                  <a:pt x="1072" y="709"/>
                  <a:pt x="1069" y="736"/>
                  <a:pt x="1084" y="752"/>
                </a:cubicBezTo>
                <a:cubicBezTo>
                  <a:pt x="1099" y="768"/>
                  <a:pt x="1131" y="786"/>
                  <a:pt x="1152" y="781"/>
                </a:cubicBezTo>
                <a:cubicBezTo>
                  <a:pt x="1173" y="776"/>
                  <a:pt x="1193" y="738"/>
                  <a:pt x="1211" y="722"/>
                </a:cubicBezTo>
                <a:cubicBezTo>
                  <a:pt x="1229" y="706"/>
                  <a:pt x="1232" y="688"/>
                  <a:pt x="1260" y="683"/>
                </a:cubicBezTo>
                <a:cubicBezTo>
                  <a:pt x="1288" y="678"/>
                  <a:pt x="1349" y="680"/>
                  <a:pt x="1377" y="693"/>
                </a:cubicBezTo>
                <a:cubicBezTo>
                  <a:pt x="1405" y="706"/>
                  <a:pt x="1398" y="753"/>
                  <a:pt x="1426" y="761"/>
                </a:cubicBezTo>
                <a:cubicBezTo>
                  <a:pt x="1454" y="769"/>
                  <a:pt x="1517" y="753"/>
                  <a:pt x="1543" y="742"/>
                </a:cubicBezTo>
                <a:cubicBezTo>
                  <a:pt x="1569" y="731"/>
                  <a:pt x="1563" y="703"/>
                  <a:pt x="1582" y="693"/>
                </a:cubicBezTo>
                <a:cubicBezTo>
                  <a:pt x="1601" y="683"/>
                  <a:pt x="1639" y="675"/>
                  <a:pt x="1660" y="683"/>
                </a:cubicBezTo>
                <a:cubicBezTo>
                  <a:pt x="1681" y="691"/>
                  <a:pt x="1701" y="732"/>
                  <a:pt x="1709" y="74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41C-49DF-4C68-92D6-BE81602D32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Filtros de Bessel de orden 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297080" y="2001960"/>
                <a:ext cx="1371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3951360" y="1984320"/>
            <a:ext cx="412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stante de norm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s) polinomio de Bessel de orden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108320" y="2975040"/>
                <a:ext cx="353088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033560" y="4038480"/>
                <a:ext cx="316224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rden 1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den 2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s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den 3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03B-D50A-4F3F-A719-1BF91DCDD2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ltros digita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17600" y="1828800"/>
            <a:ext cx="593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implementan como funciones discretas que procesan la información en instantes de tiempo correspondientes al periodo de muestreo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57280" y="2975040"/>
            <a:ext cx="2340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s tip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IR  respuesta impulsional infi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IR respuesta impulsional fi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4081320" y="3368520"/>
                <a:ext cx="2374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4138560" y="4259160"/>
                <a:ext cx="23241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698400" y="4835520"/>
            <a:ext cx="3625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ción del periodo de muestreo T para evitar “alias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idad del espec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51360" y="4913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478400" y="5951520"/>
            <a:ext cx="437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851360" y="5054760"/>
            <a:ext cx="3687840" cy="1149120"/>
          </a:xfrm>
          <a:custGeom>
            <a:avLst/>
            <a:gdLst/>
            <a:ahLst/>
            <a:rect l="l" t="t" r="r" b="b"/>
            <a:pathLst>
              <a:path w="2323" h="724">
                <a:moveTo>
                  <a:pt x="0" y="106"/>
                </a:moveTo>
                <a:cubicBezTo>
                  <a:pt x="149" y="106"/>
                  <a:pt x="299" y="106"/>
                  <a:pt x="400" y="106"/>
                </a:cubicBezTo>
                <a:cubicBezTo>
                  <a:pt x="501" y="106"/>
                  <a:pt x="548" y="90"/>
                  <a:pt x="605" y="106"/>
                </a:cubicBezTo>
                <a:cubicBezTo>
                  <a:pt x="662" y="122"/>
                  <a:pt x="693" y="157"/>
                  <a:pt x="742" y="204"/>
                </a:cubicBezTo>
                <a:cubicBezTo>
                  <a:pt x="791" y="251"/>
                  <a:pt x="853" y="331"/>
                  <a:pt x="898" y="389"/>
                </a:cubicBezTo>
                <a:cubicBezTo>
                  <a:pt x="943" y="447"/>
                  <a:pt x="976" y="504"/>
                  <a:pt x="1015" y="555"/>
                </a:cubicBezTo>
                <a:cubicBezTo>
                  <a:pt x="1054" y="606"/>
                  <a:pt x="1086" y="666"/>
                  <a:pt x="1132" y="692"/>
                </a:cubicBezTo>
                <a:cubicBezTo>
                  <a:pt x="1178" y="718"/>
                  <a:pt x="1242" y="708"/>
                  <a:pt x="1288" y="711"/>
                </a:cubicBezTo>
                <a:cubicBezTo>
                  <a:pt x="1334" y="714"/>
                  <a:pt x="1373" y="724"/>
                  <a:pt x="1406" y="711"/>
                </a:cubicBezTo>
                <a:cubicBezTo>
                  <a:pt x="1439" y="698"/>
                  <a:pt x="1456" y="687"/>
                  <a:pt x="1484" y="633"/>
                </a:cubicBezTo>
                <a:cubicBezTo>
                  <a:pt x="1512" y="579"/>
                  <a:pt x="1548" y="465"/>
                  <a:pt x="1572" y="389"/>
                </a:cubicBezTo>
                <a:cubicBezTo>
                  <a:pt x="1596" y="313"/>
                  <a:pt x="1612" y="234"/>
                  <a:pt x="1630" y="174"/>
                </a:cubicBezTo>
                <a:cubicBezTo>
                  <a:pt x="1648" y="114"/>
                  <a:pt x="1614" y="54"/>
                  <a:pt x="1679" y="28"/>
                </a:cubicBezTo>
                <a:cubicBezTo>
                  <a:pt x="1744" y="2"/>
                  <a:pt x="1932" y="20"/>
                  <a:pt x="2021" y="18"/>
                </a:cubicBezTo>
                <a:cubicBezTo>
                  <a:pt x="2110" y="16"/>
                  <a:pt x="2166" y="0"/>
                  <a:pt x="2216" y="18"/>
                </a:cubicBezTo>
                <a:cubicBezTo>
                  <a:pt x="2266" y="36"/>
                  <a:pt x="2305" y="108"/>
                  <a:pt x="2323" y="12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850080" y="5827680"/>
            <a:ext cx="158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554880" y="545472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353440" y="55609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75120" y="4808520"/>
            <a:ext cx="9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G(j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C52-4394-48FF-90C8-702CB899AA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Diseño de filtros digitales por aproximació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46080" y="1860480"/>
            <a:ext cx="7858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odologí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coger un tipo de filtro prototipo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r el filtro continuo que cumple las especificaciones del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coger el periodo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cretizar el filtro continuo con periodo T usando un método adecu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étodo de Tustin, Aproximación polo-cer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01880" y="5181480"/>
            <a:ext cx="1523880" cy="812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ñ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86040" y="5573880"/>
            <a:ext cx="139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08720" y="5157720"/>
            <a:ext cx="1584360" cy="79236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ro disc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80000" y="50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 = f(z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9E3F-8F39-41E0-8353-60ADB96DA5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jemplo 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20800" y="1782720"/>
            <a:ext cx="7083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r un filtro de Butterworth, pasa baja, cuya frecuencia de corte este en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0.1 rad/sg y tal que la distorsión a frecuencias inferiores a 0.07 rad/sg sea menor del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187280" y="2871720"/>
            <a:ext cx="0" cy="21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00000" y="465300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20760" y="288936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G(j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753000" y="42800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411280" y="494172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24040" y="3151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95560" y="3389400"/>
            <a:ext cx="2587320" cy="1263600"/>
          </a:xfrm>
          <a:custGeom>
            <a:avLst/>
            <a:gdLst/>
            <a:ahLst/>
            <a:rect l="l" t="t" r="r" b="b"/>
            <a:pathLst>
              <a:path w="1640" h="542">
                <a:moveTo>
                  <a:pt x="0" y="15"/>
                </a:moveTo>
                <a:cubicBezTo>
                  <a:pt x="266" y="7"/>
                  <a:pt x="532" y="0"/>
                  <a:pt x="683" y="15"/>
                </a:cubicBezTo>
                <a:cubicBezTo>
                  <a:pt x="834" y="30"/>
                  <a:pt x="835" y="35"/>
                  <a:pt x="908" y="102"/>
                </a:cubicBezTo>
                <a:cubicBezTo>
                  <a:pt x="981" y="169"/>
                  <a:pt x="1047" y="346"/>
                  <a:pt x="1123" y="415"/>
                </a:cubicBezTo>
                <a:cubicBezTo>
                  <a:pt x="1199" y="484"/>
                  <a:pt x="1281" y="492"/>
                  <a:pt x="1367" y="513"/>
                </a:cubicBezTo>
                <a:cubicBezTo>
                  <a:pt x="1453" y="534"/>
                  <a:pt x="1546" y="538"/>
                  <a:pt x="1640" y="54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776680" y="3427560"/>
            <a:ext cx="15840" cy="172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41640" y="3414600"/>
            <a:ext cx="666720" cy="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181160" y="35989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575080" y="3598920"/>
            <a:ext cx="15840" cy="10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8800" y="3381480"/>
            <a:ext cx="5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371680" y="4605480"/>
            <a:ext cx="48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81160" y="4465800"/>
            <a:ext cx="1890720" cy="0"/>
          </a:xfrm>
          <a:prstGeom prst="line">
            <a:avLst/>
          </a:prstGeom>
          <a:ln w="9360">
            <a:solidFill>
              <a:srgbClr val="66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71880" y="4465800"/>
            <a:ext cx="0" cy="17136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911320" y="4603680"/>
            <a:ext cx="48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24040" y="426420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2637000"/>
            <a:ext cx="3672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l filtro prototipo, esto equivale a elegi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.7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84480" y="3370320"/>
                <a:ext cx="5131080" cy="29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ε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ε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ε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ε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5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5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5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5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5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5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6516720" y="5516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ría usarse aprox. un filtro de orde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0920" y="5445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ótese como cambiaría el orden del filtro si la especificación de distorsión cambiase a 0.05 ó a 0.09 rad/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D0B-64BE-4119-960B-D37A559AED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Indi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s de fil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iltros prototipo contin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iltro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iltros tipo Butter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iltros tipo Chebyshev (I y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iltros tipo B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s de filtros digi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eño de filtros digitales por aproxi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DD4C-365D-4C47-BD2E-304D7C7DD8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jemplo 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900000" y="1700280"/>
                <a:ext cx="7074000" cy="452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8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jπ</m:t>
                                      </m:r>
                                      <m:f>
                                        <m:num>
                                          <m:r>
                                            <m:t xml:space="preserve">5</m:t>
                                          </m:r>
                                        </m:num>
                                        <m:den>
                                          <m:r>
                                            <m:t xml:space="preserve">8</m:t>
                                          </m:r>
                                        </m:den>
                                      </m:f>
                                    </m:sup>
                                  </m:sSup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jπ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−</m:t>
                                          </m:r>
                                          <m:f>
                                            <m:num>
                                              <m:r>
                                                <m:t xml:space="preserve">3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8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sup>
                                  </m:sSup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jπ</m:t>
                                      </m:r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f>
                                        <m:num>
                                          <m:r>
                                            <m:t xml:space="preserve">jπ</m:t>
                                          </m:r>
                                          <m:r>
                                            <m:t xml:space="preserve">3</m:t>
                                          </m:r>
                                        </m:num>
                                        <m:den>
                                          <m:r>
                                            <m:t xml:space="preserve">8</m:t>
                                          </m:r>
                                        </m:den>
                                      </m:f>
                                    </m:sup>
                                  </m:sSup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f>
                                        <m:num>
                                          <m:r>
                                            <m:t xml:space="preserve">jπ</m:t>
                                          </m:r>
                                          <m:r>
                                            <m:t xml:space="preserve">3</m:t>
                                          </m:r>
                                        </m:num>
                                        <m:den>
                                          <m:r>
                                            <m:t xml:space="preserve">8</m:t>
                                          </m:r>
                                        </m:den>
                                      </m:f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jπ</m:t>
                                      </m:r>
                                      <m:f>
                                        <m:num>
                                          <m:r>
                                            <m:t xml:space="preserve">7</m:t>
                                          </m:r>
                                        </m:num>
                                        <m:den>
                                          <m:r>
                                            <m:t xml:space="preserve">8</m:t>
                                          </m:r>
                                        </m:den>
                                      </m:f>
                                    </m:sup>
                                  </m:sSup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jπ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−</m:t>
                                          </m:r>
                                          <m:f>
                                            <m:num>
                                              <m:r>
                                                <m:t xml:space="preserve">1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8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sup>
                                  </m:sSup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jπ</m:t>
                                      </m:r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f>
                                        <m:num>
                                          <m:r>
                                            <m:t xml:space="preserve">jπ</m:t>
                                          </m:r>
                                        </m:num>
                                        <m:den>
                                          <m:r>
                                            <m:t xml:space="preserve">8</m:t>
                                          </m:r>
                                        </m:den>
                                      </m:f>
                                    </m:sup>
                                  </m:sSup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f>
                                        <m:num>
                                          <m:r>
                                            <m:t xml:space="preserve">jπ</m:t>
                                          </m:r>
                                        </m:num>
                                        <m:den>
                                          <m:r>
                                            <m:t xml:space="preserve">8</m:t>
                                          </m:r>
                                        </m:den>
                                      </m:f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jπ</m:t>
                                      </m:r>
                                      <m:f>
                                        <m:num>
                                          <m:r>
                                            <m:t xml:space="preserve">9</m:t>
                                          </m:r>
                                        </m:num>
                                        <m:den>
                                          <m:r>
                                            <m:t xml:space="preserve">8</m:t>
                                          </m:r>
                                        </m:den>
                                      </m:f>
                                    </m:sup>
                                  </m:sSup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jπ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+</m:t>
                                          </m:r>
                                          <m:f>
                                            <m:num>
                                              <m:r>
                                                <m:t xml:space="preserve">1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8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sup>
                                  </m:sSup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jπ</m:t>
                                      </m:r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jπ</m:t>
                                          </m:r>
                                        </m:num>
                                        <m:den>
                                          <m:r>
                                            <m:t xml:space="preserve">8</m:t>
                                          </m:r>
                                        </m:den>
                                      </m:f>
                                    </m:sup>
                                  </m:sSup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jπ</m:t>
                                          </m:r>
                                        </m:num>
                                        <m:den>
                                          <m:r>
                                            <m:t xml:space="preserve">8</m:t>
                                          </m:r>
                                        </m:den>
                                      </m:f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jπ</m:t>
                                      </m:r>
                                      <m:f>
                                        <m:num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num>
                                        <m:den>
                                          <m:r>
                                            <m:t xml:space="preserve">8</m:t>
                                          </m:r>
                                        </m:den>
                                      </m:f>
                                    </m:sup>
                                  </m:sSup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jπ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+</m:t>
                                          </m:r>
                                          <m:f>
                                            <m:num>
                                              <m:r>
                                                <m:t xml:space="preserve">3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8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sup>
                                  </m:sSup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jπ</m:t>
                                      </m:r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f>
                                        <m:num>
                                          <m:r>
                                            <m:t xml:space="preserve">jπ</m:t>
                                          </m:r>
                                          <m:r>
                                            <m:t xml:space="preserve">3</m:t>
                                          </m:r>
                                        </m:num>
                                        <m:den>
                                          <m:r>
                                            <m:t xml:space="preserve">8</m:t>
                                          </m:r>
                                        </m:den>
                                      </m:f>
                                    </m:sup>
                                  </m:sSup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jπ</m:t>
                                          </m:r>
                                          <m:r>
                                            <m:t xml:space="preserve">3</m:t>
                                          </m:r>
                                        </m:num>
                                        <m:den>
                                          <m:r>
                                            <m:t xml:space="preserve">8</m:t>
                                          </m:r>
                                        </m:den>
                                      </m:f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jπ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jπ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8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n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8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jπ</m:t>
                                    </m:r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8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jπ</m:t>
                                    </m:r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8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jπ</m:t>
                                    </m:r>
                                  </m:num>
                                  <m:den>
                                    <m:r>
                                      <m:t xml:space="preserve">8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jπ</m:t>
                                    </m:r>
                                  </m:num>
                                  <m:den>
                                    <m:r>
                                      <m:t xml:space="preserve">8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65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48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5364000" y="1989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n = 4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44B-6B2B-4471-8697-8A2DA60EDF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jemplo 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938160" y="1738440"/>
                <a:ext cx="452124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65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48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5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4211640" y="3159000"/>
            <a:ext cx="4541760" cy="34070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042920" y="3573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ple las especif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616800" y="3463920"/>
            <a:ext cx="0" cy="13478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353280" y="3476520"/>
            <a:ext cx="0" cy="13478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413320" y="4368960"/>
            <a:ext cx="110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.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573960" y="4336920"/>
            <a:ext cx="110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941400" y="4292640"/>
                <a:ext cx="3137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557600" y="3614760"/>
            <a:ext cx="2764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006800" y="339552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1106640" y="4668840"/>
            <a:ext cx="2685960" cy="20145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247760" y="5310360"/>
            <a:ext cx="1089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2360" y="507672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336760" y="5297400"/>
            <a:ext cx="14400" cy="1162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725040" y="5457960"/>
            <a:ext cx="739800" cy="52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6008760"/>
            <a:ext cx="9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1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0F35-9485-44AB-8CB2-0B7350BF72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jemplo 3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20800" y="1782720"/>
            <a:ext cx="7711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r un filtro digital de Bessel de 2º orden, pasa baja, cuya frecuencia de corte este en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10 rad/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603680" y="23446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230720" y="3382920"/>
            <a:ext cx="437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603680" y="2486160"/>
            <a:ext cx="3687840" cy="1149120"/>
          </a:xfrm>
          <a:custGeom>
            <a:avLst/>
            <a:gdLst/>
            <a:ahLst/>
            <a:rect l="l" t="t" r="r" b="b"/>
            <a:pathLst>
              <a:path w="2323" h="724">
                <a:moveTo>
                  <a:pt x="0" y="106"/>
                </a:moveTo>
                <a:cubicBezTo>
                  <a:pt x="149" y="106"/>
                  <a:pt x="299" y="106"/>
                  <a:pt x="400" y="106"/>
                </a:cubicBezTo>
                <a:cubicBezTo>
                  <a:pt x="501" y="106"/>
                  <a:pt x="548" y="90"/>
                  <a:pt x="605" y="106"/>
                </a:cubicBezTo>
                <a:cubicBezTo>
                  <a:pt x="662" y="122"/>
                  <a:pt x="693" y="157"/>
                  <a:pt x="742" y="204"/>
                </a:cubicBezTo>
                <a:cubicBezTo>
                  <a:pt x="791" y="251"/>
                  <a:pt x="853" y="331"/>
                  <a:pt x="898" y="389"/>
                </a:cubicBezTo>
                <a:cubicBezTo>
                  <a:pt x="943" y="447"/>
                  <a:pt x="976" y="504"/>
                  <a:pt x="1015" y="555"/>
                </a:cubicBezTo>
                <a:cubicBezTo>
                  <a:pt x="1054" y="606"/>
                  <a:pt x="1086" y="666"/>
                  <a:pt x="1132" y="692"/>
                </a:cubicBezTo>
                <a:cubicBezTo>
                  <a:pt x="1178" y="718"/>
                  <a:pt x="1242" y="708"/>
                  <a:pt x="1288" y="711"/>
                </a:cubicBezTo>
                <a:cubicBezTo>
                  <a:pt x="1334" y="714"/>
                  <a:pt x="1373" y="724"/>
                  <a:pt x="1406" y="711"/>
                </a:cubicBezTo>
                <a:cubicBezTo>
                  <a:pt x="1439" y="698"/>
                  <a:pt x="1456" y="687"/>
                  <a:pt x="1484" y="633"/>
                </a:cubicBezTo>
                <a:cubicBezTo>
                  <a:pt x="1512" y="579"/>
                  <a:pt x="1548" y="465"/>
                  <a:pt x="1572" y="389"/>
                </a:cubicBezTo>
                <a:cubicBezTo>
                  <a:pt x="1596" y="313"/>
                  <a:pt x="1612" y="234"/>
                  <a:pt x="1630" y="174"/>
                </a:cubicBezTo>
                <a:cubicBezTo>
                  <a:pt x="1648" y="114"/>
                  <a:pt x="1614" y="54"/>
                  <a:pt x="1679" y="28"/>
                </a:cubicBezTo>
                <a:cubicBezTo>
                  <a:pt x="1744" y="2"/>
                  <a:pt x="1932" y="20"/>
                  <a:pt x="2021" y="18"/>
                </a:cubicBezTo>
                <a:cubicBezTo>
                  <a:pt x="2110" y="16"/>
                  <a:pt x="2166" y="0"/>
                  <a:pt x="2216" y="18"/>
                </a:cubicBezTo>
                <a:cubicBezTo>
                  <a:pt x="2266" y="36"/>
                  <a:pt x="2305" y="108"/>
                  <a:pt x="2323" y="12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602400" y="3259080"/>
            <a:ext cx="158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307200" y="288612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105760" y="29923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27440" y="2239920"/>
            <a:ext cx="9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G(j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16720" y="32796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354640" y="3614760"/>
            <a:ext cx="6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57240" y="2743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ro normaliz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150920" y="3197160"/>
                <a:ext cx="1562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4" name=""/>
          <p:cNvSpPr/>
          <p:nvPr/>
        </p:nvSpPr>
        <p:spPr>
          <a:xfrm>
            <a:off x="1030320" y="419400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ugar de sustituir s por s/10, debido a la distorsión en frecuencia que sufrirá  la función al hacer la aproximación de Tustin, se sustituye po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124680" y="37450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T &gt;100   T=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687240" y="5214960"/>
                <a:ext cx="19051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352680" y="5207040"/>
                <a:ext cx="54864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76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6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AAB-8EA9-4B1E-AC0C-B01D649BBE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jemplo 3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13320" y="1843200"/>
            <a:ext cx="31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discretizar utilizamos la aproximación de Tus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318360" y="2589120"/>
                <a:ext cx="1523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28640" y="1690560"/>
                <a:ext cx="4788000" cy="29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76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76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66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66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76</m:t>
                                        </m:r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6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6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76</m:t>
                                    </m:r>
                                  </m:den>
                                </m:f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881600" y="3683160"/>
            <a:ext cx="3940200" cy="29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583-E2C2-4138-AEF9-CAA05B5959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ltr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184464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filtro es un dispositivo que atenúa o potencia determinadas frecuencias presentes en la señal de entrada, de modo que la salida  elimine o refuerce las mismas en determinados ran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3573360"/>
            <a:ext cx="1800000" cy="1079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414972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4076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284640"/>
            <a:ext cx="1727280" cy="741240"/>
          </a:xfrm>
          <a:custGeom>
            <a:avLst/>
            <a:gdLst/>
            <a:ahLst/>
            <a:rect l="l" t="t" r="r" b="b"/>
            <a:pathLst>
              <a:path w="1088" h="467">
                <a:moveTo>
                  <a:pt x="0" y="370"/>
                </a:moveTo>
                <a:cubicBezTo>
                  <a:pt x="37" y="362"/>
                  <a:pt x="75" y="355"/>
                  <a:pt x="90" y="370"/>
                </a:cubicBezTo>
                <a:cubicBezTo>
                  <a:pt x="105" y="385"/>
                  <a:pt x="82" y="460"/>
                  <a:pt x="90" y="460"/>
                </a:cubicBezTo>
                <a:cubicBezTo>
                  <a:pt x="98" y="460"/>
                  <a:pt x="128" y="400"/>
                  <a:pt x="136" y="370"/>
                </a:cubicBezTo>
                <a:cubicBezTo>
                  <a:pt x="144" y="340"/>
                  <a:pt x="129" y="272"/>
                  <a:pt x="136" y="279"/>
                </a:cubicBezTo>
                <a:cubicBezTo>
                  <a:pt x="143" y="286"/>
                  <a:pt x="166" y="385"/>
                  <a:pt x="181" y="415"/>
                </a:cubicBezTo>
                <a:cubicBezTo>
                  <a:pt x="196" y="445"/>
                  <a:pt x="212" y="467"/>
                  <a:pt x="227" y="460"/>
                </a:cubicBezTo>
                <a:cubicBezTo>
                  <a:pt x="242" y="453"/>
                  <a:pt x="265" y="400"/>
                  <a:pt x="272" y="370"/>
                </a:cubicBezTo>
                <a:cubicBezTo>
                  <a:pt x="279" y="340"/>
                  <a:pt x="257" y="309"/>
                  <a:pt x="272" y="279"/>
                </a:cubicBezTo>
                <a:cubicBezTo>
                  <a:pt x="287" y="249"/>
                  <a:pt x="340" y="218"/>
                  <a:pt x="363" y="188"/>
                </a:cubicBezTo>
                <a:cubicBezTo>
                  <a:pt x="386" y="158"/>
                  <a:pt x="385" y="104"/>
                  <a:pt x="408" y="97"/>
                </a:cubicBezTo>
                <a:cubicBezTo>
                  <a:pt x="431" y="90"/>
                  <a:pt x="484" y="150"/>
                  <a:pt x="499" y="143"/>
                </a:cubicBezTo>
                <a:cubicBezTo>
                  <a:pt x="514" y="136"/>
                  <a:pt x="492" y="75"/>
                  <a:pt x="499" y="52"/>
                </a:cubicBezTo>
                <a:cubicBezTo>
                  <a:pt x="506" y="29"/>
                  <a:pt x="529" y="0"/>
                  <a:pt x="544" y="7"/>
                </a:cubicBezTo>
                <a:cubicBezTo>
                  <a:pt x="559" y="14"/>
                  <a:pt x="574" y="90"/>
                  <a:pt x="589" y="97"/>
                </a:cubicBezTo>
                <a:cubicBezTo>
                  <a:pt x="604" y="104"/>
                  <a:pt x="620" y="67"/>
                  <a:pt x="635" y="52"/>
                </a:cubicBezTo>
                <a:cubicBezTo>
                  <a:pt x="650" y="37"/>
                  <a:pt x="665" y="7"/>
                  <a:pt x="680" y="7"/>
                </a:cubicBezTo>
                <a:cubicBezTo>
                  <a:pt x="695" y="7"/>
                  <a:pt x="711" y="29"/>
                  <a:pt x="726" y="52"/>
                </a:cubicBezTo>
                <a:cubicBezTo>
                  <a:pt x="741" y="75"/>
                  <a:pt x="756" y="136"/>
                  <a:pt x="771" y="143"/>
                </a:cubicBezTo>
                <a:cubicBezTo>
                  <a:pt x="786" y="150"/>
                  <a:pt x="809" y="82"/>
                  <a:pt x="816" y="97"/>
                </a:cubicBezTo>
                <a:cubicBezTo>
                  <a:pt x="823" y="112"/>
                  <a:pt x="801" y="210"/>
                  <a:pt x="816" y="233"/>
                </a:cubicBezTo>
                <a:cubicBezTo>
                  <a:pt x="831" y="256"/>
                  <a:pt x="884" y="225"/>
                  <a:pt x="907" y="233"/>
                </a:cubicBezTo>
                <a:cubicBezTo>
                  <a:pt x="930" y="241"/>
                  <a:pt x="937" y="264"/>
                  <a:pt x="952" y="279"/>
                </a:cubicBezTo>
                <a:cubicBezTo>
                  <a:pt x="967" y="294"/>
                  <a:pt x="975" y="317"/>
                  <a:pt x="998" y="324"/>
                </a:cubicBezTo>
                <a:cubicBezTo>
                  <a:pt x="1021" y="331"/>
                  <a:pt x="1073" y="316"/>
                  <a:pt x="1088" y="3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3260880"/>
            <a:ext cx="1656000" cy="672840"/>
          </a:xfrm>
          <a:custGeom>
            <a:avLst/>
            <a:gdLst/>
            <a:ahLst/>
            <a:rect l="l" t="t" r="r" b="b"/>
            <a:pathLst>
              <a:path w="1043" h="424">
                <a:moveTo>
                  <a:pt x="0" y="424"/>
                </a:moveTo>
                <a:cubicBezTo>
                  <a:pt x="49" y="416"/>
                  <a:pt x="98" y="408"/>
                  <a:pt x="136" y="378"/>
                </a:cubicBezTo>
                <a:cubicBezTo>
                  <a:pt x="174" y="348"/>
                  <a:pt x="197" y="287"/>
                  <a:pt x="227" y="242"/>
                </a:cubicBezTo>
                <a:cubicBezTo>
                  <a:pt x="257" y="197"/>
                  <a:pt x="272" y="144"/>
                  <a:pt x="317" y="106"/>
                </a:cubicBezTo>
                <a:cubicBezTo>
                  <a:pt x="362" y="68"/>
                  <a:pt x="446" y="30"/>
                  <a:pt x="499" y="15"/>
                </a:cubicBezTo>
                <a:cubicBezTo>
                  <a:pt x="552" y="0"/>
                  <a:pt x="582" y="0"/>
                  <a:pt x="635" y="15"/>
                </a:cubicBezTo>
                <a:cubicBezTo>
                  <a:pt x="688" y="30"/>
                  <a:pt x="771" y="76"/>
                  <a:pt x="816" y="106"/>
                </a:cubicBezTo>
                <a:cubicBezTo>
                  <a:pt x="861" y="136"/>
                  <a:pt x="877" y="174"/>
                  <a:pt x="907" y="197"/>
                </a:cubicBezTo>
                <a:cubicBezTo>
                  <a:pt x="937" y="220"/>
                  <a:pt x="975" y="227"/>
                  <a:pt x="998" y="242"/>
                </a:cubicBezTo>
                <a:cubicBezTo>
                  <a:pt x="1021" y="257"/>
                  <a:pt x="1032" y="272"/>
                  <a:pt x="1043" y="2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4000" y="450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44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515772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función de transferencia del filtro, a través de su diagrama de Bode, nos da una idea del rango de frecuencias que se atenúan o poten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E46-3E75-4BFC-81A1-1CE70CFF8B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pos de filtr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16146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endiendo al rango de frecuencias que se atenúan o potencian se pueden clasificar los filtros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263700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3860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900520"/>
            <a:ext cx="2592360" cy="973080"/>
          </a:xfrm>
          <a:custGeom>
            <a:avLst/>
            <a:gdLst/>
            <a:ahLst/>
            <a:rect l="l" t="t" r="r" b="b"/>
            <a:pathLst>
              <a:path w="1633" h="613">
                <a:moveTo>
                  <a:pt x="0" y="15"/>
                </a:moveTo>
                <a:cubicBezTo>
                  <a:pt x="72" y="15"/>
                  <a:pt x="144" y="15"/>
                  <a:pt x="227" y="15"/>
                </a:cubicBezTo>
                <a:cubicBezTo>
                  <a:pt x="310" y="15"/>
                  <a:pt x="423" y="0"/>
                  <a:pt x="499" y="15"/>
                </a:cubicBezTo>
                <a:cubicBezTo>
                  <a:pt x="575" y="30"/>
                  <a:pt x="636" y="53"/>
                  <a:pt x="681" y="106"/>
                </a:cubicBezTo>
                <a:cubicBezTo>
                  <a:pt x="726" y="159"/>
                  <a:pt x="734" y="280"/>
                  <a:pt x="772" y="333"/>
                </a:cubicBezTo>
                <a:cubicBezTo>
                  <a:pt x="810" y="386"/>
                  <a:pt x="833" y="394"/>
                  <a:pt x="908" y="424"/>
                </a:cubicBezTo>
                <a:cubicBezTo>
                  <a:pt x="983" y="454"/>
                  <a:pt x="1142" y="491"/>
                  <a:pt x="1225" y="514"/>
                </a:cubicBezTo>
                <a:cubicBezTo>
                  <a:pt x="1308" y="537"/>
                  <a:pt x="1354" y="545"/>
                  <a:pt x="1407" y="560"/>
                </a:cubicBezTo>
                <a:cubicBezTo>
                  <a:pt x="1460" y="575"/>
                  <a:pt x="1505" y="597"/>
                  <a:pt x="1543" y="605"/>
                </a:cubicBezTo>
                <a:cubicBezTo>
                  <a:pt x="1581" y="613"/>
                  <a:pt x="1633" y="605"/>
                  <a:pt x="1633" y="605"/>
                </a:cubicBezTo>
                <a:cubicBezTo>
                  <a:pt x="1633" y="605"/>
                  <a:pt x="1588" y="605"/>
                  <a:pt x="1543" y="6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G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5280" y="263700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3860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075280" y="2899800"/>
            <a:ext cx="2592360" cy="973080"/>
          </a:xfrm>
          <a:custGeom>
            <a:avLst/>
            <a:gdLst/>
            <a:ahLst/>
            <a:rect l="l" t="t" r="r" b="b"/>
            <a:pathLst>
              <a:path w="1633" h="613">
                <a:moveTo>
                  <a:pt x="0" y="15"/>
                </a:moveTo>
                <a:cubicBezTo>
                  <a:pt x="72" y="15"/>
                  <a:pt x="144" y="15"/>
                  <a:pt x="227" y="15"/>
                </a:cubicBezTo>
                <a:cubicBezTo>
                  <a:pt x="310" y="15"/>
                  <a:pt x="423" y="0"/>
                  <a:pt x="499" y="15"/>
                </a:cubicBezTo>
                <a:cubicBezTo>
                  <a:pt x="575" y="30"/>
                  <a:pt x="636" y="53"/>
                  <a:pt x="681" y="106"/>
                </a:cubicBezTo>
                <a:cubicBezTo>
                  <a:pt x="726" y="159"/>
                  <a:pt x="734" y="280"/>
                  <a:pt x="772" y="333"/>
                </a:cubicBezTo>
                <a:cubicBezTo>
                  <a:pt x="810" y="386"/>
                  <a:pt x="833" y="394"/>
                  <a:pt x="908" y="424"/>
                </a:cubicBezTo>
                <a:cubicBezTo>
                  <a:pt x="983" y="454"/>
                  <a:pt x="1142" y="491"/>
                  <a:pt x="1225" y="514"/>
                </a:cubicBezTo>
                <a:cubicBezTo>
                  <a:pt x="1308" y="537"/>
                  <a:pt x="1354" y="545"/>
                  <a:pt x="1407" y="560"/>
                </a:cubicBezTo>
                <a:cubicBezTo>
                  <a:pt x="1460" y="575"/>
                  <a:pt x="1505" y="597"/>
                  <a:pt x="1543" y="605"/>
                </a:cubicBezTo>
                <a:cubicBezTo>
                  <a:pt x="1581" y="613"/>
                  <a:pt x="1633" y="605"/>
                  <a:pt x="1633" y="605"/>
                </a:cubicBezTo>
                <a:cubicBezTo>
                  <a:pt x="1633" y="605"/>
                  <a:pt x="1588" y="605"/>
                  <a:pt x="1543" y="6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528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G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58136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5805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4437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G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75280" y="458136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59280" y="5805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75280" y="4437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G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2472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2708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 b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256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 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4941720"/>
            <a:ext cx="2736720" cy="887760"/>
          </a:xfrm>
          <a:custGeom>
            <a:avLst/>
            <a:gdLst/>
            <a:ahLst/>
            <a:rect l="l" t="t" r="r" b="b"/>
            <a:pathLst>
              <a:path w="1724" h="559">
                <a:moveTo>
                  <a:pt x="0" y="544"/>
                </a:moveTo>
                <a:cubicBezTo>
                  <a:pt x="79" y="544"/>
                  <a:pt x="159" y="544"/>
                  <a:pt x="227" y="544"/>
                </a:cubicBezTo>
                <a:cubicBezTo>
                  <a:pt x="295" y="544"/>
                  <a:pt x="356" y="559"/>
                  <a:pt x="409" y="544"/>
                </a:cubicBezTo>
                <a:cubicBezTo>
                  <a:pt x="462" y="529"/>
                  <a:pt x="500" y="506"/>
                  <a:pt x="545" y="453"/>
                </a:cubicBezTo>
                <a:cubicBezTo>
                  <a:pt x="590" y="400"/>
                  <a:pt x="651" y="286"/>
                  <a:pt x="681" y="226"/>
                </a:cubicBezTo>
                <a:cubicBezTo>
                  <a:pt x="711" y="166"/>
                  <a:pt x="688" y="120"/>
                  <a:pt x="726" y="90"/>
                </a:cubicBezTo>
                <a:cubicBezTo>
                  <a:pt x="764" y="60"/>
                  <a:pt x="847" y="53"/>
                  <a:pt x="908" y="45"/>
                </a:cubicBezTo>
                <a:cubicBezTo>
                  <a:pt x="969" y="37"/>
                  <a:pt x="1036" y="0"/>
                  <a:pt x="1089" y="45"/>
                </a:cubicBezTo>
                <a:cubicBezTo>
                  <a:pt x="1142" y="90"/>
                  <a:pt x="1187" y="249"/>
                  <a:pt x="1225" y="317"/>
                </a:cubicBezTo>
                <a:cubicBezTo>
                  <a:pt x="1263" y="385"/>
                  <a:pt x="1293" y="423"/>
                  <a:pt x="1316" y="453"/>
                </a:cubicBezTo>
                <a:cubicBezTo>
                  <a:pt x="1339" y="483"/>
                  <a:pt x="1338" y="484"/>
                  <a:pt x="1361" y="499"/>
                </a:cubicBezTo>
                <a:cubicBezTo>
                  <a:pt x="1384" y="514"/>
                  <a:pt x="1407" y="537"/>
                  <a:pt x="1452" y="544"/>
                </a:cubicBezTo>
                <a:cubicBezTo>
                  <a:pt x="1497" y="551"/>
                  <a:pt x="1588" y="544"/>
                  <a:pt x="1633" y="544"/>
                </a:cubicBezTo>
                <a:cubicBezTo>
                  <a:pt x="1678" y="544"/>
                  <a:pt x="1709" y="544"/>
                  <a:pt x="1724" y="5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4797360"/>
            <a:ext cx="2735280" cy="1008000"/>
          </a:xfrm>
          <a:custGeom>
            <a:avLst/>
            <a:gdLst/>
            <a:ahLst/>
            <a:rect l="l" t="t" r="r" b="b"/>
            <a:pathLst>
              <a:path w="1723" h="620">
                <a:moveTo>
                  <a:pt x="0" y="61"/>
                </a:moveTo>
                <a:cubicBezTo>
                  <a:pt x="64" y="61"/>
                  <a:pt x="128" y="61"/>
                  <a:pt x="181" y="61"/>
                </a:cubicBezTo>
                <a:cubicBezTo>
                  <a:pt x="234" y="61"/>
                  <a:pt x="272" y="61"/>
                  <a:pt x="317" y="61"/>
                </a:cubicBezTo>
                <a:cubicBezTo>
                  <a:pt x="362" y="61"/>
                  <a:pt x="408" y="38"/>
                  <a:pt x="453" y="61"/>
                </a:cubicBezTo>
                <a:cubicBezTo>
                  <a:pt x="498" y="84"/>
                  <a:pt x="559" y="152"/>
                  <a:pt x="589" y="197"/>
                </a:cubicBezTo>
                <a:cubicBezTo>
                  <a:pt x="619" y="242"/>
                  <a:pt x="612" y="288"/>
                  <a:pt x="635" y="333"/>
                </a:cubicBezTo>
                <a:cubicBezTo>
                  <a:pt x="658" y="378"/>
                  <a:pt x="702" y="431"/>
                  <a:pt x="725" y="469"/>
                </a:cubicBezTo>
                <a:cubicBezTo>
                  <a:pt x="748" y="507"/>
                  <a:pt x="748" y="537"/>
                  <a:pt x="771" y="560"/>
                </a:cubicBezTo>
                <a:cubicBezTo>
                  <a:pt x="794" y="583"/>
                  <a:pt x="823" y="598"/>
                  <a:pt x="861" y="605"/>
                </a:cubicBezTo>
                <a:cubicBezTo>
                  <a:pt x="899" y="612"/>
                  <a:pt x="952" y="605"/>
                  <a:pt x="997" y="605"/>
                </a:cubicBezTo>
                <a:cubicBezTo>
                  <a:pt x="1042" y="605"/>
                  <a:pt x="1096" y="620"/>
                  <a:pt x="1134" y="605"/>
                </a:cubicBezTo>
                <a:cubicBezTo>
                  <a:pt x="1172" y="590"/>
                  <a:pt x="1201" y="567"/>
                  <a:pt x="1224" y="514"/>
                </a:cubicBezTo>
                <a:cubicBezTo>
                  <a:pt x="1247" y="461"/>
                  <a:pt x="1247" y="355"/>
                  <a:pt x="1270" y="287"/>
                </a:cubicBezTo>
                <a:cubicBezTo>
                  <a:pt x="1293" y="219"/>
                  <a:pt x="1330" y="151"/>
                  <a:pt x="1360" y="106"/>
                </a:cubicBezTo>
                <a:cubicBezTo>
                  <a:pt x="1390" y="61"/>
                  <a:pt x="1413" y="30"/>
                  <a:pt x="1451" y="15"/>
                </a:cubicBezTo>
                <a:cubicBezTo>
                  <a:pt x="1489" y="0"/>
                  <a:pt x="1542" y="15"/>
                  <a:pt x="1587" y="15"/>
                </a:cubicBezTo>
                <a:cubicBezTo>
                  <a:pt x="1632" y="15"/>
                  <a:pt x="1677" y="15"/>
                  <a:pt x="1723" y="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7640" y="443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 b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0360" y="4292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azo de b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BEA-5250-4DD8-A5D9-2CC3DCA283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pos de filtr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220500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342900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58920" y="2468520"/>
            <a:ext cx="2592360" cy="973080"/>
          </a:xfrm>
          <a:custGeom>
            <a:avLst/>
            <a:gdLst/>
            <a:ahLst/>
            <a:rect l="l" t="t" r="r" b="b"/>
            <a:pathLst>
              <a:path w="1633" h="613">
                <a:moveTo>
                  <a:pt x="0" y="15"/>
                </a:moveTo>
                <a:cubicBezTo>
                  <a:pt x="72" y="15"/>
                  <a:pt x="144" y="15"/>
                  <a:pt x="227" y="15"/>
                </a:cubicBezTo>
                <a:cubicBezTo>
                  <a:pt x="310" y="15"/>
                  <a:pt x="423" y="0"/>
                  <a:pt x="499" y="15"/>
                </a:cubicBezTo>
                <a:cubicBezTo>
                  <a:pt x="575" y="30"/>
                  <a:pt x="636" y="53"/>
                  <a:pt x="681" y="106"/>
                </a:cubicBezTo>
                <a:cubicBezTo>
                  <a:pt x="726" y="159"/>
                  <a:pt x="734" y="280"/>
                  <a:pt x="772" y="333"/>
                </a:cubicBezTo>
                <a:cubicBezTo>
                  <a:pt x="810" y="386"/>
                  <a:pt x="833" y="394"/>
                  <a:pt x="908" y="424"/>
                </a:cubicBezTo>
                <a:cubicBezTo>
                  <a:pt x="983" y="454"/>
                  <a:pt x="1142" y="491"/>
                  <a:pt x="1225" y="514"/>
                </a:cubicBezTo>
                <a:cubicBezTo>
                  <a:pt x="1308" y="537"/>
                  <a:pt x="1354" y="545"/>
                  <a:pt x="1407" y="560"/>
                </a:cubicBezTo>
                <a:cubicBezTo>
                  <a:pt x="1460" y="575"/>
                  <a:pt x="1505" y="597"/>
                  <a:pt x="1543" y="605"/>
                </a:cubicBezTo>
                <a:cubicBezTo>
                  <a:pt x="1581" y="613"/>
                  <a:pt x="1633" y="605"/>
                  <a:pt x="1633" y="605"/>
                </a:cubicBezTo>
                <a:cubicBezTo>
                  <a:pt x="1633" y="605"/>
                  <a:pt x="1588" y="605"/>
                  <a:pt x="1543" y="6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G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56000" y="2276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 b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438948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561348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187280" y="4652280"/>
            <a:ext cx="2592720" cy="973080"/>
          </a:xfrm>
          <a:custGeom>
            <a:avLst/>
            <a:gdLst/>
            <a:ahLst/>
            <a:rect l="l" t="t" r="r" b="b"/>
            <a:pathLst>
              <a:path w="1633" h="613">
                <a:moveTo>
                  <a:pt x="0" y="15"/>
                </a:moveTo>
                <a:cubicBezTo>
                  <a:pt x="72" y="15"/>
                  <a:pt x="144" y="15"/>
                  <a:pt x="227" y="15"/>
                </a:cubicBezTo>
                <a:cubicBezTo>
                  <a:pt x="310" y="15"/>
                  <a:pt x="423" y="0"/>
                  <a:pt x="499" y="15"/>
                </a:cubicBezTo>
                <a:cubicBezTo>
                  <a:pt x="575" y="30"/>
                  <a:pt x="636" y="53"/>
                  <a:pt x="681" y="106"/>
                </a:cubicBezTo>
                <a:cubicBezTo>
                  <a:pt x="726" y="159"/>
                  <a:pt x="734" y="280"/>
                  <a:pt x="772" y="333"/>
                </a:cubicBezTo>
                <a:cubicBezTo>
                  <a:pt x="810" y="386"/>
                  <a:pt x="833" y="394"/>
                  <a:pt x="908" y="424"/>
                </a:cubicBezTo>
                <a:cubicBezTo>
                  <a:pt x="983" y="454"/>
                  <a:pt x="1142" y="491"/>
                  <a:pt x="1225" y="514"/>
                </a:cubicBezTo>
                <a:cubicBezTo>
                  <a:pt x="1308" y="537"/>
                  <a:pt x="1354" y="545"/>
                  <a:pt x="1407" y="560"/>
                </a:cubicBezTo>
                <a:cubicBezTo>
                  <a:pt x="1460" y="575"/>
                  <a:pt x="1505" y="597"/>
                  <a:pt x="1543" y="605"/>
                </a:cubicBezTo>
                <a:cubicBezTo>
                  <a:pt x="1581" y="613"/>
                  <a:pt x="1633" y="605"/>
                  <a:pt x="1633" y="605"/>
                </a:cubicBezTo>
                <a:cubicBezTo>
                  <a:pt x="1633" y="605"/>
                  <a:pt x="1588" y="605"/>
                  <a:pt x="1543" y="6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42451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G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7080" y="5253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2720" y="43178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 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0" y="2492280"/>
            <a:ext cx="115236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 b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48360" y="292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64360" y="292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0360" y="2133720"/>
            <a:ext cx="1726920" cy="741240"/>
          </a:xfrm>
          <a:custGeom>
            <a:avLst/>
            <a:gdLst/>
            <a:ahLst/>
            <a:rect l="l" t="t" r="r" b="b"/>
            <a:pathLst>
              <a:path w="1088" h="467">
                <a:moveTo>
                  <a:pt x="0" y="370"/>
                </a:moveTo>
                <a:cubicBezTo>
                  <a:pt x="37" y="362"/>
                  <a:pt x="75" y="355"/>
                  <a:pt x="90" y="370"/>
                </a:cubicBezTo>
                <a:cubicBezTo>
                  <a:pt x="105" y="385"/>
                  <a:pt x="82" y="460"/>
                  <a:pt x="90" y="460"/>
                </a:cubicBezTo>
                <a:cubicBezTo>
                  <a:pt x="98" y="460"/>
                  <a:pt x="128" y="400"/>
                  <a:pt x="136" y="370"/>
                </a:cubicBezTo>
                <a:cubicBezTo>
                  <a:pt x="144" y="340"/>
                  <a:pt x="129" y="272"/>
                  <a:pt x="136" y="279"/>
                </a:cubicBezTo>
                <a:cubicBezTo>
                  <a:pt x="143" y="286"/>
                  <a:pt x="166" y="385"/>
                  <a:pt x="181" y="415"/>
                </a:cubicBezTo>
                <a:cubicBezTo>
                  <a:pt x="196" y="445"/>
                  <a:pt x="212" y="467"/>
                  <a:pt x="227" y="460"/>
                </a:cubicBezTo>
                <a:cubicBezTo>
                  <a:pt x="242" y="453"/>
                  <a:pt x="265" y="400"/>
                  <a:pt x="272" y="370"/>
                </a:cubicBezTo>
                <a:cubicBezTo>
                  <a:pt x="279" y="340"/>
                  <a:pt x="257" y="309"/>
                  <a:pt x="272" y="279"/>
                </a:cubicBezTo>
                <a:cubicBezTo>
                  <a:pt x="287" y="249"/>
                  <a:pt x="340" y="218"/>
                  <a:pt x="363" y="188"/>
                </a:cubicBezTo>
                <a:cubicBezTo>
                  <a:pt x="386" y="158"/>
                  <a:pt x="385" y="104"/>
                  <a:pt x="408" y="97"/>
                </a:cubicBezTo>
                <a:cubicBezTo>
                  <a:pt x="431" y="90"/>
                  <a:pt x="484" y="150"/>
                  <a:pt x="499" y="143"/>
                </a:cubicBezTo>
                <a:cubicBezTo>
                  <a:pt x="514" y="136"/>
                  <a:pt x="492" y="75"/>
                  <a:pt x="499" y="52"/>
                </a:cubicBezTo>
                <a:cubicBezTo>
                  <a:pt x="506" y="29"/>
                  <a:pt x="529" y="0"/>
                  <a:pt x="544" y="7"/>
                </a:cubicBezTo>
                <a:cubicBezTo>
                  <a:pt x="559" y="14"/>
                  <a:pt x="574" y="90"/>
                  <a:pt x="589" y="97"/>
                </a:cubicBezTo>
                <a:cubicBezTo>
                  <a:pt x="604" y="104"/>
                  <a:pt x="620" y="67"/>
                  <a:pt x="635" y="52"/>
                </a:cubicBezTo>
                <a:cubicBezTo>
                  <a:pt x="650" y="37"/>
                  <a:pt x="665" y="7"/>
                  <a:pt x="680" y="7"/>
                </a:cubicBezTo>
                <a:cubicBezTo>
                  <a:pt x="695" y="7"/>
                  <a:pt x="711" y="29"/>
                  <a:pt x="726" y="52"/>
                </a:cubicBezTo>
                <a:cubicBezTo>
                  <a:pt x="741" y="75"/>
                  <a:pt x="756" y="136"/>
                  <a:pt x="771" y="143"/>
                </a:cubicBezTo>
                <a:cubicBezTo>
                  <a:pt x="786" y="150"/>
                  <a:pt x="809" y="82"/>
                  <a:pt x="816" y="97"/>
                </a:cubicBezTo>
                <a:cubicBezTo>
                  <a:pt x="823" y="112"/>
                  <a:pt x="801" y="210"/>
                  <a:pt x="816" y="233"/>
                </a:cubicBezTo>
                <a:cubicBezTo>
                  <a:pt x="831" y="256"/>
                  <a:pt x="884" y="225"/>
                  <a:pt x="907" y="233"/>
                </a:cubicBezTo>
                <a:cubicBezTo>
                  <a:pt x="930" y="241"/>
                  <a:pt x="937" y="264"/>
                  <a:pt x="952" y="279"/>
                </a:cubicBezTo>
                <a:cubicBezTo>
                  <a:pt x="967" y="294"/>
                  <a:pt x="975" y="317"/>
                  <a:pt x="998" y="324"/>
                </a:cubicBezTo>
                <a:cubicBezTo>
                  <a:pt x="1021" y="331"/>
                  <a:pt x="1073" y="316"/>
                  <a:pt x="1088" y="3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08720" y="2205000"/>
            <a:ext cx="1366920" cy="576360"/>
          </a:xfrm>
          <a:custGeom>
            <a:avLst/>
            <a:gdLst/>
            <a:ahLst/>
            <a:rect l="l" t="t" r="r" b="b"/>
            <a:pathLst>
              <a:path w="1043" h="424">
                <a:moveTo>
                  <a:pt x="0" y="424"/>
                </a:moveTo>
                <a:cubicBezTo>
                  <a:pt x="49" y="416"/>
                  <a:pt x="98" y="408"/>
                  <a:pt x="136" y="378"/>
                </a:cubicBezTo>
                <a:cubicBezTo>
                  <a:pt x="174" y="348"/>
                  <a:pt x="197" y="287"/>
                  <a:pt x="227" y="242"/>
                </a:cubicBezTo>
                <a:cubicBezTo>
                  <a:pt x="257" y="197"/>
                  <a:pt x="272" y="144"/>
                  <a:pt x="317" y="106"/>
                </a:cubicBezTo>
                <a:cubicBezTo>
                  <a:pt x="362" y="68"/>
                  <a:pt x="446" y="30"/>
                  <a:pt x="499" y="15"/>
                </a:cubicBezTo>
                <a:cubicBezTo>
                  <a:pt x="552" y="0"/>
                  <a:pt x="582" y="0"/>
                  <a:pt x="635" y="15"/>
                </a:cubicBezTo>
                <a:cubicBezTo>
                  <a:pt x="688" y="30"/>
                  <a:pt x="771" y="76"/>
                  <a:pt x="816" y="106"/>
                </a:cubicBezTo>
                <a:cubicBezTo>
                  <a:pt x="861" y="136"/>
                  <a:pt x="877" y="174"/>
                  <a:pt x="907" y="197"/>
                </a:cubicBezTo>
                <a:cubicBezTo>
                  <a:pt x="937" y="220"/>
                  <a:pt x="975" y="227"/>
                  <a:pt x="998" y="242"/>
                </a:cubicBezTo>
                <a:cubicBezTo>
                  <a:pt x="1021" y="257"/>
                  <a:pt x="1032" y="272"/>
                  <a:pt x="1043" y="2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6360" y="4797360"/>
            <a:ext cx="115236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 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872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4720" y="4438800"/>
            <a:ext cx="1727280" cy="741240"/>
          </a:xfrm>
          <a:custGeom>
            <a:avLst/>
            <a:gdLst/>
            <a:ahLst/>
            <a:rect l="l" t="t" r="r" b="b"/>
            <a:pathLst>
              <a:path w="1088" h="467">
                <a:moveTo>
                  <a:pt x="0" y="370"/>
                </a:moveTo>
                <a:cubicBezTo>
                  <a:pt x="37" y="362"/>
                  <a:pt x="75" y="355"/>
                  <a:pt x="90" y="370"/>
                </a:cubicBezTo>
                <a:cubicBezTo>
                  <a:pt x="105" y="385"/>
                  <a:pt x="82" y="460"/>
                  <a:pt x="90" y="460"/>
                </a:cubicBezTo>
                <a:cubicBezTo>
                  <a:pt x="98" y="460"/>
                  <a:pt x="128" y="400"/>
                  <a:pt x="136" y="370"/>
                </a:cubicBezTo>
                <a:cubicBezTo>
                  <a:pt x="144" y="340"/>
                  <a:pt x="129" y="272"/>
                  <a:pt x="136" y="279"/>
                </a:cubicBezTo>
                <a:cubicBezTo>
                  <a:pt x="143" y="286"/>
                  <a:pt x="166" y="385"/>
                  <a:pt x="181" y="415"/>
                </a:cubicBezTo>
                <a:cubicBezTo>
                  <a:pt x="196" y="445"/>
                  <a:pt x="212" y="467"/>
                  <a:pt x="227" y="460"/>
                </a:cubicBezTo>
                <a:cubicBezTo>
                  <a:pt x="242" y="453"/>
                  <a:pt x="265" y="400"/>
                  <a:pt x="272" y="370"/>
                </a:cubicBezTo>
                <a:cubicBezTo>
                  <a:pt x="279" y="340"/>
                  <a:pt x="257" y="309"/>
                  <a:pt x="272" y="279"/>
                </a:cubicBezTo>
                <a:cubicBezTo>
                  <a:pt x="287" y="249"/>
                  <a:pt x="340" y="218"/>
                  <a:pt x="363" y="188"/>
                </a:cubicBezTo>
                <a:cubicBezTo>
                  <a:pt x="386" y="158"/>
                  <a:pt x="385" y="104"/>
                  <a:pt x="408" y="97"/>
                </a:cubicBezTo>
                <a:cubicBezTo>
                  <a:pt x="431" y="90"/>
                  <a:pt x="484" y="150"/>
                  <a:pt x="499" y="143"/>
                </a:cubicBezTo>
                <a:cubicBezTo>
                  <a:pt x="514" y="136"/>
                  <a:pt x="492" y="75"/>
                  <a:pt x="499" y="52"/>
                </a:cubicBezTo>
                <a:cubicBezTo>
                  <a:pt x="506" y="29"/>
                  <a:pt x="529" y="0"/>
                  <a:pt x="544" y="7"/>
                </a:cubicBezTo>
                <a:cubicBezTo>
                  <a:pt x="559" y="14"/>
                  <a:pt x="574" y="90"/>
                  <a:pt x="589" y="97"/>
                </a:cubicBezTo>
                <a:cubicBezTo>
                  <a:pt x="604" y="104"/>
                  <a:pt x="620" y="67"/>
                  <a:pt x="635" y="52"/>
                </a:cubicBezTo>
                <a:cubicBezTo>
                  <a:pt x="650" y="37"/>
                  <a:pt x="665" y="7"/>
                  <a:pt x="680" y="7"/>
                </a:cubicBezTo>
                <a:cubicBezTo>
                  <a:pt x="695" y="7"/>
                  <a:pt x="711" y="29"/>
                  <a:pt x="726" y="52"/>
                </a:cubicBezTo>
                <a:cubicBezTo>
                  <a:pt x="741" y="75"/>
                  <a:pt x="756" y="136"/>
                  <a:pt x="771" y="143"/>
                </a:cubicBezTo>
                <a:cubicBezTo>
                  <a:pt x="786" y="150"/>
                  <a:pt x="809" y="82"/>
                  <a:pt x="816" y="97"/>
                </a:cubicBezTo>
                <a:cubicBezTo>
                  <a:pt x="823" y="112"/>
                  <a:pt x="801" y="210"/>
                  <a:pt x="816" y="233"/>
                </a:cubicBezTo>
                <a:cubicBezTo>
                  <a:pt x="831" y="256"/>
                  <a:pt x="884" y="225"/>
                  <a:pt x="907" y="233"/>
                </a:cubicBezTo>
                <a:cubicBezTo>
                  <a:pt x="930" y="241"/>
                  <a:pt x="937" y="264"/>
                  <a:pt x="952" y="279"/>
                </a:cubicBezTo>
                <a:cubicBezTo>
                  <a:pt x="967" y="294"/>
                  <a:pt x="975" y="317"/>
                  <a:pt x="998" y="324"/>
                </a:cubicBezTo>
                <a:cubicBezTo>
                  <a:pt x="1021" y="331"/>
                  <a:pt x="1073" y="316"/>
                  <a:pt x="1088" y="3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96360" y="4713120"/>
            <a:ext cx="1368360" cy="300240"/>
          </a:xfrm>
          <a:custGeom>
            <a:avLst/>
            <a:gdLst/>
            <a:ahLst/>
            <a:rect l="l" t="t" r="r" b="b"/>
            <a:pathLst>
              <a:path w="862" h="189">
                <a:moveTo>
                  <a:pt x="0" y="144"/>
                </a:moveTo>
                <a:cubicBezTo>
                  <a:pt x="11" y="95"/>
                  <a:pt x="22" y="46"/>
                  <a:pt x="45" y="53"/>
                </a:cubicBezTo>
                <a:cubicBezTo>
                  <a:pt x="68" y="60"/>
                  <a:pt x="113" y="189"/>
                  <a:pt x="136" y="189"/>
                </a:cubicBezTo>
                <a:cubicBezTo>
                  <a:pt x="159" y="189"/>
                  <a:pt x="167" y="83"/>
                  <a:pt x="182" y="53"/>
                </a:cubicBezTo>
                <a:cubicBezTo>
                  <a:pt x="197" y="23"/>
                  <a:pt x="204" y="0"/>
                  <a:pt x="227" y="7"/>
                </a:cubicBezTo>
                <a:cubicBezTo>
                  <a:pt x="250" y="14"/>
                  <a:pt x="288" y="83"/>
                  <a:pt x="318" y="98"/>
                </a:cubicBezTo>
                <a:cubicBezTo>
                  <a:pt x="348" y="113"/>
                  <a:pt x="378" y="90"/>
                  <a:pt x="408" y="98"/>
                </a:cubicBezTo>
                <a:cubicBezTo>
                  <a:pt x="438" y="106"/>
                  <a:pt x="484" y="151"/>
                  <a:pt x="499" y="144"/>
                </a:cubicBezTo>
                <a:cubicBezTo>
                  <a:pt x="514" y="137"/>
                  <a:pt x="492" y="76"/>
                  <a:pt x="499" y="53"/>
                </a:cubicBezTo>
                <a:cubicBezTo>
                  <a:pt x="506" y="30"/>
                  <a:pt x="529" y="0"/>
                  <a:pt x="544" y="7"/>
                </a:cubicBezTo>
                <a:cubicBezTo>
                  <a:pt x="559" y="14"/>
                  <a:pt x="560" y="90"/>
                  <a:pt x="590" y="98"/>
                </a:cubicBezTo>
                <a:cubicBezTo>
                  <a:pt x="620" y="106"/>
                  <a:pt x="696" y="53"/>
                  <a:pt x="726" y="53"/>
                </a:cubicBezTo>
                <a:cubicBezTo>
                  <a:pt x="756" y="53"/>
                  <a:pt x="748" y="91"/>
                  <a:pt x="771" y="98"/>
                </a:cubicBezTo>
                <a:cubicBezTo>
                  <a:pt x="794" y="105"/>
                  <a:pt x="847" y="105"/>
                  <a:pt x="862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FA0-6A8F-4C89-A93F-FD57301F8E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ltros prototip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1773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filtros prototipo son filtros pasa-baja de ganancia estacionaria unidad normalizados con frecuencia de corte 1 rad/sg.  Para obtener un filtro con otra frecuencia de corte o de otro tipo pueden hacerse unas sustituciones estan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2924280"/>
            <a:ext cx="6553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|G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 =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la frecuencia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1, entonces G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la frecuencia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27720" y="4997520"/>
            <a:ext cx="187164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azo de b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cuencia de corte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27720" y="4997520"/>
            <a:ext cx="18000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 b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cuencia de corte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46640" y="4997520"/>
            <a:ext cx="1081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 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7000" y="4997520"/>
            <a:ext cx="107964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 b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8640" y="4997520"/>
            <a:ext cx="1368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 origen a un filtro ti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27720" y="3629160"/>
            <a:ext cx="1871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27720" y="3629160"/>
            <a:ext cx="1800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46640" y="3629160"/>
            <a:ext cx="108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67000" y="3629160"/>
            <a:ext cx="1079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8640" y="3629160"/>
            <a:ext cx="1368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ustitu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98640" y="4997520"/>
            <a:ext cx="72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8640" y="6242040"/>
            <a:ext cx="720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8640" y="3629160"/>
            <a:ext cx="0" cy="2612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27720" y="3629160"/>
            <a:ext cx="0" cy="261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27720" y="3629160"/>
            <a:ext cx="0" cy="261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99360" y="3629160"/>
            <a:ext cx="0" cy="2612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98640" y="3629160"/>
            <a:ext cx="720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7000" y="3629160"/>
            <a:ext cx="0" cy="261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46640" y="3629160"/>
            <a:ext cx="0" cy="261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511360" y="4060800"/>
                <a:ext cx="8002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→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591000" y="4060800"/>
                <a:ext cx="77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→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672080" y="4060800"/>
                <a:ext cx="1549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→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472080" y="4132440"/>
                <a:ext cx="1549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→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EA6-817B-4F93-A347-0829544867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ltros prototip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98560" y="1812960"/>
                <a:ext cx="3835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→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957240" y="3162240"/>
                <a:ext cx="1549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→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15920" y="4178160"/>
                <a:ext cx="264168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481720" y="17953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65720" y="301932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481720" y="2058840"/>
            <a:ext cx="2592360" cy="973440"/>
          </a:xfrm>
          <a:custGeom>
            <a:avLst/>
            <a:gdLst/>
            <a:ahLst/>
            <a:rect l="l" t="t" r="r" b="b"/>
            <a:pathLst>
              <a:path w="1633" h="613">
                <a:moveTo>
                  <a:pt x="0" y="15"/>
                </a:moveTo>
                <a:cubicBezTo>
                  <a:pt x="72" y="15"/>
                  <a:pt x="144" y="15"/>
                  <a:pt x="227" y="15"/>
                </a:cubicBezTo>
                <a:cubicBezTo>
                  <a:pt x="310" y="15"/>
                  <a:pt x="423" y="0"/>
                  <a:pt x="499" y="15"/>
                </a:cubicBezTo>
                <a:cubicBezTo>
                  <a:pt x="575" y="30"/>
                  <a:pt x="636" y="53"/>
                  <a:pt x="681" y="106"/>
                </a:cubicBezTo>
                <a:cubicBezTo>
                  <a:pt x="726" y="159"/>
                  <a:pt x="734" y="280"/>
                  <a:pt x="772" y="333"/>
                </a:cubicBezTo>
                <a:cubicBezTo>
                  <a:pt x="810" y="386"/>
                  <a:pt x="833" y="394"/>
                  <a:pt x="908" y="424"/>
                </a:cubicBezTo>
                <a:cubicBezTo>
                  <a:pt x="983" y="454"/>
                  <a:pt x="1142" y="491"/>
                  <a:pt x="1225" y="514"/>
                </a:cubicBezTo>
                <a:cubicBezTo>
                  <a:pt x="1308" y="537"/>
                  <a:pt x="1354" y="545"/>
                  <a:pt x="1407" y="560"/>
                </a:cubicBezTo>
                <a:cubicBezTo>
                  <a:pt x="1460" y="575"/>
                  <a:pt x="1505" y="597"/>
                  <a:pt x="1543" y="605"/>
                </a:cubicBezTo>
                <a:cubicBezTo>
                  <a:pt x="1581" y="613"/>
                  <a:pt x="1633" y="605"/>
                  <a:pt x="1633" y="605"/>
                </a:cubicBezTo>
                <a:cubicBezTo>
                  <a:pt x="1633" y="605"/>
                  <a:pt x="1588" y="605"/>
                  <a:pt x="1543" y="605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81720" y="16509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G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31160" y="26589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46800" y="17240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 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54800" y="407340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8800" y="529740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54800" y="3929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G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04240" y="49370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19880" y="40021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 b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29240" y="4788000"/>
            <a:ext cx="2454120" cy="512640"/>
          </a:xfrm>
          <a:custGeom>
            <a:avLst/>
            <a:gdLst/>
            <a:ahLst/>
            <a:rect l="l" t="t" r="r" b="b"/>
            <a:pathLst>
              <a:path w="1546" h="323">
                <a:moveTo>
                  <a:pt x="0" y="303"/>
                </a:moveTo>
                <a:cubicBezTo>
                  <a:pt x="145" y="304"/>
                  <a:pt x="291" y="306"/>
                  <a:pt x="384" y="303"/>
                </a:cubicBezTo>
                <a:cubicBezTo>
                  <a:pt x="477" y="300"/>
                  <a:pt x="505" y="323"/>
                  <a:pt x="558" y="285"/>
                </a:cubicBezTo>
                <a:cubicBezTo>
                  <a:pt x="611" y="247"/>
                  <a:pt x="663" y="121"/>
                  <a:pt x="704" y="74"/>
                </a:cubicBezTo>
                <a:cubicBezTo>
                  <a:pt x="745" y="27"/>
                  <a:pt x="764" y="2"/>
                  <a:pt x="805" y="1"/>
                </a:cubicBezTo>
                <a:cubicBezTo>
                  <a:pt x="846" y="0"/>
                  <a:pt x="910" y="28"/>
                  <a:pt x="951" y="65"/>
                </a:cubicBezTo>
                <a:cubicBezTo>
                  <a:pt x="992" y="102"/>
                  <a:pt x="1022" y="183"/>
                  <a:pt x="1052" y="221"/>
                </a:cubicBezTo>
                <a:cubicBezTo>
                  <a:pt x="1082" y="259"/>
                  <a:pt x="1098" y="279"/>
                  <a:pt x="1134" y="294"/>
                </a:cubicBezTo>
                <a:cubicBezTo>
                  <a:pt x="1170" y="309"/>
                  <a:pt x="1202" y="309"/>
                  <a:pt x="1271" y="312"/>
                </a:cubicBezTo>
                <a:cubicBezTo>
                  <a:pt x="1340" y="315"/>
                  <a:pt x="1443" y="313"/>
                  <a:pt x="1546" y="3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3800" y="6080040"/>
            <a:ext cx="32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os complejos: reson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CAF-94C5-4C37-8D86-3D5EDE4D1C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jemplo 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780000" y="2133720"/>
                <a:ext cx="1333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900000" y="213372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iltro prototipo de Butterworth de 2º o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3746520" cy="2809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268360" y="616572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916360" y="5949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724360" y="2133720"/>
                <a:ext cx="2959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→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20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3711600" cy="2784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599080" y="619272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79600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441E-BE79-453A-B0D7-134954CF1D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ltro ide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1916280"/>
            <a:ext cx="0" cy="20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58920" y="227664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43280" y="2276640"/>
            <a:ext cx="0" cy="1296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43280" y="357336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1700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H(j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24360" y="3141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0040" y="414972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filtro prototipo ideal debería tener un diagrama de Bode con dos zonas de |H(j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 = 1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32360" y="206064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es físicamente realizable, por lo que debe aproximarse por filtros reales, tales como los de Butterworth, Besse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84360" y="371628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75280" y="4076640"/>
            <a:ext cx="0" cy="20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88000" y="57340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76720" y="443700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59640" y="443700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59640" y="57340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5280" y="386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|H(j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28000" y="551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00720" y="5877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429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2400" y="525636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filtros reales presentan una zona de transición y quizás un rizado de acuerdo a las posiciones de sus polos-c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6720" y="4425840"/>
            <a:ext cx="2880000" cy="1319400"/>
          </a:xfrm>
          <a:custGeom>
            <a:avLst/>
            <a:gdLst/>
            <a:ahLst/>
            <a:rect l="l" t="t" r="r" b="b"/>
            <a:pathLst>
              <a:path w="1814" h="831">
                <a:moveTo>
                  <a:pt x="0" y="7"/>
                </a:moveTo>
                <a:cubicBezTo>
                  <a:pt x="211" y="7"/>
                  <a:pt x="423" y="7"/>
                  <a:pt x="544" y="7"/>
                </a:cubicBezTo>
                <a:cubicBezTo>
                  <a:pt x="665" y="7"/>
                  <a:pt x="672" y="0"/>
                  <a:pt x="725" y="7"/>
                </a:cubicBezTo>
                <a:cubicBezTo>
                  <a:pt x="778" y="14"/>
                  <a:pt x="823" y="22"/>
                  <a:pt x="861" y="52"/>
                </a:cubicBezTo>
                <a:cubicBezTo>
                  <a:pt x="899" y="82"/>
                  <a:pt x="922" y="128"/>
                  <a:pt x="952" y="188"/>
                </a:cubicBezTo>
                <a:cubicBezTo>
                  <a:pt x="982" y="248"/>
                  <a:pt x="1020" y="354"/>
                  <a:pt x="1043" y="415"/>
                </a:cubicBezTo>
                <a:cubicBezTo>
                  <a:pt x="1066" y="476"/>
                  <a:pt x="1073" y="506"/>
                  <a:pt x="1088" y="551"/>
                </a:cubicBezTo>
                <a:cubicBezTo>
                  <a:pt x="1103" y="596"/>
                  <a:pt x="1111" y="649"/>
                  <a:pt x="1134" y="687"/>
                </a:cubicBezTo>
                <a:cubicBezTo>
                  <a:pt x="1157" y="725"/>
                  <a:pt x="1194" y="755"/>
                  <a:pt x="1224" y="778"/>
                </a:cubicBezTo>
                <a:cubicBezTo>
                  <a:pt x="1254" y="801"/>
                  <a:pt x="1292" y="831"/>
                  <a:pt x="1315" y="824"/>
                </a:cubicBezTo>
                <a:cubicBezTo>
                  <a:pt x="1338" y="817"/>
                  <a:pt x="1345" y="756"/>
                  <a:pt x="1360" y="733"/>
                </a:cubicBezTo>
                <a:cubicBezTo>
                  <a:pt x="1375" y="710"/>
                  <a:pt x="1383" y="695"/>
                  <a:pt x="1406" y="687"/>
                </a:cubicBezTo>
                <a:cubicBezTo>
                  <a:pt x="1429" y="679"/>
                  <a:pt x="1466" y="679"/>
                  <a:pt x="1496" y="687"/>
                </a:cubicBezTo>
                <a:cubicBezTo>
                  <a:pt x="1526" y="695"/>
                  <a:pt x="1564" y="710"/>
                  <a:pt x="1587" y="733"/>
                </a:cubicBezTo>
                <a:cubicBezTo>
                  <a:pt x="1610" y="756"/>
                  <a:pt x="1617" y="824"/>
                  <a:pt x="1632" y="824"/>
                </a:cubicBezTo>
                <a:cubicBezTo>
                  <a:pt x="1647" y="824"/>
                  <a:pt x="1648" y="741"/>
                  <a:pt x="1678" y="733"/>
                </a:cubicBezTo>
                <a:cubicBezTo>
                  <a:pt x="1708" y="725"/>
                  <a:pt x="1791" y="771"/>
                  <a:pt x="1814" y="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5252-B0FF-4F3B-AD6A-E900091B66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08:49:04Z</dcterms:created>
  <dc:creator>Dpto. de Ing. de Sistemas y Automatica</dc:creator>
  <dc:description/>
  <dc:language>en-US</dc:language>
  <cp:lastModifiedBy>Dpto. de Ing. de Sistemas y Automatica</cp:lastModifiedBy>
  <dcterms:modified xsi:type="dcterms:W3CDTF">2004-03-22T22:10:21Z</dcterms:modified>
  <cp:revision>11</cp:revision>
  <dc:subject/>
  <dc:title>Filtros</dc:title>
</cp:coreProperties>
</file>