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ACF1-AD6E-4553-92E3-1171BA5C9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8C2F-3B9B-47E2-9CEF-C32DE454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FFCD-D3F6-48A8-BEFA-3B5D243F8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7CFC-F517-407D-AD7B-48A5C96E4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C715-D9E6-46B7-B9EA-F403D8BCB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B80D9-93D6-43D8-BD1F-CDC46EE6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A8295-90BC-4BFB-8B59-2DF29877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2662-D42D-4428-8E92-D32487C2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4A2A4-178C-4F3A-AF5C-F4B8B87C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9C31-5E96-49C8-BE3F-52A95816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6E72-9659-4601-832A-FD26BC08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FABD-A3E1-431D-87A2-ABB7780F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6625-5F50-4F62-A5CF-C04B3D48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A652-C672-48C9-9469-C53F65D5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04A6-CF56-4459-87F0-26636294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67B1-5372-44C5-8834-A53E6F311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EEDA4-F4A3-4D1B-A75C-2E309988F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88CD-EA5C-4702-9C72-7AE0719A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5B61-D8ED-451E-9A50-31355D64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B750-FC43-438D-B62A-E41E5CF4A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8C28-7534-4324-A0E0-DD1237B2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7C64-4012-43EC-BA13-984132A6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BF42-C2C0-471D-AFC5-37B5306B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790A-E12C-4408-9EA0-D9318311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8B42-87B2-42AB-B7F4-F640EF8C03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A119-8500-4819-86B1-5355AAE55F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GA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ata   (2/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190512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o p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Tab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2819520"/>
            <a:ext cx="81532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Tahoma"/>
              </a:rPr>
              <a:t>Table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d(i,j)          distancia en cientos de kilóme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        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eón         Bilbao        Mad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urgos                  2.5            1.7            1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alamanca                  2.5            1.8            1.4 </a:t>
            </a:r>
            <a:r>
              <a:rPr b="1" i="1" lang="es-ES" sz="1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ata   (3/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213372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o p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Asignación direc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3352680"/>
            <a:ext cx="7315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Tahoma"/>
              </a:rPr>
              <a:t>Parameter 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(i,j)     coste de transporte en miles por caso</a:t>
            </a:r>
            <a:r>
              <a:rPr b="1" i="1" lang="es-ES" sz="1800" spc="-1" strike="noStrike">
                <a:solidFill>
                  <a:srgbClr val="000000"/>
                </a:solidFill>
                <a:latin typeface="Tahoma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(i,j) = f*d(i,j)/1000</a:t>
            </a:r>
            <a:r>
              <a:rPr b="1" i="1" lang="es-ES" sz="1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15200" y="3352680"/>
            <a:ext cx="380880" cy="381240"/>
          </a:xfrm>
          <a:prstGeom prst="ellipse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ariabl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1143000" y="19051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da variable tiene que tener un nombre, un dominio y un comentario (opc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2666880"/>
            <a:ext cx="685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(i,j)           cantidades de mercancí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                coste total de transporte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295280" y="4038480"/>
            <a:ext cx="5181480" cy="2438280"/>
            <a:chOff x="1295280" y="4038480"/>
            <a:chExt cx="5181480" cy="2438280"/>
          </a:xfrm>
        </p:grpSpPr>
        <mc:AlternateContent>
          <mc:Choice xmlns:a14="http://schemas.microsoft.com/office/drawing/2010/main" Requires="a14">
            <p:sp>
              <p:nvSpPr>
                <p:cNvPr id="184" name=""/>
                <p:cNvSpPr txBox="1"/>
                <p:nvPr/>
              </p:nvSpPr>
              <p:spPr>
                <a:xfrm>
                  <a:off x="4647960" y="4572000"/>
                  <a:ext cx="647640" cy="20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∞</m:t>
                      </m:r>
                      <m:r>
                        <m:t xml:space="preserve">,</m:t>
                      </m:r>
                      <m:r>
                        <m:t xml:space="preserve">+</m:t>
                      </m:r>
                      <m:r>
                        <m:t xml:space="preserve">∞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4800240" y="4952880"/>
                  <a:ext cx="4572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+</m:t>
                      </m:r>
                      <m:r>
                        <m:t xml:space="preserve">∞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4724280" y="5333760"/>
                  <a:ext cx="4824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∞</m:t>
                      </m:r>
                      <m:r>
                        <m:t xml:space="preserve">,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7" name=""/>
            <p:cNvSpPr/>
            <p:nvPr/>
          </p:nvSpPr>
          <p:spPr>
            <a:xfrm>
              <a:off x="1295280" y="4038480"/>
              <a:ext cx="5181480" cy="2438280"/>
            </a:xfrm>
            <a:prstGeom prst="rect">
              <a:avLst/>
            </a:prstGeom>
            <a:noFill/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95280" y="4419360"/>
              <a:ext cx="5181480" cy="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95280" y="4876560"/>
              <a:ext cx="5181480" cy="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95280" y="5257800"/>
              <a:ext cx="5181480" cy="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295280" y="5638680"/>
              <a:ext cx="5181480" cy="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95280" y="6019560"/>
              <a:ext cx="5181480" cy="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733560" y="4038480"/>
              <a:ext cx="0" cy="243828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23880" y="403848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ipo de Vari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038480" y="4038480"/>
              <a:ext cx="198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ango permiti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23880" y="441936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re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23880" y="487656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Posit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23880" y="525780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Negat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23880" y="563868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Bina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71640" y="5638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ó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23880" y="609588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71640" y="60958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,1,...,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cu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19051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Declaración de Ecu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2666880"/>
            <a:ext cx="76960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Tahoma"/>
              </a:rPr>
              <a:t>Equ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sto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efine la función obje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uministro(i)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garantiza el límite de suministro en la planta </a:t>
            </a:r>
            <a:r>
              <a:rPr b="0" i="1" lang="es-ES" sz="1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emanda(j)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emanda para satisfacer al supermercado </a:t>
            </a:r>
            <a:r>
              <a:rPr b="0" i="1" lang="es-ES" sz="1800" spc="-1" strike="noStrike">
                <a:solidFill>
                  <a:srgbClr val="000000"/>
                </a:solidFill>
                <a:latin typeface="Tahoma"/>
              </a:rPr>
              <a:t>j  </a:t>
            </a:r>
            <a:r>
              <a:rPr b="1" i="1" lang="es-ES" sz="1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762120" y="4648320"/>
            <a:ext cx="7391160" cy="1447560"/>
            <a:chOff x="762120" y="4648320"/>
            <a:chExt cx="7391160" cy="1447560"/>
          </a:xfrm>
        </p:grpSpPr>
        <p:sp>
          <p:nvSpPr>
            <p:cNvPr id="207" name=""/>
            <p:cNvSpPr/>
            <p:nvPr/>
          </p:nvSpPr>
          <p:spPr>
            <a:xfrm>
              <a:off x="990720" y="4648320"/>
              <a:ext cx="716256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costo..</a:t>
              </a: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z =e= sum ((i,j), c(i,j)*x(i,j)) 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suministro(i)..      sum(j, x(i,j)) =l= a(i) 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demanda(j)..</a:t>
              </a: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sum(i, x(i,j)) =g= b(j) 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62120" y="4648320"/>
              <a:ext cx="5638680" cy="1447560"/>
            </a:xfrm>
            <a:prstGeom prst="rect">
              <a:avLst/>
            </a:prstGeom>
            <a:noFill/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6553080" y="4952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fini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otación de SUMA (PRODUCTO) en GA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23623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um (índice de sumatoria ,  sumand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38480" y="2514600"/>
            <a:ext cx="228600" cy="228600"/>
          </a:xfrm>
          <a:prstGeom prst="ellipse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2514600" y="3200400"/>
                <a:ext cx="54612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3962520" y="31240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um(j, x(i,j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52680" y="327672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981080" y="4038480"/>
                <a:ext cx="9525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3352680" y="419112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38480" y="38098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um((i,j), c(i,j)*x(i,j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38480" y="43434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um(i,  Sum(j, c(i,j)*x(i,j)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038480" y="3733920"/>
            <a:ext cx="3048120" cy="114300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2362320" y="5334120"/>
                <a:ext cx="57132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∏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4191120" y="53341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rod(j, x(i,j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52680" y="548640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finición de Ecu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1981080"/>
            <a:ext cx="75438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s componentes de la definición de una ecuación son, por ord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l nombre de la ecuación que se está definie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l domin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dición de restricción del dominio (opc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l símbolo ‘..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te izquierda de la expre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dores de relación: =l=, =e=, =g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te derecha de la ecu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762120" y="5410080"/>
            <a:ext cx="7391160" cy="1219320"/>
            <a:chOff x="762120" y="5410080"/>
            <a:chExt cx="7391160" cy="1219320"/>
          </a:xfrm>
        </p:grpSpPr>
        <p:sp>
          <p:nvSpPr>
            <p:cNvPr id="227" name=""/>
            <p:cNvSpPr/>
            <p:nvPr/>
          </p:nvSpPr>
          <p:spPr>
            <a:xfrm>
              <a:off x="990720" y="5410080"/>
              <a:ext cx="716256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costo..</a:t>
              </a: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z =e= sum ((i,j), c(i,j)*x(i,j)) 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suministro(i)..      sum(j, x(i,j)) =l= a(i) 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demanda(j)..</a:t>
              </a: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sum(i, x(i,j)) =g= b(j) 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2120" y="5410080"/>
              <a:ext cx="5638680" cy="1219320"/>
            </a:xfrm>
            <a:prstGeom prst="rect">
              <a:avLst/>
            </a:prstGeom>
            <a:noFill/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unción Objetiv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838080" y="2057400"/>
            <a:ext cx="777240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 GAMS no existe una entidad que se llame explícitamente “Función Objetivo”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a especificar la función que se quiere optimizar, hay que crear una variable de tipo “Free” (sin restricciones sobre el signo), y su valor tiene que ser un “escalar”, o sea, sin domini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a variable debe ser igualada en la sección de “Definición de ecuaciones” a la función que se quiere optimiz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04920" y="4800600"/>
            <a:ext cx="8381880" cy="1523520"/>
            <a:chOff x="304920" y="4800600"/>
            <a:chExt cx="8381880" cy="1523520"/>
          </a:xfrm>
        </p:grpSpPr>
        <p:sp>
          <p:nvSpPr>
            <p:cNvPr id="232" name=""/>
            <p:cNvSpPr/>
            <p:nvPr/>
          </p:nvSpPr>
          <p:spPr>
            <a:xfrm>
              <a:off x="1729800" y="4876560"/>
              <a:ext cx="483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costo..</a:t>
              </a: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z =e= sum ((i,j), c(i,j)*x(i,j)) 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114800" y="4800600"/>
              <a:ext cx="2667240" cy="609480"/>
            </a:xfrm>
            <a:prstGeom prst="ellipse">
              <a:avLst/>
            </a:prstGeom>
            <a:noFill/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24640" y="5333760"/>
              <a:ext cx="0" cy="38052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24640" y="5714640"/>
              <a:ext cx="457200" cy="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486400" y="5562360"/>
              <a:ext cx="320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sta es la ecuación que se quiere optimiz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4800600"/>
              <a:ext cx="533520" cy="609480"/>
            </a:xfrm>
            <a:prstGeom prst="ellipse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33520" y="5638680"/>
              <a:ext cx="3505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sta es la variable que se iguala a la función objeti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2666880" y="5333760"/>
              <a:ext cx="609480" cy="3045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920" y="5638680"/>
              <a:ext cx="3733920" cy="6854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181840" y="5562360"/>
              <a:ext cx="3429000" cy="685440"/>
            </a:xfrm>
            <a:prstGeom prst="rect">
              <a:avLst/>
            </a:prstGeom>
            <a:noFill/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Sentencia “Model”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838080" y="1981080"/>
            <a:ext cx="79250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n GAMS, </a:t>
            </a:r>
            <a:r>
              <a:rPr b="1" i="1" lang="es-ES" sz="1800" spc="-1" strike="noStrike">
                <a:solidFill>
                  <a:srgbClr val="000000"/>
                </a:solidFill>
                <a:latin typeface="Tahoma"/>
              </a:rPr>
              <a:t>Model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es una colección de ecuacion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l formato para declarar un modelo es, la palabra clave </a:t>
            </a:r>
            <a:r>
              <a:rPr b="0" i="1" lang="es-ES" sz="1800" spc="-1" strike="noStrike">
                <a:solidFill>
                  <a:srgbClr val="000000"/>
                </a:solidFill>
                <a:latin typeface="Tahoma"/>
              </a:rPr>
              <a:t>Model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, seguida de su nombre, y seguida de la lista de nombres de las ecuaciones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que lo componen entre barras //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990720" y="3809880"/>
            <a:ext cx="6933960" cy="1431360"/>
            <a:chOff x="990720" y="3809880"/>
            <a:chExt cx="6933960" cy="1431360"/>
          </a:xfrm>
        </p:grpSpPr>
        <p:sp>
          <p:nvSpPr>
            <p:cNvPr id="245" name=""/>
            <p:cNvSpPr/>
            <p:nvPr/>
          </p:nvSpPr>
          <p:spPr>
            <a:xfrm>
              <a:off x="990720" y="4038480"/>
              <a:ext cx="67816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Tahoma"/>
                </a:rPr>
                <a:t>model</a:t>
              </a: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   transporte  /all/ </a:t>
              </a:r>
              <a:r>
                <a:rPr b="1" i="1" lang="es-ES" sz="1800" spc="-1" strike="noStrike">
                  <a:solidFill>
                    <a:srgbClr val="000000"/>
                  </a:solidFill>
                  <a:latin typeface="Tahoma"/>
                </a:rPr>
                <a:t>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Tahoma"/>
                </a:rPr>
                <a:t>model </a:t>
              </a: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  transporte /costo, suministro, demanda/ </a:t>
              </a:r>
              <a:r>
                <a:rPr b="1" i="1" lang="es-ES" sz="1800" spc="-1" strike="noStrike">
                  <a:solidFill>
                    <a:srgbClr val="000000"/>
                  </a:solidFill>
                  <a:latin typeface="Tahoma"/>
                </a:rPr>
                <a:t>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886200" y="4190760"/>
              <a:ext cx="1066680" cy="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05520" y="3809880"/>
              <a:ext cx="2819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n este caso se incluyen todas las ecuaciones definid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57200" y="563868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Ahora se debe llamar al Solver para la solución del modelo 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Sentencia “Solve”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838080" y="2057400"/>
            <a:ext cx="71629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l formato de la sentencia </a:t>
            </a:r>
            <a:r>
              <a:rPr b="1" i="1" lang="es-ES" sz="1800" spc="-1" strike="noStrike">
                <a:solidFill>
                  <a:srgbClr val="000000"/>
                </a:solidFill>
                <a:latin typeface="Tahoma"/>
              </a:rPr>
              <a:t>Solve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es el siguiente (por orden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a palabra clave </a:t>
            </a:r>
            <a:r>
              <a:rPr b="0" i="1" lang="es-ES" sz="1800" spc="-1" strike="noStrike">
                <a:solidFill>
                  <a:srgbClr val="000000"/>
                </a:solidFill>
                <a:latin typeface="Tahoma"/>
              </a:rPr>
              <a:t>“solv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l nombre del modelo que se desea re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a palabra clave </a:t>
            </a:r>
            <a:r>
              <a:rPr b="0" i="1" lang="es-ES" sz="1800" spc="-1" strike="noStrike">
                <a:solidFill>
                  <a:srgbClr val="000000"/>
                </a:solidFill>
                <a:latin typeface="Tahoma"/>
              </a:rPr>
              <a:t>“using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l procedimiento de solución dispon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a palabra clave </a:t>
            </a:r>
            <a:r>
              <a:rPr b="0" i="1" lang="es-ES" sz="1800" spc="-1" strike="noStrike">
                <a:solidFill>
                  <a:srgbClr val="000000"/>
                </a:solidFill>
                <a:latin typeface="Tahoma"/>
              </a:rPr>
              <a:t>“minimizing”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o </a:t>
            </a:r>
            <a:r>
              <a:rPr b="0" i="1" lang="es-ES" sz="1800" spc="-1" strike="noStrike">
                <a:solidFill>
                  <a:srgbClr val="000000"/>
                </a:solidFill>
                <a:latin typeface="Tahoma"/>
              </a:rPr>
              <a:t>“miximizing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l nombre de la variable que se va a optimiz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90720" y="5334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solve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transporte  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using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 lp  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minimizing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 z </a:t>
            </a:r>
            <a:r>
              <a:rPr b="1" i="1" lang="es-ES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8080" y="5257800"/>
            <a:ext cx="6858000" cy="68580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rocedimientos disponibl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"/>
          <p:cNvSpPr/>
          <p:nvPr/>
        </p:nvSpPr>
        <p:spPr>
          <a:xfrm>
            <a:off x="1066680" y="2133720"/>
            <a:ext cx="76964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lp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    para Programación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nlp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  para Programación No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mip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 para Programación Mixta Ent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rmip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para Programación Mixta Entera Relaj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minlp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para Programación No Lineal Mixta Ent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mcp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 para Problemas Complementarios Mix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cn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  para Sistemas No lineales con Restri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ntenid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1828800"/>
            <a:ext cx="807732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Estructura de un modelo en GAMS. Ejemplo a través del cual se ilustra el lengu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onju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Da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Ecu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Sumatoria y Producto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Definición de escu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Función Obje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Sentencias “Model” y “Solv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rocedimientos disponi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Visualización de sen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Bases de datos en G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Asignación de límites y valores inic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sualización de Sentencia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838080" y="21337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uando el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solver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se está ejecutando ocurren cosas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743200"/>
            <a:ext cx="7925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e generan instancias específicas del 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e crean las estructuras de datos de entrada al 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as salidas del solver se guardan a un arch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" y="4267080"/>
            <a:ext cx="8001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ara obtener los valores óptimos de las variables, o visualizar los resultados podemos hacer lo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Tahoma"/>
              </a:rPr>
              <a:t>display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x.l , x.m  </a:t>
            </a:r>
            <a:r>
              <a:rPr b="1" i="1" lang="es-ES" sz="1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33920" y="533412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or final y marginal de x(i,j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Las bases de datos: “.LO, .L, .UP, .M”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21337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GAMS ha sido diseñada con un pequeño sistema de bases de datos, en el cual los “records” se mantienen para las ecuaciones y las 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" y="3352680"/>
            <a:ext cx="36576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.l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=  límite inf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.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= valor de nivel o prim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.up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= límite sup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.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= valor marginal o 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0" y="3124080"/>
            <a:ext cx="4114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l formato para hacer referencia a estas cantidades es poner el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ombre de la variabl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o de la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cuació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seguido del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ampo del nombr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y si es necesario también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el domini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o de uno de los elementos del domin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828800" y="54100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isplay   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x.l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x.m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signación de límites y valores inicial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2133720"/>
            <a:ext cx="754380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unque los límites de las variables se toman automáticamente dependiendo del tipo de la variable, el usuario puede especificarl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x.up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(i,j)   =  capacity(i,j)  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x.lo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(i,j)    =  10.0 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x.up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(‘Burgos’, ‘Leon’)  = 1.2*capacity(‘Burgos’ , ‘Leon’)  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133720" y="3581280"/>
            <a:ext cx="1447560" cy="533520"/>
          </a:xfrm>
          <a:prstGeom prst="ellipse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352680" y="4191120"/>
            <a:ext cx="3200400" cy="838080"/>
          </a:xfrm>
          <a:prstGeom prst="ellipse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819520" y="3200400"/>
            <a:ext cx="175248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0" y="2819520"/>
            <a:ext cx="3505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En estos casos capacity(i,j) es un parámetro que ha sido declarado y cuyos valores han sido asignados previam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0" y="2819520"/>
            <a:ext cx="3352680" cy="99036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819520" y="3200400"/>
            <a:ext cx="0" cy="38088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5410080" y="3809520"/>
            <a:ext cx="0" cy="38124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5181480"/>
            <a:ext cx="7391520" cy="58068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Estas sentencias tienen que aparecer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Tahoma"/>
              </a:rPr>
              <a:t>después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de la zona de declaración de las variables, y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Tahoma"/>
              </a:rPr>
              <a:t>antes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de la sentencia sol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" y="5943600"/>
            <a:ext cx="8305920" cy="58068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os campos 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.up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.lo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están bajo el control del usuario, mientras que 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.l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.m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, pueden ser inicializados por el usuario, pero son controlados por el sol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structura de un modelo GAMS (1/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4114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Se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eclaración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signación de  miembr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Data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(Parámetros, tablas, escala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eclaración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signación de valo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Variab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eclaración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signación de tip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00240" y="24382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Asignación de límites y/o valores iniciales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(opcion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Ecuacio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eclaración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efini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Sentencias del modelo y del Sol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Impresión de sentencias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(opciona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Entr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structura de un modelo GAMS (2/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27432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res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pas de Referen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ado de Ecuacio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portes de esta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ultad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1905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al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structura de un modelo GAMS (3/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Un modelo es una colección de sentencias en el lenguaje de GA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e permiten varias sentencias en una misma línea, o varias líneas para una misma sentencia, líneas en blanc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l nombre de una entidad tiene que comenzar con una letra y puede tener hasta 9 dígitos o letr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ada sentencia termina con un punto y co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l compilador no distingue entre mayúsculas y minúscul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a línea que comience con un asterisco en la primera columna se considera comenta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a creación de una entidad en GAMS lleva dos paso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1. Declaración (declarar la existencia ..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2. Asignación o Definición (asignar un val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1905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lgunas reg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jemplo de un modelo de Transporte (1/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2286000"/>
            <a:ext cx="8458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 tiene el suministro de una cierta mercancía proporcionado por algunas plantas y las demandas de ciertos supermercados de dicha mercancía. Se conoce el costo por unidad del reparto de esta mercancía de las plantas a los supermercados. La cuestión económica es: ¿Cómo debería ser el reparto, de manera que el costo total de transporte sea mínimo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1828800"/>
            <a:ext cx="350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Planteamiento del probl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09480" y="3962520"/>
            <a:ext cx="7772400" cy="2514600"/>
            <a:chOff x="609480" y="3962520"/>
            <a:chExt cx="7772400" cy="2514600"/>
          </a:xfrm>
        </p:grpSpPr>
        <p:sp>
          <p:nvSpPr>
            <p:cNvPr id="116" name=""/>
            <p:cNvSpPr/>
            <p:nvPr/>
          </p:nvSpPr>
          <p:spPr>
            <a:xfrm>
              <a:off x="609480" y="3962520"/>
              <a:ext cx="7696440" cy="2514600"/>
            </a:xfrm>
            <a:prstGeom prst="rect">
              <a:avLst/>
            </a:prstGeom>
            <a:noFill/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9480" y="4343760"/>
              <a:ext cx="7696440" cy="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9480" y="4724640"/>
              <a:ext cx="7696440" cy="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9480" y="5105520"/>
              <a:ext cx="7696440" cy="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362320" y="3962520"/>
              <a:ext cx="0" cy="251460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858000" y="3962520"/>
              <a:ext cx="0" cy="251460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91120" y="39625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Distanc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58000" y="3962520"/>
              <a:ext cx="1523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uministr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09880" y="4343760"/>
              <a:ext cx="21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upermercad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38080" y="47246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lant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33920" y="4724640"/>
              <a:ext cx="0" cy="175248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257800" y="4724640"/>
              <a:ext cx="0" cy="175248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2120" y="5258160"/>
              <a:ext cx="13716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urg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alaman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66880" y="480096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038480" y="480096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ilba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638680" y="480096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adr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2120" y="609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emand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66880" y="525816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66880" y="563904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66880" y="609624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91120" y="518184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.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91120" y="556272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.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191120" y="609624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15000" y="518184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.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5000" y="556272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15000" y="609624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7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38880" y="518184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238880" y="556272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jemplo de un modelo de Transporte (2/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1905120"/>
            <a:ext cx="20574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Índice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pla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supermerc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1828800"/>
            <a:ext cx="5333760" cy="1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Tahoma"/>
              </a:rPr>
              <a:t>Dat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= suministro de mercancía de la planta</a:t>
            </a: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 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= demanda de la mercancía en el supermercado </a:t>
            </a: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= costo por unidad del transporte entre la planta </a:t>
            </a: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y el supermercado </a:t>
            </a: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3657600"/>
            <a:ext cx="7925040" cy="10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Tahoma"/>
              </a:rPr>
              <a:t>Variables de Decisión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= cantidad de mercancía que se transporta de la planta </a:t>
            </a: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al supermercado </a:t>
            </a: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. Donde </a:t>
            </a: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&gt;= 0, para todas las </a:t>
            </a:r>
            <a:r>
              <a:rPr b="0" i="1" lang="es-ES" sz="1600" spc="-1" strike="noStrike">
                <a:solidFill>
                  <a:srgbClr val="000000"/>
                </a:solidFill>
                <a:latin typeface="Tahoma"/>
              </a:rPr>
              <a:t>i, 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09480" y="4724280"/>
            <a:ext cx="7543800" cy="1495080"/>
            <a:chOff x="609480" y="4724280"/>
            <a:chExt cx="7543800" cy="1495080"/>
          </a:xfrm>
        </p:grpSpPr>
        <p:sp>
          <p:nvSpPr>
            <p:cNvPr id="149" name=""/>
            <p:cNvSpPr/>
            <p:nvPr/>
          </p:nvSpPr>
          <p:spPr>
            <a:xfrm>
              <a:off x="609480" y="4800600"/>
              <a:ext cx="17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Restriccione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0" name=""/>
                <p:cNvSpPr txBox="1"/>
                <p:nvPr/>
              </p:nvSpPr>
              <p:spPr>
                <a:xfrm>
                  <a:off x="685440" y="5334120"/>
                  <a:ext cx="1206720" cy="71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nary>
                            <m:naryPr>
                              <m:chr m:val="∑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</m:sub>
                              </m:sSub>
                            </m:e>
                          </m:nary>
                          <m:r>
                            <m:t xml:space="preserve">≤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∀</m:t>
                          </m:r>
                          <m:r>
                            <m:t xml:space="preserve">i</m:t>
                          </m:r>
                        </m:e>
                        <m:e>
                          <m:nary>
                            <m:naryPr>
                              <m:chr m:val="∑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</m:sub>
                              </m:sSub>
                              <m:r>
                                <m:t xml:space="preserve">≥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r>
                                <m:t xml:space="preserve">∀</m:t>
                              </m:r>
                              <m:r>
                                <m:t xml:space="preserve">j</m:t>
                              </m:r>
                            </m:e>
                          </m:nary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51" name=""/>
            <p:cNvSpPr/>
            <p:nvPr/>
          </p:nvSpPr>
          <p:spPr>
            <a:xfrm>
              <a:off x="1981080" y="5486400"/>
              <a:ext cx="761760" cy="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61960" y="51814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ímite de suminist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04760" y="5943600"/>
              <a:ext cx="762120" cy="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361960" y="5638680"/>
              <a:ext cx="2209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atisfacer la deman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43240" y="4724280"/>
              <a:ext cx="221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Función Objetivo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6" name=""/>
                <p:cNvSpPr txBox="1"/>
                <p:nvPr/>
              </p:nvSpPr>
              <p:spPr>
                <a:xfrm>
                  <a:off x="6248160" y="5257800"/>
                  <a:ext cx="138420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in</m:t>
                      </m:r>
                      <m:r>
                        <m:t xml:space="preserve"> </m:t>
                      </m:r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nary>
                            <m:naryPr>
                              <m:chr m:val="∑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</m:sub>
                              </m:sSub>
                            </m:e>
                          </m:nary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Se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205740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responde a los índices en la representación algebraica de un 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2590920"/>
            <a:ext cx="5334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i   plantas                  /Burgos, Salamanca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j   supermercados     /León, Bilbao, Madrid/</a:t>
            </a:r>
            <a:r>
              <a:rPr b="1" i="1" lang="es-ES" sz="1800" spc="-1" strike="noStrike">
                <a:solidFill>
                  <a:srgbClr val="000000"/>
                </a:solidFill>
                <a:latin typeface="Tahoma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2819520"/>
            <a:ext cx="1828800" cy="1143000"/>
          </a:xfrm>
          <a:prstGeom prst="ellipse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4495680"/>
            <a:ext cx="3048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i  = {Burgos, Salamanca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j  = {León, Bilbao, Madrid}</a:t>
            </a:r>
            <a:r>
              <a:rPr b="1" i="1" lang="es-ES" sz="1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2514600"/>
            <a:ext cx="4952880" cy="16002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4343400"/>
            <a:ext cx="3352680" cy="1600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809880" y="4648320"/>
            <a:ext cx="5029200" cy="1218960"/>
            <a:chOff x="3809880" y="4648320"/>
            <a:chExt cx="5029200" cy="1218960"/>
          </a:xfrm>
        </p:grpSpPr>
        <p:sp>
          <p:nvSpPr>
            <p:cNvPr id="165" name=""/>
            <p:cNvSpPr/>
            <p:nvPr/>
          </p:nvSpPr>
          <p:spPr>
            <a:xfrm>
              <a:off x="3809880" y="4800240"/>
              <a:ext cx="50292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Tahoma"/>
                </a:rPr>
                <a:t>Set</a:t>
              </a: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 i   plantas         /Burgos, Salamanca/</a:t>
              </a:r>
              <a:r>
                <a:rPr b="1" i="1" lang="es-ES" sz="1800" spc="-1" strike="noStrike">
                  <a:solidFill>
                    <a:srgbClr val="000000"/>
                  </a:solidFill>
                  <a:latin typeface="Tahoma"/>
                </a:rPr>
                <a:t>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Tahoma"/>
                </a:rPr>
                <a:t>Set</a:t>
              </a: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 j   supermercados  /León, Bilbao, Madrid/ </a:t>
              </a:r>
              <a:r>
                <a:rPr b="1" i="1" lang="es-ES" sz="1800" spc="-1" strike="noStrike">
                  <a:solidFill>
                    <a:srgbClr val="000000"/>
                  </a:solidFill>
                  <a:latin typeface="Tahoma"/>
                </a:rPr>
                <a:t>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09880" y="4648320"/>
              <a:ext cx="5029200" cy="121896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5638680" y="2666880"/>
            <a:ext cx="3048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Tahoma"/>
              </a:rPr>
              <a:t>Set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t      /1991*2000/</a:t>
            </a:r>
            <a:r>
              <a:rPr b="1" i="1" lang="es-ES" sz="1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Tahoma"/>
              </a:rPr>
              <a:t>Set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m    /mach1*mach2/</a:t>
            </a:r>
            <a:r>
              <a:rPr b="1" i="1" lang="es-ES" sz="1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38680" y="2514600"/>
            <a:ext cx="3048120" cy="1143000"/>
          </a:xfrm>
          <a:prstGeom prst="rect">
            <a:avLst/>
          </a:prstGeom>
          <a:noFill/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ata  (1/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198108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isten tres formatos de entrada de datos: Listas, tablas y asignaciones direc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27432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rada con formato d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L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3200400"/>
            <a:ext cx="6324480" cy="33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(i) capacidad de la planta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/Burgos      3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alamanca 600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(i) demanda de los supermercados 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/León         3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ilbao       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adrid      275/</a:t>
            </a:r>
            <a:r>
              <a:rPr b="1" i="1" lang="es-ES" sz="1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15:17:36Z</dcterms:created>
  <dc:creator>gloria</dc:creator>
  <dc:description/>
  <dc:language>en-US</dc:language>
  <cp:lastModifiedBy>gloria</cp:lastModifiedBy>
  <dcterms:modified xsi:type="dcterms:W3CDTF">2003-10-06T11:36:06Z</dcterms:modified>
  <cp:revision>14</cp:revision>
  <dc:subject/>
  <dc:title>GAMS</dc:title>
</cp:coreProperties>
</file>