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whoo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CACC-7830-4FB2-B629-171BF118AE02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884760" y="7920"/>
            <a:ext cx="2973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84760" y="8704440"/>
            <a:ext cx="297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-144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-144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C9C-F29E-45A4-A816-84B2358D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1F7-2F56-4CC3-9C13-07B6E5BC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163C-D8F0-4728-ADD8-C459B73F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E17-7E26-43A1-8EA9-E67F2799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3E7B-4C3B-48E4-AE51-C571C0DD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AC4C-D4D4-4A31-A72C-645FDA08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EF6E-9CFD-40D4-BB4F-780C02AF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A145-6C1D-4B2C-8E4F-4D880BBA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EE2C-1309-4BF5-B178-7E5CC7AF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941D-4A11-4050-8FF7-3127C937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7B47-3485-4F03-B038-4A43059F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0A2-5D24-4D07-8BF6-5345500B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3D8E-53BE-4348-B1B7-CFF7B4EC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77D8-650B-47E2-8395-CA32728C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718C-2042-41F6-A92C-5D35AACE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EC41-7BB7-4AB2-AF15-12DA19EA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4FC0-A53B-470D-9EAD-7B120B63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C39-428E-4814-85F5-6581D1C4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F52-FC78-410D-9E82-40ABE86C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33B-7E65-42F6-9CA0-98E56ECC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ED1-B1C3-4B50-8AAD-64C91968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2A26-3869-4FBE-A26D-2EEE40B2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6EA3-A7BA-4758-8355-FCAB4F4B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8AC-1F2B-4455-B80F-DF64B127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C818-AF37-41BD-821F-183D8DFA716E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6122-EB87-44D1-A2C1-C2C697FD14B6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81080" y="1447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MPC Multivari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f. Cesar de Pr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pt. Ingeniería deSistemas y Automát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Universidad de Valladolid, Españ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ada@autom.uva.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 multivari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1523880" y="2082960"/>
                <a:ext cx="6085080" cy="40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605" name=""/>
          <p:cNvGraphicFramePr/>
          <p:nvPr/>
        </p:nvGraphicFramePr>
        <p:xfrm>
          <a:off x="1714680" y="3700440"/>
          <a:ext cx="5580000" cy="27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3700440"/>
                    <a:ext cx="5580000" cy="27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2495520" y="1838160"/>
          <a:ext cx="3832200" cy="148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95520" y="1838160"/>
                    <a:ext cx="3832200" cy="14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 Multivari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1486080" y="4781520"/>
                <a:ext cx="560052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2743200" y="2971800"/>
          <a:ext cx="3276720" cy="15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971800"/>
                    <a:ext cx="327672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"/>
          <p:cNvSpPr/>
          <p:nvPr/>
        </p:nvSpPr>
        <p:spPr>
          <a:xfrm>
            <a:off x="760320" y="2027160"/>
            <a:ext cx="8026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técnica MPC se extiende de modo natural al cas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s con varias entradas y salidas, o perturbaciones med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Multi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1219320" y="4114800"/>
          <a:ext cx="651492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114800"/>
                    <a:ext cx="651492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>
            <a:off x="3475080" y="2303640"/>
            <a:ext cx="1326960" cy="1725480"/>
          </a:xfrm>
          <a:prstGeom prst="rect">
            <a:avLst/>
          </a:prstGeom>
          <a:solidFill>
            <a:srgbClr val="00e4a8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2906640" y="2751120"/>
            <a:ext cx="568440" cy="127080"/>
            <a:chOff x="2906640" y="2751120"/>
            <a:chExt cx="568440" cy="127080"/>
          </a:xfrm>
        </p:grpSpPr>
        <p:sp>
          <p:nvSpPr>
            <p:cNvPr id="621" name=""/>
            <p:cNvSpPr/>
            <p:nvPr/>
          </p:nvSpPr>
          <p:spPr>
            <a:xfrm>
              <a:off x="2906640" y="2814480"/>
              <a:ext cx="568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3411000" y="2751120"/>
              <a:ext cx="6372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3411000" y="2814480"/>
              <a:ext cx="63720" cy="63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2906640" y="3389400"/>
            <a:ext cx="568440" cy="127080"/>
            <a:chOff x="2906640" y="3389400"/>
            <a:chExt cx="568440" cy="127080"/>
          </a:xfrm>
        </p:grpSpPr>
        <p:sp>
          <p:nvSpPr>
            <p:cNvPr id="625" name=""/>
            <p:cNvSpPr/>
            <p:nvPr/>
          </p:nvSpPr>
          <p:spPr>
            <a:xfrm>
              <a:off x="2906640" y="3452760"/>
              <a:ext cx="568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flipV="1">
              <a:off x="3411000" y="3389400"/>
              <a:ext cx="6372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411000" y="3452760"/>
              <a:ext cx="63720" cy="63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4802040" y="2558520"/>
            <a:ext cx="568440" cy="127440"/>
            <a:chOff x="4802040" y="2558520"/>
            <a:chExt cx="568440" cy="127440"/>
          </a:xfrm>
        </p:grpSpPr>
        <p:sp>
          <p:nvSpPr>
            <p:cNvPr id="629" name=""/>
            <p:cNvSpPr/>
            <p:nvPr/>
          </p:nvSpPr>
          <p:spPr>
            <a:xfrm>
              <a:off x="4802040" y="2622600"/>
              <a:ext cx="56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5308560" y="2558520"/>
              <a:ext cx="61920" cy="63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5308560" y="2622600"/>
              <a:ext cx="6192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4802040" y="3133800"/>
            <a:ext cx="568440" cy="128520"/>
            <a:chOff x="4802040" y="3133800"/>
            <a:chExt cx="568440" cy="128520"/>
          </a:xfrm>
        </p:grpSpPr>
        <p:sp>
          <p:nvSpPr>
            <p:cNvPr id="633" name=""/>
            <p:cNvSpPr/>
            <p:nvPr/>
          </p:nvSpPr>
          <p:spPr>
            <a:xfrm>
              <a:off x="4802040" y="3197160"/>
              <a:ext cx="568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5308560" y="3133800"/>
              <a:ext cx="6192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5308560" y="3197160"/>
              <a:ext cx="61920" cy="65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802040" y="3645000"/>
            <a:ext cx="568440" cy="127080"/>
            <a:chOff x="4802040" y="3645000"/>
            <a:chExt cx="568440" cy="127080"/>
          </a:xfrm>
        </p:grpSpPr>
        <p:sp>
          <p:nvSpPr>
            <p:cNvPr id="637" name=""/>
            <p:cNvSpPr/>
            <p:nvPr/>
          </p:nvSpPr>
          <p:spPr>
            <a:xfrm>
              <a:off x="4802040" y="3708360"/>
              <a:ext cx="568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5308560" y="3645000"/>
              <a:ext cx="6192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5308560" y="3708360"/>
              <a:ext cx="61920" cy="63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2631960" y="2441520"/>
            <a:ext cx="3668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stem"/>
              </a:rPr>
              <a:t>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Syste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727440" y="1984320"/>
            <a:ext cx="1440" cy="319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727440" y="2239560"/>
            <a:ext cx="6336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 flipV="1">
            <a:off x="3664080" y="2239560"/>
            <a:ext cx="6336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359240" y="1984320"/>
            <a:ext cx="1800" cy="319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359240" y="2239560"/>
            <a:ext cx="6336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4297320" y="2239560"/>
            <a:ext cx="6192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732840" y="2943360"/>
            <a:ext cx="777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stem"/>
              </a:rPr>
              <a:t>mode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stem"/>
              </a:rPr>
              <a:t>int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24040" y="3084480"/>
            <a:ext cx="4190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stem"/>
              </a:rPr>
              <a:t>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Syste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083200" y="2259000"/>
            <a:ext cx="4190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stem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Syste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106960" y="2816280"/>
            <a:ext cx="4618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stem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Syste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076720" y="3359160"/>
            <a:ext cx="4190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stem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Syste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263760" y="185904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437000" y="185256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edic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397160" y="3192480"/>
                <a:ext cx="6519600" cy="27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r>
                              <m:t xml:space="preserve">Δ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r>
                              <m:t xml:space="preserve">Δ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>
            <a:off x="1319040" y="2116080"/>
            <a:ext cx="663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parar la influencia de acciones 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pasada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fu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57520" y="2556000"/>
            <a:ext cx="2655720" cy="1431720"/>
          </a:xfrm>
          <a:custGeom>
            <a:avLst/>
            <a:gdLst/>
            <a:ahLst/>
            <a:rect l="l" t="t" r="r" b="b"/>
            <a:pathLst>
              <a:path w="1673" h="902">
                <a:moveTo>
                  <a:pt x="1132" y="105"/>
                </a:moveTo>
                <a:cubicBezTo>
                  <a:pt x="954" y="74"/>
                  <a:pt x="776" y="36"/>
                  <a:pt x="597" y="11"/>
                </a:cubicBezTo>
                <a:cubicBezTo>
                  <a:pt x="517" y="0"/>
                  <a:pt x="446" y="52"/>
                  <a:pt x="369" y="58"/>
                </a:cubicBezTo>
                <a:cubicBezTo>
                  <a:pt x="318" y="62"/>
                  <a:pt x="266" y="62"/>
                  <a:pt x="215" y="64"/>
                </a:cubicBezTo>
                <a:cubicBezTo>
                  <a:pt x="181" y="70"/>
                  <a:pt x="147" y="76"/>
                  <a:pt x="114" y="85"/>
                </a:cubicBezTo>
                <a:cubicBezTo>
                  <a:pt x="55" y="123"/>
                  <a:pt x="15" y="169"/>
                  <a:pt x="0" y="239"/>
                </a:cubicBezTo>
                <a:cubicBezTo>
                  <a:pt x="2" y="350"/>
                  <a:pt x="3" y="462"/>
                  <a:pt x="7" y="573"/>
                </a:cubicBezTo>
                <a:cubicBezTo>
                  <a:pt x="7" y="585"/>
                  <a:pt x="12" y="596"/>
                  <a:pt x="14" y="607"/>
                </a:cubicBezTo>
                <a:cubicBezTo>
                  <a:pt x="28" y="709"/>
                  <a:pt x="49" y="787"/>
                  <a:pt x="161" y="821"/>
                </a:cubicBezTo>
                <a:cubicBezTo>
                  <a:pt x="168" y="830"/>
                  <a:pt x="172" y="842"/>
                  <a:pt x="181" y="848"/>
                </a:cubicBezTo>
                <a:cubicBezTo>
                  <a:pt x="191" y="854"/>
                  <a:pt x="204" y="851"/>
                  <a:pt x="215" y="855"/>
                </a:cubicBezTo>
                <a:cubicBezTo>
                  <a:pt x="275" y="875"/>
                  <a:pt x="333" y="889"/>
                  <a:pt x="396" y="902"/>
                </a:cubicBezTo>
                <a:cubicBezTo>
                  <a:pt x="691" y="900"/>
                  <a:pt x="985" y="899"/>
                  <a:pt x="1280" y="895"/>
                </a:cubicBezTo>
                <a:cubicBezTo>
                  <a:pt x="1327" y="894"/>
                  <a:pt x="1420" y="875"/>
                  <a:pt x="1420" y="875"/>
                </a:cubicBezTo>
                <a:cubicBezTo>
                  <a:pt x="1446" y="866"/>
                  <a:pt x="1475" y="866"/>
                  <a:pt x="1501" y="855"/>
                </a:cubicBezTo>
                <a:cubicBezTo>
                  <a:pt x="1550" y="834"/>
                  <a:pt x="1582" y="793"/>
                  <a:pt x="1615" y="754"/>
                </a:cubicBezTo>
                <a:cubicBezTo>
                  <a:pt x="1630" y="737"/>
                  <a:pt x="1635" y="715"/>
                  <a:pt x="1641" y="694"/>
                </a:cubicBezTo>
                <a:cubicBezTo>
                  <a:pt x="1646" y="676"/>
                  <a:pt x="1655" y="640"/>
                  <a:pt x="1655" y="640"/>
                </a:cubicBezTo>
                <a:cubicBezTo>
                  <a:pt x="1652" y="555"/>
                  <a:pt x="1673" y="453"/>
                  <a:pt x="1621" y="379"/>
                </a:cubicBezTo>
                <a:cubicBezTo>
                  <a:pt x="1611" y="346"/>
                  <a:pt x="1578" y="323"/>
                  <a:pt x="1554" y="299"/>
                </a:cubicBezTo>
                <a:cubicBezTo>
                  <a:pt x="1542" y="288"/>
                  <a:pt x="1514" y="272"/>
                  <a:pt x="1514" y="272"/>
                </a:cubicBezTo>
                <a:cubicBezTo>
                  <a:pt x="1486" y="234"/>
                  <a:pt x="1452" y="217"/>
                  <a:pt x="1407" y="205"/>
                </a:cubicBezTo>
                <a:cubicBezTo>
                  <a:pt x="1361" y="174"/>
                  <a:pt x="1382" y="183"/>
                  <a:pt x="1347" y="172"/>
                </a:cubicBezTo>
                <a:cubicBezTo>
                  <a:pt x="1322" y="154"/>
                  <a:pt x="1293" y="146"/>
                  <a:pt x="1266" y="131"/>
                </a:cubicBezTo>
                <a:cubicBezTo>
                  <a:pt x="1237" y="115"/>
                  <a:pt x="1209" y="86"/>
                  <a:pt x="1173" y="85"/>
                </a:cubicBezTo>
                <a:cubicBezTo>
                  <a:pt x="1133" y="83"/>
                  <a:pt x="1092" y="85"/>
                  <a:pt x="1052" y="85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240160" y="2521080"/>
            <a:ext cx="2841840" cy="1509480"/>
          </a:xfrm>
          <a:custGeom>
            <a:avLst/>
            <a:gdLst/>
            <a:ahLst/>
            <a:rect l="l" t="t" r="r" b="b"/>
            <a:pathLst>
              <a:path w="1790" h="951">
                <a:moveTo>
                  <a:pt x="142" y="86"/>
                </a:moveTo>
                <a:cubicBezTo>
                  <a:pt x="129" y="125"/>
                  <a:pt x="112" y="161"/>
                  <a:pt x="88" y="194"/>
                </a:cubicBezTo>
                <a:cubicBezTo>
                  <a:pt x="78" y="207"/>
                  <a:pt x="61" y="234"/>
                  <a:pt x="61" y="234"/>
                </a:cubicBezTo>
                <a:cubicBezTo>
                  <a:pt x="50" y="270"/>
                  <a:pt x="40" y="306"/>
                  <a:pt x="28" y="341"/>
                </a:cubicBezTo>
                <a:cubicBezTo>
                  <a:pt x="24" y="354"/>
                  <a:pt x="14" y="381"/>
                  <a:pt x="14" y="381"/>
                </a:cubicBezTo>
                <a:cubicBezTo>
                  <a:pt x="10" y="468"/>
                  <a:pt x="2" y="555"/>
                  <a:pt x="1" y="642"/>
                </a:cubicBezTo>
                <a:cubicBezTo>
                  <a:pt x="0" y="700"/>
                  <a:pt x="0" y="759"/>
                  <a:pt x="8" y="816"/>
                </a:cubicBezTo>
                <a:cubicBezTo>
                  <a:pt x="14" y="858"/>
                  <a:pt x="131" y="869"/>
                  <a:pt x="155" y="870"/>
                </a:cubicBezTo>
                <a:cubicBezTo>
                  <a:pt x="331" y="874"/>
                  <a:pt x="508" y="875"/>
                  <a:pt x="684" y="877"/>
                </a:cubicBezTo>
                <a:cubicBezTo>
                  <a:pt x="990" y="874"/>
                  <a:pt x="1313" y="951"/>
                  <a:pt x="1602" y="850"/>
                </a:cubicBezTo>
                <a:cubicBezTo>
                  <a:pt x="1625" y="833"/>
                  <a:pt x="1642" y="818"/>
                  <a:pt x="1669" y="810"/>
                </a:cubicBezTo>
                <a:cubicBezTo>
                  <a:pt x="1698" y="790"/>
                  <a:pt x="1701" y="761"/>
                  <a:pt x="1729" y="743"/>
                </a:cubicBezTo>
                <a:cubicBezTo>
                  <a:pt x="1731" y="736"/>
                  <a:pt x="1732" y="729"/>
                  <a:pt x="1736" y="723"/>
                </a:cubicBezTo>
                <a:cubicBezTo>
                  <a:pt x="1741" y="715"/>
                  <a:pt x="1752" y="711"/>
                  <a:pt x="1756" y="703"/>
                </a:cubicBezTo>
                <a:cubicBezTo>
                  <a:pt x="1769" y="676"/>
                  <a:pt x="1773" y="626"/>
                  <a:pt x="1783" y="595"/>
                </a:cubicBezTo>
                <a:cubicBezTo>
                  <a:pt x="1783" y="590"/>
                  <a:pt x="1790" y="445"/>
                  <a:pt x="1769" y="388"/>
                </a:cubicBezTo>
                <a:cubicBezTo>
                  <a:pt x="1753" y="344"/>
                  <a:pt x="1714" y="313"/>
                  <a:pt x="1682" y="281"/>
                </a:cubicBezTo>
                <a:cubicBezTo>
                  <a:pt x="1608" y="208"/>
                  <a:pt x="1523" y="127"/>
                  <a:pt x="1421" y="100"/>
                </a:cubicBezTo>
                <a:cubicBezTo>
                  <a:pt x="1389" y="68"/>
                  <a:pt x="1418" y="93"/>
                  <a:pt x="1340" y="60"/>
                </a:cubicBezTo>
                <a:cubicBezTo>
                  <a:pt x="1251" y="22"/>
                  <a:pt x="1141" y="14"/>
                  <a:pt x="1046" y="6"/>
                </a:cubicBezTo>
                <a:cubicBezTo>
                  <a:pt x="760" y="11"/>
                  <a:pt x="467" y="0"/>
                  <a:pt x="182" y="33"/>
                </a:cubicBezTo>
                <a:cubicBezTo>
                  <a:pt x="134" y="64"/>
                  <a:pt x="172" y="64"/>
                  <a:pt x="148" y="113"/>
                </a:cubicBezTo>
                <a:cubicBezTo>
                  <a:pt x="144" y="122"/>
                  <a:pt x="128" y="120"/>
                  <a:pt x="122" y="127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erturbaciones / errores.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885960" y="2166840"/>
                <a:ext cx="765324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Δ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Δ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r>
                              <m:t xml:space="preserve">Δ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1" name=""/>
          <p:cNvSpPr/>
          <p:nvPr/>
        </p:nvSpPr>
        <p:spPr>
          <a:xfrm>
            <a:off x="828720" y="3935520"/>
            <a:ext cx="764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engloban perturbaciones no medibles, errores de modelado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reactualiza cada periodo de muest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on posibles otras formas de predición por extrapolación usando valores estimados pasados de n(t), n(t-1), n(t-2),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1054080" y="2162160"/>
                <a:ext cx="7290000" cy="35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r>
                              <m:t xml:space="preserve">Δ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r>
                              <m:t xml:space="preserve">Δ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Δ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Δ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r>
                              <m:t xml:space="preserve">Δ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stituyendo.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044720" y="2063880"/>
                <a:ext cx="7137360" cy="35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Δ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Δ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r>
                              <m:t xml:space="preserve">Δ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r>
                              <m:t xml:space="preserve">Δ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r>
                              <m:t xml:space="preserve">Δ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942840" y="4554360"/>
            <a:ext cx="2951280" cy="1538640"/>
          </a:xfrm>
          <a:custGeom>
            <a:avLst/>
            <a:gdLst/>
            <a:ahLst/>
            <a:rect l="l" t="t" r="r" b="b"/>
            <a:pathLst>
              <a:path w="1859" h="969">
                <a:moveTo>
                  <a:pt x="103" y="165"/>
                </a:moveTo>
                <a:cubicBezTo>
                  <a:pt x="98" y="174"/>
                  <a:pt x="95" y="184"/>
                  <a:pt x="89" y="192"/>
                </a:cubicBezTo>
                <a:cubicBezTo>
                  <a:pt x="77" y="207"/>
                  <a:pt x="49" y="232"/>
                  <a:pt x="49" y="232"/>
                </a:cubicBezTo>
                <a:cubicBezTo>
                  <a:pt x="27" y="278"/>
                  <a:pt x="15" y="324"/>
                  <a:pt x="2" y="373"/>
                </a:cubicBezTo>
                <a:cubicBezTo>
                  <a:pt x="4" y="449"/>
                  <a:pt x="0" y="525"/>
                  <a:pt x="9" y="600"/>
                </a:cubicBezTo>
                <a:cubicBezTo>
                  <a:pt x="14" y="642"/>
                  <a:pt x="50" y="679"/>
                  <a:pt x="76" y="708"/>
                </a:cubicBezTo>
                <a:cubicBezTo>
                  <a:pt x="126" y="765"/>
                  <a:pt x="163" y="803"/>
                  <a:pt x="237" y="828"/>
                </a:cubicBezTo>
                <a:cubicBezTo>
                  <a:pt x="265" y="847"/>
                  <a:pt x="291" y="861"/>
                  <a:pt x="324" y="868"/>
                </a:cubicBezTo>
                <a:cubicBezTo>
                  <a:pt x="381" y="899"/>
                  <a:pt x="448" y="906"/>
                  <a:pt x="511" y="915"/>
                </a:cubicBezTo>
                <a:cubicBezTo>
                  <a:pt x="574" y="924"/>
                  <a:pt x="635" y="945"/>
                  <a:pt x="699" y="949"/>
                </a:cubicBezTo>
                <a:cubicBezTo>
                  <a:pt x="764" y="953"/>
                  <a:pt x="828" y="953"/>
                  <a:pt x="893" y="955"/>
                </a:cubicBezTo>
                <a:cubicBezTo>
                  <a:pt x="1051" y="969"/>
                  <a:pt x="1200" y="952"/>
                  <a:pt x="1355" y="929"/>
                </a:cubicBezTo>
                <a:cubicBezTo>
                  <a:pt x="1410" y="910"/>
                  <a:pt x="1469" y="901"/>
                  <a:pt x="1522" y="875"/>
                </a:cubicBezTo>
                <a:cubicBezTo>
                  <a:pt x="1544" y="864"/>
                  <a:pt x="1559" y="849"/>
                  <a:pt x="1583" y="842"/>
                </a:cubicBezTo>
                <a:cubicBezTo>
                  <a:pt x="1612" y="811"/>
                  <a:pt x="1576" y="845"/>
                  <a:pt x="1623" y="821"/>
                </a:cubicBezTo>
                <a:cubicBezTo>
                  <a:pt x="1640" y="812"/>
                  <a:pt x="1653" y="797"/>
                  <a:pt x="1670" y="788"/>
                </a:cubicBezTo>
                <a:cubicBezTo>
                  <a:pt x="1698" y="773"/>
                  <a:pt x="1728" y="762"/>
                  <a:pt x="1757" y="748"/>
                </a:cubicBezTo>
                <a:cubicBezTo>
                  <a:pt x="1772" y="732"/>
                  <a:pt x="1804" y="701"/>
                  <a:pt x="1804" y="701"/>
                </a:cubicBezTo>
                <a:cubicBezTo>
                  <a:pt x="1821" y="666"/>
                  <a:pt x="1841" y="638"/>
                  <a:pt x="1851" y="600"/>
                </a:cubicBezTo>
                <a:cubicBezTo>
                  <a:pt x="1846" y="502"/>
                  <a:pt x="1859" y="436"/>
                  <a:pt x="1770" y="393"/>
                </a:cubicBezTo>
                <a:cubicBezTo>
                  <a:pt x="1761" y="363"/>
                  <a:pt x="1751" y="360"/>
                  <a:pt x="1723" y="346"/>
                </a:cubicBezTo>
                <a:cubicBezTo>
                  <a:pt x="1700" y="321"/>
                  <a:pt x="1663" y="297"/>
                  <a:pt x="1636" y="279"/>
                </a:cubicBezTo>
                <a:cubicBezTo>
                  <a:pt x="1623" y="270"/>
                  <a:pt x="1596" y="252"/>
                  <a:pt x="1596" y="252"/>
                </a:cubicBezTo>
                <a:cubicBezTo>
                  <a:pt x="1576" y="222"/>
                  <a:pt x="1536" y="210"/>
                  <a:pt x="1502" y="199"/>
                </a:cubicBezTo>
                <a:cubicBezTo>
                  <a:pt x="1435" y="177"/>
                  <a:pt x="1533" y="210"/>
                  <a:pt x="1462" y="178"/>
                </a:cubicBezTo>
                <a:cubicBezTo>
                  <a:pt x="1411" y="155"/>
                  <a:pt x="1343" y="139"/>
                  <a:pt x="1288" y="132"/>
                </a:cubicBezTo>
                <a:cubicBezTo>
                  <a:pt x="1214" y="113"/>
                  <a:pt x="1143" y="92"/>
                  <a:pt x="1067" y="85"/>
                </a:cubicBezTo>
                <a:cubicBezTo>
                  <a:pt x="1010" y="55"/>
                  <a:pt x="935" y="62"/>
                  <a:pt x="873" y="58"/>
                </a:cubicBezTo>
                <a:cubicBezTo>
                  <a:pt x="650" y="0"/>
                  <a:pt x="413" y="39"/>
                  <a:pt x="190" y="78"/>
                </a:cubicBezTo>
                <a:cubicBezTo>
                  <a:pt x="165" y="94"/>
                  <a:pt x="137" y="108"/>
                  <a:pt x="109" y="118"/>
                </a:cubicBezTo>
                <a:cubicBezTo>
                  <a:pt x="102" y="126"/>
                  <a:pt x="69" y="185"/>
                  <a:pt x="69" y="199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68360" y="6167520"/>
            <a:ext cx="64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Hipótesis sobre comportamiento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20840" y="2719440"/>
            <a:ext cx="8032680" cy="3309840"/>
          </a:xfrm>
          <a:custGeom>
            <a:avLst/>
            <a:gdLst/>
            <a:ahLst/>
            <a:rect l="l" t="t" r="r" b="b"/>
            <a:pathLst>
              <a:path w="5060" h="2085">
                <a:moveTo>
                  <a:pt x="833" y="223"/>
                </a:moveTo>
                <a:cubicBezTo>
                  <a:pt x="787" y="216"/>
                  <a:pt x="744" y="204"/>
                  <a:pt x="699" y="196"/>
                </a:cubicBezTo>
                <a:cubicBezTo>
                  <a:pt x="536" y="201"/>
                  <a:pt x="498" y="193"/>
                  <a:pt x="378" y="229"/>
                </a:cubicBezTo>
                <a:cubicBezTo>
                  <a:pt x="349" y="261"/>
                  <a:pt x="384" y="227"/>
                  <a:pt x="344" y="249"/>
                </a:cubicBezTo>
                <a:cubicBezTo>
                  <a:pt x="305" y="270"/>
                  <a:pt x="301" y="279"/>
                  <a:pt x="271" y="310"/>
                </a:cubicBezTo>
                <a:cubicBezTo>
                  <a:pt x="239" y="343"/>
                  <a:pt x="262" y="305"/>
                  <a:pt x="237" y="336"/>
                </a:cubicBezTo>
                <a:cubicBezTo>
                  <a:pt x="232" y="342"/>
                  <a:pt x="229" y="351"/>
                  <a:pt x="224" y="357"/>
                </a:cubicBezTo>
                <a:cubicBezTo>
                  <a:pt x="212" y="371"/>
                  <a:pt x="197" y="384"/>
                  <a:pt x="184" y="397"/>
                </a:cubicBezTo>
                <a:cubicBezTo>
                  <a:pt x="179" y="401"/>
                  <a:pt x="170" y="410"/>
                  <a:pt x="170" y="410"/>
                </a:cubicBezTo>
                <a:cubicBezTo>
                  <a:pt x="159" y="433"/>
                  <a:pt x="139" y="452"/>
                  <a:pt x="130" y="477"/>
                </a:cubicBezTo>
                <a:cubicBezTo>
                  <a:pt x="105" y="548"/>
                  <a:pt x="94" y="618"/>
                  <a:pt x="77" y="691"/>
                </a:cubicBezTo>
                <a:cubicBezTo>
                  <a:pt x="68" y="798"/>
                  <a:pt x="68" y="908"/>
                  <a:pt x="43" y="1013"/>
                </a:cubicBezTo>
                <a:cubicBezTo>
                  <a:pt x="48" y="1326"/>
                  <a:pt x="0" y="1480"/>
                  <a:pt x="130" y="1716"/>
                </a:cubicBezTo>
                <a:cubicBezTo>
                  <a:pt x="172" y="1793"/>
                  <a:pt x="304" y="1899"/>
                  <a:pt x="385" y="1931"/>
                </a:cubicBezTo>
                <a:cubicBezTo>
                  <a:pt x="414" y="1942"/>
                  <a:pt x="442" y="1950"/>
                  <a:pt x="472" y="1957"/>
                </a:cubicBezTo>
                <a:cubicBezTo>
                  <a:pt x="494" y="1962"/>
                  <a:pt x="539" y="1971"/>
                  <a:pt x="539" y="1971"/>
                </a:cubicBezTo>
                <a:cubicBezTo>
                  <a:pt x="621" y="2024"/>
                  <a:pt x="869" y="2003"/>
                  <a:pt x="920" y="2004"/>
                </a:cubicBezTo>
                <a:cubicBezTo>
                  <a:pt x="1149" y="2017"/>
                  <a:pt x="1376" y="2046"/>
                  <a:pt x="1604" y="2064"/>
                </a:cubicBezTo>
                <a:cubicBezTo>
                  <a:pt x="1678" y="2070"/>
                  <a:pt x="1751" y="2073"/>
                  <a:pt x="1825" y="2078"/>
                </a:cubicBezTo>
                <a:cubicBezTo>
                  <a:pt x="1863" y="2080"/>
                  <a:pt x="1939" y="2085"/>
                  <a:pt x="1939" y="2085"/>
                </a:cubicBezTo>
                <a:cubicBezTo>
                  <a:pt x="2414" y="2083"/>
                  <a:pt x="2890" y="2084"/>
                  <a:pt x="3365" y="2078"/>
                </a:cubicBezTo>
                <a:cubicBezTo>
                  <a:pt x="3436" y="2077"/>
                  <a:pt x="3508" y="2069"/>
                  <a:pt x="3579" y="2064"/>
                </a:cubicBezTo>
                <a:cubicBezTo>
                  <a:pt x="3613" y="2062"/>
                  <a:pt x="3680" y="2058"/>
                  <a:pt x="3680" y="2058"/>
                </a:cubicBezTo>
                <a:cubicBezTo>
                  <a:pt x="3781" y="2037"/>
                  <a:pt x="3885" y="2026"/>
                  <a:pt x="3988" y="2011"/>
                </a:cubicBezTo>
                <a:cubicBezTo>
                  <a:pt x="4032" y="1997"/>
                  <a:pt x="4076" y="1991"/>
                  <a:pt x="4122" y="1984"/>
                </a:cubicBezTo>
                <a:cubicBezTo>
                  <a:pt x="4155" y="1979"/>
                  <a:pt x="4222" y="1971"/>
                  <a:pt x="4222" y="1971"/>
                </a:cubicBezTo>
                <a:cubicBezTo>
                  <a:pt x="4279" y="1954"/>
                  <a:pt x="4338" y="1939"/>
                  <a:pt x="4397" y="1931"/>
                </a:cubicBezTo>
                <a:cubicBezTo>
                  <a:pt x="4487" y="1883"/>
                  <a:pt x="4572" y="1836"/>
                  <a:pt x="4671" y="1810"/>
                </a:cubicBezTo>
                <a:cubicBezTo>
                  <a:pt x="4705" y="1779"/>
                  <a:pt x="4658" y="1817"/>
                  <a:pt x="4718" y="1790"/>
                </a:cubicBezTo>
                <a:cubicBezTo>
                  <a:pt x="4724" y="1787"/>
                  <a:pt x="4726" y="1780"/>
                  <a:pt x="4731" y="1776"/>
                </a:cubicBezTo>
                <a:cubicBezTo>
                  <a:pt x="4737" y="1771"/>
                  <a:pt x="4744" y="1766"/>
                  <a:pt x="4752" y="1763"/>
                </a:cubicBezTo>
                <a:cubicBezTo>
                  <a:pt x="4821" y="1735"/>
                  <a:pt x="4849" y="1721"/>
                  <a:pt x="4912" y="1683"/>
                </a:cubicBezTo>
                <a:cubicBezTo>
                  <a:pt x="4952" y="1659"/>
                  <a:pt x="4944" y="1674"/>
                  <a:pt x="4966" y="1649"/>
                </a:cubicBezTo>
                <a:cubicBezTo>
                  <a:pt x="5000" y="1610"/>
                  <a:pt x="5034" y="1566"/>
                  <a:pt x="5046" y="1515"/>
                </a:cubicBezTo>
                <a:cubicBezTo>
                  <a:pt x="5051" y="1493"/>
                  <a:pt x="5060" y="1448"/>
                  <a:pt x="5060" y="1448"/>
                </a:cubicBezTo>
                <a:cubicBezTo>
                  <a:pt x="5058" y="1390"/>
                  <a:pt x="5059" y="1332"/>
                  <a:pt x="5053" y="1274"/>
                </a:cubicBezTo>
                <a:cubicBezTo>
                  <a:pt x="5052" y="1262"/>
                  <a:pt x="5043" y="1252"/>
                  <a:pt x="5040" y="1241"/>
                </a:cubicBezTo>
                <a:cubicBezTo>
                  <a:pt x="5009" y="1127"/>
                  <a:pt x="4978" y="1116"/>
                  <a:pt x="4892" y="1040"/>
                </a:cubicBezTo>
                <a:cubicBezTo>
                  <a:pt x="4843" y="997"/>
                  <a:pt x="4798" y="945"/>
                  <a:pt x="4752" y="899"/>
                </a:cubicBezTo>
                <a:cubicBezTo>
                  <a:pt x="4741" y="888"/>
                  <a:pt x="4729" y="877"/>
                  <a:pt x="4718" y="866"/>
                </a:cubicBezTo>
                <a:cubicBezTo>
                  <a:pt x="4711" y="859"/>
                  <a:pt x="4698" y="846"/>
                  <a:pt x="4698" y="846"/>
                </a:cubicBezTo>
                <a:cubicBezTo>
                  <a:pt x="4684" y="817"/>
                  <a:pt x="4665" y="794"/>
                  <a:pt x="4651" y="765"/>
                </a:cubicBezTo>
                <a:cubicBezTo>
                  <a:pt x="4645" y="735"/>
                  <a:pt x="4639" y="714"/>
                  <a:pt x="4618" y="691"/>
                </a:cubicBezTo>
                <a:cubicBezTo>
                  <a:pt x="4605" y="654"/>
                  <a:pt x="4585" y="622"/>
                  <a:pt x="4571" y="584"/>
                </a:cubicBezTo>
                <a:cubicBezTo>
                  <a:pt x="4557" y="545"/>
                  <a:pt x="4560" y="505"/>
                  <a:pt x="4537" y="470"/>
                </a:cubicBezTo>
                <a:cubicBezTo>
                  <a:pt x="4516" y="400"/>
                  <a:pt x="4437" y="305"/>
                  <a:pt x="4383" y="256"/>
                </a:cubicBezTo>
                <a:cubicBezTo>
                  <a:pt x="4346" y="222"/>
                  <a:pt x="4305" y="171"/>
                  <a:pt x="4256" y="156"/>
                </a:cubicBezTo>
                <a:cubicBezTo>
                  <a:pt x="4025" y="0"/>
                  <a:pt x="3588" y="71"/>
                  <a:pt x="3392" y="69"/>
                </a:cubicBezTo>
                <a:cubicBezTo>
                  <a:pt x="3343" y="70"/>
                  <a:pt x="3125" y="70"/>
                  <a:pt x="3030" y="82"/>
                </a:cubicBezTo>
                <a:cubicBezTo>
                  <a:pt x="2949" y="92"/>
                  <a:pt x="2870" y="125"/>
                  <a:pt x="2789" y="136"/>
                </a:cubicBezTo>
                <a:cubicBezTo>
                  <a:pt x="2720" y="157"/>
                  <a:pt x="2625" y="152"/>
                  <a:pt x="2555" y="156"/>
                </a:cubicBezTo>
                <a:cubicBezTo>
                  <a:pt x="2226" y="154"/>
                  <a:pt x="1788" y="193"/>
                  <a:pt x="1423" y="129"/>
                </a:cubicBezTo>
                <a:cubicBezTo>
                  <a:pt x="1343" y="131"/>
                  <a:pt x="1262" y="130"/>
                  <a:pt x="1182" y="136"/>
                </a:cubicBezTo>
                <a:cubicBezTo>
                  <a:pt x="1170" y="137"/>
                  <a:pt x="1160" y="146"/>
                  <a:pt x="1148" y="149"/>
                </a:cubicBezTo>
                <a:cubicBezTo>
                  <a:pt x="1102" y="163"/>
                  <a:pt x="1058" y="173"/>
                  <a:pt x="1014" y="189"/>
                </a:cubicBezTo>
                <a:cubicBezTo>
                  <a:pt x="924" y="222"/>
                  <a:pt x="813" y="236"/>
                  <a:pt x="720" y="236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507000" y="5932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Pas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97160" y="1743120"/>
            <a:ext cx="5435640" cy="1457280"/>
          </a:xfrm>
          <a:custGeom>
            <a:avLst/>
            <a:gdLst/>
            <a:ahLst/>
            <a:rect l="l" t="t" r="r" b="b"/>
            <a:pathLst>
              <a:path w="3424" h="918">
                <a:moveTo>
                  <a:pt x="114" y="114"/>
                </a:moveTo>
                <a:cubicBezTo>
                  <a:pt x="54" y="171"/>
                  <a:pt x="18" y="221"/>
                  <a:pt x="0" y="302"/>
                </a:cubicBezTo>
                <a:cubicBezTo>
                  <a:pt x="2" y="369"/>
                  <a:pt x="3" y="436"/>
                  <a:pt x="6" y="503"/>
                </a:cubicBezTo>
                <a:cubicBezTo>
                  <a:pt x="10" y="576"/>
                  <a:pt x="41" y="731"/>
                  <a:pt x="107" y="777"/>
                </a:cubicBezTo>
                <a:cubicBezTo>
                  <a:pt x="120" y="786"/>
                  <a:pt x="139" y="784"/>
                  <a:pt x="154" y="791"/>
                </a:cubicBezTo>
                <a:cubicBezTo>
                  <a:pt x="180" y="804"/>
                  <a:pt x="198" y="817"/>
                  <a:pt x="227" y="824"/>
                </a:cubicBezTo>
                <a:cubicBezTo>
                  <a:pt x="280" y="859"/>
                  <a:pt x="354" y="861"/>
                  <a:pt x="415" y="871"/>
                </a:cubicBezTo>
                <a:cubicBezTo>
                  <a:pt x="566" y="895"/>
                  <a:pt x="718" y="898"/>
                  <a:pt x="870" y="918"/>
                </a:cubicBezTo>
                <a:cubicBezTo>
                  <a:pt x="1328" y="916"/>
                  <a:pt x="1785" y="915"/>
                  <a:pt x="2243" y="911"/>
                </a:cubicBezTo>
                <a:cubicBezTo>
                  <a:pt x="2414" y="910"/>
                  <a:pt x="2591" y="907"/>
                  <a:pt x="2759" y="871"/>
                </a:cubicBezTo>
                <a:cubicBezTo>
                  <a:pt x="2799" y="852"/>
                  <a:pt x="2842" y="845"/>
                  <a:pt x="2886" y="838"/>
                </a:cubicBezTo>
                <a:cubicBezTo>
                  <a:pt x="2919" y="827"/>
                  <a:pt x="2955" y="823"/>
                  <a:pt x="2987" y="811"/>
                </a:cubicBezTo>
                <a:cubicBezTo>
                  <a:pt x="3025" y="796"/>
                  <a:pt x="3061" y="774"/>
                  <a:pt x="3101" y="764"/>
                </a:cubicBezTo>
                <a:cubicBezTo>
                  <a:pt x="3142" y="731"/>
                  <a:pt x="3192" y="660"/>
                  <a:pt x="3241" y="643"/>
                </a:cubicBezTo>
                <a:cubicBezTo>
                  <a:pt x="3262" y="624"/>
                  <a:pt x="3308" y="590"/>
                  <a:pt x="3308" y="590"/>
                </a:cubicBezTo>
                <a:cubicBezTo>
                  <a:pt x="3332" y="544"/>
                  <a:pt x="3317" y="569"/>
                  <a:pt x="3362" y="509"/>
                </a:cubicBezTo>
                <a:cubicBezTo>
                  <a:pt x="3369" y="500"/>
                  <a:pt x="3382" y="483"/>
                  <a:pt x="3382" y="483"/>
                </a:cubicBezTo>
                <a:cubicBezTo>
                  <a:pt x="3403" y="403"/>
                  <a:pt x="3424" y="295"/>
                  <a:pt x="3369" y="228"/>
                </a:cubicBezTo>
                <a:cubicBezTo>
                  <a:pt x="3353" y="209"/>
                  <a:pt x="3319" y="187"/>
                  <a:pt x="3295" y="181"/>
                </a:cubicBezTo>
                <a:cubicBezTo>
                  <a:pt x="3271" y="175"/>
                  <a:pt x="3221" y="168"/>
                  <a:pt x="3221" y="168"/>
                </a:cubicBezTo>
                <a:cubicBezTo>
                  <a:pt x="3136" y="132"/>
                  <a:pt x="3051" y="116"/>
                  <a:pt x="2960" y="108"/>
                </a:cubicBezTo>
                <a:cubicBezTo>
                  <a:pt x="2843" y="67"/>
                  <a:pt x="2702" y="61"/>
                  <a:pt x="2578" y="47"/>
                </a:cubicBezTo>
                <a:cubicBezTo>
                  <a:pt x="2207" y="5"/>
                  <a:pt x="1840" y="4"/>
                  <a:pt x="1466" y="0"/>
                </a:cubicBezTo>
                <a:cubicBezTo>
                  <a:pt x="1100" y="2"/>
                  <a:pt x="734" y="2"/>
                  <a:pt x="368" y="7"/>
                </a:cubicBezTo>
                <a:cubicBezTo>
                  <a:pt x="327" y="8"/>
                  <a:pt x="268" y="32"/>
                  <a:pt x="234" y="54"/>
                </a:cubicBezTo>
                <a:cubicBezTo>
                  <a:pt x="217" y="80"/>
                  <a:pt x="189" y="91"/>
                  <a:pt x="160" y="101"/>
                </a:cubicBezTo>
                <a:cubicBezTo>
                  <a:pt x="156" y="110"/>
                  <a:pt x="153" y="120"/>
                  <a:pt x="147" y="128"/>
                </a:cubicBezTo>
                <a:cubicBezTo>
                  <a:pt x="138" y="139"/>
                  <a:pt x="107" y="141"/>
                  <a:pt x="107" y="154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667480" y="95724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Respuesta lib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806400" y="2230560"/>
                <a:ext cx="7548480" cy="34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r>
                              <m:t xml:space="preserve">Δ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Δ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3" name=""/>
          <p:cNvSpPr/>
          <p:nvPr/>
        </p:nvSpPr>
        <p:spPr>
          <a:xfrm>
            <a:off x="500040" y="3137040"/>
            <a:ext cx="7378560" cy="3062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4" name=""/>
          <p:cNvGraphicFramePr/>
          <p:nvPr/>
        </p:nvGraphicFramePr>
        <p:xfrm>
          <a:off x="1035000" y="2239920"/>
          <a:ext cx="710100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2239920"/>
                    <a:ext cx="710100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"/>
          <p:cNvSpPr/>
          <p:nvPr/>
        </p:nvSpPr>
        <p:spPr>
          <a:xfrm>
            <a:off x="2192400" y="519120"/>
            <a:ext cx="30420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edi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65000" y="4287960"/>
            <a:ext cx="0" cy="18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4280" y="5881680"/>
            <a:ext cx="394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6560" y="4586400"/>
            <a:ext cx="379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62800" y="4260960"/>
            <a:ext cx="37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744560" y="4794120"/>
            <a:ext cx="725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t+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993600" y="5811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08200" y="5811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31240" y="6012000"/>
            <a:ext cx="501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268080" y="6012000"/>
            <a:ext cx="501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5000" y="4594320"/>
            <a:ext cx="1971720" cy="831600"/>
          </a:xfrm>
          <a:custGeom>
            <a:avLst/>
            <a:gdLst/>
            <a:ahLst/>
            <a:rect l="l" t="t" r="r" b="b"/>
            <a:pathLst>
              <a:path w="1242" h="524">
                <a:moveTo>
                  <a:pt x="0" y="523"/>
                </a:moveTo>
                <a:lnTo>
                  <a:pt x="24" y="496"/>
                </a:lnTo>
                <a:lnTo>
                  <a:pt x="53" y="504"/>
                </a:lnTo>
                <a:lnTo>
                  <a:pt x="89" y="504"/>
                </a:lnTo>
                <a:lnTo>
                  <a:pt x="117" y="504"/>
                </a:lnTo>
                <a:lnTo>
                  <a:pt x="139" y="496"/>
                </a:lnTo>
                <a:lnTo>
                  <a:pt x="168" y="482"/>
                </a:lnTo>
                <a:lnTo>
                  <a:pt x="197" y="460"/>
                </a:lnTo>
                <a:lnTo>
                  <a:pt x="225" y="439"/>
                </a:lnTo>
                <a:lnTo>
                  <a:pt x="254" y="417"/>
                </a:lnTo>
                <a:lnTo>
                  <a:pt x="283" y="396"/>
                </a:lnTo>
                <a:lnTo>
                  <a:pt x="297" y="374"/>
                </a:lnTo>
                <a:lnTo>
                  <a:pt x="319" y="360"/>
                </a:lnTo>
                <a:lnTo>
                  <a:pt x="348" y="338"/>
                </a:lnTo>
                <a:lnTo>
                  <a:pt x="377" y="316"/>
                </a:lnTo>
                <a:lnTo>
                  <a:pt x="405" y="295"/>
                </a:lnTo>
                <a:lnTo>
                  <a:pt x="427" y="273"/>
                </a:lnTo>
                <a:lnTo>
                  <a:pt x="456" y="244"/>
                </a:lnTo>
                <a:lnTo>
                  <a:pt x="492" y="223"/>
                </a:lnTo>
                <a:lnTo>
                  <a:pt x="513" y="201"/>
                </a:lnTo>
                <a:lnTo>
                  <a:pt x="542" y="180"/>
                </a:lnTo>
                <a:lnTo>
                  <a:pt x="564" y="172"/>
                </a:lnTo>
                <a:lnTo>
                  <a:pt x="593" y="158"/>
                </a:lnTo>
                <a:lnTo>
                  <a:pt x="629" y="136"/>
                </a:lnTo>
                <a:lnTo>
                  <a:pt x="657" y="122"/>
                </a:lnTo>
                <a:lnTo>
                  <a:pt x="679" y="108"/>
                </a:lnTo>
                <a:lnTo>
                  <a:pt x="701" y="100"/>
                </a:lnTo>
                <a:lnTo>
                  <a:pt x="729" y="86"/>
                </a:lnTo>
                <a:lnTo>
                  <a:pt x="751" y="79"/>
                </a:lnTo>
                <a:lnTo>
                  <a:pt x="773" y="79"/>
                </a:lnTo>
                <a:lnTo>
                  <a:pt x="809" y="72"/>
                </a:lnTo>
                <a:lnTo>
                  <a:pt x="837" y="64"/>
                </a:lnTo>
                <a:lnTo>
                  <a:pt x="859" y="64"/>
                </a:lnTo>
                <a:lnTo>
                  <a:pt x="881" y="57"/>
                </a:lnTo>
                <a:lnTo>
                  <a:pt x="909" y="50"/>
                </a:lnTo>
                <a:lnTo>
                  <a:pt x="931" y="43"/>
                </a:lnTo>
                <a:lnTo>
                  <a:pt x="953" y="28"/>
                </a:lnTo>
                <a:lnTo>
                  <a:pt x="981" y="28"/>
                </a:lnTo>
                <a:lnTo>
                  <a:pt x="1010" y="21"/>
                </a:lnTo>
                <a:lnTo>
                  <a:pt x="1032" y="21"/>
                </a:lnTo>
                <a:lnTo>
                  <a:pt x="1061" y="14"/>
                </a:lnTo>
                <a:lnTo>
                  <a:pt x="1089" y="14"/>
                </a:lnTo>
                <a:lnTo>
                  <a:pt x="1118" y="14"/>
                </a:lnTo>
                <a:lnTo>
                  <a:pt x="1140" y="14"/>
                </a:lnTo>
                <a:lnTo>
                  <a:pt x="1169" y="7"/>
                </a:lnTo>
                <a:lnTo>
                  <a:pt x="1197" y="0"/>
                </a:lnTo>
                <a:lnTo>
                  <a:pt x="1219" y="0"/>
                </a:lnTo>
                <a:lnTo>
                  <a:pt x="124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363320" y="6012000"/>
            <a:ext cx="1435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rizonte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di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3440" y="60120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07080" y="5504040"/>
            <a:ext cx="86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019160" y="5805360"/>
            <a:ext cx="246384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37160" y="5992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537160" y="447516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086440" y="5916600"/>
            <a:ext cx="394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62400" y="54594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543640" y="515448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994360" y="51609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000840" y="56116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375240" y="5389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381720" y="5383080"/>
            <a:ext cx="234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40920" y="5056200"/>
            <a:ext cx="755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t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526720" y="4751280"/>
            <a:ext cx="552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756480" y="5846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517440" y="5513400"/>
            <a:ext cx="501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25280" y="5894280"/>
            <a:ext cx="118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rizo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95600" y="59706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562720" y="5916600"/>
            <a:ext cx="11682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Función de cos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498600" y="2073240"/>
                <a:ext cx="8151840" cy="26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N</m:t>
                            </m:r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N</m:t>
                            </m:r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N</m:t>
                            </m:r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Δu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Δu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0" name=""/>
          <p:cNvSpPr/>
          <p:nvPr/>
        </p:nvSpPr>
        <p:spPr>
          <a:xfrm>
            <a:off x="447840" y="5114880"/>
            <a:ext cx="5464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factores de peso que reflejan las prioridades del 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761160" y="4292640"/>
            <a:ext cx="1327320" cy="1725480"/>
          </a:xfrm>
          <a:prstGeom prst="rect">
            <a:avLst/>
          </a:prstGeom>
          <a:solidFill>
            <a:srgbClr val="00e4a8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192720" y="4740120"/>
            <a:ext cx="568440" cy="127080"/>
            <a:chOff x="6192720" y="4740120"/>
            <a:chExt cx="568440" cy="127080"/>
          </a:xfrm>
        </p:grpSpPr>
        <p:sp>
          <p:nvSpPr>
            <p:cNvPr id="713" name=""/>
            <p:cNvSpPr/>
            <p:nvPr/>
          </p:nvSpPr>
          <p:spPr>
            <a:xfrm>
              <a:off x="6192720" y="4803480"/>
              <a:ext cx="568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 flipV="1">
              <a:off x="6697080" y="4740120"/>
              <a:ext cx="6372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697080" y="4803480"/>
              <a:ext cx="63720" cy="63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192720" y="5378400"/>
            <a:ext cx="568440" cy="127080"/>
            <a:chOff x="6192720" y="5378400"/>
            <a:chExt cx="568440" cy="127080"/>
          </a:xfrm>
        </p:grpSpPr>
        <p:sp>
          <p:nvSpPr>
            <p:cNvPr id="717" name=""/>
            <p:cNvSpPr/>
            <p:nvPr/>
          </p:nvSpPr>
          <p:spPr>
            <a:xfrm>
              <a:off x="6192720" y="5441760"/>
              <a:ext cx="568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 flipV="1">
              <a:off x="6697080" y="5378400"/>
              <a:ext cx="6372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697080" y="5441760"/>
              <a:ext cx="63720" cy="63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8088480" y="4547880"/>
            <a:ext cx="568080" cy="127440"/>
            <a:chOff x="8088480" y="4547880"/>
            <a:chExt cx="568080" cy="127440"/>
          </a:xfrm>
        </p:grpSpPr>
        <p:sp>
          <p:nvSpPr>
            <p:cNvPr id="721" name=""/>
            <p:cNvSpPr/>
            <p:nvPr/>
          </p:nvSpPr>
          <p:spPr>
            <a:xfrm>
              <a:off x="8088480" y="4611960"/>
              <a:ext cx="568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8594280" y="4547880"/>
              <a:ext cx="61560" cy="63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8594280" y="4611960"/>
              <a:ext cx="6156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8088480" y="5122800"/>
            <a:ext cx="568080" cy="128520"/>
            <a:chOff x="8088480" y="5122800"/>
            <a:chExt cx="568080" cy="128520"/>
          </a:xfrm>
        </p:grpSpPr>
        <p:sp>
          <p:nvSpPr>
            <p:cNvPr id="725" name=""/>
            <p:cNvSpPr/>
            <p:nvPr/>
          </p:nvSpPr>
          <p:spPr>
            <a:xfrm>
              <a:off x="8088480" y="5186160"/>
              <a:ext cx="568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8594280" y="5122800"/>
              <a:ext cx="6156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8594280" y="5186160"/>
              <a:ext cx="61560" cy="65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8088480" y="5634000"/>
            <a:ext cx="568080" cy="127080"/>
            <a:chOff x="8088480" y="5634000"/>
            <a:chExt cx="568080" cy="127080"/>
          </a:xfrm>
        </p:grpSpPr>
        <p:sp>
          <p:nvSpPr>
            <p:cNvPr id="729" name=""/>
            <p:cNvSpPr/>
            <p:nvPr/>
          </p:nvSpPr>
          <p:spPr>
            <a:xfrm>
              <a:off x="8088480" y="5697360"/>
              <a:ext cx="568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 flipV="1">
              <a:off x="8594280" y="5634000"/>
              <a:ext cx="6156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8594280" y="5697360"/>
              <a:ext cx="61560" cy="63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5918040" y="4430880"/>
            <a:ext cx="3668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stem"/>
              </a:rPr>
              <a:t>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Syste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13520" y="3973680"/>
            <a:ext cx="1800" cy="318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7013520" y="4229280"/>
            <a:ext cx="63720" cy="63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6950160" y="4229280"/>
            <a:ext cx="63360" cy="63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45320" y="3973680"/>
            <a:ext cx="1800" cy="318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645320" y="4229280"/>
            <a:ext cx="63720" cy="63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7583400" y="4229280"/>
            <a:ext cx="61920" cy="63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012440" y="4932360"/>
            <a:ext cx="76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stem"/>
              </a:rPr>
              <a:t>pro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910120" y="5073480"/>
            <a:ext cx="4194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stem"/>
              </a:rPr>
              <a:t>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Syste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369280" y="4248000"/>
            <a:ext cx="4190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stem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Syste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393040" y="4805280"/>
            <a:ext cx="4618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stem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Syste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362800" y="5348160"/>
            <a:ext cx="4194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stem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Syste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550200" y="3848040"/>
            <a:ext cx="39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723080" y="384192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Book Antiqua"/>
              </a:rPr>
              <a:t>Procesos multivariables (MIM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040" y="2112840"/>
            <a:ext cx="413568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procesos multi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interacción y restri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sus variables, perturb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c.  las llamadas estructura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 no siempre dan buenos resultados y son difíciles de mante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consecuencia, a menudo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dad se regula manu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un oper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267080" y="1371600"/>
            <a:ext cx="4650120" cy="5003280"/>
            <a:chOff x="4267080" y="1371600"/>
            <a:chExt cx="4650120" cy="5003280"/>
          </a:xfrm>
        </p:grpSpPr>
        <p:grpSp>
          <p:nvGrpSpPr>
            <p:cNvPr id="111" name=""/>
            <p:cNvGrpSpPr/>
            <p:nvPr/>
          </p:nvGrpSpPr>
          <p:grpSpPr>
            <a:xfrm>
              <a:off x="4817520" y="5088600"/>
              <a:ext cx="183240" cy="285480"/>
              <a:chOff x="4817520" y="5088600"/>
              <a:chExt cx="183240" cy="285480"/>
            </a:xfrm>
          </p:grpSpPr>
          <p:sp>
            <p:nvSpPr>
              <p:cNvPr id="112" name=""/>
              <p:cNvSpPr/>
              <p:nvPr/>
            </p:nvSpPr>
            <p:spPr>
              <a:xfrm>
                <a:off x="4838760" y="525996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4840920" y="5254920"/>
                <a:ext cx="13644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840920" y="5259960"/>
                <a:ext cx="13644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79520" y="525996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4908960" y="5169600"/>
                <a:ext cx="0" cy="14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817520" y="5088600"/>
                <a:ext cx="183240" cy="8100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5689080" y="2157840"/>
              <a:ext cx="458640" cy="3216240"/>
            </a:xfrm>
            <a:custGeom>
              <a:avLst/>
              <a:gdLst>
                <a:gd name="textAreaLeft" fmla="*/ 22320 w 458640"/>
                <a:gd name="textAreaRight" fmla="*/ 436320 w 458640"/>
                <a:gd name="textAreaTop" fmla="*/ 22320 h 3216240"/>
                <a:gd name="textAreaBottom" fmla="*/ 3193920 h 3216240"/>
              </a:gdLst>
              <a:ahLst/>
              <a:rect l="textAreaLeft" t="textAreaTop" r="textAreaRight" b="textAreaBottom"/>
              <a:pathLst>
                <a:path w="21600" h="151369">
                  <a:moveTo>
                    <a:pt x="3600" y="0"/>
                  </a:moveTo>
                  <a:arcTo wR="3600" hR="3600" stAng="16200000" swAng="-5400000"/>
                  <a:lnTo>
                    <a:pt x="0" y="147769"/>
                  </a:lnTo>
                  <a:arcTo wR="3600" hR="3600" stAng="10800000" swAng="-5400000"/>
                  <a:lnTo>
                    <a:pt x="18000" y="1513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267080" y="3724200"/>
              <a:ext cx="1414440" cy="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5185800" y="5159880"/>
              <a:ext cx="273960" cy="430200"/>
            </a:xfrm>
            <a:prstGeom prst="ellipse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277240" y="5304240"/>
              <a:ext cx="914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77240" y="5375880"/>
              <a:ext cx="914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4977000" y="5302440"/>
              <a:ext cx="391680" cy="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5322240" y="5590080"/>
              <a:ext cx="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000760" y="5445720"/>
              <a:ext cx="36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18760" y="5374440"/>
              <a:ext cx="0" cy="53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689080" y="4945680"/>
              <a:ext cx="32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826600" y="4516560"/>
              <a:ext cx="32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689080" y="4087800"/>
              <a:ext cx="32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826600" y="3659040"/>
              <a:ext cx="32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689080" y="3230280"/>
              <a:ext cx="32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826600" y="2801160"/>
              <a:ext cx="32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22240" y="5731920"/>
              <a:ext cx="59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5873040" y="5874480"/>
              <a:ext cx="183240" cy="285840"/>
              <a:chOff x="5873040" y="5874480"/>
              <a:chExt cx="183240" cy="285840"/>
            </a:xfrm>
          </p:grpSpPr>
          <p:sp>
            <p:nvSpPr>
              <p:cNvPr id="135" name=""/>
              <p:cNvSpPr/>
              <p:nvPr/>
            </p:nvSpPr>
            <p:spPr>
              <a:xfrm flipH="1">
                <a:off x="5875920" y="5907600"/>
                <a:ext cx="7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73040" y="5910840"/>
                <a:ext cx="7632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5875920" y="5910840"/>
                <a:ext cx="7020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5875920" y="6126840"/>
                <a:ext cx="7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910120" y="6017400"/>
                <a:ext cx="9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5887440" y="5991480"/>
                <a:ext cx="285840" cy="5184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5918760" y="6126480"/>
              <a:ext cx="0" cy="24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85600" y="5874480"/>
              <a:ext cx="175680" cy="273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L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85600" y="5159880"/>
              <a:ext cx="175680" cy="27360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148080" y="530280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77400" y="54457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6055920" y="6017760"/>
              <a:ext cx="22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469200" y="601776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97000" y="5170680"/>
              <a:ext cx="446040" cy="51840"/>
            </a:xfrm>
            <a:custGeom>
              <a:avLst/>
              <a:gdLst/>
              <a:ahLst/>
              <a:rect l="l" t="t" r="r" b="b"/>
              <a:pathLst>
                <a:path w="467" h="35">
                  <a:moveTo>
                    <a:pt x="0" y="11"/>
                  </a:moveTo>
                  <a:cubicBezTo>
                    <a:pt x="98" y="0"/>
                    <a:pt x="78" y="8"/>
                    <a:pt x="155" y="35"/>
                  </a:cubicBezTo>
                  <a:cubicBezTo>
                    <a:pt x="187" y="14"/>
                    <a:pt x="195" y="9"/>
                    <a:pt x="233" y="19"/>
                  </a:cubicBezTo>
                  <a:cubicBezTo>
                    <a:pt x="256" y="16"/>
                    <a:pt x="339" y="3"/>
                    <a:pt x="358" y="3"/>
                  </a:cubicBezTo>
                  <a:cubicBezTo>
                    <a:pt x="377" y="3"/>
                    <a:pt x="394" y="17"/>
                    <a:pt x="413" y="19"/>
                  </a:cubicBezTo>
                  <a:cubicBezTo>
                    <a:pt x="431" y="21"/>
                    <a:pt x="449" y="19"/>
                    <a:pt x="467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322240" y="501660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22240" y="5016960"/>
              <a:ext cx="3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50320" y="5302800"/>
              <a:ext cx="388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00760" y="544572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50320" y="4671360"/>
              <a:ext cx="175680" cy="273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16440" y="4659480"/>
              <a:ext cx="175680" cy="273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42120" y="4945680"/>
              <a:ext cx="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33920" y="4802400"/>
              <a:ext cx="183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09320" y="494568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903200" y="4373640"/>
              <a:ext cx="5400" cy="285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154200" y="246168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40760" y="2657880"/>
              <a:ext cx="642240" cy="50040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885720" y="3487680"/>
              <a:ext cx="183600" cy="285120"/>
              <a:chOff x="6885720" y="3487680"/>
              <a:chExt cx="183600" cy="285120"/>
            </a:xfrm>
          </p:grpSpPr>
          <p:sp>
            <p:nvSpPr>
              <p:cNvPr id="162" name=""/>
              <p:cNvSpPr/>
              <p:nvPr/>
            </p:nvSpPr>
            <p:spPr>
              <a:xfrm flipV="1">
                <a:off x="6906960" y="349200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909120" y="3487680"/>
                <a:ext cx="136800" cy="11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909120" y="3492000"/>
                <a:ext cx="13680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7047720" y="349200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977520" y="3545280"/>
                <a:ext cx="0" cy="14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6885720" y="3692160"/>
                <a:ext cx="183600" cy="8064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flipV="1">
              <a:off x="5918760" y="187200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18760" y="1872000"/>
              <a:ext cx="151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32920" y="1514520"/>
              <a:ext cx="451080" cy="64296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707960" y="1371600"/>
              <a:ext cx="275040" cy="35748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07960" y="1729080"/>
              <a:ext cx="0" cy="1425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570440" y="1888560"/>
              <a:ext cx="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7570440" y="1729080"/>
              <a:ext cx="137520" cy="1425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70440" y="1729080"/>
              <a:ext cx="0" cy="15912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914880" y="2131200"/>
              <a:ext cx="280800" cy="326880"/>
              <a:chOff x="6914880" y="2131200"/>
              <a:chExt cx="280800" cy="326880"/>
            </a:xfrm>
          </p:grpSpPr>
          <p:sp>
            <p:nvSpPr>
              <p:cNvPr id="177" name=""/>
              <p:cNvSpPr/>
              <p:nvPr/>
            </p:nvSpPr>
            <p:spPr>
              <a:xfrm>
                <a:off x="7019280" y="2360880"/>
                <a:ext cx="5472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7078320" y="2286720"/>
                <a:ext cx="5832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021080" y="2359800"/>
                <a:ext cx="173160" cy="2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140960" y="2289960"/>
                <a:ext cx="5472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flipV="1">
                <a:off x="7034400" y="2246400"/>
                <a:ext cx="74160" cy="12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9791000">
                <a:off x="6922440" y="2171520"/>
                <a:ext cx="183600" cy="8064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285600" y="2014560"/>
              <a:ext cx="175680" cy="273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07080" y="2014560"/>
              <a:ext cx="175680" cy="273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02000" y="2157840"/>
              <a:ext cx="18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69200" y="215784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90320" y="2157840"/>
              <a:ext cx="22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7157520" y="1871640"/>
              <a:ext cx="412920" cy="4287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62240" y="2157840"/>
              <a:ext cx="0" cy="50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62240" y="3158640"/>
              <a:ext cx="0" cy="35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8396280" y="3301200"/>
              <a:ext cx="183240" cy="285480"/>
              <a:chOff x="8396280" y="3301200"/>
              <a:chExt cx="183240" cy="285480"/>
            </a:xfrm>
          </p:grpSpPr>
          <p:sp>
            <p:nvSpPr>
              <p:cNvPr id="192" name=""/>
              <p:cNvSpPr/>
              <p:nvPr/>
            </p:nvSpPr>
            <p:spPr>
              <a:xfrm>
                <a:off x="8417520" y="347256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8419680" y="3467520"/>
                <a:ext cx="13644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419680" y="3472560"/>
                <a:ext cx="13644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558280" y="347256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8487720" y="3382200"/>
                <a:ext cx="0" cy="14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396280" y="3301200"/>
                <a:ext cx="183240" cy="8100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8075160" y="2872440"/>
              <a:ext cx="175680" cy="273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96280" y="2872440"/>
              <a:ext cx="175680" cy="273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L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579880" y="3515760"/>
              <a:ext cx="22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69320" y="3535560"/>
              <a:ext cx="1347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83360" y="301572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58760" y="301572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88080" y="315864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488080" y="2657880"/>
              <a:ext cx="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516880" y="3714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50480" y="2874240"/>
              <a:ext cx="624960" cy="69840"/>
            </a:xfrm>
            <a:custGeom>
              <a:avLst/>
              <a:gdLst/>
              <a:ahLst/>
              <a:rect l="l" t="t" r="r" b="b"/>
              <a:pathLst>
                <a:path w="654" h="47">
                  <a:moveTo>
                    <a:pt x="0" y="10"/>
                  </a:moveTo>
                  <a:cubicBezTo>
                    <a:pt x="52" y="28"/>
                    <a:pt x="118" y="10"/>
                    <a:pt x="179" y="18"/>
                  </a:cubicBezTo>
                  <a:cubicBezTo>
                    <a:pt x="238" y="39"/>
                    <a:pt x="169" y="18"/>
                    <a:pt x="296" y="18"/>
                  </a:cubicBezTo>
                  <a:cubicBezTo>
                    <a:pt x="332" y="18"/>
                    <a:pt x="369" y="23"/>
                    <a:pt x="405" y="26"/>
                  </a:cubicBezTo>
                  <a:cubicBezTo>
                    <a:pt x="474" y="47"/>
                    <a:pt x="521" y="7"/>
                    <a:pt x="584" y="2"/>
                  </a:cubicBezTo>
                  <a:cubicBezTo>
                    <a:pt x="607" y="0"/>
                    <a:pt x="631" y="2"/>
                    <a:pt x="654" y="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882120" y="2443680"/>
              <a:ext cx="137520" cy="14292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68560" y="2473560"/>
              <a:ext cx="0" cy="107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6567480" y="355032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90760" y="3911760"/>
              <a:ext cx="175680" cy="273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41760" y="3935880"/>
              <a:ext cx="175680" cy="273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27800" y="3539880"/>
              <a:ext cx="0" cy="39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059960" y="4060800"/>
              <a:ext cx="178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969960" y="3759840"/>
              <a:ext cx="7560" cy="15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44840" y="3197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57520" y="5082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24640" y="2904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79480" y="4618080"/>
              <a:ext cx="175680" cy="273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78400" y="4223160"/>
              <a:ext cx="175680" cy="273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555520" y="478008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467320" y="449136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4906800" y="43750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65520" y="3968640"/>
              <a:ext cx="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43480" y="2552400"/>
              <a:ext cx="175680" cy="27396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43480" y="3922560"/>
              <a:ext cx="175680" cy="27396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150960" y="2692440"/>
              <a:ext cx="9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29520" y="2831040"/>
              <a:ext cx="0" cy="110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23480" y="408780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698520" y="230076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331680" y="4172400"/>
              <a:ext cx="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04600" y="3873600"/>
              <a:ext cx="175680" cy="273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17520" y="3873600"/>
              <a:ext cx="175680" cy="273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496400" y="37299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87840" y="4016160"/>
              <a:ext cx="22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63240" y="4302360"/>
              <a:ext cx="91800" cy="142560"/>
            </a:xfrm>
            <a:prstGeom prst="flowChar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09320" y="415908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530280" y="2174760"/>
                <a:ext cx="81770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lim>
                    </m:limLow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N</m:t>
                            </m:r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/>
                            </m:nary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u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Δu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47" name=""/>
          <p:cNvSpPr/>
          <p:nvPr/>
        </p:nvSpPr>
        <p:spPr>
          <a:xfrm>
            <a:off x="393120" y="3209760"/>
            <a:ext cx="1258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1120" y="4056120"/>
            <a:ext cx="266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t+j)&lt; 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01120" y="4456080"/>
            <a:ext cx="24778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t+j)&lt; U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t+j)&lt; 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811160" y="5516640"/>
            <a:ext cx="4984920" cy="82044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oblema de control se resue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ante Programación Cuadr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84240" y="617400"/>
            <a:ext cx="705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MPC Multi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1968480" y="3241800"/>
                <a:ext cx="552132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s</m:t>
                            </m:r>
                          </m:sub>
                        </m:sSub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Book Antiqua"/>
              </a:rPr>
              <a:t>MPC Multi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6840" y="2112840"/>
            <a:ext cx="391356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MPC multivariable tiene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enta la interacción entr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s, sus restri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perturbaciones, etc. 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mite realizar u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ficiente de forma automáti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briendo las puertas a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timización de su pu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818240" y="5087880"/>
            <a:ext cx="182520" cy="286920"/>
            <a:chOff x="4818240" y="5087880"/>
            <a:chExt cx="182520" cy="286920"/>
          </a:xfrm>
        </p:grpSpPr>
        <p:sp>
          <p:nvSpPr>
            <p:cNvPr id="241" name=""/>
            <p:cNvSpPr/>
            <p:nvPr/>
          </p:nvSpPr>
          <p:spPr>
            <a:xfrm>
              <a:off x="4839480" y="526032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4841280" y="5255280"/>
              <a:ext cx="13572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41280" y="5260320"/>
              <a:ext cx="13572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79520" y="526032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909320" y="516924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18240" y="5087880"/>
              <a:ext cx="182520" cy="8136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5689440" y="2157480"/>
            <a:ext cx="459000" cy="3217680"/>
          </a:xfrm>
          <a:custGeom>
            <a:avLst/>
            <a:gdLst>
              <a:gd name="textAreaLeft" fmla="*/ 22320 w 459000"/>
              <a:gd name="textAreaRight" fmla="*/ 436680 w 459000"/>
              <a:gd name="textAreaTop" fmla="*/ 22320 h 3217680"/>
              <a:gd name="textAreaBottom" fmla="*/ 3195360 h 3217680"/>
            </a:gdLst>
            <a:ahLst/>
            <a:rect l="textAreaLeft" t="textAreaTop" r="textAreaRight" b="textAreaBottom"/>
            <a:pathLst>
              <a:path w="21600" h="151318">
                <a:moveTo>
                  <a:pt x="3600" y="0"/>
                </a:moveTo>
                <a:arcTo wR="3600" hR="3600" stAng="16200000" swAng="-5400000"/>
                <a:lnTo>
                  <a:pt x="0" y="147718"/>
                </a:lnTo>
                <a:arcTo wR="3600" hR="3600" stAng="10800000" swAng="-5400000"/>
                <a:lnTo>
                  <a:pt x="18000" y="1513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267080" y="3724200"/>
            <a:ext cx="1414440" cy="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186520" y="5160960"/>
            <a:ext cx="274320" cy="43020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276880" y="5305320"/>
            <a:ext cx="9216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76880" y="5376960"/>
            <a:ext cx="9216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4976640" y="5303880"/>
            <a:ext cx="3924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322960" y="55908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000400" y="544680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18040" y="5375160"/>
            <a:ext cx="0" cy="5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689080" y="49449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827320" y="45165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689080" y="408780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827320" y="36590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689080" y="32306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827320" y="28018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22960" y="5732640"/>
            <a:ext cx="595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873760" y="5875200"/>
            <a:ext cx="182160" cy="285840"/>
            <a:chOff x="5873760" y="5875200"/>
            <a:chExt cx="182160" cy="285840"/>
          </a:xfrm>
        </p:grpSpPr>
        <p:sp>
          <p:nvSpPr>
            <p:cNvPr id="264" name=""/>
            <p:cNvSpPr/>
            <p:nvPr/>
          </p:nvSpPr>
          <p:spPr>
            <a:xfrm flipH="1">
              <a:off x="5876640" y="5908320"/>
              <a:ext cx="6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73760" y="591156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876640" y="5911560"/>
              <a:ext cx="6984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876640" y="6127560"/>
              <a:ext cx="6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910120" y="6018120"/>
              <a:ext cx="9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5887080" y="5992200"/>
              <a:ext cx="285840" cy="5148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5918040" y="6126120"/>
            <a:ext cx="0" cy="249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86680" y="5875200"/>
            <a:ext cx="174600" cy="2732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86680" y="5160960"/>
            <a:ext cx="174600" cy="2728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148440" y="5303880"/>
            <a:ext cx="13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77040" y="5446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056280" y="6018120"/>
            <a:ext cx="23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6468840" y="6018120"/>
            <a:ext cx="13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97360" y="5170320"/>
            <a:ext cx="446400" cy="52560"/>
          </a:xfrm>
          <a:custGeom>
            <a:avLst/>
            <a:gdLst/>
            <a:ahLst/>
            <a:rect l="l" t="t" r="r" b="b"/>
            <a:pathLst>
              <a:path w="467" h="35">
                <a:moveTo>
                  <a:pt x="0" y="11"/>
                </a:moveTo>
                <a:cubicBezTo>
                  <a:pt x="98" y="0"/>
                  <a:pt x="78" y="8"/>
                  <a:pt x="155" y="35"/>
                </a:cubicBezTo>
                <a:cubicBezTo>
                  <a:pt x="187" y="14"/>
                  <a:pt x="195" y="9"/>
                  <a:pt x="233" y="19"/>
                </a:cubicBezTo>
                <a:cubicBezTo>
                  <a:pt x="256" y="16"/>
                  <a:pt x="339" y="3"/>
                  <a:pt x="358" y="3"/>
                </a:cubicBezTo>
                <a:cubicBezTo>
                  <a:pt x="377" y="3"/>
                  <a:pt x="394" y="17"/>
                  <a:pt x="413" y="19"/>
                </a:cubicBezTo>
                <a:cubicBezTo>
                  <a:pt x="431" y="21"/>
                  <a:pt x="449" y="19"/>
                  <a:pt x="467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22960" y="50162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22960" y="5016600"/>
            <a:ext cx="366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51400" y="5303880"/>
            <a:ext cx="387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00760" y="54468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51400" y="4672080"/>
            <a:ext cx="174600" cy="272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16440" y="4659480"/>
            <a:ext cx="176400" cy="274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541760" y="49446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33920" y="4802040"/>
            <a:ext cx="184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10040" y="49449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00680" y="4416480"/>
            <a:ext cx="3240" cy="24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154200" y="246204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40760" y="2658960"/>
            <a:ext cx="642600" cy="50004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886440" y="3488040"/>
            <a:ext cx="182520" cy="285480"/>
            <a:chOff x="6886440" y="3488040"/>
            <a:chExt cx="182520" cy="285480"/>
          </a:xfrm>
        </p:grpSpPr>
        <p:sp>
          <p:nvSpPr>
            <p:cNvPr id="291" name=""/>
            <p:cNvSpPr/>
            <p:nvPr/>
          </p:nvSpPr>
          <p:spPr>
            <a:xfrm flipV="1">
              <a:off x="6907680" y="349272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09480" y="3488040"/>
              <a:ext cx="13572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909480" y="3492720"/>
              <a:ext cx="13572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7047720" y="349272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77520" y="3544920"/>
              <a:ext cx="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6886440" y="3692160"/>
              <a:ext cx="182520" cy="8100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 flipV="1">
            <a:off x="5918040" y="187164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18040" y="1871640"/>
            <a:ext cx="1514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32560" y="1514520"/>
            <a:ext cx="451080" cy="6429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709040" y="1371600"/>
            <a:ext cx="274320" cy="35712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09040" y="1728720"/>
            <a:ext cx="0" cy="14292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70800" y="1889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7570800" y="1728360"/>
            <a:ext cx="138240" cy="14292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70800" y="1728720"/>
            <a:ext cx="0" cy="16056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914520" y="2130480"/>
            <a:ext cx="281520" cy="327600"/>
            <a:chOff x="6914520" y="2130480"/>
            <a:chExt cx="281520" cy="327600"/>
          </a:xfrm>
        </p:grpSpPr>
        <p:sp>
          <p:nvSpPr>
            <p:cNvPr id="306" name=""/>
            <p:cNvSpPr/>
            <p:nvPr/>
          </p:nvSpPr>
          <p:spPr>
            <a:xfrm>
              <a:off x="7018920" y="2360520"/>
              <a:ext cx="5508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078320" y="2286360"/>
              <a:ext cx="58320" cy="1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20720" y="2359440"/>
              <a:ext cx="173520" cy="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40960" y="2289600"/>
              <a:ext cx="5508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7034760" y="2246760"/>
              <a:ext cx="74160" cy="12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9791000">
              <a:off x="6922080" y="2171160"/>
              <a:ext cx="183960" cy="8100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6286680" y="2014560"/>
            <a:ext cx="174600" cy="2746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07080" y="2014560"/>
            <a:ext cx="176400" cy="2746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02360" y="2157480"/>
            <a:ext cx="18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69200" y="2157480"/>
            <a:ext cx="137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91400" y="2157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7157880" y="1871280"/>
            <a:ext cx="412920" cy="42876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62960" y="2157480"/>
            <a:ext cx="0" cy="50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62960" y="3159000"/>
            <a:ext cx="0" cy="3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8396280" y="3301920"/>
            <a:ext cx="184320" cy="285480"/>
            <a:chOff x="8396280" y="3301920"/>
            <a:chExt cx="184320" cy="285480"/>
          </a:xfrm>
        </p:grpSpPr>
        <p:sp>
          <p:nvSpPr>
            <p:cNvPr id="321" name=""/>
            <p:cNvSpPr/>
            <p:nvPr/>
          </p:nvSpPr>
          <p:spPr>
            <a:xfrm>
              <a:off x="8417520" y="347328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8419680" y="3468240"/>
              <a:ext cx="13716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419680" y="3473280"/>
              <a:ext cx="13716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559000" y="347328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8488440" y="3382920"/>
              <a:ext cx="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96280" y="3301920"/>
              <a:ext cx="184320" cy="8100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8075520" y="2873520"/>
            <a:ext cx="176400" cy="2728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96280" y="2873520"/>
            <a:ext cx="176400" cy="2728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80600" y="3516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68960" y="3535200"/>
            <a:ext cx="1347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983360" y="3016080"/>
            <a:ext cx="9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58040" y="3016080"/>
            <a:ext cx="138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488440" y="3159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88440" y="26589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17600" y="3715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50120" y="2874960"/>
            <a:ext cx="625320" cy="69840"/>
          </a:xfrm>
          <a:custGeom>
            <a:avLst/>
            <a:gdLst/>
            <a:ahLst/>
            <a:rect l="l" t="t" r="r" b="b"/>
            <a:pathLst>
              <a:path w="654" h="47">
                <a:moveTo>
                  <a:pt x="0" y="10"/>
                </a:moveTo>
                <a:cubicBezTo>
                  <a:pt x="52" y="28"/>
                  <a:pt x="118" y="10"/>
                  <a:pt x="179" y="18"/>
                </a:cubicBezTo>
                <a:cubicBezTo>
                  <a:pt x="238" y="39"/>
                  <a:pt x="169" y="18"/>
                  <a:pt x="296" y="18"/>
                </a:cubicBezTo>
                <a:cubicBezTo>
                  <a:pt x="332" y="18"/>
                  <a:pt x="369" y="23"/>
                  <a:pt x="405" y="26"/>
                </a:cubicBezTo>
                <a:cubicBezTo>
                  <a:pt x="474" y="47"/>
                  <a:pt x="521" y="7"/>
                  <a:pt x="584" y="2"/>
                </a:cubicBezTo>
                <a:cubicBezTo>
                  <a:pt x="607" y="0"/>
                  <a:pt x="631" y="2"/>
                  <a:pt x="654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6881760" y="2443320"/>
            <a:ext cx="138240" cy="142560"/>
          </a:xfrm>
          <a:prstGeom prst="line">
            <a:avLst/>
          </a:prstGeom>
          <a:ln w="2844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68920" y="2473200"/>
            <a:ext cx="0" cy="107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567120" y="354960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91480" y="3911760"/>
            <a:ext cx="176040" cy="274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42120" y="3935520"/>
            <a:ext cx="176400" cy="274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327800" y="35402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059600" y="406080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6970680" y="3760920"/>
            <a:ext cx="7920" cy="14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45560" y="3197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58240" y="5083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25000" y="2904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4883040"/>
            <a:ext cx="176040" cy="27468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576480" y="5045040"/>
            <a:ext cx="716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917600" y="4417920"/>
            <a:ext cx="2691000" cy="9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43480" y="2552760"/>
            <a:ext cx="176400" cy="27468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151320" y="2692440"/>
            <a:ext cx="9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324480" y="2819520"/>
            <a:ext cx="0" cy="1858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6699240" y="23000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05320" y="3873600"/>
            <a:ext cx="174600" cy="274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497480" y="37303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87840" y="4016520"/>
            <a:ext cx="1633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315200" y="4572000"/>
            <a:ext cx="106668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315120" y="4667400"/>
            <a:ext cx="9777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156360" y="502920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8186760" y="4307040"/>
            <a:ext cx="0" cy="2649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985080" y="4307040"/>
            <a:ext cx="12016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6975360" y="4199040"/>
            <a:ext cx="0" cy="108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7612200" y="4422600"/>
            <a:ext cx="1440" cy="138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8378640" y="4699080"/>
            <a:ext cx="37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367480" y="498636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08560" y="401940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08560" y="4848120"/>
            <a:ext cx="1086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984240" y="624852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35320" y="6248520"/>
            <a:ext cx="267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84240" y="228600"/>
            <a:ext cx="71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Book Antiqua"/>
              </a:rPr>
              <a:t>Rea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81480" y="4654440"/>
            <a:ext cx="1817640" cy="113040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71960" y="4807080"/>
            <a:ext cx="198360" cy="9777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10280" y="4807080"/>
            <a:ext cx="199800" cy="9777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52680" y="5257800"/>
            <a:ext cx="69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51080" y="5187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257560" y="5175360"/>
            <a:ext cx="19836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57560" y="5187960"/>
            <a:ext cx="19836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62040" y="5187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355840" y="503352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24080" y="4933800"/>
            <a:ext cx="262080" cy="795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67080" y="5257800"/>
            <a:ext cx="691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070600" y="3943440"/>
            <a:ext cx="1605960" cy="406080"/>
            <a:chOff x="5070600" y="3943440"/>
            <a:chExt cx="1605960" cy="406080"/>
          </a:xfrm>
        </p:grpSpPr>
        <p:sp>
          <p:nvSpPr>
            <p:cNvPr id="384" name=""/>
            <p:cNvSpPr/>
            <p:nvPr/>
          </p:nvSpPr>
          <p:spPr>
            <a:xfrm>
              <a:off x="5070600" y="4267080"/>
              <a:ext cx="69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67920" y="419724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5773680" y="4184280"/>
              <a:ext cx="199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73680" y="4197240"/>
              <a:ext cx="199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79240" y="419724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873400" y="4043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41640" y="3943440"/>
              <a:ext cx="262440" cy="7920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84640" y="4267080"/>
              <a:ext cx="69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064120" y="4273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90840" y="5797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93800" y="4807080"/>
            <a:ext cx="27000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28800" y="5111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07280" y="3816360"/>
            <a:ext cx="26964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541920" y="41212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7560" y="4349880"/>
            <a:ext cx="26820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828800" y="448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35280" y="4495680"/>
            <a:ext cx="40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90760" y="4654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90760" y="30481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97360" y="3429000"/>
            <a:ext cx="27000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38840" y="3740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3581280"/>
            <a:ext cx="55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419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38840" y="3054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22600" y="4121280"/>
            <a:ext cx="27000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67160" y="4121280"/>
            <a:ext cx="27000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57600" y="4425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02160" y="4425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657600" y="32004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502160" y="32004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2390400" y="3048120"/>
            <a:ext cx="11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3048120"/>
            <a:ext cx="125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657600" y="2438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02160" y="2438280"/>
            <a:ext cx="0" cy="451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55320" y="5389560"/>
            <a:ext cx="1583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rige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18720" y="5867280"/>
            <a:ext cx="132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244840" y="257184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362680" y="249552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16480" y="2895480"/>
            <a:ext cx="269640" cy="29232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361040" y="2895480"/>
            <a:ext cx="269640" cy="29232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16560" y="5029200"/>
            <a:ext cx="28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81040" y="39736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teria pr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132000" y="1905120"/>
            <a:ext cx="509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59760" y="1886040"/>
            <a:ext cx="489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984240" y="624852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35320" y="6248520"/>
            <a:ext cx="267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84240" y="228600"/>
            <a:ext cx="71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Book Antiqua"/>
              </a:rPr>
              <a:t>MPC multi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81480" y="4654440"/>
            <a:ext cx="1817640" cy="113040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171960" y="4807080"/>
            <a:ext cx="198360" cy="9777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210280" y="4807080"/>
            <a:ext cx="199800" cy="9777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52680" y="5257800"/>
            <a:ext cx="69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51080" y="5187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2257560" y="5175360"/>
            <a:ext cx="19836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57560" y="5187960"/>
            <a:ext cx="19836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62040" y="5187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355840" y="503352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24080" y="4933800"/>
            <a:ext cx="262080" cy="795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67080" y="5257800"/>
            <a:ext cx="691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5070600" y="3943440"/>
            <a:ext cx="1605960" cy="406080"/>
            <a:chOff x="5070600" y="3943440"/>
            <a:chExt cx="1605960" cy="406080"/>
          </a:xfrm>
        </p:grpSpPr>
        <p:sp>
          <p:nvSpPr>
            <p:cNvPr id="443" name=""/>
            <p:cNvSpPr/>
            <p:nvPr/>
          </p:nvSpPr>
          <p:spPr>
            <a:xfrm>
              <a:off x="5070600" y="4267080"/>
              <a:ext cx="69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67920" y="419724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5773680" y="4184280"/>
              <a:ext cx="199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73680" y="4197240"/>
              <a:ext cx="1990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79240" y="419724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5873400" y="4043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741640" y="3943440"/>
              <a:ext cx="262440" cy="7920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984640" y="4267080"/>
              <a:ext cx="69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064120" y="4273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290840" y="5797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93800" y="4807080"/>
            <a:ext cx="27000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828800" y="5111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07280" y="3816360"/>
            <a:ext cx="26964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541920" y="41212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57560" y="4349880"/>
            <a:ext cx="26820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828800" y="448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4495680"/>
            <a:ext cx="40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390760" y="4654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390760" y="313056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703840" y="3435480"/>
            <a:ext cx="26820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38840" y="3740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85000" y="3581280"/>
            <a:ext cx="55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5419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38840" y="3054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22600" y="4121280"/>
            <a:ext cx="27000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367160" y="4121280"/>
            <a:ext cx="27000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4425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02160" y="4425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00320" y="2673360"/>
            <a:ext cx="1887480" cy="82548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B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3657600" y="349848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4502160" y="349848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386080" y="3124080"/>
            <a:ext cx="71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00760" y="3048120"/>
            <a:ext cx="83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22161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30880" y="22161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32000" y="1905120"/>
            <a:ext cx="509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59760" y="1886040"/>
            <a:ext cx="489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55320" y="5389560"/>
            <a:ext cx="1583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rige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93960" y="5943600"/>
            <a:ext cx="120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44840" y="257184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362680" y="249552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903360" y="41259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MPC Multivari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005360" y="3557520"/>
            <a:ext cx="1536480" cy="397080"/>
            <a:chOff x="4005360" y="3557520"/>
            <a:chExt cx="1536480" cy="397080"/>
          </a:xfrm>
        </p:grpSpPr>
        <p:sp>
          <p:nvSpPr>
            <p:cNvPr id="487" name=""/>
            <p:cNvSpPr/>
            <p:nvPr/>
          </p:nvSpPr>
          <p:spPr>
            <a:xfrm flipH="1">
              <a:off x="4005360" y="3557520"/>
              <a:ext cx="1536480" cy="0"/>
            </a:xfrm>
            <a:prstGeom prst="line">
              <a:avLst/>
            </a:prstGeom>
            <a:ln w="12600">
              <a:solidFill>
                <a:srgbClr val="ff500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4005360" y="3687840"/>
              <a:ext cx="1536480" cy="0"/>
            </a:xfrm>
            <a:prstGeom prst="line">
              <a:avLst/>
            </a:prstGeom>
            <a:ln w="12600">
              <a:solidFill>
                <a:srgbClr val="ff500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4005360" y="3822840"/>
              <a:ext cx="1536480" cy="0"/>
            </a:xfrm>
            <a:prstGeom prst="line">
              <a:avLst/>
            </a:prstGeom>
            <a:ln w="12600">
              <a:solidFill>
                <a:srgbClr val="ff500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4005360" y="3954600"/>
              <a:ext cx="1536480" cy="0"/>
            </a:xfrm>
            <a:prstGeom prst="line">
              <a:avLst/>
            </a:prstGeom>
            <a:ln w="12600">
              <a:solidFill>
                <a:srgbClr val="ff500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7025760" y="3568680"/>
            <a:ext cx="1132200" cy="398520"/>
            <a:chOff x="7025760" y="3568680"/>
            <a:chExt cx="1132200" cy="398520"/>
          </a:xfrm>
        </p:grpSpPr>
        <p:sp>
          <p:nvSpPr>
            <p:cNvPr id="492" name=""/>
            <p:cNvSpPr/>
            <p:nvPr/>
          </p:nvSpPr>
          <p:spPr>
            <a:xfrm flipH="1">
              <a:off x="7025760" y="3568680"/>
              <a:ext cx="1132200" cy="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7030800" y="3699000"/>
              <a:ext cx="1127160" cy="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030800" y="3835440"/>
              <a:ext cx="1127160" cy="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025760" y="3967200"/>
              <a:ext cx="1132200" cy="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024360" y="4321080"/>
            <a:ext cx="0" cy="885960"/>
          </a:xfrm>
          <a:prstGeom prst="line">
            <a:avLst/>
          </a:prstGeom>
          <a:ln w="12600">
            <a:solidFill>
              <a:srgbClr val="00e4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51080" y="4321080"/>
            <a:ext cx="0" cy="768600"/>
          </a:xfrm>
          <a:prstGeom prst="line">
            <a:avLst/>
          </a:prstGeom>
          <a:ln w="12600">
            <a:solidFill>
              <a:srgbClr val="00e4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86080" y="4321080"/>
            <a:ext cx="0" cy="608040"/>
          </a:xfrm>
          <a:prstGeom prst="line">
            <a:avLst/>
          </a:prstGeom>
          <a:ln w="12600">
            <a:solidFill>
              <a:srgbClr val="00e4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36920" y="4321080"/>
            <a:ext cx="11160" cy="473040"/>
          </a:xfrm>
          <a:prstGeom prst="line">
            <a:avLst/>
          </a:prstGeom>
          <a:ln w="12600">
            <a:solidFill>
              <a:srgbClr val="00e4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506680" y="3219480"/>
            <a:ext cx="1627200" cy="1060560"/>
            <a:chOff x="2506680" y="3219480"/>
            <a:chExt cx="1627200" cy="1060560"/>
          </a:xfrm>
        </p:grpSpPr>
        <p:sp>
          <p:nvSpPr>
            <p:cNvPr id="501" name=""/>
            <p:cNvSpPr/>
            <p:nvPr/>
          </p:nvSpPr>
          <p:spPr>
            <a:xfrm>
              <a:off x="2506680" y="3219480"/>
              <a:ext cx="1606680" cy="10605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93800" y="3592440"/>
              <a:ext cx="1540080" cy="36324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ntrol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5537160" y="3243240"/>
            <a:ext cx="1498680" cy="1062000"/>
            <a:chOff x="5537160" y="3243240"/>
            <a:chExt cx="1498680" cy="1062000"/>
          </a:xfrm>
        </p:grpSpPr>
        <p:sp>
          <p:nvSpPr>
            <p:cNvPr id="504" name=""/>
            <p:cNvSpPr/>
            <p:nvPr/>
          </p:nvSpPr>
          <p:spPr>
            <a:xfrm>
              <a:off x="5537160" y="3243240"/>
              <a:ext cx="1498680" cy="10620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40280" y="3592440"/>
              <a:ext cx="1025640" cy="3632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ce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 flipV="1">
            <a:off x="3375000" y="2693880"/>
            <a:ext cx="0" cy="517680"/>
          </a:xfrm>
          <a:prstGeom prst="line">
            <a:avLst/>
          </a:prstGeom>
          <a:ln w="12600">
            <a:solidFill>
              <a:srgbClr val="ffcf0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294000" y="2619000"/>
            <a:ext cx="0" cy="592200"/>
          </a:xfrm>
          <a:prstGeom prst="line">
            <a:avLst/>
          </a:prstGeom>
          <a:ln w="12600">
            <a:solidFill>
              <a:srgbClr val="ffcf0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6419880" y="2247480"/>
            <a:ext cx="0" cy="996840"/>
          </a:xfrm>
          <a:prstGeom prst="line">
            <a:avLst/>
          </a:prstGeom>
          <a:ln w="12600">
            <a:solidFill>
              <a:srgbClr val="ffcf0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332400" y="2252520"/>
            <a:ext cx="0" cy="992160"/>
          </a:xfrm>
          <a:prstGeom prst="line">
            <a:avLst/>
          </a:prstGeom>
          <a:ln w="12600">
            <a:solidFill>
              <a:srgbClr val="ffcf0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6242040" y="2252520"/>
            <a:ext cx="0" cy="992160"/>
          </a:xfrm>
          <a:prstGeom prst="line">
            <a:avLst/>
          </a:prstGeom>
          <a:ln w="12600">
            <a:solidFill>
              <a:srgbClr val="ffcf0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6151680" y="2247480"/>
            <a:ext cx="0" cy="996840"/>
          </a:xfrm>
          <a:prstGeom prst="line">
            <a:avLst/>
          </a:prstGeom>
          <a:ln w="12600">
            <a:solidFill>
              <a:srgbClr val="ffcf0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381480" y="2698920"/>
            <a:ext cx="3031920" cy="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94000" y="2619360"/>
            <a:ext cx="3027600" cy="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02360" y="1889280"/>
            <a:ext cx="1711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f01"/>
                </a:solidFill>
                <a:latin typeface="Times New Roman"/>
              </a:rPr>
              <a:t>Perturb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076640" y="3152880"/>
            <a:ext cx="114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Cont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205760" y="3024360"/>
            <a:ext cx="88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e4a8"/>
                </a:solidFill>
                <a:latin typeface="Times New Roman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27560" y="4805280"/>
            <a:ext cx="3876480" cy="0"/>
          </a:xfrm>
          <a:prstGeom prst="line">
            <a:avLst/>
          </a:prstGeom>
          <a:ln w="1260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87880" y="4948200"/>
            <a:ext cx="4127400" cy="0"/>
          </a:xfrm>
          <a:prstGeom prst="line">
            <a:avLst/>
          </a:prstGeom>
          <a:ln w="1260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157560" y="5095800"/>
            <a:ext cx="4381560" cy="0"/>
          </a:xfrm>
          <a:prstGeom prst="line">
            <a:avLst/>
          </a:prstGeom>
          <a:ln w="1260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24360" y="5219640"/>
            <a:ext cx="4638600" cy="0"/>
          </a:xfrm>
          <a:prstGeom prst="line">
            <a:avLst/>
          </a:prstGeom>
          <a:ln w="1260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7299360" y="3564000"/>
            <a:ext cx="0" cy="1247760"/>
          </a:xfrm>
          <a:prstGeom prst="line">
            <a:avLst/>
          </a:prstGeom>
          <a:ln w="1260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7421400" y="3693960"/>
            <a:ext cx="0" cy="1247760"/>
          </a:xfrm>
          <a:prstGeom prst="line">
            <a:avLst/>
          </a:prstGeom>
          <a:ln w="1260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7545240" y="3848040"/>
            <a:ext cx="0" cy="1247760"/>
          </a:xfrm>
          <a:prstGeom prst="line">
            <a:avLst/>
          </a:prstGeom>
          <a:ln w="1260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7662960" y="3973320"/>
            <a:ext cx="0" cy="1245960"/>
          </a:xfrm>
          <a:prstGeom prst="line">
            <a:avLst/>
          </a:prstGeom>
          <a:ln w="1260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787040" y="3544920"/>
            <a:ext cx="714960" cy="396720"/>
            <a:chOff x="1787040" y="3544920"/>
            <a:chExt cx="714960" cy="396720"/>
          </a:xfrm>
        </p:grpSpPr>
        <p:sp>
          <p:nvSpPr>
            <p:cNvPr id="526" name=""/>
            <p:cNvSpPr/>
            <p:nvPr/>
          </p:nvSpPr>
          <p:spPr>
            <a:xfrm flipH="1">
              <a:off x="1787040" y="3544920"/>
              <a:ext cx="71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1790640" y="367344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1790640" y="380988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1787040" y="3941640"/>
              <a:ext cx="71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422280" y="3554280"/>
            <a:ext cx="1206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t-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 Multivari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"/>
          <p:cNvSpPr/>
          <p:nvPr/>
        </p:nvSpPr>
        <p:spPr>
          <a:xfrm>
            <a:off x="2597040" y="2749680"/>
            <a:ext cx="3568680" cy="23493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64080" y="3054240"/>
            <a:ext cx="8254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664080" y="3968640"/>
            <a:ext cx="8254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264280" y="3130560"/>
            <a:ext cx="36828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06680" y="3352680"/>
            <a:ext cx="2044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6680" y="4267080"/>
            <a:ext cx="2044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02160" y="33526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02160" y="426708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86400" y="349884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64516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39880" y="3125880"/>
            <a:ext cx="682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9880" y="4040280"/>
            <a:ext cx="682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92960" y="3125880"/>
            <a:ext cx="682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392960" y="4116240"/>
            <a:ext cx="682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50080" y="4419720"/>
            <a:ext cx="1130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08800" y="3110040"/>
            <a:ext cx="63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732480" y="3948120"/>
            <a:ext cx="63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43040" y="3110040"/>
            <a:ext cx="35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127160" y="5622840"/>
            <a:ext cx="160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97280" y="5716440"/>
            <a:ext cx="5178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 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 Multivari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297000" y="4683240"/>
                <a:ext cx="49194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82680" y="2128680"/>
                <a:ext cx="5045040" cy="14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57" name=""/>
          <p:cNvGraphicFramePr/>
          <p:nvPr/>
        </p:nvGraphicFramePr>
        <p:xfrm>
          <a:off x="4933800" y="3133800"/>
          <a:ext cx="3832200" cy="14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3800" y="3133800"/>
                    <a:ext cx="383220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6186600" y="5259240"/>
                <a:ext cx="21193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u</m:t>
                    </m:r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atriz Dinám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2247840" y="278748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025720" y="361944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47840" y="3038400"/>
            <a:ext cx="1144800" cy="582840"/>
          </a:xfrm>
          <a:custGeom>
            <a:avLst/>
            <a:gdLst/>
            <a:ahLst/>
            <a:rect l="l" t="t" r="r" b="b"/>
            <a:pathLst>
              <a:path w="721" h="367">
                <a:moveTo>
                  <a:pt x="0" y="366"/>
                </a:moveTo>
                <a:lnTo>
                  <a:pt x="47" y="351"/>
                </a:lnTo>
                <a:lnTo>
                  <a:pt x="105" y="351"/>
                </a:lnTo>
                <a:lnTo>
                  <a:pt x="135" y="293"/>
                </a:lnTo>
                <a:lnTo>
                  <a:pt x="193" y="264"/>
                </a:lnTo>
                <a:lnTo>
                  <a:pt x="222" y="205"/>
                </a:lnTo>
                <a:lnTo>
                  <a:pt x="281" y="146"/>
                </a:lnTo>
                <a:lnTo>
                  <a:pt x="310" y="88"/>
                </a:lnTo>
                <a:lnTo>
                  <a:pt x="369" y="29"/>
                </a:lnTo>
                <a:lnTo>
                  <a:pt x="427" y="29"/>
                </a:lnTo>
                <a:lnTo>
                  <a:pt x="486" y="0"/>
                </a:lnTo>
                <a:lnTo>
                  <a:pt x="544" y="0"/>
                </a:lnTo>
                <a:lnTo>
                  <a:pt x="603" y="0"/>
                </a:lnTo>
                <a:lnTo>
                  <a:pt x="661" y="0"/>
                </a:ln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23440" y="360504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09760" y="26146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667560" y="2847960"/>
            <a:ext cx="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445080" y="3679920"/>
            <a:ext cx="151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667560" y="3314880"/>
            <a:ext cx="1220760" cy="366480"/>
          </a:xfrm>
          <a:custGeom>
            <a:avLst/>
            <a:gdLst/>
            <a:ahLst/>
            <a:rect l="l" t="t" r="r" b="b"/>
            <a:pathLst>
              <a:path w="769" h="231">
                <a:moveTo>
                  <a:pt x="0" y="230"/>
                </a:moveTo>
                <a:lnTo>
                  <a:pt x="50" y="221"/>
                </a:lnTo>
                <a:lnTo>
                  <a:pt x="112" y="221"/>
                </a:lnTo>
                <a:lnTo>
                  <a:pt x="144" y="184"/>
                </a:lnTo>
                <a:lnTo>
                  <a:pt x="206" y="166"/>
                </a:lnTo>
                <a:lnTo>
                  <a:pt x="237" y="129"/>
                </a:lnTo>
                <a:lnTo>
                  <a:pt x="300" y="92"/>
                </a:lnTo>
                <a:lnTo>
                  <a:pt x="331" y="55"/>
                </a:lnTo>
                <a:lnTo>
                  <a:pt x="394" y="18"/>
                </a:lnTo>
                <a:lnTo>
                  <a:pt x="455" y="18"/>
                </a:lnTo>
                <a:lnTo>
                  <a:pt x="518" y="0"/>
                </a:lnTo>
                <a:lnTo>
                  <a:pt x="580" y="0"/>
                </a:lnTo>
                <a:lnTo>
                  <a:pt x="643" y="0"/>
                </a:lnTo>
                <a:lnTo>
                  <a:pt x="705" y="0"/>
                </a:lnTo>
                <a:lnTo>
                  <a:pt x="76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653160" y="27288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57880" y="2847960"/>
            <a:ext cx="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11720" y="30322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062240" y="31100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57880" y="3009960"/>
            <a:ext cx="1374480" cy="541440"/>
          </a:xfrm>
          <a:custGeom>
            <a:avLst/>
            <a:gdLst/>
            <a:ahLst/>
            <a:rect l="l" t="t" r="r" b="b"/>
            <a:pathLst>
              <a:path w="866" h="341">
                <a:moveTo>
                  <a:pt x="0" y="0"/>
                </a:moveTo>
                <a:lnTo>
                  <a:pt x="45" y="18"/>
                </a:lnTo>
                <a:lnTo>
                  <a:pt x="104" y="47"/>
                </a:lnTo>
                <a:lnTo>
                  <a:pt x="162" y="47"/>
                </a:lnTo>
                <a:lnTo>
                  <a:pt x="221" y="77"/>
                </a:lnTo>
                <a:lnTo>
                  <a:pt x="279" y="106"/>
                </a:lnTo>
                <a:lnTo>
                  <a:pt x="308" y="164"/>
                </a:lnTo>
                <a:lnTo>
                  <a:pt x="367" y="194"/>
                </a:lnTo>
                <a:lnTo>
                  <a:pt x="396" y="252"/>
                </a:lnTo>
                <a:lnTo>
                  <a:pt x="455" y="282"/>
                </a:lnTo>
                <a:lnTo>
                  <a:pt x="484" y="340"/>
                </a:lnTo>
                <a:lnTo>
                  <a:pt x="543" y="311"/>
                </a:lnTo>
                <a:lnTo>
                  <a:pt x="601" y="311"/>
                </a:lnTo>
                <a:lnTo>
                  <a:pt x="660" y="340"/>
                </a:lnTo>
                <a:lnTo>
                  <a:pt x="718" y="340"/>
                </a:lnTo>
                <a:lnTo>
                  <a:pt x="777" y="340"/>
                </a:lnTo>
                <a:lnTo>
                  <a:pt x="835" y="340"/>
                </a:lnTo>
                <a:lnTo>
                  <a:pt x="865" y="28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585760" y="291924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643160" y="368136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57880" y="438768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35400" y="521964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433120" y="520524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519440" y="42148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67560" y="438768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45080" y="5219640"/>
            <a:ext cx="151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43160" y="520524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29480" y="42148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47840" y="438768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025720" y="521964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23440" y="520524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309760" y="42148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324160" y="4711680"/>
            <a:ext cx="1074600" cy="509760"/>
          </a:xfrm>
          <a:custGeom>
            <a:avLst/>
            <a:gdLst/>
            <a:ahLst/>
            <a:rect l="l" t="t" r="r" b="b"/>
            <a:pathLst>
              <a:path w="677" h="321">
                <a:moveTo>
                  <a:pt x="0" y="320"/>
                </a:moveTo>
                <a:lnTo>
                  <a:pt x="3" y="263"/>
                </a:lnTo>
                <a:lnTo>
                  <a:pt x="3" y="205"/>
                </a:lnTo>
                <a:lnTo>
                  <a:pt x="32" y="146"/>
                </a:lnTo>
                <a:lnTo>
                  <a:pt x="32" y="88"/>
                </a:lnTo>
                <a:lnTo>
                  <a:pt x="61" y="29"/>
                </a:lnTo>
                <a:lnTo>
                  <a:pt x="120" y="0"/>
                </a:lnTo>
                <a:lnTo>
                  <a:pt x="179" y="0"/>
                </a:lnTo>
                <a:lnTo>
                  <a:pt x="208" y="58"/>
                </a:lnTo>
                <a:lnTo>
                  <a:pt x="237" y="117"/>
                </a:lnTo>
                <a:lnTo>
                  <a:pt x="296" y="88"/>
                </a:lnTo>
                <a:lnTo>
                  <a:pt x="325" y="29"/>
                </a:lnTo>
                <a:lnTo>
                  <a:pt x="383" y="58"/>
                </a:lnTo>
                <a:lnTo>
                  <a:pt x="442" y="88"/>
                </a:lnTo>
                <a:lnTo>
                  <a:pt x="500" y="88"/>
                </a:lnTo>
                <a:lnTo>
                  <a:pt x="559" y="88"/>
                </a:lnTo>
                <a:lnTo>
                  <a:pt x="618" y="88"/>
                </a:lnTo>
                <a:lnTo>
                  <a:pt x="676" y="8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667560" y="4711680"/>
            <a:ext cx="1301760" cy="652320"/>
          </a:xfrm>
          <a:custGeom>
            <a:avLst/>
            <a:gdLst/>
            <a:ahLst/>
            <a:rect l="l" t="t" r="r" b="b"/>
            <a:pathLst>
              <a:path w="820" h="411">
                <a:moveTo>
                  <a:pt x="0" y="320"/>
                </a:moveTo>
                <a:lnTo>
                  <a:pt x="58" y="322"/>
                </a:lnTo>
                <a:lnTo>
                  <a:pt x="87" y="380"/>
                </a:lnTo>
                <a:lnTo>
                  <a:pt x="146" y="410"/>
                </a:lnTo>
                <a:lnTo>
                  <a:pt x="204" y="410"/>
                </a:lnTo>
                <a:lnTo>
                  <a:pt x="234" y="351"/>
                </a:lnTo>
                <a:lnTo>
                  <a:pt x="292" y="322"/>
                </a:lnTo>
                <a:lnTo>
                  <a:pt x="321" y="263"/>
                </a:lnTo>
                <a:lnTo>
                  <a:pt x="351" y="205"/>
                </a:lnTo>
                <a:lnTo>
                  <a:pt x="409" y="146"/>
                </a:lnTo>
                <a:lnTo>
                  <a:pt x="468" y="88"/>
                </a:lnTo>
                <a:lnTo>
                  <a:pt x="526" y="58"/>
                </a:lnTo>
                <a:lnTo>
                  <a:pt x="585" y="29"/>
                </a:lnTo>
                <a:lnTo>
                  <a:pt x="643" y="29"/>
                </a:lnTo>
                <a:lnTo>
                  <a:pt x="702" y="29"/>
                </a:lnTo>
                <a:lnTo>
                  <a:pt x="760" y="29"/>
                </a:lnTo>
                <a:lnTo>
                  <a:pt x="81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457880" y="4665600"/>
            <a:ext cx="1188720" cy="558720"/>
          </a:xfrm>
          <a:custGeom>
            <a:avLst/>
            <a:gdLst/>
            <a:ahLst/>
            <a:rect l="l" t="t" r="r" b="b"/>
            <a:pathLst>
              <a:path w="749" h="352">
                <a:moveTo>
                  <a:pt x="0" y="349"/>
                </a:moveTo>
                <a:lnTo>
                  <a:pt x="45" y="321"/>
                </a:lnTo>
                <a:lnTo>
                  <a:pt x="104" y="351"/>
                </a:lnTo>
                <a:lnTo>
                  <a:pt x="162" y="321"/>
                </a:lnTo>
                <a:lnTo>
                  <a:pt x="221" y="292"/>
                </a:lnTo>
                <a:lnTo>
                  <a:pt x="279" y="263"/>
                </a:lnTo>
                <a:lnTo>
                  <a:pt x="338" y="234"/>
                </a:lnTo>
                <a:lnTo>
                  <a:pt x="367" y="175"/>
                </a:lnTo>
                <a:lnTo>
                  <a:pt x="426" y="146"/>
                </a:lnTo>
                <a:lnTo>
                  <a:pt x="484" y="117"/>
                </a:lnTo>
                <a:lnTo>
                  <a:pt x="543" y="117"/>
                </a:lnTo>
                <a:lnTo>
                  <a:pt x="572" y="58"/>
                </a:lnTo>
                <a:lnTo>
                  <a:pt x="630" y="58"/>
                </a:lnTo>
                <a:lnTo>
                  <a:pt x="689" y="0"/>
                </a:lnTo>
                <a:lnTo>
                  <a:pt x="7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644480" y="2406600"/>
            <a:ext cx="6769440" cy="3568680"/>
          </a:xfrm>
          <a:prstGeom prst="rect">
            <a:avLst/>
          </a:prstGeom>
          <a:noFill/>
          <a:ln w="12600">
            <a:solidFill>
              <a:srgbClr val="dc008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72080" y="2406600"/>
            <a:ext cx="0" cy="3568680"/>
          </a:xfrm>
          <a:prstGeom prst="line">
            <a:avLst/>
          </a:prstGeom>
          <a:ln w="12600">
            <a:solidFill>
              <a:srgbClr val="dc008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058080" y="2406600"/>
            <a:ext cx="0" cy="3568680"/>
          </a:xfrm>
          <a:prstGeom prst="line">
            <a:avLst/>
          </a:prstGeom>
          <a:ln w="12600">
            <a:solidFill>
              <a:srgbClr val="dc008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644480" y="4229280"/>
            <a:ext cx="6769440" cy="0"/>
          </a:xfrm>
          <a:prstGeom prst="line">
            <a:avLst/>
          </a:prstGeom>
          <a:ln w="12600">
            <a:solidFill>
              <a:srgbClr val="dc008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14840" y="322416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14840" y="482436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62040" y="185256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72080" y="185256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58080" y="185256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36040" y="6081840"/>
            <a:ext cx="629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uesta salto entre cada par entrada/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14:41:02Z</dcterms:created>
  <dc:creator>Dpto. de Ingeniería de Sistemas y automatica</dc:creator>
  <dc:description/>
  <dc:language>en-US</dc:language>
  <cp:lastModifiedBy>Dpto. de Ingeniería de Sistemas y automatica</cp:lastModifiedBy>
  <dcterms:modified xsi:type="dcterms:W3CDTF">2004-04-24T22:36:30Z</dcterms:modified>
  <cp:revision>2</cp:revision>
  <dc:subject/>
  <dc:title>MPC Multivariable</dc:title>
</cp:coreProperties>
</file>