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6912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46200" y="937404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34F4-DB22-4749-8991-AA7D3195079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884760" y="79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84760" y="930420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-1440" y="93042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-1440" y="79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884760" y="79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84760" y="930420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-1440" y="93042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-1440" y="79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884760" y="792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4760" y="930420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1440" y="930420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440" y="792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4440" y="85248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D63-45D2-4CF5-9D44-16836491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D33-DB59-4E84-8166-119AE420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D0D-83F7-40E8-9D8E-7277BDAE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1BD-23C3-42C1-A7F5-59DA9719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AD8A-3404-4200-A71D-696BA7A2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A46D-C277-45F3-A0DA-36BD4D68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C428-49CB-4367-8B59-FCD30378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ED14-D2B1-415F-8AAA-D4567A62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F922-3BFB-471F-BD87-958033EC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05B5-4E6A-4459-A9FF-F607ACD6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20BE-6D6E-4A3F-A4E5-D498297C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273-B722-4AC4-9426-C60D7888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0C8A-351B-4879-A719-8CC8545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995D-6E47-4DB5-8061-8BF8F7C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0838-030F-4560-9C3E-56648F0B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8D49-CF4E-4275-8E43-6E10F9CD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6319-6A79-47BF-9ECC-E656CC12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245-CC58-49F5-8463-461D2B3C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DEA-F40F-47C1-A042-416AA4D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E88-FC8D-4E6F-AA05-47A44E0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9E4-6272-4820-8C16-85C6F9CA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AFE-3E9E-40E7-8989-B246D131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065-520D-4474-8C25-7E294EC0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F21-B43C-495F-8E45-0CCB00B5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25DE-28F3-44CE-95C9-5AAFC2D1FCA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C573-63D4-460F-B195-5BB05013A23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Predi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276720"/>
            <a:ext cx="64008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Cesar de Pr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pto. Ingenieria de Sistemas y Auto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ultad de Ci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Vallado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e-mail: prada@autom.uva.es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Times New Roman"/>
              </a:rPr>
              <a:t>web:http//www.isa.cie.uva.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irámide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79280" y="2276640"/>
            <a:ext cx="4392720" cy="38890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5445000"/>
            <a:ext cx="352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4581360"/>
            <a:ext cx="251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47640" y="3789360"/>
            <a:ext cx="165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03280" y="5589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str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00000" y="4869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gulación 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79640" y="400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M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58920" y="3213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Optimización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08000" y="3068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40360" y="4653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ID, DCS,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43280" y="5445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álvulas, Transmis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35280" y="3500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trol Predi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64000" y="2060640"/>
            <a:ext cx="33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l control avanzado opera sobre el control convencional, aplicado al funcionamiento de una unidad de proceso y añade nuevas fucionalidades teniendo en cuenta la interacción entre las variables, las restricciones y la optimización continua de su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ERARQUIA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4561920" y="1886040"/>
            <a:ext cx="4582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poder aborda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un nivel, los niveles inf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 de funcionar correct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11880" y="3357720"/>
            <a:ext cx="4090680" cy="1551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oncreto, la optim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ómica exige que el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ontrol func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cuad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52640" y="2881440"/>
            <a:ext cx="1800" cy="318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44720" y="2881440"/>
            <a:ext cx="15840" cy="318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52640" y="3852720"/>
            <a:ext cx="1800" cy="317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44720" y="3852720"/>
            <a:ext cx="15840" cy="317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43280" y="5013360"/>
            <a:ext cx="1440" cy="39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44720" y="5076720"/>
            <a:ext cx="15840" cy="319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65320" y="5402160"/>
            <a:ext cx="1574640" cy="892440"/>
          </a:xfrm>
          <a:prstGeom prst="rect">
            <a:avLst/>
          </a:prstGeom>
          <a:solidFill>
            <a:srgbClr val="ffff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48080" y="5467320"/>
            <a:ext cx="58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ivel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2280" y="5721480"/>
            <a:ext cx="144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ru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70240" y="59752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a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35280" y="4149720"/>
            <a:ext cx="2057400" cy="893880"/>
          </a:xfrm>
          <a:prstGeom prst="rect">
            <a:avLst/>
          </a:prstGeom>
          <a:solidFill>
            <a:srgbClr val="ffff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27200" y="42433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iv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2160" y="4497480"/>
            <a:ext cx="194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Conve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98320" y="474984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ID, D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35280" y="3213000"/>
            <a:ext cx="2057400" cy="639720"/>
          </a:xfrm>
          <a:prstGeom prst="rect">
            <a:avLst/>
          </a:prstGeom>
          <a:solidFill>
            <a:srgbClr val="00e4a8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33680" y="327168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iv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21760" y="352584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trol Avan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7640" y="1989000"/>
            <a:ext cx="2540160" cy="892440"/>
          </a:xfrm>
          <a:prstGeom prst="rect">
            <a:avLst/>
          </a:prstGeom>
          <a:solidFill>
            <a:srgbClr val="dddddd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527200" y="204804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iv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16520" y="2301840"/>
            <a:ext cx="117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73160" y="2554200"/>
            <a:ext cx="16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res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198108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rategia de control basada en el uso explícito de un modelo del proceso para predecir el comportamiento futuro de la variable controlada sobre un horizonte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factible por los cambios tecnológicos en computadores, técnicas de modelado, métodos numérico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os algoritmos: DMC, GPC, 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92280" y="4292640"/>
                <a:ext cx="753084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4710240" y="4849920"/>
            <a:ext cx="1820880" cy="426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08120" y="4849920"/>
            <a:ext cx="1814400" cy="426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timiz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43720" y="5079960"/>
            <a:ext cx="1257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13760" y="508644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378160" y="52768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03240" y="507996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49760" y="444348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59200" y="4843440"/>
            <a:ext cx="352440" cy="168120"/>
          </a:xfrm>
          <a:custGeom>
            <a:avLst/>
            <a:gdLst>
              <a:gd name="textAreaLeft" fmla="*/ 12960 w 352440"/>
              <a:gd name="textAreaRight" fmla="*/ 339480 w 352440"/>
              <a:gd name="textAreaTop" fmla="*/ 6120 h 168120"/>
              <a:gd name="textAreaBottom" fmla="*/ 134280 h 168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03520" y="4653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13760" y="4843440"/>
            <a:ext cx="4935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62520" y="4503600"/>
            <a:ext cx="5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06600" y="44337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665520" y="5535720"/>
            <a:ext cx="1609920" cy="426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67080" y="51116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250960" y="5715000"/>
            <a:ext cx="207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355840" y="5715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35480" y="510552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431000" y="5465880"/>
            <a:ext cx="88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+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trol Predictivo MP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554920" y="256212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81040" y="2354400"/>
            <a:ext cx="60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u(t+k|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6774840" y="4584600"/>
            <a:ext cx="607320" cy="362880"/>
            <a:chOff x="6774840" y="4584600"/>
            <a:chExt cx="607320" cy="362880"/>
          </a:xfrm>
        </p:grpSpPr>
        <p:sp>
          <p:nvSpPr>
            <p:cNvPr id="618" name=""/>
            <p:cNvSpPr/>
            <p:nvPr/>
          </p:nvSpPr>
          <p:spPr>
            <a:xfrm>
              <a:off x="6774840" y="4703760"/>
              <a:ext cx="60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y(t+k|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34240" y="4584600"/>
              <a:ext cx="9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2863800" y="5700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3413160" y="2500200"/>
            <a:ext cx="1440" cy="313848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65200" y="568476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22400" y="5700600"/>
            <a:ext cx="27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377240" y="5626080"/>
            <a:ext cx="15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58880" y="2619360"/>
            <a:ext cx="2192400" cy="952560"/>
          </a:xfrm>
          <a:custGeom>
            <a:avLst/>
            <a:gdLst/>
            <a:ahLst/>
            <a:rect l="l" t="t" r="r" b="b"/>
            <a:pathLst>
              <a:path w="1381" h="600">
                <a:moveTo>
                  <a:pt x="0" y="600"/>
                </a:moveTo>
                <a:lnTo>
                  <a:pt x="828" y="600"/>
                </a:lnTo>
                <a:lnTo>
                  <a:pt x="828" y="150"/>
                </a:lnTo>
                <a:lnTo>
                  <a:pt x="1012" y="150"/>
                </a:lnTo>
                <a:lnTo>
                  <a:pt x="1105" y="150"/>
                </a:lnTo>
                <a:lnTo>
                  <a:pt x="1105" y="375"/>
                </a:lnTo>
                <a:lnTo>
                  <a:pt x="1381" y="375"/>
                </a:lnTo>
                <a:lnTo>
                  <a:pt x="1381" y="0"/>
                </a:lnTo>
              </a:path>
            </a:pathLst>
          </a:custGeom>
          <a:noFill/>
          <a:ln w="49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51280" y="2619360"/>
            <a:ext cx="2630520" cy="714240"/>
          </a:xfrm>
          <a:custGeom>
            <a:avLst/>
            <a:gdLst/>
            <a:ahLst/>
            <a:rect l="l" t="t" r="r" b="b"/>
            <a:pathLst>
              <a:path w="1657" h="450">
                <a:moveTo>
                  <a:pt x="0" y="0"/>
                </a:moveTo>
                <a:lnTo>
                  <a:pt x="276" y="0"/>
                </a:lnTo>
                <a:lnTo>
                  <a:pt x="276" y="450"/>
                </a:lnTo>
                <a:lnTo>
                  <a:pt x="552" y="450"/>
                </a:lnTo>
                <a:lnTo>
                  <a:pt x="552" y="225"/>
                </a:lnTo>
                <a:lnTo>
                  <a:pt x="736" y="225"/>
                </a:lnTo>
                <a:lnTo>
                  <a:pt x="828" y="225"/>
                </a:lnTo>
                <a:lnTo>
                  <a:pt x="828" y="75"/>
                </a:lnTo>
                <a:lnTo>
                  <a:pt x="1657" y="75"/>
                </a:lnTo>
              </a:path>
            </a:pathLst>
          </a:custGeom>
          <a:noFill/>
          <a:ln w="49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73240" y="2023920"/>
            <a:ext cx="1800" cy="36896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58880" y="4284720"/>
            <a:ext cx="6284880" cy="1440"/>
          </a:xfrm>
          <a:prstGeom prst="line">
            <a:avLst/>
          </a:prstGeom>
          <a:ln w="28440">
            <a:solidFill>
              <a:srgbClr val="00e4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828800" y="3200400"/>
            <a:ext cx="628488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05640" y="3125880"/>
            <a:ext cx="255600" cy="177840"/>
          </a:xfrm>
          <a:custGeom>
            <a:avLst/>
            <a:gdLst/>
            <a:ahLst/>
            <a:rect l="l" t="t" r="r" b="b"/>
            <a:pathLst>
              <a:path w="161" h="112">
                <a:moveTo>
                  <a:pt x="0" y="0"/>
                </a:moveTo>
                <a:lnTo>
                  <a:pt x="0" y="112"/>
                </a:lnTo>
                <a:lnTo>
                  <a:pt x="161" y="5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27440" y="1905120"/>
            <a:ext cx="291960" cy="237960"/>
          </a:xfrm>
          <a:custGeom>
            <a:avLst/>
            <a:gdLst/>
            <a:ahLst/>
            <a:rect l="l" t="t" r="r" b="b"/>
            <a:pathLst>
              <a:path w="184" h="150">
                <a:moveTo>
                  <a:pt x="184" y="150"/>
                </a:moveTo>
                <a:lnTo>
                  <a:pt x="0" y="150"/>
                </a:lnTo>
                <a:lnTo>
                  <a:pt x="92" y="0"/>
                </a:lnTo>
                <a:lnTo>
                  <a:pt x="184" y="15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06720" y="336564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04680" y="3753000"/>
            <a:ext cx="56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9760" y="37530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t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58880" y="5475240"/>
            <a:ext cx="62848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14560" y="55818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28800" y="4343400"/>
            <a:ext cx="5407200" cy="714240"/>
          </a:xfrm>
          <a:custGeom>
            <a:avLst/>
            <a:gdLst/>
            <a:ahLst/>
            <a:rect l="l" t="t" r="r" b="b"/>
            <a:pathLst>
              <a:path w="3406" h="450">
                <a:moveTo>
                  <a:pt x="0" y="412"/>
                </a:moveTo>
                <a:lnTo>
                  <a:pt x="34" y="421"/>
                </a:lnTo>
                <a:lnTo>
                  <a:pt x="161" y="412"/>
                </a:lnTo>
                <a:lnTo>
                  <a:pt x="184" y="412"/>
                </a:lnTo>
                <a:lnTo>
                  <a:pt x="207" y="421"/>
                </a:lnTo>
                <a:lnTo>
                  <a:pt x="230" y="421"/>
                </a:lnTo>
                <a:lnTo>
                  <a:pt x="253" y="421"/>
                </a:lnTo>
                <a:lnTo>
                  <a:pt x="276" y="431"/>
                </a:lnTo>
                <a:lnTo>
                  <a:pt x="299" y="431"/>
                </a:lnTo>
                <a:lnTo>
                  <a:pt x="368" y="431"/>
                </a:lnTo>
                <a:lnTo>
                  <a:pt x="403" y="431"/>
                </a:lnTo>
                <a:lnTo>
                  <a:pt x="426" y="440"/>
                </a:lnTo>
                <a:lnTo>
                  <a:pt x="449" y="450"/>
                </a:lnTo>
                <a:lnTo>
                  <a:pt x="472" y="450"/>
                </a:lnTo>
                <a:lnTo>
                  <a:pt x="495" y="450"/>
                </a:lnTo>
                <a:lnTo>
                  <a:pt x="575" y="450"/>
                </a:lnTo>
                <a:lnTo>
                  <a:pt x="598" y="450"/>
                </a:lnTo>
                <a:lnTo>
                  <a:pt x="621" y="450"/>
                </a:lnTo>
                <a:lnTo>
                  <a:pt x="644" y="450"/>
                </a:lnTo>
                <a:lnTo>
                  <a:pt x="713" y="450"/>
                </a:lnTo>
                <a:lnTo>
                  <a:pt x="748" y="450"/>
                </a:lnTo>
                <a:lnTo>
                  <a:pt x="771" y="450"/>
                </a:lnTo>
                <a:lnTo>
                  <a:pt x="794" y="450"/>
                </a:lnTo>
                <a:lnTo>
                  <a:pt x="863" y="440"/>
                </a:lnTo>
                <a:lnTo>
                  <a:pt x="886" y="440"/>
                </a:lnTo>
                <a:lnTo>
                  <a:pt x="909" y="431"/>
                </a:lnTo>
                <a:lnTo>
                  <a:pt x="932" y="431"/>
                </a:lnTo>
                <a:lnTo>
                  <a:pt x="1013" y="421"/>
                </a:lnTo>
                <a:lnTo>
                  <a:pt x="1036" y="412"/>
                </a:lnTo>
                <a:lnTo>
                  <a:pt x="1070" y="403"/>
                </a:lnTo>
                <a:lnTo>
                  <a:pt x="1093" y="403"/>
                </a:lnTo>
                <a:lnTo>
                  <a:pt x="1116" y="393"/>
                </a:lnTo>
                <a:lnTo>
                  <a:pt x="1185" y="384"/>
                </a:lnTo>
                <a:lnTo>
                  <a:pt x="1266" y="375"/>
                </a:lnTo>
                <a:lnTo>
                  <a:pt x="1300" y="356"/>
                </a:lnTo>
                <a:lnTo>
                  <a:pt x="1323" y="337"/>
                </a:lnTo>
                <a:lnTo>
                  <a:pt x="1404" y="318"/>
                </a:lnTo>
                <a:lnTo>
                  <a:pt x="1473" y="300"/>
                </a:lnTo>
                <a:lnTo>
                  <a:pt x="1496" y="290"/>
                </a:lnTo>
                <a:lnTo>
                  <a:pt x="1519" y="281"/>
                </a:lnTo>
                <a:lnTo>
                  <a:pt x="1542" y="262"/>
                </a:lnTo>
                <a:lnTo>
                  <a:pt x="1565" y="253"/>
                </a:lnTo>
                <a:lnTo>
                  <a:pt x="1588" y="243"/>
                </a:lnTo>
                <a:lnTo>
                  <a:pt x="1611" y="234"/>
                </a:lnTo>
                <a:lnTo>
                  <a:pt x="1634" y="225"/>
                </a:lnTo>
                <a:lnTo>
                  <a:pt x="1646" y="206"/>
                </a:lnTo>
                <a:lnTo>
                  <a:pt x="1669" y="187"/>
                </a:lnTo>
                <a:lnTo>
                  <a:pt x="1692" y="187"/>
                </a:lnTo>
                <a:lnTo>
                  <a:pt x="1703" y="169"/>
                </a:lnTo>
                <a:lnTo>
                  <a:pt x="1726" y="169"/>
                </a:lnTo>
                <a:lnTo>
                  <a:pt x="1749" y="150"/>
                </a:lnTo>
                <a:lnTo>
                  <a:pt x="1772" y="140"/>
                </a:lnTo>
                <a:lnTo>
                  <a:pt x="1795" y="131"/>
                </a:lnTo>
                <a:lnTo>
                  <a:pt x="1807" y="112"/>
                </a:lnTo>
                <a:lnTo>
                  <a:pt x="1830" y="112"/>
                </a:lnTo>
                <a:lnTo>
                  <a:pt x="1853" y="94"/>
                </a:lnTo>
                <a:lnTo>
                  <a:pt x="1876" y="94"/>
                </a:lnTo>
                <a:lnTo>
                  <a:pt x="1887" y="75"/>
                </a:lnTo>
                <a:lnTo>
                  <a:pt x="1968" y="75"/>
                </a:lnTo>
                <a:lnTo>
                  <a:pt x="2002" y="56"/>
                </a:lnTo>
                <a:lnTo>
                  <a:pt x="2025" y="56"/>
                </a:lnTo>
                <a:lnTo>
                  <a:pt x="2048" y="47"/>
                </a:lnTo>
                <a:lnTo>
                  <a:pt x="2071" y="37"/>
                </a:lnTo>
                <a:lnTo>
                  <a:pt x="2094" y="37"/>
                </a:lnTo>
                <a:lnTo>
                  <a:pt x="2117" y="37"/>
                </a:lnTo>
                <a:lnTo>
                  <a:pt x="2140" y="37"/>
                </a:lnTo>
                <a:lnTo>
                  <a:pt x="2163" y="28"/>
                </a:lnTo>
                <a:lnTo>
                  <a:pt x="2186" y="28"/>
                </a:lnTo>
                <a:lnTo>
                  <a:pt x="2209" y="19"/>
                </a:lnTo>
                <a:lnTo>
                  <a:pt x="2232" y="19"/>
                </a:lnTo>
                <a:lnTo>
                  <a:pt x="2255" y="19"/>
                </a:lnTo>
                <a:lnTo>
                  <a:pt x="2279" y="9"/>
                </a:lnTo>
                <a:lnTo>
                  <a:pt x="2302" y="9"/>
                </a:lnTo>
                <a:lnTo>
                  <a:pt x="2325" y="9"/>
                </a:lnTo>
                <a:lnTo>
                  <a:pt x="2348" y="9"/>
                </a:lnTo>
                <a:lnTo>
                  <a:pt x="2371" y="9"/>
                </a:lnTo>
                <a:lnTo>
                  <a:pt x="2451" y="9"/>
                </a:lnTo>
                <a:lnTo>
                  <a:pt x="2474" y="0"/>
                </a:lnTo>
                <a:lnTo>
                  <a:pt x="2497" y="0"/>
                </a:lnTo>
                <a:lnTo>
                  <a:pt x="2520" y="0"/>
                </a:lnTo>
                <a:lnTo>
                  <a:pt x="2543" y="0"/>
                </a:lnTo>
                <a:lnTo>
                  <a:pt x="2566" y="0"/>
                </a:lnTo>
                <a:lnTo>
                  <a:pt x="2589" y="0"/>
                </a:lnTo>
                <a:lnTo>
                  <a:pt x="2612" y="0"/>
                </a:lnTo>
                <a:lnTo>
                  <a:pt x="2635" y="9"/>
                </a:lnTo>
                <a:lnTo>
                  <a:pt x="2658" y="9"/>
                </a:lnTo>
                <a:lnTo>
                  <a:pt x="2681" y="9"/>
                </a:lnTo>
                <a:lnTo>
                  <a:pt x="2704" y="9"/>
                </a:lnTo>
                <a:lnTo>
                  <a:pt x="2727" y="9"/>
                </a:lnTo>
                <a:lnTo>
                  <a:pt x="2762" y="9"/>
                </a:lnTo>
                <a:lnTo>
                  <a:pt x="2785" y="9"/>
                </a:lnTo>
                <a:lnTo>
                  <a:pt x="2819" y="19"/>
                </a:lnTo>
                <a:lnTo>
                  <a:pt x="2842" y="19"/>
                </a:lnTo>
                <a:lnTo>
                  <a:pt x="2865" y="19"/>
                </a:lnTo>
                <a:lnTo>
                  <a:pt x="2888" y="19"/>
                </a:lnTo>
                <a:lnTo>
                  <a:pt x="2958" y="19"/>
                </a:lnTo>
                <a:lnTo>
                  <a:pt x="2981" y="19"/>
                </a:lnTo>
                <a:lnTo>
                  <a:pt x="3004" y="19"/>
                </a:lnTo>
                <a:lnTo>
                  <a:pt x="3038" y="19"/>
                </a:lnTo>
                <a:lnTo>
                  <a:pt x="3061" y="19"/>
                </a:lnTo>
                <a:lnTo>
                  <a:pt x="3084" y="19"/>
                </a:lnTo>
                <a:lnTo>
                  <a:pt x="3107" y="19"/>
                </a:lnTo>
                <a:lnTo>
                  <a:pt x="3130" y="19"/>
                </a:lnTo>
                <a:lnTo>
                  <a:pt x="3153" y="19"/>
                </a:lnTo>
                <a:lnTo>
                  <a:pt x="3176" y="19"/>
                </a:lnTo>
                <a:lnTo>
                  <a:pt x="3211" y="19"/>
                </a:lnTo>
                <a:lnTo>
                  <a:pt x="3234" y="19"/>
                </a:lnTo>
                <a:lnTo>
                  <a:pt x="3257" y="19"/>
                </a:lnTo>
                <a:lnTo>
                  <a:pt x="3280" y="19"/>
                </a:lnTo>
                <a:lnTo>
                  <a:pt x="3314" y="19"/>
                </a:lnTo>
                <a:lnTo>
                  <a:pt x="3337" y="19"/>
                </a:lnTo>
                <a:lnTo>
                  <a:pt x="3360" y="19"/>
                </a:lnTo>
                <a:lnTo>
                  <a:pt x="3383" y="19"/>
                </a:lnTo>
                <a:lnTo>
                  <a:pt x="3406" y="9"/>
                </a:lnTo>
              </a:path>
            </a:pathLst>
          </a:custGeom>
          <a:noFill/>
          <a:ln w="49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25400" y="4064040"/>
            <a:ext cx="155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ñal de re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85520" y="4734000"/>
            <a:ext cx="188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edicción de la sal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083040" y="3957480"/>
            <a:ext cx="676080" cy="119160"/>
            <a:chOff x="3083040" y="3957480"/>
            <a:chExt cx="676080" cy="119160"/>
          </a:xfrm>
        </p:grpSpPr>
        <p:sp>
          <p:nvSpPr>
            <p:cNvPr id="641" name=""/>
            <p:cNvSpPr/>
            <p:nvPr/>
          </p:nvSpPr>
          <p:spPr>
            <a:xfrm>
              <a:off x="3613320" y="3957480"/>
              <a:ext cx="145800" cy="11916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0" y="0"/>
                  </a:moveTo>
                  <a:lnTo>
                    <a:pt x="0" y="75"/>
                  </a:lnTo>
                  <a:lnTo>
                    <a:pt x="9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83040" y="4017960"/>
              <a:ext cx="5857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841400" y="3973680"/>
            <a:ext cx="676080" cy="118800"/>
            <a:chOff x="1841400" y="3973680"/>
            <a:chExt cx="676080" cy="118800"/>
          </a:xfrm>
        </p:grpSpPr>
        <p:sp>
          <p:nvSpPr>
            <p:cNvPr id="644" name=""/>
            <p:cNvSpPr/>
            <p:nvPr/>
          </p:nvSpPr>
          <p:spPr>
            <a:xfrm>
              <a:off x="1841400" y="3973680"/>
              <a:ext cx="146160" cy="11880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92" y="75"/>
                  </a:moveTo>
                  <a:lnTo>
                    <a:pt x="92" y="0"/>
                  </a:lnTo>
                  <a:lnTo>
                    <a:pt x="0" y="37"/>
                  </a:lnTo>
                  <a:lnTo>
                    <a:pt x="92" y="75"/>
                  </a:lnTo>
                  <a:close/>
                </a:path>
              </a:pathLst>
            </a:custGeom>
            <a:solidFill>
              <a:srgbClr val="000000"/>
            </a:solidFill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1931760" y="4032360"/>
              <a:ext cx="5857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 flipV="1">
            <a:off x="3851280" y="2486160"/>
            <a:ext cx="1440" cy="313848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31120" y="5386320"/>
            <a:ext cx="257040" cy="177840"/>
          </a:xfrm>
          <a:custGeom>
            <a:avLst/>
            <a:gdLst/>
            <a:ahLst/>
            <a:rect l="l" t="t" r="r" b="b"/>
            <a:pathLst>
              <a:path w="162" h="112">
                <a:moveTo>
                  <a:pt x="0" y="0"/>
                </a:moveTo>
                <a:lnTo>
                  <a:pt x="0" y="112"/>
                </a:lnTo>
                <a:lnTo>
                  <a:pt x="162" y="5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854360" y="4989600"/>
            <a:ext cx="1089000" cy="83880"/>
          </a:xfrm>
          <a:custGeom>
            <a:avLst/>
            <a:gdLst/>
            <a:ahLst/>
            <a:rect l="l" t="t" r="r" b="b"/>
            <a:pathLst>
              <a:path w="686" h="53">
                <a:moveTo>
                  <a:pt x="0" y="5"/>
                </a:moveTo>
                <a:cubicBezTo>
                  <a:pt x="72" y="30"/>
                  <a:pt x="31" y="23"/>
                  <a:pt x="126" y="13"/>
                </a:cubicBezTo>
                <a:cubicBezTo>
                  <a:pt x="166" y="0"/>
                  <a:pt x="229" y="17"/>
                  <a:pt x="268" y="21"/>
                </a:cubicBezTo>
                <a:cubicBezTo>
                  <a:pt x="292" y="26"/>
                  <a:pt x="315" y="39"/>
                  <a:pt x="339" y="37"/>
                </a:cubicBezTo>
                <a:cubicBezTo>
                  <a:pt x="355" y="35"/>
                  <a:pt x="386" y="21"/>
                  <a:pt x="386" y="21"/>
                </a:cubicBezTo>
                <a:cubicBezTo>
                  <a:pt x="483" y="53"/>
                  <a:pt x="585" y="45"/>
                  <a:pt x="686" y="4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92360" y="357336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35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0010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trol Predic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riz Dinám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25970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301760" y="34290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2847960"/>
            <a:ext cx="1144800" cy="582480"/>
          </a:xfrm>
          <a:custGeom>
            <a:avLst/>
            <a:gdLst/>
            <a:ahLst/>
            <a:rect l="l" t="t" r="r" b="b"/>
            <a:pathLst>
              <a:path w="721" h="367">
                <a:moveTo>
                  <a:pt x="0" y="366"/>
                </a:moveTo>
                <a:lnTo>
                  <a:pt x="47" y="351"/>
                </a:lnTo>
                <a:lnTo>
                  <a:pt x="105" y="351"/>
                </a:lnTo>
                <a:lnTo>
                  <a:pt x="135" y="293"/>
                </a:lnTo>
                <a:lnTo>
                  <a:pt x="193" y="264"/>
                </a:lnTo>
                <a:lnTo>
                  <a:pt x="222" y="205"/>
                </a:lnTo>
                <a:lnTo>
                  <a:pt x="281" y="146"/>
                </a:lnTo>
                <a:lnTo>
                  <a:pt x="310" y="88"/>
                </a:lnTo>
                <a:lnTo>
                  <a:pt x="369" y="29"/>
                </a:lnTo>
                <a:lnTo>
                  <a:pt x="427" y="29"/>
                </a:lnTo>
                <a:lnTo>
                  <a:pt x="486" y="0"/>
                </a:lnTo>
                <a:lnTo>
                  <a:pt x="544" y="0"/>
                </a:lnTo>
                <a:lnTo>
                  <a:pt x="603" y="0"/>
                </a:lnTo>
                <a:lnTo>
                  <a:pt x="661" y="0"/>
                </a:ln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99480" y="34146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85800" y="2424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43600" y="265752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21480" y="34894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43600" y="3124080"/>
            <a:ext cx="1220760" cy="366840"/>
          </a:xfrm>
          <a:custGeom>
            <a:avLst/>
            <a:gdLst/>
            <a:ahLst/>
            <a:rect l="l" t="t" r="r" b="b"/>
            <a:pathLst>
              <a:path w="769" h="231">
                <a:moveTo>
                  <a:pt x="0" y="230"/>
                </a:moveTo>
                <a:lnTo>
                  <a:pt x="50" y="221"/>
                </a:lnTo>
                <a:lnTo>
                  <a:pt x="112" y="221"/>
                </a:lnTo>
                <a:lnTo>
                  <a:pt x="144" y="184"/>
                </a:lnTo>
                <a:lnTo>
                  <a:pt x="206" y="166"/>
                </a:lnTo>
                <a:lnTo>
                  <a:pt x="237" y="129"/>
                </a:lnTo>
                <a:lnTo>
                  <a:pt x="300" y="92"/>
                </a:lnTo>
                <a:lnTo>
                  <a:pt x="331" y="55"/>
                </a:lnTo>
                <a:lnTo>
                  <a:pt x="394" y="18"/>
                </a:lnTo>
                <a:lnTo>
                  <a:pt x="455" y="18"/>
                </a:lnTo>
                <a:lnTo>
                  <a:pt x="518" y="0"/>
                </a:lnTo>
                <a:lnTo>
                  <a:pt x="580" y="0"/>
                </a:lnTo>
                <a:lnTo>
                  <a:pt x="643" y="0"/>
                </a:lnTo>
                <a:lnTo>
                  <a:pt x="705" y="0"/>
                </a:lnTo>
                <a:lnTo>
                  <a:pt x="7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29200" y="25383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733920" y="265752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87760" y="28414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338640" y="29192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33920" y="2819520"/>
            <a:ext cx="1374480" cy="541080"/>
          </a:xfrm>
          <a:custGeom>
            <a:avLst/>
            <a:gdLst/>
            <a:ahLst/>
            <a:rect l="l" t="t" r="r" b="b"/>
            <a:pathLst>
              <a:path w="866" h="341">
                <a:moveTo>
                  <a:pt x="0" y="0"/>
                </a:moveTo>
                <a:lnTo>
                  <a:pt x="45" y="18"/>
                </a:lnTo>
                <a:lnTo>
                  <a:pt x="104" y="47"/>
                </a:lnTo>
                <a:lnTo>
                  <a:pt x="162" y="47"/>
                </a:lnTo>
                <a:lnTo>
                  <a:pt x="221" y="77"/>
                </a:lnTo>
                <a:lnTo>
                  <a:pt x="279" y="106"/>
                </a:lnTo>
                <a:lnTo>
                  <a:pt x="308" y="164"/>
                </a:lnTo>
                <a:lnTo>
                  <a:pt x="367" y="194"/>
                </a:lnTo>
                <a:lnTo>
                  <a:pt x="396" y="252"/>
                </a:lnTo>
                <a:lnTo>
                  <a:pt x="455" y="282"/>
                </a:lnTo>
                <a:lnTo>
                  <a:pt x="484" y="340"/>
                </a:lnTo>
                <a:lnTo>
                  <a:pt x="543" y="311"/>
                </a:lnTo>
                <a:lnTo>
                  <a:pt x="601" y="311"/>
                </a:lnTo>
                <a:lnTo>
                  <a:pt x="660" y="340"/>
                </a:lnTo>
                <a:lnTo>
                  <a:pt x="718" y="340"/>
                </a:lnTo>
                <a:lnTo>
                  <a:pt x="777" y="340"/>
                </a:lnTo>
                <a:lnTo>
                  <a:pt x="835" y="340"/>
                </a:lnTo>
                <a:lnTo>
                  <a:pt x="865" y="28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61800" y="27288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919200" y="349092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33920" y="41972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11440" y="50292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09520" y="50148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95840" y="4024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41972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21480" y="50292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919200" y="50148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05520" y="4024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3880" y="419724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301760" y="50292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99480" y="501480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85800" y="40244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00200" y="4521240"/>
            <a:ext cx="1074600" cy="509400"/>
          </a:xfrm>
          <a:custGeom>
            <a:avLst/>
            <a:gdLst/>
            <a:ahLst/>
            <a:rect l="l" t="t" r="r" b="b"/>
            <a:pathLst>
              <a:path w="677" h="321">
                <a:moveTo>
                  <a:pt x="0" y="320"/>
                </a:moveTo>
                <a:lnTo>
                  <a:pt x="3" y="263"/>
                </a:lnTo>
                <a:lnTo>
                  <a:pt x="3" y="205"/>
                </a:lnTo>
                <a:lnTo>
                  <a:pt x="32" y="146"/>
                </a:lnTo>
                <a:lnTo>
                  <a:pt x="32" y="88"/>
                </a:lnTo>
                <a:lnTo>
                  <a:pt x="61" y="29"/>
                </a:lnTo>
                <a:lnTo>
                  <a:pt x="120" y="0"/>
                </a:lnTo>
                <a:lnTo>
                  <a:pt x="179" y="0"/>
                </a:lnTo>
                <a:lnTo>
                  <a:pt x="208" y="58"/>
                </a:lnTo>
                <a:lnTo>
                  <a:pt x="237" y="117"/>
                </a:lnTo>
                <a:lnTo>
                  <a:pt x="296" y="88"/>
                </a:lnTo>
                <a:lnTo>
                  <a:pt x="325" y="29"/>
                </a:lnTo>
                <a:lnTo>
                  <a:pt x="383" y="58"/>
                </a:lnTo>
                <a:lnTo>
                  <a:pt x="442" y="88"/>
                </a:lnTo>
                <a:lnTo>
                  <a:pt x="500" y="88"/>
                </a:lnTo>
                <a:lnTo>
                  <a:pt x="559" y="88"/>
                </a:lnTo>
                <a:lnTo>
                  <a:pt x="618" y="88"/>
                </a:lnTo>
                <a:lnTo>
                  <a:pt x="676" y="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43600" y="4521240"/>
            <a:ext cx="1301760" cy="652320"/>
          </a:xfrm>
          <a:custGeom>
            <a:avLst/>
            <a:gdLst/>
            <a:ahLst/>
            <a:rect l="l" t="t" r="r" b="b"/>
            <a:pathLst>
              <a:path w="820" h="411">
                <a:moveTo>
                  <a:pt x="0" y="320"/>
                </a:moveTo>
                <a:lnTo>
                  <a:pt x="58" y="322"/>
                </a:lnTo>
                <a:lnTo>
                  <a:pt x="87" y="380"/>
                </a:lnTo>
                <a:lnTo>
                  <a:pt x="146" y="410"/>
                </a:lnTo>
                <a:lnTo>
                  <a:pt x="204" y="410"/>
                </a:lnTo>
                <a:lnTo>
                  <a:pt x="234" y="351"/>
                </a:lnTo>
                <a:lnTo>
                  <a:pt x="292" y="322"/>
                </a:lnTo>
                <a:lnTo>
                  <a:pt x="321" y="263"/>
                </a:lnTo>
                <a:lnTo>
                  <a:pt x="351" y="205"/>
                </a:lnTo>
                <a:lnTo>
                  <a:pt x="409" y="146"/>
                </a:lnTo>
                <a:lnTo>
                  <a:pt x="468" y="88"/>
                </a:lnTo>
                <a:lnTo>
                  <a:pt x="526" y="58"/>
                </a:lnTo>
                <a:lnTo>
                  <a:pt x="585" y="29"/>
                </a:lnTo>
                <a:lnTo>
                  <a:pt x="643" y="29"/>
                </a:lnTo>
                <a:lnTo>
                  <a:pt x="702" y="29"/>
                </a:lnTo>
                <a:lnTo>
                  <a:pt x="760" y="29"/>
                </a:lnTo>
                <a:lnTo>
                  <a:pt x="81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733920" y="4475160"/>
            <a:ext cx="1189080" cy="558720"/>
          </a:xfrm>
          <a:custGeom>
            <a:avLst/>
            <a:gdLst/>
            <a:ahLst/>
            <a:rect l="l" t="t" r="r" b="b"/>
            <a:pathLst>
              <a:path w="749" h="352">
                <a:moveTo>
                  <a:pt x="0" y="349"/>
                </a:moveTo>
                <a:lnTo>
                  <a:pt x="45" y="321"/>
                </a:lnTo>
                <a:lnTo>
                  <a:pt x="104" y="351"/>
                </a:lnTo>
                <a:lnTo>
                  <a:pt x="162" y="321"/>
                </a:lnTo>
                <a:lnTo>
                  <a:pt x="221" y="292"/>
                </a:lnTo>
                <a:lnTo>
                  <a:pt x="279" y="263"/>
                </a:lnTo>
                <a:lnTo>
                  <a:pt x="338" y="234"/>
                </a:lnTo>
                <a:lnTo>
                  <a:pt x="367" y="175"/>
                </a:lnTo>
                <a:lnTo>
                  <a:pt x="426" y="146"/>
                </a:lnTo>
                <a:lnTo>
                  <a:pt x="484" y="117"/>
                </a:lnTo>
                <a:lnTo>
                  <a:pt x="543" y="117"/>
                </a:lnTo>
                <a:lnTo>
                  <a:pt x="572" y="58"/>
                </a:lnTo>
                <a:lnTo>
                  <a:pt x="630" y="58"/>
                </a:lnTo>
                <a:lnTo>
                  <a:pt x="689" y="0"/>
                </a:lnTo>
                <a:lnTo>
                  <a:pt x="7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20880" y="2216160"/>
            <a:ext cx="6769080" cy="3568680"/>
          </a:xfrm>
          <a:prstGeom prst="rect">
            <a:avLst/>
          </a:prstGeom>
          <a:noFill/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8120" y="2216160"/>
            <a:ext cx="0" cy="3568680"/>
          </a:xfrm>
          <a:prstGeom prst="line">
            <a:avLst/>
          </a:prstGeom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34120" y="2216160"/>
            <a:ext cx="0" cy="3568680"/>
          </a:xfrm>
          <a:prstGeom prst="line">
            <a:avLst/>
          </a:prstGeom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920880" y="4038480"/>
            <a:ext cx="6769080" cy="0"/>
          </a:xfrm>
          <a:prstGeom prst="line">
            <a:avLst/>
          </a:prstGeom>
          <a:ln w="12600">
            <a:solidFill>
              <a:srgbClr val="dc008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880" y="30337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0880" y="4633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38440" y="166212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48120" y="166212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34120" y="1662120"/>
            <a:ext cx="50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36040" y="6081840"/>
            <a:ext cx="629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uesta salto entre cada par entrada/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ptimización de consig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2749680" y="3879720"/>
            <a:ext cx="919080" cy="67644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681360" y="404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681360" y="4389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76480" y="336384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24120" y="3960720"/>
            <a:ext cx="101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14520" y="3505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59200" y="4106880"/>
            <a:ext cx="29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55800" y="3591000"/>
            <a:ext cx="48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4379760" y="3879720"/>
            <a:ext cx="3014640" cy="946440"/>
            <a:chOff x="4379760" y="3879720"/>
            <a:chExt cx="3014640" cy="946440"/>
          </a:xfrm>
        </p:grpSpPr>
        <p:sp>
          <p:nvSpPr>
            <p:cNvPr id="705" name=""/>
            <p:cNvSpPr/>
            <p:nvPr/>
          </p:nvSpPr>
          <p:spPr>
            <a:xfrm>
              <a:off x="5233680" y="3879720"/>
              <a:ext cx="1306800" cy="67644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79760" y="3879720"/>
              <a:ext cx="530280" cy="67644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22640" y="404640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922640" y="438948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53080" y="404640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53080" y="438948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208840" y="4021200"/>
              <a:ext cx="1018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48200" y="456876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600440" y="4819680"/>
              <a:ext cx="125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4606920" y="45561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6780240" y="4395960"/>
            <a:ext cx="0" cy="67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3358800" y="5078520"/>
            <a:ext cx="342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365640" y="455616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12080" y="405288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2970360" y="5249880"/>
            <a:ext cx="40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976480" y="4555800"/>
            <a:ext cx="0" cy="7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65640" y="336384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62320" y="2590920"/>
            <a:ext cx="1539720" cy="84744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87280" y="2781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59280" y="227664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timización en linea del punto de trabajo con criterios econó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ndencias en la indust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gencias crecientes de optimización de costos, mejor calidad, productividad, seguridad, respeto al medio ambiente, funcionamiento de las plantas en un amplio rango de condiciones de operación,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ere una mejora de los sistemas de control para cumplir especif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esidad de racionalizar las decisiones de nivel superior con significado económico y de integrar todas las decisiones a diversos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 flipH="1" rot="16200000">
            <a:off x="3929400" y="3625920"/>
            <a:ext cx="596880" cy="6728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ook Antiqua"/>
              </a:rPr>
              <a:t>Regulación automática conven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82840" y="4654440"/>
            <a:ext cx="1968480" cy="11304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54240" y="4807080"/>
            <a:ext cx="21600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64280" y="4807080"/>
            <a:ext cx="21564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0176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063880" y="5175360"/>
            <a:ext cx="2156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3880" y="5187960"/>
            <a:ext cx="2156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71880" y="503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28960" y="4933800"/>
            <a:ext cx="284040" cy="795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9248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111640" y="3943440"/>
            <a:ext cx="1739880" cy="406080"/>
            <a:chOff x="5111640" y="3943440"/>
            <a:chExt cx="1739880" cy="406080"/>
          </a:xfrm>
        </p:grpSpPr>
        <p:sp>
          <p:nvSpPr>
            <p:cNvPr id="122" name=""/>
            <p:cNvSpPr/>
            <p:nvPr/>
          </p:nvSpPr>
          <p:spPr>
            <a:xfrm>
              <a:off x="5111640" y="426708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28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873760" y="418428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73760" y="419724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588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981760" y="4043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38840" y="3943440"/>
              <a:ext cx="284040" cy="792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02360" y="4267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10552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5797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54040" y="4807080"/>
            <a:ext cx="29232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9560" y="3816360"/>
            <a:ext cx="29196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4121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3880" y="4349880"/>
            <a:ext cx="29196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00200" y="448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6680" y="449568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654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3435480"/>
            <a:ext cx="0" cy="90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7440" y="3435480"/>
            <a:ext cx="29232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3581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054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35480" y="4121280"/>
            <a:ext cx="291960" cy="29196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5867280"/>
            <a:ext cx="291960" cy="29232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58128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901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41440" y="2646360"/>
            <a:ext cx="96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8160" y="5943600"/>
            <a:ext cx="97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53720" y="5389560"/>
            <a:ext cx="185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39400" y="4322880"/>
            <a:ext cx="140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35480" y="3282840"/>
            <a:ext cx="291960" cy="29232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3560" y="3429000"/>
            <a:ext cx="12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66720" y="601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 lazo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92280" y="1987560"/>
                <a:ext cx="8140680" cy="410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035680" y="3282840"/>
            <a:ext cx="1968480" cy="9781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82640" y="3282840"/>
            <a:ext cx="1739880" cy="97812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5480" y="380988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6760" y="380988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38163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508120" y="5181480"/>
            <a:ext cx="534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426060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0880" y="380988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3684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3276720"/>
            <a:ext cx="380880" cy="380880"/>
          </a:xfrm>
          <a:custGeom>
            <a:avLst/>
            <a:gdLst>
              <a:gd name="textAreaLeft" fmla="*/ 14040 w 380880"/>
              <a:gd name="textAreaRight" fmla="*/ 366840 w 380880"/>
              <a:gd name="textAreaTop" fmla="*/ 14040 h 380880"/>
              <a:gd name="textAreaBottom" fmla="*/ 304200 h 380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1800" y="3255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327672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5146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1800" y="386568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87320" y="386568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72000" y="24192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1840" y="386568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1200" y="2435400"/>
            <a:ext cx="6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Intera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4654440"/>
            <a:ext cx="1968480" cy="113040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35480" y="4807080"/>
            <a:ext cx="21564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45160" y="4807080"/>
            <a:ext cx="216000" cy="9777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2640" y="5257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444760" y="5175360"/>
            <a:ext cx="21600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4760" y="5187960"/>
            <a:ext cx="2160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52760" y="503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9840" y="4933800"/>
            <a:ext cx="284040" cy="795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73360" y="52578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492880" y="3943440"/>
            <a:ext cx="1739880" cy="406080"/>
            <a:chOff x="5492880" y="3943440"/>
            <a:chExt cx="1739880" cy="406080"/>
          </a:xfrm>
        </p:grpSpPr>
        <p:sp>
          <p:nvSpPr>
            <p:cNvPr id="193" name=""/>
            <p:cNvSpPr/>
            <p:nvPr/>
          </p:nvSpPr>
          <p:spPr>
            <a:xfrm>
              <a:off x="5492880" y="4267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4852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254640" y="4184280"/>
              <a:ext cx="2160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54640" y="4197240"/>
              <a:ext cx="2160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77120" y="419724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62640" y="4043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19720" y="3943440"/>
              <a:ext cx="284400" cy="792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83240" y="426708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86400" y="4273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57974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48070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40440" y="3816360"/>
            <a:ext cx="29232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4121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44760" y="43498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981080" y="44895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7560" y="44956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46544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313056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8680" y="34354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83240" y="35812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3587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3054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16360" y="41212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0760" y="4121280"/>
            <a:ext cx="291960" cy="29196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425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9160" y="2673360"/>
            <a:ext cx="2044800" cy="82548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96252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76920" y="349848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584440" y="31240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6560" y="30481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216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1844640"/>
            <a:ext cx="96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88360" y="1916280"/>
            <a:ext cx="97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25960" y="538956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ige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7400" y="5943600"/>
            <a:ext cx="120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00240" y="257184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7600" y="249552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27960" y="41259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76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l control avanzado tiene en cuenta la interacción entre las variables y tata de controlar la unidad  de proceso como un 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ook Antiqua"/>
              </a:rPr>
              <a:t>Procesos multivariables (MIM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4040" y="2112840"/>
            <a:ext cx="40719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ocesos multi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interacción crea problemas de control. Además cuando hay restricciones en las variables, perturbaciones, etc.  las llamadas estructur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no siempre dan buenos resultados y son difíciles de mante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onsecuencia, a menudo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 se regula manu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un oper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267080" y="1371600"/>
            <a:ext cx="4650120" cy="5003280"/>
            <a:chOff x="4267080" y="1371600"/>
            <a:chExt cx="4650120" cy="5003280"/>
          </a:xfrm>
        </p:grpSpPr>
        <p:grpSp>
          <p:nvGrpSpPr>
            <p:cNvPr id="239" name=""/>
            <p:cNvGrpSpPr/>
            <p:nvPr/>
          </p:nvGrpSpPr>
          <p:grpSpPr>
            <a:xfrm>
              <a:off x="4817520" y="5088600"/>
              <a:ext cx="183240" cy="285480"/>
              <a:chOff x="4817520" y="5088600"/>
              <a:chExt cx="183240" cy="285480"/>
            </a:xfrm>
          </p:grpSpPr>
          <p:sp>
            <p:nvSpPr>
              <p:cNvPr id="240" name=""/>
              <p:cNvSpPr/>
              <p:nvPr/>
            </p:nvSpPr>
            <p:spPr>
              <a:xfrm>
                <a:off x="4838760" y="52599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840920" y="5254920"/>
                <a:ext cx="13644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40920" y="5259960"/>
                <a:ext cx="1364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9520" y="52599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908960" y="516960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17520" y="5088600"/>
                <a:ext cx="183240" cy="810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689080" y="2157840"/>
              <a:ext cx="458640" cy="3216240"/>
            </a:xfrm>
            <a:custGeom>
              <a:avLst/>
              <a:gdLst>
                <a:gd name="textAreaLeft" fmla="*/ 22320 w 458640"/>
                <a:gd name="textAreaRight" fmla="*/ 436320 w 458640"/>
                <a:gd name="textAreaTop" fmla="*/ 22320 h 3216240"/>
                <a:gd name="textAreaBottom" fmla="*/ 3193920 h 3216240"/>
              </a:gdLst>
              <a:ahLst/>
              <a:rect l="textAreaLeft" t="textAreaTop" r="textAreaRight" b="textAreaBottom"/>
              <a:pathLst>
                <a:path w="21600" h="151369">
                  <a:moveTo>
                    <a:pt x="3600" y="0"/>
                  </a:moveTo>
                  <a:arcTo wR="3600" hR="3600" stAng="16200000" swAng="-5400000"/>
                  <a:lnTo>
                    <a:pt x="0" y="147769"/>
                  </a:lnTo>
                  <a:arcTo wR="3600" hR="3600" stAng="10800000" swAng="-5400000"/>
                  <a:lnTo>
                    <a:pt x="18000" y="1513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267080" y="3724200"/>
              <a:ext cx="1414440" cy="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185800" y="5159880"/>
              <a:ext cx="273960" cy="43020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277240" y="5304240"/>
              <a:ext cx="9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7240" y="5375880"/>
              <a:ext cx="9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4977000" y="5302440"/>
              <a:ext cx="391680" cy="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322240" y="5590080"/>
              <a:ext cx="7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000760" y="5445720"/>
              <a:ext cx="36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18760" y="5374440"/>
              <a:ext cx="0" cy="53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689080" y="494568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826600" y="451656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689080" y="408780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826600" y="365904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689080" y="323028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826600" y="2801160"/>
              <a:ext cx="32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22240" y="5731920"/>
              <a:ext cx="59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873040" y="5874480"/>
              <a:ext cx="183240" cy="285840"/>
              <a:chOff x="5873040" y="5874480"/>
              <a:chExt cx="183240" cy="28584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5875920" y="5907600"/>
                <a:ext cx="7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73040" y="5910840"/>
                <a:ext cx="7632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5875920" y="5910840"/>
                <a:ext cx="70200" cy="21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875920" y="6126840"/>
                <a:ext cx="7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10120" y="6017400"/>
                <a:ext cx="9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5400000">
                <a:off x="5887440" y="5991480"/>
                <a:ext cx="285840" cy="518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918760" y="6126480"/>
              <a:ext cx="0" cy="24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85600" y="587448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85600" y="5159880"/>
              <a:ext cx="175680" cy="27360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148080" y="53028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77400" y="54457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055920" y="601776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469200" y="601776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97000" y="5170680"/>
              <a:ext cx="446040" cy="51840"/>
            </a:xfrm>
            <a:custGeom>
              <a:avLst/>
              <a:gdLst/>
              <a:ahLst/>
              <a:rect l="l" t="t" r="r" b="b"/>
              <a:pathLst>
                <a:path w="467" h="35">
                  <a:moveTo>
                    <a:pt x="0" y="11"/>
                  </a:moveTo>
                  <a:cubicBezTo>
                    <a:pt x="98" y="0"/>
                    <a:pt x="78" y="8"/>
                    <a:pt x="155" y="35"/>
                  </a:cubicBezTo>
                  <a:cubicBezTo>
                    <a:pt x="187" y="14"/>
                    <a:pt x="195" y="9"/>
                    <a:pt x="233" y="19"/>
                  </a:cubicBezTo>
                  <a:cubicBezTo>
                    <a:pt x="256" y="16"/>
                    <a:pt x="339" y="3"/>
                    <a:pt x="358" y="3"/>
                  </a:cubicBezTo>
                  <a:cubicBezTo>
                    <a:pt x="377" y="3"/>
                    <a:pt x="394" y="17"/>
                    <a:pt x="413" y="19"/>
                  </a:cubicBezTo>
                  <a:cubicBezTo>
                    <a:pt x="431" y="21"/>
                    <a:pt x="449" y="19"/>
                    <a:pt x="467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322240" y="501660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22240" y="5016960"/>
              <a:ext cx="3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50320" y="5302800"/>
              <a:ext cx="38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0760" y="544572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50320" y="4671360"/>
              <a:ext cx="175680" cy="27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16440" y="4659480"/>
              <a:ext cx="175680" cy="273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542120" y="494568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3920" y="480240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09320" y="494568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903200" y="4373640"/>
              <a:ext cx="540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154200" y="246168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40760" y="2657880"/>
              <a:ext cx="642240" cy="50040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6885720" y="3487680"/>
              <a:ext cx="183600" cy="285120"/>
              <a:chOff x="6885720" y="3487680"/>
              <a:chExt cx="183600" cy="28512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6906960" y="34920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09120" y="3487680"/>
                <a:ext cx="13680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6909120" y="3492000"/>
                <a:ext cx="13680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7047720" y="349200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77520" y="3545280"/>
                <a:ext cx="0" cy="14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885720" y="3692160"/>
                <a:ext cx="183600" cy="806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5918760" y="187200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18760" y="1872000"/>
              <a:ext cx="151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32920" y="1514520"/>
              <a:ext cx="451080" cy="64296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707960" y="1371600"/>
              <a:ext cx="275040" cy="3574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7960" y="1729080"/>
              <a:ext cx="0" cy="1425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570440" y="1888560"/>
              <a:ext cx="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70440" y="1729080"/>
              <a:ext cx="137520" cy="1425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70440" y="1729080"/>
              <a:ext cx="0" cy="1591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914880" y="2131200"/>
              <a:ext cx="280800" cy="326880"/>
              <a:chOff x="6914880" y="2131200"/>
              <a:chExt cx="280800" cy="326880"/>
            </a:xfrm>
          </p:grpSpPr>
          <p:sp>
            <p:nvSpPr>
              <p:cNvPr id="305" name=""/>
              <p:cNvSpPr/>
              <p:nvPr/>
            </p:nvSpPr>
            <p:spPr>
              <a:xfrm>
                <a:off x="7019280" y="2360880"/>
                <a:ext cx="547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078320" y="2286720"/>
                <a:ext cx="5832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21080" y="2359800"/>
                <a:ext cx="173160" cy="2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140960" y="2289960"/>
                <a:ext cx="5472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7034400" y="2246400"/>
                <a:ext cx="74160" cy="12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791000">
                <a:off x="6922440" y="2171520"/>
                <a:ext cx="183600" cy="8064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285600" y="201456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07080" y="201456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02000" y="215784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69200" y="215784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90320" y="215784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157520" y="1871640"/>
              <a:ext cx="412920" cy="4287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62240" y="215784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62240" y="3158640"/>
              <a:ext cx="0" cy="35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8396280" y="3301200"/>
              <a:ext cx="183240" cy="285480"/>
              <a:chOff x="8396280" y="3301200"/>
              <a:chExt cx="183240" cy="285480"/>
            </a:xfrm>
          </p:grpSpPr>
          <p:sp>
            <p:nvSpPr>
              <p:cNvPr id="320" name=""/>
              <p:cNvSpPr/>
              <p:nvPr/>
            </p:nvSpPr>
            <p:spPr>
              <a:xfrm>
                <a:off x="8417520" y="34725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8419680" y="3467520"/>
                <a:ext cx="13644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419680" y="3472560"/>
                <a:ext cx="1364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58280" y="347256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8487720" y="3382200"/>
                <a:ext cx="0" cy="14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396280" y="3301200"/>
                <a:ext cx="183240" cy="81000"/>
              </a:xfrm>
              <a:prstGeom prst="ellipse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8075160" y="287244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96280" y="2872440"/>
              <a:ext cx="175680" cy="2739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579880" y="3515760"/>
              <a:ext cx="22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69320" y="3535560"/>
              <a:ext cx="1347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83360" y="301572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58760" y="301572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488080" y="315864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88080" y="265788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516880" y="3714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50480" y="2874240"/>
              <a:ext cx="624960" cy="69840"/>
            </a:xfrm>
            <a:custGeom>
              <a:avLst/>
              <a:gdLst/>
              <a:ahLst/>
              <a:rect l="l" t="t" r="r" b="b"/>
              <a:pathLst>
                <a:path w="654" h="47">
                  <a:moveTo>
                    <a:pt x="0" y="10"/>
                  </a:moveTo>
                  <a:cubicBezTo>
                    <a:pt x="52" y="28"/>
                    <a:pt x="118" y="10"/>
                    <a:pt x="179" y="18"/>
                  </a:cubicBezTo>
                  <a:cubicBezTo>
                    <a:pt x="238" y="39"/>
                    <a:pt x="169" y="18"/>
                    <a:pt x="296" y="18"/>
                  </a:cubicBezTo>
                  <a:cubicBezTo>
                    <a:pt x="332" y="18"/>
                    <a:pt x="369" y="23"/>
                    <a:pt x="405" y="26"/>
                  </a:cubicBezTo>
                  <a:cubicBezTo>
                    <a:pt x="474" y="47"/>
                    <a:pt x="521" y="7"/>
                    <a:pt x="584" y="2"/>
                  </a:cubicBezTo>
                  <a:cubicBezTo>
                    <a:pt x="607" y="0"/>
                    <a:pt x="631" y="2"/>
                    <a:pt x="654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882120" y="2443680"/>
              <a:ext cx="137520" cy="14292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68560" y="2473560"/>
              <a:ext cx="0" cy="10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567480" y="355032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90760" y="3911760"/>
              <a:ext cx="175680" cy="27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41760" y="3935880"/>
              <a:ext cx="175680" cy="273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27800" y="3539880"/>
              <a:ext cx="0" cy="39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059960" y="4060800"/>
              <a:ext cx="17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969960" y="3759840"/>
              <a:ext cx="7560" cy="15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44840" y="3197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57520" y="5082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24640" y="2904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9480" y="4618080"/>
              <a:ext cx="175680" cy="273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78400" y="4223160"/>
              <a:ext cx="175680" cy="273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555520" y="478008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467320" y="449136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906800" y="43750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5520" y="3968640"/>
              <a:ext cx="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3480" y="2552400"/>
              <a:ext cx="175680" cy="273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3480" y="3922560"/>
              <a:ext cx="175680" cy="2739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150960" y="2692440"/>
              <a:ext cx="9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9520" y="2831040"/>
              <a:ext cx="0" cy="110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23480" y="4087800"/>
              <a:ext cx="458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98520" y="230076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331680" y="417240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04600" y="3873600"/>
              <a:ext cx="175680" cy="273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17520" y="3873600"/>
              <a:ext cx="175680" cy="2736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496400" y="37299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87840" y="4016160"/>
              <a:ext cx="22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63240" y="4302360"/>
              <a:ext cx="91800" cy="142560"/>
            </a:xfrm>
            <a:prstGeom prst="flowChar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09320" y="41590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ook Antiqua"/>
              </a:rPr>
              <a:t>Control Multi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4040" y="2112840"/>
            <a:ext cx="385632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ontrol multivariable, y en particular el MPC, tien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enta la interacción entr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, sus restri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perturbaciones, etc.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e realizar u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iciente de forma automát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riendo las puertas a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ción de su p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818240" y="5087880"/>
            <a:ext cx="182520" cy="286920"/>
            <a:chOff x="4818240" y="5087880"/>
            <a:chExt cx="182520" cy="286920"/>
          </a:xfrm>
        </p:grpSpPr>
        <p:sp>
          <p:nvSpPr>
            <p:cNvPr id="369" name=""/>
            <p:cNvSpPr/>
            <p:nvPr/>
          </p:nvSpPr>
          <p:spPr>
            <a:xfrm>
              <a:off x="4839480" y="526032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841280" y="5255280"/>
              <a:ext cx="13572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41280" y="5260320"/>
              <a:ext cx="13572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79520" y="526032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09320" y="516924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18240" y="5087880"/>
              <a:ext cx="182520" cy="8136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689440" y="2157480"/>
            <a:ext cx="459000" cy="3217680"/>
          </a:xfrm>
          <a:custGeom>
            <a:avLst/>
            <a:gdLst>
              <a:gd name="textAreaLeft" fmla="*/ 22320 w 459000"/>
              <a:gd name="textAreaRight" fmla="*/ 436680 w 459000"/>
              <a:gd name="textAreaTop" fmla="*/ 22320 h 3217680"/>
              <a:gd name="textAreaBottom" fmla="*/ 3195360 h 3217680"/>
            </a:gdLst>
            <a:ahLst/>
            <a:rect l="textAreaLeft" t="textAreaTop" r="textAreaRight" b="textAreaBottom"/>
            <a:pathLst>
              <a:path w="21600" h="151318">
                <a:moveTo>
                  <a:pt x="3600" y="0"/>
                </a:moveTo>
                <a:arcTo wR="3600" hR="3600" stAng="16200000" swAng="-5400000"/>
                <a:lnTo>
                  <a:pt x="0" y="147718"/>
                </a:lnTo>
                <a:arcTo wR="3600" hR="3600" stAng="10800000" swAng="-5400000"/>
                <a:lnTo>
                  <a:pt x="18000" y="151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267080" y="3724200"/>
            <a:ext cx="141444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186520" y="5160960"/>
            <a:ext cx="274320" cy="43020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276880" y="5305320"/>
            <a:ext cx="92160" cy="7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76880" y="5376960"/>
            <a:ext cx="921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976640" y="5303880"/>
            <a:ext cx="392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322960" y="55908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000400" y="544680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18040" y="5375160"/>
            <a:ext cx="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689080" y="49449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827320" y="451656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689080" y="408780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827320" y="36590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689080" y="323064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827320" y="280188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22960" y="573264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873760" y="5875200"/>
            <a:ext cx="182160" cy="285840"/>
            <a:chOff x="5873760" y="5875200"/>
            <a:chExt cx="182160" cy="285840"/>
          </a:xfrm>
        </p:grpSpPr>
        <p:sp>
          <p:nvSpPr>
            <p:cNvPr id="392" name=""/>
            <p:cNvSpPr/>
            <p:nvPr/>
          </p:nvSpPr>
          <p:spPr>
            <a:xfrm flipH="1">
              <a:off x="5876640" y="590832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73760" y="591156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76640" y="5911560"/>
              <a:ext cx="698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876640" y="612756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10120" y="6018120"/>
              <a:ext cx="9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5400000">
              <a:off x="5887080" y="5992200"/>
              <a:ext cx="285840" cy="5148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918040" y="6126120"/>
            <a:ext cx="0" cy="24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86680" y="5875200"/>
            <a:ext cx="174600" cy="2732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86680" y="5160960"/>
            <a:ext cx="174600" cy="272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148440" y="530388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77040" y="544680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056280" y="6018120"/>
            <a:ext cx="23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468840" y="601812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97360" y="5170320"/>
            <a:ext cx="446400" cy="52560"/>
          </a:xfrm>
          <a:custGeom>
            <a:avLst/>
            <a:gdLst/>
            <a:ahLst/>
            <a:rect l="l" t="t" r="r" b="b"/>
            <a:pathLst>
              <a:path w="467" h="35">
                <a:moveTo>
                  <a:pt x="0" y="11"/>
                </a:moveTo>
                <a:cubicBezTo>
                  <a:pt x="98" y="0"/>
                  <a:pt x="78" y="8"/>
                  <a:pt x="155" y="35"/>
                </a:cubicBezTo>
                <a:cubicBezTo>
                  <a:pt x="187" y="14"/>
                  <a:pt x="195" y="9"/>
                  <a:pt x="233" y="19"/>
                </a:cubicBezTo>
                <a:cubicBezTo>
                  <a:pt x="256" y="16"/>
                  <a:pt x="339" y="3"/>
                  <a:pt x="358" y="3"/>
                </a:cubicBezTo>
                <a:cubicBezTo>
                  <a:pt x="377" y="3"/>
                  <a:pt x="394" y="17"/>
                  <a:pt x="413" y="19"/>
                </a:cubicBezTo>
                <a:cubicBezTo>
                  <a:pt x="431" y="21"/>
                  <a:pt x="449" y="19"/>
                  <a:pt x="467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322960" y="50162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22960" y="5016600"/>
            <a:ext cx="366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51400" y="5303880"/>
            <a:ext cx="387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00760" y="5446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51400" y="4672080"/>
            <a:ext cx="174600" cy="272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16440" y="4659480"/>
            <a:ext cx="176400" cy="274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541760" y="49446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33920" y="480204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10040" y="49449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00680" y="4416480"/>
            <a:ext cx="3240" cy="2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154200" y="2462040"/>
            <a:ext cx="41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40760" y="2658960"/>
            <a:ext cx="642600" cy="50004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86440" y="3488040"/>
            <a:ext cx="182520" cy="285480"/>
            <a:chOff x="6886440" y="3488040"/>
            <a:chExt cx="182520" cy="285480"/>
          </a:xfrm>
        </p:grpSpPr>
        <p:sp>
          <p:nvSpPr>
            <p:cNvPr id="419" name=""/>
            <p:cNvSpPr/>
            <p:nvPr/>
          </p:nvSpPr>
          <p:spPr>
            <a:xfrm flipV="1">
              <a:off x="6907680" y="349272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09480" y="3488040"/>
              <a:ext cx="13572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909480" y="3492720"/>
              <a:ext cx="13572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047720" y="349272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77520" y="354492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886440" y="3692160"/>
              <a:ext cx="182520" cy="810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V="1">
            <a:off x="5918040" y="187164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18040" y="18716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32560" y="1514520"/>
            <a:ext cx="451080" cy="6429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709040" y="1371600"/>
            <a:ext cx="274320" cy="3571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09040" y="1728720"/>
            <a:ext cx="0" cy="1429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70800" y="1889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7570800" y="1728360"/>
            <a:ext cx="138240" cy="14292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70800" y="1728720"/>
            <a:ext cx="0" cy="16056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914520" y="2130480"/>
            <a:ext cx="281520" cy="327600"/>
            <a:chOff x="6914520" y="2130480"/>
            <a:chExt cx="281520" cy="327600"/>
          </a:xfrm>
        </p:grpSpPr>
        <p:sp>
          <p:nvSpPr>
            <p:cNvPr id="434" name=""/>
            <p:cNvSpPr/>
            <p:nvPr/>
          </p:nvSpPr>
          <p:spPr>
            <a:xfrm>
              <a:off x="7018920" y="2360520"/>
              <a:ext cx="55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078320" y="2286360"/>
              <a:ext cx="5832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20720" y="2359440"/>
              <a:ext cx="173520" cy="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0960" y="2289600"/>
              <a:ext cx="55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034760" y="2246760"/>
              <a:ext cx="74160" cy="12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9791000">
              <a:off x="6922080" y="2171160"/>
              <a:ext cx="183960" cy="810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286680" y="2014560"/>
            <a:ext cx="174600" cy="2746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07080" y="2014560"/>
            <a:ext cx="176400" cy="2746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02360" y="215748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69200" y="215748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91400" y="2157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157880" y="1871280"/>
            <a:ext cx="412920" cy="42876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62960" y="2157480"/>
            <a:ext cx="0" cy="50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62960" y="3159000"/>
            <a:ext cx="0" cy="35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396280" y="3301920"/>
            <a:ext cx="184320" cy="285480"/>
            <a:chOff x="8396280" y="3301920"/>
            <a:chExt cx="184320" cy="285480"/>
          </a:xfrm>
        </p:grpSpPr>
        <p:sp>
          <p:nvSpPr>
            <p:cNvPr id="449" name=""/>
            <p:cNvSpPr/>
            <p:nvPr/>
          </p:nvSpPr>
          <p:spPr>
            <a:xfrm>
              <a:off x="8417520" y="34732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8419680" y="3468240"/>
              <a:ext cx="13716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19680" y="3473280"/>
              <a:ext cx="13716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59000" y="3473280"/>
              <a:ext cx="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8488440" y="3382920"/>
              <a:ext cx="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96280" y="3301920"/>
              <a:ext cx="184320" cy="81000"/>
            </a:xfrm>
            <a:prstGeom prst="ellipse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8075520" y="2873520"/>
            <a:ext cx="176400" cy="272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96280" y="2873520"/>
            <a:ext cx="176400" cy="2728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580600" y="3516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68960" y="3535200"/>
            <a:ext cx="134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983360" y="301608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58040" y="3016080"/>
            <a:ext cx="138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488440" y="3159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488440" y="26589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517600" y="371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50120" y="2874960"/>
            <a:ext cx="625320" cy="69840"/>
          </a:xfrm>
          <a:custGeom>
            <a:avLst/>
            <a:gdLst/>
            <a:ahLst/>
            <a:rect l="l" t="t" r="r" b="b"/>
            <a:pathLst>
              <a:path w="654" h="47">
                <a:moveTo>
                  <a:pt x="0" y="10"/>
                </a:moveTo>
                <a:cubicBezTo>
                  <a:pt x="52" y="28"/>
                  <a:pt x="118" y="10"/>
                  <a:pt x="179" y="18"/>
                </a:cubicBezTo>
                <a:cubicBezTo>
                  <a:pt x="238" y="39"/>
                  <a:pt x="169" y="18"/>
                  <a:pt x="296" y="18"/>
                </a:cubicBezTo>
                <a:cubicBezTo>
                  <a:pt x="332" y="18"/>
                  <a:pt x="369" y="23"/>
                  <a:pt x="405" y="26"/>
                </a:cubicBezTo>
                <a:cubicBezTo>
                  <a:pt x="474" y="47"/>
                  <a:pt x="521" y="7"/>
                  <a:pt x="584" y="2"/>
                </a:cubicBezTo>
                <a:cubicBezTo>
                  <a:pt x="607" y="0"/>
                  <a:pt x="631" y="2"/>
                  <a:pt x="654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881760" y="2443320"/>
            <a:ext cx="138240" cy="142560"/>
          </a:xfrm>
          <a:prstGeom prst="line">
            <a:avLst/>
          </a:prstGeom>
          <a:ln w="2844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68920" y="2473200"/>
            <a:ext cx="0" cy="107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67120" y="354960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1480" y="3911760"/>
            <a:ext cx="176040" cy="274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42120" y="3935520"/>
            <a:ext cx="176400" cy="274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27800" y="35402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7059600" y="40608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970680" y="3760920"/>
            <a:ext cx="7920" cy="14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560" y="3197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58240" y="508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25000" y="2904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4883040"/>
            <a:ext cx="176040" cy="2746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576480" y="504504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917600" y="4417920"/>
            <a:ext cx="2691000" cy="9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3480" y="2552760"/>
            <a:ext cx="176400" cy="2746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151320" y="2692440"/>
            <a:ext cx="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324480" y="2819520"/>
            <a:ext cx="0" cy="185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699240" y="2300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05320" y="3873600"/>
            <a:ext cx="174600" cy="274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497480" y="3730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87840" y="401652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15200" y="4572000"/>
            <a:ext cx="106668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315120" y="4667400"/>
            <a:ext cx="977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156360" y="502920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8186760" y="4307040"/>
            <a:ext cx="0" cy="264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985080" y="4307040"/>
            <a:ext cx="12016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6975360" y="4199040"/>
            <a:ext cx="0" cy="108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7612200" y="4422600"/>
            <a:ext cx="1440" cy="138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8378640" y="469908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8367480" y="498636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08560" y="401940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08560" y="4848120"/>
            <a:ext cx="108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ol y optim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4724280" y="2216160"/>
            <a:ext cx="0" cy="23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584440"/>
            <a:ext cx="2896920" cy="1096920"/>
          </a:xfrm>
          <a:custGeom>
            <a:avLst/>
            <a:gdLst/>
            <a:ahLst/>
            <a:rect l="l" t="t" r="r" b="b"/>
            <a:pathLst>
              <a:path w="1825" h="691">
                <a:moveTo>
                  <a:pt x="0" y="580"/>
                </a:moveTo>
                <a:lnTo>
                  <a:pt x="24" y="532"/>
                </a:lnTo>
                <a:lnTo>
                  <a:pt x="35" y="498"/>
                </a:lnTo>
                <a:lnTo>
                  <a:pt x="35" y="464"/>
                </a:lnTo>
                <a:lnTo>
                  <a:pt x="57" y="430"/>
                </a:lnTo>
                <a:lnTo>
                  <a:pt x="80" y="396"/>
                </a:lnTo>
                <a:lnTo>
                  <a:pt x="103" y="441"/>
                </a:lnTo>
                <a:lnTo>
                  <a:pt x="103" y="475"/>
                </a:lnTo>
                <a:lnTo>
                  <a:pt x="103" y="509"/>
                </a:lnTo>
                <a:lnTo>
                  <a:pt x="125" y="543"/>
                </a:lnTo>
                <a:lnTo>
                  <a:pt x="159" y="577"/>
                </a:lnTo>
                <a:lnTo>
                  <a:pt x="193" y="566"/>
                </a:lnTo>
                <a:lnTo>
                  <a:pt x="216" y="532"/>
                </a:lnTo>
                <a:lnTo>
                  <a:pt x="227" y="498"/>
                </a:lnTo>
                <a:lnTo>
                  <a:pt x="273" y="532"/>
                </a:lnTo>
                <a:lnTo>
                  <a:pt x="273" y="498"/>
                </a:lnTo>
                <a:lnTo>
                  <a:pt x="284" y="464"/>
                </a:lnTo>
                <a:lnTo>
                  <a:pt x="284" y="430"/>
                </a:lnTo>
                <a:lnTo>
                  <a:pt x="295" y="396"/>
                </a:lnTo>
                <a:lnTo>
                  <a:pt x="295" y="362"/>
                </a:lnTo>
                <a:lnTo>
                  <a:pt x="307" y="328"/>
                </a:lnTo>
                <a:lnTo>
                  <a:pt x="318" y="238"/>
                </a:lnTo>
                <a:lnTo>
                  <a:pt x="329" y="204"/>
                </a:lnTo>
                <a:lnTo>
                  <a:pt x="341" y="170"/>
                </a:lnTo>
                <a:lnTo>
                  <a:pt x="375" y="147"/>
                </a:lnTo>
                <a:lnTo>
                  <a:pt x="375" y="215"/>
                </a:lnTo>
                <a:lnTo>
                  <a:pt x="397" y="294"/>
                </a:lnTo>
                <a:lnTo>
                  <a:pt x="409" y="340"/>
                </a:lnTo>
                <a:lnTo>
                  <a:pt x="409" y="374"/>
                </a:lnTo>
                <a:lnTo>
                  <a:pt x="409" y="407"/>
                </a:lnTo>
                <a:lnTo>
                  <a:pt x="431" y="475"/>
                </a:lnTo>
                <a:lnTo>
                  <a:pt x="443" y="509"/>
                </a:lnTo>
                <a:lnTo>
                  <a:pt x="454" y="543"/>
                </a:lnTo>
                <a:lnTo>
                  <a:pt x="465" y="577"/>
                </a:lnTo>
                <a:lnTo>
                  <a:pt x="476" y="657"/>
                </a:lnTo>
                <a:lnTo>
                  <a:pt x="510" y="623"/>
                </a:lnTo>
                <a:lnTo>
                  <a:pt x="522" y="589"/>
                </a:lnTo>
                <a:lnTo>
                  <a:pt x="533" y="555"/>
                </a:lnTo>
                <a:lnTo>
                  <a:pt x="556" y="589"/>
                </a:lnTo>
                <a:lnTo>
                  <a:pt x="590" y="555"/>
                </a:lnTo>
                <a:lnTo>
                  <a:pt x="601" y="521"/>
                </a:lnTo>
                <a:lnTo>
                  <a:pt x="601" y="475"/>
                </a:lnTo>
                <a:lnTo>
                  <a:pt x="601" y="396"/>
                </a:lnTo>
                <a:lnTo>
                  <a:pt x="612" y="362"/>
                </a:lnTo>
                <a:lnTo>
                  <a:pt x="624" y="317"/>
                </a:lnTo>
                <a:lnTo>
                  <a:pt x="635" y="283"/>
                </a:lnTo>
                <a:lnTo>
                  <a:pt x="646" y="249"/>
                </a:lnTo>
                <a:lnTo>
                  <a:pt x="646" y="215"/>
                </a:lnTo>
                <a:lnTo>
                  <a:pt x="646" y="181"/>
                </a:lnTo>
                <a:lnTo>
                  <a:pt x="646" y="147"/>
                </a:lnTo>
                <a:lnTo>
                  <a:pt x="646" y="113"/>
                </a:lnTo>
                <a:lnTo>
                  <a:pt x="646" y="68"/>
                </a:lnTo>
                <a:lnTo>
                  <a:pt x="658" y="34"/>
                </a:lnTo>
                <a:lnTo>
                  <a:pt x="680" y="0"/>
                </a:lnTo>
                <a:lnTo>
                  <a:pt x="714" y="0"/>
                </a:lnTo>
                <a:lnTo>
                  <a:pt x="737" y="34"/>
                </a:lnTo>
                <a:lnTo>
                  <a:pt x="771" y="57"/>
                </a:lnTo>
                <a:lnTo>
                  <a:pt x="805" y="91"/>
                </a:lnTo>
                <a:lnTo>
                  <a:pt x="839" y="125"/>
                </a:lnTo>
                <a:lnTo>
                  <a:pt x="850" y="192"/>
                </a:lnTo>
                <a:lnTo>
                  <a:pt x="884" y="226"/>
                </a:lnTo>
                <a:lnTo>
                  <a:pt x="895" y="260"/>
                </a:lnTo>
                <a:lnTo>
                  <a:pt x="895" y="294"/>
                </a:lnTo>
                <a:lnTo>
                  <a:pt x="884" y="385"/>
                </a:lnTo>
                <a:lnTo>
                  <a:pt x="884" y="453"/>
                </a:lnTo>
                <a:lnTo>
                  <a:pt x="884" y="487"/>
                </a:lnTo>
                <a:lnTo>
                  <a:pt x="918" y="521"/>
                </a:lnTo>
                <a:lnTo>
                  <a:pt x="941" y="555"/>
                </a:lnTo>
                <a:lnTo>
                  <a:pt x="963" y="600"/>
                </a:lnTo>
                <a:lnTo>
                  <a:pt x="975" y="566"/>
                </a:lnTo>
                <a:lnTo>
                  <a:pt x="986" y="532"/>
                </a:lnTo>
                <a:lnTo>
                  <a:pt x="1020" y="453"/>
                </a:lnTo>
                <a:lnTo>
                  <a:pt x="1031" y="407"/>
                </a:lnTo>
                <a:lnTo>
                  <a:pt x="1043" y="374"/>
                </a:lnTo>
                <a:lnTo>
                  <a:pt x="1054" y="340"/>
                </a:lnTo>
                <a:lnTo>
                  <a:pt x="1054" y="306"/>
                </a:lnTo>
                <a:lnTo>
                  <a:pt x="1065" y="260"/>
                </a:lnTo>
                <a:lnTo>
                  <a:pt x="1077" y="226"/>
                </a:lnTo>
                <a:lnTo>
                  <a:pt x="1088" y="192"/>
                </a:lnTo>
                <a:lnTo>
                  <a:pt x="1088" y="158"/>
                </a:lnTo>
                <a:lnTo>
                  <a:pt x="1099" y="125"/>
                </a:lnTo>
                <a:lnTo>
                  <a:pt x="1111" y="91"/>
                </a:lnTo>
                <a:lnTo>
                  <a:pt x="1133" y="136"/>
                </a:lnTo>
                <a:lnTo>
                  <a:pt x="1145" y="249"/>
                </a:lnTo>
                <a:lnTo>
                  <a:pt x="1145" y="317"/>
                </a:lnTo>
                <a:lnTo>
                  <a:pt x="1156" y="453"/>
                </a:lnTo>
                <a:lnTo>
                  <a:pt x="1190" y="487"/>
                </a:lnTo>
                <a:lnTo>
                  <a:pt x="1201" y="577"/>
                </a:lnTo>
                <a:lnTo>
                  <a:pt x="1224" y="690"/>
                </a:lnTo>
                <a:lnTo>
                  <a:pt x="1246" y="600"/>
                </a:lnTo>
                <a:lnTo>
                  <a:pt x="1269" y="532"/>
                </a:lnTo>
                <a:lnTo>
                  <a:pt x="1269" y="577"/>
                </a:lnTo>
                <a:lnTo>
                  <a:pt x="1303" y="543"/>
                </a:lnTo>
                <a:lnTo>
                  <a:pt x="1314" y="577"/>
                </a:lnTo>
                <a:lnTo>
                  <a:pt x="1326" y="543"/>
                </a:lnTo>
                <a:lnTo>
                  <a:pt x="1337" y="509"/>
                </a:lnTo>
                <a:lnTo>
                  <a:pt x="1371" y="611"/>
                </a:lnTo>
                <a:lnTo>
                  <a:pt x="1405" y="600"/>
                </a:lnTo>
                <a:lnTo>
                  <a:pt x="1416" y="566"/>
                </a:lnTo>
                <a:lnTo>
                  <a:pt x="1428" y="475"/>
                </a:lnTo>
                <a:lnTo>
                  <a:pt x="1439" y="441"/>
                </a:lnTo>
                <a:lnTo>
                  <a:pt x="1439" y="407"/>
                </a:lnTo>
                <a:lnTo>
                  <a:pt x="1439" y="362"/>
                </a:lnTo>
                <a:lnTo>
                  <a:pt x="1439" y="328"/>
                </a:lnTo>
                <a:lnTo>
                  <a:pt x="1439" y="294"/>
                </a:lnTo>
                <a:lnTo>
                  <a:pt x="1450" y="215"/>
                </a:lnTo>
                <a:lnTo>
                  <a:pt x="1462" y="147"/>
                </a:lnTo>
                <a:lnTo>
                  <a:pt x="1473" y="113"/>
                </a:lnTo>
                <a:lnTo>
                  <a:pt x="1507" y="147"/>
                </a:lnTo>
                <a:lnTo>
                  <a:pt x="1552" y="260"/>
                </a:lnTo>
                <a:lnTo>
                  <a:pt x="1620" y="328"/>
                </a:lnTo>
                <a:lnTo>
                  <a:pt x="1688" y="419"/>
                </a:lnTo>
                <a:lnTo>
                  <a:pt x="1711" y="385"/>
                </a:lnTo>
                <a:lnTo>
                  <a:pt x="1722" y="351"/>
                </a:lnTo>
                <a:lnTo>
                  <a:pt x="1756" y="340"/>
                </a:lnTo>
                <a:lnTo>
                  <a:pt x="1790" y="362"/>
                </a:lnTo>
                <a:lnTo>
                  <a:pt x="1824" y="396"/>
                </a:lnTo>
                <a:lnTo>
                  <a:pt x="1824" y="3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73160" y="3200400"/>
            <a:ext cx="364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82640" y="259092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82640" y="3809880"/>
            <a:ext cx="5931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10240" y="2571840"/>
            <a:ext cx="2976480" cy="199800"/>
          </a:xfrm>
          <a:custGeom>
            <a:avLst/>
            <a:gdLst/>
            <a:ahLst/>
            <a:rect l="l" t="t" r="r" b="b"/>
            <a:pathLst>
              <a:path w="1875" h="126">
                <a:moveTo>
                  <a:pt x="0" y="89"/>
                </a:moveTo>
                <a:lnTo>
                  <a:pt x="51" y="68"/>
                </a:lnTo>
                <a:lnTo>
                  <a:pt x="85" y="57"/>
                </a:lnTo>
                <a:lnTo>
                  <a:pt x="130" y="23"/>
                </a:lnTo>
                <a:lnTo>
                  <a:pt x="164" y="12"/>
                </a:lnTo>
                <a:lnTo>
                  <a:pt x="187" y="46"/>
                </a:lnTo>
                <a:lnTo>
                  <a:pt x="221" y="80"/>
                </a:lnTo>
                <a:lnTo>
                  <a:pt x="255" y="91"/>
                </a:lnTo>
                <a:lnTo>
                  <a:pt x="289" y="80"/>
                </a:lnTo>
                <a:lnTo>
                  <a:pt x="323" y="80"/>
                </a:lnTo>
                <a:lnTo>
                  <a:pt x="346" y="114"/>
                </a:lnTo>
                <a:lnTo>
                  <a:pt x="380" y="102"/>
                </a:lnTo>
                <a:lnTo>
                  <a:pt x="414" y="91"/>
                </a:lnTo>
                <a:lnTo>
                  <a:pt x="436" y="57"/>
                </a:lnTo>
                <a:lnTo>
                  <a:pt x="470" y="23"/>
                </a:lnTo>
                <a:lnTo>
                  <a:pt x="504" y="12"/>
                </a:lnTo>
                <a:lnTo>
                  <a:pt x="538" y="34"/>
                </a:lnTo>
                <a:lnTo>
                  <a:pt x="572" y="57"/>
                </a:lnTo>
                <a:lnTo>
                  <a:pt x="606" y="68"/>
                </a:lnTo>
                <a:lnTo>
                  <a:pt x="651" y="57"/>
                </a:lnTo>
                <a:lnTo>
                  <a:pt x="685" y="34"/>
                </a:lnTo>
                <a:lnTo>
                  <a:pt x="719" y="23"/>
                </a:lnTo>
                <a:lnTo>
                  <a:pt x="753" y="12"/>
                </a:lnTo>
                <a:lnTo>
                  <a:pt x="787" y="0"/>
                </a:lnTo>
                <a:lnTo>
                  <a:pt x="821" y="23"/>
                </a:lnTo>
                <a:lnTo>
                  <a:pt x="855" y="57"/>
                </a:lnTo>
                <a:lnTo>
                  <a:pt x="878" y="91"/>
                </a:lnTo>
                <a:lnTo>
                  <a:pt x="912" y="102"/>
                </a:lnTo>
                <a:lnTo>
                  <a:pt x="946" y="102"/>
                </a:lnTo>
                <a:lnTo>
                  <a:pt x="980" y="102"/>
                </a:lnTo>
                <a:lnTo>
                  <a:pt x="1014" y="91"/>
                </a:lnTo>
                <a:lnTo>
                  <a:pt x="1048" y="125"/>
                </a:lnTo>
                <a:lnTo>
                  <a:pt x="1082" y="114"/>
                </a:lnTo>
                <a:lnTo>
                  <a:pt x="1116" y="91"/>
                </a:lnTo>
                <a:lnTo>
                  <a:pt x="1150" y="80"/>
                </a:lnTo>
                <a:lnTo>
                  <a:pt x="1184" y="57"/>
                </a:lnTo>
                <a:lnTo>
                  <a:pt x="1206" y="91"/>
                </a:lnTo>
                <a:lnTo>
                  <a:pt x="1240" y="68"/>
                </a:lnTo>
                <a:lnTo>
                  <a:pt x="1274" y="57"/>
                </a:lnTo>
                <a:lnTo>
                  <a:pt x="1308" y="57"/>
                </a:lnTo>
                <a:lnTo>
                  <a:pt x="1342" y="46"/>
                </a:lnTo>
                <a:lnTo>
                  <a:pt x="1365" y="12"/>
                </a:lnTo>
                <a:lnTo>
                  <a:pt x="1399" y="0"/>
                </a:lnTo>
                <a:lnTo>
                  <a:pt x="1489" y="46"/>
                </a:lnTo>
                <a:lnTo>
                  <a:pt x="1523" y="68"/>
                </a:lnTo>
                <a:lnTo>
                  <a:pt x="1557" y="57"/>
                </a:lnTo>
                <a:lnTo>
                  <a:pt x="1591" y="68"/>
                </a:lnTo>
                <a:lnTo>
                  <a:pt x="1625" y="91"/>
                </a:lnTo>
                <a:lnTo>
                  <a:pt x="1671" y="80"/>
                </a:lnTo>
                <a:lnTo>
                  <a:pt x="1704" y="68"/>
                </a:lnTo>
                <a:lnTo>
                  <a:pt x="1738" y="57"/>
                </a:lnTo>
                <a:lnTo>
                  <a:pt x="1772" y="46"/>
                </a:lnTo>
                <a:lnTo>
                  <a:pt x="1806" y="57"/>
                </a:lnTo>
                <a:lnTo>
                  <a:pt x="1840" y="80"/>
                </a:lnTo>
                <a:lnTo>
                  <a:pt x="1874" y="68"/>
                </a:lnTo>
                <a:lnTo>
                  <a:pt x="1872" y="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16360" y="2637000"/>
            <a:ext cx="326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82640" y="4495680"/>
            <a:ext cx="615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27240" y="44766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1720" y="2951280"/>
            <a:ext cx="52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041320" y="2389320"/>
            <a:ext cx="52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09720" y="2114640"/>
            <a:ext cx="197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ímite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79920" y="4856040"/>
            <a:ext cx="7486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ducción de varianza permite mover la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respetar los límites de l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jora del control permite la optim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5157720" y="4724280"/>
            <a:ext cx="3299040" cy="1906560"/>
            <a:chOff x="5157720" y="4724280"/>
            <a:chExt cx="3299040" cy="1906560"/>
          </a:xfrm>
        </p:grpSpPr>
        <p:sp>
          <p:nvSpPr>
            <p:cNvPr id="514" name=""/>
            <p:cNvSpPr/>
            <p:nvPr/>
          </p:nvSpPr>
          <p:spPr>
            <a:xfrm>
              <a:off x="5157720" y="4761000"/>
              <a:ext cx="1800" cy="15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7720" y="6310440"/>
              <a:ext cx="3299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399520" y="4867200"/>
              <a:ext cx="144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64480" y="5081760"/>
              <a:ext cx="1440" cy="11746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37320" y="5342040"/>
              <a:ext cx="1776600" cy="974520"/>
            </a:xfrm>
            <a:custGeom>
              <a:avLst/>
              <a:gdLst/>
              <a:ahLst/>
              <a:rect l="l" t="t" r="r" b="b"/>
              <a:pathLst>
                <a:path w="2239" h="1228">
                  <a:moveTo>
                    <a:pt x="0" y="1219"/>
                  </a:moveTo>
                  <a:lnTo>
                    <a:pt x="36" y="1194"/>
                  </a:lnTo>
                  <a:lnTo>
                    <a:pt x="54" y="1194"/>
                  </a:lnTo>
                  <a:lnTo>
                    <a:pt x="72" y="1194"/>
                  </a:lnTo>
                  <a:lnTo>
                    <a:pt x="90" y="1194"/>
                  </a:lnTo>
                  <a:lnTo>
                    <a:pt x="108" y="1177"/>
                  </a:lnTo>
                  <a:lnTo>
                    <a:pt x="125" y="1177"/>
                  </a:lnTo>
                  <a:lnTo>
                    <a:pt x="161" y="1144"/>
                  </a:lnTo>
                  <a:lnTo>
                    <a:pt x="179" y="1144"/>
                  </a:lnTo>
                  <a:lnTo>
                    <a:pt x="197" y="1127"/>
                  </a:lnTo>
                  <a:lnTo>
                    <a:pt x="215" y="1127"/>
                  </a:lnTo>
                  <a:lnTo>
                    <a:pt x="215" y="1110"/>
                  </a:lnTo>
                  <a:lnTo>
                    <a:pt x="233" y="1093"/>
                  </a:lnTo>
                  <a:lnTo>
                    <a:pt x="251" y="1076"/>
                  </a:lnTo>
                  <a:lnTo>
                    <a:pt x="269" y="1076"/>
                  </a:lnTo>
                  <a:lnTo>
                    <a:pt x="269" y="1060"/>
                  </a:lnTo>
                  <a:lnTo>
                    <a:pt x="287" y="1043"/>
                  </a:lnTo>
                  <a:lnTo>
                    <a:pt x="305" y="1026"/>
                  </a:lnTo>
                  <a:lnTo>
                    <a:pt x="322" y="1026"/>
                  </a:lnTo>
                  <a:lnTo>
                    <a:pt x="322" y="1009"/>
                  </a:lnTo>
                  <a:lnTo>
                    <a:pt x="340" y="1009"/>
                  </a:lnTo>
                  <a:lnTo>
                    <a:pt x="358" y="1009"/>
                  </a:lnTo>
                  <a:lnTo>
                    <a:pt x="376" y="992"/>
                  </a:lnTo>
                  <a:lnTo>
                    <a:pt x="376" y="976"/>
                  </a:lnTo>
                  <a:lnTo>
                    <a:pt x="394" y="976"/>
                  </a:lnTo>
                  <a:lnTo>
                    <a:pt x="412" y="959"/>
                  </a:lnTo>
                  <a:lnTo>
                    <a:pt x="430" y="942"/>
                  </a:lnTo>
                  <a:lnTo>
                    <a:pt x="448" y="942"/>
                  </a:lnTo>
                  <a:lnTo>
                    <a:pt x="448" y="925"/>
                  </a:lnTo>
                  <a:lnTo>
                    <a:pt x="484" y="891"/>
                  </a:lnTo>
                  <a:lnTo>
                    <a:pt x="520" y="875"/>
                  </a:lnTo>
                  <a:lnTo>
                    <a:pt x="537" y="858"/>
                  </a:lnTo>
                  <a:lnTo>
                    <a:pt x="537" y="841"/>
                  </a:lnTo>
                  <a:lnTo>
                    <a:pt x="555" y="841"/>
                  </a:lnTo>
                  <a:lnTo>
                    <a:pt x="555" y="807"/>
                  </a:lnTo>
                  <a:lnTo>
                    <a:pt x="573" y="807"/>
                  </a:lnTo>
                  <a:lnTo>
                    <a:pt x="591" y="807"/>
                  </a:lnTo>
                  <a:lnTo>
                    <a:pt x="609" y="774"/>
                  </a:lnTo>
                  <a:lnTo>
                    <a:pt x="717" y="740"/>
                  </a:lnTo>
                  <a:lnTo>
                    <a:pt x="717" y="723"/>
                  </a:lnTo>
                  <a:lnTo>
                    <a:pt x="735" y="706"/>
                  </a:lnTo>
                  <a:lnTo>
                    <a:pt x="752" y="690"/>
                  </a:lnTo>
                  <a:lnTo>
                    <a:pt x="770" y="673"/>
                  </a:lnTo>
                  <a:lnTo>
                    <a:pt x="788" y="656"/>
                  </a:lnTo>
                  <a:lnTo>
                    <a:pt x="788" y="639"/>
                  </a:lnTo>
                  <a:lnTo>
                    <a:pt x="806" y="622"/>
                  </a:lnTo>
                  <a:lnTo>
                    <a:pt x="824" y="605"/>
                  </a:lnTo>
                  <a:lnTo>
                    <a:pt x="842" y="589"/>
                  </a:lnTo>
                  <a:lnTo>
                    <a:pt x="842" y="572"/>
                  </a:lnTo>
                  <a:lnTo>
                    <a:pt x="860" y="555"/>
                  </a:lnTo>
                  <a:lnTo>
                    <a:pt x="878" y="521"/>
                  </a:lnTo>
                  <a:lnTo>
                    <a:pt x="914" y="420"/>
                  </a:lnTo>
                  <a:lnTo>
                    <a:pt x="949" y="404"/>
                  </a:lnTo>
                  <a:lnTo>
                    <a:pt x="949" y="387"/>
                  </a:lnTo>
                  <a:lnTo>
                    <a:pt x="967" y="370"/>
                  </a:lnTo>
                  <a:lnTo>
                    <a:pt x="985" y="353"/>
                  </a:lnTo>
                  <a:lnTo>
                    <a:pt x="1003" y="320"/>
                  </a:lnTo>
                  <a:lnTo>
                    <a:pt x="1003" y="303"/>
                  </a:lnTo>
                  <a:lnTo>
                    <a:pt x="1003" y="286"/>
                  </a:lnTo>
                  <a:lnTo>
                    <a:pt x="1021" y="269"/>
                  </a:lnTo>
                  <a:lnTo>
                    <a:pt x="1039" y="252"/>
                  </a:lnTo>
                  <a:lnTo>
                    <a:pt x="1057" y="235"/>
                  </a:lnTo>
                  <a:lnTo>
                    <a:pt x="1075" y="219"/>
                  </a:lnTo>
                  <a:lnTo>
                    <a:pt x="1075" y="202"/>
                  </a:lnTo>
                  <a:lnTo>
                    <a:pt x="1093" y="185"/>
                  </a:lnTo>
                  <a:lnTo>
                    <a:pt x="1129" y="151"/>
                  </a:lnTo>
                  <a:lnTo>
                    <a:pt x="1129" y="135"/>
                  </a:lnTo>
                  <a:lnTo>
                    <a:pt x="1129" y="118"/>
                  </a:lnTo>
                  <a:lnTo>
                    <a:pt x="1129" y="101"/>
                  </a:lnTo>
                  <a:lnTo>
                    <a:pt x="1147" y="84"/>
                  </a:lnTo>
                  <a:lnTo>
                    <a:pt x="1182" y="84"/>
                  </a:lnTo>
                  <a:lnTo>
                    <a:pt x="1182" y="67"/>
                  </a:lnTo>
                  <a:lnTo>
                    <a:pt x="1200" y="67"/>
                  </a:lnTo>
                  <a:lnTo>
                    <a:pt x="1200" y="50"/>
                  </a:lnTo>
                  <a:lnTo>
                    <a:pt x="1218" y="34"/>
                  </a:lnTo>
                  <a:lnTo>
                    <a:pt x="1236" y="17"/>
                  </a:lnTo>
                  <a:lnTo>
                    <a:pt x="1254" y="0"/>
                  </a:lnTo>
                  <a:lnTo>
                    <a:pt x="1272" y="17"/>
                  </a:lnTo>
                  <a:lnTo>
                    <a:pt x="1290" y="17"/>
                  </a:lnTo>
                  <a:lnTo>
                    <a:pt x="1290" y="34"/>
                  </a:lnTo>
                  <a:lnTo>
                    <a:pt x="1308" y="50"/>
                  </a:lnTo>
                  <a:lnTo>
                    <a:pt x="1326" y="67"/>
                  </a:lnTo>
                  <a:lnTo>
                    <a:pt x="1326" y="84"/>
                  </a:lnTo>
                  <a:lnTo>
                    <a:pt x="1344" y="84"/>
                  </a:lnTo>
                  <a:lnTo>
                    <a:pt x="1344" y="101"/>
                  </a:lnTo>
                  <a:lnTo>
                    <a:pt x="1362" y="118"/>
                  </a:lnTo>
                  <a:lnTo>
                    <a:pt x="1379" y="135"/>
                  </a:lnTo>
                  <a:lnTo>
                    <a:pt x="1379" y="151"/>
                  </a:lnTo>
                  <a:lnTo>
                    <a:pt x="1397" y="151"/>
                  </a:lnTo>
                  <a:lnTo>
                    <a:pt x="1415" y="168"/>
                  </a:lnTo>
                  <a:lnTo>
                    <a:pt x="1433" y="185"/>
                  </a:lnTo>
                  <a:lnTo>
                    <a:pt x="1433" y="202"/>
                  </a:lnTo>
                  <a:lnTo>
                    <a:pt x="1451" y="219"/>
                  </a:lnTo>
                  <a:lnTo>
                    <a:pt x="1469" y="235"/>
                  </a:lnTo>
                  <a:lnTo>
                    <a:pt x="1469" y="252"/>
                  </a:lnTo>
                  <a:lnTo>
                    <a:pt x="1487" y="269"/>
                  </a:lnTo>
                  <a:lnTo>
                    <a:pt x="1505" y="286"/>
                  </a:lnTo>
                  <a:lnTo>
                    <a:pt x="1505" y="303"/>
                  </a:lnTo>
                  <a:lnTo>
                    <a:pt x="1523" y="320"/>
                  </a:lnTo>
                  <a:lnTo>
                    <a:pt x="1541" y="336"/>
                  </a:lnTo>
                  <a:lnTo>
                    <a:pt x="1541" y="353"/>
                  </a:lnTo>
                  <a:lnTo>
                    <a:pt x="1559" y="370"/>
                  </a:lnTo>
                  <a:lnTo>
                    <a:pt x="1559" y="387"/>
                  </a:lnTo>
                  <a:lnTo>
                    <a:pt x="1576" y="420"/>
                  </a:lnTo>
                  <a:lnTo>
                    <a:pt x="1576" y="437"/>
                  </a:lnTo>
                  <a:lnTo>
                    <a:pt x="1594" y="471"/>
                  </a:lnTo>
                  <a:lnTo>
                    <a:pt x="1612" y="488"/>
                  </a:lnTo>
                  <a:lnTo>
                    <a:pt x="1612" y="505"/>
                  </a:lnTo>
                  <a:lnTo>
                    <a:pt x="1630" y="521"/>
                  </a:lnTo>
                  <a:lnTo>
                    <a:pt x="1648" y="538"/>
                  </a:lnTo>
                  <a:lnTo>
                    <a:pt x="1666" y="572"/>
                  </a:lnTo>
                  <a:lnTo>
                    <a:pt x="1702" y="589"/>
                  </a:lnTo>
                  <a:lnTo>
                    <a:pt x="1720" y="605"/>
                  </a:lnTo>
                  <a:lnTo>
                    <a:pt x="1720" y="622"/>
                  </a:lnTo>
                  <a:lnTo>
                    <a:pt x="1720" y="639"/>
                  </a:lnTo>
                  <a:lnTo>
                    <a:pt x="1720" y="656"/>
                  </a:lnTo>
                  <a:lnTo>
                    <a:pt x="1720" y="690"/>
                  </a:lnTo>
                  <a:lnTo>
                    <a:pt x="1720" y="723"/>
                  </a:lnTo>
                  <a:lnTo>
                    <a:pt x="1738" y="757"/>
                  </a:lnTo>
                  <a:lnTo>
                    <a:pt x="1756" y="858"/>
                  </a:lnTo>
                  <a:lnTo>
                    <a:pt x="1774" y="959"/>
                  </a:lnTo>
                  <a:lnTo>
                    <a:pt x="1791" y="992"/>
                  </a:lnTo>
                  <a:lnTo>
                    <a:pt x="1809" y="1009"/>
                  </a:lnTo>
                  <a:lnTo>
                    <a:pt x="1827" y="1026"/>
                  </a:lnTo>
                  <a:lnTo>
                    <a:pt x="1845" y="1043"/>
                  </a:lnTo>
                  <a:lnTo>
                    <a:pt x="1845" y="1060"/>
                  </a:lnTo>
                  <a:lnTo>
                    <a:pt x="1863" y="1060"/>
                  </a:lnTo>
                  <a:lnTo>
                    <a:pt x="1881" y="1076"/>
                  </a:lnTo>
                  <a:lnTo>
                    <a:pt x="1899" y="1093"/>
                  </a:lnTo>
                  <a:lnTo>
                    <a:pt x="1917" y="1093"/>
                  </a:lnTo>
                  <a:lnTo>
                    <a:pt x="1935" y="1110"/>
                  </a:lnTo>
                  <a:lnTo>
                    <a:pt x="1953" y="1110"/>
                  </a:lnTo>
                  <a:lnTo>
                    <a:pt x="1971" y="1110"/>
                  </a:lnTo>
                  <a:lnTo>
                    <a:pt x="2006" y="1127"/>
                  </a:lnTo>
                  <a:lnTo>
                    <a:pt x="2024" y="1127"/>
                  </a:lnTo>
                  <a:lnTo>
                    <a:pt x="2042" y="1127"/>
                  </a:lnTo>
                  <a:lnTo>
                    <a:pt x="2060" y="1127"/>
                  </a:lnTo>
                  <a:lnTo>
                    <a:pt x="2078" y="1144"/>
                  </a:lnTo>
                  <a:lnTo>
                    <a:pt x="2078" y="1161"/>
                  </a:lnTo>
                  <a:lnTo>
                    <a:pt x="2096" y="1161"/>
                  </a:lnTo>
                  <a:lnTo>
                    <a:pt x="2114" y="1177"/>
                  </a:lnTo>
                  <a:lnTo>
                    <a:pt x="2132" y="1177"/>
                  </a:lnTo>
                  <a:lnTo>
                    <a:pt x="2150" y="1194"/>
                  </a:lnTo>
                  <a:lnTo>
                    <a:pt x="2168" y="1194"/>
                  </a:lnTo>
                  <a:lnTo>
                    <a:pt x="2186" y="1194"/>
                  </a:lnTo>
                  <a:lnTo>
                    <a:pt x="2203" y="1194"/>
                  </a:lnTo>
                  <a:lnTo>
                    <a:pt x="2203" y="1211"/>
                  </a:lnTo>
                  <a:lnTo>
                    <a:pt x="2221" y="1211"/>
                  </a:lnTo>
                  <a:lnTo>
                    <a:pt x="2221" y="1228"/>
                  </a:lnTo>
                  <a:lnTo>
                    <a:pt x="2239" y="1211"/>
                  </a:lnTo>
                  <a:lnTo>
                    <a:pt x="2221" y="1219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604280" y="5081760"/>
              <a:ext cx="1440" cy="1174680"/>
            </a:xfrm>
            <a:prstGeom prst="line">
              <a:avLst/>
            </a:prstGeom>
            <a:ln w="0">
              <a:solidFill>
                <a:srgbClr val="ff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888680" y="4724280"/>
              <a:ext cx="384840" cy="198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000000"/>
                  </a:solidFill>
                  <a:latin typeface="Arial"/>
                </a:rPr>
                <a:t>limi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360" y="6359400"/>
              <a:ext cx="189720" cy="15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47400" y="6359400"/>
              <a:ext cx="189720" cy="152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W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32480" y="5872320"/>
              <a:ext cx="2867040" cy="442800"/>
            </a:xfrm>
            <a:custGeom>
              <a:avLst/>
              <a:gdLst/>
              <a:ahLst/>
              <a:rect l="l" t="t" r="r" b="b"/>
              <a:pathLst>
                <a:path w="3612" h="558">
                  <a:moveTo>
                    <a:pt x="30" y="552"/>
                  </a:moveTo>
                  <a:lnTo>
                    <a:pt x="0" y="545"/>
                  </a:lnTo>
                  <a:lnTo>
                    <a:pt x="22" y="538"/>
                  </a:lnTo>
                  <a:lnTo>
                    <a:pt x="43" y="538"/>
                  </a:lnTo>
                  <a:lnTo>
                    <a:pt x="65" y="531"/>
                  </a:lnTo>
                  <a:lnTo>
                    <a:pt x="94" y="531"/>
                  </a:lnTo>
                  <a:lnTo>
                    <a:pt x="122" y="524"/>
                  </a:lnTo>
                  <a:lnTo>
                    <a:pt x="150" y="524"/>
                  </a:lnTo>
                  <a:lnTo>
                    <a:pt x="186" y="519"/>
                  </a:lnTo>
                  <a:lnTo>
                    <a:pt x="222" y="519"/>
                  </a:lnTo>
                  <a:lnTo>
                    <a:pt x="265" y="512"/>
                  </a:lnTo>
                  <a:lnTo>
                    <a:pt x="301" y="505"/>
                  </a:lnTo>
                  <a:lnTo>
                    <a:pt x="337" y="505"/>
                  </a:lnTo>
                  <a:lnTo>
                    <a:pt x="365" y="498"/>
                  </a:lnTo>
                  <a:lnTo>
                    <a:pt x="394" y="491"/>
                  </a:lnTo>
                  <a:lnTo>
                    <a:pt x="424" y="485"/>
                  </a:lnTo>
                  <a:lnTo>
                    <a:pt x="445" y="485"/>
                  </a:lnTo>
                  <a:lnTo>
                    <a:pt x="465" y="471"/>
                  </a:lnTo>
                  <a:lnTo>
                    <a:pt x="488" y="464"/>
                  </a:lnTo>
                  <a:lnTo>
                    <a:pt x="509" y="457"/>
                  </a:lnTo>
                  <a:lnTo>
                    <a:pt x="531" y="457"/>
                  </a:lnTo>
                  <a:lnTo>
                    <a:pt x="567" y="438"/>
                  </a:lnTo>
                  <a:lnTo>
                    <a:pt x="595" y="431"/>
                  </a:lnTo>
                  <a:lnTo>
                    <a:pt x="624" y="418"/>
                  </a:lnTo>
                  <a:lnTo>
                    <a:pt x="652" y="404"/>
                  </a:lnTo>
                  <a:lnTo>
                    <a:pt x="674" y="397"/>
                  </a:lnTo>
                  <a:lnTo>
                    <a:pt x="703" y="390"/>
                  </a:lnTo>
                  <a:lnTo>
                    <a:pt x="724" y="377"/>
                  </a:lnTo>
                  <a:lnTo>
                    <a:pt x="760" y="370"/>
                  </a:lnTo>
                  <a:lnTo>
                    <a:pt x="782" y="363"/>
                  </a:lnTo>
                  <a:lnTo>
                    <a:pt x="803" y="351"/>
                  </a:lnTo>
                  <a:lnTo>
                    <a:pt x="831" y="337"/>
                  </a:lnTo>
                  <a:lnTo>
                    <a:pt x="854" y="330"/>
                  </a:lnTo>
                  <a:lnTo>
                    <a:pt x="882" y="317"/>
                  </a:lnTo>
                  <a:lnTo>
                    <a:pt x="903" y="303"/>
                  </a:lnTo>
                  <a:lnTo>
                    <a:pt x="931" y="289"/>
                  </a:lnTo>
                  <a:lnTo>
                    <a:pt x="954" y="283"/>
                  </a:lnTo>
                  <a:lnTo>
                    <a:pt x="982" y="269"/>
                  </a:lnTo>
                  <a:lnTo>
                    <a:pt x="1003" y="250"/>
                  </a:lnTo>
                  <a:lnTo>
                    <a:pt x="1025" y="243"/>
                  </a:lnTo>
                  <a:lnTo>
                    <a:pt x="1046" y="236"/>
                  </a:lnTo>
                  <a:lnTo>
                    <a:pt x="1069" y="229"/>
                  </a:lnTo>
                  <a:lnTo>
                    <a:pt x="1097" y="216"/>
                  </a:lnTo>
                  <a:lnTo>
                    <a:pt x="1118" y="202"/>
                  </a:lnTo>
                  <a:lnTo>
                    <a:pt x="1140" y="188"/>
                  </a:lnTo>
                  <a:lnTo>
                    <a:pt x="1161" y="182"/>
                  </a:lnTo>
                  <a:lnTo>
                    <a:pt x="1182" y="168"/>
                  </a:lnTo>
                  <a:lnTo>
                    <a:pt x="1212" y="154"/>
                  </a:lnTo>
                  <a:lnTo>
                    <a:pt x="1240" y="142"/>
                  </a:lnTo>
                  <a:lnTo>
                    <a:pt x="1276" y="121"/>
                  </a:lnTo>
                  <a:lnTo>
                    <a:pt x="1304" y="101"/>
                  </a:lnTo>
                  <a:lnTo>
                    <a:pt x="1333" y="81"/>
                  </a:lnTo>
                  <a:lnTo>
                    <a:pt x="1355" y="67"/>
                  </a:lnTo>
                  <a:lnTo>
                    <a:pt x="1376" y="53"/>
                  </a:lnTo>
                  <a:lnTo>
                    <a:pt x="1404" y="53"/>
                  </a:lnTo>
                  <a:lnTo>
                    <a:pt x="1448" y="34"/>
                  </a:lnTo>
                  <a:lnTo>
                    <a:pt x="1484" y="20"/>
                  </a:lnTo>
                  <a:lnTo>
                    <a:pt x="1504" y="7"/>
                  </a:lnTo>
                  <a:lnTo>
                    <a:pt x="1540" y="0"/>
                  </a:lnTo>
                  <a:lnTo>
                    <a:pt x="1576" y="0"/>
                  </a:lnTo>
                  <a:lnTo>
                    <a:pt x="1612" y="0"/>
                  </a:lnTo>
                  <a:lnTo>
                    <a:pt x="1634" y="0"/>
                  </a:lnTo>
                  <a:lnTo>
                    <a:pt x="1655" y="0"/>
                  </a:lnTo>
                  <a:lnTo>
                    <a:pt x="1684" y="0"/>
                  </a:lnTo>
                  <a:lnTo>
                    <a:pt x="1719" y="0"/>
                  </a:lnTo>
                  <a:lnTo>
                    <a:pt x="1749" y="7"/>
                  </a:lnTo>
                  <a:lnTo>
                    <a:pt x="1785" y="7"/>
                  </a:lnTo>
                  <a:lnTo>
                    <a:pt x="1814" y="7"/>
                  </a:lnTo>
                  <a:lnTo>
                    <a:pt x="1842" y="0"/>
                  </a:lnTo>
                  <a:lnTo>
                    <a:pt x="1863" y="7"/>
                  </a:lnTo>
                  <a:lnTo>
                    <a:pt x="1893" y="14"/>
                  </a:lnTo>
                  <a:lnTo>
                    <a:pt x="1921" y="27"/>
                  </a:lnTo>
                  <a:lnTo>
                    <a:pt x="1964" y="48"/>
                  </a:lnTo>
                  <a:lnTo>
                    <a:pt x="2006" y="60"/>
                  </a:lnTo>
                  <a:lnTo>
                    <a:pt x="2049" y="81"/>
                  </a:lnTo>
                  <a:lnTo>
                    <a:pt x="2072" y="81"/>
                  </a:lnTo>
                  <a:lnTo>
                    <a:pt x="2114" y="108"/>
                  </a:lnTo>
                  <a:lnTo>
                    <a:pt x="2149" y="135"/>
                  </a:lnTo>
                  <a:lnTo>
                    <a:pt x="2179" y="161"/>
                  </a:lnTo>
                  <a:lnTo>
                    <a:pt x="2208" y="182"/>
                  </a:lnTo>
                  <a:lnTo>
                    <a:pt x="2236" y="195"/>
                  </a:lnTo>
                  <a:lnTo>
                    <a:pt x="2264" y="209"/>
                  </a:lnTo>
                  <a:lnTo>
                    <a:pt x="2287" y="222"/>
                  </a:lnTo>
                  <a:lnTo>
                    <a:pt x="2323" y="229"/>
                  </a:lnTo>
                  <a:lnTo>
                    <a:pt x="2364" y="250"/>
                  </a:lnTo>
                  <a:lnTo>
                    <a:pt x="2387" y="255"/>
                  </a:lnTo>
                  <a:lnTo>
                    <a:pt x="2430" y="269"/>
                  </a:lnTo>
                  <a:lnTo>
                    <a:pt x="2451" y="276"/>
                  </a:lnTo>
                  <a:lnTo>
                    <a:pt x="2472" y="283"/>
                  </a:lnTo>
                  <a:lnTo>
                    <a:pt x="2494" y="289"/>
                  </a:lnTo>
                  <a:lnTo>
                    <a:pt x="2515" y="296"/>
                  </a:lnTo>
                  <a:lnTo>
                    <a:pt x="2544" y="310"/>
                  </a:lnTo>
                  <a:lnTo>
                    <a:pt x="2573" y="323"/>
                  </a:lnTo>
                  <a:lnTo>
                    <a:pt x="2602" y="344"/>
                  </a:lnTo>
                  <a:lnTo>
                    <a:pt x="2623" y="356"/>
                  </a:lnTo>
                  <a:lnTo>
                    <a:pt x="2645" y="363"/>
                  </a:lnTo>
                  <a:lnTo>
                    <a:pt x="2681" y="384"/>
                  </a:lnTo>
                  <a:lnTo>
                    <a:pt x="2717" y="397"/>
                  </a:lnTo>
                  <a:lnTo>
                    <a:pt x="2753" y="411"/>
                  </a:lnTo>
                  <a:lnTo>
                    <a:pt x="2794" y="418"/>
                  </a:lnTo>
                  <a:lnTo>
                    <a:pt x="2830" y="431"/>
                  </a:lnTo>
                  <a:lnTo>
                    <a:pt x="2860" y="438"/>
                  </a:lnTo>
                  <a:lnTo>
                    <a:pt x="2888" y="445"/>
                  </a:lnTo>
                  <a:lnTo>
                    <a:pt x="2917" y="452"/>
                  </a:lnTo>
                  <a:lnTo>
                    <a:pt x="2960" y="464"/>
                  </a:lnTo>
                  <a:lnTo>
                    <a:pt x="2996" y="471"/>
                  </a:lnTo>
                  <a:lnTo>
                    <a:pt x="3024" y="478"/>
                  </a:lnTo>
                  <a:lnTo>
                    <a:pt x="3053" y="485"/>
                  </a:lnTo>
                  <a:lnTo>
                    <a:pt x="3088" y="498"/>
                  </a:lnTo>
                  <a:lnTo>
                    <a:pt x="3124" y="505"/>
                  </a:lnTo>
                  <a:lnTo>
                    <a:pt x="3153" y="512"/>
                  </a:lnTo>
                  <a:lnTo>
                    <a:pt x="3175" y="519"/>
                  </a:lnTo>
                  <a:lnTo>
                    <a:pt x="3196" y="524"/>
                  </a:lnTo>
                  <a:lnTo>
                    <a:pt x="3224" y="524"/>
                  </a:lnTo>
                  <a:lnTo>
                    <a:pt x="3247" y="538"/>
                  </a:lnTo>
                  <a:lnTo>
                    <a:pt x="3268" y="538"/>
                  </a:lnTo>
                  <a:lnTo>
                    <a:pt x="3311" y="552"/>
                  </a:lnTo>
                  <a:lnTo>
                    <a:pt x="3332" y="552"/>
                  </a:lnTo>
                  <a:lnTo>
                    <a:pt x="3368" y="558"/>
                  </a:lnTo>
                  <a:lnTo>
                    <a:pt x="3403" y="558"/>
                  </a:lnTo>
                  <a:lnTo>
                    <a:pt x="3433" y="558"/>
                  </a:lnTo>
                  <a:lnTo>
                    <a:pt x="3454" y="552"/>
                  </a:lnTo>
                  <a:lnTo>
                    <a:pt x="3475" y="552"/>
                  </a:lnTo>
                  <a:lnTo>
                    <a:pt x="3497" y="552"/>
                  </a:lnTo>
                  <a:lnTo>
                    <a:pt x="3526" y="552"/>
                  </a:lnTo>
                  <a:lnTo>
                    <a:pt x="3547" y="552"/>
                  </a:lnTo>
                  <a:lnTo>
                    <a:pt x="3569" y="552"/>
                  </a:lnTo>
                  <a:lnTo>
                    <a:pt x="3612" y="552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447920" y="3352680"/>
            <a:ext cx="8380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s-ES_tradnl" sz="1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Hogar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0" y="3505320"/>
            <a:ext cx="249552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1c1c1c"/>
                </a:solidFill>
                <a:latin typeface="Arial"/>
              </a:rPr>
              <a:t>Sec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36576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419112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3200400"/>
            <a:ext cx="419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4267080"/>
            <a:ext cx="70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454120" y="3168720"/>
            <a:ext cx="688680" cy="98280"/>
            <a:chOff x="2454120" y="3168720"/>
            <a:chExt cx="688680" cy="98280"/>
          </a:xfrm>
        </p:grpSpPr>
        <p:sp>
          <p:nvSpPr>
            <p:cNvPr id="531" name=""/>
            <p:cNvSpPr/>
            <p:nvPr/>
          </p:nvSpPr>
          <p:spPr>
            <a:xfrm>
              <a:off x="2463480" y="3178080"/>
              <a:ext cx="675720" cy="8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54120" y="3168720"/>
              <a:ext cx="89280" cy="9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53520" y="3168720"/>
              <a:ext cx="89280" cy="9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454120" y="3102120"/>
            <a:ext cx="514440" cy="58680"/>
          </a:xfrm>
          <a:custGeom>
            <a:avLst/>
            <a:gdLst/>
            <a:ahLst/>
            <a:rect l="l" t="t" r="r" b="b"/>
            <a:pathLst>
              <a:path w="810" h="92">
                <a:moveTo>
                  <a:pt x="0" y="92"/>
                </a:moveTo>
                <a:cubicBezTo>
                  <a:pt x="15" y="58"/>
                  <a:pt x="30" y="24"/>
                  <a:pt x="60" y="17"/>
                </a:cubicBezTo>
                <a:cubicBezTo>
                  <a:pt x="90" y="10"/>
                  <a:pt x="145" y="42"/>
                  <a:pt x="180" y="47"/>
                </a:cubicBezTo>
                <a:cubicBezTo>
                  <a:pt x="215" y="52"/>
                  <a:pt x="240" y="54"/>
                  <a:pt x="270" y="47"/>
                </a:cubicBezTo>
                <a:cubicBezTo>
                  <a:pt x="300" y="40"/>
                  <a:pt x="328" y="0"/>
                  <a:pt x="360" y="2"/>
                </a:cubicBezTo>
                <a:cubicBezTo>
                  <a:pt x="392" y="4"/>
                  <a:pt x="428" y="60"/>
                  <a:pt x="465" y="62"/>
                </a:cubicBezTo>
                <a:cubicBezTo>
                  <a:pt x="502" y="64"/>
                  <a:pt x="543" y="19"/>
                  <a:pt x="585" y="17"/>
                </a:cubicBezTo>
                <a:cubicBezTo>
                  <a:pt x="627" y="15"/>
                  <a:pt x="683" y="40"/>
                  <a:pt x="720" y="47"/>
                </a:cubicBezTo>
                <a:cubicBezTo>
                  <a:pt x="757" y="54"/>
                  <a:pt x="788" y="52"/>
                  <a:pt x="810" y="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16320" y="3216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81080" y="2666880"/>
            <a:ext cx="91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16360" y="2133000"/>
            <a:ext cx="276480" cy="2104920"/>
          </a:xfrm>
          <a:custGeom>
            <a:avLst/>
            <a:gdLst>
              <a:gd name="textAreaLeft" fmla="*/ 60840 w 276480"/>
              <a:gd name="textAreaRight" fmla="*/ 215640 w 276480"/>
              <a:gd name="textAreaTop" fmla="*/ 462960 h 2104920"/>
              <a:gd name="textAreaBottom" fmla="*/ 1641960 h 21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4191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05520" y="3962520"/>
            <a:ext cx="7808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pa s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873680" y="264492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054760" y="2673360"/>
            <a:ext cx="885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4876920"/>
            <a:ext cx="457200" cy="4572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81280" y="4876920"/>
            <a:ext cx="457200" cy="4572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38480" y="5105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91440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914400" y="4648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971800" y="5334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954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4320" y="472428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Un mejor control permite la optimización del punto de trabaj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2T19:55:32Z</dcterms:created>
  <dc:creator>Dpto. Ing. de Sistemas</dc:creator>
  <dc:description/>
  <cp:keywords/>
  <dc:language>en-US</dc:language>
  <cp:lastModifiedBy>Dpto. de Ing. de Sistemas y Automatica</cp:lastModifiedBy>
  <cp:lastPrinted>1998-03-25T11:19:12Z</cp:lastPrinted>
  <dcterms:modified xsi:type="dcterms:W3CDTF">2005-04-27T07:46:46Z</dcterms:modified>
  <cp:revision>11</cp:revision>
  <dc:subject/>
  <dc:title>ALGORITMOS DE CONTROL AVANZADO</dc:title>
</cp:coreProperties>
</file>