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7.jpeg" ContentType="image/jpeg"/>
  <Override PartName="/ppt/media/image6.wmf" ContentType="image/x-wmf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FF7F1-F4F3-4646-B410-FE6A3BD5C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F42F0-44B0-43C7-BE4E-8B56FC9DF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8C5A2-045A-4D24-9083-6DE2F065B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21C0F-09B7-421F-86B6-8AAC05B42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D0B58-4B2E-461B-98B7-919EDAD6E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8A339-E242-4B77-A3A6-78E9126B8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2B65B-C98B-46D0-96FA-9FEEB4088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14AB6-59B2-4C78-A085-3D66050B2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0BF9D-6CC8-4C07-A963-2A6C39708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51900-0538-4E66-83A1-6783DB3A9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BB17A-6B58-41EE-8576-523452A95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6D497-C01F-4376-858A-FB4152C55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A77D4-71B9-4526-895F-6B1756663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115F6-97C2-4788-996D-7C3173152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D4730-2357-455A-AD02-9AD98FFFC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84633-1512-45AD-A09F-0C127B520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98DA0-7C41-443B-BABE-B55F37157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55E5E-C5A4-45F9-9C17-2D62A8EF8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632C6-20FD-40AB-8262-A57C01788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FCE7B-803A-45B8-88CE-ECBB7A49B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F098A-A429-42E2-9AB9-863A92E1F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FBF66-987F-4E58-ABF9-21AB0EDA6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8CFBE-B1CF-4F73-BA5E-C2F7A933A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3DCAF-FD20-4372-8DF4-0B412E656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7AFB0-C7BF-47EE-AA54-AE23A08D7F09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BCC53-ECD1-4D0C-BAC4-2F32F2BB79BA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isa.cie.uva.es/~prada/" TargetMode="External"/><Relationship Id="rId2" Type="http://schemas.openxmlformats.org/officeDocument/2006/relationships/hyperlink" Target="http://www.isa.cie.uva.es/~prada/" TargetMode="External"/><Relationship Id="rId3" Type="http://schemas.openxmlformats.org/officeDocument/2006/relationships/hyperlink" Target="mailto:prada@autom.uva.es" TargetMode="External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mailto:prada@autom.uva.es" TargetMode="External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isa.cie.uva.es/~prada/" TargetMode="External"/><Relationship Id="rId2" Type="http://schemas.openxmlformats.org/officeDocument/2006/relationships/hyperlink" Target="http://www.isa.cie.uva.es/~prada/" TargetMode="External"/><Relationship Id="rId3" Type="http://schemas.openxmlformats.org/officeDocument/2006/relationships/hyperlink" Target="http://www.isa.cie.uva.es/~prada/" TargetMode="External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Optimización de Procesos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Prof. Cesar de Prada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Dpto. de Ingeniería de Sistemas y Automática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UVA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prada@autom.uva.es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115092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PSE Process Systems Engineering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84360" y="2743200"/>
            <a:ext cx="7772400" cy="349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La asignatura se inserta dentro del campo denominado PSE (Ingeniera de Sistemas de Proceso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Process Systems Engineering (PSE) trata del desarrollo de métodos y herramentas basadas en ordenador para realizar un tratamiento integrado de todos los aspectos de modelado, simulación, diseño, operación control y gestión de las industrias de proceso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Es una área multidisciplinar, donde colaboran desde la ingeniería química, electrica, control, etc. a las matemáticas aplicadas, las ciencias básicas (química, física, biología,..) y en particular la informática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Un ejempl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788000" y="549360"/>
            <a:ext cx="936360" cy="1295280"/>
          </a:xfrm>
          <a:prstGeom prst="flowChartMagneticDisk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076720" y="18900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788000" y="260280"/>
            <a:ext cx="936360" cy="0"/>
          </a:xfrm>
          <a:prstGeom prst="line">
            <a:avLst/>
          </a:prstGeom>
          <a:ln w="9360">
            <a:solidFill>
              <a:srgbClr val="003366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156360" y="112536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869080" y="692280"/>
            <a:ext cx="0" cy="1081080"/>
          </a:xfrm>
          <a:prstGeom prst="line">
            <a:avLst/>
          </a:prstGeom>
          <a:ln w="9360">
            <a:solidFill>
              <a:srgbClr val="003366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826920" y="2421000"/>
            <a:ext cx="3529080" cy="119124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Encontrar las dimensiones de un tanque cilíndrico abierto de modo que tenga un volumen de 6 m</a:t>
            </a:r>
            <a:r>
              <a:rPr b="0" lang="en-US" sz="1800" spc="-1" strike="noStrike" baseline="30000">
                <a:solidFill>
                  <a:srgbClr val="003366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y área mínim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632720" y="189000"/>
            <a:ext cx="1332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Variables: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V volume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d diámetro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h altur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A are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916360" y="4221000"/>
            <a:ext cx="230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971640" y="4005360"/>
            <a:ext cx="2376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Función a minimizar: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A = </a:t>
            </a:r>
            <a:r>
              <a:rPr b="0" lang="es-ES" sz="1800" spc="-1" strike="noStrike">
                <a:solidFill>
                  <a:srgbClr val="003366"/>
                </a:solidFill>
                <a:latin typeface="Symbol"/>
                <a:ea typeface="Symbol"/>
              </a:rPr>
              <a:t></a:t>
            </a: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dh+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Arial"/>
              </a:rPr>
              <a:t>¼</a:t>
            </a:r>
            <a:r>
              <a:rPr b="0" lang="en-US" sz="1800" spc="-1" strike="noStrike">
                <a:solidFill>
                  <a:srgbClr val="003366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Arial"/>
              </a:rPr>
              <a:t>d</a:t>
            </a:r>
            <a:r>
              <a:rPr b="0" lang="en-US" sz="1800" spc="-1" strike="noStrike" baseline="30000">
                <a:solidFill>
                  <a:srgbClr val="003366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08360" y="3860640"/>
            <a:ext cx="205416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Relaciones entre variables: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V =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¼ </a:t>
            </a:r>
            <a:r>
              <a:rPr b="0" lang="en-US" sz="1800" spc="-1" strike="noStrike">
                <a:solidFill>
                  <a:srgbClr val="003366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Arial"/>
              </a:rPr>
              <a:t>d</a:t>
            </a:r>
            <a:r>
              <a:rPr b="0" lang="en-US" sz="1800" spc="-1" strike="noStrike" baseline="30000">
                <a:solidFill>
                  <a:srgbClr val="003366"/>
                </a:solidFill>
                <a:latin typeface="Arial"/>
                <a:ea typeface="Arial"/>
              </a:rPr>
              <a:t>2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Arial"/>
              </a:rPr>
              <a:t>h = 6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780000" y="5229360"/>
            <a:ext cx="1800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Límites: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d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Arial"/>
              </a:rPr>
              <a:t>≥ 0  ,  h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≥ 0</a:t>
            </a:r>
            <a:r>
              <a:rPr b="0" lang="en-US" sz="1800" spc="-1" strike="noStrike" baseline="30000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6012000" y="3944880"/>
                <a:ext cx="2376360" cy="224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in</m:t>
                            </m:r>
                          </m:e>
                          <m:lim>
                            <m:r>
                              <m:t xml:space="preserve">d</m:t>
                            </m:r>
                            <m:r>
                              <m:t xml:space="preserve">,</m:t>
                            </m:r>
                            <m:r>
                              <m:t xml:space="preserve">h</m:t>
                            </m:r>
                          </m:lim>
                        </m:limLow>
                        <m:r>
                          <m:t xml:space="preserve"> </m:t>
                        </m:r>
                        <m:r>
                          <m:t xml:space="preserve">π</m:t>
                        </m:r>
                        <m:r>
                          <m:rPr>
                            <m:lit/>
                            <m:nor/>
                          </m:rPr>
                          <m:t xml:space="preserve">dh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sSup>
                          <m:e>
                            <m:r>
                              <m:t xml:space="preserve">π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ujeto</m:t>
                        </m:r>
                        <m:r>
                          <m:rPr>
                            <m:lit/>
                            <m:nor/>
                          </m:rPr>
                          <m:t xml:space="preserve"> a:</m:t>
                        </m:r>
                      </m:e>
                      <m:e>
                        <m:sSup>
                          <m:e>
                            <m:r>
                              <m:t xml:space="preserve">π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h</m:t>
                        </m:r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t xml:space="preserve">V</m:t>
                        </m:r>
                      </m:e>
                      <m:e>
                        <m:r>
                          <m:t xml:space="preserve">d</m:t>
                        </m:r>
                        <m:r>
                          <m:t xml:space="preserve">≥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h</m:t>
                        </m:r>
                        <m:r>
                          <m:t xml:space="preserve">≥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65" name=""/>
          <p:cNvSpPr/>
          <p:nvPr/>
        </p:nvSpPr>
        <p:spPr>
          <a:xfrm>
            <a:off x="6227640" y="3500280"/>
            <a:ext cx="23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rmulación: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826920" y="5229360"/>
            <a:ext cx="266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Grados de libertad: número de variables – numero de ecuaciones independientes: 2-1=1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780000" y="623736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Datos : V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Un ejempl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1187280" y="3079800"/>
                <a:ext cx="2376720" cy="224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in</m:t>
                            </m:r>
                          </m:e>
                          <m:lim>
                            <m:r>
                              <m:t xml:space="preserve">d</m:t>
                            </m:r>
                            <m:r>
                              <m:t xml:space="preserve">,</m:t>
                            </m:r>
                            <m:r>
                              <m:t xml:space="preserve">h</m:t>
                            </m:r>
                          </m:lim>
                        </m:limLow>
                        <m:r>
                          <m:t xml:space="preserve"> </m:t>
                        </m:r>
                        <m:r>
                          <m:t xml:space="preserve">π</m:t>
                        </m:r>
                        <m:r>
                          <m:rPr>
                            <m:lit/>
                            <m:nor/>
                          </m:rPr>
                          <m:t xml:space="preserve">dh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sSup>
                          <m:e>
                            <m:r>
                              <m:t xml:space="preserve">π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ujeto</m:t>
                        </m:r>
                        <m:r>
                          <m:rPr>
                            <m:lit/>
                            <m:nor/>
                          </m:rPr>
                          <m:t xml:space="preserve"> a:</m:t>
                        </m:r>
                      </m:e>
                      <m:e>
                        <m:sSup>
                          <m:e>
                            <m:r>
                              <m:t xml:space="preserve">π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h</m:t>
                        </m:r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t xml:space="preserve">V</m:t>
                        </m:r>
                      </m:e>
                      <m:e>
                        <m:r>
                          <m:t xml:space="preserve">d</m:t>
                        </m:r>
                        <m:r>
                          <m:t xml:space="preserve">≥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h</m:t>
                        </m:r>
                        <m:r>
                          <m:t xml:space="preserve">≥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70" name=""/>
          <p:cNvSpPr/>
          <p:nvPr/>
        </p:nvSpPr>
        <p:spPr>
          <a:xfrm>
            <a:off x="4788000" y="549360"/>
            <a:ext cx="936360" cy="1295280"/>
          </a:xfrm>
          <a:prstGeom prst="flowChartMagneticDisk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076720" y="18900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788000" y="260280"/>
            <a:ext cx="936360" cy="0"/>
          </a:xfrm>
          <a:prstGeom prst="line">
            <a:avLst/>
          </a:prstGeom>
          <a:ln w="9360">
            <a:solidFill>
              <a:srgbClr val="003366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156360" y="112536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869080" y="692280"/>
            <a:ext cx="0" cy="1081080"/>
          </a:xfrm>
          <a:prstGeom prst="line">
            <a:avLst/>
          </a:prstGeom>
          <a:ln w="9360">
            <a:solidFill>
              <a:srgbClr val="003366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211640" y="2708280"/>
            <a:ext cx="424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211640" y="2421000"/>
            <a:ext cx="44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Resolución analítica, (normalmente no es posible):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4284720" y="3141720"/>
                <a:ext cx="4465440" cy="340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h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4</m:t>
                            </m:r>
                            <m:r>
                              <m:t xml:space="preserve">V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πd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rea</m:t>
                        </m:r>
                        <m:r>
                          <m:t xml:space="preserve">=</m:t>
                        </m:r>
                        <m:r>
                          <m:t xml:space="preserve">πd</m:t>
                        </m:r>
                        <m:f>
                          <m:num>
                            <m:r>
                              <m:t xml:space="preserve">4</m:t>
                            </m:r>
                            <m:r>
                              <m:t xml:space="preserve">V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πd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p>
                              <m:e>
                                <m:r>
                                  <m:t xml:space="preserve">πd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4</m:t>
                            </m:r>
                            <m:r>
                              <m:t xml:space="preserve">V</m:t>
                            </m:r>
                          </m:num>
                          <m:den>
                            <m:r>
                              <m:t xml:space="preserve">d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p>
                              <m:e>
                                <m:r>
                                  <m:t xml:space="preserve">πd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e>
                      <m:e>
                        <m:f>
                          <m:num>
                            <m:r>
                              <m:t xml:space="preserve">∂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rea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d</m:t>
                            </m:r>
                          </m:den>
                        </m:f>
                        <m:sSub>
                          <m:e>
                            <m:r>
                              <m:t xml:space="preserve">|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/>
                            </m:sSup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 </m:t>
                        </m:r>
                        <m:r>
                          <m:t xml:space="preserve">⇒</m:t>
                        </m:r>
                        <m:f>
                          <m:num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  <m:r>
                              <m:t xml:space="preserve">V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p>
                              <m:e>
                                <m:r>
                                  <m:t xml:space="preserve">πd</m:t>
                                </m:r>
                              </m:e>
                              <m:sup/>
                            </m:sSup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sSup>
                          <m:e>
                            <m:r>
                              <m:t xml:space="preserve">πd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8</m:t>
                        </m:r>
                        <m:r>
                          <m:t xml:space="preserve">V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t xml:space="preserve">d</m:t>
                            </m:r>
                          </m:e>
                          <m:sup/>
                        </m:sSup>
                        <m:r>
                          <m:t xml:space="preserve">=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8</m:t>
                                    </m:r>
                                    <m:r>
                                      <m:t xml:space="preserve">V</m:t>
                                    </m:r>
                                  </m:num>
                                  <m:den>
                                    <m:r>
                                      <m:t xml:space="preserve">π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1</m:t>
                            </m:r>
                            <m:r>
                              <m:t xml:space="preserve">/</m:t>
                            </m:r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 </m:t>
                        </m:r>
                        <m:sSup>
                          <m:e>
                            <m:r>
                              <m:t xml:space="preserve">h</m:t>
                            </m:r>
                          </m:e>
                          <m:sup/>
                        </m:sSup>
                        <m:r>
                          <m:t xml:space="preserve">=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V</m:t>
                                    </m:r>
                                  </m:num>
                                  <m:den>
                                    <m:r>
                                      <m:t xml:space="preserve">π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1</m:t>
                            </m:r>
                            <m:r>
                              <m:t xml:space="preserve">/</m:t>
                            </m:r>
                            <m:r>
                              <m:t xml:space="preserve">3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78" name=""/>
          <p:cNvSpPr/>
          <p:nvPr/>
        </p:nvSpPr>
        <p:spPr>
          <a:xfrm>
            <a:off x="1116000" y="5661000"/>
            <a:ext cx="280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nsibilidad: ¿Cuánto cambia la solución si el volumen cambia un 1%?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116000" y="2565360"/>
            <a:ext cx="26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 grado de libertad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762120" y="762120"/>
            <a:ext cx="7924680" cy="1143000"/>
          </a:xfrm>
          <a:prstGeom prst="roundRect">
            <a:avLst>
              <a:gd name="adj" fmla="val 21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Un ejemplo más realista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091280" y="549360"/>
            <a:ext cx="936720" cy="1295280"/>
          </a:xfrm>
          <a:prstGeom prst="flowChartMagneticDisk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380360" y="18900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091280" y="260280"/>
            <a:ext cx="936720" cy="0"/>
          </a:xfrm>
          <a:prstGeom prst="line">
            <a:avLst/>
          </a:prstGeom>
          <a:ln w="9360">
            <a:solidFill>
              <a:srgbClr val="003366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8459640" y="112536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8172360" y="692280"/>
            <a:ext cx="0" cy="1081080"/>
          </a:xfrm>
          <a:prstGeom prst="line">
            <a:avLst/>
          </a:prstGeom>
          <a:ln w="9360">
            <a:solidFill>
              <a:srgbClr val="003366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900000" y="2421000"/>
            <a:ext cx="3529080" cy="2014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Encontrar las dimensiones de un tanque cilíndrico abierto de modo que tenga un volumen de 6 m</a:t>
            </a:r>
            <a:r>
              <a:rPr b="0" lang="es-ES" sz="1800" spc="-1" strike="noStrike" baseline="30000">
                <a:solidFill>
                  <a:srgbClr val="003366"/>
                </a:solidFill>
                <a:latin typeface="Arial"/>
              </a:rPr>
              <a:t>3</a:t>
            </a: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 y coste mínimo suponiendo que el espesor </a:t>
            </a:r>
            <a:r>
              <a:rPr b="0" lang="el-GR" sz="1800" spc="-1" strike="noStrike">
                <a:solidFill>
                  <a:srgbClr val="003366"/>
                </a:solidFill>
                <a:latin typeface="Arial"/>
                <a:ea typeface="Arial"/>
              </a:rPr>
              <a:t>ε</a:t>
            </a:r>
            <a:r>
              <a:rPr b="0" lang="es-ES" sz="1800" spc="-1" strike="noStrike">
                <a:solidFill>
                  <a:srgbClr val="003366"/>
                </a:solidFill>
                <a:latin typeface="Arial"/>
                <a:ea typeface="Arial"/>
              </a:rPr>
              <a:t> </a:t>
            </a: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( y el coste) depende de d según: </a:t>
            </a:r>
            <a:r>
              <a:rPr b="0" lang="el-GR" sz="1800" spc="-1" strike="noStrike">
                <a:solidFill>
                  <a:srgbClr val="003366"/>
                </a:solidFill>
                <a:latin typeface="Arial"/>
              </a:rPr>
              <a:t>ε</a:t>
            </a: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 =0.0001d + 0.0004 m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987640" y="4508640"/>
            <a:ext cx="1332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Variables: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V volume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d diámetro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h altur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A are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916360" y="4221000"/>
            <a:ext cx="230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900000" y="4508640"/>
            <a:ext cx="205416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Relaciones entre variables: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V =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¼ </a:t>
            </a:r>
            <a:r>
              <a:rPr b="0" lang="en-US" sz="1800" spc="-1" strike="noStrike">
                <a:solidFill>
                  <a:srgbClr val="003366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Arial"/>
              </a:rPr>
              <a:t>d</a:t>
            </a:r>
            <a:r>
              <a:rPr b="0" lang="en-US" sz="1800" spc="-1" strike="noStrike" baseline="30000">
                <a:solidFill>
                  <a:srgbClr val="003366"/>
                </a:solidFill>
                <a:latin typeface="Arial"/>
                <a:ea typeface="Arial"/>
              </a:rPr>
              <a:t>2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Arial"/>
              </a:rPr>
              <a:t>h = 6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900000" y="5661000"/>
            <a:ext cx="1800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Límites: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d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Arial"/>
              </a:rPr>
              <a:t>≥ 0  ,  h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≥ 0</a:t>
            </a:r>
            <a:r>
              <a:rPr b="0" lang="en-US" sz="1800" spc="-1" strike="noStrike" baseline="30000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1" name=""/>
              <p:cNvSpPr txBox="1"/>
              <p:nvPr/>
            </p:nvSpPr>
            <p:spPr>
              <a:xfrm>
                <a:off x="4638600" y="2492280"/>
                <a:ext cx="4308480" cy="224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in</m:t>
                            </m:r>
                          </m:e>
                          <m:lim>
                            <m:r>
                              <m:t xml:space="preserve">d</m:t>
                            </m:r>
                            <m:r>
                              <m:t xml:space="preserve">,</m:t>
                            </m:r>
                            <m:r>
                              <m:t xml:space="preserve">h</m:t>
                            </m:r>
                          </m:lim>
                        </m:limLow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π</m:t>
                        </m:r>
                        <m:r>
                          <m:rPr>
                            <m:lit/>
                            <m:nor/>
                          </m:rPr>
                          <m:t xml:space="preserve">dh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sSup>
                          <m:e>
                            <m:r>
                              <m:t xml:space="preserve">π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)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d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)</m:t>
                        </m:r>
                        <m:r>
                          <m:t xml:space="preserve">pρ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ujeto</m:t>
                        </m:r>
                        <m:r>
                          <m:rPr>
                            <m:lit/>
                            <m:nor/>
                          </m:rPr>
                          <m:t xml:space="preserve"> a:</m:t>
                        </m:r>
                      </m:e>
                      <m:e>
                        <m:sSup>
                          <m:e>
                            <m:r>
                              <m:t xml:space="preserve">π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h</m:t>
                        </m:r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t xml:space="preserve">V</m:t>
                        </m:r>
                      </m:e>
                      <m:e>
                        <m:r>
                          <m:t xml:space="preserve">d</m:t>
                        </m:r>
                        <m:r>
                          <m:t xml:space="preserve">≥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h</m:t>
                        </m:r>
                        <m:r>
                          <m:t xml:space="preserve">≥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2" name=""/>
          <p:cNvSpPr/>
          <p:nvPr/>
        </p:nvSpPr>
        <p:spPr>
          <a:xfrm>
            <a:off x="4788000" y="5013360"/>
            <a:ext cx="367164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p es el precio en € por kg de chapa empleado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El factor 10</a:t>
            </a:r>
            <a:r>
              <a:rPr b="0" lang="es-ES" sz="1800" spc="-1" strike="noStrike" baseline="30000">
                <a:solidFill>
                  <a:srgbClr val="003366"/>
                </a:solidFill>
                <a:latin typeface="Arial"/>
              </a:rPr>
              <a:t>-4</a:t>
            </a: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p</a:t>
            </a:r>
            <a:r>
              <a:rPr b="0" lang="el-GR" sz="1800" spc="-1" strike="noStrike">
                <a:solidFill>
                  <a:srgbClr val="003366"/>
                </a:solidFill>
                <a:latin typeface="Arial"/>
                <a:ea typeface="Arial"/>
              </a:rPr>
              <a:t>ρ</a:t>
            </a:r>
            <a:r>
              <a:rPr b="0" lang="es-ES" sz="1800" spc="-1" strike="noStrike">
                <a:solidFill>
                  <a:srgbClr val="003366"/>
                </a:solidFill>
                <a:latin typeface="Arial"/>
                <a:ea typeface="Arial"/>
              </a:rPr>
              <a:t> no afecta a la optimización y puede eliminarse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762120" y="762120"/>
            <a:ext cx="7924680" cy="1143000"/>
          </a:xfrm>
          <a:prstGeom prst="roundRect">
            <a:avLst>
              <a:gd name="adj" fmla="val 21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Un ejemplo mas realista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091280" y="549360"/>
            <a:ext cx="936720" cy="1295280"/>
          </a:xfrm>
          <a:prstGeom prst="flowChartMagneticDisk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7380360" y="18900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091280" y="260280"/>
            <a:ext cx="936720" cy="0"/>
          </a:xfrm>
          <a:prstGeom prst="line">
            <a:avLst/>
          </a:prstGeom>
          <a:ln w="9360">
            <a:solidFill>
              <a:srgbClr val="003366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8459640" y="112536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8172360" y="692280"/>
            <a:ext cx="0" cy="1081080"/>
          </a:xfrm>
          <a:prstGeom prst="line">
            <a:avLst/>
          </a:prstGeom>
          <a:ln w="9360">
            <a:solidFill>
              <a:srgbClr val="003366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916360" y="4221000"/>
            <a:ext cx="230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1257480" y="2349360"/>
                <a:ext cx="3446280" cy="224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in</m:t>
                            </m:r>
                          </m:e>
                          <m:lim>
                            <m:r>
                              <m:t xml:space="preserve">d</m:t>
                            </m:r>
                            <m:r>
                              <m:t xml:space="preserve">,</m:t>
                            </m:r>
                            <m:r>
                              <m:t xml:space="preserve">h</m:t>
                            </m:r>
                          </m:lim>
                        </m:limLow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π</m:t>
                        </m:r>
                        <m:r>
                          <m:rPr>
                            <m:lit/>
                            <m:nor/>
                          </m:rPr>
                          <m:t xml:space="preserve">dh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sSup>
                          <m:e>
                            <m:r>
                              <m:t xml:space="preserve">π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d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ujeto</m:t>
                        </m:r>
                        <m:r>
                          <m:rPr>
                            <m:lit/>
                            <m:nor/>
                          </m:rPr>
                          <m:t xml:space="preserve"> a:</m:t>
                        </m:r>
                      </m:e>
                      <m:e>
                        <m:sSup>
                          <m:e>
                            <m:r>
                              <m:t xml:space="preserve">π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h</m:t>
                        </m:r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t xml:space="preserve">V</m:t>
                        </m:r>
                      </m:e>
                      <m:e>
                        <m:r>
                          <m:t xml:space="preserve">d</m:t>
                        </m:r>
                        <m:r>
                          <m:t xml:space="preserve">≥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h</m:t>
                        </m:r>
                        <m:r>
                          <m:t xml:space="preserve">≥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1" name=""/>
              <p:cNvSpPr txBox="1"/>
              <p:nvPr/>
            </p:nvSpPr>
            <p:spPr>
              <a:xfrm>
                <a:off x="3492360" y="2492280"/>
                <a:ext cx="5329440" cy="291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                                           </m:t>
                        </m:r>
                        <m:r>
                          <m:t xml:space="preserve">h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4</m:t>
                            </m:r>
                            <m:r>
                              <m:t xml:space="preserve">V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πd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rPr>
                            <m:lit/>
                            <m:nor/>
                          </m:rPr>
                          <m:t xml:space="preserve">te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πd</m:t>
                        </m:r>
                        <m:f>
                          <m:num>
                            <m:r>
                              <m:t xml:space="preserve">4</m:t>
                            </m:r>
                            <m:r>
                              <m:t xml:space="preserve">V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πd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p>
                              <m:e>
                                <m:r>
                                  <m:t xml:space="preserve">πd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d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∂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rea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d</m:t>
                            </m:r>
                          </m:den>
                        </m:f>
                        <m:sSub>
                          <m:e>
                            <m:r>
                              <m:t xml:space="preserve">|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/>
                            </m:sSup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f>
                          <m:num>
                            <m:r>
                              <m:t xml:space="preserve">4</m:t>
                            </m:r>
                            <m:r>
                              <m:t xml:space="preserve">V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/>
                            </m:sSup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p>
                              <m:e>
                                <m:r>
                                  <m:t xml:space="preserve">πd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  <m:r>
                              <m:t xml:space="preserve">V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p>
                              <m:e>
                                <m:r>
                                  <m:t xml:space="preserve">πd</m:t>
                                </m:r>
                              </m:e>
                              <m:sup/>
                            </m:sSup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d</m:t>
                            </m:r>
                          </m:e>
                          <m:sup/>
                        </m:sSup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3</m:t>
                        </m:r>
                        <m:sSup>
                          <m:e>
                            <m:r>
                              <m:t xml:space="preserve">πd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8</m:t>
                        </m:r>
                        <m:sSup>
                          <m:e>
                            <m:r>
                              <m:t xml:space="preserve">πd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  <m:r>
                          <m:t xml:space="preserve">V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02" name=""/>
          <p:cNvSpPr/>
          <p:nvPr/>
        </p:nvSpPr>
        <p:spPr>
          <a:xfrm>
            <a:off x="3492360" y="5734080"/>
            <a:ext cx="489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No tiene solución analítica directa y debe resolverse por métodos numérico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042920" y="4941720"/>
            <a:ext cx="2233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Puede ser mas aconsejable una solución numérica directa del problema de optimizació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12913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Ejemplo: Planificación de la producción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95640" y="2635200"/>
            <a:ext cx="576000" cy="865080"/>
          </a:xfrm>
          <a:prstGeom prst="can">
            <a:avLst>
              <a:gd name="adj" fmla="val 25000"/>
            </a:avLst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195640" y="3643200"/>
            <a:ext cx="576000" cy="865440"/>
          </a:xfrm>
          <a:prstGeom prst="can">
            <a:avLst>
              <a:gd name="adj" fmla="val 25000"/>
            </a:avLst>
          </a:prstGeom>
          <a:solidFill>
            <a:srgbClr val="ccff33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195640" y="4724280"/>
            <a:ext cx="576000" cy="865440"/>
          </a:xfrm>
          <a:prstGeom prst="can">
            <a:avLst>
              <a:gd name="adj" fmla="val 25000"/>
            </a:avLst>
          </a:prstGeom>
          <a:solidFill>
            <a:srgbClr val="ffcc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26920" y="3068640"/>
            <a:ext cx="129564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55640" y="4076640"/>
            <a:ext cx="144000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26920" y="5372280"/>
            <a:ext cx="1366920" cy="0"/>
          </a:xfrm>
          <a:prstGeom prst="line">
            <a:avLst/>
          </a:prstGeom>
          <a:ln w="9360">
            <a:solidFill>
              <a:srgbClr val="00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474920" y="3860640"/>
            <a:ext cx="72072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474920" y="4940280"/>
            <a:ext cx="72072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474920" y="3068640"/>
            <a:ext cx="0" cy="187164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258920" y="3355920"/>
            <a:ext cx="86364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258920" y="5156280"/>
            <a:ext cx="93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258920" y="3355920"/>
            <a:ext cx="0" cy="18003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900000" y="263700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55640" y="36432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826920" y="494028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771640" y="3068640"/>
            <a:ext cx="79236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771640" y="4076640"/>
            <a:ext cx="79236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771640" y="5156280"/>
            <a:ext cx="79236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987640" y="256392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914560" y="364320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914560" y="465120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G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826920" y="5734080"/>
            <a:ext cx="273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Qué cantidades producir para maximizar el benefico diario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3780000" y="2421000"/>
          <a:ext cx="5154480" cy="2305080"/>
        </p:xfrm>
        <a:graphic>
          <a:graphicData uri="http://schemas.openxmlformats.org/drawingml/2006/table">
            <a:tbl>
              <a:tblPr/>
              <a:tblGrid>
                <a:gridCol w="1098360"/>
                <a:gridCol w="772920"/>
                <a:gridCol w="792360"/>
                <a:gridCol w="792000"/>
                <a:gridCol w="792360"/>
                <a:gridCol w="906480"/>
              </a:tblGrid>
              <a:tr h="124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Product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Kg A / Kg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Kg B  / Kg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Kg C / Kg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oste fabric € / Kg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Precio € /Kg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6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4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.5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F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7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3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5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G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5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2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3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3.7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28" name=""/>
          <p:cNvGraphicFramePr/>
          <p:nvPr/>
        </p:nvGraphicFramePr>
        <p:xfrm>
          <a:off x="3780000" y="4869000"/>
          <a:ext cx="4632120" cy="1734840"/>
        </p:xfrm>
        <a:graphic>
          <a:graphicData uri="http://schemas.openxmlformats.org/drawingml/2006/table">
            <a:tbl>
              <a:tblPr/>
              <a:tblGrid>
                <a:gridCol w="1544400"/>
                <a:gridCol w="1623960"/>
                <a:gridCol w="146376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Material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Disponibilidad Kg /dia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oste € /Kg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4000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.5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B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3000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C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2500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2.5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755640" y="765000"/>
            <a:ext cx="7924680" cy="1143000"/>
          </a:xfrm>
          <a:prstGeom prst="roundRect">
            <a:avLst>
              <a:gd name="adj" fmla="val 21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Ejemplo: Planificación de la producción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95640" y="2635200"/>
            <a:ext cx="576000" cy="865080"/>
          </a:xfrm>
          <a:prstGeom prst="can">
            <a:avLst>
              <a:gd name="adj" fmla="val 25000"/>
            </a:avLst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195640" y="3643200"/>
            <a:ext cx="576000" cy="865440"/>
          </a:xfrm>
          <a:prstGeom prst="can">
            <a:avLst>
              <a:gd name="adj" fmla="val 25000"/>
            </a:avLst>
          </a:prstGeom>
          <a:solidFill>
            <a:srgbClr val="ccff33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195640" y="4724280"/>
            <a:ext cx="576000" cy="865440"/>
          </a:xfrm>
          <a:prstGeom prst="can">
            <a:avLst>
              <a:gd name="adj" fmla="val 25000"/>
            </a:avLst>
          </a:prstGeom>
          <a:solidFill>
            <a:srgbClr val="ffcc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826920" y="3068640"/>
            <a:ext cx="129564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755640" y="4076640"/>
            <a:ext cx="144000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826920" y="5373720"/>
            <a:ext cx="1366920" cy="0"/>
          </a:xfrm>
          <a:prstGeom prst="line">
            <a:avLst/>
          </a:prstGeom>
          <a:ln w="9360">
            <a:solidFill>
              <a:srgbClr val="00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474920" y="3860640"/>
            <a:ext cx="72072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474920" y="4940280"/>
            <a:ext cx="72072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474920" y="3068640"/>
            <a:ext cx="0" cy="187164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258920" y="3355920"/>
            <a:ext cx="86364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258920" y="5156280"/>
            <a:ext cx="93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258920" y="3355920"/>
            <a:ext cx="0" cy="18003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900000" y="263700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755640" y="36432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494028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2771640" y="3068640"/>
            <a:ext cx="79236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2771640" y="4076640"/>
            <a:ext cx="79236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771640" y="5156280"/>
            <a:ext cx="79236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2987640" y="256392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914560" y="364320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914560" y="465120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G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042920" y="5877000"/>
            <a:ext cx="25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Objetivo: Maximizar el benefico diario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619280" y="2637000"/>
            <a:ext cx="431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x</a:t>
            </a:r>
            <a:r>
              <a:rPr b="0" lang="en-US" sz="1800" spc="-1" strike="noStrike" baseline="-25000">
                <a:solidFill>
                  <a:srgbClr val="003366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692360" y="3429000"/>
            <a:ext cx="431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x</a:t>
            </a:r>
            <a:r>
              <a:rPr b="0" lang="en-US" sz="1800" spc="-1" strike="noStrike" baseline="-25000">
                <a:solidFill>
                  <a:srgbClr val="003366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619280" y="4508640"/>
            <a:ext cx="431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x</a:t>
            </a:r>
            <a:r>
              <a:rPr b="0" lang="en-US" sz="1800" spc="-1" strike="noStrike" baseline="-25000">
                <a:solidFill>
                  <a:srgbClr val="003366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900000" y="3284640"/>
            <a:ext cx="503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x</a:t>
            </a:r>
            <a:r>
              <a:rPr b="0" lang="en-US" sz="1800" spc="-1" strike="noStrike" baseline="-25000">
                <a:solidFill>
                  <a:srgbClr val="003366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763640" y="4005360"/>
            <a:ext cx="432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x</a:t>
            </a:r>
            <a:r>
              <a:rPr b="0" lang="en-US" sz="1800" spc="-1" strike="noStrike" baseline="-25000">
                <a:solidFill>
                  <a:srgbClr val="003366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900000" y="4508640"/>
            <a:ext cx="432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x</a:t>
            </a:r>
            <a:r>
              <a:rPr b="0" lang="en-US" sz="1800" spc="-1" strike="noStrike" baseline="-25000">
                <a:solidFill>
                  <a:srgbClr val="003366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1332000" y="5373720"/>
            <a:ext cx="433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x</a:t>
            </a:r>
            <a:r>
              <a:rPr b="0" lang="en-US" sz="1800" spc="-1" strike="noStrike" baseline="-25000">
                <a:solidFill>
                  <a:srgbClr val="003366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4067280" y="2781360"/>
            <a:ext cx="4464000" cy="32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Variables: x</a:t>
            </a:r>
            <a:r>
              <a:rPr b="0" lang="es-ES" sz="2000" spc="-1" strike="noStrike" baseline="-25000">
                <a:solidFill>
                  <a:srgbClr val="003366"/>
                </a:solidFill>
                <a:latin typeface="Arial"/>
              </a:rPr>
              <a:t>i</a:t>
            </a: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  Kg /dia procesados en las unidades de cada material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A, B, C  Kg / dia de materiale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E, F, G  Kg/dia de product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Beneficio /dia = ventas – costes procesado –costes materiales =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(4E+3F+3.7G) – (1.5E+0.5F+G) – (1.5A+2B+2.5C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755640" y="765000"/>
            <a:ext cx="7924680" cy="1143000"/>
          </a:xfrm>
          <a:prstGeom prst="roundRect">
            <a:avLst>
              <a:gd name="adj" fmla="val 21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Ejemplo: Planificación de la producción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195640" y="2635200"/>
            <a:ext cx="576000" cy="865080"/>
          </a:xfrm>
          <a:prstGeom prst="can">
            <a:avLst>
              <a:gd name="adj" fmla="val 25000"/>
            </a:avLst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95640" y="3643200"/>
            <a:ext cx="576000" cy="865440"/>
          </a:xfrm>
          <a:prstGeom prst="can">
            <a:avLst>
              <a:gd name="adj" fmla="val 25000"/>
            </a:avLst>
          </a:prstGeom>
          <a:solidFill>
            <a:srgbClr val="ccff33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195640" y="4724280"/>
            <a:ext cx="576000" cy="865440"/>
          </a:xfrm>
          <a:prstGeom prst="can">
            <a:avLst>
              <a:gd name="adj" fmla="val 25000"/>
            </a:avLst>
          </a:prstGeom>
          <a:solidFill>
            <a:srgbClr val="ffcc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826920" y="3068640"/>
            <a:ext cx="129564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755640" y="4076640"/>
            <a:ext cx="144000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826920" y="5373720"/>
            <a:ext cx="1366920" cy="0"/>
          </a:xfrm>
          <a:prstGeom prst="line">
            <a:avLst/>
          </a:prstGeom>
          <a:ln w="9360">
            <a:solidFill>
              <a:srgbClr val="00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474920" y="3860640"/>
            <a:ext cx="72072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474920" y="4940280"/>
            <a:ext cx="72072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474920" y="3068640"/>
            <a:ext cx="0" cy="187164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258920" y="3355920"/>
            <a:ext cx="86364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258920" y="5156280"/>
            <a:ext cx="93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258920" y="3355920"/>
            <a:ext cx="0" cy="18003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755640" y="26370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84360" y="371628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755640" y="501336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771640" y="3068640"/>
            <a:ext cx="79236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1640" y="4076640"/>
            <a:ext cx="79236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2771640" y="5156280"/>
            <a:ext cx="79236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987640" y="256392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914560" y="364320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914560" y="465120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G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1042920" y="5877000"/>
            <a:ext cx="25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Objetivo: Maximizar el beneficio diario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1619280" y="2637000"/>
            <a:ext cx="431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x</a:t>
            </a:r>
            <a:r>
              <a:rPr b="0" lang="en-US" sz="1800" spc="-1" strike="noStrike" baseline="-25000">
                <a:solidFill>
                  <a:srgbClr val="003366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692360" y="3429000"/>
            <a:ext cx="431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x</a:t>
            </a:r>
            <a:r>
              <a:rPr b="0" lang="en-US" sz="1800" spc="-1" strike="noStrike" baseline="-25000">
                <a:solidFill>
                  <a:srgbClr val="003366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1619280" y="4508640"/>
            <a:ext cx="431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x</a:t>
            </a:r>
            <a:r>
              <a:rPr b="0" lang="en-US" sz="1800" spc="-1" strike="noStrike" baseline="-25000">
                <a:solidFill>
                  <a:srgbClr val="003366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900000" y="3284640"/>
            <a:ext cx="503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x</a:t>
            </a:r>
            <a:r>
              <a:rPr b="0" lang="en-US" sz="1800" spc="-1" strike="noStrike" baseline="-25000">
                <a:solidFill>
                  <a:srgbClr val="003366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1763640" y="4005360"/>
            <a:ext cx="432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x</a:t>
            </a:r>
            <a:r>
              <a:rPr b="0" lang="en-US" sz="1800" spc="-1" strike="noStrike" baseline="-25000">
                <a:solidFill>
                  <a:srgbClr val="003366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900000" y="4508640"/>
            <a:ext cx="432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x</a:t>
            </a:r>
            <a:r>
              <a:rPr b="0" lang="en-US" sz="1800" spc="-1" strike="noStrike" baseline="-25000">
                <a:solidFill>
                  <a:srgbClr val="003366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332000" y="5373720"/>
            <a:ext cx="433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x</a:t>
            </a:r>
            <a:r>
              <a:rPr b="0" lang="en-US" sz="1800" spc="-1" strike="noStrike" baseline="-25000">
                <a:solidFill>
                  <a:srgbClr val="003366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0" name=""/>
              <p:cNvSpPr txBox="1"/>
              <p:nvPr/>
            </p:nvSpPr>
            <p:spPr>
              <a:xfrm>
                <a:off x="3780000" y="2708280"/>
                <a:ext cx="5222880" cy="335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  <m:r>
                          <m:t xml:space="preserve"> 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E+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F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7</m:t>
                        </m:r>
                        <m:r>
                          <m:t xml:space="preserve">G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A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C</m:t>
                        </m:r>
                      </m:e>
                      <m:e>
                        <m:r>
                          <m:t xml:space="preserve">E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F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G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6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7</m:t>
                            </m:r>
                          </m:sub>
                        </m:sSub>
                      </m:e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B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6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7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6</m:t>
                        </m:r>
                        <m:r>
                          <m:t xml:space="preserve">E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7</m:t>
                        </m:r>
                        <m:r>
                          <m:t xml:space="preserve">F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G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6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2</m:t>
                        </m:r>
                        <m:r>
                          <m:t xml:space="preserve">G</m:t>
                        </m:r>
                      </m:e>
                      <m:e>
                        <m:r>
                          <m:t xml:space="preserve">0</m:t>
                        </m:r>
                        <m:r>
                          <m:t xml:space="preserve">≤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≤</m:t>
                        </m:r>
                        <m:r>
                          <m:rPr>
                            <m:lit/>
                            <m:nor/>
                          </m:rPr>
                          <m:t xml:space="preserve">40000</m:t>
                        </m:r>
                      </m:e>
                      <m:e>
                        <m:r>
                          <m:t xml:space="preserve">0</m:t>
                        </m:r>
                        <m:r>
                          <m:t xml:space="preserve">≤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6</m:t>
                            </m:r>
                          </m:sub>
                        </m:sSub>
                        <m:r>
                          <m:t xml:space="preserve">≤</m:t>
                        </m:r>
                        <m:r>
                          <m:rPr>
                            <m:lit/>
                            <m:nor/>
                          </m:rPr>
                          <m:t xml:space="preserve">30000</m:t>
                        </m:r>
                      </m:e>
                      <m:e>
                        <m:r>
                          <m:t xml:space="preserve">0</m:t>
                        </m:r>
                        <m:r>
                          <m:t xml:space="preserve">≤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7</m:t>
                            </m:r>
                          </m:sub>
                        </m:sSub>
                        <m:r>
                          <m:t xml:space="preserve">≤</m:t>
                        </m:r>
                        <m:r>
                          <m:rPr>
                            <m:lit/>
                            <m:nor/>
                          </m:rPr>
                          <m:t xml:space="preserve">25000</m:t>
                        </m:r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≥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755640" y="765000"/>
            <a:ext cx="7924680" cy="1143000"/>
          </a:xfrm>
          <a:prstGeom prst="roundRect">
            <a:avLst>
              <a:gd name="adj" fmla="val 21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Ejemplo: Planificación de la producción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195640" y="2635200"/>
            <a:ext cx="576000" cy="865080"/>
          </a:xfrm>
          <a:prstGeom prst="can">
            <a:avLst>
              <a:gd name="adj" fmla="val 25000"/>
            </a:avLst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195640" y="3643200"/>
            <a:ext cx="576000" cy="865440"/>
          </a:xfrm>
          <a:prstGeom prst="can">
            <a:avLst>
              <a:gd name="adj" fmla="val 25000"/>
            </a:avLst>
          </a:prstGeom>
          <a:solidFill>
            <a:srgbClr val="ccff33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2195640" y="4724280"/>
            <a:ext cx="576000" cy="865440"/>
          </a:xfrm>
          <a:prstGeom prst="can">
            <a:avLst>
              <a:gd name="adj" fmla="val 25000"/>
            </a:avLst>
          </a:prstGeom>
          <a:solidFill>
            <a:srgbClr val="ffcc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826920" y="3068640"/>
            <a:ext cx="129564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55640" y="4076640"/>
            <a:ext cx="144000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826920" y="5373720"/>
            <a:ext cx="1366920" cy="0"/>
          </a:xfrm>
          <a:prstGeom prst="line">
            <a:avLst/>
          </a:prstGeom>
          <a:ln w="9360">
            <a:solidFill>
              <a:srgbClr val="00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1474920" y="3860640"/>
            <a:ext cx="72072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1474920" y="4940280"/>
            <a:ext cx="72072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1474920" y="3068640"/>
            <a:ext cx="0" cy="187164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1258920" y="3355920"/>
            <a:ext cx="86364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258920" y="5156280"/>
            <a:ext cx="93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1258920" y="3355920"/>
            <a:ext cx="0" cy="18003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755640" y="26370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4360" y="371628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755640" y="501336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1640" y="3068640"/>
            <a:ext cx="79236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771640" y="4076640"/>
            <a:ext cx="79236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1640" y="5156280"/>
            <a:ext cx="79236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2987640" y="256392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914560" y="364320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914560" y="465120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G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1042920" y="5877000"/>
            <a:ext cx="25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Objetivo: Maximizar el beneficio diario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1619280" y="2637000"/>
            <a:ext cx="431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x</a:t>
            </a:r>
            <a:r>
              <a:rPr b="0" lang="en-US" sz="1800" spc="-1" strike="noStrike" baseline="-25000">
                <a:solidFill>
                  <a:srgbClr val="003366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1692360" y="3429000"/>
            <a:ext cx="431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x</a:t>
            </a:r>
            <a:r>
              <a:rPr b="0" lang="en-US" sz="1800" spc="-1" strike="noStrike" baseline="-25000">
                <a:solidFill>
                  <a:srgbClr val="003366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619280" y="4508640"/>
            <a:ext cx="431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x</a:t>
            </a:r>
            <a:r>
              <a:rPr b="0" lang="en-US" sz="1800" spc="-1" strike="noStrike" baseline="-25000">
                <a:solidFill>
                  <a:srgbClr val="003366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900000" y="3284640"/>
            <a:ext cx="503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x</a:t>
            </a:r>
            <a:r>
              <a:rPr b="0" lang="en-US" sz="1800" spc="-1" strike="noStrike" baseline="-25000">
                <a:solidFill>
                  <a:srgbClr val="003366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1763640" y="4005360"/>
            <a:ext cx="432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x</a:t>
            </a:r>
            <a:r>
              <a:rPr b="0" lang="en-US" sz="1800" spc="-1" strike="noStrike" baseline="-25000">
                <a:solidFill>
                  <a:srgbClr val="003366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900000" y="4508640"/>
            <a:ext cx="432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x</a:t>
            </a:r>
            <a:r>
              <a:rPr b="0" lang="en-US" sz="1800" spc="-1" strike="noStrike" baseline="-25000">
                <a:solidFill>
                  <a:srgbClr val="003366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1332000" y="5373720"/>
            <a:ext cx="433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x</a:t>
            </a:r>
            <a:r>
              <a:rPr b="0" lang="en-US" sz="1800" spc="-1" strike="noStrike" baseline="-25000">
                <a:solidFill>
                  <a:srgbClr val="003366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6659640" y="4365720"/>
            <a:ext cx="2233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3 variables – 10 ecuaciones = 3 grados de libertad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6732720" y="5516640"/>
            <a:ext cx="194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No es factible una solución analític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3" name=""/>
              <p:cNvSpPr txBox="1"/>
              <p:nvPr/>
            </p:nvSpPr>
            <p:spPr>
              <a:xfrm>
                <a:off x="3780000" y="2421000"/>
                <a:ext cx="5222880" cy="335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  <m:r>
                          <m:t xml:space="preserve"> 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E+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F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7</m:t>
                        </m:r>
                        <m:r>
                          <m:t xml:space="preserve">G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A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C</m:t>
                        </m:r>
                      </m:e>
                      <m:e>
                        <m:r>
                          <m:t xml:space="preserve">E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F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G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6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7</m:t>
                            </m:r>
                          </m:sub>
                        </m:sSub>
                      </m:e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B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6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7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6</m:t>
                        </m:r>
                        <m:r>
                          <m:t xml:space="preserve">E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7</m:t>
                        </m:r>
                        <m:r>
                          <m:t xml:space="preserve">F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G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6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2</m:t>
                        </m:r>
                        <m:r>
                          <m:t xml:space="preserve">G</m:t>
                        </m:r>
                      </m:e>
                      <m:e>
                        <m:r>
                          <m:t xml:space="preserve">0</m:t>
                        </m:r>
                        <m:r>
                          <m:t xml:space="preserve">≤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≤</m:t>
                        </m:r>
                        <m:r>
                          <m:rPr>
                            <m:lit/>
                            <m:nor/>
                          </m:rPr>
                          <m:t xml:space="preserve">40000</m:t>
                        </m:r>
                      </m:e>
                      <m:e>
                        <m:r>
                          <m:t xml:space="preserve">0</m:t>
                        </m:r>
                        <m:r>
                          <m:t xml:space="preserve">≤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6</m:t>
                            </m:r>
                          </m:sub>
                        </m:sSub>
                        <m:r>
                          <m:t xml:space="preserve">≤</m:t>
                        </m:r>
                        <m:r>
                          <m:rPr>
                            <m:lit/>
                            <m:nor/>
                          </m:rPr>
                          <m:t xml:space="preserve">30000</m:t>
                        </m:r>
                      </m:e>
                      <m:e>
                        <m:r>
                          <m:t xml:space="preserve">0</m:t>
                        </m:r>
                        <m:r>
                          <m:t xml:space="preserve">≤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7</m:t>
                            </m:r>
                          </m:sub>
                        </m:sSub>
                        <m:r>
                          <m:t xml:space="preserve">≤</m:t>
                        </m:r>
                        <m:r>
                          <m:rPr>
                            <m:lit/>
                            <m:nor/>
                          </m:rPr>
                          <m:t xml:space="preserve">25000</m:t>
                        </m:r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≥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1752480" y="4572000"/>
            <a:ext cx="2667240" cy="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6666"/>
                </a:solidFill>
                <a:latin typeface="Arial"/>
              </a:rPr>
              <a:t>Optimización numérica de funcione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2124000" y="3141720"/>
            <a:ext cx="1828800" cy="609480"/>
          </a:xfrm>
          <a:prstGeom prst="ellipse">
            <a:avLst/>
          </a:prstGeom>
          <a:solidFill>
            <a:srgbClr val="cc99ff"/>
          </a:solidFill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1752480" y="2438280"/>
            <a:ext cx="0" cy="213372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 flipH="1">
            <a:off x="380880" y="4572000"/>
            <a:ext cx="1371600" cy="106668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048120" y="4876920"/>
            <a:ext cx="0" cy="533160"/>
          </a:xfrm>
          <a:prstGeom prst="line">
            <a:avLst/>
          </a:prstGeom>
          <a:ln w="12600">
            <a:solidFill>
              <a:srgbClr val="0033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 flipV="1">
            <a:off x="3059280" y="4581000"/>
            <a:ext cx="761760" cy="838440"/>
          </a:xfrm>
          <a:prstGeom prst="line">
            <a:avLst/>
          </a:prstGeom>
          <a:ln w="12600">
            <a:solidFill>
              <a:srgbClr val="0033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 flipH="1">
            <a:off x="684000" y="5445000"/>
            <a:ext cx="2361960" cy="0"/>
          </a:xfrm>
          <a:prstGeom prst="line">
            <a:avLst/>
          </a:prstGeom>
          <a:ln w="12600">
            <a:solidFill>
              <a:srgbClr val="0033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1835280" y="2421000"/>
            <a:ext cx="1442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Times New Roman"/>
              </a:rPr>
              <a:t>J(x</a:t>
            </a:r>
            <a:r>
              <a:rPr b="0" lang="es-ES_tradnl" sz="2400" spc="-1" strike="noStrike" baseline="-25000">
                <a:solidFill>
                  <a:srgbClr val="003366"/>
                </a:solidFill>
                <a:latin typeface="Times New Roman"/>
              </a:rPr>
              <a:t>1</a:t>
            </a:r>
            <a:r>
              <a:rPr b="0" lang="es-ES_tradnl" sz="2400" spc="-1" strike="noStrike">
                <a:solidFill>
                  <a:srgbClr val="003366"/>
                </a:solidFill>
                <a:latin typeface="Times New Roman"/>
              </a:rPr>
              <a:t>, x</a:t>
            </a:r>
            <a:r>
              <a:rPr b="0" lang="es-ES_tradnl" sz="2400" spc="-1" strike="noStrike" baseline="-25000">
                <a:solidFill>
                  <a:srgbClr val="003366"/>
                </a:solidFill>
                <a:latin typeface="Times New Roman"/>
              </a:rPr>
              <a:t>2</a:t>
            </a:r>
            <a:r>
              <a:rPr b="0" lang="es-ES_tradnl" sz="2400" spc="-1" strike="noStrike">
                <a:solidFill>
                  <a:srgbClr val="003366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41800" y="5568840"/>
            <a:ext cx="42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Times New Roman"/>
              </a:rPr>
              <a:t>x</a:t>
            </a:r>
            <a:r>
              <a:rPr b="0" lang="es-ES_tradnl" sz="2400" spc="-1" strike="noStrike" baseline="-25000">
                <a:solidFill>
                  <a:srgbClr val="003366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5105520"/>
            <a:ext cx="1600200" cy="533160"/>
          </a:xfrm>
          <a:prstGeom prst="ellipse">
            <a:avLst/>
          </a:prstGeom>
          <a:noFill/>
          <a:ln w="12600">
            <a:solidFill>
              <a:srgbClr val="0033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1908000" y="4941720"/>
            <a:ext cx="2362320" cy="914400"/>
          </a:xfrm>
          <a:prstGeom prst="ellipse">
            <a:avLst/>
          </a:prstGeom>
          <a:noFill/>
          <a:ln w="12600">
            <a:solidFill>
              <a:srgbClr val="0033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514600" y="5257800"/>
            <a:ext cx="1066680" cy="228600"/>
          </a:xfrm>
          <a:prstGeom prst="ellipse">
            <a:avLst/>
          </a:prstGeom>
          <a:noFill/>
          <a:ln w="12600">
            <a:solidFill>
              <a:srgbClr val="0033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715000" y="2209680"/>
            <a:ext cx="0" cy="198144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410080" y="3886200"/>
            <a:ext cx="2743200" cy="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8237880" y="3816360"/>
            <a:ext cx="42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Times New Roman"/>
              </a:rPr>
              <a:t>x</a:t>
            </a:r>
            <a:r>
              <a:rPr b="0" lang="es-ES_tradnl" sz="2400" spc="-1" strike="noStrike" baseline="-25000">
                <a:solidFill>
                  <a:srgbClr val="003366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5156640" y="2355840"/>
            <a:ext cx="42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Times New Roman"/>
              </a:rPr>
              <a:t>x</a:t>
            </a:r>
            <a:r>
              <a:rPr b="0" lang="es-ES_tradnl" sz="2400" spc="-1" strike="noStrike" baseline="-25000">
                <a:solidFill>
                  <a:srgbClr val="003366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6248520" y="2514600"/>
            <a:ext cx="2133360" cy="914400"/>
          </a:xfrm>
          <a:prstGeom prst="ellipse">
            <a:avLst/>
          </a:prstGeom>
          <a:noFill/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477120" y="2666880"/>
            <a:ext cx="1676160" cy="685800"/>
          </a:xfrm>
          <a:prstGeom prst="ellipse">
            <a:avLst/>
          </a:prstGeom>
          <a:noFill/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6781680" y="2819520"/>
            <a:ext cx="685800" cy="380880"/>
          </a:xfrm>
          <a:prstGeom prst="ellipse">
            <a:avLst/>
          </a:prstGeom>
          <a:noFill/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cxnSp>
        <p:nvCxnSpPr>
          <p:cNvPr id="344" name=""/>
          <p:cNvCxnSpPr>
            <a:stCxn id="345" idx="4"/>
            <a:endCxn id="346" idx="3"/>
          </p:cNvCxnSpPr>
          <p:nvPr/>
        </p:nvCxnSpPr>
        <p:spPr>
          <a:xfrm flipH="1">
            <a:off x="8163720" y="2133360"/>
            <a:ext cx="104040" cy="903960"/>
          </a:xfrm>
          <a:prstGeom prst="straightConnector1">
            <a:avLst/>
          </a:prstGeom>
          <a:ln w="12600">
            <a:solidFill>
              <a:srgbClr val="003366"/>
            </a:solidFill>
            <a:miter/>
            <a:tailEnd len="med" type="triangle" w="med"/>
          </a:ln>
        </p:spPr>
      </p:cxnSp>
      <p:cxnSp>
        <p:nvCxnSpPr>
          <p:cNvPr id="347" name=""/>
          <p:cNvCxnSpPr>
            <a:stCxn id="346" idx="2"/>
            <a:endCxn id="348" idx="4"/>
          </p:cNvCxnSpPr>
          <p:nvPr/>
        </p:nvCxnSpPr>
        <p:spPr>
          <a:xfrm flipH="1" flipV="1">
            <a:off x="7353000" y="2742840"/>
            <a:ext cx="800640" cy="267120"/>
          </a:xfrm>
          <a:prstGeom prst="straightConnector1">
            <a:avLst/>
          </a:prstGeom>
          <a:ln w="12600">
            <a:solidFill>
              <a:srgbClr val="003366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8" idx="6"/>
            <a:endCxn id="350" idx="7"/>
          </p:cNvCxnSpPr>
          <p:nvPr/>
        </p:nvCxnSpPr>
        <p:spPr>
          <a:xfrm flipH="1">
            <a:off x="7151400" y="2704680"/>
            <a:ext cx="240480" cy="126360"/>
          </a:xfrm>
          <a:prstGeom prst="straightConnector1">
            <a:avLst/>
          </a:prstGeom>
          <a:ln w="12600">
            <a:solidFill>
              <a:srgbClr val="003366"/>
            </a:solidFill>
            <a:miter/>
            <a:tailEnd len="med" type="triangle" w="med"/>
          </a:ln>
        </p:spPr>
      </p:cxnSp>
      <p:sp>
        <p:nvSpPr>
          <p:cNvPr id="345" name=""/>
          <p:cNvSpPr/>
          <p:nvPr/>
        </p:nvSpPr>
        <p:spPr>
          <a:xfrm>
            <a:off x="8229600" y="2057400"/>
            <a:ext cx="76320" cy="76320"/>
          </a:xfrm>
          <a:prstGeom prst="ellipse">
            <a:avLst/>
          </a:prstGeom>
          <a:solidFill>
            <a:srgbClr val="33cccc"/>
          </a:solidFill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8153280" y="2971800"/>
            <a:ext cx="76320" cy="76320"/>
          </a:xfrm>
          <a:prstGeom prst="ellipse">
            <a:avLst/>
          </a:prstGeom>
          <a:solidFill>
            <a:srgbClr val="33cccc"/>
          </a:solidFill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7315200" y="2666880"/>
            <a:ext cx="76320" cy="76320"/>
          </a:xfrm>
          <a:prstGeom prst="ellipse">
            <a:avLst/>
          </a:prstGeom>
          <a:solidFill>
            <a:srgbClr val="33cccc"/>
          </a:solidFill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7086600" y="2819520"/>
            <a:ext cx="76320" cy="75960"/>
          </a:xfrm>
          <a:prstGeom prst="ellipse">
            <a:avLst/>
          </a:prstGeom>
          <a:solidFill>
            <a:srgbClr val="33cccc"/>
          </a:solidFill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6095880" y="4343400"/>
            <a:ext cx="1828800" cy="510120"/>
          </a:xfrm>
          <a:prstGeom prst="rect">
            <a:avLst/>
          </a:prstGeom>
          <a:noFill/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Times New Roman"/>
              </a:rPr>
              <a:t>x</a:t>
            </a:r>
            <a:r>
              <a:rPr b="0" lang="es-ES_tradnl" sz="2400" spc="-1" strike="noStrike" baseline="-25000">
                <a:solidFill>
                  <a:srgbClr val="003366"/>
                </a:solidFill>
                <a:latin typeface="Times New Roman"/>
              </a:rPr>
              <a:t>k+1</a:t>
            </a:r>
            <a:r>
              <a:rPr b="0" lang="es-ES_tradnl" sz="2400" spc="-1" strike="noStrike">
                <a:solidFill>
                  <a:srgbClr val="003366"/>
                </a:solidFill>
                <a:latin typeface="Times New Roman"/>
              </a:rPr>
              <a:t>= x</a:t>
            </a:r>
            <a:r>
              <a:rPr b="0" lang="es-ES_tradnl" sz="2400" spc="-1" strike="noStrike" baseline="-25000">
                <a:solidFill>
                  <a:srgbClr val="003366"/>
                </a:solidFill>
                <a:latin typeface="Times New Roman"/>
              </a:rPr>
              <a:t>k</a:t>
            </a:r>
            <a:r>
              <a:rPr b="0" lang="es-ES_tradnl" sz="2400" spc="-1" strike="noStrike">
                <a:solidFill>
                  <a:srgbClr val="003366"/>
                </a:solidFill>
                <a:latin typeface="Times New Roman"/>
              </a:rPr>
              <a:t>+</a:t>
            </a:r>
            <a:r>
              <a:rPr b="0" lang="es-ES_tradnl" sz="2400" spc="-1" strike="noStrike">
                <a:solidFill>
                  <a:srgbClr val="003366"/>
                </a:solidFill>
                <a:latin typeface="Symbol"/>
                <a:ea typeface="Symbol"/>
              </a:rPr>
              <a:t></a:t>
            </a:r>
            <a:r>
              <a:rPr b="1" lang="es-ES_tradnl" sz="2400" spc="-1" strike="noStrike">
                <a:solidFill>
                  <a:srgbClr val="003366"/>
                </a:solidFill>
                <a:latin typeface="Times New Roman"/>
              </a:rPr>
              <a:t>d</a:t>
            </a:r>
            <a:r>
              <a:rPr b="1" lang="es-ES_tradnl" sz="2400" spc="-1" strike="noStrike" baseline="-25000">
                <a:solidFill>
                  <a:srgbClr val="003366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199400" y="4121280"/>
            <a:ext cx="42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Times New Roman"/>
              </a:rPr>
              <a:t>x</a:t>
            </a:r>
            <a:r>
              <a:rPr b="0" lang="es-ES_tradnl" sz="2400" spc="-1" strike="noStrike" baseline="-25000">
                <a:solidFill>
                  <a:srgbClr val="003366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410080" y="5029200"/>
            <a:ext cx="32004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Times New Roman"/>
              </a:rPr>
              <a:t>Métodos iterativo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3366"/>
                </a:solidFill>
                <a:latin typeface="Times New Roman"/>
              </a:rPr>
              <a:t>d</a:t>
            </a:r>
            <a:r>
              <a:rPr b="0" lang="es-ES_tradnl" sz="2400" spc="-1" strike="noStrike">
                <a:solidFill>
                  <a:srgbClr val="003366"/>
                </a:solidFill>
                <a:latin typeface="Times New Roman"/>
              </a:rPr>
              <a:t> dirección de búsqueda </a:t>
            </a:r>
            <a:r>
              <a:rPr b="0" lang="es-ES_tradnl" sz="2400" spc="-1" strike="noStrike">
                <a:solidFill>
                  <a:srgbClr val="003366"/>
                </a:solidFill>
                <a:latin typeface="Symbol"/>
                <a:ea typeface="Symbol"/>
              </a:rPr>
              <a:t></a:t>
            </a:r>
            <a:r>
              <a:rPr b="0" lang="es-ES_tradnl" sz="2400" spc="-1" strike="noStrike">
                <a:solidFill>
                  <a:srgbClr val="003366"/>
                </a:solidFill>
                <a:latin typeface="Times New Roman"/>
              </a:rPr>
              <a:t> longitud del paso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8314560" y="2209680"/>
            <a:ext cx="448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3366"/>
                </a:solidFill>
                <a:latin typeface="Times New Roman"/>
              </a:rPr>
              <a:t>d</a:t>
            </a:r>
            <a:r>
              <a:rPr b="1" lang="es-ES_tradnl" sz="2400" spc="-1" strike="noStrike" baseline="-25000">
                <a:solidFill>
                  <a:srgbClr val="003366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8244000" y="2133720"/>
            <a:ext cx="0" cy="287280"/>
          </a:xfrm>
          <a:prstGeom prst="line">
            <a:avLst/>
          </a:prstGeom>
          <a:ln w="381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 flipH="1">
            <a:off x="1115640" y="5084640"/>
            <a:ext cx="1152360" cy="0"/>
          </a:xfrm>
          <a:prstGeom prst="line">
            <a:avLst/>
          </a:prstGeom>
          <a:ln w="12600">
            <a:solidFill>
              <a:srgbClr val="0033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 flipV="1">
            <a:off x="2195640" y="4581360"/>
            <a:ext cx="504720" cy="503280"/>
          </a:xfrm>
          <a:prstGeom prst="line">
            <a:avLst/>
          </a:prstGeom>
          <a:ln w="12600">
            <a:solidFill>
              <a:srgbClr val="0033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2195640" y="5084640"/>
            <a:ext cx="504720" cy="14472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Optimización de Proceso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Arial"/>
              </a:rPr>
              <a:t>Troncal, 5º Curso de Ingeniería Químic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Arial"/>
              </a:rPr>
              <a:t>Conocimientos previos: Matemáticas / Proceso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Arial"/>
              </a:rPr>
              <a:t>2º cuatrimestre       4.5 (3+1.5) créditos  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Arial"/>
              </a:rPr>
              <a:t>2 horas teoria           Lunes, Martes, 13h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Arial"/>
              </a:rPr>
              <a:t>1 hora  laboratorio  Lunes 4-5 h / 5-6h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Arial"/>
              </a:rPr>
              <a:t>Prof. Cesar de Prada / Gloria Gutierrez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Arial"/>
              </a:rPr>
              <a:t>Web:  </a:t>
            </a:r>
            <a:r>
              <a:rPr b="0" lang="es-ES_tradnl" sz="2400" spc="-1" strike="noStrike" u="sng">
                <a:solidFill>
                  <a:srgbClr val="003366"/>
                </a:solidFill>
                <a:uFillTx/>
                <a:latin typeface="Arial"/>
                <a:ea typeface="Arial"/>
                <a:hlinkClick r:id="rId1"/>
              </a:rPr>
              <a:t>www.isa.cie.uva.es/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  <a:ea typeface="Arial"/>
                <a:hlinkClick r:id="rId2"/>
              </a:rPr>
              <a:t>~prada/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E-mail: 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  <a:ea typeface="Arial"/>
                <a:hlinkClick r:id="rId3"/>
              </a:rPr>
              <a:t>prada@autom.uva.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Moodle: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http://docenweb.isa.cie.uva.es/moodle/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Objetivo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prender a analizar y formular problemas de optimizació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econocer los distintos tipos de problemas matemáticos de optimizació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onocer los fundamentos de los algoritmos de resolución numéric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prender a utilizar software de optimizació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plicarlo a la resolución de algunos problemas típicos de la industria de proceso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rogram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387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ntroducción, Conceptos básico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ptimización sin restriccion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ptimización con restriccion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LP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onceptos, Funciones de penalizació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QP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NLP, Optimización estocástic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roblemas híbridos, MILP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lanificación y secuenciamiento de procesos batch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plicaciones en diseño y operación de proceso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Laboratori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5894640" cy="387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Sala de ordenadore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2 grupo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Toolbox de optimización de Matlab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GAM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Entrega de práctica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Toolbox de optimización de Matlab, problemas sin restricciones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GAMS,  Problemas LP, NLP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Problemas de diseño y operación óptima (GAMS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Valoración: 30% de la nota final para quienes tengan al menos un 4 en el exame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365" name="" descr=""/>
          <p:cNvPicPr/>
          <p:nvPr/>
        </p:nvPicPr>
        <p:blipFill>
          <a:blip r:embed="rId1"/>
          <a:stretch/>
        </p:blipFill>
        <p:spPr>
          <a:xfrm>
            <a:off x="6012000" y="2492280"/>
            <a:ext cx="2600280" cy="195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Bibliografi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2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Arial"/>
              </a:rPr>
              <a:t>Optimization of Chemical Processes, T.F. Edgar, D.M. Himmenblau, L.S. Lasdon, McGraw Hill, 2ª edición, 2001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Arial"/>
              </a:rPr>
              <a:t>Systematic Methods of Chemical Process Design, L.T. Biegler, I.E. Grossmann, A.W. Westerberg, Prentice Hall 1997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Arial"/>
              </a:rPr>
              <a:t>Engineering Optimization, G.V. Reklaitis, A. Ravindran, K.M. Ragsdell, J. Wiley 1983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Arial"/>
              </a:rPr>
              <a:t>Practical Methods of Optimization, R. Fletcher, J. Wiley, 2ª edición, 1991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Arial"/>
              </a:rPr>
              <a:t>Model Building in Mathematical Programming, H.P. Williams, J. Willey 4ª edic., 2002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Arial"/>
              </a:rPr>
              <a:t>Non-linear and Mix-Integer Optimization, C. A. Floudas, Edt. Oxford Univ. Press, 1995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Estrategias de Modelado, Simulación y Optimización de Procesos Químicos, L. Puigjaner, P. Ollero, C. de Prada, L. Jimenez, Edt. Síntesis, 2006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documentación adicional en página web: http://www.isa.cie.uva.es/~prada/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762120" y="762120"/>
            <a:ext cx="7924680" cy="1143000"/>
          </a:xfrm>
          <a:prstGeom prst="roundRect">
            <a:avLst>
              <a:gd name="adj" fmla="val 21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ctividades complementarias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838080" y="2362320"/>
            <a:ext cx="7693200" cy="430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Arial"/>
              </a:rPr>
              <a:t>Visitas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66"/>
                </a:solidFill>
                <a:latin typeface="Arial"/>
              </a:rPr>
              <a:t>Esta prevista una visita a una instalación industrial  en cooperación con la sección de estudiantes de la ISA (Refinería de Petronor) 8 Mayo 2008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Arial"/>
              </a:rPr>
              <a:t>Conferencias: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Evaluació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66"/>
                </a:solidFill>
                <a:latin typeface="Arial"/>
              </a:rPr>
              <a:t>Calificación: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3366"/>
                </a:solidFill>
                <a:latin typeface="Arial"/>
              </a:rPr>
              <a:t>Examen. Dos partes: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3366"/>
                </a:solidFill>
                <a:latin typeface="Arial"/>
              </a:rPr>
              <a:t>2 problemas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s-ES_tradnl" sz="1600" spc="-1" strike="noStrike">
                <a:solidFill>
                  <a:srgbClr val="003366"/>
                </a:solidFill>
                <a:latin typeface="Arial"/>
              </a:rPr>
              <a:t>teoría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3366"/>
                </a:solidFill>
                <a:latin typeface="Arial"/>
              </a:rPr>
              <a:t>Prácticas  30% para quienes aprueben el exame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exámenes:  </a:t>
            </a:r>
            <a:r>
              <a:rPr b="0" lang="es-ES" sz="1800" spc="-1" strike="noStrike">
                <a:solidFill>
                  <a:srgbClr val="003366"/>
                </a:solidFill>
                <a:latin typeface="Arial"/>
                <a:ea typeface="굴림"/>
              </a:rPr>
              <a:t>20 de  Junio  2008 /    10 de Septiembre  2008</a:t>
            </a:r>
            <a:r>
              <a:rPr b="0" lang="es-ES" sz="2400" spc="-1" strike="noStrike">
                <a:solidFill>
                  <a:srgbClr val="003366"/>
                </a:solidFill>
                <a:latin typeface="Arial"/>
                <a:ea typeface="굴림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Tutorias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Despacho en el Dpto.de Ingenieria de Sistemas y Automática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Correo electronico:  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prada@autom.uva.es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3366"/>
                </a:solidFill>
                <a:latin typeface="Arial"/>
              </a:rPr>
              <a:t>gloria@autom.uva.es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/>
          <p:nvPr/>
        </p:nvSpPr>
        <p:spPr>
          <a:xfrm>
            <a:off x="762120" y="762120"/>
            <a:ext cx="7924680" cy="1143000"/>
          </a:xfrm>
          <a:prstGeom prst="roundRect">
            <a:avLst>
              <a:gd name="adj" fmla="val 21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6666"/>
                </a:solidFill>
                <a:latin typeface="Arial"/>
              </a:rPr>
              <a:t>Proyectos Fin de carrer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838080" y="2362320"/>
            <a:ext cx="7693200" cy="37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Hay proyectos o trabajos de investigación disponibles para quienes quieran realizarlos en IS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Temas en </a:t>
            </a:r>
            <a:r>
              <a:rPr b="0" lang="en-GB" sz="20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000" spc="-1" strike="noStrike" u="sng">
                <a:solidFill>
                  <a:srgbClr val="003366"/>
                </a:solidFill>
                <a:uFillTx/>
                <a:latin typeface="Arial"/>
                <a:hlinkClick r:id="rId2"/>
              </a:rPr>
              <a:t>www.isa.cie.uva.es/~prada</a:t>
            </a:r>
            <a:r>
              <a:rPr b="0" lang="en-GB" sz="2000" spc="-1" strike="noStrike" u="sng">
                <a:solidFill>
                  <a:srgbClr val="003366"/>
                </a:solidFill>
                <a:uFillTx/>
                <a:latin typeface="Arial"/>
                <a:hlinkClick r:id="rId3"/>
              </a:rPr>
              <a:t>/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Participación en proyectos de investigación del departamento: Petronor, CERN, HYCON, OPEN-GAIN, EA, CTA etc. sobre temas de optimización, modelado y simulacion, control avanzado, gestión de redes,…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Proyectos con plantas piloto en el laboratori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Asignaturas complementaria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Control por computado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Informática aplicada a la Ingeniería Químic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Sistemas de supervisión de proceso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3300"/>
                </a:solidFill>
                <a:latin typeface="Arial"/>
              </a:rPr>
              <a:t>Asignatura de libre configuración</a:t>
            </a: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3300"/>
                </a:solidFill>
                <a:latin typeface="Arial"/>
              </a:rPr>
              <a:t>Simulación de sistemas dinámico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376" name="" descr=""/>
          <p:cNvPicPr/>
          <p:nvPr/>
        </p:nvPicPr>
        <p:blipFill>
          <a:blip r:embed="rId1"/>
          <a:stretch/>
        </p:blipFill>
        <p:spPr>
          <a:xfrm>
            <a:off x="3780000" y="4959360"/>
            <a:ext cx="2232000" cy="162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Optimización de Proceso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Arial"/>
              </a:rPr>
              <a:t>Información genera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Arial"/>
              </a:rPr>
              <a:t>Orientación y objetivo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Arial"/>
              </a:rPr>
              <a:t>Program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Arial"/>
              </a:rPr>
              <a:t>Laboratori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Arial"/>
              </a:rPr>
              <a:t>Calificació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Arial"/>
              </a:rPr>
              <a:t>Visitas / Conferencia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roblemas de optimizació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387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Como tomar la mejor opción entre varias posibl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Problemas de naturaleza muy divers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Diseño (p.e. dimensionamiento de un equipo con costo mínimo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Operación (p.e. punto de operación mas rentable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Logística (p.e. ruta mas corta de distribución de un producto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Planificación (p.e. mejor lugar para construir una planta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Control (p.e. acción de control que genera menos varianza en la variable controlada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Etc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roblemas de optimizació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09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 presentan en campos muy diverso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roceso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Economí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Biologí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Electrónica,…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ero todos tienen rasgos comunes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Un objetivo u criterio a optimiza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Unas variables de decisió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Un  conjunto de ligaduras y restricciones sobre las variables de decisió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¿Cómo tomar decisiones optimas?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6012000" y="3500280"/>
          <a:ext cx="2019240" cy="1785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12000" y="3500280"/>
                    <a:ext cx="2019240" cy="178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8" name=""/>
          <p:cNvGraphicFramePr/>
          <p:nvPr/>
        </p:nvGraphicFramePr>
        <p:xfrm>
          <a:off x="1258920" y="2421000"/>
          <a:ext cx="2319480" cy="1785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58920" y="2421000"/>
                    <a:ext cx="2319480" cy="178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3635280" y="270828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¿Por experiencia?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132000" y="458136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¿Experimentando todas las opciones?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724360" y="5516640"/>
            <a:ext cx="273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Analizando el problema y formulándolo como un problema matemático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5"/>
          <a:stretch/>
        </p:blipFill>
        <p:spPr>
          <a:xfrm>
            <a:off x="1332000" y="4797360"/>
            <a:ext cx="1928880" cy="167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Metodología de trabaj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684360" y="4292640"/>
          <a:ext cx="2895480" cy="1785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4292640"/>
                    <a:ext cx="2895480" cy="178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7" name=""/>
          <p:cNvGraphicFramePr/>
          <p:nvPr/>
        </p:nvGraphicFramePr>
        <p:xfrm>
          <a:off x="971640" y="3213000"/>
          <a:ext cx="1081080" cy="1281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71640" y="3213000"/>
                    <a:ext cx="1081080" cy="12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4140360" y="3716280"/>
                <a:ext cx="1296720" cy="129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in</m:t>
                            </m:r>
                          </m:e>
                          <m:lim>
                            <m:r>
                              <m:t xml:space="preserve">x</m:t>
                            </m:r>
                          </m:lim>
                        </m:limLow>
                        <m:r>
                          <m:t xml:space="preserve"> </m:t>
                        </m:r>
                        <m:r>
                          <m:t xml:space="preserve">J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≤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20" name=""/>
          <p:cNvSpPr/>
          <p:nvPr/>
        </p:nvSpPr>
        <p:spPr>
          <a:xfrm>
            <a:off x="2771640" y="3716280"/>
            <a:ext cx="1008360" cy="432000"/>
          </a:xfrm>
          <a:prstGeom prst="rightArrow">
            <a:avLst>
              <a:gd name="adj1" fmla="val 50000"/>
              <a:gd name="adj2" fmla="val 58354"/>
            </a:avLst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796000" y="3716280"/>
            <a:ext cx="1008000" cy="432000"/>
          </a:xfrm>
          <a:prstGeom prst="rightArrow">
            <a:avLst>
              <a:gd name="adj1" fmla="val 50000"/>
              <a:gd name="adj2" fmla="val 58333"/>
            </a:avLst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7020000" y="3213000"/>
          <a:ext cx="1876320" cy="1505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020000" y="3213000"/>
                    <a:ext cx="1876320" cy="150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4" name=""/>
          <p:cNvSpPr/>
          <p:nvPr/>
        </p:nvSpPr>
        <p:spPr>
          <a:xfrm>
            <a:off x="1187280" y="2421000"/>
            <a:ext cx="208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 Analizar el problem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780000" y="2565360"/>
            <a:ext cx="208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2 Formularlo en términos matemático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443640" y="4797360"/>
            <a:ext cx="208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3 Resolverlo con los algoritmos y software adecuado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284720" y="5445000"/>
            <a:ext cx="1008000" cy="432000"/>
          </a:xfrm>
          <a:prstGeom prst="leftArrow">
            <a:avLst>
              <a:gd name="adj1" fmla="val 50000"/>
              <a:gd name="adj2" fmla="val 58333"/>
            </a:avLst>
          </a:prstGeom>
          <a:solidFill>
            <a:srgbClr val="ff00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780000" y="5950080"/>
            <a:ext cx="216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4 Interpretar y aplicar la solució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762120" y="762120"/>
            <a:ext cx="7924680" cy="1143000"/>
          </a:xfrm>
          <a:prstGeom prst="roundRect">
            <a:avLst>
              <a:gd name="adj" fmla="val 21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nálisis / Formulación  (Modelado)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684360" y="4292640"/>
          <a:ext cx="2895480" cy="1785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4292640"/>
                    <a:ext cx="2895480" cy="178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971640" y="3213000"/>
          <a:ext cx="1081080" cy="1281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71640" y="3213000"/>
                    <a:ext cx="1081080" cy="12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3059280" y="3500280"/>
                <a:ext cx="1296720" cy="129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in</m:t>
                            </m:r>
                          </m:e>
                          <m:lim>
                            <m:r>
                              <m:t xml:space="preserve">x</m:t>
                            </m:r>
                          </m:lim>
                        </m:limLow>
                        <m:r>
                          <m:t xml:space="preserve"> </m:t>
                        </m:r>
                        <m:r>
                          <m:t xml:space="preserve">J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≤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35" name=""/>
          <p:cNvSpPr/>
          <p:nvPr/>
        </p:nvSpPr>
        <p:spPr>
          <a:xfrm>
            <a:off x="2340000" y="3716280"/>
            <a:ext cx="576360" cy="287280"/>
          </a:xfrm>
          <a:prstGeom prst="rightArrow">
            <a:avLst>
              <a:gd name="adj1" fmla="val 50000"/>
              <a:gd name="adj2" fmla="val 50157"/>
            </a:avLst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826920" y="2421000"/>
            <a:ext cx="208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 Analizar el problem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627280" y="2421000"/>
            <a:ext cx="208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2 Formularlo en términos matemático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572000" y="2421000"/>
            <a:ext cx="4284720" cy="42318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Conocer el proceso, listar todas las variables de interé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Determinar el criterio de optimización y especificar el criterio de optimización en términos de las variables del problem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Especificar las relaciones entre las variables impuestas por balances de masa y energía, leyes físicas, etc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Determinar el rango admisible de las variable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Identificar los grados de libertad respecto a los cuales optimizar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762120" y="762120"/>
            <a:ext cx="7924680" cy="1143000"/>
          </a:xfrm>
          <a:prstGeom prst="roundRect">
            <a:avLst>
              <a:gd name="adj" fmla="val 21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Resolución / Aplicación (Optimización)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684360" y="4292640"/>
          <a:ext cx="2895480" cy="1785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4292640"/>
                    <a:ext cx="2895480" cy="178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971640" y="2492280"/>
                <a:ext cx="1296720" cy="129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in</m:t>
                            </m:r>
                          </m:e>
                          <m:lim>
                            <m:r>
                              <m:t xml:space="preserve">x</m:t>
                            </m:r>
                          </m:lim>
                        </m:limLow>
                        <m:r>
                          <m:t xml:space="preserve"> </m:t>
                        </m:r>
                        <m:r>
                          <m:t xml:space="preserve">J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≤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43" name=""/>
          <p:cNvSpPr/>
          <p:nvPr/>
        </p:nvSpPr>
        <p:spPr>
          <a:xfrm>
            <a:off x="2556000" y="2997360"/>
            <a:ext cx="576000" cy="214200"/>
          </a:xfrm>
          <a:prstGeom prst="rightArrow">
            <a:avLst>
              <a:gd name="adj1" fmla="val 50000"/>
              <a:gd name="adj2" fmla="val 67227"/>
            </a:avLst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3276720" y="2492280"/>
          <a:ext cx="1366560" cy="121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76720" y="2492280"/>
                    <a:ext cx="1366560" cy="12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6" name=""/>
          <p:cNvSpPr/>
          <p:nvPr/>
        </p:nvSpPr>
        <p:spPr>
          <a:xfrm>
            <a:off x="3348000" y="3860640"/>
            <a:ext cx="194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3 Resolverlo con los algoritmos y software adecuado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924360" y="5229360"/>
            <a:ext cx="574560" cy="215640"/>
          </a:xfrm>
          <a:prstGeom prst="leftArrow">
            <a:avLst>
              <a:gd name="adj1" fmla="val 50000"/>
              <a:gd name="adj2" fmla="val 66611"/>
            </a:avLst>
          </a:prstGeom>
          <a:solidFill>
            <a:srgbClr val="ff00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76720" y="6021360"/>
            <a:ext cx="216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4 Interpretar y aplicar la solució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364000" y="2565360"/>
            <a:ext cx="3527640" cy="3814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3366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rmular el problema en términos de uno de los tipos de optimización conocido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3366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Estudiar la formulación y simplificarla / adecuarl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3366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Aplicar un algoritmo adecuado usando un software de optimizació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3366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Analizar la solución, estudiar la sensibilidad de la solución a cambios en las hipótesis y los parámetros del problema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08T21:19:47Z</dcterms:created>
  <dc:creator>Dpto. de Ing. de Sistemas y Automatica</dc:creator>
  <dc:description/>
  <dc:language>en-US</dc:language>
  <cp:lastModifiedBy>isa</cp:lastModifiedBy>
  <dcterms:modified xsi:type="dcterms:W3CDTF">2008-02-17T19:52:10Z</dcterms:modified>
  <cp:revision>29</cp:revision>
  <dc:subject/>
  <dc:title>Optimización de Procesos</dc:title>
</cp:coreProperties>
</file>