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670675" cy="9848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84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1440" y="1080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1080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-1440" y="9379080"/>
            <a:ext cx="2890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3778200" y="9379080"/>
            <a:ext cx="2890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  <a:defRPr b="0" i="1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fld id="{5EEFE3C5-680C-4ACF-9DDC-0D21FFE2896B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Img"/>
          </p:nvPr>
        </p:nvSpPr>
        <p:spPr>
          <a:xfrm>
            <a:off x="1031400" y="860040"/>
            <a:ext cx="4604040" cy="345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body"/>
          </p:nvPr>
        </p:nvSpPr>
        <p:spPr>
          <a:xfrm>
            <a:off x="888840" y="4681080"/>
            <a:ext cx="488952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"/>
          <p:cNvSpPr txBox="1"/>
          <p:nvPr/>
        </p:nvSpPr>
        <p:spPr>
          <a:xfrm>
            <a:off x="3778200" y="9379080"/>
            <a:ext cx="2890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fld id="{BBFE64FF-483F-4D06-A9DD-B7EF9C2BEA1C}" type="slidenum"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-1440" y="9379080"/>
            <a:ext cx="2890800" cy="4600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 txBox="1"/>
          <p:nvPr/>
        </p:nvSpPr>
        <p:spPr>
          <a:xfrm>
            <a:off x="-1440" y="1080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 txBox="1"/>
          <p:nvPr/>
        </p:nvSpPr>
        <p:spPr>
          <a:xfrm>
            <a:off x="3778200" y="10800"/>
            <a:ext cx="2890800" cy="4604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763560"/>
                <a:tab algn="l" pos="1527120"/>
                <a:tab algn="l" pos="2290680"/>
                <a:tab algn="l" pos="3054240"/>
                <a:tab algn="l" pos="3817800"/>
                <a:tab algn="l" pos="4581360"/>
                <a:tab algn="l" pos="5345280"/>
                <a:tab algn="l" pos="6108840"/>
                <a:tab algn="l" pos="6872400"/>
                <a:tab algn="l" pos="7635960"/>
                <a:tab algn="l" pos="8399520"/>
                <a:tab algn="l" pos="9163080"/>
                <a:tab algn="l" pos="9926640"/>
                <a:tab algn="l" pos="10690200"/>
              </a:tabLst>
            </a:pPr>
            <a:r>
              <a:rPr b="0" i="1" lang="es-ES_tradnl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PlaceHolder 1"/>
          <p:cNvSpPr>
            <a:spLocks noGrp="1"/>
          </p:cNvSpPr>
          <p:nvPr>
            <p:ph type="sldImg"/>
          </p:nvPr>
        </p:nvSpPr>
        <p:spPr>
          <a:xfrm>
            <a:off x="87948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1893" name="PlaceHolder 2"/>
          <p:cNvSpPr>
            <a:spLocks noGrp="1"/>
          </p:cNvSpPr>
          <p:nvPr>
            <p:ph type="body"/>
          </p:nvPr>
        </p:nvSpPr>
        <p:spPr>
          <a:xfrm>
            <a:off x="890280" y="4680000"/>
            <a:ext cx="4887720" cy="443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as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055520" y="562932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055520" y="601020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055520" y="638964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055520" y="676908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055520" y="714996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055520" y="753120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1055520" y="791064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055520" y="829152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055520" y="8672400"/>
            <a:ext cx="459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BDA5-A90A-406A-8AB4-A3C349486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926C-B0C2-416D-A38F-E1A28F9F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6E9-7DD3-4BDA-8A8C-33C72391B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C7A0-06DF-4484-B832-136B3C9B6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61C3-8C5A-4BB4-9D37-B169A733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042-0267-44A5-AAF9-4241AA14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C5B8-5E83-407B-8768-D1A385CC9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9DF-1DBD-495A-B7A7-FEE093B4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7461-A241-44B3-8833-133DC8BE3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4E04-D63B-4D6E-AF84-B52EE5F6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B31D-7161-40C0-9684-F2526DA3C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1D17-D4AF-4391-8B43-72ABBDE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30571" t="23760" r="30642" b="34943"/>
          <a:stretch/>
        </p:blipFill>
        <p:spPr>
          <a:xfrm>
            <a:off x="2417760" y="762120"/>
            <a:ext cx="4135320" cy="2438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28800" y="3809880"/>
            <a:ext cx="5105520" cy="23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e"/>
                </a:solidFill>
                <a:latin typeface="Century Gothic"/>
              </a:rPr>
              <a:t>Descripción Proces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00007e"/>
                </a:solidFill>
                <a:uFillTx/>
                <a:latin typeface="Century Gothic"/>
              </a:rPr>
              <a:t>200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914400" y="320040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914400" y="2971800"/>
            <a:ext cx="685800" cy="426960"/>
          </a:xfrm>
          <a:prstGeom prst="hexagon">
            <a:avLst>
              <a:gd name="adj" fmla="val 40148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066680" y="2819520"/>
            <a:ext cx="38124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066680" y="29718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52280" y="3352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90720" y="35812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990720" y="3352680"/>
            <a:ext cx="3808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209680" y="1752480"/>
            <a:ext cx="762120" cy="320040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209680" y="1447920"/>
            <a:ext cx="762120" cy="60948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09680" y="4648320"/>
            <a:ext cx="762120" cy="60948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114800" y="3048120"/>
            <a:ext cx="762120" cy="38088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181480" y="457200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5181480" y="4343400"/>
            <a:ext cx="685800" cy="426960"/>
          </a:xfrm>
          <a:prstGeom prst="hexagon">
            <a:avLst>
              <a:gd name="adj" fmla="val 40148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5334120" y="4191120"/>
            <a:ext cx="38088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34120" y="4343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553080" y="2209680"/>
            <a:ext cx="762120" cy="685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553080" y="1905120"/>
            <a:ext cx="762120" cy="60948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553080" y="5029200"/>
            <a:ext cx="762120" cy="60948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553080" y="2743200"/>
            <a:ext cx="762120" cy="685800"/>
          </a:xfrm>
          <a:prstGeom prst="rect">
            <a:avLst/>
          </a:prstGeom>
          <a:solidFill>
            <a:srgbClr val="ed96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553080" y="3429000"/>
            <a:ext cx="762120" cy="68580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553080" y="4114800"/>
            <a:ext cx="762120" cy="60948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53080" y="4724280"/>
            <a:ext cx="762120" cy="609840"/>
          </a:xfrm>
          <a:prstGeom prst="rect">
            <a:avLst/>
          </a:prstGeom>
          <a:solidFill>
            <a:srgbClr val="76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838080" y="33526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1981080" y="838080"/>
            <a:ext cx="0" cy="274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81080" y="8380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590920" y="838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86200" y="3048120"/>
            <a:ext cx="380880" cy="38088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648320" y="3048120"/>
            <a:ext cx="380880" cy="38088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9718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429000" y="83808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590920" y="8380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590920" y="5257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590920" y="5715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3733920" y="2590920"/>
            <a:ext cx="0" cy="312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733920" y="2590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26708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495680" y="3429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495680" y="38862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5181480" y="30481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18148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80060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495320" y="25909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495680" y="1828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495680" y="18288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4800600" y="8380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429000" y="8380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800600" y="8380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730760" y="1835280"/>
            <a:ext cx="139680" cy="1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730760" y="2444760"/>
            <a:ext cx="139680" cy="1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724280" y="1981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80060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800600" y="22096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800600" y="2133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800600" y="22096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959360" y="19875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876920" y="472428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876920" y="4724280"/>
            <a:ext cx="0" cy="129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76920" y="601992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934320" y="563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934320" y="6019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181480" y="4724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334120" y="5029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5334120" y="4724280"/>
            <a:ext cx="30456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7315200" y="2590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6934320" y="13716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34320" y="13716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553080" y="47242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553080" y="43434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53080" y="39625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553080" y="35812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553080" y="28195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553080" y="4724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553080" y="4114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655308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3080" y="27432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454120" y="6408720"/>
            <a:ext cx="36417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38160" bIns="38160" anchor="t">
            <a:spAutoFit/>
          </a:bodyPr>
          <a:p>
            <a:pPr algn="ctr">
              <a:lnSpc>
                <a:spcPct val="7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HIDRODESULFUR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34120" y="685800"/>
            <a:ext cx="14475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APORT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257800" y="2057400"/>
            <a:ext cx="12952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RE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848720" y="1219320"/>
            <a:ext cx="114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L-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2438280"/>
            <a:ext cx="114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848720" y="5867280"/>
            <a:ext cx="12189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ULFUR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6320" y="3048120"/>
            <a:ext cx="7077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160" y="343692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ZUF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2133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2895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H="1">
            <a:off x="2209320" y="2133720"/>
            <a:ext cx="7621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209680" y="2133720"/>
            <a:ext cx="76212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209680" y="36576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2209680" y="44197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H="1">
            <a:off x="2209320" y="3657600"/>
            <a:ext cx="7621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209680" y="3657600"/>
            <a:ext cx="76212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 rot="5400000">
            <a:off x="4950360" y="1980360"/>
            <a:ext cx="3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1066680" y="251460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1905120" y="1981080"/>
            <a:ext cx="609480" cy="205740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905120" y="1676520"/>
            <a:ext cx="60948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05120" y="3657600"/>
            <a:ext cx="60948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905120" y="2133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905120" y="3733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>
            <a:off x="1904760" y="2133720"/>
            <a:ext cx="6094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1905120" y="2133720"/>
            <a:ext cx="6094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971800" y="1981080"/>
            <a:ext cx="609480" cy="205740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71800" y="1676520"/>
            <a:ext cx="60948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71800" y="3657600"/>
            <a:ext cx="60948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71800" y="21337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71800" y="3733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971440" y="2133720"/>
            <a:ext cx="6094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71800" y="2133720"/>
            <a:ext cx="60948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038480" y="1981080"/>
            <a:ext cx="609840" cy="205740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038480" y="1676520"/>
            <a:ext cx="60984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038480" y="3657600"/>
            <a:ext cx="60984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38480" y="21337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038480" y="373392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H="1">
            <a:off x="4038480" y="2133720"/>
            <a:ext cx="6098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038480" y="2133720"/>
            <a:ext cx="609840" cy="160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105520" y="1676520"/>
            <a:ext cx="609480" cy="609480"/>
          </a:xfrm>
          <a:prstGeom prst="ellipse">
            <a:avLst/>
          </a:prstGeom>
          <a:solidFill>
            <a:srgbClr val="fe86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05520" y="1981080"/>
            <a:ext cx="609480" cy="152424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5105520" y="3200400"/>
            <a:ext cx="60948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09480" y="4114800"/>
            <a:ext cx="685800" cy="2209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609480" y="3809880"/>
            <a:ext cx="685800" cy="533520"/>
          </a:xfrm>
          <a:prstGeom prst="hexagon">
            <a:avLst>
              <a:gd name="adj" fmla="val 32130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2120" y="3657600"/>
            <a:ext cx="380880" cy="266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762120" y="38862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952880" y="548640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952880" y="5257800"/>
            <a:ext cx="685800" cy="426960"/>
          </a:xfrm>
          <a:prstGeom prst="hexagon">
            <a:avLst>
              <a:gd name="adj" fmla="val 40148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105520" y="5105520"/>
            <a:ext cx="38088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10552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248520" y="4038480"/>
            <a:ext cx="1371600" cy="106704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629400" y="914400"/>
            <a:ext cx="609480" cy="711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6629400" y="1371600"/>
            <a:ext cx="609480" cy="4572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934320" y="51055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6248520" y="4038480"/>
            <a:ext cx="1371600" cy="492120"/>
          </a:xfrm>
          <a:prstGeom prst="rect">
            <a:avLst/>
          </a:prstGeom>
          <a:solidFill>
            <a:srgbClr val="76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6248520" y="3505320"/>
            <a:ext cx="1371600" cy="53316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6248520" y="4038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254640" y="2901960"/>
            <a:ext cx="1359000" cy="596880"/>
          </a:xfrm>
          <a:prstGeom prst="rect">
            <a:avLst/>
          </a:prstGeom>
          <a:solidFill>
            <a:srgbClr val="fe8454"/>
          </a:solidFill>
          <a:ln w="12600">
            <a:solidFill>
              <a:srgbClr val="ffc3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48520" y="3505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248520" y="2286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248520" y="1371600"/>
            <a:ext cx="1371600" cy="914400"/>
          </a:xfrm>
          <a:prstGeom prst="triangle">
            <a:avLst>
              <a:gd name="adj" fmla="val 49995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629400" y="1752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29400" y="1600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254640" y="2292480"/>
            <a:ext cx="1359000" cy="596880"/>
          </a:xfrm>
          <a:prstGeom prst="rect">
            <a:avLst/>
          </a:prstGeom>
          <a:solidFill>
            <a:srgbClr val="ed960e"/>
          </a:solidFill>
          <a:ln w="12600">
            <a:solidFill>
              <a:srgbClr val="ffc3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248520" y="289548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6248520" y="228600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181480" y="914400"/>
            <a:ext cx="381240" cy="30492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029200" y="914400"/>
            <a:ext cx="228600" cy="3049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410080" y="914400"/>
            <a:ext cx="228600" cy="30492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800600" y="1066680"/>
            <a:ext cx="228600" cy="0"/>
          </a:xfrm>
          <a:prstGeom prst="line">
            <a:avLst/>
          </a:prstGeom>
          <a:ln w="507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 rot="5400000">
            <a:off x="4508640" y="837000"/>
            <a:ext cx="1969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425840" y="844560"/>
            <a:ext cx="368280" cy="368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30492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04920" y="4572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09480" y="457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 flipH="1" flipV="1">
            <a:off x="762120" y="41911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120" y="4191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 flipV="1">
            <a:off x="1676520" y="1295280"/>
            <a:ext cx="0" cy="289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676520" y="1295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20968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 flipV="1">
            <a:off x="304920" y="457200"/>
            <a:ext cx="0" cy="4114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04920" y="457200"/>
            <a:ext cx="4572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800600" y="4572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410080" y="457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410080" y="457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41008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V="1">
            <a:off x="6934320" y="457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934320" y="457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620120" y="457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772400" y="457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238880" y="1143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397640" y="387360"/>
            <a:ext cx="21600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H="1">
            <a:off x="7391160" y="3049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09680" y="42670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62120" y="4876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2120" y="53341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62120" y="48769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V="1">
            <a:off x="762120" y="51051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2743200" y="1294920"/>
            <a:ext cx="0" cy="403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43200" y="1295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27672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276720" y="42670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295280" y="57150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120" y="57150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762120" y="594324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62120" y="57150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62120" y="6172200"/>
            <a:ext cx="3047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 flipV="1">
            <a:off x="3809880" y="1294920"/>
            <a:ext cx="0" cy="4876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9880" y="12952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4343400" y="1295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343400" y="4267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3434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 flipV="1">
            <a:off x="4800600" y="2133360"/>
            <a:ext cx="0" cy="251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00600" y="21337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41008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4100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5867280" y="243828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867280" y="24382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6629400" y="14479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105520" y="55627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5867280" y="44956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867280" y="449568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105520" y="556272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5105520" y="579096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105520" y="60199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38680" y="6019920"/>
            <a:ext cx="2362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" y="152280"/>
            <a:ext cx="121932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RECIC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-76320" y="6142680"/>
            <a:ext cx="76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867280" y="304920"/>
            <a:ext cx="1143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CESO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410080" y="914400"/>
            <a:ext cx="144792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COMPRES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191440" y="304920"/>
            <a:ext cx="80028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L-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077320" y="5867280"/>
            <a:ext cx="99036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ORM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28600" y="6534000"/>
            <a:ext cx="8763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TFOR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066680" y="2984400"/>
            <a:ext cx="7543800" cy="38124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65240" y="1460520"/>
            <a:ext cx="1498320" cy="88884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22440" y="5041800"/>
            <a:ext cx="1498320" cy="88920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755800" y="3746520"/>
            <a:ext cx="1575000" cy="1574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755800" y="1460520"/>
            <a:ext cx="1498680" cy="888840"/>
          </a:xfrm>
          <a:prstGeom prst="rect">
            <a:avLst/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813200" y="3213000"/>
            <a:ext cx="1346400" cy="88920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5270400" y="1765440"/>
            <a:ext cx="1498680" cy="812520"/>
          </a:xfrm>
          <a:prstGeom prst="rect">
            <a:avLst/>
          </a:prstGeom>
          <a:solidFill>
            <a:srgbClr val="82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566040" y="851040"/>
            <a:ext cx="1117440" cy="507960"/>
          </a:xfrm>
          <a:prstGeom prst="rect">
            <a:avLst/>
          </a:prstGeom>
          <a:solidFill>
            <a:srgbClr val="fafd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66040" y="2755800"/>
            <a:ext cx="1117440" cy="50796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ATURA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IOLEFIN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BD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566040" y="3594240"/>
            <a:ext cx="1117440" cy="58392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566040" y="4813200"/>
            <a:ext cx="1117440" cy="58428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914400" y="68580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1371600" y="2362320"/>
            <a:ext cx="0" cy="2666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28600" y="3581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28600" y="358128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228600" y="6705720"/>
            <a:ext cx="7924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8153280" y="152280"/>
            <a:ext cx="0" cy="655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676520" y="19051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981080" y="190512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981080" y="41148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133720" y="51814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213000" y="774720"/>
            <a:ext cx="660600" cy="3556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81280" y="1143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124080" y="2362320"/>
            <a:ext cx="0" cy="137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581280" y="53341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371600" y="59436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371600" y="6400800"/>
            <a:ext cx="67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343400" y="5257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876920" y="5257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4876920" y="5791320"/>
            <a:ext cx="3276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867280" y="579132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343400" y="51055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696080" y="5105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434340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486400" y="41148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5486400" y="441972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696080" y="36576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696080" y="3886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69608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086600" y="32767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V="1">
            <a:off x="5486400" y="28951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486400" y="2895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581280" y="25909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81280" y="25909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V="1">
            <a:off x="4495680" y="1066680"/>
            <a:ext cx="0" cy="152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495680" y="10666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 flipV="1">
            <a:off x="4038480" y="28951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38480" y="289548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 flipV="1">
            <a:off x="4876920" y="2133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87692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96080" y="1066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781680" y="2133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 flipV="1">
            <a:off x="6019920" y="15235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6019920" y="15238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7162920" y="5335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7162920" y="5335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828800" y="42840"/>
            <a:ext cx="5410080" cy="3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8160" bIns="38160" anchor="t">
            <a:spAutoFit/>
          </a:bodyPr>
          <a:p>
            <a:pPr algn="ctr">
              <a:lnSpc>
                <a:spcPct val="8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UNIDADES DE CONVERS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rot="5400000">
            <a:off x="2368440" y="18352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rot="5400000">
            <a:off x="2368440" y="40449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rot="5400000">
            <a:off x="2368440" y="5111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rot="5400000">
            <a:off x="4502160" y="3816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4502160" y="2825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rot="5400000">
            <a:off x="3968640" y="25210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rot="5400000">
            <a:off x="5950080" y="2825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rot="5400000">
            <a:off x="5416560" y="5035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5400000">
            <a:off x="5416560" y="996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 rot="5400000">
            <a:off x="7093080" y="43498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 rot="5400000">
            <a:off x="5264280" y="63309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5400000">
            <a:off x="5264280" y="66358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5400000">
            <a:off x="6407280" y="5721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5400000">
            <a:off x="7854840" y="5721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rot="5400000">
            <a:off x="7854840" y="5035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5400000">
            <a:off x="7854840" y="40449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rot="5400000">
            <a:off x="7854840" y="3816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rot="5400000">
            <a:off x="7854840" y="35877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rot="5400000">
            <a:off x="7854840" y="20638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rot="5400000">
            <a:off x="7854840" y="14540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rot="5400000">
            <a:off x="7854840" y="996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rot="5400000">
            <a:off x="7854840" y="463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rot="10800000">
            <a:off x="3511440" y="12254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rot="10800000">
            <a:off x="844560" y="9208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rot="10800000">
            <a:off x="1301760" y="2749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rot="10800000">
            <a:off x="1301760" y="41972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rot="10800000">
            <a:off x="158760" y="41972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 rot="10800000">
            <a:off x="1301760" y="6102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 rot="10800000">
            <a:off x="3511440" y="5721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 rot="10800000">
            <a:off x="5797440" y="59500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 rot="10800000">
            <a:off x="3054240" y="2749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rot="10800000">
            <a:off x="7016760" y="33591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rot="10800000">
            <a:off x="4807080" y="5416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76720" y="838080"/>
            <a:ext cx="53316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28600" y="1523880"/>
            <a:ext cx="1371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STILACION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A  VACI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V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85800" y="5105520"/>
            <a:ext cx="137160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EDUCTORA  D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ISCOSID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B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874960" y="1600200"/>
            <a:ext cx="1316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SULFURA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DESTILAD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DI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HD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895480" y="3886200"/>
            <a:ext cx="129564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C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952880" y="3429000"/>
            <a:ext cx="106704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T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T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6684840" y="4876920"/>
            <a:ext cx="935280" cy="49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6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ERO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GASOLIN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MG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629400" y="3657600"/>
            <a:ext cx="106668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LQUILAC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K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629400" y="2819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410080" y="1905120"/>
            <a:ext cx="1219320" cy="5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SPLITT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C3 / C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705720" y="838080"/>
            <a:ext cx="9144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1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MINA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ZUF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58640" y="594360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3659040" y="5410080"/>
            <a:ext cx="10670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CAN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135160" y="48769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135160" y="1600200"/>
            <a:ext cx="5335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34960" y="243828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106960" y="5410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323200" y="22860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8323200" y="91440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UF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8323200" y="137160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8229600" y="1981080"/>
            <a:ext cx="876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IL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323200" y="3505320"/>
            <a:ext cx="66852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PROPAN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323200" y="373392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8153280" y="3962520"/>
            <a:ext cx="952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QUILA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399520" y="4267080"/>
            <a:ext cx="66816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MTB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305920" y="4952880"/>
            <a:ext cx="76176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O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JO 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8323200" y="5562720"/>
            <a:ext cx="744480" cy="4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LCO / GASOLE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8323200" y="624852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  O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323200" y="6553080"/>
            <a:ext cx="6685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FAL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 rot="5400000">
            <a:off x="4654440" y="46544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4343400" y="4724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6019920" y="472428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rot="5400000">
            <a:off x="7778880" y="46544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305920" y="4572000"/>
            <a:ext cx="761760" cy="40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ERG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H="1" flipV="1" rot="16200000">
            <a:off x="5339520" y="4272480"/>
            <a:ext cx="444600" cy="901800"/>
          </a:xfrm>
          <a:custGeom>
            <a:avLst/>
            <a:gdLst>
              <a:gd name="textAreaLeft" fmla="*/ 97560 w 444600"/>
              <a:gd name="textAreaRight" fmla="*/ 347040 w 444600"/>
              <a:gd name="textAreaTop" fmla="*/ 198360 h 901800"/>
              <a:gd name="textAreaBottom" fmla="*/ 703440 h 90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106960" y="4648320"/>
            <a:ext cx="1143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5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TURBO EXPANS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1066680" y="342900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676520" y="472428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676520" y="4495680"/>
            <a:ext cx="685800" cy="427320"/>
          </a:xfrm>
          <a:prstGeom prst="hexagon">
            <a:avLst>
              <a:gd name="adj" fmla="val 40115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1828800" y="4343400"/>
            <a:ext cx="38088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28800" y="44956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90720" y="510552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V="1">
            <a:off x="1828800" y="487656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905120" y="48769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2057400" y="4876920"/>
            <a:ext cx="1522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209680" y="48769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752480" y="51055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800280" y="4884840"/>
            <a:ext cx="952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23960" y="511344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600200" y="3048120"/>
            <a:ext cx="838080" cy="304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2362320" y="3048120"/>
            <a:ext cx="228600" cy="3045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1523880" y="3048120"/>
            <a:ext cx="228600" cy="304560"/>
          </a:xfrm>
          <a:prstGeom prst="ellipse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9112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1905120" y="220968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1905120" y="1219320"/>
            <a:ext cx="304560" cy="609480"/>
          </a:xfrm>
          <a:prstGeom prst="triangle">
            <a:avLst>
              <a:gd name="adj" fmla="val 49995"/>
            </a:avLst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28800" y="838080"/>
            <a:ext cx="457200" cy="38124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286000" y="51055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029200" y="4267080"/>
            <a:ext cx="838080" cy="304920"/>
          </a:xfrm>
          <a:prstGeom prst="rect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952880" y="4267080"/>
            <a:ext cx="228600" cy="304920"/>
          </a:xfrm>
          <a:prstGeom prst="ellipse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5791320" y="4267080"/>
            <a:ext cx="228600" cy="304920"/>
          </a:xfrm>
          <a:prstGeom prst="ellipse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962520" y="3733920"/>
            <a:ext cx="685800" cy="838080"/>
          </a:xfrm>
          <a:prstGeom prst="rect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962520" y="2666880"/>
            <a:ext cx="685800" cy="533520"/>
          </a:xfrm>
          <a:prstGeom prst="hexagon">
            <a:avLst>
              <a:gd name="adj" fmla="val 32130"/>
              <a:gd name="vf" fmla="val 115470"/>
            </a:avLst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114800" y="2514600"/>
            <a:ext cx="380880" cy="26676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962520" y="2971800"/>
            <a:ext cx="685800" cy="762120"/>
          </a:xfrm>
          <a:prstGeom prst="rect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3962520" y="4267080"/>
            <a:ext cx="685800" cy="533520"/>
          </a:xfrm>
          <a:prstGeom prst="hexagon">
            <a:avLst>
              <a:gd name="adj" fmla="val 32130"/>
              <a:gd name="vf" fmla="val 115470"/>
            </a:avLst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14800" y="5410080"/>
            <a:ext cx="380880" cy="304920"/>
          </a:xfrm>
          <a:prstGeom prst="ellipse">
            <a:avLst/>
          </a:prstGeom>
          <a:solidFill>
            <a:srgbClr val="39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14800" y="4800600"/>
            <a:ext cx="380880" cy="457200"/>
          </a:xfrm>
          <a:prstGeom prst="rect">
            <a:avLst/>
          </a:prstGeom>
          <a:solidFill>
            <a:srgbClr val="39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114800" y="1752480"/>
            <a:ext cx="380880" cy="914400"/>
          </a:xfrm>
          <a:prstGeom prst="rect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114800" y="1523880"/>
            <a:ext cx="380880" cy="38124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114800" y="2133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11480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4114800" y="213372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4114800" y="2133720"/>
            <a:ext cx="38088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962520" y="3809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62520" y="3124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 flipH="1">
            <a:off x="3962160" y="312408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962520" y="3124080"/>
            <a:ext cx="68580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200400" y="41911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200400" y="41911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2057400" y="3352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990720" y="38098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66680" y="380880"/>
            <a:ext cx="99072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2057400" y="380880"/>
            <a:ext cx="0" cy="457200"/>
          </a:xfrm>
          <a:prstGeom prst="line">
            <a:avLst/>
          </a:prstGeom>
          <a:ln w="12600">
            <a:solidFill>
              <a:srgbClr val="91919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057400" y="1828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5340240" y="20638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H="1">
            <a:off x="5334120" y="1981080"/>
            <a:ext cx="30456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330960" y="3664080"/>
            <a:ext cx="2919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6324120" y="35812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057400" y="25909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2286000" y="1066680"/>
            <a:ext cx="2057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4343400" y="1066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495680" y="17524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486400" y="17524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4495680" y="2590920"/>
            <a:ext cx="2819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486400" y="23623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648320" y="31240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V="1">
            <a:off x="6477120" y="31240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648320" y="38098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5486400" y="3809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5486400" y="45720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486400" y="4952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6477120" y="396216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343400" y="5715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343400" y="601992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429680" y="5875200"/>
            <a:ext cx="952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FAL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429680" y="2979720"/>
            <a:ext cx="9522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EO PES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429680" y="2446200"/>
            <a:ext cx="952200" cy="4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EO LIG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4495680" y="5257800"/>
            <a:ext cx="221004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896160" y="511344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419040" y="23652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19040" y="3657600"/>
            <a:ext cx="6476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GU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2895480" y="6400800"/>
            <a:ext cx="297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114800" y="5257800"/>
            <a:ext cx="380880" cy="304920"/>
          </a:xfrm>
          <a:prstGeom prst="rect">
            <a:avLst/>
          </a:prstGeom>
          <a:solidFill>
            <a:srgbClr val="311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1066680" y="388620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/>
          <p:nvPr/>
        </p:nvSpPr>
        <p:spPr>
          <a:xfrm>
            <a:off x="914400" y="525780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914400" y="5029200"/>
            <a:ext cx="685800" cy="426960"/>
          </a:xfrm>
          <a:prstGeom prst="hexagon">
            <a:avLst>
              <a:gd name="adj" fmla="val 40148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066680" y="4876920"/>
            <a:ext cx="38124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066680" y="5029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743200" y="3048120"/>
            <a:ext cx="121932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743200" y="2590920"/>
            <a:ext cx="1219320" cy="9903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743200" y="4724280"/>
            <a:ext cx="1219320" cy="9907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2743200" y="411480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048120" y="1143000"/>
            <a:ext cx="609480" cy="99072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048120" y="1905120"/>
            <a:ext cx="609480" cy="45720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3048120" y="914400"/>
            <a:ext cx="609480" cy="457200"/>
          </a:xfrm>
          <a:prstGeom prst="ellipse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3200400" y="2133720"/>
            <a:ext cx="304920" cy="38088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276720" y="2514600"/>
            <a:ext cx="152280" cy="304812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320040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20040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3505320" y="2209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3429000" y="22860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3429000" y="236196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200400" y="22860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200400" y="2362320"/>
            <a:ext cx="7632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3282840" y="2216160"/>
            <a:ext cx="139680" cy="63360"/>
          </a:xfrm>
          <a:prstGeom prst="triangle">
            <a:avLst>
              <a:gd name="adj" fmla="val 49995"/>
            </a:avLst>
          </a:prstGeom>
          <a:solidFill>
            <a:srgbClr val="ff813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282840" y="2444760"/>
            <a:ext cx="139680" cy="63360"/>
          </a:xfrm>
          <a:prstGeom prst="triangle">
            <a:avLst>
              <a:gd name="adj" fmla="val 49995"/>
            </a:avLst>
          </a:prstGeom>
          <a:solidFill>
            <a:srgbClr val="ff813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282840" y="2368440"/>
            <a:ext cx="139680" cy="63720"/>
          </a:xfrm>
          <a:prstGeom prst="triangle">
            <a:avLst>
              <a:gd name="adj" fmla="val 49995"/>
            </a:avLst>
          </a:prstGeom>
          <a:solidFill>
            <a:srgbClr val="ff813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560" bIns="-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282840" y="5721480"/>
            <a:ext cx="139680" cy="21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H="1" flipV="1" rot="10800000">
            <a:off x="3282840" y="5950080"/>
            <a:ext cx="139680" cy="63360"/>
          </a:xfrm>
          <a:custGeom>
            <a:avLst/>
            <a:gdLst>
              <a:gd name="textAreaLeft" fmla="*/ 30600 w 139680"/>
              <a:gd name="textAreaRight" fmla="*/ 109080 w 139680"/>
              <a:gd name="textAreaTop" fmla="*/ 13680 h 63360"/>
              <a:gd name="textAreaBottom" fmla="*/ 49680 h 6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3352680" y="548604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3282840" y="6026040"/>
            <a:ext cx="139680" cy="637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978280" y="5873760"/>
            <a:ext cx="63360" cy="1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 flipH="1" flipV="1" rot="10800000">
            <a:off x="2978280" y="6024960"/>
            <a:ext cx="63360" cy="63720"/>
          </a:xfrm>
          <a:custGeom>
            <a:avLst/>
            <a:gdLst>
              <a:gd name="textAreaLeft" fmla="*/ 13680 w 63360"/>
              <a:gd name="textAreaRight" fmla="*/ 49680 w 63360"/>
              <a:gd name="textAreaTop" fmla="*/ 14040 h 63720"/>
              <a:gd name="textAreaBottom" fmla="*/ 49680 h 6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160" bIns="-11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978280" y="6102360"/>
            <a:ext cx="63360" cy="633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240" bIns="12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978280" y="4502160"/>
            <a:ext cx="139680" cy="1396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978280" y="4578480"/>
            <a:ext cx="63360" cy="12826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2971800" y="5676840"/>
            <a:ext cx="77760" cy="268200"/>
          </a:xfrm>
          <a:custGeom>
            <a:avLst/>
            <a:gdLst/>
            <a:ahLst/>
            <a:rect l="l" t="t" r="r" b="b"/>
            <a:pathLst>
              <a:path w="49" h="169">
                <a:moveTo>
                  <a:pt x="0" y="168"/>
                </a:moveTo>
                <a:lnTo>
                  <a:pt x="24" y="151"/>
                </a:lnTo>
                <a:lnTo>
                  <a:pt x="18" y="126"/>
                </a:lnTo>
                <a:lnTo>
                  <a:pt x="18" y="101"/>
                </a:lnTo>
                <a:lnTo>
                  <a:pt x="18" y="76"/>
                </a:lnTo>
                <a:lnTo>
                  <a:pt x="18" y="50"/>
                </a:lnTo>
                <a:lnTo>
                  <a:pt x="18" y="25"/>
                </a:lnTo>
                <a:lnTo>
                  <a:pt x="18" y="0"/>
                </a:lnTo>
                <a:lnTo>
                  <a:pt x="30" y="25"/>
                </a:lnTo>
                <a:lnTo>
                  <a:pt x="30" y="50"/>
                </a:lnTo>
                <a:lnTo>
                  <a:pt x="30" y="76"/>
                </a:lnTo>
                <a:lnTo>
                  <a:pt x="30" y="101"/>
                </a:lnTo>
                <a:lnTo>
                  <a:pt x="30" y="126"/>
                </a:lnTo>
                <a:lnTo>
                  <a:pt x="36" y="151"/>
                </a:lnTo>
                <a:lnTo>
                  <a:pt x="48" y="168"/>
                </a:lnTo>
                <a:lnTo>
                  <a:pt x="0" y="16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286000" y="1066680"/>
            <a:ext cx="152280" cy="335304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438280" y="1143000"/>
            <a:ext cx="609840" cy="15228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 flipV="1" rot="10800000">
            <a:off x="2284920" y="4418640"/>
            <a:ext cx="152280" cy="152280"/>
          </a:xfrm>
          <a:custGeom>
            <a:avLst/>
            <a:gdLst>
              <a:gd name="textAreaLeft" fmla="*/ 33480 w 152280"/>
              <a:gd name="textAreaRight" fmla="*/ 118800 w 152280"/>
              <a:gd name="textAreaTop" fmla="*/ 33480 h 152280"/>
              <a:gd name="textAreaBottom" fmla="*/ 118800 h 15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362320" y="4572000"/>
            <a:ext cx="0" cy="9144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62320" y="5486400"/>
            <a:ext cx="609480" cy="3049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742840" y="213372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657600" y="2133720"/>
            <a:ext cx="30492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29200" y="1676520"/>
            <a:ext cx="685800" cy="6858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5029200" y="1295280"/>
            <a:ext cx="685800" cy="60984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029200" y="4800600"/>
            <a:ext cx="685800" cy="609480"/>
          </a:xfrm>
          <a:prstGeom prst="ellipse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029200" y="2743200"/>
            <a:ext cx="685800" cy="53352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029200" y="3276720"/>
            <a:ext cx="685800" cy="129528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5029200" y="4572000"/>
            <a:ext cx="685800" cy="457200"/>
          </a:xfrm>
          <a:prstGeom prst="rect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029200" y="45720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5029200" y="34290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502920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029200" y="39625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029200" y="3276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2971800" y="4543560"/>
            <a:ext cx="115920" cy="125280"/>
          </a:xfrm>
          <a:custGeom>
            <a:avLst/>
            <a:gdLst/>
            <a:ahLst/>
            <a:rect l="l" t="t" r="r" b="b"/>
            <a:pathLst>
              <a:path w="73" h="79">
                <a:moveTo>
                  <a:pt x="0" y="18"/>
                </a:moveTo>
                <a:lnTo>
                  <a:pt x="18" y="0"/>
                </a:lnTo>
                <a:lnTo>
                  <a:pt x="18" y="24"/>
                </a:lnTo>
                <a:lnTo>
                  <a:pt x="18" y="42"/>
                </a:lnTo>
                <a:lnTo>
                  <a:pt x="18" y="60"/>
                </a:lnTo>
                <a:lnTo>
                  <a:pt x="36" y="78"/>
                </a:lnTo>
                <a:lnTo>
                  <a:pt x="48" y="60"/>
                </a:lnTo>
                <a:lnTo>
                  <a:pt x="66" y="48"/>
                </a:lnTo>
                <a:lnTo>
                  <a:pt x="72" y="30"/>
                </a:lnTo>
                <a:lnTo>
                  <a:pt x="60" y="12"/>
                </a:lnTo>
                <a:lnTo>
                  <a:pt x="42" y="0"/>
                </a:lnTo>
                <a:lnTo>
                  <a:pt x="24" y="0"/>
                </a:lnTo>
                <a:lnTo>
                  <a:pt x="18" y="24"/>
                </a:lnTo>
                <a:lnTo>
                  <a:pt x="0" y="18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5029200" y="2362320"/>
            <a:ext cx="685800" cy="533160"/>
          </a:xfrm>
          <a:prstGeom prst="rect">
            <a:avLst/>
          </a:prstGeom>
          <a:solidFill>
            <a:srgbClr val="ff81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029200" y="2666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5029200" y="20574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553080" y="2590920"/>
            <a:ext cx="53352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553080" y="2971800"/>
            <a:ext cx="533520" cy="1143000"/>
          </a:xfrm>
          <a:prstGeom prst="rect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553080" y="3886200"/>
            <a:ext cx="533520" cy="60948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553080" y="3429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553080" y="3657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553080" y="3886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095880" y="685800"/>
            <a:ext cx="914400" cy="45720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943600" y="685800"/>
            <a:ext cx="380880" cy="45720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705720" y="685800"/>
            <a:ext cx="457200" cy="45720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228600" y="56386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V="1">
            <a:off x="1066680" y="5409720"/>
            <a:ext cx="763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1143000" y="5410080"/>
            <a:ext cx="15228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 flipV="1">
            <a:off x="1295280" y="5409720"/>
            <a:ext cx="15264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1447920" y="5410080"/>
            <a:ext cx="7596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990720" y="56386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52388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V="1">
            <a:off x="1981080" y="4952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 flipV="1">
            <a:off x="1981080" y="441936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2286000" y="441972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62320" y="4495680"/>
            <a:ext cx="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 flipV="1">
            <a:off x="3352680" y="457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352680" y="457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267080" y="457200"/>
            <a:ext cx="0" cy="4267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267080" y="4724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648320" y="4952880"/>
            <a:ext cx="380880" cy="0"/>
          </a:xfrm>
          <a:prstGeom prst="line">
            <a:avLst/>
          </a:prstGeom>
          <a:ln w="12600">
            <a:solidFill>
              <a:srgbClr val="919191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 flipV="1">
            <a:off x="5334120" y="9144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334120" y="9144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410080" y="5410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5410080" y="586728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6248520" y="58672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715000" y="4572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400800" y="45720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026040" y="5797440"/>
            <a:ext cx="21600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5715000" y="32767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715000" y="2286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8580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086600" y="3962520"/>
            <a:ext cx="45720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6858000" y="44956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858000" y="48006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5715000" y="1676520"/>
            <a:ext cx="2133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6858000" y="1143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 flipV="1">
            <a:off x="6858000" y="3805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6858000" y="380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286000" y="914400"/>
            <a:ext cx="228600" cy="228600"/>
          </a:xfrm>
          <a:prstGeom prst="ellipse">
            <a:avLst/>
          </a:prstGeom>
          <a:solidFill>
            <a:srgbClr val="fe84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6019560" y="571500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114480" y="5342040"/>
            <a:ext cx="952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114480" y="5722920"/>
            <a:ext cx="9522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VAC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076640" y="4808520"/>
            <a:ext cx="6476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7962840" y="5722920"/>
            <a:ext cx="8002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L-O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7962840" y="4656240"/>
            <a:ext cx="80028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E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7658280" y="3817800"/>
            <a:ext cx="6476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962840" y="153180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SOL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7962840" y="193680"/>
            <a:ext cx="95256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L-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28600" y="6477120"/>
            <a:ext cx="876312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38160" bIns="38160" anchor="t">
            <a:spAutoFit/>
          </a:bodyPr>
          <a:p>
            <a:pPr algn="ctr"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AQUEO CATALITICO EN LECHO FLUIDO.  F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1066680" y="439416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702400" y="2058840"/>
            <a:ext cx="930240" cy="457056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45080" y="2058840"/>
            <a:ext cx="1073160" cy="459000"/>
          </a:xfrm>
          <a:prstGeom prst="rect">
            <a:avLst/>
          </a:prstGeom>
          <a:solidFill>
            <a:srgbClr val="bc37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35360" y="2739960"/>
            <a:ext cx="1073160" cy="459000"/>
          </a:xfrm>
          <a:prstGeom prst="rect">
            <a:avLst/>
          </a:prstGeom>
          <a:solidFill>
            <a:srgbClr val="bc37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20960" y="3449520"/>
            <a:ext cx="1101960" cy="459000"/>
          </a:xfrm>
          <a:prstGeom prst="rect">
            <a:avLst/>
          </a:prstGeom>
          <a:solidFill>
            <a:srgbClr val="bc37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1960" y="5345280"/>
            <a:ext cx="1073160" cy="458640"/>
          </a:xfrm>
          <a:prstGeom prst="rect">
            <a:avLst/>
          </a:prstGeom>
          <a:solidFill>
            <a:srgbClr val="bc37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44600" y="1844640"/>
            <a:ext cx="658800" cy="224460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25520" y="4673520"/>
            <a:ext cx="658800" cy="1959120"/>
          </a:xfrm>
          <a:prstGeom prst="rect">
            <a:avLst/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638760" y="2198520"/>
            <a:ext cx="2281320" cy="382680"/>
            <a:chOff x="6638760" y="2198520"/>
            <a:chExt cx="2281320" cy="382680"/>
          </a:xfrm>
        </p:grpSpPr>
        <p:grpSp>
          <p:nvGrpSpPr>
            <p:cNvPr id="58" name=""/>
            <p:cNvGrpSpPr/>
            <p:nvPr/>
          </p:nvGrpSpPr>
          <p:grpSpPr>
            <a:xfrm>
              <a:off x="7391520" y="2198520"/>
              <a:ext cx="582480" cy="374400"/>
              <a:chOff x="7391520" y="2198520"/>
              <a:chExt cx="582480" cy="374400"/>
            </a:xfrm>
          </p:grpSpPr>
          <p:grpSp>
            <p:nvGrpSpPr>
              <p:cNvPr id="59" name=""/>
              <p:cNvGrpSpPr/>
              <p:nvPr/>
            </p:nvGrpSpPr>
            <p:grpSpPr>
              <a:xfrm>
                <a:off x="7391520" y="2425320"/>
                <a:ext cx="580320" cy="147600"/>
                <a:chOff x="7391520" y="2425320"/>
                <a:chExt cx="580320" cy="147600"/>
              </a:xfrm>
            </p:grpSpPr>
            <p:sp>
              <p:nvSpPr>
                <p:cNvPr id="60" name=""/>
                <p:cNvSpPr/>
                <p:nvPr/>
              </p:nvSpPr>
              <p:spPr>
                <a:xfrm>
                  <a:off x="7391520" y="2425320"/>
                  <a:ext cx="54576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7426440" y="2427480"/>
                  <a:ext cx="54540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7393320" y="2199960"/>
                <a:ext cx="580320" cy="147600"/>
                <a:chOff x="7393320" y="2199960"/>
                <a:chExt cx="580320" cy="14760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7393320" y="2199960"/>
                  <a:ext cx="54540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7427880" y="2201760"/>
                  <a:ext cx="54576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7393320" y="2198520"/>
                <a:ext cx="580680" cy="150120"/>
                <a:chOff x="7393320" y="2198520"/>
                <a:chExt cx="580680" cy="1501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7393320" y="2200320"/>
                  <a:ext cx="54540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60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608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427880" y="2198520"/>
                  <a:ext cx="546120" cy="14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568"/>
                      </a:moveTo>
                      <a:arcTo wR="10800" hR="10800" stAng="-10726081" swAng="53063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568"/>
                      </a:moveTo>
                      <a:arcTo wR="10800" hR="10800" stAng="-10726081" swAng="530630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7427880" y="227484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937640" y="227484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6638760" y="2467080"/>
              <a:ext cx="78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" name=""/>
            <p:cNvGrpSpPr/>
            <p:nvPr/>
          </p:nvGrpSpPr>
          <p:grpSpPr>
            <a:xfrm>
              <a:off x="8200800" y="2416320"/>
              <a:ext cx="138240" cy="164880"/>
              <a:chOff x="8200800" y="2416320"/>
              <a:chExt cx="138240" cy="164880"/>
            </a:xfrm>
          </p:grpSpPr>
          <p:sp>
            <p:nvSpPr>
              <p:cNvPr id="72" name=""/>
              <p:cNvSpPr/>
              <p:nvPr/>
            </p:nvSpPr>
            <p:spPr>
              <a:xfrm>
                <a:off x="8207280" y="2416320"/>
                <a:ext cx="130320" cy="120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8200800" y="253368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305920" y="253836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205840" y="2576520"/>
                <a:ext cx="133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7939080" y="2476440"/>
              <a:ext cx="32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272440" y="240984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643800" y="3713040"/>
            <a:ext cx="2280960" cy="382680"/>
            <a:chOff x="6643800" y="3713040"/>
            <a:chExt cx="2280960" cy="382680"/>
          </a:xfrm>
        </p:grpSpPr>
        <p:grpSp>
          <p:nvGrpSpPr>
            <p:cNvPr id="79" name=""/>
            <p:cNvGrpSpPr/>
            <p:nvPr/>
          </p:nvGrpSpPr>
          <p:grpSpPr>
            <a:xfrm>
              <a:off x="7396200" y="3713040"/>
              <a:ext cx="582480" cy="374400"/>
              <a:chOff x="7396200" y="3713040"/>
              <a:chExt cx="582480" cy="374400"/>
            </a:xfrm>
          </p:grpSpPr>
          <p:grpSp>
            <p:nvGrpSpPr>
              <p:cNvPr id="80" name=""/>
              <p:cNvGrpSpPr/>
              <p:nvPr/>
            </p:nvGrpSpPr>
            <p:grpSpPr>
              <a:xfrm>
                <a:off x="7396200" y="3939840"/>
                <a:ext cx="580320" cy="147600"/>
                <a:chOff x="7396200" y="3939840"/>
                <a:chExt cx="580320" cy="14760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7396200" y="3939840"/>
                  <a:ext cx="54576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7431120" y="3942000"/>
                  <a:ext cx="54540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7398000" y="3714840"/>
                <a:ext cx="580320" cy="147240"/>
                <a:chOff x="7398000" y="3714840"/>
                <a:chExt cx="580320" cy="14724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7398000" y="3714840"/>
                  <a:ext cx="54540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7432560" y="3716280"/>
                  <a:ext cx="54576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7398000" y="3713040"/>
                <a:ext cx="580680" cy="150120"/>
                <a:chOff x="7398000" y="3713040"/>
                <a:chExt cx="580680" cy="15012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7398000" y="3714840"/>
                  <a:ext cx="54540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60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608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432560" y="3713040"/>
                  <a:ext cx="546120" cy="149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568"/>
                      </a:moveTo>
                      <a:arcTo wR="10800" hR="10800" stAng="-10726081" swAng="53063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568"/>
                      </a:moveTo>
                      <a:arcTo wR="10800" hR="10800" stAng="-10726081" swAng="530630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" name=""/>
              <p:cNvSpPr/>
              <p:nvPr/>
            </p:nvSpPr>
            <p:spPr>
              <a:xfrm>
                <a:off x="7432560" y="378936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942320" y="378936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" name=""/>
            <p:cNvSpPr/>
            <p:nvPr/>
          </p:nvSpPr>
          <p:spPr>
            <a:xfrm>
              <a:off x="6643800" y="3981600"/>
              <a:ext cx="78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8205480" y="3930480"/>
              <a:ext cx="138600" cy="165240"/>
              <a:chOff x="8205480" y="3930480"/>
              <a:chExt cx="138600" cy="165240"/>
            </a:xfrm>
          </p:grpSpPr>
          <p:sp>
            <p:nvSpPr>
              <p:cNvPr id="93" name=""/>
              <p:cNvSpPr/>
              <p:nvPr/>
            </p:nvSpPr>
            <p:spPr>
              <a:xfrm>
                <a:off x="8211960" y="3930480"/>
                <a:ext cx="130320" cy="1209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8205480" y="404820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310600" y="405288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210520" y="409104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7943760" y="3990960"/>
              <a:ext cx="32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77120" y="392436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643800" y="2975040"/>
            <a:ext cx="2280960" cy="382680"/>
            <a:chOff x="6643800" y="2975040"/>
            <a:chExt cx="2280960" cy="382680"/>
          </a:xfrm>
        </p:grpSpPr>
        <p:grpSp>
          <p:nvGrpSpPr>
            <p:cNvPr id="100" name=""/>
            <p:cNvGrpSpPr/>
            <p:nvPr/>
          </p:nvGrpSpPr>
          <p:grpSpPr>
            <a:xfrm>
              <a:off x="7396200" y="2975040"/>
              <a:ext cx="582480" cy="374400"/>
              <a:chOff x="7396200" y="2975040"/>
              <a:chExt cx="582480" cy="3744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7396200" y="3202200"/>
                <a:ext cx="580320" cy="147240"/>
                <a:chOff x="7396200" y="3202200"/>
                <a:chExt cx="580320" cy="14724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7396200" y="3202200"/>
                  <a:ext cx="54576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7431120" y="3203280"/>
                  <a:ext cx="545400" cy="1461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7398000" y="2976840"/>
                <a:ext cx="580320" cy="146880"/>
                <a:chOff x="7398000" y="2976840"/>
                <a:chExt cx="580320" cy="146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7398000" y="2976840"/>
                  <a:ext cx="545400" cy="1454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598" y="10568"/>
                      </a:moveTo>
                      <a:arcTo wR="10800" hR="10800" stAng="-73919" swAng="547391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598" y="10568"/>
                      </a:moveTo>
                      <a:arcTo wR="10800" hR="10800" stAng="-73919" swAng="5473919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432560" y="2977920"/>
                  <a:ext cx="545760" cy="1458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54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5400000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7398000" y="2975040"/>
                <a:ext cx="580680" cy="149760"/>
                <a:chOff x="7398000" y="2975040"/>
                <a:chExt cx="580680" cy="1497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7398000" y="2976480"/>
                  <a:ext cx="545400" cy="1483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32608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326081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432560" y="2975040"/>
                  <a:ext cx="546120" cy="148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" y="10568"/>
                      </a:moveTo>
                      <a:arcTo wR="10800" hR="10800" stAng="-10726081" swAng="530630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" y="10568"/>
                      </a:moveTo>
                      <a:arcTo wR="10800" hR="10800" stAng="-10726081" swAng="530630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" name=""/>
              <p:cNvSpPr/>
              <p:nvPr/>
            </p:nvSpPr>
            <p:spPr>
              <a:xfrm>
                <a:off x="7432560" y="305100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942320" y="3051000"/>
                <a:ext cx="0" cy="22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" name=""/>
            <p:cNvSpPr/>
            <p:nvPr/>
          </p:nvSpPr>
          <p:spPr>
            <a:xfrm>
              <a:off x="6643800" y="3243240"/>
              <a:ext cx="785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" name=""/>
            <p:cNvGrpSpPr/>
            <p:nvPr/>
          </p:nvGrpSpPr>
          <p:grpSpPr>
            <a:xfrm>
              <a:off x="8205480" y="3192480"/>
              <a:ext cx="138600" cy="165240"/>
              <a:chOff x="8205480" y="3192480"/>
              <a:chExt cx="138600" cy="165240"/>
            </a:xfrm>
          </p:grpSpPr>
          <p:sp>
            <p:nvSpPr>
              <p:cNvPr id="114" name=""/>
              <p:cNvSpPr/>
              <p:nvPr/>
            </p:nvSpPr>
            <p:spPr>
              <a:xfrm>
                <a:off x="8211960" y="3192480"/>
                <a:ext cx="130320" cy="1206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8205480" y="330984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10600" y="3314880"/>
                <a:ext cx="28440" cy="42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210520" y="3352680"/>
                <a:ext cx="133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7943760" y="3252960"/>
              <a:ext cx="324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77120" y="3186000"/>
              <a:ext cx="647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76280" y="3251160"/>
            <a:ext cx="582480" cy="374400"/>
            <a:chOff x="476280" y="3251160"/>
            <a:chExt cx="582480" cy="374400"/>
          </a:xfrm>
        </p:grpSpPr>
        <p:grpSp>
          <p:nvGrpSpPr>
            <p:cNvPr id="121" name=""/>
            <p:cNvGrpSpPr/>
            <p:nvPr/>
          </p:nvGrpSpPr>
          <p:grpSpPr>
            <a:xfrm>
              <a:off x="476280" y="3478320"/>
              <a:ext cx="580320" cy="147240"/>
              <a:chOff x="476280" y="3478320"/>
              <a:chExt cx="580320" cy="147240"/>
            </a:xfrm>
          </p:grpSpPr>
          <p:sp>
            <p:nvSpPr>
              <p:cNvPr id="122" name=""/>
              <p:cNvSpPr/>
              <p:nvPr/>
            </p:nvSpPr>
            <p:spPr>
              <a:xfrm>
                <a:off x="476280" y="3478320"/>
                <a:ext cx="545760" cy="14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68"/>
                    </a:moveTo>
                    <a:arcTo wR="10800" hR="10800" stAng="-73919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68"/>
                    </a:moveTo>
                    <a:arcTo wR="10800" hR="10800" stAng="-73919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1200" y="3480120"/>
                <a:ext cx="545400" cy="14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78080" y="3252960"/>
              <a:ext cx="580320" cy="147240"/>
              <a:chOff x="478080" y="3252960"/>
              <a:chExt cx="580320" cy="147240"/>
            </a:xfrm>
          </p:grpSpPr>
          <p:sp>
            <p:nvSpPr>
              <p:cNvPr id="125" name=""/>
              <p:cNvSpPr/>
              <p:nvPr/>
            </p:nvSpPr>
            <p:spPr>
              <a:xfrm>
                <a:off x="478080" y="3252960"/>
                <a:ext cx="545400" cy="14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68"/>
                    </a:moveTo>
                    <a:arcTo wR="10800" hR="10800" stAng="-73919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68"/>
                    </a:moveTo>
                    <a:arcTo wR="10800" hR="10800" stAng="-73919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2640" y="3254400"/>
                <a:ext cx="545760" cy="14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78080" y="3251160"/>
              <a:ext cx="580680" cy="150120"/>
              <a:chOff x="478080" y="3251160"/>
              <a:chExt cx="580680" cy="150120"/>
            </a:xfrm>
          </p:grpSpPr>
          <p:sp>
            <p:nvSpPr>
              <p:cNvPr id="128" name=""/>
              <p:cNvSpPr/>
              <p:nvPr/>
            </p:nvSpPr>
            <p:spPr>
              <a:xfrm>
                <a:off x="478080" y="3252960"/>
                <a:ext cx="545400" cy="14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6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608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2640" y="3251160"/>
                <a:ext cx="546120" cy="14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68"/>
                    </a:moveTo>
                    <a:arcTo wR="10800" hR="10800" stAng="-10726081" swAng="5306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68"/>
                    </a:moveTo>
                    <a:arcTo wR="10800" hR="10800" stAng="-10726081" swAng="5306307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512640" y="33274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022400" y="33274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285560" y="3468600"/>
            <a:ext cx="138600" cy="165240"/>
            <a:chOff x="1285560" y="3468600"/>
            <a:chExt cx="138600" cy="165240"/>
          </a:xfrm>
        </p:grpSpPr>
        <p:sp>
          <p:nvSpPr>
            <p:cNvPr id="133" name=""/>
            <p:cNvSpPr/>
            <p:nvPr/>
          </p:nvSpPr>
          <p:spPr>
            <a:xfrm>
              <a:off x="1292400" y="3468600"/>
              <a:ext cx="129960" cy="120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285560" y="3586320"/>
              <a:ext cx="28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390680" y="3591000"/>
              <a:ext cx="28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90600" y="36291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023840" y="35290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57200" y="3462480"/>
            <a:ext cx="42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476280" y="2484360"/>
            <a:ext cx="582480" cy="374400"/>
            <a:chOff x="476280" y="2484360"/>
            <a:chExt cx="582480" cy="374400"/>
          </a:xfrm>
        </p:grpSpPr>
        <p:grpSp>
          <p:nvGrpSpPr>
            <p:cNvPr id="140" name=""/>
            <p:cNvGrpSpPr/>
            <p:nvPr/>
          </p:nvGrpSpPr>
          <p:grpSpPr>
            <a:xfrm>
              <a:off x="476280" y="2711160"/>
              <a:ext cx="580320" cy="147600"/>
              <a:chOff x="476280" y="2711160"/>
              <a:chExt cx="580320" cy="147600"/>
            </a:xfrm>
          </p:grpSpPr>
          <p:sp>
            <p:nvSpPr>
              <p:cNvPr id="141" name=""/>
              <p:cNvSpPr/>
              <p:nvPr/>
            </p:nvSpPr>
            <p:spPr>
              <a:xfrm>
                <a:off x="476280" y="2711160"/>
                <a:ext cx="545760" cy="14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68"/>
                    </a:moveTo>
                    <a:arcTo wR="10800" hR="10800" stAng="-73919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68"/>
                    </a:moveTo>
                    <a:arcTo wR="10800" hR="10800" stAng="-73919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11200" y="2713320"/>
                <a:ext cx="545400" cy="14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478080" y="2486160"/>
              <a:ext cx="580320" cy="147240"/>
              <a:chOff x="478080" y="2486160"/>
              <a:chExt cx="580320" cy="147240"/>
            </a:xfrm>
          </p:grpSpPr>
          <p:sp>
            <p:nvSpPr>
              <p:cNvPr id="144" name=""/>
              <p:cNvSpPr/>
              <p:nvPr/>
            </p:nvSpPr>
            <p:spPr>
              <a:xfrm>
                <a:off x="478080" y="2486160"/>
                <a:ext cx="545400" cy="145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8" y="10568"/>
                    </a:moveTo>
                    <a:arcTo wR="10800" hR="10800" stAng="-73919" swAng="547391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8" y="10568"/>
                    </a:moveTo>
                    <a:arcTo wR="10800" hR="10800" stAng="-73919" swAng="5473919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2640" y="2487600"/>
                <a:ext cx="545760" cy="145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21600"/>
                    </a:moveTo>
                    <a:arcTo wR="10800" hR="10800" stAng="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21600"/>
                    </a:moveTo>
                    <a:arcTo wR="10800" hR="10800" stAng="5400000" swAng="5400000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478080" y="2484360"/>
              <a:ext cx="580680" cy="150120"/>
              <a:chOff x="478080" y="2484360"/>
              <a:chExt cx="580680" cy="150120"/>
            </a:xfrm>
          </p:grpSpPr>
          <p:sp>
            <p:nvSpPr>
              <p:cNvPr id="147" name=""/>
              <p:cNvSpPr/>
              <p:nvPr/>
            </p:nvSpPr>
            <p:spPr>
              <a:xfrm>
                <a:off x="478080" y="2486160"/>
                <a:ext cx="545400" cy="148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32608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32608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12640" y="2484360"/>
                <a:ext cx="546120" cy="148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568"/>
                    </a:moveTo>
                    <a:arcTo wR="10800" hR="10800" stAng="-10726081" swAng="530630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568"/>
                    </a:moveTo>
                    <a:arcTo wR="10800" hR="10800" stAng="-10726081" swAng="5306307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12640" y="25606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022400" y="2560680"/>
              <a:ext cx="0" cy="226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1285560" y="2701800"/>
            <a:ext cx="138600" cy="165240"/>
            <a:chOff x="1285560" y="2701800"/>
            <a:chExt cx="138600" cy="165240"/>
          </a:xfrm>
        </p:grpSpPr>
        <p:sp>
          <p:nvSpPr>
            <p:cNvPr id="152" name=""/>
            <p:cNvSpPr/>
            <p:nvPr/>
          </p:nvSpPr>
          <p:spPr>
            <a:xfrm>
              <a:off x="1292400" y="2701800"/>
              <a:ext cx="129960" cy="1206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1285560" y="2819520"/>
              <a:ext cx="28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0680" y="2824200"/>
              <a:ext cx="28440" cy="42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290600" y="286236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023840" y="2762280"/>
            <a:ext cx="3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57200" y="269568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776240" y="269568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81280" y="3076560"/>
            <a:ext cx="461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25320" y="1927080"/>
            <a:ext cx="30384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35040" y="4751280"/>
            <a:ext cx="3038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67160" y="4095720"/>
            <a:ext cx="0" cy="571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09880" y="5624640"/>
            <a:ext cx="88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6438960"/>
            <a:ext cx="28148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881600" y="5581800"/>
            <a:ext cx="814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19680" y="2252520"/>
            <a:ext cx="88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19680" y="3672000"/>
            <a:ext cx="88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15000" y="2971800"/>
            <a:ext cx="8856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2905200" y="2266920"/>
            <a:ext cx="82872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2904840" y="2981160"/>
            <a:ext cx="8190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2904840" y="3695760"/>
            <a:ext cx="80964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909800" y="1266840"/>
            <a:ext cx="0" cy="5557680"/>
          </a:xfrm>
          <a:prstGeom prst="line">
            <a:avLst/>
          </a:prstGeom>
          <a:ln w="12600">
            <a:solidFill>
              <a:srgbClr val="00007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48680" y="1319040"/>
            <a:ext cx="0" cy="5558040"/>
          </a:xfrm>
          <a:prstGeom prst="line">
            <a:avLst/>
          </a:prstGeom>
          <a:ln w="12600">
            <a:solidFill>
              <a:srgbClr val="00007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14960" y="1314360"/>
            <a:ext cx="0" cy="5558040"/>
          </a:xfrm>
          <a:prstGeom prst="line">
            <a:avLst/>
          </a:prstGeom>
          <a:ln w="12600">
            <a:solidFill>
              <a:srgbClr val="00007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01040" y="1143000"/>
            <a:ext cx="12794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PRODUC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FIN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0800" y="1143000"/>
            <a:ext cx="10886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MATER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PR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93880" y="1143000"/>
            <a:ext cx="1300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REFI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HIDROGE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26480" y="1143000"/>
            <a:ext cx="2170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BLEND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e"/>
                </a:solidFill>
                <a:latin typeface="Century Gothic"/>
              </a:rPr>
              <a:t>CONTROL DE CA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381480" y="1281240"/>
            <a:ext cx="0" cy="5557680"/>
          </a:xfrm>
          <a:prstGeom prst="line">
            <a:avLst/>
          </a:prstGeom>
          <a:ln w="12600">
            <a:solidFill>
              <a:srgbClr val="00007e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790560" y="5394240"/>
          <a:ext cx="504720" cy="120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0560" y="5394240"/>
                    <a:ext cx="504720" cy="120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233280" y="4152960"/>
          <a:ext cx="155124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4152960"/>
                    <a:ext cx="15512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 flipV="1">
            <a:off x="1023840" y="4653000"/>
            <a:ext cx="0" cy="681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6800" y="361944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200400" y="370512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AGRAMA DE FLUJO (SIMPLIFICAD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5867280" y="4495680"/>
            <a:ext cx="1371600" cy="1067040"/>
          </a:xfrm>
          <a:prstGeom prst="ellipse">
            <a:avLst/>
          </a:prstGeom>
          <a:solidFill>
            <a:srgbClr val="438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248520" y="838080"/>
            <a:ext cx="609480" cy="711360"/>
          </a:xfrm>
          <a:prstGeom prst="ellipse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248520" y="1219320"/>
            <a:ext cx="609480" cy="685800"/>
          </a:xfrm>
          <a:prstGeom prst="rect">
            <a:avLst/>
          </a:prstGeom>
          <a:solidFill>
            <a:srgbClr val="ffc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514600" y="3352680"/>
            <a:ext cx="1371600" cy="1590840"/>
          </a:xfrm>
          <a:prstGeom prst="rect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2514600" y="4495680"/>
            <a:ext cx="1371600" cy="1067040"/>
          </a:xfrm>
          <a:prstGeom prst="ellipse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2514600" y="2743200"/>
            <a:ext cx="1371600" cy="1209600"/>
          </a:xfrm>
          <a:prstGeom prst="ellipse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2895480" y="990720"/>
            <a:ext cx="609840" cy="568080"/>
          </a:xfrm>
          <a:prstGeom prst="rect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2895480" y="1295280"/>
            <a:ext cx="609840" cy="533520"/>
          </a:xfrm>
          <a:prstGeom prst="ellipse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2895480" y="685800"/>
            <a:ext cx="609840" cy="639720"/>
          </a:xfrm>
          <a:prstGeom prst="ellipse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990720" y="2514600"/>
            <a:ext cx="457200" cy="426960"/>
          </a:xfrm>
          <a:prstGeom prst="rect">
            <a:avLst/>
          </a:prstGeom>
          <a:solidFill>
            <a:srgbClr val="ff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4419720" y="5486400"/>
            <a:ext cx="68580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4419720" y="5257800"/>
            <a:ext cx="685800" cy="426960"/>
          </a:xfrm>
          <a:prstGeom prst="hexagon">
            <a:avLst>
              <a:gd name="adj" fmla="val 40148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4572000" y="5105520"/>
            <a:ext cx="38088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6248520" y="12193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010280" y="533520"/>
            <a:ext cx="762120" cy="228600"/>
          </a:xfrm>
          <a:prstGeom prst="octagon">
            <a:avLst>
              <a:gd name="adj" fmla="val 29282"/>
            </a:avLst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4572000" y="52578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1219320" y="1143000"/>
            <a:ext cx="0" cy="1371600"/>
          </a:xfrm>
          <a:prstGeom prst="line">
            <a:avLst/>
          </a:prstGeom>
          <a:ln w="50760">
            <a:solidFill>
              <a:srgbClr val="ff0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219320" y="1143000"/>
            <a:ext cx="1676160" cy="0"/>
          </a:xfrm>
          <a:prstGeom prst="line">
            <a:avLst/>
          </a:prstGeom>
          <a:ln w="50760">
            <a:solidFill>
              <a:srgbClr val="ff0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53352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533520" y="2895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33520" y="114300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33520" y="2895480"/>
            <a:ext cx="0" cy="1279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2286000" y="2362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2286000" y="2362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1447920" y="2743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3124080" y="55627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 flipH="1">
            <a:off x="1218960" y="609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 flipV="1">
            <a:off x="1219320" y="2971800"/>
            <a:ext cx="0" cy="3124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 flipV="1">
            <a:off x="3200400" y="228600"/>
            <a:ext cx="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00400" y="22860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191120" y="2286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191120" y="22860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 flipV="1">
            <a:off x="6553080" y="2282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553080" y="2286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7162920" y="2286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7391520" y="228600"/>
            <a:ext cx="0" cy="279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858000" y="11430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7391520" y="762120"/>
            <a:ext cx="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238880" y="3581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5105520" y="6019920"/>
            <a:ext cx="2819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6553080" y="5562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5105520" y="556272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 flipV="1">
            <a:off x="5410080" y="4723920"/>
            <a:ext cx="0" cy="83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5410080" y="4724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464832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4648320" y="6019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648320" y="5562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 flipH="1">
            <a:off x="4647960" y="57913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 flipH="1">
            <a:off x="2514600" y="1600200"/>
            <a:ext cx="38088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3505320" y="1600200"/>
            <a:ext cx="380880" cy="167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216240" y="6400800"/>
            <a:ext cx="248292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52280" rIns="152280" tIns="38160" bIns="38160" anchor="t">
            <a:spAutoFit/>
          </a:bodyPr>
          <a:p>
            <a:pPr algn="ctr">
              <a:lnSpc>
                <a:spcPct val="7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QUIL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5867280" y="4343400"/>
            <a:ext cx="1371600" cy="720720"/>
          </a:xfrm>
          <a:prstGeom prst="rect">
            <a:avLst/>
          </a:prstGeom>
          <a:solidFill>
            <a:srgbClr val="767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5867280" y="3733920"/>
            <a:ext cx="1371600" cy="644400"/>
          </a:xfrm>
          <a:prstGeom prst="rect">
            <a:avLst/>
          </a:prstGeom>
          <a:solidFill>
            <a:srgbClr val="b3b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5867280" y="44197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2514600" y="3886200"/>
            <a:ext cx="1371600" cy="55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UORIDR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1676520" y="5867280"/>
            <a:ext cx="83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1447920" y="2514600"/>
            <a:ext cx="83808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7924680" y="990720"/>
            <a:ext cx="9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P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7924680" y="3429000"/>
            <a:ext cx="9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-BUT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924680" y="5867280"/>
            <a:ext cx="11430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QUIL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3200400" y="1828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 rot="16200000">
            <a:off x="72360" y="587880"/>
            <a:ext cx="9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T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rot="16200000">
            <a:off x="72360" y="4474080"/>
            <a:ext cx="9907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-BUTA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873760" y="3054240"/>
            <a:ext cx="1359000" cy="673200"/>
          </a:xfrm>
          <a:prstGeom prst="rect">
            <a:avLst/>
          </a:prstGeom>
          <a:solidFill>
            <a:srgbClr val="fe8656"/>
          </a:solidFill>
          <a:ln w="12600">
            <a:solidFill>
              <a:srgbClr val="ffc3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867280" y="2362320"/>
            <a:ext cx="1371600" cy="685800"/>
          </a:xfrm>
          <a:prstGeom prst="rect">
            <a:avLst/>
          </a:prstGeom>
          <a:solidFill>
            <a:srgbClr val="ed96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867280" y="37339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867280" y="30481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867280" y="2362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867280" y="1447920"/>
            <a:ext cx="1371600" cy="914400"/>
          </a:xfrm>
          <a:prstGeom prst="triangle">
            <a:avLst>
              <a:gd name="adj" fmla="val 49995"/>
            </a:avLst>
          </a:prstGeom>
          <a:solidFill>
            <a:srgbClr val="ffcd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248520" y="18288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867280" y="2362320"/>
            <a:ext cx="1371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6248520" y="152388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940440" y="158760"/>
            <a:ext cx="216000" cy="216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H="1">
            <a:off x="6933960" y="76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"/>
          <p:cNvSpPr/>
          <p:nvPr/>
        </p:nvSpPr>
        <p:spPr>
          <a:xfrm>
            <a:off x="1066680" y="483876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"/>
          <p:cNvSpPr/>
          <p:nvPr/>
        </p:nvSpPr>
        <p:spPr>
          <a:xfrm>
            <a:off x="5905440" y="4089240"/>
            <a:ext cx="2133720" cy="1143000"/>
          </a:xfrm>
          <a:prstGeom prst="rect">
            <a:avLst/>
          </a:prstGeom>
          <a:gradFill rotWithShape="0">
            <a:gsLst>
              <a:gs pos="0">
                <a:srgbClr val="fafd00"/>
              </a:gs>
              <a:gs pos="50000">
                <a:srgbClr val="ff9900"/>
              </a:gs>
              <a:gs pos="100000">
                <a:srgbClr val="fafd00"/>
              </a:gs>
            </a:gsLst>
            <a:lin ang="54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222960" y="2336760"/>
            <a:ext cx="1295280" cy="1219320"/>
          </a:xfrm>
          <a:prstGeom prst="ellipse">
            <a:avLst/>
          </a:prstGeom>
          <a:gradFill rotWithShape="0">
            <a:gsLst>
              <a:gs pos="0">
                <a:srgbClr val="fafd00"/>
              </a:gs>
              <a:gs pos="50000">
                <a:srgbClr val="ff9900"/>
              </a:gs>
              <a:gs pos="100000">
                <a:srgbClr val="fafd00"/>
              </a:gs>
            </a:gsLst>
            <a:lin ang="54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 flipH="1" flipV="1" rot="16200000">
            <a:off x="5028480" y="2335680"/>
            <a:ext cx="1143000" cy="1041480"/>
          </a:xfrm>
          <a:custGeom>
            <a:avLst/>
            <a:gdLst>
              <a:gd name="textAreaLeft" fmla="*/ 251280 w 1143000"/>
              <a:gd name="textAreaRight" fmla="*/ 891720 w 1143000"/>
              <a:gd name="textAreaTop" fmla="*/ 228960 h 1041480"/>
              <a:gd name="textAreaBottom" fmla="*/ 812520 h 104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gradFill rotWithShape="0">
            <a:gsLst>
              <a:gs pos="0">
                <a:srgbClr val="fafd00"/>
              </a:gs>
              <a:gs pos="50000">
                <a:srgbClr val="ff9900"/>
              </a:gs>
              <a:gs pos="100000">
                <a:srgbClr val="fafd00"/>
              </a:gs>
            </a:gsLst>
            <a:lin ang="5400000"/>
          </a:gra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 flipV="1" rot="5400000">
            <a:off x="1987560" y="919440"/>
            <a:ext cx="672840" cy="673200"/>
          </a:xfrm>
          <a:custGeom>
            <a:avLst/>
            <a:gdLst>
              <a:gd name="textAreaLeft" fmla="*/ 147960 w 672840"/>
              <a:gd name="textAreaRight" fmla="*/ 524880 w 672840"/>
              <a:gd name="textAreaTop" fmla="*/ 147960 h 673200"/>
              <a:gd name="textAreaBottom" fmla="*/ 52524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800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1378080" y="5797440"/>
            <a:ext cx="1130040" cy="36828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2978280" y="5187960"/>
            <a:ext cx="1358640" cy="2919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 flipV="1" rot="5400000">
            <a:off x="4273560" y="2519640"/>
            <a:ext cx="672840" cy="673200"/>
          </a:xfrm>
          <a:custGeom>
            <a:avLst/>
            <a:gdLst>
              <a:gd name="textAreaLeft" fmla="*/ 147960 w 672840"/>
              <a:gd name="textAreaRight" fmla="*/ 524880 w 672840"/>
              <a:gd name="textAreaTop" fmla="*/ 147960 h 673200"/>
              <a:gd name="textAreaBottom" fmla="*/ 52524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 flipH="1" flipV="1" rot="16200000">
            <a:off x="5263560" y="2520000"/>
            <a:ext cx="672840" cy="672840"/>
          </a:xfrm>
          <a:custGeom>
            <a:avLst/>
            <a:gdLst>
              <a:gd name="textAreaLeft" fmla="*/ 147960 w 672840"/>
              <a:gd name="textAreaRight" fmla="*/ 524880 w 672840"/>
              <a:gd name="textAreaTop" fmla="*/ 147960 h 672840"/>
              <a:gd name="textAreaBottom" fmla="*/ 524880 h 67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102360" y="4273560"/>
            <a:ext cx="1739880" cy="7491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7016760" y="3587760"/>
            <a:ext cx="749160" cy="291960"/>
          </a:xfrm>
          <a:prstGeom prst="rect">
            <a:avLst/>
          </a:prstGeom>
          <a:solidFill>
            <a:srgbClr val="00ff7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407280" y="2521080"/>
            <a:ext cx="901440" cy="825480"/>
          </a:xfrm>
          <a:prstGeom prst="ellipse">
            <a:avLst/>
          </a:prstGeom>
          <a:solidFill>
            <a:srgbClr val="00a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7626240" y="2521080"/>
            <a:ext cx="901800" cy="825480"/>
          </a:xfrm>
          <a:prstGeom prst="ellipse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330960" y="463680"/>
            <a:ext cx="2044800" cy="105408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295280" y="45720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676520" y="4572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981080" y="457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676520" y="763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1676520" y="763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666880" y="14479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2666880" y="18288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4959360" y="2216160"/>
            <a:ext cx="368280" cy="291960"/>
          </a:xfrm>
          <a:prstGeom prst="rect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181480" y="18288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295280" y="22860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752480" y="228600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 flipV="1">
            <a:off x="2895480" y="18288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581280" y="3657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V="1">
            <a:off x="4267080" y="32004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52880" y="28195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5720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57200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5334120" y="22860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715000" y="228600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94360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V="1">
            <a:off x="6858000" y="1523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 flipV="1">
            <a:off x="8077320" y="15238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553080" y="37339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6553080" y="3733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295280" y="44197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295280" y="53341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676520" y="4419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676520" y="5334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2362320" y="533412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2362320" y="441972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343400" y="533412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6553080" y="50288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4724280" y="5721480"/>
            <a:ext cx="374760" cy="443880"/>
            <a:chOff x="4724280" y="5721480"/>
            <a:chExt cx="374760" cy="443880"/>
          </a:xfrm>
        </p:grpSpPr>
        <p:sp>
          <p:nvSpPr>
            <p:cNvPr id="1170" name=""/>
            <p:cNvSpPr/>
            <p:nvPr/>
          </p:nvSpPr>
          <p:spPr>
            <a:xfrm flipV="1">
              <a:off x="4766760" y="5873760"/>
              <a:ext cx="289800" cy="291600"/>
            </a:xfrm>
            <a:custGeom>
              <a:avLst/>
              <a:gdLst>
                <a:gd name="textAreaLeft" fmla="*/ 63720 w 289800"/>
                <a:gd name="textAreaRight" fmla="*/ 226080 w 289800"/>
                <a:gd name="textAreaTop" fmla="*/ 64080 h 291600"/>
                <a:gd name="textAreaBottom" fmla="*/ 227520 h 29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724280" y="5721480"/>
              <a:ext cx="374760" cy="367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2514600" y="59436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5105520" y="5943600"/>
            <a:ext cx="213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7238880" y="50292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458640" y="380880"/>
            <a:ext cx="83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2287440" y="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906560" y="1066680"/>
            <a:ext cx="106668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PRE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E 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458640" y="220968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306360" y="43434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NATU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58640" y="5257800"/>
            <a:ext cx="83844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1371600" y="5791320"/>
            <a:ext cx="106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UA DE CALDE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027240" y="5181480"/>
            <a:ext cx="13161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>
              <a:lnSpc>
                <a:spcPct val="12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OSTCOMBUS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5106960" y="6019920"/>
            <a:ext cx="137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MBA DE AGU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2971800" y="35812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343400" y="2666880"/>
            <a:ext cx="6094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4246560" y="2743200"/>
            <a:ext cx="9349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MPRE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335560" y="2666880"/>
            <a:ext cx="1295280" cy="3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TURBIN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DE G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7088040" y="3657600"/>
            <a:ext cx="762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P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249960" y="4419720"/>
            <a:ext cx="14479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LDERA DE RECUPE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6326280" y="2743200"/>
            <a:ext cx="10666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545240" y="2743200"/>
            <a:ext cx="1067040" cy="52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 FC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6172200" y="609480"/>
            <a:ext cx="22860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UMO REFINER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NSUMOS AUXILIARES COGENE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BERDRO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5562720" y="312408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562720" y="47242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7848720" y="4724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8078760" y="4495680"/>
            <a:ext cx="914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MEN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352680" y="6400800"/>
            <a:ext cx="2895840" cy="42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GENERAC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8080" y="64008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COGENERACIÓN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: Rendimiento energ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57200" y="299736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3505320" y="1854360"/>
            <a:ext cx="1447560" cy="685800"/>
            <a:chOff x="3505320" y="1854360"/>
            <a:chExt cx="1447560" cy="685800"/>
          </a:xfrm>
        </p:grpSpPr>
        <p:sp>
          <p:nvSpPr>
            <p:cNvPr id="1201" name=""/>
            <p:cNvSpPr/>
            <p:nvPr/>
          </p:nvSpPr>
          <p:spPr>
            <a:xfrm>
              <a:off x="3505320" y="1854360"/>
              <a:ext cx="1447560" cy="685800"/>
            </a:xfrm>
            <a:prstGeom prst="rect">
              <a:avLst/>
            </a:prstGeom>
            <a:solidFill>
              <a:srgbClr val="6699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62412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77676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392904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624120" y="193032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776760" y="231156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08132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3396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3929040" y="193032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081320" y="2311560"/>
              <a:ext cx="152640" cy="15228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38624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53852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33960" y="1930320"/>
              <a:ext cx="152280" cy="15264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86240" y="231156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69116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43440" y="2006640"/>
              <a:ext cx="0" cy="380880"/>
            </a:xfrm>
            <a:prstGeom prst="line">
              <a:avLst/>
            </a:prstGeom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538520" y="1930320"/>
              <a:ext cx="152640" cy="15264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691160" y="2311560"/>
              <a:ext cx="152280" cy="152280"/>
            </a:xfrm>
            <a:prstGeom prst="ellipse">
              <a:avLst/>
            </a:prstGeom>
            <a:noFill/>
            <a:ln w="284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581280" y="20066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Times New Roman"/>
                </a:rPr>
                <a:t>CALD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0" name=""/>
          <p:cNvSpPr/>
          <p:nvPr/>
        </p:nvSpPr>
        <p:spPr>
          <a:xfrm>
            <a:off x="3352680" y="26161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ndimiento: 0.8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181480" y="2336760"/>
            <a:ext cx="1524240" cy="228600"/>
          </a:xfrm>
          <a:prstGeom prst="rightArrow">
            <a:avLst>
              <a:gd name="adj1" fmla="val 41667"/>
              <a:gd name="adj2" fmla="val 6791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705720" y="2158920"/>
            <a:ext cx="106668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e"/>
                </a:solidFill>
                <a:latin typeface="Times New Roman"/>
              </a:rPr>
              <a:t>ENER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7e"/>
                </a:solidFill>
                <a:latin typeface="Times New Roman"/>
              </a:rPr>
              <a:t>TÉRM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181480" y="330120"/>
            <a:ext cx="1524240" cy="228600"/>
          </a:xfrm>
          <a:prstGeom prst="rightArrow">
            <a:avLst>
              <a:gd name="adj1" fmla="val 41667"/>
              <a:gd name="adj2" fmla="val 67912"/>
            </a:avLst>
          </a:prstGeom>
          <a:solidFill>
            <a:srgbClr val="fc0128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705720" y="152280"/>
            <a:ext cx="137160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0128"/>
                </a:solidFill>
                <a:latin typeface="Times New Roman"/>
              </a:rPr>
              <a:t>ENERG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c0128"/>
                </a:solidFill>
                <a:latin typeface="Times New Roman"/>
              </a:rPr>
              <a:t>ELÉCT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181480" y="1523880"/>
            <a:ext cx="685800" cy="533520"/>
          </a:xfrm>
          <a:custGeom>
            <a:avLst/>
            <a:gdLst>
              <a:gd name="textAreaLeft" fmla="*/ 0 w 685800"/>
              <a:gd name="textAreaRight" fmla="*/ 686160 w 6858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7675" y="4275"/>
                </a:lnTo>
                <a:lnTo>
                  <a:pt x="17675" y="0"/>
                </a:lnTo>
                <a:lnTo>
                  <a:pt x="21600" y="6079"/>
                </a:lnTo>
                <a:lnTo>
                  <a:pt x="17675" y="12158"/>
                </a:lnTo>
                <a:lnTo>
                  <a:pt x="17675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solidFill>
            <a:srgbClr val="99ccff"/>
          </a:solidFill>
          <a:ln w="1260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829480" y="1574640"/>
            <a:ext cx="11808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618ffd"/>
                </a:solidFill>
                <a:latin typeface="Times New Roman"/>
              </a:rPr>
              <a:t>Pérdidas: 1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895480" y="2082960"/>
            <a:ext cx="457200" cy="228600"/>
          </a:xfrm>
          <a:prstGeom prst="rightArrow">
            <a:avLst>
              <a:gd name="adj1" fmla="val 41667"/>
              <a:gd name="adj2" fmla="val 20370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066680" y="20448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mbustible: 1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895480" y="520560"/>
            <a:ext cx="457200" cy="228600"/>
          </a:xfrm>
          <a:prstGeom prst="rightArrow">
            <a:avLst>
              <a:gd name="adj1" fmla="val 41667"/>
              <a:gd name="adj2" fmla="val 20370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1066680" y="48276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mbustible: 3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"/>
          <p:cNvGrpSpPr/>
          <p:nvPr/>
        </p:nvGrpSpPr>
        <p:grpSpPr>
          <a:xfrm>
            <a:off x="3467160" y="330120"/>
            <a:ext cx="1498680" cy="685800"/>
            <a:chOff x="3467160" y="330120"/>
            <a:chExt cx="1498680" cy="685800"/>
          </a:xfrm>
        </p:grpSpPr>
        <p:sp>
          <p:nvSpPr>
            <p:cNvPr id="1232" name=""/>
            <p:cNvSpPr/>
            <p:nvPr/>
          </p:nvSpPr>
          <p:spPr>
            <a:xfrm>
              <a:off x="3505320" y="330120"/>
              <a:ext cx="1447560" cy="685800"/>
            </a:xfrm>
            <a:prstGeom prst="rect">
              <a:avLst/>
            </a:prstGeom>
            <a:solidFill>
              <a:srgbClr val="fc0128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 flipH="1">
              <a:off x="4483080" y="343080"/>
              <a:ext cx="380880" cy="533160"/>
            </a:xfrm>
            <a:prstGeom prst="lightningBolt">
              <a:avLst/>
            </a:prstGeom>
            <a:solidFill>
              <a:srgbClr val="8000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3467160" y="330120"/>
              <a:ext cx="1498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CENTRAL ELÉCTRIC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5" name=""/>
          <p:cNvSpPr/>
          <p:nvPr/>
        </p:nvSpPr>
        <p:spPr>
          <a:xfrm flipV="1">
            <a:off x="5181480" y="838080"/>
            <a:ext cx="685800" cy="533520"/>
          </a:xfrm>
          <a:custGeom>
            <a:avLst/>
            <a:gdLst>
              <a:gd name="textAreaLeft" fmla="*/ 0 w 685800"/>
              <a:gd name="textAreaRight" fmla="*/ 686160 w 685800"/>
              <a:gd name="textAreaTop" fmla="*/ 360 h 533520"/>
              <a:gd name="textAreaBottom" fmla="*/ 534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7675" y="4275"/>
                </a:lnTo>
                <a:lnTo>
                  <a:pt x="17675" y="0"/>
                </a:lnTo>
                <a:lnTo>
                  <a:pt x="21600" y="6079"/>
                </a:lnTo>
                <a:lnTo>
                  <a:pt x="17675" y="12158"/>
                </a:lnTo>
                <a:lnTo>
                  <a:pt x="17675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5829480" y="1117440"/>
            <a:ext cx="125712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6600"/>
                </a:solidFill>
                <a:latin typeface="Times New Roman"/>
              </a:rPr>
              <a:t>Pérdidas: 2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3352680" y="10414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ndimiento: 0.3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391520" y="1092240"/>
            <a:ext cx="1523880" cy="733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ENDIMIENTO ENERGÉTICO GLOBAL: 0.4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3352680" y="3632040"/>
            <a:ext cx="1905120" cy="635040"/>
            <a:chOff x="3352680" y="3632040"/>
            <a:chExt cx="1905120" cy="635040"/>
          </a:xfrm>
        </p:grpSpPr>
        <p:sp>
          <p:nvSpPr>
            <p:cNvPr id="1240" name=""/>
            <p:cNvSpPr/>
            <p:nvPr/>
          </p:nvSpPr>
          <p:spPr>
            <a:xfrm>
              <a:off x="3352680" y="3632040"/>
              <a:ext cx="1905120" cy="635040"/>
            </a:xfrm>
            <a:prstGeom prst="rect">
              <a:avLst/>
            </a:prstGeom>
            <a:solidFill>
              <a:srgbClr val="ff6600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3352680" y="3657600"/>
              <a:ext cx="190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00"/>
                  </a:solidFill>
                  <a:latin typeface="Times New Roman"/>
                </a:rPr>
                <a:t>PLANTA COGENERACIÓ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2" name=""/>
          <p:cNvSpPr/>
          <p:nvPr/>
        </p:nvSpPr>
        <p:spPr>
          <a:xfrm>
            <a:off x="3378240" y="4343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Rendimiento: 0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5486400" y="3809880"/>
            <a:ext cx="609480" cy="228600"/>
          </a:xfrm>
          <a:prstGeom prst="rightArrow">
            <a:avLst>
              <a:gd name="adj1" fmla="val 19444"/>
              <a:gd name="adj2" fmla="val 43744"/>
            </a:avLst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520" bIns="-2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6019920" y="4282920"/>
            <a:ext cx="22096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ENERGÍA TÉRMICA: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6045120" y="3822840"/>
            <a:ext cx="118116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9933"/>
                </a:solidFill>
                <a:latin typeface="Times New Roman"/>
              </a:rPr>
              <a:t>Pérdidas: 77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819520" y="3860640"/>
            <a:ext cx="457200" cy="228600"/>
          </a:xfrm>
          <a:prstGeom prst="rightArrow">
            <a:avLst>
              <a:gd name="adj1" fmla="val 41667"/>
              <a:gd name="adj2" fmla="val 20370"/>
            </a:avLst>
          </a:prstGeom>
          <a:solidFill>
            <a:srgbClr val="4d4d4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990720" y="3822840"/>
            <a:ext cx="17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Combustible: 27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5486400" y="3276720"/>
            <a:ext cx="533520" cy="1295280"/>
            <a:chOff x="5486400" y="3276720"/>
            <a:chExt cx="533520" cy="1295280"/>
          </a:xfrm>
        </p:grpSpPr>
        <p:sp>
          <p:nvSpPr>
            <p:cNvPr id="1249" name=""/>
            <p:cNvSpPr/>
            <p:nvPr/>
          </p:nvSpPr>
          <p:spPr>
            <a:xfrm>
              <a:off x="5486400" y="3276720"/>
              <a:ext cx="533520" cy="4572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7675" y="4275"/>
                  </a:lnTo>
                  <a:lnTo>
                    <a:pt x="17675" y="0"/>
                  </a:lnTo>
                  <a:lnTo>
                    <a:pt x="21600" y="6079"/>
                  </a:lnTo>
                  <a:lnTo>
                    <a:pt x="17675" y="12158"/>
                  </a:lnTo>
                  <a:lnTo>
                    <a:pt x="17675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5486400" y="4114800"/>
              <a:ext cx="533520" cy="4572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360 h 457200"/>
                <a:gd name="textAreaBottom" fmla="*/ 4579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lnTo>
                    <a:pt x="0" y="12160"/>
                  </a:lnTo>
                  <a:arcTo wR="12427" hR="7885" stAng="10800000" swAng="5400000"/>
                  <a:lnTo>
                    <a:pt x="17675" y="4275"/>
                  </a:lnTo>
                  <a:lnTo>
                    <a:pt x="17675" y="0"/>
                  </a:lnTo>
                  <a:lnTo>
                    <a:pt x="21600" y="6079"/>
                  </a:lnTo>
                  <a:lnTo>
                    <a:pt x="17675" y="12158"/>
                  </a:lnTo>
                  <a:lnTo>
                    <a:pt x="17675" y="7883"/>
                  </a:lnTo>
                  <a:lnTo>
                    <a:pt x="12427" y="7883"/>
                  </a:lnTo>
                  <a:arcTo wR="8819" hR="4277" stAng="16200000" swAng="-5400000"/>
                  <a:lnTo>
                    <a:pt x="3608" y="2160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1" name=""/>
          <p:cNvSpPr/>
          <p:nvPr/>
        </p:nvSpPr>
        <p:spPr>
          <a:xfrm>
            <a:off x="6019920" y="3270240"/>
            <a:ext cx="2361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Times New Roman"/>
              </a:rPr>
              <a:t>ENERGÍA ELÉCTRICA: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7391520" y="3568680"/>
            <a:ext cx="1523880" cy="73332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RENDIMIENTO ENERGÉTICO GLOBAL: 0.7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457200" y="480060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914400" y="5289480"/>
            <a:ext cx="7162920" cy="764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AHORRO DE COMBUSTIBLE CON COGENERACIÓN: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3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"/>
          <p:cNvSpPr/>
          <p:nvPr/>
        </p:nvSpPr>
        <p:spPr>
          <a:xfrm>
            <a:off x="1066680" y="533412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556080" y="571680"/>
            <a:ext cx="1930320" cy="91440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908760" y="571680"/>
            <a:ext cx="1930320" cy="914400"/>
          </a:xfrm>
          <a:prstGeom prst="ellipse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908760" y="1657440"/>
            <a:ext cx="1936800" cy="66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6908760" y="2286000"/>
            <a:ext cx="1936800" cy="6699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6908760" y="1943280"/>
            <a:ext cx="1936800" cy="6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4297320" y="2305080"/>
            <a:ext cx="1816200" cy="9716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165560" y="3448080"/>
            <a:ext cx="1930320" cy="914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6908760" y="3143160"/>
            <a:ext cx="1930320" cy="9144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908760" y="4229280"/>
            <a:ext cx="1930320" cy="9144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30120" y="5315040"/>
            <a:ext cx="1625760" cy="914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908760" y="5315040"/>
            <a:ext cx="1930320" cy="9144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251160" y="2057400"/>
            <a:ext cx="2032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283360" y="20574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50960" y="514368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95588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5110200" y="31622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5257800" y="4343400"/>
            <a:ext cx="0" cy="952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267080" y="44956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4267080" y="4495680"/>
            <a:ext cx="0" cy="800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095880" y="391788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489720" y="393696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502320" y="575928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7823160" y="148608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7823160" y="297180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7823160" y="4057560"/>
            <a:ext cx="0" cy="17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7823160" y="514368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010280" y="743040"/>
            <a:ext cx="172728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U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CEITOS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3835440" y="685800"/>
            <a:ext cx="142236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GU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LLU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267080" y="2305080"/>
            <a:ext cx="185904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LSAS DERRAME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-1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4297320" y="2876400"/>
            <a:ext cx="1798560" cy="40032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7086600" y="3314880"/>
            <a:ext cx="16002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T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e  Disuel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4343400" y="3638520"/>
            <a:ext cx="1676520" cy="6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K - 8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u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pera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705720" y="4572000"/>
            <a:ext cx="2336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OLOG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482760" y="5429160"/>
            <a:ext cx="1295280" cy="4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SC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EN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30120" y="588636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30120" y="594360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330120" y="600084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30120" y="605808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30120" y="611496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30120" y="617220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30120" y="6229440"/>
            <a:ext cx="1625760" cy="0"/>
          </a:xfrm>
          <a:prstGeom prst="line">
            <a:avLst/>
          </a:prstGeom>
          <a:ln w="12600">
            <a:solidFill>
              <a:srgbClr val="037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1239840" y="5929200"/>
            <a:ext cx="3668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05720" y="5467320"/>
            <a:ext cx="23367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OCULACION DECANTACION FILTR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3" name=""/>
          <p:cNvGrpSpPr/>
          <p:nvPr/>
        </p:nvGrpSpPr>
        <p:grpSpPr>
          <a:xfrm>
            <a:off x="4546440" y="5315040"/>
            <a:ext cx="1960560" cy="907920"/>
            <a:chOff x="4546440" y="5315040"/>
            <a:chExt cx="1960560" cy="907920"/>
          </a:xfrm>
        </p:grpSpPr>
        <p:sp>
          <p:nvSpPr>
            <p:cNvPr id="1304" name=""/>
            <p:cNvSpPr/>
            <p:nvPr/>
          </p:nvSpPr>
          <p:spPr>
            <a:xfrm>
              <a:off x="4659120" y="5321160"/>
              <a:ext cx="1714680" cy="901800"/>
            </a:xfrm>
            <a:prstGeom prst="rect">
              <a:avLst/>
            </a:prstGeom>
            <a:solidFill>
              <a:srgbClr val="009900"/>
            </a:solidFill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546440" y="5315040"/>
              <a:ext cx="19605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4480" rIns="114480" tIns="46080" bIns="46080" anchor="t">
              <a:spAutoFit/>
            </a:bodyPr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REUTILIZAC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Narrow"/>
                </a:rPr>
                <a:t>PROCES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653000" y="582948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957560" y="582948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761000" y="6006960"/>
              <a:ext cx="495000" cy="10188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160960" y="582948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160960" y="5829480"/>
              <a:ext cx="304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472000" y="5721480"/>
              <a:ext cx="190440" cy="387360"/>
            </a:xfrm>
            <a:prstGeom prst="octagon">
              <a:avLst>
                <a:gd name="adj" fmla="val 2928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567400" y="6114960"/>
              <a:ext cx="0" cy="57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567400" y="6172200"/>
              <a:ext cx="304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878440" y="6121440"/>
              <a:ext cx="190440" cy="1015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878440" y="6006960"/>
              <a:ext cx="190440" cy="101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973840" y="6000840"/>
              <a:ext cx="406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7" name=""/>
          <p:cNvSpPr/>
          <p:nvPr/>
        </p:nvSpPr>
        <p:spPr>
          <a:xfrm>
            <a:off x="1041480" y="6229440"/>
            <a:ext cx="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1041480" y="6572160"/>
            <a:ext cx="81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1905120" y="651528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1905120" y="657216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1905120" y="662940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1905120" y="668664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1905120" y="674388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1905120" y="645804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1905120" y="6400800"/>
            <a:ext cx="16254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505320" y="6400800"/>
            <a:ext cx="2286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RTIDO AL EXTER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7" name=""/>
          <p:cNvGrpSpPr/>
          <p:nvPr/>
        </p:nvGrpSpPr>
        <p:grpSpPr>
          <a:xfrm>
            <a:off x="2895480" y="5334120"/>
            <a:ext cx="1689120" cy="914400"/>
            <a:chOff x="2895480" y="5334120"/>
            <a:chExt cx="1689120" cy="914400"/>
          </a:xfrm>
        </p:grpSpPr>
        <p:sp>
          <p:nvSpPr>
            <p:cNvPr id="1328" name=""/>
            <p:cNvSpPr/>
            <p:nvPr/>
          </p:nvSpPr>
          <p:spPr>
            <a:xfrm>
              <a:off x="2895480" y="5334120"/>
              <a:ext cx="1625400" cy="914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933280" y="5353200"/>
              <a:ext cx="16513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85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LUCHA CONTRA    INCENDI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3206520" y="5969160"/>
              <a:ext cx="1003320" cy="2156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206520" y="5911920"/>
              <a:ext cx="1003320" cy="101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690720" y="5791320"/>
              <a:ext cx="679320" cy="210960"/>
            </a:xfrm>
            <a:custGeom>
              <a:avLst/>
              <a:gdLst/>
              <a:ahLst/>
              <a:rect l="l" t="t" r="r" b="b"/>
              <a:pathLst>
                <a:path w="428" h="133">
                  <a:moveTo>
                    <a:pt x="10" y="108"/>
                  </a:moveTo>
                  <a:lnTo>
                    <a:pt x="0" y="90"/>
                  </a:lnTo>
                  <a:lnTo>
                    <a:pt x="0" y="72"/>
                  </a:lnTo>
                  <a:lnTo>
                    <a:pt x="0" y="54"/>
                  </a:lnTo>
                  <a:lnTo>
                    <a:pt x="0" y="36"/>
                  </a:lnTo>
                  <a:lnTo>
                    <a:pt x="0" y="18"/>
                  </a:lnTo>
                  <a:lnTo>
                    <a:pt x="32" y="18"/>
                  </a:lnTo>
                  <a:lnTo>
                    <a:pt x="53" y="36"/>
                  </a:lnTo>
                  <a:lnTo>
                    <a:pt x="64" y="54"/>
                  </a:lnTo>
                  <a:lnTo>
                    <a:pt x="64" y="72"/>
                  </a:lnTo>
                  <a:lnTo>
                    <a:pt x="64" y="90"/>
                  </a:lnTo>
                  <a:lnTo>
                    <a:pt x="96" y="72"/>
                  </a:lnTo>
                  <a:lnTo>
                    <a:pt x="117" y="54"/>
                  </a:lnTo>
                  <a:lnTo>
                    <a:pt x="138" y="36"/>
                  </a:lnTo>
                  <a:lnTo>
                    <a:pt x="160" y="18"/>
                  </a:lnTo>
                  <a:lnTo>
                    <a:pt x="192" y="0"/>
                  </a:lnTo>
                  <a:lnTo>
                    <a:pt x="181" y="18"/>
                  </a:lnTo>
                  <a:lnTo>
                    <a:pt x="160" y="42"/>
                  </a:lnTo>
                  <a:lnTo>
                    <a:pt x="160" y="60"/>
                  </a:lnTo>
                  <a:lnTo>
                    <a:pt x="192" y="66"/>
                  </a:lnTo>
                  <a:lnTo>
                    <a:pt x="224" y="54"/>
                  </a:lnTo>
                  <a:lnTo>
                    <a:pt x="256" y="54"/>
                  </a:lnTo>
                  <a:lnTo>
                    <a:pt x="288" y="48"/>
                  </a:lnTo>
                  <a:lnTo>
                    <a:pt x="320" y="42"/>
                  </a:lnTo>
                  <a:lnTo>
                    <a:pt x="373" y="30"/>
                  </a:lnTo>
                  <a:lnTo>
                    <a:pt x="362" y="48"/>
                  </a:lnTo>
                  <a:lnTo>
                    <a:pt x="330" y="54"/>
                  </a:lnTo>
                  <a:lnTo>
                    <a:pt x="298" y="66"/>
                  </a:lnTo>
                  <a:lnTo>
                    <a:pt x="266" y="78"/>
                  </a:lnTo>
                  <a:lnTo>
                    <a:pt x="309" y="78"/>
                  </a:lnTo>
                  <a:lnTo>
                    <a:pt x="352" y="78"/>
                  </a:lnTo>
                  <a:lnTo>
                    <a:pt x="394" y="66"/>
                  </a:lnTo>
                  <a:lnTo>
                    <a:pt x="427" y="60"/>
                  </a:lnTo>
                  <a:lnTo>
                    <a:pt x="394" y="72"/>
                  </a:lnTo>
                  <a:lnTo>
                    <a:pt x="362" y="72"/>
                  </a:lnTo>
                  <a:lnTo>
                    <a:pt x="330" y="78"/>
                  </a:lnTo>
                  <a:lnTo>
                    <a:pt x="298" y="78"/>
                  </a:lnTo>
                  <a:lnTo>
                    <a:pt x="266" y="96"/>
                  </a:lnTo>
                  <a:lnTo>
                    <a:pt x="234" y="114"/>
                  </a:lnTo>
                  <a:lnTo>
                    <a:pt x="202" y="126"/>
                  </a:lnTo>
                  <a:lnTo>
                    <a:pt x="170" y="126"/>
                  </a:lnTo>
                  <a:lnTo>
                    <a:pt x="138" y="126"/>
                  </a:lnTo>
                  <a:lnTo>
                    <a:pt x="106" y="132"/>
                  </a:lnTo>
                  <a:lnTo>
                    <a:pt x="74" y="132"/>
                  </a:lnTo>
                  <a:lnTo>
                    <a:pt x="32" y="126"/>
                  </a:lnTo>
                  <a:lnTo>
                    <a:pt x="0" y="126"/>
                  </a:lnTo>
                  <a:lnTo>
                    <a:pt x="0" y="108"/>
                  </a:lnTo>
                  <a:lnTo>
                    <a:pt x="10" y="108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3200040" y="5772240"/>
              <a:ext cx="527040" cy="230040"/>
            </a:xfrm>
            <a:custGeom>
              <a:avLst/>
              <a:gdLst/>
              <a:ahLst/>
              <a:rect l="l" t="t" r="r" b="b"/>
              <a:pathLst>
                <a:path w="332" h="145">
                  <a:moveTo>
                    <a:pt x="64" y="120"/>
                  </a:moveTo>
                  <a:lnTo>
                    <a:pt x="42" y="102"/>
                  </a:lnTo>
                  <a:lnTo>
                    <a:pt x="32" y="84"/>
                  </a:lnTo>
                  <a:lnTo>
                    <a:pt x="10" y="66"/>
                  </a:lnTo>
                  <a:lnTo>
                    <a:pt x="0" y="42"/>
                  </a:lnTo>
                  <a:lnTo>
                    <a:pt x="53" y="42"/>
                  </a:lnTo>
                  <a:lnTo>
                    <a:pt x="85" y="54"/>
                  </a:lnTo>
                  <a:lnTo>
                    <a:pt x="106" y="72"/>
                  </a:lnTo>
                  <a:lnTo>
                    <a:pt x="106" y="90"/>
                  </a:lnTo>
                  <a:lnTo>
                    <a:pt x="96" y="72"/>
                  </a:lnTo>
                  <a:lnTo>
                    <a:pt x="96" y="54"/>
                  </a:lnTo>
                  <a:lnTo>
                    <a:pt x="96" y="36"/>
                  </a:lnTo>
                  <a:lnTo>
                    <a:pt x="96" y="18"/>
                  </a:lnTo>
                  <a:lnTo>
                    <a:pt x="74" y="0"/>
                  </a:lnTo>
                  <a:lnTo>
                    <a:pt x="106" y="6"/>
                  </a:lnTo>
                  <a:lnTo>
                    <a:pt x="128" y="36"/>
                  </a:lnTo>
                  <a:lnTo>
                    <a:pt x="149" y="54"/>
                  </a:lnTo>
                  <a:lnTo>
                    <a:pt x="149" y="72"/>
                  </a:lnTo>
                  <a:lnTo>
                    <a:pt x="160" y="90"/>
                  </a:lnTo>
                  <a:lnTo>
                    <a:pt x="192" y="66"/>
                  </a:lnTo>
                  <a:lnTo>
                    <a:pt x="224" y="54"/>
                  </a:lnTo>
                  <a:lnTo>
                    <a:pt x="256" y="42"/>
                  </a:lnTo>
                  <a:lnTo>
                    <a:pt x="288" y="24"/>
                  </a:lnTo>
                  <a:lnTo>
                    <a:pt x="320" y="6"/>
                  </a:lnTo>
                  <a:lnTo>
                    <a:pt x="288" y="18"/>
                  </a:lnTo>
                  <a:lnTo>
                    <a:pt x="256" y="30"/>
                  </a:lnTo>
                  <a:lnTo>
                    <a:pt x="224" y="48"/>
                  </a:lnTo>
                  <a:lnTo>
                    <a:pt x="202" y="66"/>
                  </a:lnTo>
                  <a:lnTo>
                    <a:pt x="234" y="78"/>
                  </a:lnTo>
                  <a:lnTo>
                    <a:pt x="266" y="78"/>
                  </a:lnTo>
                  <a:lnTo>
                    <a:pt x="298" y="78"/>
                  </a:lnTo>
                  <a:lnTo>
                    <a:pt x="331" y="72"/>
                  </a:lnTo>
                  <a:lnTo>
                    <a:pt x="309" y="90"/>
                  </a:lnTo>
                  <a:lnTo>
                    <a:pt x="288" y="108"/>
                  </a:lnTo>
                  <a:lnTo>
                    <a:pt x="277" y="126"/>
                  </a:lnTo>
                  <a:lnTo>
                    <a:pt x="266" y="144"/>
                  </a:lnTo>
                  <a:lnTo>
                    <a:pt x="224" y="144"/>
                  </a:lnTo>
                  <a:lnTo>
                    <a:pt x="181" y="144"/>
                  </a:lnTo>
                  <a:lnTo>
                    <a:pt x="149" y="144"/>
                  </a:lnTo>
                  <a:lnTo>
                    <a:pt x="117" y="138"/>
                  </a:lnTo>
                  <a:lnTo>
                    <a:pt x="64" y="138"/>
                  </a:lnTo>
                  <a:lnTo>
                    <a:pt x="53" y="114"/>
                  </a:lnTo>
                  <a:lnTo>
                    <a:pt x="64" y="120"/>
                  </a:lnTo>
                </a:path>
              </a:pathLst>
            </a:custGeom>
            <a:solidFill>
              <a:srgbClr val="fafd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4" name=""/>
          <p:cNvSpPr/>
          <p:nvPr/>
        </p:nvSpPr>
        <p:spPr>
          <a:xfrm>
            <a:off x="304920" y="114480"/>
            <a:ext cx="863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TAMIENTO  AGUAS  RESIDU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4906800" y="2762280"/>
            <a:ext cx="611280" cy="382680"/>
          </a:xfrm>
          <a:custGeom>
            <a:avLst/>
            <a:gdLst/>
            <a:ahLst/>
            <a:rect l="l" t="t" r="r" b="b"/>
            <a:pathLst>
              <a:path w="385" h="241">
                <a:moveTo>
                  <a:pt x="48" y="72"/>
                </a:moveTo>
                <a:lnTo>
                  <a:pt x="28" y="60"/>
                </a:lnTo>
                <a:lnTo>
                  <a:pt x="20" y="42"/>
                </a:lnTo>
                <a:lnTo>
                  <a:pt x="20" y="24"/>
                </a:lnTo>
                <a:lnTo>
                  <a:pt x="41" y="12"/>
                </a:lnTo>
                <a:lnTo>
                  <a:pt x="61" y="0"/>
                </a:lnTo>
                <a:lnTo>
                  <a:pt x="82" y="0"/>
                </a:lnTo>
                <a:lnTo>
                  <a:pt x="102" y="0"/>
                </a:lnTo>
                <a:lnTo>
                  <a:pt x="124" y="6"/>
                </a:lnTo>
                <a:lnTo>
                  <a:pt x="144" y="12"/>
                </a:lnTo>
                <a:lnTo>
                  <a:pt x="164" y="24"/>
                </a:lnTo>
                <a:lnTo>
                  <a:pt x="178" y="42"/>
                </a:lnTo>
                <a:lnTo>
                  <a:pt x="185" y="60"/>
                </a:lnTo>
                <a:lnTo>
                  <a:pt x="185" y="78"/>
                </a:lnTo>
                <a:lnTo>
                  <a:pt x="178" y="96"/>
                </a:lnTo>
                <a:lnTo>
                  <a:pt x="157" y="114"/>
                </a:lnTo>
                <a:lnTo>
                  <a:pt x="137" y="126"/>
                </a:lnTo>
                <a:lnTo>
                  <a:pt x="116" y="138"/>
                </a:lnTo>
                <a:lnTo>
                  <a:pt x="116" y="156"/>
                </a:lnTo>
                <a:lnTo>
                  <a:pt x="137" y="156"/>
                </a:lnTo>
                <a:lnTo>
                  <a:pt x="157" y="150"/>
                </a:lnTo>
                <a:lnTo>
                  <a:pt x="178" y="144"/>
                </a:lnTo>
                <a:lnTo>
                  <a:pt x="198" y="132"/>
                </a:lnTo>
                <a:lnTo>
                  <a:pt x="220" y="120"/>
                </a:lnTo>
                <a:lnTo>
                  <a:pt x="240" y="114"/>
                </a:lnTo>
                <a:lnTo>
                  <a:pt x="260" y="108"/>
                </a:lnTo>
                <a:lnTo>
                  <a:pt x="281" y="108"/>
                </a:lnTo>
                <a:lnTo>
                  <a:pt x="316" y="108"/>
                </a:lnTo>
                <a:lnTo>
                  <a:pt x="349" y="120"/>
                </a:lnTo>
                <a:lnTo>
                  <a:pt x="377" y="132"/>
                </a:lnTo>
                <a:lnTo>
                  <a:pt x="384" y="150"/>
                </a:lnTo>
                <a:lnTo>
                  <a:pt x="384" y="168"/>
                </a:lnTo>
                <a:lnTo>
                  <a:pt x="377" y="186"/>
                </a:lnTo>
                <a:lnTo>
                  <a:pt x="364" y="204"/>
                </a:lnTo>
                <a:lnTo>
                  <a:pt x="342" y="216"/>
                </a:lnTo>
                <a:lnTo>
                  <a:pt x="322" y="228"/>
                </a:lnTo>
                <a:lnTo>
                  <a:pt x="301" y="234"/>
                </a:lnTo>
                <a:lnTo>
                  <a:pt x="281" y="240"/>
                </a:lnTo>
                <a:lnTo>
                  <a:pt x="260" y="240"/>
                </a:lnTo>
                <a:lnTo>
                  <a:pt x="240" y="240"/>
                </a:lnTo>
                <a:lnTo>
                  <a:pt x="220" y="240"/>
                </a:lnTo>
                <a:lnTo>
                  <a:pt x="198" y="240"/>
                </a:lnTo>
                <a:lnTo>
                  <a:pt x="178" y="240"/>
                </a:lnTo>
                <a:lnTo>
                  <a:pt x="157" y="240"/>
                </a:lnTo>
                <a:lnTo>
                  <a:pt x="137" y="240"/>
                </a:lnTo>
                <a:lnTo>
                  <a:pt x="116" y="240"/>
                </a:lnTo>
                <a:lnTo>
                  <a:pt x="89" y="240"/>
                </a:lnTo>
                <a:lnTo>
                  <a:pt x="68" y="240"/>
                </a:lnTo>
                <a:lnTo>
                  <a:pt x="48" y="234"/>
                </a:lnTo>
                <a:lnTo>
                  <a:pt x="28" y="228"/>
                </a:lnTo>
                <a:lnTo>
                  <a:pt x="6" y="210"/>
                </a:lnTo>
                <a:lnTo>
                  <a:pt x="0" y="192"/>
                </a:lnTo>
                <a:lnTo>
                  <a:pt x="0" y="174"/>
                </a:lnTo>
                <a:lnTo>
                  <a:pt x="13" y="156"/>
                </a:lnTo>
                <a:lnTo>
                  <a:pt x="34" y="150"/>
                </a:lnTo>
                <a:lnTo>
                  <a:pt x="54" y="144"/>
                </a:lnTo>
                <a:lnTo>
                  <a:pt x="76" y="132"/>
                </a:lnTo>
                <a:lnTo>
                  <a:pt x="96" y="120"/>
                </a:lnTo>
                <a:lnTo>
                  <a:pt x="116" y="108"/>
                </a:lnTo>
                <a:lnTo>
                  <a:pt x="130" y="90"/>
                </a:lnTo>
                <a:lnTo>
                  <a:pt x="116" y="72"/>
                </a:lnTo>
                <a:lnTo>
                  <a:pt x="96" y="72"/>
                </a:lnTo>
                <a:lnTo>
                  <a:pt x="76" y="72"/>
                </a:lnTo>
                <a:lnTo>
                  <a:pt x="54" y="84"/>
                </a:lnTo>
                <a:lnTo>
                  <a:pt x="34" y="96"/>
                </a:lnTo>
                <a:lnTo>
                  <a:pt x="13" y="114"/>
                </a:lnTo>
                <a:lnTo>
                  <a:pt x="6" y="96"/>
                </a:lnTo>
                <a:lnTo>
                  <a:pt x="28" y="84"/>
                </a:lnTo>
                <a:lnTo>
                  <a:pt x="48" y="78"/>
                </a:lnTo>
                <a:lnTo>
                  <a:pt x="48" y="72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5110200" y="2990880"/>
            <a:ext cx="407880" cy="96840"/>
          </a:xfrm>
          <a:custGeom>
            <a:avLst/>
            <a:gdLst/>
            <a:ahLst/>
            <a:rect l="l" t="t" r="r" b="b"/>
            <a:pathLst>
              <a:path w="257" h="61">
                <a:moveTo>
                  <a:pt x="0" y="36"/>
                </a:moveTo>
                <a:lnTo>
                  <a:pt x="10" y="54"/>
                </a:lnTo>
                <a:lnTo>
                  <a:pt x="53" y="60"/>
                </a:lnTo>
                <a:lnTo>
                  <a:pt x="85" y="60"/>
                </a:lnTo>
                <a:lnTo>
                  <a:pt x="117" y="60"/>
                </a:lnTo>
                <a:lnTo>
                  <a:pt x="149" y="48"/>
                </a:lnTo>
                <a:lnTo>
                  <a:pt x="181" y="36"/>
                </a:lnTo>
                <a:lnTo>
                  <a:pt x="202" y="18"/>
                </a:lnTo>
                <a:lnTo>
                  <a:pt x="234" y="18"/>
                </a:lnTo>
                <a:lnTo>
                  <a:pt x="25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010280" y="1981080"/>
            <a:ext cx="1828800" cy="666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5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DESACEIT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Tambor Oleofíl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parador C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H="1">
            <a:off x="1650600" y="511812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3238560" y="2069640"/>
            <a:ext cx="0" cy="3048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4572000" y="1523880"/>
            <a:ext cx="0" cy="533520"/>
          </a:xfrm>
          <a:prstGeom prst="line">
            <a:avLst/>
          </a:prstGeom>
          <a:ln w="2844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5499000" y="1015920"/>
            <a:ext cx="1371600" cy="0"/>
          </a:xfrm>
          <a:prstGeom prst="line">
            <a:avLst/>
          </a:prstGeom>
          <a:ln w="28440">
            <a:solidFill>
              <a:srgbClr val="0066cc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380880" y="571680"/>
            <a:ext cx="1930680" cy="914400"/>
          </a:xfrm>
          <a:prstGeom prst="ellipse">
            <a:avLst/>
          </a:prstGeom>
          <a:solidFill>
            <a:srgbClr val="00ffff"/>
          </a:solidFill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33520" y="660240"/>
            <a:ext cx="1625400" cy="6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GU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CONSOR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308240" y="1587600"/>
            <a:ext cx="0" cy="609480"/>
          </a:xfrm>
          <a:prstGeom prst="line">
            <a:avLst/>
          </a:prstGeom>
          <a:ln w="28440">
            <a:solidFill>
              <a:srgbClr val="0066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5" name=""/>
          <p:cNvGraphicFramePr/>
          <p:nvPr/>
        </p:nvGraphicFramePr>
        <p:xfrm>
          <a:off x="28440" y="2209680"/>
          <a:ext cx="3171960" cy="205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40" y="2209680"/>
                    <a:ext cx="317196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fe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228600" y="1752480"/>
            <a:ext cx="8763120" cy="1295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28600" y="609480"/>
            <a:ext cx="8763120" cy="10670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fff00"/>
              </a:gs>
              <a:gs pos="100000">
                <a:srgbClr val="ff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333360" y="1027080"/>
            <a:ext cx="2095560" cy="5137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76320" bIns="7632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 DESALAD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DRENAJES TANQUES DE CRU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314280" y="2166840"/>
            <a:ext cx="2114640" cy="85968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76320" bIns="76320" anchor="t">
            <a:spAutoFit/>
          </a:bodyPr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PLUVIALES CONTAMIN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DE PLAN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DE LIMPIEZ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DE STRIPP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DE LABORATO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SOSA GASTA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324000" y="4313160"/>
            <a:ext cx="2114280" cy="79236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76320" bIns="7632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PLUVIALES CUNE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BLOWDOWN TORRES REFRIG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BLOWDOWN CALDER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AGUAS NEUTRALIZ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CADENAS- DESMINERALIZ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324000" y="5791320"/>
            <a:ext cx="2114280" cy="50832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CUNETA DE GUARD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200400" y="914400"/>
            <a:ext cx="838080" cy="45720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3352680" y="1076400"/>
            <a:ext cx="5241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CPI B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3200400" y="1695600"/>
            <a:ext cx="838080" cy="36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3209760" y="1819440"/>
            <a:ext cx="819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Y-TK-OO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3200400" y="2362320"/>
            <a:ext cx="838080" cy="45720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352680" y="2523960"/>
            <a:ext cx="5241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CPI 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3048120" y="5734080"/>
            <a:ext cx="838080" cy="57132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3098880" y="5877000"/>
            <a:ext cx="73656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BALS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DERR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572000" y="2286000"/>
            <a:ext cx="914400" cy="60948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749840" y="2523960"/>
            <a:ext cx="5745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D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4572000" y="838080"/>
            <a:ext cx="914400" cy="609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749840" y="1076400"/>
            <a:ext cx="5745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D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943600" y="838080"/>
            <a:ext cx="990720" cy="609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029280" y="1076400"/>
            <a:ext cx="819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BIOLOG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391520" y="838080"/>
            <a:ext cx="1143000" cy="6098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477200" y="1000080"/>
            <a:ext cx="97164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DECANT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SECU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7391520" y="2286000"/>
            <a:ext cx="1143000" cy="60948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7477200" y="2448000"/>
            <a:ext cx="97164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DECANT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SECU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5943600" y="2286000"/>
            <a:ext cx="990720" cy="60948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9280" y="2523960"/>
            <a:ext cx="819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BIOLOG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297240" y="4272120"/>
            <a:ext cx="1434960" cy="768240"/>
          </a:xfrm>
          <a:prstGeom prst="rect">
            <a:avLst/>
          </a:prstGeom>
          <a:solidFill>
            <a:srgbClr val="81fff8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373560" y="4354560"/>
            <a:ext cx="1284120" cy="59004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114480" bIns="1144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ISCIN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RETEN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FINA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7400880" y="4149720"/>
            <a:ext cx="1133640" cy="609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439040" y="4305240"/>
            <a:ext cx="105732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TERCI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19720" y="5791320"/>
            <a:ext cx="838080" cy="45720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4495680" y="5952960"/>
            <a:ext cx="6764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FILTR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5715000" y="5791320"/>
            <a:ext cx="838080" cy="45720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724360" y="5952960"/>
            <a:ext cx="81936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Y-TK-8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7400880" y="5257800"/>
            <a:ext cx="1133640" cy="138096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7410600" y="5800680"/>
            <a:ext cx="1114200" cy="31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TOR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REFRIGER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438280" y="1143000"/>
            <a:ext cx="45720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4038480" y="1143000"/>
            <a:ext cx="22860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67080" y="114300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267080" y="1143000"/>
            <a:ext cx="0" cy="3808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267080" y="1828800"/>
            <a:ext cx="45720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029200" y="1828800"/>
            <a:ext cx="0" cy="45720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486400" y="11430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934320" y="1143000"/>
            <a:ext cx="45720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8534520" y="1143000"/>
            <a:ext cx="3808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8915400" y="1143000"/>
            <a:ext cx="0" cy="53352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8915400" y="2666880"/>
            <a:ext cx="0" cy="9907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8915400" y="1676520"/>
            <a:ext cx="0" cy="99036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8077320" y="3657600"/>
            <a:ext cx="83808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988400" y="28954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7988400" y="3352680"/>
            <a:ext cx="3240" cy="7905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7543800" y="365760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7543800" y="2895480"/>
            <a:ext cx="0" cy="45720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543800" y="3352680"/>
            <a:ext cx="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6286680" y="3657600"/>
            <a:ext cx="12571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>
            <a:off x="5016600" y="3657600"/>
            <a:ext cx="12952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>
            <a:off x="4038120" y="3657600"/>
            <a:ext cx="9781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4038480" y="3657600"/>
            <a:ext cx="0" cy="3682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038480" y="4025880"/>
            <a:ext cx="0" cy="22860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438280" y="1371600"/>
            <a:ext cx="3049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2895480" y="1143000"/>
            <a:ext cx="3049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67080" y="15238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4724280" y="1828800"/>
            <a:ext cx="3049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2743200" y="13716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2819520" y="1371600"/>
            <a:ext cx="0" cy="91440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819520" y="2276640"/>
            <a:ext cx="0" cy="304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2438280" y="2590920"/>
            <a:ext cx="68580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3124080" y="2590920"/>
            <a:ext cx="763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2819520" y="1905120"/>
            <a:ext cx="38088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038480" y="2590920"/>
            <a:ext cx="38124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4419720" y="2590920"/>
            <a:ext cx="1522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486400" y="2590920"/>
            <a:ext cx="3808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838840" y="2590920"/>
            <a:ext cx="1047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934320" y="2590920"/>
            <a:ext cx="3808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7267680" y="2590920"/>
            <a:ext cx="1238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5130720" y="4683240"/>
            <a:ext cx="42228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6320" rIns="76320" tIns="46080" bIns="46080" anchor="t">
            <a:spAutoFit/>
          </a:bodyPr>
          <a:p>
            <a:pPr algn="ctr">
              <a:lnSpc>
                <a:spcPct val="6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4737240" y="4610160"/>
            <a:ext cx="3175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041800" y="4610160"/>
            <a:ext cx="6987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438280" y="4610160"/>
            <a:ext cx="45720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895480" y="4610160"/>
            <a:ext cx="3812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7010280" y="4419720"/>
            <a:ext cx="44460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7010280" y="4419720"/>
            <a:ext cx="0" cy="53316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7010280" y="480060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H="1">
            <a:off x="6476760" y="5257800"/>
            <a:ext cx="53316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H="1">
            <a:off x="6171840" y="525780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6172200" y="525780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6172200" y="5626080"/>
            <a:ext cx="0" cy="165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448000" y="6019920"/>
            <a:ext cx="4474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895480" y="6019920"/>
            <a:ext cx="1526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3886200" y="6019920"/>
            <a:ext cx="3808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267080" y="6019920"/>
            <a:ext cx="1526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5257800" y="6019920"/>
            <a:ext cx="38088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600880" y="6019920"/>
            <a:ext cx="1141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6553080" y="6019920"/>
            <a:ext cx="38124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6934320" y="6019920"/>
            <a:ext cx="759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 flipV="1">
            <a:off x="7010280" y="5638320"/>
            <a:ext cx="0" cy="381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V="1">
            <a:off x="7010280" y="5486040"/>
            <a:ext cx="0" cy="1522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7010280" y="5486400"/>
            <a:ext cx="304920" cy="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7315200" y="5486400"/>
            <a:ext cx="85680" cy="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7010280" y="6019920"/>
            <a:ext cx="0" cy="3808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7010280" y="6400800"/>
            <a:ext cx="0" cy="763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010280" y="6477120"/>
            <a:ext cx="3049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7315200" y="6477120"/>
            <a:ext cx="856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 flipV="1">
            <a:off x="3600360" y="1447920"/>
            <a:ext cx="0" cy="247680"/>
          </a:xfrm>
          <a:prstGeom prst="line">
            <a:avLst/>
          </a:prstGeom>
          <a:ln w="1260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 flipV="1">
            <a:off x="3600360" y="1371600"/>
            <a:ext cx="0" cy="763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952560" y="133200"/>
            <a:ext cx="7543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SQUEMA DE LA PLANTA DE TRATAMIENTO DE AGUAS INDUST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33360" y="676440"/>
            <a:ext cx="2104920" cy="24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AGUAS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24000" y="1819440"/>
            <a:ext cx="2114280" cy="24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AGUAS ACEITOS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324000" y="3327480"/>
            <a:ext cx="2114280" cy="24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AGUAS FEC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24000" y="3933720"/>
            <a:ext cx="2114280" cy="24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AGUAS LIMPI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4000" y="5419800"/>
            <a:ext cx="2114280" cy="244800"/>
          </a:xfrm>
          <a:prstGeom prst="rect">
            <a:avLst/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80"/>
                </a:solidFill>
                <a:latin typeface="Arial"/>
              </a:rPr>
              <a:t>AGUAS LADE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2438280" y="3454560"/>
            <a:ext cx="45720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5480" y="3454560"/>
            <a:ext cx="38124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 flipV="1">
            <a:off x="3276720" y="3222360"/>
            <a:ext cx="0" cy="22860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 flipV="1">
            <a:off x="3276720" y="3142800"/>
            <a:ext cx="0" cy="7956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3276720" y="3143160"/>
            <a:ext cx="12571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514760" y="3143160"/>
            <a:ext cx="1352520" cy="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5829480" y="3143160"/>
            <a:ext cx="5997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 flipV="1">
            <a:off x="6438960" y="2895480"/>
            <a:ext cx="0" cy="247680"/>
          </a:xfrm>
          <a:prstGeom prst="line">
            <a:avLst/>
          </a:prstGeom>
          <a:ln w="12600">
            <a:solidFill>
              <a:srgbClr val="00008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5029200" y="4902120"/>
            <a:ext cx="228600" cy="304920"/>
          </a:xfrm>
          <a:prstGeom prst="rtTriangle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5168880" y="4889520"/>
            <a:ext cx="763560" cy="306360"/>
          </a:xfrm>
          <a:custGeom>
            <a:avLst/>
            <a:gdLst/>
            <a:ahLst/>
            <a:rect l="l" t="t" r="r" b="b"/>
            <a:pathLst>
              <a:path w="481" h="193">
                <a:moveTo>
                  <a:pt x="0" y="48"/>
                </a:moveTo>
                <a:lnTo>
                  <a:pt x="16" y="24"/>
                </a:lnTo>
                <a:lnTo>
                  <a:pt x="40" y="8"/>
                </a:lnTo>
                <a:lnTo>
                  <a:pt x="64" y="8"/>
                </a:lnTo>
                <a:lnTo>
                  <a:pt x="88" y="24"/>
                </a:lnTo>
                <a:lnTo>
                  <a:pt x="112" y="32"/>
                </a:lnTo>
                <a:lnTo>
                  <a:pt x="136" y="40"/>
                </a:lnTo>
                <a:lnTo>
                  <a:pt x="160" y="40"/>
                </a:lnTo>
                <a:lnTo>
                  <a:pt x="184" y="32"/>
                </a:lnTo>
                <a:lnTo>
                  <a:pt x="208" y="16"/>
                </a:lnTo>
                <a:lnTo>
                  <a:pt x="232" y="0"/>
                </a:lnTo>
                <a:lnTo>
                  <a:pt x="256" y="0"/>
                </a:lnTo>
                <a:lnTo>
                  <a:pt x="280" y="0"/>
                </a:lnTo>
                <a:lnTo>
                  <a:pt x="304" y="16"/>
                </a:lnTo>
                <a:lnTo>
                  <a:pt x="328" y="32"/>
                </a:lnTo>
                <a:lnTo>
                  <a:pt x="352" y="32"/>
                </a:lnTo>
                <a:lnTo>
                  <a:pt x="376" y="40"/>
                </a:lnTo>
                <a:lnTo>
                  <a:pt x="400" y="32"/>
                </a:lnTo>
                <a:lnTo>
                  <a:pt x="424" y="32"/>
                </a:lnTo>
                <a:lnTo>
                  <a:pt x="448" y="16"/>
                </a:lnTo>
                <a:lnTo>
                  <a:pt x="472" y="8"/>
                </a:lnTo>
                <a:lnTo>
                  <a:pt x="480" y="0"/>
                </a:lnTo>
                <a:lnTo>
                  <a:pt x="480" y="0"/>
                </a:lnTo>
                <a:lnTo>
                  <a:pt x="480" y="192"/>
                </a:lnTo>
                <a:lnTo>
                  <a:pt x="144" y="192"/>
                </a:lnTo>
                <a:lnTo>
                  <a:pt x="0" y="48"/>
                </a:lnTo>
              </a:path>
            </a:pathLst>
          </a:custGeom>
          <a:solidFill>
            <a:srgbClr val="00b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 flipV="1">
            <a:off x="5089680" y="4889160"/>
            <a:ext cx="304560" cy="30492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952880" y="4889520"/>
            <a:ext cx="12708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397480" y="5197320"/>
            <a:ext cx="53352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749920" y="4610160"/>
            <a:ext cx="0" cy="15228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317520" y="6426360"/>
            <a:ext cx="254160" cy="12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17520" y="6642000"/>
            <a:ext cx="254160" cy="127080"/>
          </a:xfrm>
          <a:prstGeom prst="rect">
            <a:avLst/>
          </a:prstGeom>
          <a:solidFill>
            <a:srgbClr val="81ff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09480" y="6396120"/>
            <a:ext cx="990720" cy="2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8160" bIns="381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mplia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09480" y="6611760"/>
            <a:ext cx="838440" cy="2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38160" bIns="3816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Existen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8" name=""/>
          <p:cNvGrpSpPr/>
          <p:nvPr/>
        </p:nvGrpSpPr>
        <p:grpSpPr>
          <a:xfrm>
            <a:off x="6527880" y="2870280"/>
            <a:ext cx="1307880" cy="3746520"/>
            <a:chOff x="6527880" y="2870280"/>
            <a:chExt cx="1307880" cy="3746520"/>
          </a:xfrm>
        </p:grpSpPr>
        <p:sp>
          <p:nvSpPr>
            <p:cNvPr id="1479" name=""/>
            <p:cNvSpPr/>
            <p:nvPr/>
          </p:nvSpPr>
          <p:spPr>
            <a:xfrm>
              <a:off x="6527880" y="2870280"/>
              <a:ext cx="838080" cy="533160"/>
            </a:xfrm>
            <a:prstGeom prst="cloudCallout">
              <a:avLst>
                <a:gd name="adj1" fmla="val -12689"/>
                <a:gd name="adj2" fmla="val 4493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997680" y="6083280"/>
              <a:ext cx="838080" cy="533520"/>
            </a:xfrm>
            <a:prstGeom prst="cloudCallout">
              <a:avLst>
                <a:gd name="adj1" fmla="val -21023"/>
                <a:gd name="adj2" fmla="val 5327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1" name=""/>
          <p:cNvGrpSpPr/>
          <p:nvPr/>
        </p:nvGrpSpPr>
        <p:grpSpPr>
          <a:xfrm>
            <a:off x="2654280" y="2895480"/>
            <a:ext cx="3670200" cy="3581640"/>
            <a:chOff x="2654280" y="2895480"/>
            <a:chExt cx="3670200" cy="3581640"/>
          </a:xfrm>
        </p:grpSpPr>
        <p:sp>
          <p:nvSpPr>
            <p:cNvPr id="1482" name=""/>
            <p:cNvSpPr/>
            <p:nvPr/>
          </p:nvSpPr>
          <p:spPr>
            <a:xfrm>
              <a:off x="5715000" y="6019920"/>
              <a:ext cx="609480" cy="457200"/>
            </a:xfrm>
            <a:prstGeom prst="cloudCallout">
              <a:avLst>
                <a:gd name="adj1" fmla="val -13282"/>
                <a:gd name="adj2" fmla="val 385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225960" y="6019920"/>
              <a:ext cx="609480" cy="457200"/>
            </a:xfrm>
            <a:prstGeom prst="cloudCallout">
              <a:avLst>
                <a:gd name="adj1" fmla="val -13282"/>
                <a:gd name="adj2" fmla="val 385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933800" y="2901960"/>
              <a:ext cx="552600" cy="457200"/>
            </a:xfrm>
            <a:prstGeom prst="cloudCallout">
              <a:avLst>
                <a:gd name="adj1" fmla="val -9481"/>
                <a:gd name="adj2" fmla="val 385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654280" y="2895480"/>
              <a:ext cx="609480" cy="457200"/>
            </a:xfrm>
            <a:prstGeom prst="cloudCallout">
              <a:avLst>
                <a:gd name="adj1" fmla="val -13282"/>
                <a:gd name="adj2" fmla="val 38541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6" name=""/>
          <p:cNvSpPr/>
          <p:nvPr/>
        </p:nvSpPr>
        <p:spPr>
          <a:xfrm>
            <a:off x="7709040" y="1219320"/>
            <a:ext cx="1206360" cy="1752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7" name=""/>
          <p:cNvGrpSpPr/>
          <p:nvPr/>
        </p:nvGrpSpPr>
        <p:grpSpPr>
          <a:xfrm>
            <a:off x="4952880" y="1295280"/>
            <a:ext cx="3353040" cy="4724640"/>
            <a:chOff x="4952880" y="1295280"/>
            <a:chExt cx="3353040" cy="4724640"/>
          </a:xfrm>
        </p:grpSpPr>
        <p:sp>
          <p:nvSpPr>
            <p:cNvPr id="1488" name=""/>
            <p:cNvSpPr/>
            <p:nvPr/>
          </p:nvSpPr>
          <p:spPr>
            <a:xfrm>
              <a:off x="5638680" y="4419720"/>
              <a:ext cx="266724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952880" y="1295280"/>
              <a:ext cx="266724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0" name=""/>
          <p:cNvGrpSpPr/>
          <p:nvPr/>
        </p:nvGrpSpPr>
        <p:grpSpPr>
          <a:xfrm>
            <a:off x="2362320" y="1295280"/>
            <a:ext cx="3174840" cy="4724640"/>
            <a:chOff x="2362320" y="1295280"/>
            <a:chExt cx="3174840" cy="4724640"/>
          </a:xfrm>
        </p:grpSpPr>
        <p:sp>
          <p:nvSpPr>
            <p:cNvPr id="1491" name=""/>
            <p:cNvSpPr/>
            <p:nvPr/>
          </p:nvSpPr>
          <p:spPr>
            <a:xfrm>
              <a:off x="3022560" y="4419720"/>
              <a:ext cx="251460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2362320" y="1295280"/>
              <a:ext cx="251460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3" name=""/>
          <p:cNvGrpSpPr/>
          <p:nvPr/>
        </p:nvGrpSpPr>
        <p:grpSpPr>
          <a:xfrm>
            <a:off x="1066680" y="1295280"/>
            <a:ext cx="1828800" cy="4724640"/>
            <a:chOff x="1066680" y="1295280"/>
            <a:chExt cx="1828800" cy="4724640"/>
          </a:xfrm>
        </p:grpSpPr>
        <p:sp>
          <p:nvSpPr>
            <p:cNvPr id="1494" name=""/>
            <p:cNvSpPr/>
            <p:nvPr/>
          </p:nvSpPr>
          <p:spPr>
            <a:xfrm>
              <a:off x="1752480" y="4419720"/>
              <a:ext cx="114300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1066680" y="1295280"/>
              <a:ext cx="1143000" cy="1600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9ff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406440" y="870120"/>
            <a:ext cx="342720" cy="5778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254160" y="1454040"/>
            <a:ext cx="653760" cy="254160"/>
          </a:xfrm>
          <a:custGeom>
            <a:avLst/>
            <a:gdLst>
              <a:gd name="textAreaLeft" fmla="*/ 143640 w 653760"/>
              <a:gd name="textAreaRight" fmla="*/ 510120 w 653760"/>
              <a:gd name="textAreaTop" fmla="*/ 55800 h 254160"/>
              <a:gd name="textAreaBottom" fmla="*/ 19836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263520" y="1717560"/>
            <a:ext cx="644400" cy="33336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447920" y="1905120"/>
            <a:ext cx="685800" cy="761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447920" y="26668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1138320" y="1905120"/>
            <a:ext cx="419040" cy="153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213372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447920" y="207648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143000" y="2063880"/>
            <a:ext cx="5144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655640" y="19051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1143000" y="1606320"/>
            <a:ext cx="0" cy="45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2449440" y="1911240"/>
            <a:ext cx="444600" cy="749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906640" y="1911240"/>
            <a:ext cx="444600" cy="74952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244332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290340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335772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2443320" y="26668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92680" y="1973160"/>
            <a:ext cx="679320" cy="45900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657600" y="1905120"/>
            <a:ext cx="1143000" cy="75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rot="10800000">
            <a:off x="3892320" y="2424240"/>
            <a:ext cx="677880" cy="2556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V="1">
            <a:off x="3657600" y="1606680"/>
            <a:ext cx="0" cy="37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65760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892680" y="1981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3892680" y="2444760"/>
            <a:ext cx="33012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 flipV="1">
            <a:off x="4229280" y="2425680"/>
            <a:ext cx="34272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 flipV="1">
            <a:off x="4572000" y="1990800"/>
            <a:ext cx="0" cy="44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4572000" y="1987560"/>
            <a:ext cx="23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4807080" y="1625760"/>
            <a:ext cx="612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635880" y="1973160"/>
            <a:ext cx="679320" cy="45900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400800" y="1905120"/>
            <a:ext cx="1143000" cy="759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rot="10800000">
            <a:off x="6635520" y="2428560"/>
            <a:ext cx="677880" cy="250920"/>
          </a:xfrm>
          <a:prstGeom prst="triangle">
            <a:avLst>
              <a:gd name="adj" fmla="val 4999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 flipV="1">
            <a:off x="6405120" y="1599840"/>
            <a:ext cx="18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6400800" y="1981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6635880" y="19810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6635880" y="2444760"/>
            <a:ext cx="33660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 flipV="1">
            <a:off x="6972480" y="2425680"/>
            <a:ext cx="34272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 flipV="1">
            <a:off x="7315200" y="1980720"/>
            <a:ext cx="0" cy="45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315200" y="1978200"/>
            <a:ext cx="22860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 flipH="1" flipV="1">
            <a:off x="7548120" y="1599840"/>
            <a:ext cx="18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5181480" y="1905120"/>
            <a:ext cx="990720" cy="76176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5029200" y="1905120"/>
            <a:ext cx="304920" cy="152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 flipV="1">
            <a:off x="5029200" y="1609200"/>
            <a:ext cx="0" cy="46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029200" y="207000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181480" y="1974960"/>
            <a:ext cx="0" cy="698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187960" y="2673360"/>
            <a:ext cx="9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V="1">
            <a:off x="6184800" y="1593360"/>
            <a:ext cx="0" cy="10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flipV="1" rot="10800000">
            <a:off x="8153280" y="2521080"/>
            <a:ext cx="495360" cy="139680"/>
          </a:xfrm>
          <a:custGeom>
            <a:avLst/>
            <a:gdLst>
              <a:gd name="textAreaLeft" fmla="*/ 108720 w 495360"/>
              <a:gd name="textAreaRight" fmla="*/ 386640 w 495360"/>
              <a:gd name="textAreaTop" fmla="*/ 30600 h 139680"/>
              <a:gd name="textAreaBottom" fmla="*/ 10908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7753320" y="1905120"/>
            <a:ext cx="190440" cy="609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959600" y="1905120"/>
            <a:ext cx="181080" cy="60948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 flipH="1" flipV="1">
            <a:off x="7757640" y="1600200"/>
            <a:ext cx="18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 flipH="1" flipV="1">
            <a:off x="8151840" y="1600200"/>
            <a:ext cx="144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7759800" y="2514600"/>
            <a:ext cx="77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8140680" y="2508120"/>
            <a:ext cx="12708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8267760" y="2660760"/>
            <a:ext cx="26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 flipV="1">
            <a:off x="8534520" y="2514600"/>
            <a:ext cx="13968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15960" y="4959360"/>
            <a:ext cx="216000" cy="139680"/>
          </a:xfrm>
          <a:custGeom>
            <a:avLst/>
            <a:gdLst>
              <a:gd name="textAreaLeft" fmla="*/ 0 w 216000"/>
              <a:gd name="textAreaRight" fmla="*/ 216360 w 21600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 flipH="1">
            <a:off x="1377360" y="4959360"/>
            <a:ext cx="215640" cy="139680"/>
          </a:xfrm>
          <a:custGeom>
            <a:avLst/>
            <a:gdLst>
              <a:gd name="textAreaLeft" fmla="*/ -360 w 215640"/>
              <a:gd name="textAreaRight" fmla="*/ 215640 w 2156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615960" y="5035680"/>
            <a:ext cx="977760" cy="90144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924200" y="5029200"/>
            <a:ext cx="895320" cy="7621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924200" y="580068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824120" y="5029200"/>
            <a:ext cx="419040" cy="1540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 flipV="1">
            <a:off x="281952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1920960" y="5186520"/>
            <a:ext cx="0" cy="604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 flipV="1">
            <a:off x="1828800" y="5186520"/>
            <a:ext cx="3952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227320" y="5029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1828800" y="471780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35240" y="5035680"/>
            <a:ext cx="444600" cy="749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592440" y="5035680"/>
            <a:ext cx="444600" cy="74916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 flipV="1">
            <a:off x="312912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 flipV="1">
            <a:off x="358920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 flipV="1">
            <a:off x="4043520" y="472428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129120" y="5791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546440" y="5097600"/>
            <a:ext cx="679680" cy="458640"/>
          </a:xfrm>
          <a:prstGeom prst="rect">
            <a:avLst/>
          </a:prstGeom>
          <a:solidFill>
            <a:srgbClr val="ffcc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311720" y="5029200"/>
            <a:ext cx="1143000" cy="76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 rot="10800000">
            <a:off x="4546080" y="5548320"/>
            <a:ext cx="677880" cy="2556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 flipV="1">
            <a:off x="4307040" y="472392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431172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54644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4546440" y="5568840"/>
            <a:ext cx="33048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 flipV="1">
            <a:off x="4883040" y="5549760"/>
            <a:ext cx="34308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 flipV="1">
            <a:off x="5226120" y="51055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235480" y="5102280"/>
            <a:ext cx="2224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 flipH="1" flipV="1">
            <a:off x="5459400" y="472392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867280" y="5029200"/>
            <a:ext cx="990720" cy="76212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715000" y="5029200"/>
            <a:ext cx="304920" cy="152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 flipV="1">
            <a:off x="5715000" y="47242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715000" y="5187960"/>
            <a:ext cx="14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867280" y="5118120"/>
            <a:ext cx="0" cy="673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 flipV="1">
            <a:off x="5873760" y="5796000"/>
            <a:ext cx="9889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 flipV="1">
            <a:off x="6870600" y="4717800"/>
            <a:ext cx="0" cy="107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7346880" y="5097600"/>
            <a:ext cx="679680" cy="458640"/>
          </a:xfrm>
          <a:prstGeom prst="rect">
            <a:avLst/>
          </a:prstGeom>
          <a:solidFill>
            <a:srgbClr val="33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7112160" y="5029200"/>
            <a:ext cx="1143000" cy="7632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 rot="10800000">
            <a:off x="7346520" y="5548320"/>
            <a:ext cx="677880" cy="255600"/>
          </a:xfrm>
          <a:prstGeom prst="triangle">
            <a:avLst>
              <a:gd name="adj" fmla="val 49995"/>
            </a:avLst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 flipH="1" flipV="1">
            <a:off x="7110000" y="4723920"/>
            <a:ext cx="180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7112160" y="51055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734688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7346880" y="5568840"/>
            <a:ext cx="330120" cy="235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 flipV="1">
            <a:off x="7683480" y="5549760"/>
            <a:ext cx="343080" cy="254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 flipV="1">
            <a:off x="8026560" y="5105520"/>
            <a:ext cx="0" cy="45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8026560" y="5102280"/>
            <a:ext cx="234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 flipH="1" flipV="1">
            <a:off x="8259840" y="4723920"/>
            <a:ext cx="1440" cy="374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52280" y="23623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 flipV="1">
            <a:off x="533520" y="205704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 flipV="1">
            <a:off x="733320" y="2057040"/>
            <a:ext cx="0" cy="314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43040" y="2362320"/>
            <a:ext cx="628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1530360" y="1987560"/>
            <a:ext cx="63360" cy="13968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 flipV="1">
            <a:off x="1981080" y="1447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1981080" y="144792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 flipV="1">
            <a:off x="2590920" y="14475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 flipV="1">
            <a:off x="274320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2133720" y="244476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2343240" y="2438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2343240" y="3044880"/>
            <a:ext cx="342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2146320" y="2616120"/>
            <a:ext cx="12384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2266920" y="2629080"/>
            <a:ext cx="0" cy="53316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2266920" y="3165480"/>
            <a:ext cx="42876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0400" y="205740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5812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3581280" y="26668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4343400" y="2666880"/>
            <a:ext cx="30492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4648320" y="2666880"/>
            <a:ext cx="0" cy="53352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648320" y="3205080"/>
            <a:ext cx="30456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572000" y="20574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724280" y="20574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724280" y="3049560"/>
            <a:ext cx="219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4648320" y="1905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105520" y="1905120"/>
            <a:ext cx="0" cy="1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715000" y="2666880"/>
            <a:ext cx="0" cy="609840"/>
          </a:xfrm>
          <a:prstGeom prst="line">
            <a:avLst/>
          </a:prstGeom>
          <a:ln w="12600">
            <a:solidFill>
              <a:srgbClr val="3399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257800" y="259092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264280" y="24494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6560" y="24494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5568840" y="24494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5721480" y="244944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5873760" y="244944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6181560" y="2590920"/>
            <a:ext cx="15264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343560" y="2600280"/>
            <a:ext cx="0" cy="49536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6343560" y="3095640"/>
            <a:ext cx="30492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6191280" y="218124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7324560" y="2181240"/>
            <a:ext cx="362160" cy="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7419960" y="2181240"/>
            <a:ext cx="0" cy="126684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 flipV="1">
            <a:off x="7448400" y="3438000"/>
            <a:ext cx="1457640" cy="324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8906040" y="3438360"/>
            <a:ext cx="0" cy="156240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8680320" y="1898640"/>
            <a:ext cx="165240" cy="824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36360" bIns="36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8258040" y="5000760"/>
            <a:ext cx="828720" cy="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8305920" y="2666880"/>
            <a:ext cx="0" cy="21924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8305920" y="2895480"/>
            <a:ext cx="60012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8153280" y="1911240"/>
            <a:ext cx="514440" cy="596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8852040" y="1892160"/>
            <a:ext cx="0" cy="88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8705880" y="1943280"/>
            <a:ext cx="304920" cy="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127080" y="5321160"/>
            <a:ext cx="46980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120600" y="5721480"/>
            <a:ext cx="476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1600200" y="548640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 flipV="1">
            <a:off x="1685880" y="50292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1685880" y="5029200"/>
            <a:ext cx="142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987560" y="5121360"/>
            <a:ext cx="63360" cy="139680"/>
          </a:xfrm>
          <a:prstGeom prst="diamond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 flipV="1">
            <a:off x="2666880" y="45716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666880" y="457200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 flipV="1">
            <a:off x="3276720" y="45716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 flipV="1">
            <a:off x="3429000" y="4419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2819520" y="55627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048120" y="556272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048120" y="61736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2819520" y="5715000"/>
            <a:ext cx="11412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2940120" y="5715000"/>
            <a:ext cx="0" cy="60948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952720" y="6326280"/>
            <a:ext cx="29520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3886200" y="509256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191120" y="5095800"/>
            <a:ext cx="0" cy="69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191120" y="579132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029200" y="5791320"/>
            <a:ext cx="22860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257800" y="5791320"/>
            <a:ext cx="0" cy="53316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257800" y="6319800"/>
            <a:ext cx="48564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5229360" y="517212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5486400" y="518148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489640" y="616752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 flipH="1" flipV="1">
            <a:off x="7954560" y="1600200"/>
            <a:ext cx="180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5943600" y="567684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5950080" y="55357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102360" y="5535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254640" y="5535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407280" y="553572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6559560" y="5535720"/>
            <a:ext cx="1843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400800" y="5791320"/>
            <a:ext cx="0" cy="533160"/>
          </a:xfrm>
          <a:prstGeom prst="line">
            <a:avLst/>
          </a:prstGeom>
          <a:ln w="12600">
            <a:solidFill>
              <a:srgbClr val="3399ff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5791320" y="4959360"/>
            <a:ext cx="0" cy="17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410080" y="496584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6381720" y="4495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6864480" y="5257800"/>
            <a:ext cx="463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870600" y="5670720"/>
            <a:ext cx="95400" cy="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966000" y="5676840"/>
            <a:ext cx="0" cy="533520"/>
          </a:xfrm>
          <a:prstGeom prst="line">
            <a:avLst/>
          </a:prstGeom>
          <a:ln w="1260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575480" y="6019920"/>
            <a:ext cx="965160" cy="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 flipV="1">
            <a:off x="8534520" y="5009760"/>
            <a:ext cx="0" cy="1009800"/>
          </a:xfrm>
          <a:prstGeom prst="line">
            <a:avLst/>
          </a:prstGeom>
          <a:ln w="12600">
            <a:solidFill>
              <a:srgbClr val="3399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 flipV="1">
            <a:off x="8674200" y="1981080"/>
            <a:ext cx="177840" cy="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84320" y="1739880"/>
            <a:ext cx="80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ALSAS RETEN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0480" y="2217600"/>
            <a:ext cx="501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U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0" y="2382840"/>
            <a:ext cx="762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EITOS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447920" y="2452680"/>
            <a:ext cx="68580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PAR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2743200" y="2973240"/>
            <a:ext cx="533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E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2743200" y="3106800"/>
            <a:ext cx="533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413080" y="2224080"/>
            <a:ext cx="53316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AM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EZC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870280" y="2224080"/>
            <a:ext cx="5331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AM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LOCU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390760" y="896760"/>
            <a:ext cx="71424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QUIM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3917880" y="2224080"/>
            <a:ext cx="63504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LOT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4971960" y="2987640"/>
            <a:ext cx="533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A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4971960" y="3139920"/>
            <a:ext cx="533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 flipV="1">
            <a:off x="571500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5349960" y="896760"/>
            <a:ext cx="71424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QUIM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5791320" y="3164040"/>
            <a:ext cx="380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6629400" y="297180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ANGOS BIOLOG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6597720" y="2224080"/>
            <a:ext cx="76176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ECANT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U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5334120" y="2173320"/>
            <a:ext cx="685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IOLOG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429680" y="2585880"/>
            <a:ext cx="76176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RATAMIEN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ERCI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 flipV="1">
            <a:off x="8432640" y="1295280"/>
            <a:ext cx="0" cy="609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8074080" y="896760"/>
            <a:ext cx="71424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QUIM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8407440" y="2732040"/>
            <a:ext cx="50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8426520" y="1538280"/>
            <a:ext cx="71748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UA A RE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UPER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8674200" y="176508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797960" y="3233880"/>
            <a:ext cx="660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XCES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076560" y="4021200"/>
            <a:ext cx="71424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QUIM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6016680" y="4097160"/>
            <a:ext cx="714240" cy="361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76320" bIns="7632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DU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QUIM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136440" y="5195880"/>
            <a:ext cx="43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U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5680" y="536724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PROCES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44280" y="5575320"/>
            <a:ext cx="58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RENAJ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3360" y="5754600"/>
            <a:ext cx="584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E CRUD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52600" y="5977080"/>
            <a:ext cx="107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TANQUE DE HOMOGENEIZ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025720" y="5348160"/>
            <a:ext cx="68580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PAR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P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3098880" y="5348160"/>
            <a:ext cx="53316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AM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MEZCL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3556080" y="5348160"/>
            <a:ext cx="533160" cy="3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CAMAR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LOCU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276720" y="6099120"/>
            <a:ext cx="53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CEI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276720" y="6264360"/>
            <a:ext cx="53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4584600" y="5348160"/>
            <a:ext cx="63504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LOTAC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A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791320" y="6099120"/>
            <a:ext cx="53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AT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791320" y="6264360"/>
            <a:ext cx="53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LOD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064200" y="5348160"/>
            <a:ext cx="635040" cy="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BIOLOGIC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6477120" y="6148440"/>
            <a:ext cx="533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I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7308720" y="5348160"/>
            <a:ext cx="76212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DECANTAD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SECUNDARI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959520" y="6210360"/>
            <a:ext cx="196920" cy="0"/>
          </a:xfrm>
          <a:prstGeom prst="line">
            <a:avLst/>
          </a:prstGeom>
          <a:ln w="12600">
            <a:solidFill>
              <a:srgbClr val="ff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7124760" y="6173640"/>
            <a:ext cx="66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FANGOS BIOLOGIC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7518240" y="5925960"/>
            <a:ext cx="1067040" cy="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GUAS PLUVIA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7772400" y="6091200"/>
            <a:ext cx="1066680" cy="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NO CONTAMINAD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8534520" y="5151600"/>
            <a:ext cx="635040" cy="2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0" bIns="0" anchor="t">
            <a:spAutoFit/>
          </a:bodyPr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FLUENT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AL M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1600200" y="76320"/>
            <a:ext cx="6400800" cy="4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EAS DE TRATAMIENTO DE EFLUENT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1371600" y="3454560"/>
            <a:ext cx="6400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AS DE AGUAS ACEITO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371600" y="6400800"/>
            <a:ext cx="6400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NEA AGUAS DE PROC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23840" y="3809880"/>
            <a:ext cx="8915400" cy="0"/>
          </a:xfrm>
          <a:prstGeom prst="line">
            <a:avLst/>
          </a:prstGeom>
          <a:ln w="12600">
            <a:solidFill>
              <a:srgbClr val="b2b2b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23840" y="6734160"/>
            <a:ext cx="8915400" cy="0"/>
          </a:xfrm>
          <a:prstGeom prst="line">
            <a:avLst/>
          </a:prstGeom>
          <a:ln w="12600">
            <a:solidFill>
              <a:srgbClr val="b2b2b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/>
          <p:nvPr/>
        </p:nvSpPr>
        <p:spPr>
          <a:xfrm rot="16200000">
            <a:off x="-386280" y="1010160"/>
            <a:ext cx="1738080" cy="30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ANGOS BIOLOG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219320" y="1752480"/>
            <a:ext cx="990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2819520" y="990720"/>
            <a:ext cx="1828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 rot="10800000">
            <a:off x="2828880" y="1457280"/>
            <a:ext cx="1819440" cy="37152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4648320" y="2209680"/>
            <a:ext cx="990360" cy="4572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 flipH="1" flipV="1" rot="16200000">
            <a:off x="6292080" y="2253960"/>
            <a:ext cx="596880" cy="368280"/>
          </a:xfrm>
          <a:custGeom>
            <a:avLst/>
            <a:gdLst>
              <a:gd name="textAreaLeft" fmla="*/ 131040 w 596880"/>
              <a:gd name="textAreaRight" fmla="*/ 465840 w 596880"/>
              <a:gd name="textAreaTop" fmla="*/ 81000 h 368280"/>
              <a:gd name="textAreaBottom" fmla="*/ 28728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1219320" y="22096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 flipV="1">
            <a:off x="1219320" y="1523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 flipV="1">
            <a:off x="2209680" y="15235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 flipV="1">
            <a:off x="2819520" y="685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2819520" y="144792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 flipV="1">
            <a:off x="3733920" y="1447920"/>
            <a:ext cx="91440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4648320" y="1980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5638680" y="19807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4648320" y="266688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 rot="16200000">
            <a:off x="-46080" y="3771720"/>
            <a:ext cx="1054080" cy="30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 rot="16200000">
            <a:off x="-46080" y="5181480"/>
            <a:ext cx="1054080" cy="3052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219320" y="4572000"/>
            <a:ext cx="99036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219320" y="502920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121932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 flipH="1">
            <a:off x="2666880" y="83808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2666880" y="685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4800600" y="6854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4647960" y="8380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2819520" y="4267080"/>
            <a:ext cx="1828800" cy="4572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 rot="10800000">
            <a:off x="2828880" y="4727520"/>
            <a:ext cx="1819440" cy="3780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2819520" y="3962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819520" y="472428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 flipV="1">
            <a:off x="3733920" y="4723920"/>
            <a:ext cx="91440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 flipH="1">
            <a:off x="2666880" y="41148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 flipV="1">
            <a:off x="2666880" y="3962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V="1">
            <a:off x="4800600" y="3962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4647960" y="411480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 flipV="1" rot="16200000">
            <a:off x="6215760" y="5759280"/>
            <a:ext cx="596880" cy="368280"/>
          </a:xfrm>
          <a:custGeom>
            <a:avLst/>
            <a:gdLst>
              <a:gd name="textAreaLeft" fmla="*/ 131040 w 596880"/>
              <a:gd name="textAreaRight" fmla="*/ 465840 w 596880"/>
              <a:gd name="textAreaTop" fmla="*/ 81000 h 368280"/>
              <a:gd name="textAreaBottom" fmla="*/ 287280 h 36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1" y="21600"/>
                </a:lnTo>
                <a:lnTo>
                  <a:pt x="5399" y="21600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 flipV="1">
            <a:off x="4648320" y="3962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 flipV="1">
            <a:off x="4648320" y="68544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638280" y="11048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638280" y="8762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638280" y="133344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714680" y="876240"/>
            <a:ext cx="0" cy="809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2882880" y="255240"/>
            <a:ext cx="1738440" cy="30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OS QUIM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3733920" y="56196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2286000" y="1752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4038480" y="17524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4952880" y="1752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4648320" y="1104840"/>
            <a:ext cx="542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5181480" y="1104840"/>
            <a:ext cx="0" cy="1028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5638680" y="24382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6781680" y="24382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5861160" y="1696680"/>
            <a:ext cx="172548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AS 2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638280" y="35910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638280" y="37432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38280" y="389556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8280" y="40482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638280" y="420048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1704960" y="3591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882880" y="3531600"/>
            <a:ext cx="1738440" cy="305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DUCTOS QUIMIC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3733920" y="384804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343400" y="5791320"/>
            <a:ext cx="1295280" cy="4572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 flipV="1">
            <a:off x="434340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 flipV="1">
            <a:off x="5638680" y="556236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343400" y="62485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2209680" y="4800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505400" y="4800600"/>
            <a:ext cx="504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648320" y="44956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>
            <a:off x="5000760" y="4809960"/>
            <a:ext cx="0" cy="94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>
            <a:off x="5324400" y="4505400"/>
            <a:ext cx="0" cy="124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>
            <a:off x="638280" y="524844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38280" y="5400720"/>
            <a:ext cx="4038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2209680" y="43430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>
            <a:off x="4676760" y="5248440"/>
            <a:ext cx="0" cy="49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5638680" y="59436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6705720" y="594360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7315200" y="5943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 rot="19980000">
            <a:off x="7095600" y="5985000"/>
            <a:ext cx="1408320" cy="164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7924680" y="2438280"/>
            <a:ext cx="0" cy="3429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8458200" y="58672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886120" y="1099800"/>
            <a:ext cx="1695240" cy="30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LOT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886120" y="4376160"/>
            <a:ext cx="1695240" cy="305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SPESAD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5781600" y="5138280"/>
            <a:ext cx="16956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ENTRIFUGA  3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5838840" y="6328800"/>
            <a:ext cx="1305000" cy="30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76320" bIns="7632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EI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6477120" y="61722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7645320" y="6281280"/>
            <a:ext cx="1368360" cy="22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b" anchorCtr="1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ONA INERTIZ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 flipV="1">
            <a:off x="7238880" y="6248160"/>
            <a:ext cx="7632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7315200" y="6248520"/>
            <a:ext cx="76320" cy="759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 flipV="1">
            <a:off x="7391520" y="6171840"/>
            <a:ext cx="7596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7467480" y="6172200"/>
            <a:ext cx="76320" cy="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V="1">
            <a:off x="7543800" y="6095880"/>
            <a:ext cx="76320" cy="1526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620120" y="6095880"/>
            <a:ext cx="75960" cy="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 flipV="1">
            <a:off x="7696080" y="6019560"/>
            <a:ext cx="7632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7772400" y="6019920"/>
            <a:ext cx="76320" cy="759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 flipV="1">
            <a:off x="7848720" y="5943240"/>
            <a:ext cx="7596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7924680" y="5943600"/>
            <a:ext cx="76320" cy="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 flipV="1">
            <a:off x="8001000" y="5867280"/>
            <a:ext cx="76320" cy="15264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8077320" y="5867280"/>
            <a:ext cx="75960" cy="7632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flipV="1">
            <a:off x="8153280" y="5790960"/>
            <a:ext cx="7632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8229600" y="5791320"/>
            <a:ext cx="76320" cy="7596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8305920" y="5714640"/>
            <a:ext cx="75960" cy="152280"/>
          </a:xfrm>
          <a:prstGeom prst="line">
            <a:avLst/>
          </a:prstGeom>
          <a:ln w="255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58760" y="158760"/>
            <a:ext cx="8826480" cy="303516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58760" y="3282840"/>
            <a:ext cx="8826480" cy="3416400"/>
          </a:xfrm>
          <a:prstGeom prst="rect">
            <a:avLst/>
          </a:prstGeom>
          <a:noFill/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590840" y="286704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TAMIENTO DE FANGOS BIOLOG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676520" y="6400800"/>
            <a:ext cx="4800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TAMIENTO DE LODOS QUIM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"/>
          <p:cNvSpPr/>
          <p:nvPr/>
        </p:nvSpPr>
        <p:spPr>
          <a:xfrm flipH="1">
            <a:off x="1854360" y="390600"/>
            <a:ext cx="2962080" cy="1508040"/>
          </a:xfrm>
          <a:custGeom>
            <a:avLst/>
            <a:gdLst>
              <a:gd name="textAreaLeft" fmla="*/ 109440 w 2962080"/>
              <a:gd name="textAreaRight" fmla="*/ 2852640 w 2962080"/>
              <a:gd name="textAreaTop" fmla="*/ 55800 h 1508040"/>
              <a:gd name="textAreaBottom" fmla="*/ 1204560 h 15080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7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827720" y="449280"/>
            <a:ext cx="289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¿Alguna Pregunt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6192720" y="1089000"/>
            <a:ext cx="270000" cy="193680"/>
          </a:xfrm>
          <a:custGeom>
            <a:avLst/>
            <a:gdLst/>
            <a:ahLst/>
            <a:rect l="l" t="t" r="r" b="b"/>
            <a:pathLst>
              <a:path w="170" h="122">
                <a:moveTo>
                  <a:pt x="81" y="0"/>
                </a:moveTo>
                <a:lnTo>
                  <a:pt x="100" y="8"/>
                </a:lnTo>
                <a:lnTo>
                  <a:pt x="128" y="6"/>
                </a:lnTo>
                <a:lnTo>
                  <a:pt x="147" y="6"/>
                </a:lnTo>
                <a:lnTo>
                  <a:pt x="165" y="20"/>
                </a:lnTo>
                <a:lnTo>
                  <a:pt x="169" y="41"/>
                </a:lnTo>
                <a:lnTo>
                  <a:pt x="169" y="58"/>
                </a:lnTo>
                <a:lnTo>
                  <a:pt x="165" y="84"/>
                </a:lnTo>
                <a:lnTo>
                  <a:pt x="162" y="95"/>
                </a:lnTo>
                <a:lnTo>
                  <a:pt x="145" y="121"/>
                </a:lnTo>
                <a:lnTo>
                  <a:pt x="136" y="121"/>
                </a:lnTo>
                <a:lnTo>
                  <a:pt x="117" y="112"/>
                </a:lnTo>
                <a:lnTo>
                  <a:pt x="63" y="77"/>
                </a:lnTo>
                <a:lnTo>
                  <a:pt x="0" y="25"/>
                </a:lnTo>
                <a:lnTo>
                  <a:pt x="0" y="0"/>
                </a:lnTo>
                <a:lnTo>
                  <a:pt x="81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d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3763800" y="1754280"/>
            <a:ext cx="2803680" cy="1555560"/>
          </a:xfrm>
          <a:custGeom>
            <a:avLst/>
            <a:gdLst/>
            <a:ahLst/>
            <a:rect l="l" t="t" r="r" b="b"/>
            <a:pathLst>
              <a:path w="1766" h="980">
                <a:moveTo>
                  <a:pt x="10" y="760"/>
                </a:moveTo>
                <a:lnTo>
                  <a:pt x="0" y="700"/>
                </a:lnTo>
                <a:lnTo>
                  <a:pt x="6" y="674"/>
                </a:lnTo>
                <a:lnTo>
                  <a:pt x="14" y="647"/>
                </a:lnTo>
                <a:lnTo>
                  <a:pt x="42" y="599"/>
                </a:lnTo>
                <a:lnTo>
                  <a:pt x="64" y="568"/>
                </a:lnTo>
                <a:lnTo>
                  <a:pt x="87" y="541"/>
                </a:lnTo>
                <a:lnTo>
                  <a:pt x="123" y="511"/>
                </a:lnTo>
                <a:lnTo>
                  <a:pt x="164" y="489"/>
                </a:lnTo>
                <a:lnTo>
                  <a:pt x="205" y="480"/>
                </a:lnTo>
                <a:lnTo>
                  <a:pt x="227" y="480"/>
                </a:lnTo>
                <a:lnTo>
                  <a:pt x="244" y="480"/>
                </a:lnTo>
                <a:lnTo>
                  <a:pt x="255" y="459"/>
                </a:lnTo>
                <a:lnTo>
                  <a:pt x="262" y="428"/>
                </a:lnTo>
                <a:lnTo>
                  <a:pt x="282" y="383"/>
                </a:lnTo>
                <a:lnTo>
                  <a:pt x="300" y="348"/>
                </a:lnTo>
                <a:lnTo>
                  <a:pt x="318" y="322"/>
                </a:lnTo>
                <a:lnTo>
                  <a:pt x="343" y="288"/>
                </a:lnTo>
                <a:lnTo>
                  <a:pt x="377" y="243"/>
                </a:lnTo>
                <a:lnTo>
                  <a:pt x="395" y="225"/>
                </a:lnTo>
                <a:lnTo>
                  <a:pt x="432" y="184"/>
                </a:lnTo>
                <a:lnTo>
                  <a:pt x="454" y="167"/>
                </a:lnTo>
                <a:lnTo>
                  <a:pt x="495" y="133"/>
                </a:lnTo>
                <a:lnTo>
                  <a:pt x="532" y="105"/>
                </a:lnTo>
                <a:lnTo>
                  <a:pt x="559" y="88"/>
                </a:lnTo>
                <a:lnTo>
                  <a:pt x="604" y="61"/>
                </a:lnTo>
                <a:lnTo>
                  <a:pt x="667" y="34"/>
                </a:lnTo>
                <a:lnTo>
                  <a:pt x="730" y="9"/>
                </a:lnTo>
                <a:lnTo>
                  <a:pt x="748" y="0"/>
                </a:lnTo>
                <a:lnTo>
                  <a:pt x="1496" y="192"/>
                </a:lnTo>
                <a:lnTo>
                  <a:pt x="1549" y="227"/>
                </a:lnTo>
                <a:lnTo>
                  <a:pt x="1577" y="288"/>
                </a:lnTo>
                <a:lnTo>
                  <a:pt x="1619" y="278"/>
                </a:lnTo>
                <a:lnTo>
                  <a:pt x="1650" y="274"/>
                </a:lnTo>
                <a:lnTo>
                  <a:pt x="1686" y="274"/>
                </a:lnTo>
                <a:lnTo>
                  <a:pt x="1708" y="282"/>
                </a:lnTo>
                <a:lnTo>
                  <a:pt x="1723" y="304"/>
                </a:lnTo>
                <a:lnTo>
                  <a:pt x="1731" y="330"/>
                </a:lnTo>
                <a:lnTo>
                  <a:pt x="1741" y="365"/>
                </a:lnTo>
                <a:lnTo>
                  <a:pt x="1746" y="393"/>
                </a:lnTo>
                <a:lnTo>
                  <a:pt x="1750" y="419"/>
                </a:lnTo>
                <a:lnTo>
                  <a:pt x="1754" y="454"/>
                </a:lnTo>
                <a:lnTo>
                  <a:pt x="1754" y="499"/>
                </a:lnTo>
                <a:lnTo>
                  <a:pt x="1754" y="559"/>
                </a:lnTo>
                <a:lnTo>
                  <a:pt x="1754" y="603"/>
                </a:lnTo>
                <a:lnTo>
                  <a:pt x="1754" y="647"/>
                </a:lnTo>
                <a:lnTo>
                  <a:pt x="1750" y="709"/>
                </a:lnTo>
                <a:lnTo>
                  <a:pt x="1756" y="760"/>
                </a:lnTo>
                <a:lnTo>
                  <a:pt x="1765" y="821"/>
                </a:lnTo>
                <a:lnTo>
                  <a:pt x="1693" y="891"/>
                </a:lnTo>
                <a:lnTo>
                  <a:pt x="1630" y="926"/>
                </a:lnTo>
                <a:lnTo>
                  <a:pt x="595" y="969"/>
                </a:lnTo>
                <a:lnTo>
                  <a:pt x="118" y="979"/>
                </a:lnTo>
                <a:lnTo>
                  <a:pt x="55" y="848"/>
                </a:lnTo>
                <a:lnTo>
                  <a:pt x="10" y="760"/>
                </a:lnTo>
              </a:path>
            </a:pathLst>
          </a:custGeom>
          <a:solidFill>
            <a:srgbClr val="7a7a7a"/>
          </a:solidFill>
          <a:ln cap="rnd" w="12600">
            <a:solidFill>
              <a:srgbClr val="7a7a7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635360" y="2917800"/>
            <a:ext cx="1359000" cy="141480"/>
          </a:xfrm>
          <a:custGeom>
            <a:avLst/>
            <a:gdLst/>
            <a:ahLst/>
            <a:rect l="l" t="t" r="r" b="b"/>
            <a:pathLst>
              <a:path w="856" h="89">
                <a:moveTo>
                  <a:pt x="82" y="79"/>
                </a:moveTo>
                <a:lnTo>
                  <a:pt x="756" y="88"/>
                </a:lnTo>
                <a:lnTo>
                  <a:pt x="855" y="18"/>
                </a:lnTo>
                <a:lnTo>
                  <a:pt x="776" y="11"/>
                </a:lnTo>
                <a:lnTo>
                  <a:pt x="696" y="6"/>
                </a:lnTo>
                <a:lnTo>
                  <a:pt x="616" y="3"/>
                </a:lnTo>
                <a:lnTo>
                  <a:pt x="536" y="1"/>
                </a:lnTo>
                <a:lnTo>
                  <a:pt x="456" y="0"/>
                </a:lnTo>
                <a:lnTo>
                  <a:pt x="376" y="1"/>
                </a:lnTo>
                <a:lnTo>
                  <a:pt x="297" y="4"/>
                </a:lnTo>
                <a:lnTo>
                  <a:pt x="216" y="8"/>
                </a:lnTo>
                <a:lnTo>
                  <a:pt x="137" y="13"/>
                </a:lnTo>
                <a:lnTo>
                  <a:pt x="57" y="21"/>
                </a:lnTo>
                <a:lnTo>
                  <a:pt x="0" y="27"/>
                </a:lnTo>
                <a:lnTo>
                  <a:pt x="82" y="79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4608360" y="2970360"/>
            <a:ext cx="1401840" cy="129960"/>
          </a:xfrm>
          <a:custGeom>
            <a:avLst/>
            <a:gdLst/>
            <a:ahLst/>
            <a:rect l="l" t="t" r="r" b="b"/>
            <a:pathLst>
              <a:path w="883" h="82">
                <a:moveTo>
                  <a:pt x="100" y="81"/>
                </a:moveTo>
                <a:lnTo>
                  <a:pt x="782" y="72"/>
                </a:lnTo>
                <a:lnTo>
                  <a:pt x="882" y="10"/>
                </a:lnTo>
                <a:lnTo>
                  <a:pt x="791" y="6"/>
                </a:lnTo>
                <a:lnTo>
                  <a:pt x="701" y="3"/>
                </a:lnTo>
                <a:lnTo>
                  <a:pt x="610" y="1"/>
                </a:lnTo>
                <a:lnTo>
                  <a:pt x="519" y="0"/>
                </a:lnTo>
                <a:lnTo>
                  <a:pt x="429" y="2"/>
                </a:lnTo>
                <a:lnTo>
                  <a:pt x="339" y="5"/>
                </a:lnTo>
                <a:lnTo>
                  <a:pt x="249" y="9"/>
                </a:lnTo>
                <a:lnTo>
                  <a:pt x="158" y="15"/>
                </a:lnTo>
                <a:lnTo>
                  <a:pt x="67" y="22"/>
                </a:lnTo>
                <a:lnTo>
                  <a:pt x="0" y="29"/>
                </a:lnTo>
                <a:lnTo>
                  <a:pt x="100" y="8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3936960" y="3043080"/>
            <a:ext cx="2687760" cy="654120"/>
          </a:xfrm>
          <a:custGeom>
            <a:avLst/>
            <a:gdLst/>
            <a:ahLst/>
            <a:rect l="l" t="t" r="r" b="b"/>
            <a:pathLst>
              <a:path w="1693" h="412">
                <a:moveTo>
                  <a:pt x="1584" y="358"/>
                </a:moveTo>
                <a:lnTo>
                  <a:pt x="1692" y="183"/>
                </a:lnTo>
                <a:lnTo>
                  <a:pt x="1682" y="52"/>
                </a:lnTo>
                <a:lnTo>
                  <a:pt x="1592" y="41"/>
                </a:lnTo>
                <a:lnTo>
                  <a:pt x="1502" y="30"/>
                </a:lnTo>
                <a:lnTo>
                  <a:pt x="1411" y="21"/>
                </a:lnTo>
                <a:lnTo>
                  <a:pt x="1320" y="14"/>
                </a:lnTo>
                <a:lnTo>
                  <a:pt x="1228" y="9"/>
                </a:lnTo>
                <a:lnTo>
                  <a:pt x="1138" y="4"/>
                </a:lnTo>
                <a:lnTo>
                  <a:pt x="1047" y="1"/>
                </a:lnTo>
                <a:lnTo>
                  <a:pt x="956" y="0"/>
                </a:lnTo>
                <a:lnTo>
                  <a:pt x="864" y="1"/>
                </a:lnTo>
                <a:lnTo>
                  <a:pt x="773" y="2"/>
                </a:lnTo>
                <a:lnTo>
                  <a:pt x="682" y="5"/>
                </a:lnTo>
                <a:lnTo>
                  <a:pt x="591" y="9"/>
                </a:lnTo>
                <a:lnTo>
                  <a:pt x="499" y="16"/>
                </a:lnTo>
                <a:lnTo>
                  <a:pt x="409" y="24"/>
                </a:lnTo>
                <a:lnTo>
                  <a:pt x="318" y="33"/>
                </a:lnTo>
                <a:lnTo>
                  <a:pt x="227" y="45"/>
                </a:lnTo>
                <a:lnTo>
                  <a:pt x="137" y="57"/>
                </a:lnTo>
                <a:lnTo>
                  <a:pt x="47" y="70"/>
                </a:lnTo>
                <a:lnTo>
                  <a:pt x="0" y="79"/>
                </a:lnTo>
                <a:lnTo>
                  <a:pt x="0" y="236"/>
                </a:lnTo>
                <a:lnTo>
                  <a:pt x="38" y="256"/>
                </a:lnTo>
                <a:lnTo>
                  <a:pt x="75" y="279"/>
                </a:lnTo>
                <a:lnTo>
                  <a:pt x="112" y="303"/>
                </a:lnTo>
                <a:lnTo>
                  <a:pt x="148" y="327"/>
                </a:lnTo>
                <a:lnTo>
                  <a:pt x="184" y="354"/>
                </a:lnTo>
                <a:lnTo>
                  <a:pt x="219" y="382"/>
                </a:lnTo>
                <a:lnTo>
                  <a:pt x="252" y="411"/>
                </a:lnTo>
                <a:lnTo>
                  <a:pt x="1584" y="358"/>
                </a:lnTo>
              </a:path>
            </a:pathLst>
          </a:custGeom>
          <a:solidFill>
            <a:srgbClr val="c9662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3951360" y="3263760"/>
            <a:ext cx="2628720" cy="141480"/>
          </a:xfrm>
          <a:custGeom>
            <a:avLst/>
            <a:gdLst/>
            <a:ahLst/>
            <a:rect l="l" t="t" r="r" b="b"/>
            <a:pathLst>
              <a:path w="1656" h="89">
                <a:moveTo>
                  <a:pt x="1655" y="27"/>
                </a:moveTo>
                <a:lnTo>
                  <a:pt x="1556" y="18"/>
                </a:lnTo>
                <a:lnTo>
                  <a:pt x="1458" y="11"/>
                </a:lnTo>
                <a:lnTo>
                  <a:pt x="1359" y="6"/>
                </a:lnTo>
                <a:lnTo>
                  <a:pt x="1260" y="2"/>
                </a:lnTo>
                <a:lnTo>
                  <a:pt x="1160" y="0"/>
                </a:lnTo>
                <a:lnTo>
                  <a:pt x="1062" y="0"/>
                </a:lnTo>
                <a:lnTo>
                  <a:pt x="962" y="0"/>
                </a:lnTo>
                <a:lnTo>
                  <a:pt x="864" y="2"/>
                </a:lnTo>
                <a:lnTo>
                  <a:pt x="765" y="6"/>
                </a:lnTo>
                <a:lnTo>
                  <a:pt x="666" y="11"/>
                </a:lnTo>
                <a:lnTo>
                  <a:pt x="567" y="18"/>
                </a:lnTo>
                <a:lnTo>
                  <a:pt x="467" y="28"/>
                </a:lnTo>
                <a:lnTo>
                  <a:pt x="370" y="36"/>
                </a:lnTo>
                <a:lnTo>
                  <a:pt x="271" y="48"/>
                </a:lnTo>
                <a:lnTo>
                  <a:pt x="173" y="61"/>
                </a:lnTo>
                <a:lnTo>
                  <a:pt x="75" y="77"/>
                </a:lnTo>
                <a:lnTo>
                  <a:pt x="0" y="8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4292640" y="3441600"/>
            <a:ext cx="2203560" cy="2878200"/>
          </a:xfrm>
          <a:custGeom>
            <a:avLst/>
            <a:gdLst/>
            <a:ahLst/>
            <a:rect l="l" t="t" r="r" b="b"/>
            <a:pathLst>
              <a:path w="1388" h="1813">
                <a:moveTo>
                  <a:pt x="1387" y="12"/>
                </a:moveTo>
                <a:lnTo>
                  <a:pt x="1278" y="7"/>
                </a:lnTo>
                <a:lnTo>
                  <a:pt x="1166" y="4"/>
                </a:lnTo>
                <a:lnTo>
                  <a:pt x="1057" y="1"/>
                </a:lnTo>
                <a:lnTo>
                  <a:pt x="947" y="0"/>
                </a:lnTo>
                <a:lnTo>
                  <a:pt x="836" y="0"/>
                </a:lnTo>
                <a:lnTo>
                  <a:pt x="727" y="3"/>
                </a:lnTo>
                <a:lnTo>
                  <a:pt x="617" y="7"/>
                </a:lnTo>
                <a:lnTo>
                  <a:pt x="507" y="11"/>
                </a:lnTo>
                <a:lnTo>
                  <a:pt x="398" y="18"/>
                </a:lnTo>
                <a:lnTo>
                  <a:pt x="287" y="27"/>
                </a:lnTo>
                <a:lnTo>
                  <a:pt x="178" y="37"/>
                </a:lnTo>
                <a:lnTo>
                  <a:pt x="68" y="48"/>
                </a:lnTo>
                <a:lnTo>
                  <a:pt x="0" y="56"/>
                </a:lnTo>
                <a:lnTo>
                  <a:pt x="20" y="640"/>
                </a:lnTo>
                <a:lnTo>
                  <a:pt x="37" y="1225"/>
                </a:lnTo>
                <a:lnTo>
                  <a:pt x="54" y="1812"/>
                </a:lnTo>
                <a:lnTo>
                  <a:pt x="1279" y="1812"/>
                </a:lnTo>
                <a:lnTo>
                  <a:pt x="1310" y="1332"/>
                </a:lnTo>
                <a:lnTo>
                  <a:pt x="1339" y="852"/>
                </a:lnTo>
                <a:lnTo>
                  <a:pt x="1366" y="371"/>
                </a:lnTo>
                <a:lnTo>
                  <a:pt x="1387" y="12"/>
                </a:lnTo>
              </a:path>
            </a:pathLst>
          </a:custGeom>
          <a:solidFill>
            <a:srgbClr val="c96623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292640" y="3446640"/>
            <a:ext cx="2203560" cy="88560"/>
          </a:xfrm>
          <a:custGeom>
            <a:avLst/>
            <a:gdLst/>
            <a:ahLst/>
            <a:rect l="l" t="t" r="r" b="b"/>
            <a:pathLst>
              <a:path w="1388" h="56">
                <a:moveTo>
                  <a:pt x="1387" y="11"/>
                </a:moveTo>
                <a:lnTo>
                  <a:pt x="1278" y="6"/>
                </a:lnTo>
                <a:lnTo>
                  <a:pt x="1166" y="3"/>
                </a:lnTo>
                <a:lnTo>
                  <a:pt x="1057" y="1"/>
                </a:lnTo>
                <a:lnTo>
                  <a:pt x="947" y="0"/>
                </a:lnTo>
                <a:lnTo>
                  <a:pt x="836" y="0"/>
                </a:lnTo>
                <a:lnTo>
                  <a:pt x="727" y="2"/>
                </a:lnTo>
                <a:lnTo>
                  <a:pt x="617" y="6"/>
                </a:lnTo>
                <a:lnTo>
                  <a:pt x="507" y="11"/>
                </a:lnTo>
                <a:lnTo>
                  <a:pt x="398" y="18"/>
                </a:lnTo>
                <a:lnTo>
                  <a:pt x="287" y="27"/>
                </a:lnTo>
                <a:lnTo>
                  <a:pt x="178" y="36"/>
                </a:lnTo>
                <a:lnTo>
                  <a:pt x="68" y="47"/>
                </a:lnTo>
                <a:lnTo>
                  <a:pt x="0" y="55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6321600" y="3463920"/>
            <a:ext cx="174600" cy="2860560"/>
          </a:xfrm>
          <a:custGeom>
            <a:avLst/>
            <a:gdLst/>
            <a:ahLst/>
            <a:rect l="l" t="t" r="r" b="b"/>
            <a:pathLst>
              <a:path w="110" h="1802">
                <a:moveTo>
                  <a:pt x="0" y="1801"/>
                </a:moveTo>
                <a:lnTo>
                  <a:pt x="31" y="1321"/>
                </a:lnTo>
                <a:lnTo>
                  <a:pt x="61" y="840"/>
                </a:lnTo>
                <a:lnTo>
                  <a:pt x="88" y="360"/>
                </a:lnTo>
                <a:lnTo>
                  <a:pt x="10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5943600" y="2738520"/>
            <a:ext cx="152280" cy="168120"/>
          </a:xfrm>
          <a:custGeom>
            <a:avLst/>
            <a:gdLst/>
            <a:ahLst/>
            <a:rect l="l" t="t" r="r" b="b"/>
            <a:pathLst>
              <a:path w="96" h="106">
                <a:moveTo>
                  <a:pt x="5" y="0"/>
                </a:moveTo>
                <a:lnTo>
                  <a:pt x="2" y="10"/>
                </a:lnTo>
                <a:lnTo>
                  <a:pt x="0" y="21"/>
                </a:lnTo>
                <a:lnTo>
                  <a:pt x="0" y="32"/>
                </a:lnTo>
                <a:lnTo>
                  <a:pt x="3" y="43"/>
                </a:lnTo>
                <a:lnTo>
                  <a:pt x="5" y="54"/>
                </a:lnTo>
                <a:lnTo>
                  <a:pt x="10" y="63"/>
                </a:lnTo>
                <a:lnTo>
                  <a:pt x="16" y="73"/>
                </a:lnTo>
                <a:lnTo>
                  <a:pt x="24" y="81"/>
                </a:lnTo>
                <a:lnTo>
                  <a:pt x="31" y="88"/>
                </a:lnTo>
                <a:lnTo>
                  <a:pt x="41" y="95"/>
                </a:lnTo>
                <a:lnTo>
                  <a:pt x="51" y="99"/>
                </a:lnTo>
                <a:lnTo>
                  <a:pt x="62" y="103"/>
                </a:lnTo>
                <a:lnTo>
                  <a:pt x="73" y="105"/>
                </a:lnTo>
                <a:lnTo>
                  <a:pt x="84" y="105"/>
                </a:lnTo>
                <a:lnTo>
                  <a:pt x="95" y="1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351320" y="2709720"/>
            <a:ext cx="430200" cy="279720"/>
          </a:xfrm>
          <a:custGeom>
            <a:avLst/>
            <a:gdLst/>
            <a:ahLst/>
            <a:rect l="l" t="t" r="r" b="b"/>
            <a:pathLst>
              <a:path w="271" h="176">
                <a:moveTo>
                  <a:pt x="0" y="175"/>
                </a:moveTo>
                <a:lnTo>
                  <a:pt x="23" y="172"/>
                </a:lnTo>
                <a:lnTo>
                  <a:pt x="46" y="167"/>
                </a:lnTo>
                <a:lnTo>
                  <a:pt x="68" y="162"/>
                </a:lnTo>
                <a:lnTo>
                  <a:pt x="91" y="154"/>
                </a:lnTo>
                <a:lnTo>
                  <a:pt x="112" y="144"/>
                </a:lnTo>
                <a:lnTo>
                  <a:pt x="133" y="135"/>
                </a:lnTo>
                <a:lnTo>
                  <a:pt x="153" y="123"/>
                </a:lnTo>
                <a:lnTo>
                  <a:pt x="172" y="110"/>
                </a:lnTo>
                <a:lnTo>
                  <a:pt x="190" y="96"/>
                </a:lnTo>
                <a:lnTo>
                  <a:pt x="208" y="80"/>
                </a:lnTo>
                <a:lnTo>
                  <a:pt x="223" y="64"/>
                </a:lnTo>
                <a:lnTo>
                  <a:pt x="238" y="46"/>
                </a:lnTo>
                <a:lnTo>
                  <a:pt x="252" y="28"/>
                </a:lnTo>
                <a:lnTo>
                  <a:pt x="264" y="9"/>
                </a:lnTo>
                <a:lnTo>
                  <a:pt x="27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591000" y="2724120"/>
            <a:ext cx="701640" cy="750960"/>
          </a:xfrm>
          <a:custGeom>
            <a:avLst/>
            <a:gdLst/>
            <a:ahLst/>
            <a:rect l="l" t="t" r="r" b="b"/>
            <a:pathLst>
              <a:path w="442" h="473">
                <a:moveTo>
                  <a:pt x="219" y="30"/>
                </a:moveTo>
                <a:lnTo>
                  <a:pt x="241" y="13"/>
                </a:lnTo>
                <a:lnTo>
                  <a:pt x="259" y="5"/>
                </a:lnTo>
                <a:lnTo>
                  <a:pt x="291" y="0"/>
                </a:lnTo>
                <a:lnTo>
                  <a:pt x="323" y="0"/>
                </a:lnTo>
                <a:lnTo>
                  <a:pt x="340" y="13"/>
                </a:lnTo>
                <a:lnTo>
                  <a:pt x="350" y="35"/>
                </a:lnTo>
                <a:lnTo>
                  <a:pt x="354" y="53"/>
                </a:lnTo>
                <a:lnTo>
                  <a:pt x="354" y="67"/>
                </a:lnTo>
                <a:lnTo>
                  <a:pt x="425" y="114"/>
                </a:lnTo>
                <a:lnTo>
                  <a:pt x="441" y="132"/>
                </a:lnTo>
                <a:lnTo>
                  <a:pt x="441" y="146"/>
                </a:lnTo>
                <a:lnTo>
                  <a:pt x="441" y="159"/>
                </a:lnTo>
                <a:lnTo>
                  <a:pt x="432" y="177"/>
                </a:lnTo>
                <a:lnTo>
                  <a:pt x="409" y="194"/>
                </a:lnTo>
                <a:lnTo>
                  <a:pt x="391" y="203"/>
                </a:lnTo>
                <a:lnTo>
                  <a:pt x="373" y="207"/>
                </a:lnTo>
                <a:lnTo>
                  <a:pt x="345" y="207"/>
                </a:lnTo>
                <a:lnTo>
                  <a:pt x="319" y="203"/>
                </a:lnTo>
                <a:lnTo>
                  <a:pt x="277" y="194"/>
                </a:lnTo>
                <a:lnTo>
                  <a:pt x="259" y="194"/>
                </a:lnTo>
                <a:lnTo>
                  <a:pt x="241" y="207"/>
                </a:lnTo>
                <a:lnTo>
                  <a:pt x="236" y="219"/>
                </a:lnTo>
                <a:lnTo>
                  <a:pt x="241" y="260"/>
                </a:lnTo>
                <a:lnTo>
                  <a:pt x="263" y="306"/>
                </a:lnTo>
                <a:lnTo>
                  <a:pt x="272" y="324"/>
                </a:lnTo>
                <a:lnTo>
                  <a:pt x="282" y="335"/>
                </a:lnTo>
                <a:lnTo>
                  <a:pt x="287" y="357"/>
                </a:lnTo>
                <a:lnTo>
                  <a:pt x="289" y="376"/>
                </a:lnTo>
                <a:lnTo>
                  <a:pt x="291" y="401"/>
                </a:lnTo>
                <a:lnTo>
                  <a:pt x="282" y="423"/>
                </a:lnTo>
                <a:lnTo>
                  <a:pt x="273" y="441"/>
                </a:lnTo>
                <a:lnTo>
                  <a:pt x="250" y="462"/>
                </a:lnTo>
                <a:lnTo>
                  <a:pt x="213" y="472"/>
                </a:lnTo>
                <a:lnTo>
                  <a:pt x="173" y="466"/>
                </a:lnTo>
                <a:lnTo>
                  <a:pt x="154" y="438"/>
                </a:lnTo>
                <a:lnTo>
                  <a:pt x="151" y="462"/>
                </a:lnTo>
                <a:lnTo>
                  <a:pt x="136" y="472"/>
                </a:lnTo>
                <a:lnTo>
                  <a:pt x="109" y="472"/>
                </a:lnTo>
                <a:lnTo>
                  <a:pt x="96" y="462"/>
                </a:lnTo>
                <a:lnTo>
                  <a:pt x="91" y="438"/>
                </a:lnTo>
                <a:lnTo>
                  <a:pt x="91" y="428"/>
                </a:lnTo>
                <a:lnTo>
                  <a:pt x="91" y="409"/>
                </a:lnTo>
                <a:lnTo>
                  <a:pt x="64" y="405"/>
                </a:lnTo>
                <a:lnTo>
                  <a:pt x="50" y="392"/>
                </a:lnTo>
                <a:lnTo>
                  <a:pt x="46" y="365"/>
                </a:lnTo>
                <a:lnTo>
                  <a:pt x="56" y="341"/>
                </a:lnTo>
                <a:lnTo>
                  <a:pt x="56" y="332"/>
                </a:lnTo>
                <a:lnTo>
                  <a:pt x="46" y="314"/>
                </a:lnTo>
                <a:lnTo>
                  <a:pt x="28" y="297"/>
                </a:lnTo>
                <a:lnTo>
                  <a:pt x="19" y="280"/>
                </a:lnTo>
                <a:lnTo>
                  <a:pt x="5" y="255"/>
                </a:lnTo>
                <a:lnTo>
                  <a:pt x="0" y="225"/>
                </a:lnTo>
                <a:lnTo>
                  <a:pt x="5" y="189"/>
                </a:lnTo>
                <a:lnTo>
                  <a:pt x="22" y="164"/>
                </a:lnTo>
                <a:lnTo>
                  <a:pt x="41" y="141"/>
                </a:lnTo>
                <a:lnTo>
                  <a:pt x="64" y="119"/>
                </a:lnTo>
                <a:lnTo>
                  <a:pt x="87" y="97"/>
                </a:lnTo>
                <a:lnTo>
                  <a:pt x="101" y="78"/>
                </a:lnTo>
                <a:lnTo>
                  <a:pt x="118" y="57"/>
                </a:lnTo>
                <a:lnTo>
                  <a:pt x="141" y="35"/>
                </a:lnTo>
                <a:lnTo>
                  <a:pt x="182" y="27"/>
                </a:lnTo>
                <a:lnTo>
                  <a:pt x="219" y="30"/>
                </a:lnTo>
              </a:path>
            </a:pathLst>
          </a:custGeom>
          <a:solidFill>
            <a:srgbClr val="ff9975"/>
          </a:solidFill>
          <a:ln cap="rnd" w="12600">
            <a:solidFill>
              <a:srgbClr val="ff99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6240600" y="2857680"/>
            <a:ext cx="560160" cy="631800"/>
          </a:xfrm>
          <a:custGeom>
            <a:avLst/>
            <a:gdLst/>
            <a:ahLst/>
            <a:rect l="l" t="t" r="r" b="b"/>
            <a:pathLst>
              <a:path w="353" h="398">
                <a:moveTo>
                  <a:pt x="158" y="154"/>
                </a:moveTo>
                <a:lnTo>
                  <a:pt x="90" y="149"/>
                </a:lnTo>
                <a:lnTo>
                  <a:pt x="50" y="146"/>
                </a:lnTo>
                <a:lnTo>
                  <a:pt x="35" y="137"/>
                </a:lnTo>
                <a:lnTo>
                  <a:pt x="18" y="128"/>
                </a:lnTo>
                <a:lnTo>
                  <a:pt x="4" y="110"/>
                </a:lnTo>
                <a:lnTo>
                  <a:pt x="0" y="93"/>
                </a:lnTo>
                <a:lnTo>
                  <a:pt x="0" y="62"/>
                </a:lnTo>
                <a:lnTo>
                  <a:pt x="4" y="49"/>
                </a:lnTo>
                <a:lnTo>
                  <a:pt x="22" y="27"/>
                </a:lnTo>
                <a:lnTo>
                  <a:pt x="40" y="13"/>
                </a:lnTo>
                <a:lnTo>
                  <a:pt x="67" y="5"/>
                </a:lnTo>
                <a:lnTo>
                  <a:pt x="95" y="0"/>
                </a:lnTo>
                <a:lnTo>
                  <a:pt x="131" y="0"/>
                </a:lnTo>
                <a:lnTo>
                  <a:pt x="160" y="4"/>
                </a:lnTo>
                <a:lnTo>
                  <a:pt x="180" y="13"/>
                </a:lnTo>
                <a:lnTo>
                  <a:pt x="203" y="40"/>
                </a:lnTo>
                <a:lnTo>
                  <a:pt x="221" y="53"/>
                </a:lnTo>
                <a:lnTo>
                  <a:pt x="244" y="57"/>
                </a:lnTo>
                <a:lnTo>
                  <a:pt x="259" y="56"/>
                </a:lnTo>
                <a:lnTo>
                  <a:pt x="285" y="66"/>
                </a:lnTo>
                <a:lnTo>
                  <a:pt x="298" y="80"/>
                </a:lnTo>
                <a:lnTo>
                  <a:pt x="303" y="97"/>
                </a:lnTo>
                <a:lnTo>
                  <a:pt x="298" y="119"/>
                </a:lnTo>
                <a:lnTo>
                  <a:pt x="293" y="141"/>
                </a:lnTo>
                <a:lnTo>
                  <a:pt x="311" y="164"/>
                </a:lnTo>
                <a:lnTo>
                  <a:pt x="321" y="194"/>
                </a:lnTo>
                <a:lnTo>
                  <a:pt x="321" y="216"/>
                </a:lnTo>
                <a:lnTo>
                  <a:pt x="321" y="229"/>
                </a:lnTo>
                <a:lnTo>
                  <a:pt x="334" y="242"/>
                </a:lnTo>
                <a:lnTo>
                  <a:pt x="348" y="260"/>
                </a:lnTo>
                <a:lnTo>
                  <a:pt x="352" y="282"/>
                </a:lnTo>
                <a:lnTo>
                  <a:pt x="349" y="310"/>
                </a:lnTo>
                <a:lnTo>
                  <a:pt x="322" y="336"/>
                </a:lnTo>
                <a:lnTo>
                  <a:pt x="307" y="344"/>
                </a:lnTo>
                <a:lnTo>
                  <a:pt x="285" y="344"/>
                </a:lnTo>
                <a:lnTo>
                  <a:pt x="266" y="339"/>
                </a:lnTo>
                <a:lnTo>
                  <a:pt x="248" y="339"/>
                </a:lnTo>
                <a:lnTo>
                  <a:pt x="239" y="379"/>
                </a:lnTo>
                <a:lnTo>
                  <a:pt x="225" y="392"/>
                </a:lnTo>
                <a:lnTo>
                  <a:pt x="212" y="396"/>
                </a:lnTo>
                <a:lnTo>
                  <a:pt x="196" y="397"/>
                </a:lnTo>
                <a:lnTo>
                  <a:pt x="178" y="388"/>
                </a:lnTo>
                <a:lnTo>
                  <a:pt x="158" y="374"/>
                </a:lnTo>
                <a:lnTo>
                  <a:pt x="144" y="344"/>
                </a:lnTo>
                <a:lnTo>
                  <a:pt x="139" y="308"/>
                </a:lnTo>
                <a:lnTo>
                  <a:pt x="139" y="282"/>
                </a:lnTo>
                <a:lnTo>
                  <a:pt x="144" y="247"/>
                </a:lnTo>
                <a:lnTo>
                  <a:pt x="148" y="198"/>
                </a:lnTo>
                <a:lnTo>
                  <a:pt x="158" y="154"/>
                </a:lnTo>
              </a:path>
            </a:pathLst>
          </a:custGeom>
          <a:solidFill>
            <a:srgbClr val="ff9975"/>
          </a:solidFill>
          <a:ln cap="rnd" w="12600">
            <a:solidFill>
              <a:srgbClr val="ff99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749840" y="795240"/>
            <a:ext cx="1720800" cy="2055960"/>
          </a:xfrm>
          <a:custGeom>
            <a:avLst/>
            <a:gdLst/>
            <a:ahLst/>
            <a:rect l="l" t="t" r="r" b="b"/>
            <a:pathLst>
              <a:path w="1084" h="1295">
                <a:moveTo>
                  <a:pt x="217" y="243"/>
                </a:moveTo>
                <a:lnTo>
                  <a:pt x="162" y="262"/>
                </a:lnTo>
                <a:lnTo>
                  <a:pt x="136" y="265"/>
                </a:lnTo>
                <a:lnTo>
                  <a:pt x="108" y="274"/>
                </a:lnTo>
                <a:lnTo>
                  <a:pt x="91" y="287"/>
                </a:lnTo>
                <a:lnTo>
                  <a:pt x="67" y="322"/>
                </a:lnTo>
                <a:lnTo>
                  <a:pt x="63" y="341"/>
                </a:lnTo>
                <a:lnTo>
                  <a:pt x="59" y="358"/>
                </a:lnTo>
                <a:lnTo>
                  <a:pt x="63" y="383"/>
                </a:lnTo>
                <a:lnTo>
                  <a:pt x="76" y="397"/>
                </a:lnTo>
                <a:lnTo>
                  <a:pt x="104" y="397"/>
                </a:lnTo>
                <a:lnTo>
                  <a:pt x="117" y="392"/>
                </a:lnTo>
                <a:lnTo>
                  <a:pt x="81" y="449"/>
                </a:lnTo>
                <a:lnTo>
                  <a:pt x="54" y="502"/>
                </a:lnTo>
                <a:lnTo>
                  <a:pt x="36" y="538"/>
                </a:lnTo>
                <a:lnTo>
                  <a:pt x="14" y="603"/>
                </a:lnTo>
                <a:lnTo>
                  <a:pt x="10" y="630"/>
                </a:lnTo>
                <a:lnTo>
                  <a:pt x="0" y="674"/>
                </a:lnTo>
                <a:lnTo>
                  <a:pt x="0" y="718"/>
                </a:lnTo>
                <a:lnTo>
                  <a:pt x="0" y="740"/>
                </a:lnTo>
                <a:lnTo>
                  <a:pt x="4" y="807"/>
                </a:lnTo>
                <a:lnTo>
                  <a:pt x="19" y="856"/>
                </a:lnTo>
                <a:lnTo>
                  <a:pt x="36" y="894"/>
                </a:lnTo>
                <a:lnTo>
                  <a:pt x="72" y="973"/>
                </a:lnTo>
                <a:lnTo>
                  <a:pt x="91" y="1009"/>
                </a:lnTo>
                <a:lnTo>
                  <a:pt x="127" y="1069"/>
                </a:lnTo>
                <a:lnTo>
                  <a:pt x="182" y="1136"/>
                </a:lnTo>
                <a:lnTo>
                  <a:pt x="227" y="1171"/>
                </a:lnTo>
                <a:lnTo>
                  <a:pt x="262" y="1189"/>
                </a:lnTo>
                <a:lnTo>
                  <a:pt x="276" y="1198"/>
                </a:lnTo>
                <a:lnTo>
                  <a:pt x="333" y="1259"/>
                </a:lnTo>
                <a:lnTo>
                  <a:pt x="360" y="1276"/>
                </a:lnTo>
                <a:lnTo>
                  <a:pt x="390" y="1290"/>
                </a:lnTo>
                <a:lnTo>
                  <a:pt x="421" y="1294"/>
                </a:lnTo>
                <a:lnTo>
                  <a:pt x="450" y="1293"/>
                </a:lnTo>
                <a:lnTo>
                  <a:pt x="476" y="1290"/>
                </a:lnTo>
                <a:lnTo>
                  <a:pt x="503" y="1282"/>
                </a:lnTo>
                <a:lnTo>
                  <a:pt x="530" y="1268"/>
                </a:lnTo>
                <a:lnTo>
                  <a:pt x="557" y="1255"/>
                </a:lnTo>
                <a:lnTo>
                  <a:pt x="580" y="1233"/>
                </a:lnTo>
                <a:lnTo>
                  <a:pt x="604" y="1215"/>
                </a:lnTo>
                <a:lnTo>
                  <a:pt x="621" y="1206"/>
                </a:lnTo>
                <a:lnTo>
                  <a:pt x="657" y="1193"/>
                </a:lnTo>
                <a:lnTo>
                  <a:pt x="707" y="1171"/>
                </a:lnTo>
                <a:lnTo>
                  <a:pt x="738" y="1158"/>
                </a:lnTo>
                <a:lnTo>
                  <a:pt x="771" y="1136"/>
                </a:lnTo>
                <a:lnTo>
                  <a:pt x="806" y="1109"/>
                </a:lnTo>
                <a:lnTo>
                  <a:pt x="833" y="1084"/>
                </a:lnTo>
                <a:lnTo>
                  <a:pt x="883" y="1031"/>
                </a:lnTo>
                <a:lnTo>
                  <a:pt x="919" y="982"/>
                </a:lnTo>
                <a:lnTo>
                  <a:pt x="951" y="930"/>
                </a:lnTo>
                <a:lnTo>
                  <a:pt x="979" y="863"/>
                </a:lnTo>
                <a:lnTo>
                  <a:pt x="988" y="814"/>
                </a:lnTo>
                <a:lnTo>
                  <a:pt x="992" y="771"/>
                </a:lnTo>
                <a:lnTo>
                  <a:pt x="988" y="744"/>
                </a:lnTo>
                <a:lnTo>
                  <a:pt x="979" y="709"/>
                </a:lnTo>
                <a:lnTo>
                  <a:pt x="1018" y="559"/>
                </a:lnTo>
                <a:lnTo>
                  <a:pt x="1056" y="494"/>
                </a:lnTo>
                <a:lnTo>
                  <a:pt x="1078" y="445"/>
                </a:lnTo>
                <a:lnTo>
                  <a:pt x="1083" y="414"/>
                </a:lnTo>
                <a:lnTo>
                  <a:pt x="1078" y="392"/>
                </a:lnTo>
                <a:lnTo>
                  <a:pt x="1064" y="375"/>
                </a:lnTo>
                <a:lnTo>
                  <a:pt x="1064" y="331"/>
                </a:lnTo>
                <a:lnTo>
                  <a:pt x="1056" y="287"/>
                </a:lnTo>
                <a:lnTo>
                  <a:pt x="1051" y="269"/>
                </a:lnTo>
                <a:lnTo>
                  <a:pt x="1037" y="225"/>
                </a:lnTo>
                <a:lnTo>
                  <a:pt x="1028" y="204"/>
                </a:lnTo>
                <a:lnTo>
                  <a:pt x="1002" y="168"/>
                </a:lnTo>
                <a:lnTo>
                  <a:pt x="956" y="125"/>
                </a:lnTo>
                <a:lnTo>
                  <a:pt x="783" y="35"/>
                </a:lnTo>
                <a:lnTo>
                  <a:pt x="685" y="26"/>
                </a:lnTo>
                <a:lnTo>
                  <a:pt x="595" y="17"/>
                </a:lnTo>
                <a:lnTo>
                  <a:pt x="514" y="0"/>
                </a:lnTo>
                <a:lnTo>
                  <a:pt x="432" y="9"/>
                </a:lnTo>
                <a:lnTo>
                  <a:pt x="378" y="52"/>
                </a:lnTo>
                <a:lnTo>
                  <a:pt x="324" y="131"/>
                </a:lnTo>
                <a:lnTo>
                  <a:pt x="306" y="157"/>
                </a:lnTo>
                <a:lnTo>
                  <a:pt x="217" y="243"/>
                </a:lnTo>
              </a:path>
            </a:pathLst>
          </a:custGeom>
          <a:solidFill>
            <a:srgbClr val="ff9975"/>
          </a:solidFill>
          <a:ln cap="rnd" w="12600">
            <a:solidFill>
              <a:srgbClr val="ff99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994280" y="689040"/>
            <a:ext cx="1425600" cy="547560"/>
          </a:xfrm>
          <a:custGeom>
            <a:avLst/>
            <a:gdLst/>
            <a:ahLst/>
            <a:rect l="l" t="t" r="r" b="b"/>
            <a:pathLst>
              <a:path w="898" h="345">
                <a:moveTo>
                  <a:pt x="46" y="344"/>
                </a:moveTo>
                <a:lnTo>
                  <a:pt x="82" y="344"/>
                </a:lnTo>
                <a:lnTo>
                  <a:pt x="128" y="339"/>
                </a:lnTo>
                <a:lnTo>
                  <a:pt x="164" y="326"/>
                </a:lnTo>
                <a:lnTo>
                  <a:pt x="173" y="322"/>
                </a:lnTo>
                <a:lnTo>
                  <a:pt x="191" y="309"/>
                </a:lnTo>
                <a:lnTo>
                  <a:pt x="200" y="287"/>
                </a:lnTo>
                <a:lnTo>
                  <a:pt x="195" y="264"/>
                </a:lnTo>
                <a:lnTo>
                  <a:pt x="180" y="254"/>
                </a:lnTo>
                <a:lnTo>
                  <a:pt x="171" y="244"/>
                </a:lnTo>
                <a:lnTo>
                  <a:pt x="223" y="234"/>
                </a:lnTo>
                <a:lnTo>
                  <a:pt x="269" y="192"/>
                </a:lnTo>
                <a:lnTo>
                  <a:pt x="288" y="158"/>
                </a:lnTo>
                <a:lnTo>
                  <a:pt x="288" y="131"/>
                </a:lnTo>
                <a:lnTo>
                  <a:pt x="324" y="105"/>
                </a:lnTo>
                <a:lnTo>
                  <a:pt x="342" y="105"/>
                </a:lnTo>
                <a:lnTo>
                  <a:pt x="369" y="123"/>
                </a:lnTo>
                <a:lnTo>
                  <a:pt x="377" y="140"/>
                </a:lnTo>
                <a:lnTo>
                  <a:pt x="431" y="166"/>
                </a:lnTo>
                <a:lnTo>
                  <a:pt x="440" y="163"/>
                </a:lnTo>
                <a:lnTo>
                  <a:pt x="485" y="168"/>
                </a:lnTo>
                <a:lnTo>
                  <a:pt x="499" y="168"/>
                </a:lnTo>
                <a:lnTo>
                  <a:pt x="549" y="163"/>
                </a:lnTo>
                <a:lnTo>
                  <a:pt x="594" y="172"/>
                </a:lnTo>
                <a:lnTo>
                  <a:pt x="603" y="183"/>
                </a:lnTo>
                <a:lnTo>
                  <a:pt x="626" y="203"/>
                </a:lnTo>
                <a:lnTo>
                  <a:pt x="657" y="207"/>
                </a:lnTo>
                <a:lnTo>
                  <a:pt x="703" y="203"/>
                </a:lnTo>
                <a:lnTo>
                  <a:pt x="739" y="203"/>
                </a:lnTo>
                <a:lnTo>
                  <a:pt x="747" y="201"/>
                </a:lnTo>
                <a:lnTo>
                  <a:pt x="755" y="219"/>
                </a:lnTo>
                <a:lnTo>
                  <a:pt x="765" y="239"/>
                </a:lnTo>
                <a:lnTo>
                  <a:pt x="802" y="252"/>
                </a:lnTo>
                <a:lnTo>
                  <a:pt x="830" y="252"/>
                </a:lnTo>
                <a:lnTo>
                  <a:pt x="866" y="247"/>
                </a:lnTo>
                <a:lnTo>
                  <a:pt x="879" y="239"/>
                </a:lnTo>
                <a:lnTo>
                  <a:pt x="888" y="229"/>
                </a:lnTo>
                <a:lnTo>
                  <a:pt x="897" y="203"/>
                </a:lnTo>
                <a:lnTo>
                  <a:pt x="881" y="183"/>
                </a:lnTo>
                <a:lnTo>
                  <a:pt x="836" y="166"/>
                </a:lnTo>
                <a:lnTo>
                  <a:pt x="793" y="158"/>
                </a:lnTo>
                <a:lnTo>
                  <a:pt x="738" y="140"/>
                </a:lnTo>
                <a:lnTo>
                  <a:pt x="703" y="123"/>
                </a:lnTo>
                <a:lnTo>
                  <a:pt x="648" y="70"/>
                </a:lnTo>
                <a:lnTo>
                  <a:pt x="630" y="52"/>
                </a:lnTo>
                <a:lnTo>
                  <a:pt x="549" y="18"/>
                </a:lnTo>
                <a:lnTo>
                  <a:pt x="512" y="9"/>
                </a:lnTo>
                <a:lnTo>
                  <a:pt x="468" y="0"/>
                </a:lnTo>
                <a:lnTo>
                  <a:pt x="423" y="9"/>
                </a:lnTo>
                <a:lnTo>
                  <a:pt x="395" y="18"/>
                </a:lnTo>
                <a:lnTo>
                  <a:pt x="369" y="35"/>
                </a:lnTo>
                <a:lnTo>
                  <a:pt x="360" y="35"/>
                </a:lnTo>
                <a:lnTo>
                  <a:pt x="306" y="9"/>
                </a:lnTo>
                <a:lnTo>
                  <a:pt x="261" y="18"/>
                </a:lnTo>
                <a:lnTo>
                  <a:pt x="224" y="35"/>
                </a:lnTo>
                <a:lnTo>
                  <a:pt x="171" y="79"/>
                </a:lnTo>
                <a:lnTo>
                  <a:pt x="152" y="123"/>
                </a:lnTo>
                <a:lnTo>
                  <a:pt x="135" y="158"/>
                </a:lnTo>
                <a:lnTo>
                  <a:pt x="117" y="175"/>
                </a:lnTo>
                <a:lnTo>
                  <a:pt x="90" y="183"/>
                </a:lnTo>
                <a:lnTo>
                  <a:pt x="35" y="227"/>
                </a:lnTo>
                <a:lnTo>
                  <a:pt x="18" y="262"/>
                </a:lnTo>
                <a:lnTo>
                  <a:pt x="0" y="306"/>
                </a:lnTo>
                <a:lnTo>
                  <a:pt x="9" y="315"/>
                </a:lnTo>
                <a:lnTo>
                  <a:pt x="9" y="332"/>
                </a:lnTo>
                <a:lnTo>
                  <a:pt x="27" y="341"/>
                </a:lnTo>
                <a:lnTo>
                  <a:pt x="46" y="34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335560" y="1055520"/>
            <a:ext cx="450720" cy="446400"/>
          </a:xfrm>
          <a:custGeom>
            <a:avLst/>
            <a:gdLst/>
            <a:ahLst/>
            <a:rect l="l" t="t" r="r" b="b"/>
            <a:pathLst>
              <a:path w="284" h="281">
                <a:moveTo>
                  <a:pt x="0" y="248"/>
                </a:moveTo>
                <a:lnTo>
                  <a:pt x="5" y="221"/>
                </a:lnTo>
                <a:lnTo>
                  <a:pt x="16" y="195"/>
                </a:lnTo>
                <a:lnTo>
                  <a:pt x="26" y="169"/>
                </a:lnTo>
                <a:lnTo>
                  <a:pt x="40" y="151"/>
                </a:lnTo>
                <a:lnTo>
                  <a:pt x="63" y="122"/>
                </a:lnTo>
                <a:lnTo>
                  <a:pt x="80" y="106"/>
                </a:lnTo>
                <a:lnTo>
                  <a:pt x="99" y="87"/>
                </a:lnTo>
                <a:lnTo>
                  <a:pt x="105" y="81"/>
                </a:lnTo>
                <a:lnTo>
                  <a:pt x="127" y="64"/>
                </a:lnTo>
                <a:lnTo>
                  <a:pt x="154" y="44"/>
                </a:lnTo>
                <a:lnTo>
                  <a:pt x="187" y="20"/>
                </a:lnTo>
                <a:lnTo>
                  <a:pt x="212" y="10"/>
                </a:lnTo>
                <a:lnTo>
                  <a:pt x="235" y="2"/>
                </a:lnTo>
                <a:lnTo>
                  <a:pt x="245" y="0"/>
                </a:lnTo>
                <a:lnTo>
                  <a:pt x="258" y="0"/>
                </a:lnTo>
                <a:lnTo>
                  <a:pt x="269" y="2"/>
                </a:lnTo>
                <a:lnTo>
                  <a:pt x="276" y="9"/>
                </a:lnTo>
                <a:lnTo>
                  <a:pt x="283" y="29"/>
                </a:lnTo>
                <a:lnTo>
                  <a:pt x="283" y="49"/>
                </a:lnTo>
                <a:lnTo>
                  <a:pt x="278" y="71"/>
                </a:lnTo>
                <a:lnTo>
                  <a:pt x="267" y="98"/>
                </a:lnTo>
                <a:lnTo>
                  <a:pt x="250" y="134"/>
                </a:lnTo>
                <a:lnTo>
                  <a:pt x="236" y="157"/>
                </a:lnTo>
                <a:lnTo>
                  <a:pt x="216" y="190"/>
                </a:lnTo>
                <a:lnTo>
                  <a:pt x="190" y="230"/>
                </a:lnTo>
                <a:lnTo>
                  <a:pt x="169" y="255"/>
                </a:lnTo>
                <a:lnTo>
                  <a:pt x="147" y="280"/>
                </a:lnTo>
                <a:lnTo>
                  <a:pt x="0" y="24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5927760" y="1211400"/>
            <a:ext cx="330120" cy="415800"/>
          </a:xfrm>
          <a:custGeom>
            <a:avLst/>
            <a:gdLst/>
            <a:ahLst/>
            <a:rect l="l" t="t" r="r" b="b"/>
            <a:pathLst>
              <a:path w="208" h="262">
                <a:moveTo>
                  <a:pt x="5" y="251"/>
                </a:moveTo>
                <a:lnTo>
                  <a:pt x="0" y="241"/>
                </a:lnTo>
                <a:lnTo>
                  <a:pt x="1" y="223"/>
                </a:lnTo>
                <a:lnTo>
                  <a:pt x="14" y="177"/>
                </a:lnTo>
                <a:lnTo>
                  <a:pt x="30" y="134"/>
                </a:lnTo>
                <a:lnTo>
                  <a:pt x="51" y="99"/>
                </a:lnTo>
                <a:lnTo>
                  <a:pt x="84" y="55"/>
                </a:lnTo>
                <a:lnTo>
                  <a:pt x="109" y="30"/>
                </a:lnTo>
                <a:lnTo>
                  <a:pt x="131" y="11"/>
                </a:lnTo>
                <a:lnTo>
                  <a:pt x="146" y="3"/>
                </a:lnTo>
                <a:lnTo>
                  <a:pt x="167" y="0"/>
                </a:lnTo>
                <a:lnTo>
                  <a:pt x="186" y="3"/>
                </a:lnTo>
                <a:lnTo>
                  <a:pt x="201" y="12"/>
                </a:lnTo>
                <a:lnTo>
                  <a:pt x="207" y="31"/>
                </a:lnTo>
                <a:lnTo>
                  <a:pt x="207" y="54"/>
                </a:lnTo>
                <a:lnTo>
                  <a:pt x="200" y="88"/>
                </a:lnTo>
                <a:lnTo>
                  <a:pt x="185" y="131"/>
                </a:lnTo>
                <a:lnTo>
                  <a:pt x="167" y="165"/>
                </a:lnTo>
                <a:lnTo>
                  <a:pt x="146" y="196"/>
                </a:lnTo>
                <a:lnTo>
                  <a:pt x="143" y="200"/>
                </a:lnTo>
                <a:lnTo>
                  <a:pt x="129" y="217"/>
                </a:lnTo>
                <a:lnTo>
                  <a:pt x="114" y="234"/>
                </a:lnTo>
                <a:lnTo>
                  <a:pt x="93" y="256"/>
                </a:lnTo>
                <a:lnTo>
                  <a:pt x="58" y="261"/>
                </a:lnTo>
                <a:lnTo>
                  <a:pt x="35" y="261"/>
                </a:lnTo>
                <a:lnTo>
                  <a:pt x="18" y="260"/>
                </a:lnTo>
                <a:lnTo>
                  <a:pt x="5" y="251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332400" y="2189160"/>
            <a:ext cx="217800" cy="592200"/>
          </a:xfrm>
          <a:custGeom>
            <a:avLst/>
            <a:gdLst/>
            <a:ahLst/>
            <a:rect l="l" t="t" r="r" b="b"/>
            <a:pathLst>
              <a:path w="137" h="373">
                <a:moveTo>
                  <a:pt x="0" y="4"/>
                </a:moveTo>
                <a:lnTo>
                  <a:pt x="31" y="0"/>
                </a:lnTo>
                <a:lnTo>
                  <a:pt x="68" y="0"/>
                </a:lnTo>
                <a:lnTo>
                  <a:pt x="90" y="8"/>
                </a:lnTo>
                <a:lnTo>
                  <a:pt x="105" y="30"/>
                </a:lnTo>
                <a:lnTo>
                  <a:pt x="113" y="56"/>
                </a:lnTo>
                <a:lnTo>
                  <a:pt x="122" y="91"/>
                </a:lnTo>
                <a:lnTo>
                  <a:pt x="128" y="119"/>
                </a:lnTo>
                <a:lnTo>
                  <a:pt x="132" y="144"/>
                </a:lnTo>
                <a:lnTo>
                  <a:pt x="136" y="179"/>
                </a:lnTo>
                <a:lnTo>
                  <a:pt x="136" y="224"/>
                </a:lnTo>
                <a:lnTo>
                  <a:pt x="136" y="285"/>
                </a:lnTo>
                <a:lnTo>
                  <a:pt x="136" y="328"/>
                </a:lnTo>
                <a:lnTo>
                  <a:pt x="136" y="3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3830760" y="2517840"/>
            <a:ext cx="322200" cy="187200"/>
          </a:xfrm>
          <a:custGeom>
            <a:avLst/>
            <a:gdLst/>
            <a:ahLst/>
            <a:rect l="l" t="t" r="r" b="b"/>
            <a:pathLst>
              <a:path w="203" h="118">
                <a:moveTo>
                  <a:pt x="0" y="117"/>
                </a:moveTo>
                <a:lnTo>
                  <a:pt x="22" y="86"/>
                </a:lnTo>
                <a:lnTo>
                  <a:pt x="45" y="60"/>
                </a:lnTo>
                <a:lnTo>
                  <a:pt x="81" y="30"/>
                </a:lnTo>
                <a:lnTo>
                  <a:pt x="122" y="8"/>
                </a:lnTo>
                <a:lnTo>
                  <a:pt x="163" y="0"/>
                </a:lnTo>
                <a:lnTo>
                  <a:pt x="185" y="0"/>
                </a:lnTo>
                <a:lnTo>
                  <a:pt x="20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67360" y="1893960"/>
            <a:ext cx="485640" cy="588960"/>
          </a:xfrm>
          <a:custGeom>
            <a:avLst/>
            <a:gdLst/>
            <a:ahLst/>
            <a:rect l="l" t="t" r="r" b="b"/>
            <a:pathLst>
              <a:path w="306" h="371">
                <a:moveTo>
                  <a:pt x="0" y="370"/>
                </a:moveTo>
                <a:lnTo>
                  <a:pt x="7" y="341"/>
                </a:lnTo>
                <a:lnTo>
                  <a:pt x="27" y="296"/>
                </a:lnTo>
                <a:lnTo>
                  <a:pt x="45" y="260"/>
                </a:lnTo>
                <a:lnTo>
                  <a:pt x="64" y="234"/>
                </a:lnTo>
                <a:lnTo>
                  <a:pt x="88" y="200"/>
                </a:lnTo>
                <a:lnTo>
                  <a:pt x="122" y="155"/>
                </a:lnTo>
                <a:lnTo>
                  <a:pt x="141" y="138"/>
                </a:lnTo>
                <a:lnTo>
                  <a:pt x="178" y="96"/>
                </a:lnTo>
                <a:lnTo>
                  <a:pt x="199" y="81"/>
                </a:lnTo>
                <a:lnTo>
                  <a:pt x="240" y="46"/>
                </a:lnTo>
                <a:lnTo>
                  <a:pt x="278" y="18"/>
                </a:lnTo>
                <a:lnTo>
                  <a:pt x="305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189400" y="2698920"/>
            <a:ext cx="446400" cy="153720"/>
          </a:xfrm>
          <a:custGeom>
            <a:avLst/>
            <a:gdLst/>
            <a:ahLst/>
            <a:rect l="l" t="t" r="r" b="b"/>
            <a:pathLst>
              <a:path w="281" h="97">
                <a:moveTo>
                  <a:pt x="0" y="0"/>
                </a:moveTo>
                <a:lnTo>
                  <a:pt x="57" y="61"/>
                </a:lnTo>
                <a:lnTo>
                  <a:pt x="84" y="78"/>
                </a:lnTo>
                <a:lnTo>
                  <a:pt x="113" y="92"/>
                </a:lnTo>
                <a:lnTo>
                  <a:pt x="144" y="96"/>
                </a:lnTo>
                <a:lnTo>
                  <a:pt x="174" y="95"/>
                </a:lnTo>
                <a:lnTo>
                  <a:pt x="199" y="92"/>
                </a:lnTo>
                <a:lnTo>
                  <a:pt x="226" y="83"/>
                </a:lnTo>
                <a:lnTo>
                  <a:pt x="254" y="70"/>
                </a:lnTo>
                <a:lnTo>
                  <a:pt x="280" y="5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749840" y="1219320"/>
            <a:ext cx="290520" cy="1380960"/>
          </a:xfrm>
          <a:custGeom>
            <a:avLst/>
            <a:gdLst/>
            <a:ahLst/>
            <a:rect l="l" t="t" r="r" b="b"/>
            <a:pathLst>
              <a:path w="183" h="870">
                <a:moveTo>
                  <a:pt x="136" y="0"/>
                </a:moveTo>
                <a:lnTo>
                  <a:pt x="109" y="9"/>
                </a:lnTo>
                <a:lnTo>
                  <a:pt x="91" y="22"/>
                </a:lnTo>
                <a:lnTo>
                  <a:pt x="68" y="56"/>
                </a:lnTo>
                <a:lnTo>
                  <a:pt x="64" y="75"/>
                </a:lnTo>
                <a:lnTo>
                  <a:pt x="59" y="92"/>
                </a:lnTo>
                <a:lnTo>
                  <a:pt x="64" y="118"/>
                </a:lnTo>
                <a:lnTo>
                  <a:pt x="76" y="131"/>
                </a:lnTo>
                <a:lnTo>
                  <a:pt x="105" y="131"/>
                </a:lnTo>
                <a:lnTo>
                  <a:pt x="117" y="126"/>
                </a:lnTo>
                <a:lnTo>
                  <a:pt x="81" y="183"/>
                </a:lnTo>
                <a:lnTo>
                  <a:pt x="54" y="236"/>
                </a:lnTo>
                <a:lnTo>
                  <a:pt x="36" y="272"/>
                </a:lnTo>
                <a:lnTo>
                  <a:pt x="14" y="337"/>
                </a:lnTo>
                <a:lnTo>
                  <a:pt x="10" y="364"/>
                </a:lnTo>
                <a:lnTo>
                  <a:pt x="0" y="407"/>
                </a:lnTo>
                <a:lnTo>
                  <a:pt x="0" y="452"/>
                </a:lnTo>
                <a:lnTo>
                  <a:pt x="0" y="474"/>
                </a:lnTo>
                <a:lnTo>
                  <a:pt x="4" y="540"/>
                </a:lnTo>
                <a:lnTo>
                  <a:pt x="19" y="590"/>
                </a:lnTo>
                <a:lnTo>
                  <a:pt x="36" y="628"/>
                </a:lnTo>
                <a:lnTo>
                  <a:pt x="72" y="707"/>
                </a:lnTo>
                <a:lnTo>
                  <a:pt x="91" y="742"/>
                </a:lnTo>
                <a:lnTo>
                  <a:pt x="127" y="803"/>
                </a:lnTo>
                <a:lnTo>
                  <a:pt x="182" y="86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6426360" y="1322280"/>
            <a:ext cx="44280" cy="260280"/>
          </a:xfrm>
          <a:custGeom>
            <a:avLst/>
            <a:gdLst/>
            <a:ahLst/>
            <a:rect l="l" t="t" r="r" b="b"/>
            <a:pathLst>
              <a:path w="28" h="164">
                <a:moveTo>
                  <a:pt x="0" y="163"/>
                </a:moveTo>
                <a:lnTo>
                  <a:pt x="22" y="114"/>
                </a:lnTo>
                <a:lnTo>
                  <a:pt x="27" y="83"/>
                </a:lnTo>
                <a:lnTo>
                  <a:pt x="22" y="61"/>
                </a:lnTo>
                <a:lnTo>
                  <a:pt x="9" y="44"/>
                </a:lnTo>
                <a:lnTo>
                  <a:pt x="9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5735520" y="2021040"/>
            <a:ext cx="590760" cy="690480"/>
          </a:xfrm>
          <a:custGeom>
            <a:avLst/>
            <a:gdLst/>
            <a:ahLst/>
            <a:rect l="l" t="t" r="r" b="b"/>
            <a:pathLst>
              <a:path w="372" h="435">
                <a:moveTo>
                  <a:pt x="0" y="434"/>
                </a:moveTo>
                <a:lnTo>
                  <a:pt x="36" y="421"/>
                </a:lnTo>
                <a:lnTo>
                  <a:pt x="86" y="399"/>
                </a:lnTo>
                <a:lnTo>
                  <a:pt x="117" y="386"/>
                </a:lnTo>
                <a:lnTo>
                  <a:pt x="149" y="364"/>
                </a:lnTo>
                <a:lnTo>
                  <a:pt x="185" y="337"/>
                </a:lnTo>
                <a:lnTo>
                  <a:pt x="212" y="312"/>
                </a:lnTo>
                <a:lnTo>
                  <a:pt x="262" y="260"/>
                </a:lnTo>
                <a:lnTo>
                  <a:pt x="298" y="210"/>
                </a:lnTo>
                <a:lnTo>
                  <a:pt x="330" y="158"/>
                </a:lnTo>
                <a:lnTo>
                  <a:pt x="357" y="92"/>
                </a:lnTo>
                <a:lnTo>
                  <a:pt x="367" y="44"/>
                </a:lnTo>
                <a:lnTo>
                  <a:pt x="37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5067360" y="851040"/>
            <a:ext cx="720720" cy="380880"/>
          </a:xfrm>
          <a:custGeom>
            <a:avLst/>
            <a:gdLst/>
            <a:ahLst/>
            <a:rect l="l" t="t" r="r" b="b"/>
            <a:pathLst>
              <a:path w="454" h="240">
                <a:moveTo>
                  <a:pt x="0" y="239"/>
                </a:moveTo>
                <a:lnTo>
                  <a:pt x="36" y="239"/>
                </a:lnTo>
                <a:lnTo>
                  <a:pt x="82" y="234"/>
                </a:lnTo>
                <a:lnTo>
                  <a:pt x="118" y="221"/>
                </a:lnTo>
                <a:lnTo>
                  <a:pt x="127" y="217"/>
                </a:lnTo>
                <a:lnTo>
                  <a:pt x="145" y="204"/>
                </a:lnTo>
                <a:lnTo>
                  <a:pt x="154" y="182"/>
                </a:lnTo>
                <a:lnTo>
                  <a:pt x="149" y="159"/>
                </a:lnTo>
                <a:lnTo>
                  <a:pt x="134" y="149"/>
                </a:lnTo>
                <a:lnTo>
                  <a:pt x="125" y="139"/>
                </a:lnTo>
                <a:lnTo>
                  <a:pt x="177" y="129"/>
                </a:lnTo>
                <a:lnTo>
                  <a:pt x="224" y="87"/>
                </a:lnTo>
                <a:lnTo>
                  <a:pt x="242" y="52"/>
                </a:lnTo>
                <a:lnTo>
                  <a:pt x="242" y="26"/>
                </a:lnTo>
                <a:lnTo>
                  <a:pt x="278" y="0"/>
                </a:lnTo>
                <a:lnTo>
                  <a:pt x="296" y="0"/>
                </a:lnTo>
                <a:lnTo>
                  <a:pt x="323" y="17"/>
                </a:lnTo>
                <a:lnTo>
                  <a:pt x="331" y="34"/>
                </a:lnTo>
                <a:lnTo>
                  <a:pt x="386" y="61"/>
                </a:lnTo>
                <a:lnTo>
                  <a:pt x="394" y="58"/>
                </a:lnTo>
                <a:lnTo>
                  <a:pt x="439" y="63"/>
                </a:lnTo>
                <a:lnTo>
                  <a:pt x="453" y="6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994280" y="684360"/>
            <a:ext cx="1425600" cy="487080"/>
          </a:xfrm>
          <a:custGeom>
            <a:avLst/>
            <a:gdLst/>
            <a:ahLst/>
            <a:rect l="l" t="t" r="r" b="b"/>
            <a:pathLst>
              <a:path w="898" h="307">
                <a:moveTo>
                  <a:pt x="657" y="207"/>
                </a:moveTo>
                <a:lnTo>
                  <a:pt x="703" y="203"/>
                </a:lnTo>
                <a:lnTo>
                  <a:pt x="739" y="203"/>
                </a:lnTo>
                <a:lnTo>
                  <a:pt x="747" y="201"/>
                </a:lnTo>
                <a:lnTo>
                  <a:pt x="755" y="219"/>
                </a:lnTo>
                <a:lnTo>
                  <a:pt x="765" y="239"/>
                </a:lnTo>
                <a:lnTo>
                  <a:pt x="802" y="252"/>
                </a:lnTo>
                <a:lnTo>
                  <a:pt x="830" y="252"/>
                </a:lnTo>
                <a:lnTo>
                  <a:pt x="866" y="247"/>
                </a:lnTo>
                <a:lnTo>
                  <a:pt x="879" y="239"/>
                </a:lnTo>
                <a:lnTo>
                  <a:pt x="888" y="229"/>
                </a:lnTo>
                <a:lnTo>
                  <a:pt x="897" y="203"/>
                </a:lnTo>
                <a:lnTo>
                  <a:pt x="881" y="183"/>
                </a:lnTo>
                <a:lnTo>
                  <a:pt x="836" y="166"/>
                </a:lnTo>
                <a:lnTo>
                  <a:pt x="793" y="158"/>
                </a:lnTo>
                <a:lnTo>
                  <a:pt x="738" y="140"/>
                </a:lnTo>
                <a:lnTo>
                  <a:pt x="703" y="123"/>
                </a:lnTo>
                <a:lnTo>
                  <a:pt x="648" y="70"/>
                </a:lnTo>
                <a:lnTo>
                  <a:pt x="630" y="52"/>
                </a:lnTo>
                <a:lnTo>
                  <a:pt x="549" y="18"/>
                </a:lnTo>
                <a:lnTo>
                  <a:pt x="512" y="9"/>
                </a:lnTo>
                <a:lnTo>
                  <a:pt x="468" y="0"/>
                </a:lnTo>
                <a:lnTo>
                  <a:pt x="423" y="9"/>
                </a:lnTo>
                <a:lnTo>
                  <a:pt x="395" y="18"/>
                </a:lnTo>
                <a:lnTo>
                  <a:pt x="369" y="35"/>
                </a:lnTo>
                <a:lnTo>
                  <a:pt x="360" y="35"/>
                </a:lnTo>
                <a:lnTo>
                  <a:pt x="306" y="9"/>
                </a:lnTo>
                <a:lnTo>
                  <a:pt x="261" y="18"/>
                </a:lnTo>
                <a:lnTo>
                  <a:pt x="224" y="35"/>
                </a:lnTo>
                <a:lnTo>
                  <a:pt x="171" y="79"/>
                </a:lnTo>
                <a:lnTo>
                  <a:pt x="152" y="123"/>
                </a:lnTo>
                <a:lnTo>
                  <a:pt x="135" y="158"/>
                </a:lnTo>
                <a:lnTo>
                  <a:pt x="117" y="175"/>
                </a:lnTo>
                <a:lnTo>
                  <a:pt x="90" y="183"/>
                </a:lnTo>
                <a:lnTo>
                  <a:pt x="35" y="227"/>
                </a:lnTo>
                <a:lnTo>
                  <a:pt x="18" y="262"/>
                </a:lnTo>
                <a:lnTo>
                  <a:pt x="0" y="30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396120" y="1095480"/>
            <a:ext cx="66600" cy="142920"/>
          </a:xfrm>
          <a:custGeom>
            <a:avLst/>
            <a:gdLst/>
            <a:ahLst/>
            <a:rect l="l" t="t" r="r" b="b"/>
            <a:pathLst>
              <a:path w="42" h="90">
                <a:moveTo>
                  <a:pt x="0" y="0"/>
                </a:moveTo>
                <a:lnTo>
                  <a:pt x="19" y="0"/>
                </a:lnTo>
                <a:lnTo>
                  <a:pt x="37" y="12"/>
                </a:lnTo>
                <a:lnTo>
                  <a:pt x="41" y="34"/>
                </a:lnTo>
                <a:lnTo>
                  <a:pt x="41" y="53"/>
                </a:lnTo>
                <a:lnTo>
                  <a:pt x="37" y="79"/>
                </a:lnTo>
                <a:lnTo>
                  <a:pt x="34" y="8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592600" y="1628640"/>
            <a:ext cx="522360" cy="507960"/>
          </a:xfrm>
          <a:custGeom>
            <a:avLst/>
            <a:gdLst/>
            <a:ahLst/>
            <a:rect l="l" t="t" r="r" b="b"/>
            <a:pathLst>
              <a:path w="329" h="320">
                <a:moveTo>
                  <a:pt x="0" y="175"/>
                </a:moveTo>
                <a:lnTo>
                  <a:pt x="3" y="189"/>
                </a:lnTo>
                <a:lnTo>
                  <a:pt x="7" y="206"/>
                </a:lnTo>
                <a:lnTo>
                  <a:pt x="13" y="220"/>
                </a:lnTo>
                <a:lnTo>
                  <a:pt x="20" y="234"/>
                </a:lnTo>
                <a:lnTo>
                  <a:pt x="27" y="248"/>
                </a:lnTo>
                <a:lnTo>
                  <a:pt x="37" y="260"/>
                </a:lnTo>
                <a:lnTo>
                  <a:pt x="48" y="272"/>
                </a:lnTo>
                <a:lnTo>
                  <a:pt x="60" y="283"/>
                </a:lnTo>
                <a:lnTo>
                  <a:pt x="72" y="292"/>
                </a:lnTo>
                <a:lnTo>
                  <a:pt x="86" y="300"/>
                </a:lnTo>
                <a:lnTo>
                  <a:pt x="101" y="307"/>
                </a:lnTo>
                <a:lnTo>
                  <a:pt x="115" y="312"/>
                </a:lnTo>
                <a:lnTo>
                  <a:pt x="131" y="315"/>
                </a:lnTo>
                <a:lnTo>
                  <a:pt x="146" y="318"/>
                </a:lnTo>
                <a:lnTo>
                  <a:pt x="163" y="319"/>
                </a:lnTo>
                <a:lnTo>
                  <a:pt x="179" y="319"/>
                </a:lnTo>
                <a:lnTo>
                  <a:pt x="194" y="316"/>
                </a:lnTo>
                <a:lnTo>
                  <a:pt x="210" y="312"/>
                </a:lnTo>
                <a:lnTo>
                  <a:pt x="225" y="308"/>
                </a:lnTo>
                <a:lnTo>
                  <a:pt x="239" y="301"/>
                </a:lnTo>
                <a:lnTo>
                  <a:pt x="254" y="294"/>
                </a:lnTo>
                <a:lnTo>
                  <a:pt x="267" y="284"/>
                </a:lnTo>
                <a:lnTo>
                  <a:pt x="278" y="274"/>
                </a:lnTo>
                <a:lnTo>
                  <a:pt x="289" y="263"/>
                </a:lnTo>
                <a:lnTo>
                  <a:pt x="299" y="250"/>
                </a:lnTo>
                <a:lnTo>
                  <a:pt x="308" y="237"/>
                </a:lnTo>
                <a:lnTo>
                  <a:pt x="314" y="223"/>
                </a:lnTo>
                <a:lnTo>
                  <a:pt x="320" y="209"/>
                </a:lnTo>
                <a:lnTo>
                  <a:pt x="324" y="193"/>
                </a:lnTo>
                <a:lnTo>
                  <a:pt x="326" y="178"/>
                </a:lnTo>
                <a:lnTo>
                  <a:pt x="328" y="163"/>
                </a:lnTo>
                <a:lnTo>
                  <a:pt x="327" y="147"/>
                </a:lnTo>
                <a:lnTo>
                  <a:pt x="326" y="131"/>
                </a:lnTo>
                <a:lnTo>
                  <a:pt x="322" y="116"/>
                </a:lnTo>
                <a:lnTo>
                  <a:pt x="316" y="102"/>
                </a:lnTo>
                <a:lnTo>
                  <a:pt x="310" y="87"/>
                </a:lnTo>
                <a:lnTo>
                  <a:pt x="302" y="73"/>
                </a:lnTo>
                <a:lnTo>
                  <a:pt x="293" y="61"/>
                </a:lnTo>
                <a:lnTo>
                  <a:pt x="282" y="49"/>
                </a:lnTo>
                <a:lnTo>
                  <a:pt x="270" y="38"/>
                </a:lnTo>
                <a:lnTo>
                  <a:pt x="258" y="29"/>
                </a:lnTo>
                <a:lnTo>
                  <a:pt x="244" y="20"/>
                </a:lnTo>
                <a:lnTo>
                  <a:pt x="230" y="13"/>
                </a:lnTo>
                <a:lnTo>
                  <a:pt x="216" y="8"/>
                </a:lnTo>
                <a:lnTo>
                  <a:pt x="200" y="4"/>
                </a:lnTo>
                <a:lnTo>
                  <a:pt x="185" y="1"/>
                </a:lnTo>
                <a:lnTo>
                  <a:pt x="168" y="0"/>
                </a:lnTo>
                <a:lnTo>
                  <a:pt x="154" y="0"/>
                </a:lnTo>
                <a:lnTo>
                  <a:pt x="0" y="175"/>
                </a:lnTo>
              </a:path>
            </a:pathLst>
          </a:custGeom>
          <a:solidFill>
            <a:srgbClr val="ff9975"/>
          </a:solidFill>
          <a:ln cap="rnd" w="12600">
            <a:solidFill>
              <a:srgbClr val="ff997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595840" y="1628640"/>
            <a:ext cx="519120" cy="507960"/>
          </a:xfrm>
          <a:custGeom>
            <a:avLst/>
            <a:gdLst/>
            <a:ahLst/>
            <a:rect l="l" t="t" r="r" b="b"/>
            <a:pathLst>
              <a:path w="327" h="320">
                <a:moveTo>
                  <a:pt x="0" y="189"/>
                </a:moveTo>
                <a:lnTo>
                  <a:pt x="4" y="206"/>
                </a:lnTo>
                <a:lnTo>
                  <a:pt x="10" y="220"/>
                </a:lnTo>
                <a:lnTo>
                  <a:pt x="17" y="234"/>
                </a:lnTo>
                <a:lnTo>
                  <a:pt x="24" y="248"/>
                </a:lnTo>
                <a:lnTo>
                  <a:pt x="34" y="260"/>
                </a:lnTo>
                <a:lnTo>
                  <a:pt x="45" y="272"/>
                </a:lnTo>
                <a:lnTo>
                  <a:pt x="57" y="283"/>
                </a:lnTo>
                <a:lnTo>
                  <a:pt x="70" y="292"/>
                </a:lnTo>
                <a:lnTo>
                  <a:pt x="83" y="300"/>
                </a:lnTo>
                <a:lnTo>
                  <a:pt x="98" y="307"/>
                </a:lnTo>
                <a:lnTo>
                  <a:pt x="113" y="312"/>
                </a:lnTo>
                <a:lnTo>
                  <a:pt x="128" y="315"/>
                </a:lnTo>
                <a:lnTo>
                  <a:pt x="144" y="318"/>
                </a:lnTo>
                <a:lnTo>
                  <a:pt x="161" y="319"/>
                </a:lnTo>
                <a:lnTo>
                  <a:pt x="176" y="319"/>
                </a:lnTo>
                <a:lnTo>
                  <a:pt x="192" y="316"/>
                </a:lnTo>
                <a:lnTo>
                  <a:pt x="208" y="312"/>
                </a:lnTo>
                <a:lnTo>
                  <a:pt x="222" y="308"/>
                </a:lnTo>
                <a:lnTo>
                  <a:pt x="237" y="301"/>
                </a:lnTo>
                <a:lnTo>
                  <a:pt x="252" y="294"/>
                </a:lnTo>
                <a:lnTo>
                  <a:pt x="264" y="284"/>
                </a:lnTo>
                <a:lnTo>
                  <a:pt x="276" y="274"/>
                </a:lnTo>
                <a:lnTo>
                  <a:pt x="287" y="263"/>
                </a:lnTo>
                <a:lnTo>
                  <a:pt x="297" y="250"/>
                </a:lnTo>
                <a:lnTo>
                  <a:pt x="305" y="237"/>
                </a:lnTo>
                <a:lnTo>
                  <a:pt x="312" y="223"/>
                </a:lnTo>
                <a:lnTo>
                  <a:pt x="318" y="209"/>
                </a:lnTo>
                <a:lnTo>
                  <a:pt x="322" y="193"/>
                </a:lnTo>
                <a:lnTo>
                  <a:pt x="324" y="178"/>
                </a:lnTo>
                <a:lnTo>
                  <a:pt x="326" y="163"/>
                </a:lnTo>
                <a:lnTo>
                  <a:pt x="325" y="147"/>
                </a:lnTo>
                <a:lnTo>
                  <a:pt x="324" y="131"/>
                </a:lnTo>
                <a:lnTo>
                  <a:pt x="320" y="116"/>
                </a:lnTo>
                <a:lnTo>
                  <a:pt x="314" y="102"/>
                </a:lnTo>
                <a:lnTo>
                  <a:pt x="308" y="87"/>
                </a:lnTo>
                <a:lnTo>
                  <a:pt x="300" y="73"/>
                </a:lnTo>
                <a:lnTo>
                  <a:pt x="291" y="61"/>
                </a:lnTo>
                <a:lnTo>
                  <a:pt x="280" y="49"/>
                </a:lnTo>
                <a:lnTo>
                  <a:pt x="268" y="38"/>
                </a:lnTo>
                <a:lnTo>
                  <a:pt x="256" y="29"/>
                </a:lnTo>
                <a:lnTo>
                  <a:pt x="242" y="20"/>
                </a:lnTo>
                <a:lnTo>
                  <a:pt x="228" y="13"/>
                </a:lnTo>
                <a:lnTo>
                  <a:pt x="213" y="8"/>
                </a:lnTo>
                <a:lnTo>
                  <a:pt x="198" y="4"/>
                </a:lnTo>
                <a:lnTo>
                  <a:pt x="182" y="1"/>
                </a:lnTo>
                <a:lnTo>
                  <a:pt x="165" y="0"/>
                </a:lnTo>
                <a:lnTo>
                  <a:pt x="152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5479920" y="1293840"/>
            <a:ext cx="139680" cy="155520"/>
          </a:xfrm>
          <a:custGeom>
            <a:avLst/>
            <a:gdLst/>
            <a:ahLst/>
            <a:rect l="l" t="t" r="r" b="b"/>
            <a:pathLst>
              <a:path w="88" h="98">
                <a:moveTo>
                  <a:pt x="48" y="46"/>
                </a:moveTo>
                <a:lnTo>
                  <a:pt x="87" y="25"/>
                </a:lnTo>
                <a:lnTo>
                  <a:pt x="84" y="18"/>
                </a:lnTo>
                <a:lnTo>
                  <a:pt x="82" y="12"/>
                </a:lnTo>
                <a:lnTo>
                  <a:pt x="78" y="7"/>
                </a:lnTo>
                <a:lnTo>
                  <a:pt x="72" y="4"/>
                </a:lnTo>
                <a:lnTo>
                  <a:pt x="66" y="1"/>
                </a:lnTo>
                <a:lnTo>
                  <a:pt x="60" y="0"/>
                </a:lnTo>
                <a:lnTo>
                  <a:pt x="53" y="0"/>
                </a:lnTo>
                <a:lnTo>
                  <a:pt x="46" y="1"/>
                </a:lnTo>
                <a:lnTo>
                  <a:pt x="39" y="4"/>
                </a:lnTo>
                <a:lnTo>
                  <a:pt x="31" y="8"/>
                </a:lnTo>
                <a:lnTo>
                  <a:pt x="24" y="13"/>
                </a:lnTo>
                <a:lnTo>
                  <a:pt x="18" y="20"/>
                </a:lnTo>
                <a:lnTo>
                  <a:pt x="13" y="27"/>
                </a:lnTo>
                <a:lnTo>
                  <a:pt x="8" y="35"/>
                </a:lnTo>
                <a:lnTo>
                  <a:pt x="4" y="43"/>
                </a:lnTo>
                <a:lnTo>
                  <a:pt x="2" y="52"/>
                </a:lnTo>
                <a:lnTo>
                  <a:pt x="0" y="60"/>
                </a:lnTo>
                <a:lnTo>
                  <a:pt x="0" y="67"/>
                </a:lnTo>
                <a:lnTo>
                  <a:pt x="2" y="75"/>
                </a:lnTo>
                <a:lnTo>
                  <a:pt x="4" y="81"/>
                </a:lnTo>
                <a:lnTo>
                  <a:pt x="7" y="86"/>
                </a:lnTo>
                <a:lnTo>
                  <a:pt x="12" y="91"/>
                </a:lnTo>
                <a:lnTo>
                  <a:pt x="17" y="95"/>
                </a:lnTo>
                <a:lnTo>
                  <a:pt x="23" y="96"/>
                </a:lnTo>
                <a:lnTo>
                  <a:pt x="31" y="97"/>
                </a:lnTo>
                <a:lnTo>
                  <a:pt x="37" y="96"/>
                </a:lnTo>
                <a:lnTo>
                  <a:pt x="45" y="93"/>
                </a:lnTo>
                <a:lnTo>
                  <a:pt x="53" y="89"/>
                </a:lnTo>
                <a:lnTo>
                  <a:pt x="59" y="85"/>
                </a:lnTo>
                <a:lnTo>
                  <a:pt x="66" y="79"/>
                </a:lnTo>
                <a:lnTo>
                  <a:pt x="71" y="72"/>
                </a:lnTo>
                <a:lnTo>
                  <a:pt x="76" y="65"/>
                </a:lnTo>
                <a:lnTo>
                  <a:pt x="81" y="57"/>
                </a:lnTo>
                <a:lnTo>
                  <a:pt x="84" y="48"/>
                </a:lnTo>
                <a:lnTo>
                  <a:pt x="48" y="4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5977080" y="1440000"/>
            <a:ext cx="139680" cy="153720"/>
          </a:xfrm>
          <a:custGeom>
            <a:avLst/>
            <a:gdLst/>
            <a:ahLst/>
            <a:rect l="l" t="t" r="r" b="b"/>
            <a:pathLst>
              <a:path w="88" h="97">
                <a:moveTo>
                  <a:pt x="48" y="46"/>
                </a:moveTo>
                <a:lnTo>
                  <a:pt x="87" y="25"/>
                </a:lnTo>
                <a:lnTo>
                  <a:pt x="84" y="19"/>
                </a:lnTo>
                <a:lnTo>
                  <a:pt x="81" y="13"/>
                </a:lnTo>
                <a:lnTo>
                  <a:pt x="78" y="8"/>
                </a:lnTo>
                <a:lnTo>
                  <a:pt x="72" y="4"/>
                </a:lnTo>
                <a:lnTo>
                  <a:pt x="66" y="2"/>
                </a:lnTo>
                <a:lnTo>
                  <a:pt x="60" y="0"/>
                </a:lnTo>
                <a:lnTo>
                  <a:pt x="53" y="0"/>
                </a:lnTo>
                <a:lnTo>
                  <a:pt x="45" y="2"/>
                </a:lnTo>
                <a:lnTo>
                  <a:pt x="38" y="5"/>
                </a:lnTo>
                <a:lnTo>
                  <a:pt x="31" y="8"/>
                </a:lnTo>
                <a:lnTo>
                  <a:pt x="24" y="14"/>
                </a:lnTo>
                <a:lnTo>
                  <a:pt x="18" y="21"/>
                </a:lnTo>
                <a:lnTo>
                  <a:pt x="13" y="27"/>
                </a:lnTo>
                <a:lnTo>
                  <a:pt x="8" y="35"/>
                </a:lnTo>
                <a:lnTo>
                  <a:pt x="4" y="43"/>
                </a:lnTo>
                <a:lnTo>
                  <a:pt x="1" y="52"/>
                </a:lnTo>
                <a:lnTo>
                  <a:pt x="0" y="59"/>
                </a:lnTo>
                <a:lnTo>
                  <a:pt x="0" y="68"/>
                </a:lnTo>
                <a:lnTo>
                  <a:pt x="1" y="74"/>
                </a:lnTo>
                <a:lnTo>
                  <a:pt x="4" y="80"/>
                </a:lnTo>
                <a:lnTo>
                  <a:pt x="7" y="87"/>
                </a:lnTo>
                <a:lnTo>
                  <a:pt x="12" y="90"/>
                </a:lnTo>
                <a:lnTo>
                  <a:pt x="17" y="94"/>
                </a:lnTo>
                <a:lnTo>
                  <a:pt x="23" y="95"/>
                </a:lnTo>
                <a:lnTo>
                  <a:pt x="30" y="96"/>
                </a:lnTo>
                <a:lnTo>
                  <a:pt x="37" y="95"/>
                </a:lnTo>
                <a:lnTo>
                  <a:pt x="45" y="92"/>
                </a:lnTo>
                <a:lnTo>
                  <a:pt x="52" y="89"/>
                </a:lnTo>
                <a:lnTo>
                  <a:pt x="59" y="85"/>
                </a:lnTo>
                <a:lnTo>
                  <a:pt x="66" y="78"/>
                </a:lnTo>
                <a:lnTo>
                  <a:pt x="72" y="72"/>
                </a:lnTo>
                <a:lnTo>
                  <a:pt x="76" y="64"/>
                </a:lnTo>
                <a:lnTo>
                  <a:pt x="81" y="56"/>
                </a:lnTo>
                <a:lnTo>
                  <a:pt x="84" y="49"/>
                </a:lnTo>
                <a:lnTo>
                  <a:pt x="48" y="4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5343480" y="1055520"/>
            <a:ext cx="442800" cy="365400"/>
          </a:xfrm>
          <a:custGeom>
            <a:avLst/>
            <a:gdLst/>
            <a:ahLst/>
            <a:rect l="l" t="t" r="r" b="b"/>
            <a:pathLst>
              <a:path w="279" h="230">
                <a:moveTo>
                  <a:pt x="0" y="220"/>
                </a:moveTo>
                <a:lnTo>
                  <a:pt x="11" y="195"/>
                </a:lnTo>
                <a:lnTo>
                  <a:pt x="22" y="168"/>
                </a:lnTo>
                <a:lnTo>
                  <a:pt x="35" y="151"/>
                </a:lnTo>
                <a:lnTo>
                  <a:pt x="58" y="122"/>
                </a:lnTo>
                <a:lnTo>
                  <a:pt x="75" y="105"/>
                </a:lnTo>
                <a:lnTo>
                  <a:pt x="94" y="86"/>
                </a:lnTo>
                <a:lnTo>
                  <a:pt x="100" y="81"/>
                </a:lnTo>
                <a:lnTo>
                  <a:pt x="122" y="64"/>
                </a:lnTo>
                <a:lnTo>
                  <a:pt x="149" y="44"/>
                </a:lnTo>
                <a:lnTo>
                  <a:pt x="182" y="20"/>
                </a:lnTo>
                <a:lnTo>
                  <a:pt x="207" y="10"/>
                </a:lnTo>
                <a:lnTo>
                  <a:pt x="230" y="2"/>
                </a:lnTo>
                <a:lnTo>
                  <a:pt x="240" y="0"/>
                </a:lnTo>
                <a:lnTo>
                  <a:pt x="253" y="0"/>
                </a:lnTo>
                <a:lnTo>
                  <a:pt x="264" y="2"/>
                </a:lnTo>
                <a:lnTo>
                  <a:pt x="271" y="9"/>
                </a:lnTo>
                <a:lnTo>
                  <a:pt x="278" y="29"/>
                </a:lnTo>
                <a:lnTo>
                  <a:pt x="278" y="48"/>
                </a:lnTo>
                <a:lnTo>
                  <a:pt x="273" y="71"/>
                </a:lnTo>
                <a:lnTo>
                  <a:pt x="262" y="98"/>
                </a:lnTo>
                <a:lnTo>
                  <a:pt x="245" y="134"/>
                </a:lnTo>
                <a:lnTo>
                  <a:pt x="231" y="157"/>
                </a:lnTo>
                <a:lnTo>
                  <a:pt x="211" y="189"/>
                </a:lnTo>
                <a:lnTo>
                  <a:pt x="185" y="229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5929200" y="1211400"/>
            <a:ext cx="328680" cy="355320"/>
          </a:xfrm>
          <a:custGeom>
            <a:avLst/>
            <a:gdLst/>
            <a:ahLst/>
            <a:rect l="l" t="t" r="r" b="b"/>
            <a:pathLst>
              <a:path w="207" h="224">
                <a:moveTo>
                  <a:pt x="0" y="223"/>
                </a:moveTo>
                <a:lnTo>
                  <a:pt x="13" y="177"/>
                </a:lnTo>
                <a:lnTo>
                  <a:pt x="29" y="134"/>
                </a:lnTo>
                <a:lnTo>
                  <a:pt x="50" y="99"/>
                </a:lnTo>
                <a:lnTo>
                  <a:pt x="83" y="55"/>
                </a:lnTo>
                <a:lnTo>
                  <a:pt x="108" y="30"/>
                </a:lnTo>
                <a:lnTo>
                  <a:pt x="130" y="11"/>
                </a:lnTo>
                <a:lnTo>
                  <a:pt x="145" y="3"/>
                </a:lnTo>
                <a:lnTo>
                  <a:pt x="166" y="0"/>
                </a:lnTo>
                <a:lnTo>
                  <a:pt x="185" y="3"/>
                </a:lnTo>
                <a:lnTo>
                  <a:pt x="200" y="12"/>
                </a:lnTo>
                <a:lnTo>
                  <a:pt x="206" y="31"/>
                </a:lnTo>
                <a:lnTo>
                  <a:pt x="206" y="54"/>
                </a:lnTo>
                <a:lnTo>
                  <a:pt x="199" y="88"/>
                </a:lnTo>
                <a:lnTo>
                  <a:pt x="184" y="131"/>
                </a:lnTo>
                <a:lnTo>
                  <a:pt x="166" y="165"/>
                </a:lnTo>
                <a:lnTo>
                  <a:pt x="145" y="195"/>
                </a:lnTo>
                <a:lnTo>
                  <a:pt x="142" y="200"/>
                </a:lnTo>
                <a:lnTo>
                  <a:pt x="128" y="21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388120" y="2068560"/>
            <a:ext cx="428400" cy="230040"/>
          </a:xfrm>
          <a:custGeom>
            <a:avLst/>
            <a:gdLst/>
            <a:ahLst/>
            <a:rect l="l" t="t" r="r" b="b"/>
            <a:pathLst>
              <a:path w="270" h="145">
                <a:moveTo>
                  <a:pt x="269" y="117"/>
                </a:moveTo>
                <a:lnTo>
                  <a:pt x="267" y="118"/>
                </a:lnTo>
                <a:lnTo>
                  <a:pt x="259" y="126"/>
                </a:lnTo>
                <a:lnTo>
                  <a:pt x="251" y="133"/>
                </a:lnTo>
                <a:lnTo>
                  <a:pt x="242" y="137"/>
                </a:lnTo>
                <a:lnTo>
                  <a:pt x="232" y="142"/>
                </a:lnTo>
                <a:lnTo>
                  <a:pt x="221" y="144"/>
                </a:lnTo>
                <a:lnTo>
                  <a:pt x="210" y="143"/>
                </a:lnTo>
                <a:lnTo>
                  <a:pt x="183" y="140"/>
                </a:lnTo>
                <a:lnTo>
                  <a:pt x="167" y="134"/>
                </a:lnTo>
                <a:lnTo>
                  <a:pt x="155" y="128"/>
                </a:lnTo>
                <a:lnTo>
                  <a:pt x="144" y="120"/>
                </a:lnTo>
                <a:lnTo>
                  <a:pt x="135" y="112"/>
                </a:lnTo>
                <a:lnTo>
                  <a:pt x="126" y="102"/>
                </a:lnTo>
                <a:lnTo>
                  <a:pt x="119" y="92"/>
                </a:lnTo>
                <a:lnTo>
                  <a:pt x="113" y="81"/>
                </a:lnTo>
                <a:lnTo>
                  <a:pt x="105" y="56"/>
                </a:lnTo>
                <a:lnTo>
                  <a:pt x="103" y="49"/>
                </a:lnTo>
                <a:lnTo>
                  <a:pt x="101" y="44"/>
                </a:lnTo>
                <a:lnTo>
                  <a:pt x="97" y="38"/>
                </a:lnTo>
                <a:lnTo>
                  <a:pt x="92" y="34"/>
                </a:lnTo>
                <a:lnTo>
                  <a:pt x="86" y="31"/>
                </a:lnTo>
                <a:lnTo>
                  <a:pt x="80" y="29"/>
                </a:lnTo>
                <a:lnTo>
                  <a:pt x="73" y="29"/>
                </a:lnTo>
                <a:lnTo>
                  <a:pt x="57" y="33"/>
                </a:lnTo>
                <a:lnTo>
                  <a:pt x="48" y="34"/>
                </a:lnTo>
                <a:lnTo>
                  <a:pt x="39" y="32"/>
                </a:lnTo>
                <a:lnTo>
                  <a:pt x="30" y="30"/>
                </a:lnTo>
                <a:lnTo>
                  <a:pt x="22" y="27"/>
                </a:lnTo>
                <a:lnTo>
                  <a:pt x="16" y="22"/>
                </a:lnTo>
                <a:lnTo>
                  <a:pt x="9" y="15"/>
                </a:lnTo>
                <a:lnTo>
                  <a:pt x="4" y="8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329080" y="2030400"/>
            <a:ext cx="316080" cy="407880"/>
          </a:xfrm>
          <a:custGeom>
            <a:avLst/>
            <a:gdLst/>
            <a:ahLst/>
            <a:rect l="l" t="t" r="r" b="b"/>
            <a:pathLst>
              <a:path w="199" h="257">
                <a:moveTo>
                  <a:pt x="198" y="256"/>
                </a:moveTo>
                <a:lnTo>
                  <a:pt x="189" y="254"/>
                </a:lnTo>
                <a:lnTo>
                  <a:pt x="178" y="250"/>
                </a:lnTo>
                <a:lnTo>
                  <a:pt x="169" y="245"/>
                </a:lnTo>
                <a:lnTo>
                  <a:pt x="160" y="238"/>
                </a:lnTo>
                <a:lnTo>
                  <a:pt x="152" y="230"/>
                </a:lnTo>
                <a:lnTo>
                  <a:pt x="145" y="217"/>
                </a:lnTo>
                <a:lnTo>
                  <a:pt x="142" y="212"/>
                </a:lnTo>
                <a:lnTo>
                  <a:pt x="139" y="207"/>
                </a:lnTo>
                <a:lnTo>
                  <a:pt x="135" y="204"/>
                </a:lnTo>
                <a:lnTo>
                  <a:pt x="130" y="203"/>
                </a:lnTo>
                <a:lnTo>
                  <a:pt x="124" y="203"/>
                </a:lnTo>
                <a:lnTo>
                  <a:pt x="119" y="204"/>
                </a:lnTo>
                <a:lnTo>
                  <a:pt x="114" y="207"/>
                </a:lnTo>
                <a:lnTo>
                  <a:pt x="106" y="218"/>
                </a:lnTo>
                <a:lnTo>
                  <a:pt x="99" y="223"/>
                </a:lnTo>
                <a:lnTo>
                  <a:pt x="93" y="226"/>
                </a:lnTo>
                <a:lnTo>
                  <a:pt x="85" y="228"/>
                </a:lnTo>
                <a:lnTo>
                  <a:pt x="77" y="229"/>
                </a:lnTo>
                <a:lnTo>
                  <a:pt x="69" y="228"/>
                </a:lnTo>
                <a:lnTo>
                  <a:pt x="61" y="225"/>
                </a:lnTo>
                <a:lnTo>
                  <a:pt x="55" y="222"/>
                </a:lnTo>
                <a:lnTo>
                  <a:pt x="46" y="211"/>
                </a:lnTo>
                <a:lnTo>
                  <a:pt x="42" y="197"/>
                </a:lnTo>
                <a:lnTo>
                  <a:pt x="39" y="181"/>
                </a:lnTo>
                <a:lnTo>
                  <a:pt x="38" y="167"/>
                </a:lnTo>
                <a:lnTo>
                  <a:pt x="39" y="152"/>
                </a:lnTo>
                <a:lnTo>
                  <a:pt x="41" y="138"/>
                </a:lnTo>
                <a:lnTo>
                  <a:pt x="45" y="122"/>
                </a:lnTo>
                <a:lnTo>
                  <a:pt x="50" y="101"/>
                </a:lnTo>
                <a:lnTo>
                  <a:pt x="49" y="95"/>
                </a:lnTo>
                <a:lnTo>
                  <a:pt x="47" y="88"/>
                </a:lnTo>
                <a:lnTo>
                  <a:pt x="43" y="82"/>
                </a:lnTo>
                <a:lnTo>
                  <a:pt x="38" y="77"/>
                </a:lnTo>
                <a:lnTo>
                  <a:pt x="31" y="73"/>
                </a:lnTo>
                <a:lnTo>
                  <a:pt x="25" y="72"/>
                </a:lnTo>
                <a:lnTo>
                  <a:pt x="19" y="71"/>
                </a:lnTo>
                <a:lnTo>
                  <a:pt x="13" y="67"/>
                </a:lnTo>
                <a:lnTo>
                  <a:pt x="8" y="61"/>
                </a:lnTo>
                <a:lnTo>
                  <a:pt x="4" y="54"/>
                </a:lnTo>
                <a:lnTo>
                  <a:pt x="1" y="47"/>
                </a:lnTo>
                <a:lnTo>
                  <a:pt x="0" y="39"/>
                </a:lnTo>
                <a:lnTo>
                  <a:pt x="0" y="32"/>
                </a:lnTo>
                <a:lnTo>
                  <a:pt x="2" y="24"/>
                </a:lnTo>
                <a:lnTo>
                  <a:pt x="6" y="17"/>
                </a:lnTo>
                <a:lnTo>
                  <a:pt x="11" y="11"/>
                </a:lnTo>
                <a:lnTo>
                  <a:pt x="17" y="6"/>
                </a:lnTo>
                <a:lnTo>
                  <a:pt x="23" y="2"/>
                </a:lnTo>
                <a:lnTo>
                  <a:pt x="31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3884760" y="2725560"/>
            <a:ext cx="404640" cy="330480"/>
          </a:xfrm>
          <a:custGeom>
            <a:avLst/>
            <a:gdLst/>
            <a:ahLst/>
            <a:rect l="l" t="t" r="r" b="b"/>
            <a:pathLst>
              <a:path w="255" h="208">
                <a:moveTo>
                  <a:pt x="0" y="72"/>
                </a:moveTo>
                <a:lnTo>
                  <a:pt x="22" y="44"/>
                </a:lnTo>
                <a:lnTo>
                  <a:pt x="42" y="22"/>
                </a:lnTo>
                <a:lnTo>
                  <a:pt x="64" y="7"/>
                </a:lnTo>
                <a:lnTo>
                  <a:pt x="92" y="0"/>
                </a:lnTo>
                <a:lnTo>
                  <a:pt x="116" y="0"/>
                </a:lnTo>
                <a:lnTo>
                  <a:pt x="140" y="2"/>
                </a:lnTo>
                <a:lnTo>
                  <a:pt x="150" y="9"/>
                </a:lnTo>
                <a:lnTo>
                  <a:pt x="157" y="22"/>
                </a:lnTo>
                <a:lnTo>
                  <a:pt x="164" y="44"/>
                </a:lnTo>
                <a:lnTo>
                  <a:pt x="168" y="64"/>
                </a:lnTo>
                <a:lnTo>
                  <a:pt x="196" y="83"/>
                </a:lnTo>
                <a:lnTo>
                  <a:pt x="230" y="105"/>
                </a:lnTo>
                <a:lnTo>
                  <a:pt x="247" y="118"/>
                </a:lnTo>
                <a:lnTo>
                  <a:pt x="254" y="134"/>
                </a:lnTo>
                <a:lnTo>
                  <a:pt x="254" y="152"/>
                </a:lnTo>
                <a:lnTo>
                  <a:pt x="254" y="165"/>
                </a:lnTo>
                <a:lnTo>
                  <a:pt x="235" y="182"/>
                </a:lnTo>
                <a:lnTo>
                  <a:pt x="223" y="193"/>
                </a:lnTo>
                <a:lnTo>
                  <a:pt x="202" y="204"/>
                </a:lnTo>
                <a:lnTo>
                  <a:pt x="187" y="207"/>
                </a:lnTo>
                <a:lnTo>
                  <a:pt x="157" y="207"/>
                </a:lnTo>
                <a:lnTo>
                  <a:pt x="119" y="197"/>
                </a:lnTo>
                <a:lnTo>
                  <a:pt x="103" y="19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3740040" y="2954160"/>
            <a:ext cx="312840" cy="520920"/>
          </a:xfrm>
          <a:custGeom>
            <a:avLst/>
            <a:gdLst/>
            <a:ahLst/>
            <a:rect l="l" t="t" r="r" b="b"/>
            <a:pathLst>
              <a:path w="197" h="328">
                <a:moveTo>
                  <a:pt x="31" y="0"/>
                </a:moveTo>
                <a:lnTo>
                  <a:pt x="13" y="20"/>
                </a:lnTo>
                <a:lnTo>
                  <a:pt x="5" y="42"/>
                </a:lnTo>
                <a:lnTo>
                  <a:pt x="0" y="66"/>
                </a:lnTo>
                <a:lnTo>
                  <a:pt x="9" y="110"/>
                </a:lnTo>
                <a:lnTo>
                  <a:pt x="24" y="135"/>
                </a:lnTo>
                <a:lnTo>
                  <a:pt x="50" y="164"/>
                </a:lnTo>
                <a:lnTo>
                  <a:pt x="60" y="186"/>
                </a:lnTo>
                <a:lnTo>
                  <a:pt x="67" y="222"/>
                </a:lnTo>
                <a:lnTo>
                  <a:pt x="67" y="243"/>
                </a:lnTo>
                <a:lnTo>
                  <a:pt x="62" y="263"/>
                </a:lnTo>
                <a:lnTo>
                  <a:pt x="65" y="292"/>
                </a:lnTo>
                <a:lnTo>
                  <a:pt x="72" y="314"/>
                </a:lnTo>
                <a:lnTo>
                  <a:pt x="84" y="322"/>
                </a:lnTo>
                <a:lnTo>
                  <a:pt x="114" y="327"/>
                </a:lnTo>
                <a:lnTo>
                  <a:pt x="139" y="322"/>
                </a:lnTo>
                <a:lnTo>
                  <a:pt x="163" y="312"/>
                </a:lnTo>
                <a:lnTo>
                  <a:pt x="177" y="294"/>
                </a:lnTo>
                <a:lnTo>
                  <a:pt x="189" y="272"/>
                </a:lnTo>
                <a:lnTo>
                  <a:pt x="196" y="248"/>
                </a:lnTo>
                <a:lnTo>
                  <a:pt x="193" y="216"/>
                </a:lnTo>
                <a:lnTo>
                  <a:pt x="186" y="194"/>
                </a:lnTo>
                <a:lnTo>
                  <a:pt x="169" y="164"/>
                </a:lnTo>
                <a:lnTo>
                  <a:pt x="160" y="141"/>
                </a:lnTo>
                <a:lnTo>
                  <a:pt x="148" y="113"/>
                </a:lnTo>
                <a:lnTo>
                  <a:pt x="141" y="83"/>
                </a:lnTo>
                <a:lnTo>
                  <a:pt x="144" y="64"/>
                </a:lnTo>
                <a:lnTo>
                  <a:pt x="148" y="29"/>
                </a:lnTo>
                <a:lnTo>
                  <a:pt x="146" y="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3689280" y="3075120"/>
            <a:ext cx="144360" cy="403200"/>
          </a:xfrm>
          <a:custGeom>
            <a:avLst/>
            <a:gdLst/>
            <a:ahLst/>
            <a:rect l="l" t="t" r="r" b="b"/>
            <a:pathLst>
              <a:path w="91" h="254">
                <a:moveTo>
                  <a:pt x="10" y="0"/>
                </a:moveTo>
                <a:lnTo>
                  <a:pt x="3" y="15"/>
                </a:lnTo>
                <a:lnTo>
                  <a:pt x="0" y="40"/>
                </a:lnTo>
                <a:lnTo>
                  <a:pt x="5" y="66"/>
                </a:lnTo>
                <a:lnTo>
                  <a:pt x="15" y="93"/>
                </a:lnTo>
                <a:lnTo>
                  <a:pt x="25" y="119"/>
                </a:lnTo>
                <a:lnTo>
                  <a:pt x="32" y="140"/>
                </a:lnTo>
                <a:lnTo>
                  <a:pt x="32" y="170"/>
                </a:lnTo>
                <a:lnTo>
                  <a:pt x="29" y="190"/>
                </a:lnTo>
                <a:lnTo>
                  <a:pt x="27" y="207"/>
                </a:lnTo>
                <a:lnTo>
                  <a:pt x="29" y="222"/>
                </a:lnTo>
                <a:lnTo>
                  <a:pt x="32" y="240"/>
                </a:lnTo>
                <a:lnTo>
                  <a:pt x="41" y="249"/>
                </a:lnTo>
                <a:lnTo>
                  <a:pt x="53" y="253"/>
                </a:lnTo>
                <a:lnTo>
                  <a:pt x="70" y="251"/>
                </a:lnTo>
                <a:lnTo>
                  <a:pt x="84" y="246"/>
                </a:lnTo>
                <a:lnTo>
                  <a:pt x="90" y="23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>
            <a:off x="3592440" y="2898720"/>
            <a:ext cx="135000" cy="480960"/>
          </a:xfrm>
          <a:custGeom>
            <a:avLst/>
            <a:gdLst/>
            <a:ahLst/>
            <a:rect l="l" t="t" r="r" b="b"/>
            <a:pathLst>
              <a:path w="85" h="303">
                <a:moveTo>
                  <a:pt x="75" y="0"/>
                </a:moveTo>
                <a:lnTo>
                  <a:pt x="45" y="27"/>
                </a:lnTo>
                <a:lnTo>
                  <a:pt x="25" y="46"/>
                </a:lnTo>
                <a:lnTo>
                  <a:pt x="12" y="73"/>
                </a:lnTo>
                <a:lnTo>
                  <a:pt x="3" y="93"/>
                </a:lnTo>
                <a:lnTo>
                  <a:pt x="0" y="119"/>
                </a:lnTo>
                <a:lnTo>
                  <a:pt x="4" y="141"/>
                </a:lnTo>
                <a:lnTo>
                  <a:pt x="18" y="171"/>
                </a:lnTo>
                <a:lnTo>
                  <a:pt x="33" y="193"/>
                </a:lnTo>
                <a:lnTo>
                  <a:pt x="48" y="206"/>
                </a:lnTo>
                <a:lnTo>
                  <a:pt x="52" y="225"/>
                </a:lnTo>
                <a:lnTo>
                  <a:pt x="52" y="233"/>
                </a:lnTo>
                <a:lnTo>
                  <a:pt x="48" y="248"/>
                </a:lnTo>
                <a:lnTo>
                  <a:pt x="45" y="260"/>
                </a:lnTo>
                <a:lnTo>
                  <a:pt x="49" y="282"/>
                </a:lnTo>
                <a:lnTo>
                  <a:pt x="61" y="294"/>
                </a:lnTo>
                <a:lnTo>
                  <a:pt x="72" y="299"/>
                </a:lnTo>
                <a:lnTo>
                  <a:pt x="84" y="30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6637320" y="3086280"/>
            <a:ext cx="115920" cy="311040"/>
          </a:xfrm>
          <a:custGeom>
            <a:avLst/>
            <a:gdLst/>
            <a:ahLst/>
            <a:rect l="l" t="t" r="r" b="b"/>
            <a:pathLst>
              <a:path w="73" h="196">
                <a:moveTo>
                  <a:pt x="48" y="0"/>
                </a:moveTo>
                <a:lnTo>
                  <a:pt x="62" y="15"/>
                </a:lnTo>
                <a:lnTo>
                  <a:pt x="72" y="40"/>
                </a:lnTo>
                <a:lnTo>
                  <a:pt x="72" y="62"/>
                </a:lnTo>
                <a:lnTo>
                  <a:pt x="69" y="81"/>
                </a:lnTo>
                <a:lnTo>
                  <a:pt x="67" y="116"/>
                </a:lnTo>
                <a:lnTo>
                  <a:pt x="67" y="133"/>
                </a:lnTo>
                <a:lnTo>
                  <a:pt x="65" y="160"/>
                </a:lnTo>
                <a:lnTo>
                  <a:pt x="60" y="175"/>
                </a:lnTo>
                <a:lnTo>
                  <a:pt x="52" y="186"/>
                </a:lnTo>
                <a:lnTo>
                  <a:pt x="40" y="195"/>
                </a:lnTo>
                <a:lnTo>
                  <a:pt x="18" y="195"/>
                </a:lnTo>
                <a:lnTo>
                  <a:pt x="0" y="19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>
            <a:off x="6740640" y="3233880"/>
            <a:ext cx="61920" cy="168120"/>
          </a:xfrm>
          <a:custGeom>
            <a:avLst/>
            <a:gdLst/>
            <a:ahLst/>
            <a:rect l="l" t="t" r="r" b="b"/>
            <a:pathLst>
              <a:path w="39" h="106">
                <a:moveTo>
                  <a:pt x="16" y="0"/>
                </a:moveTo>
                <a:lnTo>
                  <a:pt x="27" y="15"/>
                </a:lnTo>
                <a:lnTo>
                  <a:pt x="34" y="24"/>
                </a:lnTo>
                <a:lnTo>
                  <a:pt x="38" y="44"/>
                </a:lnTo>
                <a:lnTo>
                  <a:pt x="36" y="59"/>
                </a:lnTo>
                <a:lnTo>
                  <a:pt x="31" y="74"/>
                </a:lnTo>
                <a:lnTo>
                  <a:pt x="18" y="85"/>
                </a:lnTo>
                <a:lnTo>
                  <a:pt x="12" y="96"/>
                </a:lnTo>
                <a:lnTo>
                  <a:pt x="0" y="10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>
            <a:off x="6461280" y="2938320"/>
            <a:ext cx="258480" cy="551160"/>
          </a:xfrm>
          <a:custGeom>
            <a:avLst/>
            <a:gdLst/>
            <a:ahLst/>
            <a:rect l="l" t="t" r="r" b="b"/>
            <a:pathLst>
              <a:path w="163" h="347">
                <a:moveTo>
                  <a:pt x="78" y="0"/>
                </a:moveTo>
                <a:lnTo>
                  <a:pt x="90" y="5"/>
                </a:lnTo>
                <a:lnTo>
                  <a:pt x="108" y="7"/>
                </a:lnTo>
                <a:lnTo>
                  <a:pt x="123" y="10"/>
                </a:lnTo>
                <a:lnTo>
                  <a:pt x="140" y="13"/>
                </a:lnTo>
                <a:lnTo>
                  <a:pt x="148" y="20"/>
                </a:lnTo>
                <a:lnTo>
                  <a:pt x="158" y="27"/>
                </a:lnTo>
                <a:lnTo>
                  <a:pt x="162" y="40"/>
                </a:lnTo>
                <a:lnTo>
                  <a:pt x="162" y="53"/>
                </a:lnTo>
                <a:lnTo>
                  <a:pt x="158" y="77"/>
                </a:lnTo>
                <a:lnTo>
                  <a:pt x="153" y="94"/>
                </a:lnTo>
                <a:lnTo>
                  <a:pt x="133" y="121"/>
                </a:lnTo>
                <a:lnTo>
                  <a:pt x="119" y="145"/>
                </a:lnTo>
                <a:lnTo>
                  <a:pt x="112" y="163"/>
                </a:lnTo>
                <a:lnTo>
                  <a:pt x="101" y="213"/>
                </a:lnTo>
                <a:lnTo>
                  <a:pt x="103" y="247"/>
                </a:lnTo>
                <a:lnTo>
                  <a:pt x="103" y="277"/>
                </a:lnTo>
                <a:lnTo>
                  <a:pt x="105" y="292"/>
                </a:lnTo>
                <a:lnTo>
                  <a:pt x="105" y="311"/>
                </a:lnTo>
                <a:lnTo>
                  <a:pt x="99" y="326"/>
                </a:lnTo>
                <a:lnTo>
                  <a:pt x="94" y="336"/>
                </a:lnTo>
                <a:lnTo>
                  <a:pt x="83" y="344"/>
                </a:lnTo>
                <a:lnTo>
                  <a:pt x="69" y="346"/>
                </a:lnTo>
                <a:lnTo>
                  <a:pt x="57" y="344"/>
                </a:lnTo>
                <a:lnTo>
                  <a:pt x="42" y="341"/>
                </a:lnTo>
                <a:lnTo>
                  <a:pt x="24" y="331"/>
                </a:lnTo>
                <a:lnTo>
                  <a:pt x="14" y="315"/>
                </a:lnTo>
                <a:lnTo>
                  <a:pt x="4" y="296"/>
                </a:lnTo>
                <a:lnTo>
                  <a:pt x="2" y="272"/>
                </a:lnTo>
                <a:lnTo>
                  <a:pt x="0" y="247"/>
                </a:lnTo>
                <a:lnTo>
                  <a:pt x="0" y="217"/>
                </a:lnTo>
                <a:lnTo>
                  <a:pt x="4" y="180"/>
                </a:lnTo>
                <a:lnTo>
                  <a:pt x="6" y="143"/>
                </a:lnTo>
                <a:lnTo>
                  <a:pt x="20" y="102"/>
                </a:lnTo>
                <a:lnTo>
                  <a:pt x="40" y="7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6235560" y="2854440"/>
            <a:ext cx="320760" cy="247680"/>
          </a:xfrm>
          <a:custGeom>
            <a:avLst/>
            <a:gdLst/>
            <a:ahLst/>
            <a:rect l="l" t="t" r="r" b="b"/>
            <a:pathLst>
              <a:path w="202" h="156">
                <a:moveTo>
                  <a:pt x="160" y="154"/>
                </a:moveTo>
                <a:lnTo>
                  <a:pt x="138" y="155"/>
                </a:lnTo>
                <a:lnTo>
                  <a:pt x="112" y="155"/>
                </a:lnTo>
                <a:lnTo>
                  <a:pt x="77" y="151"/>
                </a:lnTo>
                <a:lnTo>
                  <a:pt x="57" y="149"/>
                </a:lnTo>
                <a:lnTo>
                  <a:pt x="38" y="138"/>
                </a:lnTo>
                <a:lnTo>
                  <a:pt x="19" y="127"/>
                </a:lnTo>
                <a:lnTo>
                  <a:pt x="9" y="114"/>
                </a:lnTo>
                <a:lnTo>
                  <a:pt x="3" y="96"/>
                </a:lnTo>
                <a:lnTo>
                  <a:pt x="0" y="62"/>
                </a:lnTo>
                <a:lnTo>
                  <a:pt x="14" y="40"/>
                </a:lnTo>
                <a:lnTo>
                  <a:pt x="29" y="24"/>
                </a:lnTo>
                <a:lnTo>
                  <a:pt x="57" y="10"/>
                </a:lnTo>
                <a:lnTo>
                  <a:pt x="88" y="2"/>
                </a:lnTo>
                <a:lnTo>
                  <a:pt x="117" y="0"/>
                </a:lnTo>
                <a:lnTo>
                  <a:pt x="142" y="2"/>
                </a:lnTo>
                <a:lnTo>
                  <a:pt x="164" y="4"/>
                </a:lnTo>
                <a:lnTo>
                  <a:pt x="181" y="13"/>
                </a:lnTo>
                <a:lnTo>
                  <a:pt x="187" y="20"/>
                </a:lnTo>
                <a:lnTo>
                  <a:pt x="196" y="29"/>
                </a:lnTo>
                <a:lnTo>
                  <a:pt x="201" y="3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1828800" y="906480"/>
            <a:ext cx="29685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refinin" descr=""/>
          <p:cNvPicPr/>
          <p:nvPr/>
        </p:nvPicPr>
        <p:blipFill>
          <a:blip r:embed="rId1"/>
          <a:stretch/>
        </p:blipFill>
        <p:spPr>
          <a:xfrm>
            <a:off x="2133720" y="152280"/>
            <a:ext cx="4557600" cy="64771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809880" y="5257800"/>
            <a:ext cx="990720" cy="386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F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ASFALT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09880" y="4648320"/>
            <a:ext cx="1143000" cy="386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LUBRICA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CE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4127400"/>
            <a:ext cx="990720" cy="200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DIES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9880" y="2743200"/>
            <a:ext cx="990720" cy="337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KEROSENO 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1206360"/>
            <a:ext cx="990720" cy="12193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GASOLI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9880" y="730080"/>
            <a:ext cx="990720" cy="36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GASES DEL PETRÓL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809880" y="3352680"/>
            <a:ext cx="1143000" cy="3675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7e"/>
                </a:solidFill>
                <a:latin typeface="Times New Roman"/>
              </a:rPr>
              <a:t>GASÓLEO CALEFA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0952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DIAGRAMA DE BLOQUES DE LA REFINERIA DE PETRON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822680" y="2462040"/>
            <a:ext cx="1485000" cy="19220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SU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NAF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STI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GASOLE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E VACI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13280" y="1776240"/>
            <a:ext cx="509760" cy="161712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7880" y="4062240"/>
            <a:ext cx="991080" cy="702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VA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5040" y="5181480"/>
            <a:ext cx="1215360" cy="70236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VISC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495880" y="6195960"/>
            <a:ext cx="764280" cy="397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AS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121640" y="4290840"/>
            <a:ext cx="1932120" cy="1312200"/>
            <a:chOff x="4121640" y="4290840"/>
            <a:chExt cx="1932120" cy="1312200"/>
          </a:xfrm>
        </p:grpSpPr>
        <p:sp>
          <p:nvSpPr>
            <p:cNvPr id="203" name=""/>
            <p:cNvSpPr/>
            <p:nvPr/>
          </p:nvSpPr>
          <p:spPr>
            <a:xfrm>
              <a:off x="4121640" y="4290840"/>
              <a:ext cx="849600" cy="131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FCC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40640" y="4290840"/>
              <a:ext cx="905760" cy="397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MTB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35600" y="4748040"/>
              <a:ext cx="928800" cy="397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DIO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935600" y="5205240"/>
              <a:ext cx="852480" cy="39744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ALQ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98520" y="4290840"/>
              <a:ext cx="255240" cy="131220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c0128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4161600" y="1243080"/>
            <a:ext cx="2163960" cy="702360"/>
            <a:chOff x="4161600" y="1243080"/>
            <a:chExt cx="2163960" cy="702360"/>
          </a:xfrm>
        </p:grpSpPr>
        <p:sp>
          <p:nvSpPr>
            <p:cNvPr id="209" name=""/>
            <p:cNvSpPr/>
            <p:nvPr/>
          </p:nvSpPr>
          <p:spPr>
            <a:xfrm>
              <a:off x="4161600" y="1243080"/>
              <a:ext cx="1074960" cy="7023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TRAT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GAS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07760" y="1243080"/>
              <a:ext cx="1117800" cy="702360"/>
            </a:xfrm>
            <a:prstGeom prst="rect">
              <a:avLst/>
            </a:prstGeom>
            <a:solidFill>
              <a:srgbClr val="618ff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MEROX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c0128"/>
                  </a:solidFill>
                  <a:latin typeface="Arial"/>
                </a:rPr>
                <a:t>AZUF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438080" y="2538360"/>
            <a:ext cx="1131480" cy="397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DISO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41320" y="3071880"/>
            <a:ext cx="1146600" cy="397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REF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02800" y="3681360"/>
            <a:ext cx="1204560" cy="397440"/>
          </a:xfrm>
          <a:prstGeom prst="rect">
            <a:avLst/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0128"/>
                </a:solidFill>
                <a:latin typeface="Arial"/>
              </a:rPr>
              <a:t>HIDR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2743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30481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4114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90920" y="4419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487692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4290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48006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523880" y="464832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228600" y="6400800"/>
            <a:ext cx="220968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28600" y="4952880"/>
            <a:ext cx="0" cy="144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990720" y="60958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6400800"/>
            <a:ext cx="4800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5638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609120" y="1523880"/>
            <a:ext cx="35053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5238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2514600" y="15238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3352680" y="2743200"/>
            <a:ext cx="1067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3276360" y="388620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245360" y="3892680"/>
            <a:ext cx="291960" cy="59688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245360" y="1301760"/>
            <a:ext cx="291960" cy="673200"/>
          </a:xfrm>
          <a:prstGeom prst="rect">
            <a:avLst/>
          </a:prstGeom>
          <a:solidFill>
            <a:srgbClr val="cecece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3276720" y="4191120"/>
            <a:ext cx="3962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3809520" y="4495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09880" y="42667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3809880" y="39621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3809880" y="289548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809880" y="159984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26668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114800" y="3124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4114800" y="23623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14800" y="2362320"/>
            <a:ext cx="3962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4114440" y="3352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114800" y="33526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274320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3276720"/>
            <a:ext cx="2514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95880" y="45720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629400" y="42667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6629400" y="327672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5880" y="495288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44956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7391520" y="358092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391520" y="3581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324480" y="16002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543800" y="13716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3800" y="16002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3800" y="190512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73915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391520" y="114300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391520" y="19810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391520" y="21337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79120" y="988920"/>
            <a:ext cx="80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ct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078760" y="342900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ros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079840" y="4799160"/>
            <a:ext cx="9165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aso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080560" y="5942160"/>
            <a:ext cx="87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uelO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079840" y="6246720"/>
            <a:ext cx="9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fal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079840" y="1219320"/>
            <a:ext cx="983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uel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8760" y="1447920"/>
            <a:ext cx="68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P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080200" y="3092400"/>
            <a:ext cx="10400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asol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078760" y="2603520"/>
            <a:ext cx="8380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Disol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079480" y="2209680"/>
            <a:ext cx="690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9480" y="1752480"/>
            <a:ext cx="11192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pil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078760" y="198108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zuf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23880" y="41148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990720" y="5866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228600" y="495288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280" y="2514600"/>
            <a:ext cx="2541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1066680" y="121932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81080" y="866880"/>
            <a:ext cx="857160" cy="5429160"/>
          </a:xfrm>
          <a:prstGeom prst="rect">
            <a:avLst/>
          </a:prstGeom>
          <a:solidFill>
            <a:srgbClr val="008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917720" y="1155600"/>
            <a:ext cx="1270080" cy="889200"/>
          </a:xfrm>
          <a:prstGeom prst="rect">
            <a:avLst/>
          </a:prstGeom>
          <a:solidFill>
            <a:srgbClr val="0000f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051440" y="241200"/>
            <a:ext cx="1117440" cy="73656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51440" y="1384200"/>
            <a:ext cx="1117440" cy="584280"/>
          </a:xfrm>
          <a:prstGeom prst="rect">
            <a:avLst/>
          </a:prstGeom>
          <a:solidFill>
            <a:srgbClr val="00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051440" y="2832120"/>
            <a:ext cx="1117440" cy="8888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051440" y="4127400"/>
            <a:ext cx="1117440" cy="584280"/>
          </a:xfrm>
          <a:prstGeom prst="rect">
            <a:avLst/>
          </a:prstGeom>
          <a:solidFill>
            <a:srgbClr val="ff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051440" y="5194440"/>
            <a:ext cx="1117440" cy="58392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917720" y="4965840"/>
            <a:ext cx="1270080" cy="1041120"/>
          </a:xfrm>
          <a:prstGeom prst="rect">
            <a:avLst/>
          </a:prstGeom>
          <a:solidFill>
            <a:srgbClr val="0000fb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956200" y="393840"/>
            <a:ext cx="1117800" cy="583920"/>
          </a:xfrm>
          <a:prstGeom prst="rect">
            <a:avLst/>
          </a:prstGeom>
          <a:solidFill>
            <a:srgbClr val="82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56200" y="2070000"/>
            <a:ext cx="1117800" cy="58428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56200" y="5194440"/>
            <a:ext cx="1117800" cy="583920"/>
          </a:xfrm>
          <a:prstGeom prst="rect">
            <a:avLst/>
          </a:prstGeom>
          <a:solidFill>
            <a:srgbClr val="ffff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848720" y="76320"/>
            <a:ext cx="0" cy="655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4040" y="922320"/>
            <a:ext cx="325440" cy="52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87240" y="1143000"/>
            <a:ext cx="30492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TIL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TMOSFER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905120" y="1150920"/>
            <a:ext cx="129528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38160" bIns="38160" anchor="t">
            <a:spAutoFit/>
          </a:bodyPr>
          <a:p>
            <a:pPr algn="ctr">
              <a:lnSpc>
                <a:spcPct val="1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SULFURAC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 NAF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1             N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304920"/>
            <a:ext cx="106704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R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1523880"/>
            <a:ext cx="1066680" cy="3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IS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T3 / N2T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16240" y="2819520"/>
            <a:ext cx="1219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FORM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ATALIT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1             P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114800" y="5257800"/>
            <a:ext cx="990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MIIN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           S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97600" y="457200"/>
            <a:ext cx="1111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38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CUPE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43600" y="2133720"/>
            <a:ext cx="12193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OLVEN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43600" y="5334120"/>
            <a:ext cx="1066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UF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09480" y="6091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609480"/>
            <a:ext cx="342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81480" y="6094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6553080" y="2282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553080" y="2286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9907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553080" y="1143000"/>
            <a:ext cx="129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066680" y="16002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00400" y="16002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181480" y="16002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648320" y="121932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648320" y="121932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121932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648320" y="1981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648320" y="2362320"/>
            <a:ext cx="129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2362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590920" y="2057400"/>
            <a:ext cx="0" cy="129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90920" y="335268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181480" y="30481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181480" y="350532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3962520"/>
            <a:ext cx="6782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66680" y="4343400"/>
            <a:ext cx="2971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43434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066680" y="548640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5791320"/>
            <a:ext cx="83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371600" y="43434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371600" y="518148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00400" y="54864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181480" y="54864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54864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648320" y="50292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48320" y="5029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514600" y="6019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514600" y="6248520"/>
            <a:ext cx="5334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9320" y="6324480"/>
            <a:ext cx="66294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IDADES DE HIDROSKIMM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9480" y="6324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15840" y="380880"/>
            <a:ext cx="6098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P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068480" y="1371600"/>
            <a:ext cx="761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20760" y="3733920"/>
            <a:ext cx="9907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NAFTA   F.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220760" y="41148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QUEROSENO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068480" y="5257800"/>
            <a:ext cx="53316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068480" y="5562720"/>
            <a:ext cx="53316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3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H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926480" y="7632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926480" y="99072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TA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926480" y="152388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FTA LIGE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926480" y="22860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OLV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926480" y="29718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DROG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926480" y="33526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OLINA ALTO R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926480" y="38862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AFTA  F.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926480" y="426708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QUEROS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926480" y="495288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EL  G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7926480" y="541008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ZUF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926480" y="61722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OLE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5400000">
            <a:off x="2292480" y="539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5400000">
            <a:off x="5492880" y="539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5400000">
            <a:off x="7321680" y="15840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5400000">
            <a:off x="7321680" y="10731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5400000">
            <a:off x="6483240" y="1530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5400000">
            <a:off x="7397640" y="2292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5400000">
            <a:off x="5645160" y="2292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5400000">
            <a:off x="7397640" y="29782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rot="5400000">
            <a:off x="7397640" y="3435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rot="5400000">
            <a:off x="7397640" y="3892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7397640" y="4273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rot="5400000">
            <a:off x="7397640" y="4959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rot="5400000">
            <a:off x="7397640" y="5416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rot="5400000">
            <a:off x="7397640" y="6178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rot="5400000">
            <a:off x="5645160" y="4959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rot="5400000">
            <a:off x="5645160" y="5416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5645160" y="6178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rot="5400000">
            <a:off x="3511440" y="5416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rot="5400000">
            <a:off x="3511440" y="6178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rot="5400000">
            <a:off x="3511440" y="4273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rot="5400000">
            <a:off x="3511440" y="38926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rot="5400000">
            <a:off x="3511440" y="32828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rot="5400000">
            <a:off x="1606680" y="5721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rot="5400000">
            <a:off x="1606680" y="5416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rot="5400000">
            <a:off x="1606680" y="511164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5400000">
            <a:off x="3511440" y="1530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400000">
            <a:off x="1682640" y="1530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rot="10800000">
            <a:off x="5492880" y="18352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rot="10800000">
            <a:off x="5492880" y="26733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10800000">
            <a:off x="5492880" y="32068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10800000">
            <a:off x="1301760" y="47307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0800000">
            <a:off x="539640" y="655956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943280" y="5029200"/>
            <a:ext cx="1257120" cy="8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spAutoFit/>
          </a:bodyPr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SULFU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STIL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DI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1               G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4114800"/>
            <a:ext cx="11430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3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ERO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QUEROSE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MK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7240" y="6400800"/>
            <a:ext cx="1143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O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334120" y="46483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259240" y="4419720"/>
            <a:ext cx="609840" cy="2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I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97440" y="4425840"/>
            <a:ext cx="1282680" cy="368280"/>
          </a:xfrm>
          <a:prstGeom prst="roundRect">
            <a:avLst>
              <a:gd name="adj" fmla="val 12495"/>
            </a:avLst>
          </a:prstGeom>
          <a:solidFill>
            <a:srgbClr val="438e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400800" y="4800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086600" y="4648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5400000">
            <a:off x="7397640" y="4578480"/>
            <a:ext cx="139680" cy="139680"/>
          </a:xfrm>
          <a:prstGeom prst="triangle">
            <a:avLst>
              <a:gd name="adj" fmla="val 49995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926480" y="44956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ERGIA     ELECTRIC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792760" y="4495680"/>
            <a:ext cx="1371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OGENER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066680" y="167652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1728720" y="4724280"/>
            <a:ext cx="609840" cy="639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728720" y="4495680"/>
            <a:ext cx="609840" cy="427320"/>
          </a:xfrm>
          <a:prstGeom prst="hexagon">
            <a:avLst>
              <a:gd name="adj" fmla="val 35671"/>
              <a:gd name="vf" fmla="val 11547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881360" y="4343400"/>
            <a:ext cx="304560" cy="2127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887480" y="44956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73080" y="510552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1811160" y="4870440"/>
            <a:ext cx="65160" cy="241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887480" y="4883040"/>
            <a:ext cx="14148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039760" y="4870440"/>
            <a:ext cx="14148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192400" y="4883040"/>
            <a:ext cx="6516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735200" y="5105520"/>
            <a:ext cx="65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52480" y="4808520"/>
            <a:ext cx="9525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U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268360" y="5105520"/>
            <a:ext cx="1513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786120" y="2590920"/>
            <a:ext cx="304920" cy="2514600"/>
          </a:xfrm>
          <a:prstGeom prst="rect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86120" y="5562720"/>
            <a:ext cx="304920" cy="380880"/>
          </a:xfrm>
          <a:prstGeom prst="ellipse">
            <a:avLst/>
          </a:prstGeom>
          <a:solidFill>
            <a:srgbClr val="311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786120" y="4800600"/>
            <a:ext cx="304920" cy="990720"/>
          </a:xfrm>
          <a:prstGeom prst="rect">
            <a:avLst/>
          </a:prstGeom>
          <a:solidFill>
            <a:srgbClr val="392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86120" y="1143000"/>
            <a:ext cx="304920" cy="1447920"/>
          </a:xfrm>
          <a:prstGeom prst="rect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786120" y="685800"/>
            <a:ext cx="30492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786120" y="838080"/>
            <a:ext cx="304920" cy="38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954160" y="1530360"/>
            <a:ext cx="2937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2943000" y="1454040"/>
            <a:ext cx="31572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954160" y="4197240"/>
            <a:ext cx="29376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43000" y="4121280"/>
            <a:ext cx="315720" cy="444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53160" y="1523880"/>
            <a:ext cx="304560" cy="304920"/>
          </a:xfrm>
          <a:prstGeom prst="ellipse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853160" y="2057400"/>
            <a:ext cx="304560" cy="304920"/>
          </a:xfrm>
          <a:prstGeom prst="ellipse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53160" y="1676520"/>
            <a:ext cx="304560" cy="533160"/>
          </a:xfrm>
          <a:prstGeom prst="rect">
            <a:avLst/>
          </a:prstGeom>
          <a:solidFill>
            <a:srgbClr val="ff82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53160" y="2895480"/>
            <a:ext cx="304560" cy="304920"/>
          </a:xfrm>
          <a:prstGeom prst="ellipse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853160" y="3429000"/>
            <a:ext cx="304560" cy="304920"/>
          </a:xfrm>
          <a:prstGeom prst="ellipse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853160" y="3048120"/>
            <a:ext cx="304560" cy="533160"/>
          </a:xfrm>
          <a:prstGeom prst="rect">
            <a:avLst/>
          </a:prstGeom>
          <a:solidFill>
            <a:srgbClr val="7144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853160" y="4343400"/>
            <a:ext cx="304560" cy="304920"/>
          </a:xfrm>
          <a:prstGeom prst="ellipse">
            <a:avLst/>
          </a:prstGeom>
          <a:solidFill>
            <a:srgbClr val="311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853160" y="4876920"/>
            <a:ext cx="304560" cy="304560"/>
          </a:xfrm>
          <a:prstGeom prst="ellipse">
            <a:avLst/>
          </a:prstGeom>
          <a:solidFill>
            <a:srgbClr val="311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853160" y="4495680"/>
            <a:ext cx="304560" cy="533520"/>
          </a:xfrm>
          <a:prstGeom prst="rect">
            <a:avLst/>
          </a:prstGeom>
          <a:solidFill>
            <a:srgbClr val="311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792600" y="9144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792600" y="16002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792600" y="121932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92600" y="26668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792600" y="29718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92600" y="19810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792600" y="24382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92600" y="42670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92600" y="464832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792600" y="50292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92600" y="54100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792600" y="579132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57720" y="609480"/>
            <a:ext cx="38124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843520" y="609480"/>
            <a:ext cx="381240" cy="304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310360" y="609480"/>
            <a:ext cx="761760" cy="304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59280" y="158760"/>
            <a:ext cx="29376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848120" y="82440"/>
            <a:ext cx="316080" cy="444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38760" y="4273560"/>
            <a:ext cx="0" cy="44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487680" y="4495680"/>
            <a:ext cx="4460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81560" y="45021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06800" y="4876920"/>
            <a:ext cx="369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 flipV="1">
            <a:off x="3100320" y="4489200"/>
            <a:ext cx="0" cy="393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3100320" y="4032360"/>
            <a:ext cx="0" cy="16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06800" y="4038480"/>
            <a:ext cx="674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014720" y="4273560"/>
            <a:ext cx="0" cy="291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021200" y="4572000"/>
            <a:ext cx="826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859280" y="48006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859280" y="47242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097160" y="4114800"/>
            <a:ext cx="90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005440" y="41212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05440" y="518796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11560" y="5334120"/>
            <a:ext cx="158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11560" y="3886200"/>
            <a:ext cx="158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005440" y="37400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859280" y="31240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859280" y="34290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944880" y="312408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3938760" y="29649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097160" y="2743200"/>
            <a:ext cx="90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5440" y="27496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005440" y="236844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011560" y="2514600"/>
            <a:ext cx="1589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944880" y="175248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3938760" y="1593360"/>
            <a:ext cx="0" cy="16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859280" y="175248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859280" y="205740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005440" y="1378080"/>
            <a:ext cx="0" cy="139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097160" y="1371600"/>
            <a:ext cx="90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3938760" y="298440"/>
            <a:ext cx="0" cy="39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944880" y="304920"/>
            <a:ext cx="9032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64200" y="304920"/>
            <a:ext cx="522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691240" y="311040"/>
            <a:ext cx="0" cy="292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4097160" y="1143000"/>
            <a:ext cx="2503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91240" y="920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862440" y="198756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06800" y="2133720"/>
            <a:ext cx="750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100320" y="1822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100320" y="121284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06800" y="1219320"/>
            <a:ext cx="674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4859280" y="4876920"/>
            <a:ext cx="293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5164200" y="1981080"/>
            <a:ext cx="52236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64200" y="3352680"/>
            <a:ext cx="52236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64200" y="4800600"/>
            <a:ext cx="522360" cy="0"/>
          </a:xfrm>
          <a:prstGeom prst="line">
            <a:avLst/>
          </a:prstGeom>
          <a:ln w="12600">
            <a:solidFill>
              <a:srgbClr val="91919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954160" y="6172200"/>
            <a:ext cx="827280" cy="0"/>
          </a:xfrm>
          <a:prstGeom prst="line">
            <a:avLst/>
          </a:prstGeom>
          <a:ln w="12600">
            <a:solidFill>
              <a:srgbClr val="9191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3786120" y="5861160"/>
            <a:ext cx="0" cy="317520"/>
          </a:xfrm>
          <a:prstGeom prst="line">
            <a:avLst/>
          </a:prstGeom>
          <a:ln w="12600">
            <a:solidFill>
              <a:srgbClr val="9191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4091040" y="586116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97160" y="6172200"/>
            <a:ext cx="2503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300400" y="6019920"/>
            <a:ext cx="6476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805360" y="4648320"/>
            <a:ext cx="64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5805360" y="3200400"/>
            <a:ext cx="64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805360" y="1828800"/>
            <a:ext cx="64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19191"/>
                </a:solidFill>
                <a:latin typeface="Arial"/>
              </a:rPr>
              <a:t>VAP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719760" y="5189400"/>
            <a:ext cx="14097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ESEL PES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719760" y="6027840"/>
            <a:ext cx="1791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RUDO REDUCI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719760" y="3741840"/>
            <a:ext cx="14097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ESEL LIG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19760" y="2370240"/>
            <a:ext cx="140976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UEROSE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19760" y="846000"/>
            <a:ext cx="1409760" cy="6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160" bIns="38160" anchor="t">
            <a:spAutoFit/>
          </a:bodyPr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L-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L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AF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33480" y="6400800"/>
            <a:ext cx="5405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04920" rIns="304920" tIns="38160" bIns="38160" anchor="t">
            <a:noAutofit/>
          </a:bodyPr>
          <a:p>
            <a:pPr algn="ctr">
              <a:lnSpc>
                <a:spcPct val="70000"/>
              </a:lnSpc>
              <a:spcBef>
                <a:spcPts val="19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STILACION ATMOSFÉRICA DE CRU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1066680" y="2146320"/>
            <a:ext cx="7543800" cy="380880"/>
          </a:xfrm>
          <a:prstGeom prst="rect">
            <a:avLst/>
          </a:prstGeom>
          <a:solidFill>
            <a:srgbClr val="ffcc00"/>
          </a:solidFill>
          <a:ln w="1260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6699ff"/>
                </a:solidFill>
                <a:latin typeface="Century Gothic"/>
              </a:rPr>
              <a:t>Unidades de HIDROSKIMM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6699ff"/>
                </a:solidFill>
                <a:latin typeface="Century Gothic"/>
              </a:rPr>
              <a:t>Destilación atmosférica de cru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Hidrodesulfu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Platforme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Unidades de CONVERS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Destilación a vací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FCC: craqueo catalítico en lecho flui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Century Gothic"/>
              </a:rPr>
              <a:t>Alquil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COGENER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ff"/>
                </a:solidFill>
                <a:latin typeface="Century Gothic"/>
              </a:rPr>
              <a:t>Tratamiento de AGUAS RESIDUAL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304920" y="36180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ESQUEMA GENERAL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1T16:28:12Z</dcterms:created>
  <dc:creator>Dir. Sist. Distribuidos</dc:creator>
  <dc:description/>
  <dc:language>en-US</dc:language>
  <cp:lastModifiedBy>Isabel Gómez</cp:lastModifiedBy>
  <cp:lastPrinted>2000-04-27T06:52:47Z</cp:lastPrinted>
  <dcterms:modified xsi:type="dcterms:W3CDTF">2003-05-14T21:34:40Z</dcterms:modified>
  <cp:revision>87</cp:revision>
  <dc:subject/>
  <dc:title>Sin título de diapositiva</dc:title>
</cp:coreProperties>
</file>