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383-C7B8-470A-A711-C12D45A8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993-A0CF-468C-A869-03916A04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87A-130A-4B7E-8D4B-50C24C33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0AA-0AEA-4451-BFEA-5D1E25A0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579D-83E5-4956-8A58-3B746B44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C3AB-F8BE-41B8-B34C-6F164A4D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7E75-0805-4C7D-996B-CD579279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A343-639A-467D-A5E6-8835BD62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FCEA-BB56-4FC2-9F03-075BB81C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1D18-73BE-4A27-8CAC-C1A24465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FAE8-CF12-4ACA-B0C2-7E7CDEDC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612-C513-43ED-8114-924E8801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994E-083C-4FEF-AE66-36409B69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AA77-188A-443F-BD05-21345852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651D-7258-4B65-A29F-5ACB31C9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E73B-E034-4EE4-8914-1D221CF7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41A9-0819-4E03-BB89-552D3086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6FB-1A0C-4B44-88DE-DB565EBC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A41-1AA6-4B39-B2D2-F586DF33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5DF-2955-46BC-BEA6-09554BAB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A82-155A-4A8E-9BB8-EF32BD75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AB0-EAF1-4403-AC6E-77FA7C1D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37E-92B8-4D03-9459-F194836F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6B5-1ABD-47E7-88E2-90FCCF19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C123-A10D-428C-B514-416AA0FF021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58E4-1EBF-492A-9998-36C23CF47A0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Proceso de señ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f. Cesar dePr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SA-U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ada@autom.uva.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51B7-C35F-4DB8-968D-5E93DDDCCE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Autocovarian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1765440" y="177336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00000" y="270972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765440" y="1630440"/>
                <a:ext cx="888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795760" y="2709720"/>
                <a:ext cx="698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 flipV="1">
            <a:off x="1116000" y="2062080"/>
            <a:ext cx="1513080" cy="115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8000" y="234936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24000" y="234936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68360" y="206208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27280" y="2206800"/>
            <a:ext cx="73080" cy="7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35280" y="278136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92360" y="256536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292572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47640" y="278136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03280" y="299880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24000" y="26384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60360" y="321480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11280" y="24224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24360" y="1916280"/>
            <a:ext cx="4751280" cy="703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Como medir el grado de depend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64200" y="2724120"/>
            <a:ext cx="44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95640" y="2565360"/>
            <a:ext cx="4608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puede usar el valor medio de los cuadrados de las desviaciones sobre la recta de regresión m(x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– 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77840" y="3716280"/>
                <a:ext cx="8786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324000" y="4653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s desviaciones serán pequeñas si el térm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164200" y="4699080"/>
                <a:ext cx="2103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7311960" y="465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 gran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827440" y="5280120"/>
                <a:ext cx="5564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217440" y="5410080"/>
            <a:ext cx="24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utocovarianza de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2D2-C2A4-4004-8FCC-A9CA43CA68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Propiedades de R</a:t>
            </a:r>
            <a:r>
              <a:rPr b="0" lang="es-ES" sz="4400" spc="-1" strike="noStrike" baseline="-25000">
                <a:solidFill>
                  <a:srgbClr val="e5ffff"/>
                </a:solidFill>
                <a:latin typeface="Tahoma"/>
              </a:rPr>
              <a:t>x</a:t>
            </a: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(k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124000" y="1628640"/>
                <a:ext cx="5564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547640" y="2492280"/>
                <a:ext cx="32623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971640" y="3645000"/>
            <a:ext cx="7800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3  La dependencia de x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t+k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del valor x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s la misma que la dependencia de x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sobre x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t+k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, luego R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k) es simétrica respecto a k: R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k)= R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-k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1640" y="4368960"/>
            <a:ext cx="7335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4  Si k crece, la dependencia de x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t+k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del valor x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s cada vez menor, luego: R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43040" y="5207040"/>
            <a:ext cx="40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Coeficiente de autocorrel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892160" y="5727600"/>
                <a:ext cx="1549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3703680" y="5734080"/>
            <a:ext cx="19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imensional, de modulo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4941720"/>
            <a:ext cx="0" cy="147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56360" y="5877000"/>
            <a:ext cx="26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5157720"/>
            <a:ext cx="1295640" cy="900360"/>
          </a:xfrm>
          <a:custGeom>
            <a:avLst/>
            <a:gdLst/>
            <a:ahLst/>
            <a:rect l="l" t="t" r="r" b="b"/>
            <a:pathLst>
              <a:path w="816" h="567">
                <a:moveTo>
                  <a:pt x="0" y="0"/>
                </a:moveTo>
                <a:cubicBezTo>
                  <a:pt x="53" y="38"/>
                  <a:pt x="106" y="76"/>
                  <a:pt x="136" y="136"/>
                </a:cubicBezTo>
                <a:cubicBezTo>
                  <a:pt x="166" y="196"/>
                  <a:pt x="151" y="295"/>
                  <a:pt x="181" y="363"/>
                </a:cubicBezTo>
                <a:cubicBezTo>
                  <a:pt x="211" y="431"/>
                  <a:pt x="272" y="521"/>
                  <a:pt x="317" y="544"/>
                </a:cubicBezTo>
                <a:cubicBezTo>
                  <a:pt x="362" y="567"/>
                  <a:pt x="423" y="522"/>
                  <a:pt x="453" y="499"/>
                </a:cubicBezTo>
                <a:cubicBezTo>
                  <a:pt x="483" y="476"/>
                  <a:pt x="469" y="423"/>
                  <a:pt x="499" y="408"/>
                </a:cubicBezTo>
                <a:cubicBezTo>
                  <a:pt x="529" y="393"/>
                  <a:pt x="597" y="393"/>
                  <a:pt x="635" y="408"/>
                </a:cubicBezTo>
                <a:cubicBezTo>
                  <a:pt x="673" y="423"/>
                  <a:pt x="695" y="492"/>
                  <a:pt x="725" y="499"/>
                </a:cubicBezTo>
                <a:cubicBezTo>
                  <a:pt x="755" y="506"/>
                  <a:pt x="801" y="461"/>
                  <a:pt x="816" y="453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675640" y="551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80360" y="4797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012000" y="5157720"/>
            <a:ext cx="1295280" cy="900360"/>
          </a:xfrm>
          <a:custGeom>
            <a:avLst/>
            <a:gdLst/>
            <a:ahLst/>
            <a:rect l="l" t="t" r="r" b="b"/>
            <a:pathLst>
              <a:path w="816" h="567">
                <a:moveTo>
                  <a:pt x="0" y="0"/>
                </a:moveTo>
                <a:cubicBezTo>
                  <a:pt x="53" y="38"/>
                  <a:pt x="106" y="76"/>
                  <a:pt x="136" y="136"/>
                </a:cubicBezTo>
                <a:cubicBezTo>
                  <a:pt x="166" y="196"/>
                  <a:pt x="151" y="295"/>
                  <a:pt x="181" y="363"/>
                </a:cubicBezTo>
                <a:cubicBezTo>
                  <a:pt x="211" y="431"/>
                  <a:pt x="272" y="521"/>
                  <a:pt x="317" y="544"/>
                </a:cubicBezTo>
                <a:cubicBezTo>
                  <a:pt x="362" y="567"/>
                  <a:pt x="423" y="522"/>
                  <a:pt x="453" y="499"/>
                </a:cubicBezTo>
                <a:cubicBezTo>
                  <a:pt x="483" y="476"/>
                  <a:pt x="469" y="423"/>
                  <a:pt x="499" y="408"/>
                </a:cubicBezTo>
                <a:cubicBezTo>
                  <a:pt x="529" y="393"/>
                  <a:pt x="597" y="393"/>
                  <a:pt x="635" y="408"/>
                </a:cubicBezTo>
                <a:cubicBezTo>
                  <a:pt x="673" y="423"/>
                  <a:pt x="695" y="492"/>
                  <a:pt x="725" y="499"/>
                </a:cubicBezTo>
                <a:cubicBezTo>
                  <a:pt x="755" y="506"/>
                  <a:pt x="801" y="461"/>
                  <a:pt x="816" y="453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77080" y="4941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7164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71640" y="2924280"/>
            <a:ext cx="7775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  La máxima dependencia de  x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s sobre x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uego el máximo de R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k) está en R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8B55-BF60-45B4-9F9F-DF328D804C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251240" cy="31892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248000" cy="3186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21164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00000" y="184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60436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64000" y="1844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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0DD-66DC-4786-BF6C-D5E533619C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4176720" cy="31338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4140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4178520" cy="3135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95280" y="19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88000" y="177336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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60436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D3C-0D44-4BE7-8B35-7857F3D583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stimad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1476360" y="3500280"/>
                <a:ext cx="5564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826920" y="1557360"/>
            <a:ext cx="75614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 hubiéramos tomado otros datos del mismo proceso estocástico {x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 los resultados de aplicar la fórmula de estimación de R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k) hubieran sido similares pero diferentes. De hecho un estimador de una variable estocástica. Por tanto los de la media, varianza, autocovarianza, etc. son variables estocásticas que tienen su distribución, etc. y una serie de propiedades que pueden estudiar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1042920" y="429264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5003640" y="4292640"/>
            <a:ext cx="2811600" cy="210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58B-AFD1-4AAD-B551-502ED72DFF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opiedades  de un estimad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981080"/>
            <a:ext cx="777240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sgo /polarizació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st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fici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221440" y="2795760"/>
            <a:ext cx="259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58040" y="2028960"/>
            <a:ext cx="0" cy="11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38920" y="2232000"/>
            <a:ext cx="877680" cy="576360"/>
          </a:xfrm>
          <a:custGeom>
            <a:avLst/>
            <a:gdLst/>
            <a:ahLst/>
            <a:rect l="l" t="t" r="r" b="b"/>
            <a:pathLst>
              <a:path w="553" h="363">
                <a:moveTo>
                  <a:pt x="0" y="363"/>
                </a:moveTo>
                <a:cubicBezTo>
                  <a:pt x="45" y="352"/>
                  <a:pt x="90" y="342"/>
                  <a:pt x="125" y="316"/>
                </a:cubicBezTo>
                <a:cubicBezTo>
                  <a:pt x="160" y="290"/>
                  <a:pt x="189" y="249"/>
                  <a:pt x="210" y="207"/>
                </a:cubicBezTo>
                <a:cubicBezTo>
                  <a:pt x="231" y="165"/>
                  <a:pt x="231" y="100"/>
                  <a:pt x="249" y="66"/>
                </a:cubicBezTo>
                <a:cubicBezTo>
                  <a:pt x="267" y="32"/>
                  <a:pt x="296" y="8"/>
                  <a:pt x="319" y="4"/>
                </a:cubicBezTo>
                <a:cubicBezTo>
                  <a:pt x="342" y="0"/>
                  <a:pt x="372" y="10"/>
                  <a:pt x="390" y="43"/>
                </a:cubicBezTo>
                <a:cubicBezTo>
                  <a:pt x="408" y="76"/>
                  <a:pt x="413" y="159"/>
                  <a:pt x="428" y="199"/>
                </a:cubicBezTo>
                <a:cubicBezTo>
                  <a:pt x="443" y="239"/>
                  <a:pt x="467" y="266"/>
                  <a:pt x="483" y="285"/>
                </a:cubicBezTo>
                <a:cubicBezTo>
                  <a:pt x="499" y="304"/>
                  <a:pt x="510" y="304"/>
                  <a:pt x="522" y="316"/>
                </a:cubicBezTo>
                <a:cubicBezTo>
                  <a:pt x="534" y="328"/>
                  <a:pt x="548" y="349"/>
                  <a:pt x="553" y="355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224320" y="4233960"/>
            <a:ext cx="2597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61280" y="3467160"/>
            <a:ext cx="0" cy="11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2440" y="3657600"/>
            <a:ext cx="877680" cy="576360"/>
          </a:xfrm>
          <a:custGeom>
            <a:avLst/>
            <a:gdLst/>
            <a:ahLst/>
            <a:rect l="l" t="t" r="r" b="b"/>
            <a:pathLst>
              <a:path w="553" h="363">
                <a:moveTo>
                  <a:pt x="0" y="363"/>
                </a:moveTo>
                <a:cubicBezTo>
                  <a:pt x="45" y="352"/>
                  <a:pt x="90" y="342"/>
                  <a:pt x="125" y="316"/>
                </a:cubicBezTo>
                <a:cubicBezTo>
                  <a:pt x="160" y="290"/>
                  <a:pt x="189" y="249"/>
                  <a:pt x="210" y="207"/>
                </a:cubicBezTo>
                <a:cubicBezTo>
                  <a:pt x="231" y="165"/>
                  <a:pt x="231" y="100"/>
                  <a:pt x="249" y="66"/>
                </a:cubicBezTo>
                <a:cubicBezTo>
                  <a:pt x="267" y="32"/>
                  <a:pt x="296" y="8"/>
                  <a:pt x="319" y="4"/>
                </a:cubicBezTo>
                <a:cubicBezTo>
                  <a:pt x="342" y="0"/>
                  <a:pt x="372" y="10"/>
                  <a:pt x="390" y="43"/>
                </a:cubicBezTo>
                <a:cubicBezTo>
                  <a:pt x="408" y="76"/>
                  <a:pt x="413" y="159"/>
                  <a:pt x="428" y="199"/>
                </a:cubicBezTo>
                <a:cubicBezTo>
                  <a:pt x="443" y="239"/>
                  <a:pt x="467" y="266"/>
                  <a:pt x="483" y="285"/>
                </a:cubicBezTo>
                <a:cubicBezTo>
                  <a:pt x="499" y="304"/>
                  <a:pt x="510" y="304"/>
                  <a:pt x="522" y="316"/>
                </a:cubicBezTo>
                <a:cubicBezTo>
                  <a:pt x="534" y="328"/>
                  <a:pt x="548" y="349"/>
                  <a:pt x="553" y="355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37280" y="5694480"/>
            <a:ext cx="259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73880" y="4927680"/>
            <a:ext cx="0" cy="11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14800" y="5130720"/>
            <a:ext cx="2535480" cy="576360"/>
          </a:xfrm>
          <a:custGeom>
            <a:avLst/>
            <a:gdLst/>
            <a:ahLst/>
            <a:rect l="l" t="t" r="r" b="b"/>
            <a:pathLst>
              <a:path w="553" h="363">
                <a:moveTo>
                  <a:pt x="0" y="363"/>
                </a:moveTo>
                <a:cubicBezTo>
                  <a:pt x="45" y="352"/>
                  <a:pt x="90" y="342"/>
                  <a:pt x="125" y="316"/>
                </a:cubicBezTo>
                <a:cubicBezTo>
                  <a:pt x="160" y="290"/>
                  <a:pt x="189" y="249"/>
                  <a:pt x="210" y="207"/>
                </a:cubicBezTo>
                <a:cubicBezTo>
                  <a:pt x="231" y="165"/>
                  <a:pt x="231" y="100"/>
                  <a:pt x="249" y="66"/>
                </a:cubicBezTo>
                <a:cubicBezTo>
                  <a:pt x="267" y="32"/>
                  <a:pt x="296" y="8"/>
                  <a:pt x="319" y="4"/>
                </a:cubicBezTo>
                <a:cubicBezTo>
                  <a:pt x="342" y="0"/>
                  <a:pt x="372" y="10"/>
                  <a:pt x="390" y="43"/>
                </a:cubicBezTo>
                <a:cubicBezTo>
                  <a:pt x="408" y="76"/>
                  <a:pt x="413" y="159"/>
                  <a:pt x="428" y="199"/>
                </a:cubicBezTo>
                <a:cubicBezTo>
                  <a:pt x="443" y="239"/>
                  <a:pt x="467" y="266"/>
                  <a:pt x="483" y="285"/>
                </a:cubicBezTo>
                <a:cubicBezTo>
                  <a:pt x="499" y="304"/>
                  <a:pt x="510" y="304"/>
                  <a:pt x="522" y="316"/>
                </a:cubicBezTo>
                <a:cubicBezTo>
                  <a:pt x="534" y="328"/>
                  <a:pt x="548" y="349"/>
                  <a:pt x="553" y="355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4005360"/>
            <a:ext cx="39099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Symbol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imador de una variable estocás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Symbol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verdadero valor de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36000" y="24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4364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recu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588000" y="299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948360" y="2924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Verdadero valor de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6516360" y="2852280"/>
            <a:ext cx="43164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16360" y="1916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o sesgada, efic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76720" y="3357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sgada, efic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86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o sesgada,  no efic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1280" y="5661000"/>
            <a:ext cx="165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nsistenci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o sesg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340000" y="5661000"/>
                <a:ext cx="1015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335320" y="6100920"/>
                <a:ext cx="990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79C-3522-4215-8ACF-202AAC4881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stimad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961920" y="1776240"/>
                <a:ext cx="198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3363840" y="1752480"/>
            <a:ext cx="5508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ador eficiente, consistente, no polarizado. (para distribuciones normales de varianza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estimas están distribuidas con una distribución normal de varianza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/N en torno al verdadero valor (luego al aumentar N mejora la estimació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9360" y="5243400"/>
            <a:ext cx="259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685960" y="4476600"/>
            <a:ext cx="0" cy="11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66840" y="4680000"/>
            <a:ext cx="878040" cy="576360"/>
          </a:xfrm>
          <a:custGeom>
            <a:avLst/>
            <a:gdLst/>
            <a:ahLst/>
            <a:rect l="l" t="t" r="r" b="b"/>
            <a:pathLst>
              <a:path w="553" h="363">
                <a:moveTo>
                  <a:pt x="0" y="363"/>
                </a:moveTo>
                <a:cubicBezTo>
                  <a:pt x="45" y="352"/>
                  <a:pt x="90" y="342"/>
                  <a:pt x="125" y="316"/>
                </a:cubicBezTo>
                <a:cubicBezTo>
                  <a:pt x="160" y="290"/>
                  <a:pt x="189" y="249"/>
                  <a:pt x="210" y="207"/>
                </a:cubicBezTo>
                <a:cubicBezTo>
                  <a:pt x="231" y="165"/>
                  <a:pt x="231" y="100"/>
                  <a:pt x="249" y="66"/>
                </a:cubicBezTo>
                <a:cubicBezTo>
                  <a:pt x="267" y="32"/>
                  <a:pt x="296" y="8"/>
                  <a:pt x="319" y="4"/>
                </a:cubicBezTo>
                <a:cubicBezTo>
                  <a:pt x="342" y="0"/>
                  <a:pt x="372" y="10"/>
                  <a:pt x="390" y="43"/>
                </a:cubicBezTo>
                <a:cubicBezTo>
                  <a:pt x="408" y="76"/>
                  <a:pt x="413" y="159"/>
                  <a:pt x="428" y="199"/>
                </a:cubicBezTo>
                <a:cubicBezTo>
                  <a:pt x="443" y="239"/>
                  <a:pt x="467" y="266"/>
                  <a:pt x="483" y="285"/>
                </a:cubicBezTo>
                <a:cubicBezTo>
                  <a:pt x="499" y="304"/>
                  <a:pt x="510" y="304"/>
                  <a:pt x="522" y="316"/>
                </a:cubicBezTo>
                <a:cubicBezTo>
                  <a:pt x="534" y="328"/>
                  <a:pt x="548" y="349"/>
                  <a:pt x="553" y="355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73360" y="41641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recu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1628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170080" y="5243400"/>
            <a:ext cx="50328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65360" y="56754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{x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1089000" y="3948120"/>
                <a:ext cx="838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2217600" y="4713120"/>
            <a:ext cx="0" cy="865440"/>
          </a:xfrm>
          <a:prstGeom prst="line">
            <a:avLst/>
          </a:prstGeom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787480" y="4657680"/>
            <a:ext cx="0" cy="1008000"/>
          </a:xfrm>
          <a:prstGeom prst="line">
            <a:avLst/>
          </a:prstGeom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738440" y="4522680"/>
            <a:ext cx="792000" cy="72072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0080" y="45957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ff"/>
                </a:solidFill>
                <a:latin typeface="Tahoma"/>
              </a:rPr>
              <a:t>est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689280" y="545292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Bandas de confianza en las que el verdadero valor debe estar incluido con una cierta prob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2903040" y="5418000"/>
            <a:ext cx="676440" cy="3412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4694400" y="3859200"/>
                <a:ext cx="23367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7377120" y="3921120"/>
            <a:ext cx="1612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95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istribución t de N-1 grados de libert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FB2-C0DF-4563-A890-7A1AC4AAFF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stimado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588960" y="2073240"/>
                <a:ext cx="3720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4557600" y="2000160"/>
            <a:ext cx="403704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ador eficiente, consistente, no polarizado.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para distribuciones normales de varianza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estimas están distribuidas de modo qu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201680" y="4343400"/>
            <a:ext cx="259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69960" y="3591000"/>
            <a:ext cx="0" cy="11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11280" y="33256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recu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68600" y="45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86040" y="3711600"/>
            <a:ext cx="0" cy="1008000"/>
          </a:xfrm>
          <a:prstGeom prst="line">
            <a:avLst/>
          </a:prstGeom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35080" y="3576600"/>
            <a:ext cx="792000" cy="72072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2760" y="36957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ff"/>
                </a:solidFill>
                <a:latin typeface="Tahoma"/>
              </a:rPr>
              <a:t>est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134040" y="3516480"/>
                <a:ext cx="10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680000" y="4294080"/>
            <a:ext cx="40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iene una distribución chi-cuadrado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s-ES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con N-1 grados de libert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65280" y="3691080"/>
            <a:ext cx="1860480" cy="649080"/>
          </a:xfrm>
          <a:custGeom>
            <a:avLst/>
            <a:gdLst/>
            <a:ahLst/>
            <a:rect l="l" t="t" r="r" b="b"/>
            <a:pathLst>
              <a:path w="1172" h="409">
                <a:moveTo>
                  <a:pt x="0" y="409"/>
                </a:moveTo>
                <a:cubicBezTo>
                  <a:pt x="18" y="348"/>
                  <a:pt x="37" y="288"/>
                  <a:pt x="68" y="233"/>
                </a:cubicBezTo>
                <a:cubicBezTo>
                  <a:pt x="99" y="178"/>
                  <a:pt x="139" y="113"/>
                  <a:pt x="186" y="77"/>
                </a:cubicBezTo>
                <a:cubicBezTo>
                  <a:pt x="233" y="41"/>
                  <a:pt x="314" y="28"/>
                  <a:pt x="351" y="18"/>
                </a:cubicBezTo>
                <a:cubicBezTo>
                  <a:pt x="388" y="8"/>
                  <a:pt x="369" y="0"/>
                  <a:pt x="410" y="18"/>
                </a:cubicBezTo>
                <a:cubicBezTo>
                  <a:pt x="451" y="36"/>
                  <a:pt x="542" y="81"/>
                  <a:pt x="596" y="125"/>
                </a:cubicBezTo>
                <a:cubicBezTo>
                  <a:pt x="650" y="169"/>
                  <a:pt x="683" y="248"/>
                  <a:pt x="732" y="282"/>
                </a:cubicBezTo>
                <a:cubicBezTo>
                  <a:pt x="781" y="316"/>
                  <a:pt x="836" y="315"/>
                  <a:pt x="888" y="330"/>
                </a:cubicBezTo>
                <a:cubicBezTo>
                  <a:pt x="940" y="345"/>
                  <a:pt x="998" y="362"/>
                  <a:pt x="1045" y="370"/>
                </a:cubicBezTo>
                <a:cubicBezTo>
                  <a:pt x="1092" y="378"/>
                  <a:pt x="1151" y="378"/>
                  <a:pt x="1172" y="379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444600" y="3081240"/>
                <a:ext cx="1028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873000" y="4916520"/>
                <a:ext cx="25020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f>
                              <m:num>
                                <m:r>
                                  <m:t xml:space="preserve">ν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ν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ν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758880" y="6107040"/>
            <a:ext cx="24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rados de libert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F49-EFEA-4095-9518-7A4C1C1EDB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stimad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292720" y="3860640"/>
            <a:ext cx="3098880" cy="23241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095640" cy="232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1187280" y="1916280"/>
                <a:ext cx="3137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0" name=""/>
          <p:cNvSpPr/>
          <p:nvPr/>
        </p:nvSpPr>
        <p:spPr>
          <a:xfrm>
            <a:off x="6227640" y="1916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timador eficiente polariz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042920" y="4581360"/>
                <a:ext cx="31370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588000" y="2924280"/>
            <a:ext cx="18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timador no eficiente, no polariz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68360" y="1125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timador eficiente polariz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5280" y="3789360"/>
            <a:ext cx="25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timador no eficiente, no polariz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148360" y="2811600"/>
            <a:ext cx="3527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48360" y="3213000"/>
            <a:ext cx="3527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39640" y="2997360"/>
            <a:ext cx="4464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Bandas de confianza, dentro, R</a:t>
            </a:r>
            <a:r>
              <a:rPr b="0" lang="es-ES" sz="2000" spc="-1" strike="noStrike" baseline="-25000">
                <a:solidFill>
                  <a:srgbClr val="ffcc00"/>
                </a:solidFill>
                <a:latin typeface="Tahoma"/>
              </a:rPr>
              <a:t>x</a:t>
            </a: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(k) no es significativamente distinto de c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E0C-D082-4A8A-AF12-7708C6CF88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Correlación cruzad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1332000" y="1628640"/>
            <a:ext cx="0" cy="23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68360" y="3645000"/>
            <a:ext cx="35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971640" y="2852640"/>
            <a:ext cx="2952720" cy="515880"/>
          </a:xfrm>
          <a:custGeom>
            <a:avLst/>
            <a:gdLst/>
            <a:ahLst/>
            <a:rect l="l" t="t" r="r" b="b"/>
            <a:pathLst>
              <a:path w="1860" h="325">
                <a:moveTo>
                  <a:pt x="0" y="272"/>
                </a:moveTo>
                <a:cubicBezTo>
                  <a:pt x="121" y="242"/>
                  <a:pt x="242" y="212"/>
                  <a:pt x="318" y="182"/>
                </a:cubicBezTo>
                <a:cubicBezTo>
                  <a:pt x="394" y="152"/>
                  <a:pt x="401" y="106"/>
                  <a:pt x="454" y="91"/>
                </a:cubicBezTo>
                <a:cubicBezTo>
                  <a:pt x="507" y="76"/>
                  <a:pt x="590" y="68"/>
                  <a:pt x="635" y="91"/>
                </a:cubicBezTo>
                <a:cubicBezTo>
                  <a:pt x="680" y="114"/>
                  <a:pt x="673" y="189"/>
                  <a:pt x="726" y="227"/>
                </a:cubicBezTo>
                <a:cubicBezTo>
                  <a:pt x="779" y="265"/>
                  <a:pt x="855" y="311"/>
                  <a:pt x="953" y="318"/>
                </a:cubicBezTo>
                <a:cubicBezTo>
                  <a:pt x="1051" y="325"/>
                  <a:pt x="1232" y="310"/>
                  <a:pt x="1315" y="272"/>
                </a:cubicBezTo>
                <a:cubicBezTo>
                  <a:pt x="1398" y="234"/>
                  <a:pt x="1392" y="129"/>
                  <a:pt x="1452" y="91"/>
                </a:cubicBezTo>
                <a:cubicBezTo>
                  <a:pt x="1512" y="53"/>
                  <a:pt x="1610" y="60"/>
                  <a:pt x="1678" y="45"/>
                </a:cubicBezTo>
                <a:cubicBezTo>
                  <a:pt x="1746" y="30"/>
                  <a:pt x="1803" y="15"/>
                  <a:pt x="1860" y="0"/>
                </a:cubicBezTo>
              </a:path>
            </a:pathLst>
          </a:custGeom>
          <a:noFill/>
          <a:ln w="9360">
            <a:solidFill>
              <a:srgbClr val="fec4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71640" y="1749600"/>
            <a:ext cx="2592360" cy="839520"/>
          </a:xfrm>
          <a:custGeom>
            <a:avLst/>
            <a:gdLst/>
            <a:ahLst/>
            <a:rect l="l" t="t" r="r" b="b"/>
            <a:pathLst>
              <a:path w="1996" h="529">
                <a:moveTo>
                  <a:pt x="0" y="287"/>
                </a:moveTo>
                <a:cubicBezTo>
                  <a:pt x="83" y="241"/>
                  <a:pt x="167" y="196"/>
                  <a:pt x="227" y="151"/>
                </a:cubicBezTo>
                <a:cubicBezTo>
                  <a:pt x="287" y="106"/>
                  <a:pt x="295" y="30"/>
                  <a:pt x="363" y="15"/>
                </a:cubicBezTo>
                <a:cubicBezTo>
                  <a:pt x="431" y="0"/>
                  <a:pt x="574" y="7"/>
                  <a:pt x="635" y="60"/>
                </a:cubicBezTo>
                <a:cubicBezTo>
                  <a:pt x="696" y="113"/>
                  <a:pt x="696" y="272"/>
                  <a:pt x="726" y="332"/>
                </a:cubicBezTo>
                <a:cubicBezTo>
                  <a:pt x="756" y="392"/>
                  <a:pt x="772" y="393"/>
                  <a:pt x="817" y="423"/>
                </a:cubicBezTo>
                <a:cubicBezTo>
                  <a:pt x="862" y="453"/>
                  <a:pt x="953" y="499"/>
                  <a:pt x="998" y="514"/>
                </a:cubicBezTo>
                <a:cubicBezTo>
                  <a:pt x="1043" y="529"/>
                  <a:pt x="1059" y="514"/>
                  <a:pt x="1089" y="514"/>
                </a:cubicBezTo>
                <a:cubicBezTo>
                  <a:pt x="1119" y="514"/>
                  <a:pt x="1149" y="514"/>
                  <a:pt x="1179" y="514"/>
                </a:cubicBezTo>
                <a:cubicBezTo>
                  <a:pt x="1209" y="514"/>
                  <a:pt x="1232" y="522"/>
                  <a:pt x="1270" y="514"/>
                </a:cubicBezTo>
                <a:cubicBezTo>
                  <a:pt x="1308" y="506"/>
                  <a:pt x="1361" y="483"/>
                  <a:pt x="1406" y="468"/>
                </a:cubicBezTo>
                <a:cubicBezTo>
                  <a:pt x="1451" y="453"/>
                  <a:pt x="1497" y="453"/>
                  <a:pt x="1542" y="423"/>
                </a:cubicBezTo>
                <a:cubicBezTo>
                  <a:pt x="1587" y="393"/>
                  <a:pt x="1633" y="325"/>
                  <a:pt x="1678" y="287"/>
                </a:cubicBezTo>
                <a:cubicBezTo>
                  <a:pt x="1723" y="249"/>
                  <a:pt x="1761" y="211"/>
                  <a:pt x="1814" y="196"/>
                </a:cubicBezTo>
                <a:cubicBezTo>
                  <a:pt x="1867" y="181"/>
                  <a:pt x="1966" y="196"/>
                  <a:pt x="1996" y="196"/>
                </a:cubicBezTo>
              </a:path>
            </a:pathLst>
          </a:custGeom>
          <a:noFill/>
          <a:ln w="936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3200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332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56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4660920" y="3284640"/>
                <a:ext cx="3670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4788000" y="2781360"/>
                <a:ext cx="3644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8" name=""/>
          <p:cNvSpPr/>
          <p:nvPr/>
        </p:nvSpPr>
        <p:spPr>
          <a:xfrm>
            <a:off x="5076720" y="3141720"/>
            <a:ext cx="432000" cy="216000"/>
          </a:xfrm>
          <a:prstGeom prst="line">
            <a:avLst/>
          </a:prstGeom>
          <a:ln w="9360">
            <a:solidFill>
              <a:srgbClr val="fec4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435640" y="3141720"/>
            <a:ext cx="431640" cy="216000"/>
          </a:xfrm>
          <a:prstGeom prst="line">
            <a:avLst/>
          </a:prstGeom>
          <a:ln w="9360">
            <a:solidFill>
              <a:srgbClr val="fec4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164360" y="3068640"/>
            <a:ext cx="792360" cy="287280"/>
          </a:xfrm>
          <a:prstGeom prst="line">
            <a:avLst/>
          </a:prstGeom>
          <a:ln w="9360">
            <a:solidFill>
              <a:srgbClr val="fec4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659640" y="3141720"/>
            <a:ext cx="576360" cy="216000"/>
          </a:xfrm>
          <a:prstGeom prst="line">
            <a:avLst/>
          </a:prstGeom>
          <a:ln w="9360">
            <a:solidFill>
              <a:srgbClr val="fec4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067280" y="1628640"/>
            <a:ext cx="4897440" cy="1008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Cómo influye el valor que la variable u toma en el instante t sobre el valor que la variable y toma en el instante t+k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788000" y="378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.e. k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4508640"/>
            <a:ext cx="305928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ormar parejas (u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, y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Tahoma"/>
              </a:rPr>
              <a:t>t+k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) y representarlas gráficamente para estudiar posibles depend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60360" y="450864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8360" y="544500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316240" y="5445000"/>
                <a:ext cx="647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 flipV="1">
            <a:off x="611280" y="4797360"/>
            <a:ext cx="1512720" cy="115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03280" y="4869000"/>
            <a:ext cx="73080" cy="7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619280" y="5084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35280" y="530064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124000" y="5084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76360" y="5516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971640" y="479736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11280" y="5300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042920" y="5300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580536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692360" y="573408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39640" y="566100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79640" y="5950080"/>
            <a:ext cx="73080" cy="7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97440" y="450864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32000" y="544500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348000" y="4797360"/>
            <a:ext cx="1513080" cy="115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40360" y="508464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356000" y="5084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00720" y="479736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859280" y="494172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067280" y="5516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24360" y="5300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19640" y="566100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780000" y="551664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635280" y="573408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56000" y="537372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92360" y="5950080"/>
            <a:ext cx="73080" cy="7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643280" y="515772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95280" y="63086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o hay depend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067280" y="580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pendencia pa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21200" y="4508640"/>
                <a:ext cx="825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1332000" y="4437000"/>
                <a:ext cx="825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4643280" y="5445000"/>
                <a:ext cx="6480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9CBD-0A89-4B4B-9060-A419F32240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Ind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4960" y="179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cesos estoc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racterización de series tem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rrel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álisis espect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uidos blan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odelos de señales estocást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R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st de Estacionare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utocorrelación pa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delos Box-Jenk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ADC3-B64B-4F72-8D40-055C8B29FB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Covarianza Cruza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24360" y="1916280"/>
            <a:ext cx="4751280" cy="703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Como medir el grado de depend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2724120"/>
            <a:ext cx="44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2565360"/>
            <a:ext cx="4608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puede usar el valor medio de los cuadrados de las desviaciones sobre la recta de regresión m(u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– 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190440" y="3697200"/>
                <a:ext cx="8761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acc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t xml:space="preserve">y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>
            <a:off x="324000" y="4653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s desviaciones serán pequeñas si el térm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5170320" y="4699080"/>
                <a:ext cx="2090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7311960" y="465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 gran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809800" y="5280120"/>
                <a:ext cx="5600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250920" y="5229360"/>
            <a:ext cx="226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varianza cruzada de u e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836720" y="170028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71640" y="263700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87280" y="1989000"/>
            <a:ext cx="1513080" cy="115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979640" y="2276640"/>
            <a:ext cx="73080" cy="7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95640" y="2276640"/>
            <a:ext cx="72720" cy="7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40000" y="198900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698920" y="213372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906560" y="270828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763640" y="249228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58920" y="2852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270828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74920" y="292572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195640" y="256536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332000" y="314172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482920" y="234936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1860480" y="1700280"/>
                <a:ext cx="825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2920" y="2637000"/>
                <a:ext cx="647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7CD-F0F2-4A50-A104-CC7A7BA139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Propiedades de R</a:t>
            </a:r>
            <a:r>
              <a:rPr b="0" lang="es-ES" sz="4400" spc="-1" strike="noStrike" baseline="-25000">
                <a:solidFill>
                  <a:srgbClr val="e5ffff"/>
                </a:solidFill>
                <a:latin typeface="Tahoma"/>
              </a:rPr>
              <a:t>uy</a:t>
            </a: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(k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908000" y="1773360"/>
                <a:ext cx="5600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0" name=""/>
          <p:cNvSpPr/>
          <p:nvPr/>
        </p:nvSpPr>
        <p:spPr>
          <a:xfrm>
            <a:off x="611280" y="2637000"/>
            <a:ext cx="79214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misma influencia tiene u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sobre y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Tahoma"/>
              </a:rPr>
              <a:t>t+k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que y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Tahoma"/>
              </a:rPr>
              <a:t>t+k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sobre u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por tan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Tahoma"/>
              </a:rPr>
              <a:t>uy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k) = R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Tahoma"/>
              </a:rPr>
              <a:t>yu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-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uando k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la influencia decrece a cero, luego R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Tahoma"/>
              </a:rPr>
              <a:t>uy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) =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55640" y="436572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Coeficiente de correlación cruz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5292720" y="4221000"/>
                <a:ext cx="167652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7236000" y="4365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dimens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403280" y="5300640"/>
                <a:ext cx="2390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724360" y="5300640"/>
                <a:ext cx="275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1332000" y="6093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timador efic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724360" y="6021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timador no polariz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8C8-EBDC-4B00-8A2E-FD4E334261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106880" cy="307980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4716360" y="1557360"/>
            <a:ext cx="4103640" cy="30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5AA-55D2-402D-B283-43E39FBD0F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3"/>
          <a:stretch/>
        </p:blipFill>
        <p:spPr>
          <a:xfrm>
            <a:off x="4788000" y="2050920"/>
            <a:ext cx="4176720" cy="31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118-D6DF-4C8C-8C3F-FFA255E76D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0000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Componentes de frecuencia de una señ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32000" y="227664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187280" y="299736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16360" y="278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116000" y="2263680"/>
            <a:ext cx="1871640" cy="528840"/>
          </a:xfrm>
          <a:custGeom>
            <a:avLst/>
            <a:gdLst/>
            <a:ahLst/>
            <a:rect l="l" t="t" r="r" b="b"/>
            <a:pathLst>
              <a:path w="1179" h="333">
                <a:moveTo>
                  <a:pt x="0" y="280"/>
                </a:moveTo>
                <a:cubicBezTo>
                  <a:pt x="26" y="269"/>
                  <a:pt x="52" y="258"/>
                  <a:pt x="90" y="235"/>
                </a:cubicBezTo>
                <a:cubicBezTo>
                  <a:pt x="128" y="212"/>
                  <a:pt x="189" y="182"/>
                  <a:pt x="227" y="144"/>
                </a:cubicBezTo>
                <a:cubicBezTo>
                  <a:pt x="265" y="106"/>
                  <a:pt x="279" y="16"/>
                  <a:pt x="317" y="8"/>
                </a:cubicBezTo>
                <a:cubicBezTo>
                  <a:pt x="355" y="0"/>
                  <a:pt x="423" y="54"/>
                  <a:pt x="453" y="99"/>
                </a:cubicBezTo>
                <a:cubicBezTo>
                  <a:pt x="483" y="144"/>
                  <a:pt x="476" y="242"/>
                  <a:pt x="499" y="280"/>
                </a:cubicBezTo>
                <a:cubicBezTo>
                  <a:pt x="522" y="318"/>
                  <a:pt x="566" y="333"/>
                  <a:pt x="589" y="326"/>
                </a:cubicBezTo>
                <a:cubicBezTo>
                  <a:pt x="612" y="319"/>
                  <a:pt x="612" y="235"/>
                  <a:pt x="635" y="235"/>
                </a:cubicBezTo>
                <a:cubicBezTo>
                  <a:pt x="658" y="235"/>
                  <a:pt x="703" y="319"/>
                  <a:pt x="726" y="326"/>
                </a:cubicBezTo>
                <a:cubicBezTo>
                  <a:pt x="749" y="333"/>
                  <a:pt x="756" y="303"/>
                  <a:pt x="771" y="280"/>
                </a:cubicBezTo>
                <a:cubicBezTo>
                  <a:pt x="786" y="257"/>
                  <a:pt x="793" y="227"/>
                  <a:pt x="816" y="190"/>
                </a:cubicBezTo>
                <a:cubicBezTo>
                  <a:pt x="839" y="153"/>
                  <a:pt x="884" y="69"/>
                  <a:pt x="907" y="54"/>
                </a:cubicBezTo>
                <a:cubicBezTo>
                  <a:pt x="930" y="39"/>
                  <a:pt x="929" y="76"/>
                  <a:pt x="952" y="99"/>
                </a:cubicBezTo>
                <a:cubicBezTo>
                  <a:pt x="975" y="122"/>
                  <a:pt x="1005" y="183"/>
                  <a:pt x="1043" y="190"/>
                </a:cubicBezTo>
                <a:cubicBezTo>
                  <a:pt x="1081" y="197"/>
                  <a:pt x="1130" y="170"/>
                  <a:pt x="1179" y="1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492360" y="2492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429080" y="227664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284720" y="2997360"/>
            <a:ext cx="194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877080" y="278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500720" y="2059920"/>
            <a:ext cx="1122480" cy="431640"/>
            <a:chOff x="4500720" y="2059920"/>
            <a:chExt cx="1122480" cy="431640"/>
          </a:xfrm>
        </p:grpSpPr>
        <p:grpSp>
          <p:nvGrpSpPr>
            <p:cNvPr id="594" name=""/>
            <p:cNvGrpSpPr/>
            <p:nvPr/>
          </p:nvGrpSpPr>
          <p:grpSpPr>
            <a:xfrm>
              <a:off x="4947480" y="2059920"/>
              <a:ext cx="675720" cy="431640"/>
              <a:chOff x="4947480" y="2059920"/>
              <a:chExt cx="675720" cy="431640"/>
            </a:xfrm>
          </p:grpSpPr>
          <p:sp>
            <p:nvSpPr>
              <p:cNvPr id="595" name=""/>
              <p:cNvSpPr/>
              <p:nvPr/>
            </p:nvSpPr>
            <p:spPr>
              <a:xfrm>
                <a:off x="4947480" y="2060640"/>
                <a:ext cx="229680" cy="4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flipV="1">
                <a:off x="5177520" y="2059560"/>
                <a:ext cx="22968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5163480" y="2059560"/>
                <a:ext cx="22968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393520" y="2060640"/>
                <a:ext cx="229680" cy="4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01440" y="2060640"/>
              <a:ext cx="228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>
              <a:off x="4731120" y="2059560"/>
              <a:ext cx="229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4717440" y="2059560"/>
              <a:ext cx="228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4947120" y="2060640"/>
              <a:ext cx="229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4500720" y="2060640"/>
              <a:ext cx="229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4500720" y="2780640"/>
            <a:ext cx="1294920" cy="143640"/>
            <a:chOff x="4500720" y="2780640"/>
            <a:chExt cx="1294920" cy="143640"/>
          </a:xfrm>
        </p:grpSpPr>
        <p:grpSp>
          <p:nvGrpSpPr>
            <p:cNvPr id="605" name=""/>
            <p:cNvGrpSpPr/>
            <p:nvPr/>
          </p:nvGrpSpPr>
          <p:grpSpPr>
            <a:xfrm>
              <a:off x="4500720" y="2780640"/>
              <a:ext cx="698040" cy="143640"/>
              <a:chOff x="4500720" y="2780640"/>
              <a:chExt cx="698040" cy="14364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4699800" y="2780640"/>
                <a:ext cx="299880" cy="142920"/>
                <a:chOff x="4699800" y="2780640"/>
                <a:chExt cx="299880" cy="1429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699800" y="2781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 flipV="1">
                  <a:off x="4801680" y="2780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V="1">
                  <a:off x="4795920" y="2780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>
                  <a:off x="4898160" y="2781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4501080" y="2781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4603320" y="2781000"/>
                <a:ext cx="10152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4597560" y="2781000"/>
                <a:ext cx="10152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4699440" y="2781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4500720" y="2781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4898880" y="2780640"/>
                <a:ext cx="299880" cy="142920"/>
                <a:chOff x="4898880" y="2780640"/>
                <a:chExt cx="299880" cy="1429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4898880" y="2781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 flipV="1">
                  <a:off x="5000760" y="2780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V="1">
                  <a:off x="4995000" y="2780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>
                  <a:off x="5097240" y="2781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1" name=""/>
            <p:cNvGrpSpPr/>
            <p:nvPr/>
          </p:nvGrpSpPr>
          <p:grpSpPr>
            <a:xfrm>
              <a:off x="5097600" y="2780640"/>
              <a:ext cx="698040" cy="143640"/>
              <a:chOff x="5097600" y="2780640"/>
              <a:chExt cx="698040" cy="143640"/>
            </a:xfrm>
          </p:grpSpPr>
          <p:grpSp>
            <p:nvGrpSpPr>
              <p:cNvPr id="622" name=""/>
              <p:cNvGrpSpPr/>
              <p:nvPr/>
            </p:nvGrpSpPr>
            <p:grpSpPr>
              <a:xfrm>
                <a:off x="5296680" y="2780640"/>
                <a:ext cx="299880" cy="142920"/>
                <a:chOff x="5296680" y="2780640"/>
                <a:chExt cx="299880" cy="142920"/>
              </a:xfrm>
            </p:grpSpPr>
            <p:sp>
              <p:nvSpPr>
                <p:cNvPr id="623" name=""/>
                <p:cNvSpPr/>
                <p:nvPr/>
              </p:nvSpPr>
              <p:spPr>
                <a:xfrm flipH="1">
                  <a:off x="5495040" y="2781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V="1">
                  <a:off x="5393160" y="2780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 flipV="1">
                  <a:off x="5398920" y="2780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296680" y="2781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 flipH="1">
                <a:off x="5693760" y="2781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5591520" y="2781000"/>
                <a:ext cx="10152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5597280" y="2781000"/>
                <a:ext cx="10152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495400" y="2781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694120" y="2781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5097600" y="2780640"/>
                <a:ext cx="299880" cy="142920"/>
                <a:chOff x="5097600" y="2780640"/>
                <a:chExt cx="299880" cy="142920"/>
              </a:xfrm>
            </p:grpSpPr>
            <p:sp>
              <p:nvSpPr>
                <p:cNvPr id="633" name=""/>
                <p:cNvSpPr/>
                <p:nvPr/>
              </p:nvSpPr>
              <p:spPr>
                <a:xfrm flipH="1">
                  <a:off x="5295960" y="2781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V="1">
                  <a:off x="5194080" y="2780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 flipV="1">
                  <a:off x="5199840" y="2780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097600" y="2781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37" name=""/>
          <p:cNvGrpSpPr/>
          <p:nvPr/>
        </p:nvGrpSpPr>
        <p:grpSpPr>
          <a:xfrm>
            <a:off x="4129920" y="3141360"/>
            <a:ext cx="2181240" cy="216000"/>
            <a:chOff x="4129920" y="3141360"/>
            <a:chExt cx="2181240" cy="216000"/>
          </a:xfrm>
        </p:grpSpPr>
        <p:sp>
          <p:nvSpPr>
            <p:cNvPr id="638" name=""/>
            <p:cNvSpPr/>
            <p:nvPr/>
          </p:nvSpPr>
          <p:spPr>
            <a:xfrm>
              <a:off x="4129920" y="3141720"/>
              <a:ext cx="74160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4871160" y="3141000"/>
              <a:ext cx="74268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826520" y="3141000"/>
              <a:ext cx="74160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5568120" y="3141720"/>
              <a:ext cx="74268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493236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932360" y="29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932360" y="3284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+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826920" y="3573360"/>
                <a:ext cx="695988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se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mplitud de la componente de frecuencia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>
            <a:off x="1258920" y="501336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55640" y="6165720"/>
            <a:ext cx="39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85928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68360" y="5013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(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042920" y="5229360"/>
            <a:ext cx="3745080" cy="947520"/>
          </a:xfrm>
          <a:custGeom>
            <a:avLst/>
            <a:gdLst/>
            <a:ahLst/>
            <a:rect l="l" t="t" r="r" b="b"/>
            <a:pathLst>
              <a:path w="2359" h="597">
                <a:moveTo>
                  <a:pt x="0" y="227"/>
                </a:moveTo>
                <a:cubicBezTo>
                  <a:pt x="57" y="178"/>
                  <a:pt x="114" y="129"/>
                  <a:pt x="182" y="91"/>
                </a:cubicBezTo>
                <a:cubicBezTo>
                  <a:pt x="250" y="53"/>
                  <a:pt x="334" y="0"/>
                  <a:pt x="409" y="0"/>
                </a:cubicBezTo>
                <a:cubicBezTo>
                  <a:pt x="484" y="0"/>
                  <a:pt x="575" y="38"/>
                  <a:pt x="635" y="91"/>
                </a:cubicBezTo>
                <a:cubicBezTo>
                  <a:pt x="695" y="144"/>
                  <a:pt x="719" y="258"/>
                  <a:pt x="772" y="318"/>
                </a:cubicBezTo>
                <a:cubicBezTo>
                  <a:pt x="825" y="378"/>
                  <a:pt x="900" y="416"/>
                  <a:pt x="953" y="454"/>
                </a:cubicBezTo>
                <a:cubicBezTo>
                  <a:pt x="1006" y="492"/>
                  <a:pt x="1051" y="521"/>
                  <a:pt x="1089" y="544"/>
                </a:cubicBezTo>
                <a:cubicBezTo>
                  <a:pt x="1127" y="567"/>
                  <a:pt x="1127" y="597"/>
                  <a:pt x="1180" y="590"/>
                </a:cubicBezTo>
                <a:cubicBezTo>
                  <a:pt x="1233" y="583"/>
                  <a:pt x="1347" y="529"/>
                  <a:pt x="1407" y="499"/>
                </a:cubicBezTo>
                <a:cubicBezTo>
                  <a:pt x="1467" y="469"/>
                  <a:pt x="1505" y="423"/>
                  <a:pt x="1543" y="408"/>
                </a:cubicBezTo>
                <a:cubicBezTo>
                  <a:pt x="1581" y="393"/>
                  <a:pt x="1595" y="400"/>
                  <a:pt x="1633" y="408"/>
                </a:cubicBezTo>
                <a:cubicBezTo>
                  <a:pt x="1671" y="416"/>
                  <a:pt x="1724" y="439"/>
                  <a:pt x="1769" y="454"/>
                </a:cubicBezTo>
                <a:cubicBezTo>
                  <a:pt x="1814" y="469"/>
                  <a:pt x="1860" y="492"/>
                  <a:pt x="1905" y="499"/>
                </a:cubicBezTo>
                <a:cubicBezTo>
                  <a:pt x="1950" y="506"/>
                  <a:pt x="1989" y="506"/>
                  <a:pt x="2042" y="499"/>
                </a:cubicBezTo>
                <a:cubicBezTo>
                  <a:pt x="2095" y="492"/>
                  <a:pt x="2170" y="454"/>
                  <a:pt x="2223" y="454"/>
                </a:cubicBezTo>
                <a:cubicBezTo>
                  <a:pt x="2276" y="454"/>
                  <a:pt x="2317" y="476"/>
                  <a:pt x="2359" y="49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08720" y="5157720"/>
            <a:ext cx="324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nsformada de Fou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pectro de frecuencias de la señ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187280" y="1916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(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F0A-9513-464A-98DB-6AF5C65C02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Análisis espectr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4" name=""/>
          <p:cNvSpPr/>
          <p:nvPr/>
        </p:nvSpPr>
        <p:spPr>
          <a:xfrm>
            <a:off x="684360" y="184464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ara que exista la transformada de Fourier de una señal f(t) esta ha de verific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3348000" y="2349360"/>
                <a:ext cx="1511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dτ</m:t>
                        </m:r>
                      </m:e>
                    </m:nary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6156360" y="313992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012000" y="3860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940360" y="3500280"/>
            <a:ext cx="1584360" cy="528840"/>
          </a:xfrm>
          <a:custGeom>
            <a:avLst/>
            <a:gdLst/>
            <a:ahLst/>
            <a:rect l="l" t="t" r="r" b="b"/>
            <a:pathLst>
              <a:path w="1179" h="333">
                <a:moveTo>
                  <a:pt x="0" y="280"/>
                </a:moveTo>
                <a:cubicBezTo>
                  <a:pt x="26" y="269"/>
                  <a:pt x="52" y="258"/>
                  <a:pt x="90" y="235"/>
                </a:cubicBezTo>
                <a:cubicBezTo>
                  <a:pt x="128" y="212"/>
                  <a:pt x="189" y="182"/>
                  <a:pt x="227" y="144"/>
                </a:cubicBezTo>
                <a:cubicBezTo>
                  <a:pt x="265" y="106"/>
                  <a:pt x="279" y="16"/>
                  <a:pt x="317" y="8"/>
                </a:cubicBezTo>
                <a:cubicBezTo>
                  <a:pt x="355" y="0"/>
                  <a:pt x="423" y="54"/>
                  <a:pt x="453" y="99"/>
                </a:cubicBezTo>
                <a:cubicBezTo>
                  <a:pt x="483" y="144"/>
                  <a:pt x="476" y="242"/>
                  <a:pt x="499" y="280"/>
                </a:cubicBezTo>
                <a:cubicBezTo>
                  <a:pt x="522" y="318"/>
                  <a:pt x="566" y="333"/>
                  <a:pt x="589" y="326"/>
                </a:cubicBezTo>
                <a:cubicBezTo>
                  <a:pt x="612" y="319"/>
                  <a:pt x="612" y="235"/>
                  <a:pt x="635" y="235"/>
                </a:cubicBezTo>
                <a:cubicBezTo>
                  <a:pt x="658" y="235"/>
                  <a:pt x="703" y="319"/>
                  <a:pt x="726" y="326"/>
                </a:cubicBezTo>
                <a:cubicBezTo>
                  <a:pt x="749" y="333"/>
                  <a:pt x="756" y="303"/>
                  <a:pt x="771" y="280"/>
                </a:cubicBezTo>
                <a:cubicBezTo>
                  <a:pt x="786" y="257"/>
                  <a:pt x="793" y="227"/>
                  <a:pt x="816" y="190"/>
                </a:cubicBezTo>
                <a:cubicBezTo>
                  <a:pt x="839" y="153"/>
                  <a:pt x="884" y="69"/>
                  <a:pt x="907" y="54"/>
                </a:cubicBezTo>
                <a:cubicBezTo>
                  <a:pt x="930" y="39"/>
                  <a:pt x="929" y="76"/>
                  <a:pt x="952" y="99"/>
                </a:cubicBezTo>
                <a:cubicBezTo>
                  <a:pt x="975" y="122"/>
                  <a:pt x="1005" y="183"/>
                  <a:pt x="1043" y="190"/>
                </a:cubicBezTo>
                <a:cubicBezTo>
                  <a:pt x="1081" y="197"/>
                  <a:pt x="1130" y="170"/>
                  <a:pt x="1179" y="1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39640" y="3068640"/>
            <a:ext cx="47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Una señal estocástica no verificará esta condición por lo que el análisis en frecuencia ha de hacerse con otras herrami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156360" y="29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(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667640" y="36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11280" y="458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define el </a:t>
            </a: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espectro de potenci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de una señal x(t) como la transformada de Fourier de su autocovarianz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059280" y="5373720"/>
                <a:ext cx="2476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AC3-14A5-46F3-8386-EC5F6E42BC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spectro de pote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48000" y="1628640"/>
                <a:ext cx="2476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250920" y="2492280"/>
                <a:ext cx="8686800" cy="322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ν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ων</m:t>
                                    </m:r>
                                  </m:sup>
                                </m:sSup>
                                <m:r>
                                  <m:t xml:space="preserve">dν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r>
                                      <m:t xml:space="preserve">)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jω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ν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</m:nary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ν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dν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E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ν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r>
                                      <m:t xml:space="preserve">)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ν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d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ν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ν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d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ν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τ</m:t>
                        </m:r>
                        <m:r>
                          <m:t xml:space="preserve"> </m:t>
                        </m:r>
                        <m:r>
                          <m:t xml:space="preserve">dν</m:t>
                        </m:r>
                        <m:r>
                          <m:t xml:space="preserve">=</m:t>
                        </m:r>
                        <m:r>
                          <m:t xml:space="preserve">dτ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sup>
                        </m:sSup>
                        <m:r>
                          <m:t xml:space="preserve">dτ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324000" y="5661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o la potencia asociada a una señal es proporcional al cuadrado de la misma, el espectro de potencia es proporcional a la potencia asociada a cada frecuen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6156360" y="4581360"/>
                <a:ext cx="2324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501-E56A-4561-9CE8-8B41B32489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nergía de una señ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1692360" y="328464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547640" y="400536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76720" y="378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476360" y="3271680"/>
            <a:ext cx="1871640" cy="528840"/>
          </a:xfrm>
          <a:custGeom>
            <a:avLst/>
            <a:gdLst/>
            <a:ahLst/>
            <a:rect l="l" t="t" r="r" b="b"/>
            <a:pathLst>
              <a:path w="1179" h="333">
                <a:moveTo>
                  <a:pt x="0" y="280"/>
                </a:moveTo>
                <a:cubicBezTo>
                  <a:pt x="26" y="269"/>
                  <a:pt x="52" y="258"/>
                  <a:pt x="90" y="235"/>
                </a:cubicBezTo>
                <a:cubicBezTo>
                  <a:pt x="128" y="212"/>
                  <a:pt x="189" y="182"/>
                  <a:pt x="227" y="144"/>
                </a:cubicBezTo>
                <a:cubicBezTo>
                  <a:pt x="265" y="106"/>
                  <a:pt x="279" y="16"/>
                  <a:pt x="317" y="8"/>
                </a:cubicBezTo>
                <a:cubicBezTo>
                  <a:pt x="355" y="0"/>
                  <a:pt x="423" y="54"/>
                  <a:pt x="453" y="99"/>
                </a:cubicBezTo>
                <a:cubicBezTo>
                  <a:pt x="483" y="144"/>
                  <a:pt x="476" y="242"/>
                  <a:pt x="499" y="280"/>
                </a:cubicBezTo>
                <a:cubicBezTo>
                  <a:pt x="522" y="318"/>
                  <a:pt x="566" y="333"/>
                  <a:pt x="589" y="326"/>
                </a:cubicBezTo>
                <a:cubicBezTo>
                  <a:pt x="612" y="319"/>
                  <a:pt x="612" y="235"/>
                  <a:pt x="635" y="235"/>
                </a:cubicBezTo>
                <a:cubicBezTo>
                  <a:pt x="658" y="235"/>
                  <a:pt x="703" y="319"/>
                  <a:pt x="726" y="326"/>
                </a:cubicBezTo>
                <a:cubicBezTo>
                  <a:pt x="749" y="333"/>
                  <a:pt x="756" y="303"/>
                  <a:pt x="771" y="280"/>
                </a:cubicBezTo>
                <a:cubicBezTo>
                  <a:pt x="786" y="257"/>
                  <a:pt x="793" y="227"/>
                  <a:pt x="816" y="190"/>
                </a:cubicBezTo>
                <a:cubicBezTo>
                  <a:pt x="839" y="153"/>
                  <a:pt x="884" y="69"/>
                  <a:pt x="907" y="54"/>
                </a:cubicBezTo>
                <a:cubicBezTo>
                  <a:pt x="930" y="39"/>
                  <a:pt x="929" y="76"/>
                  <a:pt x="952" y="99"/>
                </a:cubicBezTo>
                <a:cubicBezTo>
                  <a:pt x="975" y="122"/>
                  <a:pt x="1005" y="183"/>
                  <a:pt x="1043" y="190"/>
                </a:cubicBezTo>
                <a:cubicBezTo>
                  <a:pt x="1081" y="197"/>
                  <a:pt x="1130" y="170"/>
                  <a:pt x="1179" y="1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52720" y="3500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789440" y="328464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45080" y="4005360"/>
            <a:ext cx="194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237440" y="378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861080" y="3067920"/>
            <a:ext cx="1122480" cy="431640"/>
            <a:chOff x="4861080" y="3067920"/>
            <a:chExt cx="1122480" cy="431640"/>
          </a:xfrm>
        </p:grpSpPr>
        <p:grpSp>
          <p:nvGrpSpPr>
            <p:cNvPr id="679" name=""/>
            <p:cNvGrpSpPr/>
            <p:nvPr/>
          </p:nvGrpSpPr>
          <p:grpSpPr>
            <a:xfrm>
              <a:off x="5307840" y="3067920"/>
              <a:ext cx="675720" cy="431640"/>
              <a:chOff x="5307840" y="3067920"/>
              <a:chExt cx="675720" cy="431640"/>
            </a:xfrm>
          </p:grpSpPr>
          <p:sp>
            <p:nvSpPr>
              <p:cNvPr id="680" name=""/>
              <p:cNvSpPr/>
              <p:nvPr/>
            </p:nvSpPr>
            <p:spPr>
              <a:xfrm>
                <a:off x="5307840" y="3068640"/>
                <a:ext cx="229680" cy="4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 flipV="1">
                <a:off x="5537880" y="3067560"/>
                <a:ext cx="22968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5523840" y="3067560"/>
                <a:ext cx="22968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5753880" y="3068640"/>
                <a:ext cx="229680" cy="4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4861800" y="3068640"/>
              <a:ext cx="228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5091480" y="3067560"/>
              <a:ext cx="229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5077800" y="3067560"/>
              <a:ext cx="228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5307480" y="3068640"/>
              <a:ext cx="229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4861080" y="3068640"/>
              <a:ext cx="229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4861080" y="3788640"/>
            <a:ext cx="1294920" cy="143640"/>
            <a:chOff x="4861080" y="3788640"/>
            <a:chExt cx="1294920" cy="143640"/>
          </a:xfrm>
        </p:grpSpPr>
        <p:grpSp>
          <p:nvGrpSpPr>
            <p:cNvPr id="690" name=""/>
            <p:cNvGrpSpPr/>
            <p:nvPr/>
          </p:nvGrpSpPr>
          <p:grpSpPr>
            <a:xfrm>
              <a:off x="4861080" y="3788640"/>
              <a:ext cx="698040" cy="143640"/>
              <a:chOff x="4861080" y="3788640"/>
              <a:chExt cx="698040" cy="14364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5060160" y="3788640"/>
                <a:ext cx="299880" cy="142920"/>
                <a:chOff x="5060160" y="3788640"/>
                <a:chExt cx="299880" cy="1429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60160" y="3789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 flipV="1">
                  <a:off x="5162040" y="3788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5156280" y="3788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H="1">
                  <a:off x="5258520" y="3789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4861440" y="3789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4963680" y="3789000"/>
                <a:ext cx="10152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4957920" y="3789000"/>
                <a:ext cx="10152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5059800" y="3789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4861080" y="3789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1" name=""/>
              <p:cNvGrpSpPr/>
              <p:nvPr/>
            </p:nvGrpSpPr>
            <p:grpSpPr>
              <a:xfrm>
                <a:off x="5259240" y="3788640"/>
                <a:ext cx="299880" cy="142920"/>
                <a:chOff x="5259240" y="3788640"/>
                <a:chExt cx="299880" cy="1429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5259240" y="3789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 flipV="1">
                  <a:off x="5361120" y="3788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V="1">
                  <a:off x="5355360" y="3788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H="1">
                  <a:off x="5457600" y="3789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6" name=""/>
            <p:cNvGrpSpPr/>
            <p:nvPr/>
          </p:nvGrpSpPr>
          <p:grpSpPr>
            <a:xfrm>
              <a:off x="5457960" y="3788640"/>
              <a:ext cx="698040" cy="143640"/>
              <a:chOff x="5457960" y="3788640"/>
              <a:chExt cx="698040" cy="143640"/>
            </a:xfrm>
          </p:grpSpPr>
          <p:grpSp>
            <p:nvGrpSpPr>
              <p:cNvPr id="707" name=""/>
              <p:cNvGrpSpPr/>
              <p:nvPr/>
            </p:nvGrpSpPr>
            <p:grpSpPr>
              <a:xfrm>
                <a:off x="5657040" y="3788640"/>
                <a:ext cx="299880" cy="142920"/>
                <a:chOff x="5657040" y="3788640"/>
                <a:chExt cx="299880" cy="142920"/>
              </a:xfrm>
            </p:grpSpPr>
            <p:sp>
              <p:nvSpPr>
                <p:cNvPr id="708" name=""/>
                <p:cNvSpPr/>
                <p:nvPr/>
              </p:nvSpPr>
              <p:spPr>
                <a:xfrm flipH="1">
                  <a:off x="5855400" y="3789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V="1">
                  <a:off x="5753520" y="3788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H="1" flipV="1">
                  <a:off x="5759280" y="3788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657040" y="3789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"/>
              <p:cNvSpPr/>
              <p:nvPr/>
            </p:nvSpPr>
            <p:spPr>
              <a:xfrm flipH="1">
                <a:off x="6054120" y="3789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5951880" y="3789000"/>
                <a:ext cx="10152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 flipV="1">
                <a:off x="5957640" y="3789000"/>
                <a:ext cx="10152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855760" y="3789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4480" y="3789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5457960" y="3788640"/>
                <a:ext cx="299880" cy="142920"/>
                <a:chOff x="5457960" y="3788640"/>
                <a:chExt cx="299880" cy="142920"/>
              </a:xfrm>
            </p:grpSpPr>
            <p:sp>
              <p:nvSpPr>
                <p:cNvPr id="718" name=""/>
                <p:cNvSpPr/>
                <p:nvPr/>
              </p:nvSpPr>
              <p:spPr>
                <a:xfrm flipH="1">
                  <a:off x="5656320" y="3789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V="1">
                  <a:off x="5554440" y="3788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H="1" flipV="1">
                  <a:off x="5560200" y="3788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457960" y="3789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22" name=""/>
          <p:cNvGrpSpPr/>
          <p:nvPr/>
        </p:nvGrpSpPr>
        <p:grpSpPr>
          <a:xfrm>
            <a:off x="4490280" y="4149360"/>
            <a:ext cx="2181240" cy="216000"/>
            <a:chOff x="4490280" y="4149360"/>
            <a:chExt cx="2181240" cy="216000"/>
          </a:xfrm>
        </p:grpSpPr>
        <p:sp>
          <p:nvSpPr>
            <p:cNvPr id="723" name=""/>
            <p:cNvSpPr/>
            <p:nvPr/>
          </p:nvSpPr>
          <p:spPr>
            <a:xfrm>
              <a:off x="4490280" y="4149720"/>
              <a:ext cx="74160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5231520" y="4149000"/>
              <a:ext cx="74268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5186880" y="4149000"/>
              <a:ext cx="74160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5928480" y="4149720"/>
              <a:ext cx="74268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529272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292720" y="3932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292720" y="429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+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47640" y="292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(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55640" y="184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general, la potencia asociada a una señal es proporcional al cuadrado de la mis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3132000" y="2276640"/>
                <a:ext cx="2336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3" name=""/>
          <p:cNvSpPr/>
          <p:nvPr/>
        </p:nvSpPr>
        <p:spPr>
          <a:xfrm>
            <a:off x="1187280" y="479736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 la amplitud de cada componente de frecuencia de la señal es F(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), el principio de conservación de la energia lleva 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157560" y="5516640"/>
                <a:ext cx="2743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5" name=""/>
          <p:cNvSpPr/>
          <p:nvPr/>
        </p:nvSpPr>
        <p:spPr>
          <a:xfrm>
            <a:off x="6372360" y="5516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gualdad de Parser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A35-1889-460F-A1AF-4DC838275F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spectro de pote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1042920" y="1628640"/>
                <a:ext cx="2476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635280" y="170028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ransformada inversa     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0000" y="1628640"/>
                <a:ext cx="27687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16360" y="2565360"/>
                <a:ext cx="29718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x</m:t>
                            </m:r>
                          </m:sup>
                        </m:sSup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6588000" y="371628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74840" y="3645000"/>
                <a:ext cx="2311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3276720" y="35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r ser una medida de la potencia de una señ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324000" y="4581360"/>
                <a:ext cx="82674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se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 una función real, también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4500720" y="4581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l integrar entre -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7E3-F4A4-484B-A9B8-9EA5598128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Ruido blan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971640" y="191628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eñal aleatoria en la que sus valores en un instante t son independientes del valor que han tomado en instantes anterior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76360" y="32130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k) =  0    k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105520" y="335268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495680" y="4343400"/>
            <a:ext cx="297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960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189400" y="3048120"/>
            <a:ext cx="82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105520" y="3733920"/>
            <a:ext cx="0" cy="6094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334120" y="4267080"/>
            <a:ext cx="0" cy="7632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638680" y="4267080"/>
            <a:ext cx="0" cy="7632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4267080"/>
            <a:ext cx="0" cy="7632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181480" y="3505320"/>
            <a:ext cx="6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099040" y="4883040"/>
            <a:ext cx="0" cy="151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876920" y="60199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175360" y="549288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403960" y="549288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632560" y="549288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861160" y="549288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546960" y="549288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160960" y="4710240"/>
            <a:ext cx="41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446960" y="577692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095880" y="548640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324480" y="548640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781680" y="548640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68360" y="5013360"/>
            <a:ext cx="3373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u espectro de potencia es constante al igual que el de la luz blanca en que todas las frecuencias tienen igual p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932360" y="4221000"/>
            <a:ext cx="1612800" cy="97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23000" y="4419720"/>
            <a:ext cx="1612800" cy="9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303120" y="3948120"/>
                <a:ext cx="38736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786-9A90-4CA2-98BB-0CFE141F6C6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Procesos estocástic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181160" y="2044800"/>
            <a:ext cx="650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Un proceso estocástico es una familia de variables aleatorias indexadas por un índice t, que normalmente será el tiem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98600" y="2989440"/>
            <a:ext cx="9360" cy="172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34920" y="4416480"/>
            <a:ext cx="353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7560" y="29415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1800" y="393372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66920" y="3641760"/>
            <a:ext cx="2867040" cy="579240"/>
          </a:xfrm>
          <a:custGeom>
            <a:avLst/>
            <a:gdLst/>
            <a:ahLst/>
            <a:rect l="l" t="t" r="r" b="b"/>
            <a:pathLst>
              <a:path w="1806" h="365">
                <a:moveTo>
                  <a:pt x="0" y="327"/>
                </a:moveTo>
                <a:cubicBezTo>
                  <a:pt x="57" y="320"/>
                  <a:pt x="114" y="314"/>
                  <a:pt x="181" y="281"/>
                </a:cubicBezTo>
                <a:cubicBezTo>
                  <a:pt x="248" y="248"/>
                  <a:pt x="324" y="172"/>
                  <a:pt x="401" y="126"/>
                </a:cubicBezTo>
                <a:cubicBezTo>
                  <a:pt x="478" y="80"/>
                  <a:pt x="558" y="0"/>
                  <a:pt x="641" y="3"/>
                </a:cubicBezTo>
                <a:cubicBezTo>
                  <a:pt x="724" y="6"/>
                  <a:pt x="820" y="92"/>
                  <a:pt x="900" y="145"/>
                </a:cubicBezTo>
                <a:cubicBezTo>
                  <a:pt x="980" y="198"/>
                  <a:pt x="1031" y="285"/>
                  <a:pt x="1120" y="320"/>
                </a:cubicBezTo>
                <a:cubicBezTo>
                  <a:pt x="1209" y="355"/>
                  <a:pt x="1345" y="365"/>
                  <a:pt x="1431" y="353"/>
                </a:cubicBezTo>
                <a:cubicBezTo>
                  <a:pt x="1517" y="341"/>
                  <a:pt x="1587" y="282"/>
                  <a:pt x="1638" y="249"/>
                </a:cubicBezTo>
                <a:cubicBezTo>
                  <a:pt x="1689" y="216"/>
                  <a:pt x="1707" y="178"/>
                  <a:pt x="1735" y="158"/>
                </a:cubicBezTo>
                <a:cubicBezTo>
                  <a:pt x="1763" y="138"/>
                  <a:pt x="1784" y="132"/>
                  <a:pt x="1806" y="126"/>
                </a:cubicBezTo>
              </a:path>
            </a:pathLst>
          </a:custGeom>
          <a:noFill/>
          <a:ln w="936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2200" y="3021120"/>
            <a:ext cx="20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{ x(t)   t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2320" y="2998800"/>
            <a:ext cx="2764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(t) puede ser un vector o un esca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 puede tomar valores continuos o discretos 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7600" y="4911840"/>
            <a:ext cx="759312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Un proceso estocástico discreto {x(t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), x(t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), ... x(t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)} viene caracterizado por la probabilidad conjunta:  p(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, ...,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, t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,t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,...t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) que da la probabilidad de que x en t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tome el valor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≤ x ≤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+ d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6E9-D3D3-458A-84E0-8EB276B2B6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spectro de potencia cruzad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4500720" y="1773360"/>
                <a:ext cx="2603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6" name=""/>
          <p:cNvSpPr/>
          <p:nvPr/>
        </p:nvSpPr>
        <p:spPr>
          <a:xfrm>
            <a:off x="1836720" y="18464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Espectro de potencia cruz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6948360" y="4437000"/>
                <a:ext cx="1791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u</m:t>
                        </m:r>
                      </m:sub>
                      <m:sup/>
                    </m:sSub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1116000" y="2637000"/>
            <a:ext cx="720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o R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uy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) no es una función par, en general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uy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) sera una función compleja de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00000" y="3429000"/>
                <a:ext cx="6896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y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u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 </m:t>
                        </m:r>
                        <m:r>
                          <m:t xml:space="preserve">dν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dτ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u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ν</m:t>
                                </m:r>
                              </m:sup>
                            </m:sSup>
                            <m:r>
                              <m:t xml:space="preserve">dν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u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ν</m:t>
                                </m:r>
                              </m:sup>
                            </m:sSup>
                            <m:r>
                              <m:t xml:space="preserve">dν</m:t>
                            </m:r>
                          </m:e>
                        </m:nary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u</m:t>
                            </m:r>
                          </m:sub>
                          <m:sup/>
                        </m:sSub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840040" y="5229360"/>
                <a:ext cx="2908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/>
                            </m:sSup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1" name=""/>
          <p:cNvSpPr/>
          <p:nvPr/>
        </p:nvSpPr>
        <p:spPr>
          <a:xfrm>
            <a:off x="826920" y="5300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ambié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2FCD-704B-4F85-8049-7CC797F591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spectro de una serie tempor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1116000" y="177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el caso de una serie temporal de periodo T, debe usarse la transformada de Fourier discr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476360" y="2637000"/>
                <a:ext cx="6210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755640" y="3645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o el número de muestras es finito, debe hacerse una estim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26920" y="4221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Periodogram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580000" y="566100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8" name=""/>
          <p:cNvSpPr/>
          <p:nvPr/>
        </p:nvSpPr>
        <p:spPr>
          <a:xfrm>
            <a:off x="971640" y="5661000"/>
            <a:ext cx="4321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onde X(k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) es la transformada discreta de Fourier de la serie tempo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1547640" y="4653000"/>
                <a:ext cx="6248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47E-A47F-4A70-992F-54D30AF178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4643280" y="2637000"/>
            <a:ext cx="4105440" cy="30794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4106880" cy="307944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1042920" y="28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b5481"/>
                </a:solidFill>
                <a:latin typeface="Tahoma"/>
              </a:rPr>
              <a:t>x(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21164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b5481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292720" y="28526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b5481"/>
                </a:solidFill>
                <a:latin typeface="Symbol"/>
                <a:ea typeface="Symbol"/>
              </a:rPr>
              <a:t></a:t>
            </a:r>
            <a:r>
              <a:rPr b="0" lang="es-ES" sz="1800" spc="-1" strike="noStrike" baseline="-25000">
                <a:solidFill>
                  <a:srgbClr val="2b5481"/>
                </a:solidFill>
                <a:latin typeface="Tahoma"/>
              </a:rPr>
              <a:t>x</a:t>
            </a:r>
            <a:r>
              <a:rPr b="0" lang="es-ES" sz="1800" spc="-1" strike="noStrike">
                <a:solidFill>
                  <a:srgbClr val="2b5481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2b5481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>
                <a:solidFill>
                  <a:srgbClr val="2b5481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8388360" y="522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b5481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003640" y="5877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unción spectr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ED5-AF26-4190-8CCD-B5FCE8B646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Modelos A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1193760" y="1716120"/>
            <a:ext cx="0" cy="151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971640" y="285264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270080" y="2325600"/>
            <a:ext cx="0" cy="52092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498680" y="2325600"/>
            <a:ext cx="0" cy="52092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727280" y="2325600"/>
            <a:ext cx="0" cy="52092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955880" y="2325600"/>
            <a:ext cx="0" cy="52092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641680" y="2325600"/>
            <a:ext cx="0" cy="52092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41680" y="261000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190600" y="231948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419200" y="231948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876400" y="231948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193400" y="1628640"/>
            <a:ext cx="492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21000" y="1766880"/>
            <a:ext cx="41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Un ruido blanco contiene todas las frecuencias con la misma amplit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193760" y="3371760"/>
            <a:ext cx="0" cy="151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971640" y="450864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258920" y="3789360"/>
            <a:ext cx="0" cy="736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92200" y="3860640"/>
            <a:ext cx="6480" cy="64152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708200" y="3597120"/>
            <a:ext cx="19080" cy="90504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955880" y="3733920"/>
            <a:ext cx="0" cy="76824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641680" y="4276800"/>
            <a:ext cx="0" cy="2253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541680" y="426564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190600" y="397512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2418840" y="4208400"/>
            <a:ext cx="16200" cy="28728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876400" y="4146480"/>
            <a:ext cx="0" cy="34920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193760" y="3284640"/>
            <a:ext cx="50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278240" y="2773440"/>
            <a:ext cx="40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Una señal cualquiera se puede caracterizar por su espectro de pot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525920" y="3871800"/>
            <a:ext cx="412272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ede generarse una señal filtrando adecuadamente un ruido b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471840" y="5254560"/>
            <a:ext cx="1579680" cy="928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iltro dig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774880" y="5765760"/>
            <a:ext cx="696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084640" y="5719680"/>
            <a:ext cx="696960" cy="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63680" y="5032440"/>
            <a:ext cx="0" cy="151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1200" y="6168960"/>
            <a:ext cx="2502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39640" y="5641920"/>
            <a:ext cx="0" cy="52092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68240" y="5641920"/>
            <a:ext cx="0" cy="52092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996840" y="5641920"/>
            <a:ext cx="0" cy="52092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225440" y="5641920"/>
            <a:ext cx="0" cy="52092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911240" y="5641920"/>
            <a:ext cx="0" cy="52092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11600" y="592596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460520" y="563580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89120" y="563580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146320" y="563580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63320" y="4944960"/>
            <a:ext cx="492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183360" y="4997520"/>
            <a:ext cx="0" cy="151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961240" y="613404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248520" y="5415120"/>
            <a:ext cx="0" cy="736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481800" y="5486400"/>
            <a:ext cx="6480" cy="64152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697800" y="5222880"/>
            <a:ext cx="19080" cy="90504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945480" y="5359320"/>
            <a:ext cx="0" cy="76860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631280" y="5902200"/>
            <a:ext cx="0" cy="22572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531280" y="589104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180200" y="560088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7408800" y="5834160"/>
            <a:ext cx="15840" cy="28728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866000" y="5772240"/>
            <a:ext cx="0" cy="34920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183000" y="4910040"/>
            <a:ext cx="50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67040" y="528480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284800" y="525456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AEE-42FC-4921-8A43-A9AB9AAF12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Modelos A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720800" y="1855800"/>
                <a:ext cx="1828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7" name=""/>
          <p:cNvSpPr/>
          <p:nvPr/>
        </p:nvSpPr>
        <p:spPr>
          <a:xfrm>
            <a:off x="4354560" y="1704960"/>
            <a:ext cx="393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proceso estocástico x(t) se genera filtrando el ruido blanco e(t) de media nula y varianza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con una función de transferencia C/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270080" y="313056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ARMA   AutoRegresive Moving Ave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379440" y="3687840"/>
                <a:ext cx="81662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387360" y="435456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 C(q</a:t>
            </a:r>
            <a:r>
              <a:rPr b="0" lang="es-ES" sz="18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) = 1  </a:t>
            </a: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proceso AR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Autorregres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452760" y="4476600"/>
                <a:ext cx="53085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385920" y="525132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 D(q</a:t>
            </a:r>
            <a:r>
              <a:rPr b="0" lang="es-ES" sz="18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) = 1  </a:t>
            </a: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proceso M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de media mov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3432240" y="5378400"/>
                <a:ext cx="39495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5B2-1E01-400F-B6F3-840FDD9772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Procesos estacionari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852480" y="1720800"/>
            <a:ext cx="746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Un proceso estacionario es aquel que tiene media const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1058760" y="2379600"/>
                <a:ext cx="6870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882720" y="3425760"/>
            <a:ext cx="7516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ado que E{e(t)} es cte.=0, la dinámica del valor esperado de x(t) viene determinada por los polos del modelo A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 las raíces de D(q) = 0 están dentro del círculo unidad el proceso x(t) será estacion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 alguna raíz de D(q) = 0 está sobre el círculo unidad, el proceso x(t) será no estacionario y sus valores no estarán distribuidos en torno a un valor const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ocesos con alguna raíz de D(q) = 0 fuera del círculo unidad, no son representativos de señales reales que no evolucionan a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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0DB-2340-4882-A076-39D15B1572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Procesos no estacionari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197320" y="1817640"/>
                <a:ext cx="2870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0" name=""/>
          <p:cNvSpPr/>
          <p:nvPr/>
        </p:nvSpPr>
        <p:spPr>
          <a:xfrm>
            <a:off x="1146240" y="1797120"/>
            <a:ext cx="37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tarán representados por un modelo </a:t>
            </a: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ARIM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del ti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100160" y="2913120"/>
            <a:ext cx="70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ede obtenerse un proceso ARMA a partir de uno ARIMA por diferenciació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733320" y="3708360"/>
                <a:ext cx="7365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73120" y="4822920"/>
                <a:ext cx="77468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E90-9D2F-4377-831A-5A7B44FFB6C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¿Es {x(t)} estacionario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2436840" y="1862280"/>
                <a:ext cx="473724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379440" y="3951360"/>
                <a:ext cx="81662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>
            <a:off x="480960" y="4510080"/>
            <a:ext cx="807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(t) no depende de e(t-m-j) para j &gt; 0, luego R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ex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k) = 0 para k&gt;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724280" y="5213520"/>
                <a:ext cx="28576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9" name=""/>
          <p:cNvSpPr/>
          <p:nvPr/>
        </p:nvSpPr>
        <p:spPr>
          <a:xfrm>
            <a:off x="1271520" y="5192640"/>
            <a:ext cx="300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Ecuación de Yule-Wal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7F7-3502-42E9-A8F6-25A26054CD5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¿Es {x(t)} estacionario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1270080" y="1811160"/>
                <a:ext cx="182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2" name=""/>
          <p:cNvSpPr/>
          <p:nvPr/>
        </p:nvSpPr>
        <p:spPr>
          <a:xfrm>
            <a:off x="3827520" y="1782720"/>
            <a:ext cx="45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 el proceso ARMA es estacionario, entonces las raíces de D(q) = 0 están dentro del círculo un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49440" y="3008160"/>
                <a:ext cx="77212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&gt;</m:t>
                    </m:r>
                    <m:r>
                      <m:t xml:space="preserve">m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4" name=""/>
          <p:cNvSpPr/>
          <p:nvPr/>
        </p:nvSpPr>
        <p:spPr>
          <a:xfrm>
            <a:off x="774720" y="3905280"/>
            <a:ext cx="78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 el proceso es estacionario, a partir de un k, el coeficiente de autocorrelación tenderá a cero. Si no lo es, presentará una componente oscilatoria que no se anulará con k crec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951520" y="5030640"/>
            <a:ext cx="0" cy="151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729400" y="6167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016680" y="5448240"/>
            <a:ext cx="0" cy="736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249960" y="5519880"/>
            <a:ext cx="6480" cy="6411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465960" y="5256360"/>
            <a:ext cx="19080" cy="90468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13640" y="5392800"/>
            <a:ext cx="0" cy="76824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99440" y="5548320"/>
            <a:ext cx="0" cy="61272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48360" y="5634000"/>
            <a:ext cx="0" cy="520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176960" y="5681520"/>
            <a:ext cx="0" cy="47304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618320" y="5711760"/>
            <a:ext cx="15840" cy="44280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950800" y="4943520"/>
            <a:ext cx="437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50240" y="579744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846920" y="5548320"/>
            <a:ext cx="0" cy="61272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914400" y="5092560"/>
            <a:ext cx="0" cy="151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92280" y="622944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79560" y="5510160"/>
            <a:ext cx="0" cy="7365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212840" y="5581800"/>
            <a:ext cx="6480" cy="6411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428840" y="5318280"/>
            <a:ext cx="19080" cy="90468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676520" y="5454720"/>
            <a:ext cx="0" cy="76824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55840" y="6093000"/>
            <a:ext cx="6480" cy="12996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908000" y="5877000"/>
            <a:ext cx="3240" cy="33948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124000" y="5950080"/>
            <a:ext cx="15840" cy="26640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97040" y="6114960"/>
            <a:ext cx="0" cy="10152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913680" y="5005440"/>
            <a:ext cx="437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913120" y="585936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809800" y="6153120"/>
            <a:ext cx="0" cy="6984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076480" y="5222880"/>
            <a:ext cx="195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oceso estacion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973920" y="4863960"/>
            <a:ext cx="195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oceso no estacion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A7D-54B2-4FD7-8BD8-E12F075A8FB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4643280" y="2511360"/>
            <a:ext cx="4176720" cy="313056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3"/>
          <a:stretch/>
        </p:blipFill>
        <p:spPr>
          <a:xfrm>
            <a:off x="324000" y="2530440"/>
            <a:ext cx="4176720" cy="3133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633240" y="1628640"/>
                <a:ext cx="30736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7" name=""/>
          <p:cNvSpPr/>
          <p:nvPr/>
        </p:nvSpPr>
        <p:spPr>
          <a:xfrm>
            <a:off x="900000" y="27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b5481"/>
                </a:solidFill>
                <a:latin typeface="Tahoma"/>
              </a:rPr>
              <a:t>x(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572000" y="249228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b5481"/>
                </a:solidFill>
                <a:latin typeface="Symbol"/>
                <a:ea typeface="Symbol"/>
              </a:rPr>
              <a:t></a:t>
            </a:r>
            <a:r>
              <a:rPr b="0" lang="es-ES" sz="1800" spc="-1" strike="noStrike" baseline="-25000">
                <a:solidFill>
                  <a:srgbClr val="2b5481"/>
                </a:solidFill>
                <a:latin typeface="Tahoma"/>
              </a:rPr>
              <a:t>x</a:t>
            </a:r>
            <a:r>
              <a:rPr b="0" lang="es-ES" sz="1800" spc="-1" strike="noStrike">
                <a:solidFill>
                  <a:srgbClr val="2b5481"/>
                </a:solidFill>
                <a:latin typeface="Tahoma"/>
              </a:rPr>
              <a:t>(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21164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b5481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845964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b5481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500720" y="1700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oceso no estacion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AF0-7B38-4E37-9A7A-D451A16FDDD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Procesos estocástic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073160" y="1965240"/>
            <a:ext cx="9360" cy="172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392640"/>
            <a:ext cx="353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22120" y="1917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16360" y="290988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1480" y="2617920"/>
            <a:ext cx="2867040" cy="579240"/>
          </a:xfrm>
          <a:custGeom>
            <a:avLst/>
            <a:gdLst/>
            <a:ahLst/>
            <a:rect l="l" t="t" r="r" b="b"/>
            <a:pathLst>
              <a:path w="1806" h="365">
                <a:moveTo>
                  <a:pt x="0" y="327"/>
                </a:moveTo>
                <a:cubicBezTo>
                  <a:pt x="57" y="320"/>
                  <a:pt x="114" y="314"/>
                  <a:pt x="181" y="281"/>
                </a:cubicBezTo>
                <a:cubicBezTo>
                  <a:pt x="248" y="248"/>
                  <a:pt x="324" y="172"/>
                  <a:pt x="401" y="126"/>
                </a:cubicBezTo>
                <a:cubicBezTo>
                  <a:pt x="478" y="80"/>
                  <a:pt x="558" y="0"/>
                  <a:pt x="641" y="3"/>
                </a:cubicBezTo>
                <a:cubicBezTo>
                  <a:pt x="724" y="6"/>
                  <a:pt x="820" y="92"/>
                  <a:pt x="900" y="145"/>
                </a:cubicBezTo>
                <a:cubicBezTo>
                  <a:pt x="980" y="198"/>
                  <a:pt x="1031" y="285"/>
                  <a:pt x="1120" y="320"/>
                </a:cubicBezTo>
                <a:cubicBezTo>
                  <a:pt x="1209" y="355"/>
                  <a:pt x="1345" y="365"/>
                  <a:pt x="1431" y="353"/>
                </a:cubicBezTo>
                <a:cubicBezTo>
                  <a:pt x="1517" y="341"/>
                  <a:pt x="1587" y="282"/>
                  <a:pt x="1638" y="249"/>
                </a:cubicBezTo>
                <a:cubicBezTo>
                  <a:pt x="1689" y="216"/>
                  <a:pt x="1707" y="178"/>
                  <a:pt x="1735" y="158"/>
                </a:cubicBezTo>
                <a:cubicBezTo>
                  <a:pt x="1763" y="138"/>
                  <a:pt x="1784" y="132"/>
                  <a:pt x="1806" y="126"/>
                </a:cubicBezTo>
              </a:path>
            </a:pathLst>
          </a:custGeom>
          <a:noFill/>
          <a:ln w="936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36760" y="1996920"/>
            <a:ext cx="20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{ x(t)   t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35520" y="2060640"/>
            <a:ext cx="325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eden caracterizarse por una serie de parámetros probabilí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05120" y="558000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814480" y="3909960"/>
                <a:ext cx="36705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E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EB6-2B33-4B2E-8F5D-C71273F982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Identificación de procesos 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5334120" y="2390760"/>
                <a:ext cx="27176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1054080" y="1798560"/>
            <a:ext cx="38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 un proceso es Autoregresivo (AR) entonces C(q</a:t>
            </a:r>
            <a:r>
              <a:rPr b="0" lang="es-ES" sz="18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) = 1 y por la ecuación de Yule-Walker se verific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5641920" y="1581120"/>
                <a:ext cx="18288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1222200" y="2930400"/>
                <a:ext cx="65026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1114560" y="3952800"/>
            <a:ext cx="35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 n fuera igual a 1 se cumplirí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193760" y="3378240"/>
            <a:ext cx="42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Funciones de correlación pa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673520" y="3997440"/>
                <a:ext cx="41655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0" name=""/>
          <p:cNvSpPr/>
          <p:nvPr/>
        </p:nvSpPr>
        <p:spPr>
          <a:xfrm>
            <a:off x="1081080" y="4540320"/>
            <a:ext cx="35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 n fuera igual a 2 se cumplirí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1131840" y="4848120"/>
                <a:ext cx="75564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A90-DC83-44C9-86BD-E1ED68F85C5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e5ffff"/>
                </a:solidFill>
                <a:latin typeface="Tahoma"/>
              </a:rPr>
              <a:t>Función de autocorrelación parcial d</a:t>
            </a:r>
            <a:r>
              <a:rPr b="0" lang="es-ES" sz="3800" spc="-1" strike="noStrike" baseline="-25000">
                <a:solidFill>
                  <a:srgbClr val="e5ffff"/>
                </a:solidFill>
                <a:latin typeface="Tahoma"/>
              </a:rPr>
              <a:t>jj</a:t>
            </a:r>
            <a:endParaRPr b="0" lang="en-US" sz="3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3" name=""/>
          <p:cNvSpPr/>
          <p:nvPr/>
        </p:nvSpPr>
        <p:spPr>
          <a:xfrm>
            <a:off x="826920" y="1773360"/>
            <a:ext cx="72835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l mismo modo si n=3 se obtendrían d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13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, d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23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, d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33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general para n=j los términos d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ij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pueden obtenerse mediante el </a:t>
            </a: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algoritmo de Levinson-Durbin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26960" y="2978280"/>
                <a:ext cx="812808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1038240" y="4695840"/>
            <a:ext cx="0" cy="139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55640" y="5805360"/>
            <a:ext cx="23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240000" y="5656320"/>
            <a:ext cx="3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116000" y="4508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j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332000" y="5157720"/>
            <a:ext cx="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692360" y="4941720"/>
            <a:ext cx="0" cy="863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050920" y="5373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187280" y="59500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547640" y="5950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908000" y="59500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995640" y="4869000"/>
            <a:ext cx="4248360" cy="954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función de autocorrelación parcial es una representación de los términos d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jj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función de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2394-0517-44E5-AD7D-552C77B51F1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e5ffff"/>
                </a:solidFill>
                <a:latin typeface="Tahoma"/>
              </a:rPr>
              <a:t>Función de autocorrelación parcial d</a:t>
            </a:r>
            <a:r>
              <a:rPr b="0" lang="es-ES" sz="3800" spc="-1" strike="noStrike" baseline="-25000">
                <a:solidFill>
                  <a:srgbClr val="e5ffff"/>
                </a:solidFill>
                <a:latin typeface="Tahoma"/>
              </a:rPr>
              <a:t>jj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038240" y="2031840"/>
            <a:ext cx="0" cy="1395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55640" y="3141720"/>
            <a:ext cx="23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240000" y="2992320"/>
            <a:ext cx="3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116000" y="1844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j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332000" y="2494080"/>
            <a:ext cx="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692360" y="2278080"/>
            <a:ext cx="0" cy="863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050920" y="2709720"/>
            <a:ext cx="0" cy="43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187280" y="32860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547640" y="3286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908000" y="32860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4360" y="2060640"/>
            <a:ext cx="4248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 un proceso AR es de orden n, su función de autocorrelación parcial presentará valores distintos de cero hasta j=n y un corte brusco a partir de este valor, pues d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n+1,n+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será c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411280" y="242100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700360" y="3068640"/>
            <a:ext cx="712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268360" y="3284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915840" y="3860640"/>
                <a:ext cx="67564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900000" y="4508640"/>
            <a:ext cx="74170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Identificación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 partir de los coeficientes de autocorrelación, puede calcularse la función de correlación parcial d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jj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y estimar a partir de ella el valor de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algoritmo de Levinson-Durbin nos proporciona luego los valores de los coeficientes d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del modelo AR del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07E-10CD-4540-A59E-0D9F6665F1C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4106880" cy="307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042920" y="1773360"/>
                <a:ext cx="2108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>
            <a:off x="1042920" y="28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b5481"/>
                </a:solidFill>
                <a:latin typeface="Tahoma"/>
              </a:rPr>
              <a:t>x(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3"/>
          <a:stretch/>
        </p:blipFill>
        <p:spPr>
          <a:xfrm>
            <a:off x="4788000" y="2637000"/>
            <a:ext cx="4106880" cy="307944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>
            <a:off x="5364000" y="292428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b5481"/>
                </a:solidFill>
                <a:latin typeface="Symbol"/>
                <a:ea typeface="Symbol"/>
              </a:rPr>
              <a:t></a:t>
            </a:r>
            <a:r>
              <a:rPr b="0" lang="es-ES" sz="1800" spc="-1" strike="noStrike" baseline="-25000">
                <a:solidFill>
                  <a:srgbClr val="2b5481"/>
                </a:solidFill>
                <a:latin typeface="Tahoma"/>
              </a:rPr>
              <a:t>x</a:t>
            </a:r>
            <a:r>
              <a:rPr b="0" lang="es-ES" sz="1800" spc="-1" strike="noStrike">
                <a:solidFill>
                  <a:srgbClr val="2b5481"/>
                </a:solidFill>
                <a:latin typeface="Tahoma"/>
              </a:rPr>
              <a:t>(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21164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b5481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53272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b5481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851280" y="1916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oceso estacionario 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476360" y="5877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ñal  x(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796000" y="5877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eficiente de autocorrelación de x(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F93-209B-42AF-954A-4FD671C6156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1042920" y="1773360"/>
                <a:ext cx="2108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6" name=""/>
          <p:cNvSpPr/>
          <p:nvPr/>
        </p:nvSpPr>
        <p:spPr>
          <a:xfrm>
            <a:off x="3851280" y="1916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oceso estacionario 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2"/>
          <a:stretch/>
        </p:blipFill>
        <p:spPr>
          <a:xfrm>
            <a:off x="826920" y="2708280"/>
            <a:ext cx="4035600" cy="30272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5435640" y="2924280"/>
            <a:ext cx="3168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función de autocorrelación parcial d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jj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presenta un salto brusco a partir de n=1, luego el proceso podría modelarse  por como un proceso AR con n=1. Ademas d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1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=-0.8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55640" y="2852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b5481"/>
                </a:solidFill>
                <a:latin typeface="Tahoma"/>
              </a:rPr>
              <a:t>d</a:t>
            </a:r>
            <a:r>
              <a:rPr b="0" lang="es-ES" sz="1800" spc="-1" strike="noStrike" baseline="-25000">
                <a:solidFill>
                  <a:srgbClr val="2b5481"/>
                </a:solidFill>
                <a:latin typeface="Tahoma"/>
              </a:rPr>
              <a:t>j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500720" y="5229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b5481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115-4EA9-472C-A670-224FE0A846A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Modelos de proces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2" name=""/>
          <p:cNvSpPr/>
          <p:nvPr/>
        </p:nvSpPr>
        <p:spPr>
          <a:xfrm>
            <a:off x="2882880" y="3129120"/>
            <a:ext cx="1890720" cy="9777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odelo de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termin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083200" y="1751040"/>
            <a:ext cx="17208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odelo de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turb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765760" y="3440160"/>
            <a:ext cx="387360" cy="341280"/>
          </a:xfrm>
          <a:prstGeom prst="flowChar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773600" y="3595680"/>
            <a:ext cx="99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951520" y="2649600"/>
            <a:ext cx="0" cy="806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167520" y="3611520"/>
            <a:ext cx="1225440" cy="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029280" y="28368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370400" y="2200320"/>
            <a:ext cx="682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1611360" y="3625920"/>
            <a:ext cx="1239840" cy="1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860480" y="313056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44480" y="3765600"/>
            <a:ext cx="20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Variables manipul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446880" y="3827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Variables control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346880" y="317664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2924280" y="4824360"/>
                <a:ext cx="2768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964-F8E2-4F5C-B00D-D67E142ADBF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Modelos Box-Jenkins</a:t>
            </a: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1077840" y="1963800"/>
                <a:ext cx="68961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uido blanco de media nul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1106640" y="3433680"/>
                <a:ext cx="689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uido blanco de media nu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9" name=""/>
          <p:cNvSpPr/>
          <p:nvPr/>
        </p:nvSpPr>
        <p:spPr>
          <a:xfrm>
            <a:off x="728640" y="2944800"/>
            <a:ext cx="77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odelo CARMA o ARMAX   Controlled ARMA, ARMA con variable exóg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758880" y="4919760"/>
                <a:ext cx="76201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uido blanco de media nu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1" name=""/>
          <p:cNvSpPr/>
          <p:nvPr/>
        </p:nvSpPr>
        <p:spPr>
          <a:xfrm>
            <a:off x="711360" y="4338720"/>
            <a:ext cx="77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odelo CARIMA    Controlled ARIMA   perturbación no estacion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01E-505D-456F-B9FA-C8C5F7C2E90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DR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3" name=""/>
          <p:cNvSpPr/>
          <p:nvPr/>
        </p:nvSpPr>
        <p:spPr>
          <a:xfrm>
            <a:off x="900000" y="17002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ruidos blancos tienen un papel muy importante en el análisis y modelado de los procesos estocásticos. Pero no son fáciles de generar. A menudo se utilizan señales que son aproximaciones de ruidos blancos y que tienen características estadísticas similar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84360" y="3213000"/>
            <a:ext cx="45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DRBS  Discrete Random Binary Sig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867280" y="3141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292720" y="3789360"/>
            <a:ext cx="331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867280" y="4076640"/>
            <a:ext cx="36036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6227640" y="3499920"/>
            <a:ext cx="0" cy="5763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227640" y="3500280"/>
            <a:ext cx="72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948360" y="3500280"/>
            <a:ext cx="0" cy="5763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948360" y="4076640"/>
            <a:ext cx="144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7093080" y="3499920"/>
            <a:ext cx="0" cy="5763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093080" y="3500280"/>
            <a:ext cx="35856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451640" y="3500280"/>
            <a:ext cx="0" cy="5763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7451640" y="4076640"/>
            <a:ext cx="50508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7956720" y="3499920"/>
            <a:ext cx="0" cy="5763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956720" y="3500280"/>
            <a:ext cx="21564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867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8836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292720" y="38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-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36400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971640" y="3789360"/>
            <a:ext cx="3816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ñal que conmuta entre dos valores con una determinada prob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 Dar valores 0 &lt;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&lt; 1, x = V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 r = random uniformemente distribuido en [0 ,1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3 Si  (r &gt;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) entonces x = -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4 volver 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659640" y="458136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435640" y="558972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6300360" y="4797360"/>
            <a:ext cx="358920" cy="792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659640" y="4797360"/>
            <a:ext cx="360360" cy="792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812000" y="5229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659640" y="45086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877080" y="551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227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F89F-5CF2-4A0B-8007-0040F4A214C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PR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2" name=""/>
          <p:cNvSpPr/>
          <p:nvPr/>
        </p:nvSpPr>
        <p:spPr>
          <a:xfrm>
            <a:off x="4140360" y="141300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PRBS Pseudo Random Binary Sig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651640" y="227664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076720" y="3213000"/>
            <a:ext cx="331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651640" y="3213000"/>
            <a:ext cx="36036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6012000" y="2637000"/>
            <a:ext cx="0" cy="5760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012000" y="2637000"/>
            <a:ext cx="72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732720" y="2637000"/>
            <a:ext cx="0" cy="5760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732720" y="3213000"/>
            <a:ext cx="14436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6877080" y="2637000"/>
            <a:ext cx="0" cy="5760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877080" y="2637000"/>
            <a:ext cx="3589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236000" y="2637000"/>
            <a:ext cx="0" cy="5760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236000" y="3213000"/>
            <a:ext cx="504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7740720" y="2637000"/>
            <a:ext cx="0" cy="5760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740720" y="2637000"/>
            <a:ext cx="2160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651640" y="21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817236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292720" y="2492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411280" y="3213000"/>
            <a:ext cx="2305080" cy="287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0036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98764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27672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56400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85128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14036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42764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284720" y="35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572000" y="35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211640" y="3789360"/>
            <a:ext cx="504720" cy="431640"/>
          </a:xfrm>
          <a:prstGeom prst="flowChar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486320" y="42372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500720" y="4508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2556000" y="4508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556000" y="349992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843280" y="2913120"/>
            <a:ext cx="288720" cy="228600"/>
          </a:xfrm>
          <a:custGeom>
            <a:avLst/>
            <a:gdLst/>
            <a:ahLst/>
            <a:rect l="l" t="t" r="r" b="b"/>
            <a:pathLst>
              <a:path w="182" h="144">
                <a:moveTo>
                  <a:pt x="0" y="144"/>
                </a:moveTo>
                <a:cubicBezTo>
                  <a:pt x="11" y="110"/>
                  <a:pt x="23" y="76"/>
                  <a:pt x="46" y="53"/>
                </a:cubicBezTo>
                <a:cubicBezTo>
                  <a:pt x="69" y="30"/>
                  <a:pt x="113" y="0"/>
                  <a:pt x="136" y="7"/>
                </a:cubicBezTo>
                <a:cubicBezTo>
                  <a:pt x="159" y="14"/>
                  <a:pt x="174" y="75"/>
                  <a:pt x="182" y="9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203640" y="2924280"/>
            <a:ext cx="288720" cy="228600"/>
          </a:xfrm>
          <a:custGeom>
            <a:avLst/>
            <a:gdLst/>
            <a:ahLst/>
            <a:rect l="l" t="t" r="r" b="b"/>
            <a:pathLst>
              <a:path w="182" h="144">
                <a:moveTo>
                  <a:pt x="0" y="144"/>
                </a:moveTo>
                <a:cubicBezTo>
                  <a:pt x="11" y="110"/>
                  <a:pt x="23" y="76"/>
                  <a:pt x="46" y="53"/>
                </a:cubicBezTo>
                <a:cubicBezTo>
                  <a:pt x="69" y="30"/>
                  <a:pt x="113" y="0"/>
                  <a:pt x="136" y="7"/>
                </a:cubicBezTo>
                <a:cubicBezTo>
                  <a:pt x="159" y="14"/>
                  <a:pt x="174" y="75"/>
                  <a:pt x="182" y="9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211640" y="2924280"/>
            <a:ext cx="289080" cy="228600"/>
          </a:xfrm>
          <a:custGeom>
            <a:avLst/>
            <a:gdLst/>
            <a:ahLst/>
            <a:rect l="l" t="t" r="r" b="b"/>
            <a:pathLst>
              <a:path w="182" h="144">
                <a:moveTo>
                  <a:pt x="0" y="144"/>
                </a:moveTo>
                <a:cubicBezTo>
                  <a:pt x="11" y="110"/>
                  <a:pt x="23" y="76"/>
                  <a:pt x="46" y="53"/>
                </a:cubicBezTo>
                <a:cubicBezTo>
                  <a:pt x="69" y="30"/>
                  <a:pt x="113" y="0"/>
                  <a:pt x="136" y="7"/>
                </a:cubicBezTo>
                <a:cubicBezTo>
                  <a:pt x="159" y="14"/>
                  <a:pt x="174" y="75"/>
                  <a:pt x="182" y="9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55640" y="335772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5640" y="357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lsos de rel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492360" y="3789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-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932360" y="414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908000" y="206064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gistro de desplazamiento de N dígi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482920" y="494172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= 0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0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0 = 0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898560" y="50148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xclusive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5640" y="5877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secuencia se repite cada 2</a:t>
            </a:r>
            <a:r>
              <a:rPr b="0" lang="es-ES" sz="18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-1 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227640" y="43657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003640" y="5373720"/>
            <a:ext cx="388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6011640" y="4581360"/>
            <a:ext cx="214200" cy="935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227640" y="4581360"/>
            <a:ext cx="216000" cy="935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8639280" y="4941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227640" y="42926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588000" y="6165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796000" y="44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443640" y="5516640"/>
            <a:ext cx="1657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8100720" y="4581360"/>
            <a:ext cx="214200" cy="935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8317080" y="4581360"/>
            <a:ext cx="215640" cy="935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8532720" y="5516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5435280" y="5516640"/>
            <a:ext cx="576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236000" y="5084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7236000" y="5516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164360" y="566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-V</a:t>
            </a:r>
            <a:r>
              <a:rPr b="0" lang="es-ES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/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317080" y="530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817236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B9B-8478-45BF-A441-EDC8088FD64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Procesos estocásticos estacionari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073160" y="1965240"/>
            <a:ext cx="9360" cy="172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392640"/>
            <a:ext cx="353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22120" y="1917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4040" y="306396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84320" y="2735280"/>
            <a:ext cx="2759040" cy="927000"/>
          </a:xfrm>
          <a:custGeom>
            <a:avLst/>
            <a:gdLst/>
            <a:ahLst/>
            <a:rect l="l" t="t" r="r" b="b"/>
            <a:pathLst>
              <a:path w="1738" h="584">
                <a:moveTo>
                  <a:pt x="0" y="25"/>
                </a:moveTo>
                <a:cubicBezTo>
                  <a:pt x="32" y="50"/>
                  <a:pt x="64" y="75"/>
                  <a:pt x="108" y="83"/>
                </a:cubicBezTo>
                <a:cubicBezTo>
                  <a:pt x="152" y="91"/>
                  <a:pt x="227" y="81"/>
                  <a:pt x="264" y="73"/>
                </a:cubicBezTo>
                <a:cubicBezTo>
                  <a:pt x="301" y="65"/>
                  <a:pt x="308" y="45"/>
                  <a:pt x="332" y="34"/>
                </a:cubicBezTo>
                <a:cubicBezTo>
                  <a:pt x="356" y="23"/>
                  <a:pt x="379" y="0"/>
                  <a:pt x="410" y="5"/>
                </a:cubicBezTo>
                <a:cubicBezTo>
                  <a:pt x="441" y="10"/>
                  <a:pt x="484" y="56"/>
                  <a:pt x="518" y="64"/>
                </a:cubicBezTo>
                <a:cubicBezTo>
                  <a:pt x="552" y="72"/>
                  <a:pt x="591" y="35"/>
                  <a:pt x="615" y="54"/>
                </a:cubicBezTo>
                <a:cubicBezTo>
                  <a:pt x="639" y="73"/>
                  <a:pt x="651" y="131"/>
                  <a:pt x="664" y="181"/>
                </a:cubicBezTo>
                <a:cubicBezTo>
                  <a:pt x="677" y="231"/>
                  <a:pt x="678" y="304"/>
                  <a:pt x="694" y="356"/>
                </a:cubicBezTo>
                <a:cubicBezTo>
                  <a:pt x="710" y="408"/>
                  <a:pt x="728" y="457"/>
                  <a:pt x="762" y="493"/>
                </a:cubicBezTo>
                <a:cubicBezTo>
                  <a:pt x="796" y="529"/>
                  <a:pt x="854" y="563"/>
                  <a:pt x="899" y="571"/>
                </a:cubicBezTo>
                <a:cubicBezTo>
                  <a:pt x="944" y="579"/>
                  <a:pt x="988" y="552"/>
                  <a:pt x="1035" y="542"/>
                </a:cubicBezTo>
                <a:cubicBezTo>
                  <a:pt x="1082" y="532"/>
                  <a:pt x="1150" y="507"/>
                  <a:pt x="1182" y="513"/>
                </a:cubicBezTo>
                <a:cubicBezTo>
                  <a:pt x="1214" y="519"/>
                  <a:pt x="1191" y="578"/>
                  <a:pt x="1230" y="581"/>
                </a:cubicBezTo>
                <a:cubicBezTo>
                  <a:pt x="1269" y="584"/>
                  <a:pt x="1349" y="538"/>
                  <a:pt x="1416" y="532"/>
                </a:cubicBezTo>
                <a:cubicBezTo>
                  <a:pt x="1483" y="526"/>
                  <a:pt x="1577" y="539"/>
                  <a:pt x="1631" y="542"/>
                </a:cubicBezTo>
                <a:cubicBezTo>
                  <a:pt x="1685" y="545"/>
                  <a:pt x="1720" y="550"/>
                  <a:pt x="1738" y="552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4080" y="2238480"/>
            <a:ext cx="2773440" cy="277560"/>
          </a:xfrm>
          <a:custGeom>
            <a:avLst/>
            <a:gdLst/>
            <a:ahLst/>
            <a:rect l="l" t="t" r="r" b="b"/>
            <a:pathLst>
              <a:path w="1747" h="175">
                <a:moveTo>
                  <a:pt x="0" y="64"/>
                </a:moveTo>
                <a:cubicBezTo>
                  <a:pt x="59" y="71"/>
                  <a:pt x="119" y="78"/>
                  <a:pt x="166" y="93"/>
                </a:cubicBezTo>
                <a:cubicBezTo>
                  <a:pt x="213" y="108"/>
                  <a:pt x="244" y="144"/>
                  <a:pt x="283" y="152"/>
                </a:cubicBezTo>
                <a:cubicBezTo>
                  <a:pt x="322" y="160"/>
                  <a:pt x="372" y="155"/>
                  <a:pt x="400" y="142"/>
                </a:cubicBezTo>
                <a:cubicBezTo>
                  <a:pt x="428" y="129"/>
                  <a:pt x="430" y="89"/>
                  <a:pt x="449" y="74"/>
                </a:cubicBezTo>
                <a:cubicBezTo>
                  <a:pt x="468" y="59"/>
                  <a:pt x="488" y="56"/>
                  <a:pt x="517" y="54"/>
                </a:cubicBezTo>
                <a:cubicBezTo>
                  <a:pt x="546" y="52"/>
                  <a:pt x="589" y="54"/>
                  <a:pt x="625" y="64"/>
                </a:cubicBezTo>
                <a:cubicBezTo>
                  <a:pt x="661" y="74"/>
                  <a:pt x="690" y="113"/>
                  <a:pt x="732" y="113"/>
                </a:cubicBezTo>
                <a:cubicBezTo>
                  <a:pt x="774" y="113"/>
                  <a:pt x="837" y="74"/>
                  <a:pt x="879" y="64"/>
                </a:cubicBezTo>
                <a:cubicBezTo>
                  <a:pt x="921" y="54"/>
                  <a:pt x="944" y="46"/>
                  <a:pt x="986" y="54"/>
                </a:cubicBezTo>
                <a:cubicBezTo>
                  <a:pt x="1028" y="62"/>
                  <a:pt x="1093" y="100"/>
                  <a:pt x="1132" y="113"/>
                </a:cubicBezTo>
                <a:cubicBezTo>
                  <a:pt x="1171" y="126"/>
                  <a:pt x="1199" y="139"/>
                  <a:pt x="1220" y="133"/>
                </a:cubicBezTo>
                <a:cubicBezTo>
                  <a:pt x="1241" y="127"/>
                  <a:pt x="1248" y="94"/>
                  <a:pt x="1259" y="74"/>
                </a:cubicBezTo>
                <a:cubicBezTo>
                  <a:pt x="1270" y="54"/>
                  <a:pt x="1273" y="0"/>
                  <a:pt x="1289" y="15"/>
                </a:cubicBezTo>
                <a:cubicBezTo>
                  <a:pt x="1305" y="30"/>
                  <a:pt x="1343" y="149"/>
                  <a:pt x="1357" y="162"/>
                </a:cubicBezTo>
                <a:cubicBezTo>
                  <a:pt x="1371" y="175"/>
                  <a:pt x="1363" y="112"/>
                  <a:pt x="1376" y="93"/>
                </a:cubicBezTo>
                <a:cubicBezTo>
                  <a:pt x="1389" y="74"/>
                  <a:pt x="1399" y="45"/>
                  <a:pt x="1435" y="45"/>
                </a:cubicBezTo>
                <a:cubicBezTo>
                  <a:pt x="1471" y="45"/>
                  <a:pt x="1554" y="85"/>
                  <a:pt x="1591" y="93"/>
                </a:cubicBezTo>
                <a:cubicBezTo>
                  <a:pt x="1628" y="101"/>
                  <a:pt x="1634" y="94"/>
                  <a:pt x="1660" y="93"/>
                </a:cubicBezTo>
                <a:cubicBezTo>
                  <a:pt x="1686" y="92"/>
                  <a:pt x="1716" y="88"/>
                  <a:pt x="1747" y="84"/>
                </a:cubicBezTo>
              </a:path>
            </a:pathLst>
          </a:custGeom>
          <a:noFill/>
          <a:ln w="936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86080" y="179712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tacion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51000" y="2633760"/>
            <a:ext cx="17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o estacion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9440" y="2355840"/>
            <a:ext cx="36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Un proceso estocástico es estacionario en sentido estricto cuand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12720" y="3884760"/>
                <a:ext cx="5994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τ</m:t>
                    </m:r>
                    <m:r>
                      <m:t xml:space="preserve">∈</m:t>
                    </m:r>
                    <m:r>
                      <m:t xml:space="preserve">Ω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98400" y="4510080"/>
            <a:ext cx="754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particular: p(x(t))=p(x(t+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))=p(x)  es independiente de t, por tant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44520" y="5040360"/>
                <a:ext cx="83311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e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depende de τ no de 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005-E94A-4795-BE31-FD2B10DA4E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Procesos estacionarios ergódic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073160" y="1965240"/>
            <a:ext cx="9360" cy="172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392640"/>
            <a:ext cx="353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22120" y="1917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03400" y="340524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1360" y="1828800"/>
            <a:ext cx="34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Un proceso estacionario es ergódico si su valor esperado iguala al valor medio tempo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56360" y="2936880"/>
                <a:ext cx="2349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4803840" y="3967200"/>
            <a:ext cx="392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 forma que se obtiene el mismo valor  de E{x} calculando la media temporal de una realización (o experimento de medida de x) de infinitos valores que con muchos hipotéticos experimentos en un instante de tiempo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073160" y="4024440"/>
            <a:ext cx="9360" cy="172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451480"/>
            <a:ext cx="353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22120" y="39765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71880" y="510840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54080" y="2238480"/>
            <a:ext cx="2773440" cy="277560"/>
          </a:xfrm>
          <a:custGeom>
            <a:avLst/>
            <a:gdLst/>
            <a:ahLst/>
            <a:rect l="l" t="t" r="r" b="b"/>
            <a:pathLst>
              <a:path w="1747" h="175">
                <a:moveTo>
                  <a:pt x="0" y="64"/>
                </a:moveTo>
                <a:cubicBezTo>
                  <a:pt x="59" y="71"/>
                  <a:pt x="119" y="78"/>
                  <a:pt x="166" y="93"/>
                </a:cubicBezTo>
                <a:cubicBezTo>
                  <a:pt x="213" y="108"/>
                  <a:pt x="244" y="144"/>
                  <a:pt x="283" y="152"/>
                </a:cubicBezTo>
                <a:cubicBezTo>
                  <a:pt x="322" y="160"/>
                  <a:pt x="372" y="155"/>
                  <a:pt x="400" y="142"/>
                </a:cubicBezTo>
                <a:cubicBezTo>
                  <a:pt x="428" y="129"/>
                  <a:pt x="430" y="89"/>
                  <a:pt x="449" y="74"/>
                </a:cubicBezTo>
                <a:cubicBezTo>
                  <a:pt x="468" y="59"/>
                  <a:pt x="488" y="56"/>
                  <a:pt x="517" y="54"/>
                </a:cubicBezTo>
                <a:cubicBezTo>
                  <a:pt x="546" y="52"/>
                  <a:pt x="589" y="54"/>
                  <a:pt x="625" y="64"/>
                </a:cubicBezTo>
                <a:cubicBezTo>
                  <a:pt x="661" y="74"/>
                  <a:pt x="690" y="113"/>
                  <a:pt x="732" y="113"/>
                </a:cubicBezTo>
                <a:cubicBezTo>
                  <a:pt x="774" y="113"/>
                  <a:pt x="837" y="74"/>
                  <a:pt x="879" y="64"/>
                </a:cubicBezTo>
                <a:cubicBezTo>
                  <a:pt x="921" y="54"/>
                  <a:pt x="944" y="46"/>
                  <a:pt x="986" y="54"/>
                </a:cubicBezTo>
                <a:cubicBezTo>
                  <a:pt x="1028" y="62"/>
                  <a:pt x="1093" y="100"/>
                  <a:pt x="1132" y="113"/>
                </a:cubicBezTo>
                <a:cubicBezTo>
                  <a:pt x="1171" y="126"/>
                  <a:pt x="1199" y="139"/>
                  <a:pt x="1220" y="133"/>
                </a:cubicBezTo>
                <a:cubicBezTo>
                  <a:pt x="1241" y="127"/>
                  <a:pt x="1248" y="94"/>
                  <a:pt x="1259" y="74"/>
                </a:cubicBezTo>
                <a:cubicBezTo>
                  <a:pt x="1270" y="54"/>
                  <a:pt x="1273" y="0"/>
                  <a:pt x="1289" y="15"/>
                </a:cubicBezTo>
                <a:cubicBezTo>
                  <a:pt x="1305" y="30"/>
                  <a:pt x="1343" y="149"/>
                  <a:pt x="1357" y="162"/>
                </a:cubicBezTo>
                <a:cubicBezTo>
                  <a:pt x="1371" y="175"/>
                  <a:pt x="1363" y="112"/>
                  <a:pt x="1376" y="93"/>
                </a:cubicBezTo>
                <a:cubicBezTo>
                  <a:pt x="1389" y="74"/>
                  <a:pt x="1399" y="45"/>
                  <a:pt x="1435" y="45"/>
                </a:cubicBezTo>
                <a:cubicBezTo>
                  <a:pt x="1471" y="45"/>
                  <a:pt x="1554" y="85"/>
                  <a:pt x="1591" y="93"/>
                </a:cubicBezTo>
                <a:cubicBezTo>
                  <a:pt x="1628" y="101"/>
                  <a:pt x="1634" y="94"/>
                  <a:pt x="1660" y="93"/>
                </a:cubicBezTo>
                <a:cubicBezTo>
                  <a:pt x="1686" y="92"/>
                  <a:pt x="1716" y="88"/>
                  <a:pt x="1747" y="84"/>
                </a:cubicBezTo>
              </a:path>
            </a:pathLst>
          </a:custGeom>
          <a:noFill/>
          <a:ln w="936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36800" y="2300400"/>
            <a:ext cx="2773080" cy="415800"/>
          </a:xfrm>
          <a:custGeom>
            <a:avLst/>
            <a:gdLst/>
            <a:ahLst/>
            <a:rect l="l" t="t" r="r" b="b"/>
            <a:pathLst>
              <a:path w="1747" h="175">
                <a:moveTo>
                  <a:pt x="0" y="64"/>
                </a:moveTo>
                <a:cubicBezTo>
                  <a:pt x="59" y="71"/>
                  <a:pt x="119" y="78"/>
                  <a:pt x="166" y="93"/>
                </a:cubicBezTo>
                <a:cubicBezTo>
                  <a:pt x="213" y="108"/>
                  <a:pt x="244" y="144"/>
                  <a:pt x="283" y="152"/>
                </a:cubicBezTo>
                <a:cubicBezTo>
                  <a:pt x="322" y="160"/>
                  <a:pt x="372" y="155"/>
                  <a:pt x="400" y="142"/>
                </a:cubicBezTo>
                <a:cubicBezTo>
                  <a:pt x="428" y="129"/>
                  <a:pt x="430" y="89"/>
                  <a:pt x="449" y="74"/>
                </a:cubicBezTo>
                <a:cubicBezTo>
                  <a:pt x="468" y="59"/>
                  <a:pt x="488" y="56"/>
                  <a:pt x="517" y="54"/>
                </a:cubicBezTo>
                <a:cubicBezTo>
                  <a:pt x="546" y="52"/>
                  <a:pt x="589" y="54"/>
                  <a:pt x="625" y="64"/>
                </a:cubicBezTo>
                <a:cubicBezTo>
                  <a:pt x="661" y="74"/>
                  <a:pt x="690" y="113"/>
                  <a:pt x="732" y="113"/>
                </a:cubicBezTo>
                <a:cubicBezTo>
                  <a:pt x="774" y="113"/>
                  <a:pt x="837" y="74"/>
                  <a:pt x="879" y="64"/>
                </a:cubicBezTo>
                <a:cubicBezTo>
                  <a:pt x="921" y="54"/>
                  <a:pt x="944" y="46"/>
                  <a:pt x="986" y="54"/>
                </a:cubicBezTo>
                <a:cubicBezTo>
                  <a:pt x="1028" y="62"/>
                  <a:pt x="1093" y="100"/>
                  <a:pt x="1132" y="113"/>
                </a:cubicBezTo>
                <a:cubicBezTo>
                  <a:pt x="1171" y="126"/>
                  <a:pt x="1199" y="139"/>
                  <a:pt x="1220" y="133"/>
                </a:cubicBezTo>
                <a:cubicBezTo>
                  <a:pt x="1241" y="127"/>
                  <a:pt x="1248" y="94"/>
                  <a:pt x="1259" y="74"/>
                </a:cubicBezTo>
                <a:cubicBezTo>
                  <a:pt x="1270" y="54"/>
                  <a:pt x="1273" y="0"/>
                  <a:pt x="1289" y="15"/>
                </a:cubicBezTo>
                <a:cubicBezTo>
                  <a:pt x="1305" y="30"/>
                  <a:pt x="1343" y="149"/>
                  <a:pt x="1357" y="162"/>
                </a:cubicBezTo>
                <a:cubicBezTo>
                  <a:pt x="1371" y="175"/>
                  <a:pt x="1363" y="112"/>
                  <a:pt x="1376" y="93"/>
                </a:cubicBezTo>
                <a:cubicBezTo>
                  <a:pt x="1389" y="74"/>
                  <a:pt x="1399" y="45"/>
                  <a:pt x="1435" y="45"/>
                </a:cubicBezTo>
                <a:cubicBezTo>
                  <a:pt x="1471" y="45"/>
                  <a:pt x="1554" y="85"/>
                  <a:pt x="1591" y="93"/>
                </a:cubicBezTo>
                <a:cubicBezTo>
                  <a:pt x="1628" y="101"/>
                  <a:pt x="1634" y="94"/>
                  <a:pt x="1660" y="93"/>
                </a:cubicBezTo>
                <a:cubicBezTo>
                  <a:pt x="1686" y="92"/>
                  <a:pt x="1716" y="88"/>
                  <a:pt x="1747" y="84"/>
                </a:cubicBezTo>
              </a:path>
            </a:pathLst>
          </a:custGeom>
          <a:noFill/>
          <a:ln w="936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65080" y="2530440"/>
            <a:ext cx="3176640" cy="277920"/>
          </a:xfrm>
          <a:custGeom>
            <a:avLst/>
            <a:gdLst/>
            <a:ahLst/>
            <a:rect l="l" t="t" r="r" b="b"/>
            <a:pathLst>
              <a:path w="1747" h="175">
                <a:moveTo>
                  <a:pt x="0" y="64"/>
                </a:moveTo>
                <a:cubicBezTo>
                  <a:pt x="59" y="71"/>
                  <a:pt x="119" y="78"/>
                  <a:pt x="166" y="93"/>
                </a:cubicBezTo>
                <a:cubicBezTo>
                  <a:pt x="213" y="108"/>
                  <a:pt x="244" y="144"/>
                  <a:pt x="283" y="152"/>
                </a:cubicBezTo>
                <a:cubicBezTo>
                  <a:pt x="322" y="160"/>
                  <a:pt x="372" y="155"/>
                  <a:pt x="400" y="142"/>
                </a:cubicBezTo>
                <a:cubicBezTo>
                  <a:pt x="428" y="129"/>
                  <a:pt x="430" y="89"/>
                  <a:pt x="449" y="74"/>
                </a:cubicBezTo>
                <a:cubicBezTo>
                  <a:pt x="468" y="59"/>
                  <a:pt x="488" y="56"/>
                  <a:pt x="517" y="54"/>
                </a:cubicBezTo>
                <a:cubicBezTo>
                  <a:pt x="546" y="52"/>
                  <a:pt x="589" y="54"/>
                  <a:pt x="625" y="64"/>
                </a:cubicBezTo>
                <a:cubicBezTo>
                  <a:pt x="661" y="74"/>
                  <a:pt x="690" y="113"/>
                  <a:pt x="732" y="113"/>
                </a:cubicBezTo>
                <a:cubicBezTo>
                  <a:pt x="774" y="113"/>
                  <a:pt x="837" y="74"/>
                  <a:pt x="879" y="64"/>
                </a:cubicBezTo>
                <a:cubicBezTo>
                  <a:pt x="921" y="54"/>
                  <a:pt x="944" y="46"/>
                  <a:pt x="986" y="54"/>
                </a:cubicBezTo>
                <a:cubicBezTo>
                  <a:pt x="1028" y="62"/>
                  <a:pt x="1093" y="100"/>
                  <a:pt x="1132" y="113"/>
                </a:cubicBezTo>
                <a:cubicBezTo>
                  <a:pt x="1171" y="126"/>
                  <a:pt x="1199" y="139"/>
                  <a:pt x="1220" y="133"/>
                </a:cubicBezTo>
                <a:cubicBezTo>
                  <a:pt x="1241" y="127"/>
                  <a:pt x="1248" y="94"/>
                  <a:pt x="1259" y="74"/>
                </a:cubicBezTo>
                <a:cubicBezTo>
                  <a:pt x="1270" y="54"/>
                  <a:pt x="1273" y="0"/>
                  <a:pt x="1289" y="15"/>
                </a:cubicBezTo>
                <a:cubicBezTo>
                  <a:pt x="1305" y="30"/>
                  <a:pt x="1343" y="149"/>
                  <a:pt x="1357" y="162"/>
                </a:cubicBezTo>
                <a:cubicBezTo>
                  <a:pt x="1371" y="175"/>
                  <a:pt x="1363" y="112"/>
                  <a:pt x="1376" y="93"/>
                </a:cubicBezTo>
                <a:cubicBezTo>
                  <a:pt x="1389" y="74"/>
                  <a:pt x="1399" y="45"/>
                  <a:pt x="1435" y="45"/>
                </a:cubicBezTo>
                <a:cubicBezTo>
                  <a:pt x="1471" y="45"/>
                  <a:pt x="1554" y="85"/>
                  <a:pt x="1591" y="93"/>
                </a:cubicBezTo>
                <a:cubicBezTo>
                  <a:pt x="1628" y="101"/>
                  <a:pt x="1634" y="94"/>
                  <a:pt x="1660" y="93"/>
                </a:cubicBezTo>
                <a:cubicBezTo>
                  <a:pt x="1686" y="92"/>
                  <a:pt x="1716" y="88"/>
                  <a:pt x="1747" y="84"/>
                </a:cubicBezTo>
              </a:path>
            </a:pathLst>
          </a:custGeom>
          <a:noFill/>
          <a:ln w="936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2017800"/>
            <a:ext cx="2773440" cy="463320"/>
          </a:xfrm>
          <a:custGeom>
            <a:avLst/>
            <a:gdLst/>
            <a:ahLst/>
            <a:rect l="l" t="t" r="r" b="b"/>
            <a:pathLst>
              <a:path w="1747" h="175">
                <a:moveTo>
                  <a:pt x="0" y="64"/>
                </a:moveTo>
                <a:cubicBezTo>
                  <a:pt x="59" y="71"/>
                  <a:pt x="119" y="78"/>
                  <a:pt x="166" y="93"/>
                </a:cubicBezTo>
                <a:cubicBezTo>
                  <a:pt x="213" y="108"/>
                  <a:pt x="244" y="144"/>
                  <a:pt x="283" y="152"/>
                </a:cubicBezTo>
                <a:cubicBezTo>
                  <a:pt x="322" y="160"/>
                  <a:pt x="372" y="155"/>
                  <a:pt x="400" y="142"/>
                </a:cubicBezTo>
                <a:cubicBezTo>
                  <a:pt x="428" y="129"/>
                  <a:pt x="430" y="89"/>
                  <a:pt x="449" y="74"/>
                </a:cubicBezTo>
                <a:cubicBezTo>
                  <a:pt x="468" y="59"/>
                  <a:pt x="488" y="56"/>
                  <a:pt x="517" y="54"/>
                </a:cubicBezTo>
                <a:cubicBezTo>
                  <a:pt x="546" y="52"/>
                  <a:pt x="589" y="54"/>
                  <a:pt x="625" y="64"/>
                </a:cubicBezTo>
                <a:cubicBezTo>
                  <a:pt x="661" y="74"/>
                  <a:pt x="690" y="113"/>
                  <a:pt x="732" y="113"/>
                </a:cubicBezTo>
                <a:cubicBezTo>
                  <a:pt x="774" y="113"/>
                  <a:pt x="837" y="74"/>
                  <a:pt x="879" y="64"/>
                </a:cubicBezTo>
                <a:cubicBezTo>
                  <a:pt x="921" y="54"/>
                  <a:pt x="944" y="46"/>
                  <a:pt x="986" y="54"/>
                </a:cubicBezTo>
                <a:cubicBezTo>
                  <a:pt x="1028" y="62"/>
                  <a:pt x="1093" y="100"/>
                  <a:pt x="1132" y="113"/>
                </a:cubicBezTo>
                <a:cubicBezTo>
                  <a:pt x="1171" y="126"/>
                  <a:pt x="1199" y="139"/>
                  <a:pt x="1220" y="133"/>
                </a:cubicBezTo>
                <a:cubicBezTo>
                  <a:pt x="1241" y="127"/>
                  <a:pt x="1248" y="94"/>
                  <a:pt x="1259" y="74"/>
                </a:cubicBezTo>
                <a:cubicBezTo>
                  <a:pt x="1270" y="54"/>
                  <a:pt x="1273" y="0"/>
                  <a:pt x="1289" y="15"/>
                </a:cubicBezTo>
                <a:cubicBezTo>
                  <a:pt x="1305" y="30"/>
                  <a:pt x="1343" y="149"/>
                  <a:pt x="1357" y="162"/>
                </a:cubicBezTo>
                <a:cubicBezTo>
                  <a:pt x="1371" y="175"/>
                  <a:pt x="1363" y="112"/>
                  <a:pt x="1376" y="93"/>
                </a:cubicBezTo>
                <a:cubicBezTo>
                  <a:pt x="1389" y="74"/>
                  <a:pt x="1399" y="45"/>
                  <a:pt x="1435" y="45"/>
                </a:cubicBezTo>
                <a:cubicBezTo>
                  <a:pt x="1471" y="45"/>
                  <a:pt x="1554" y="85"/>
                  <a:pt x="1591" y="93"/>
                </a:cubicBezTo>
                <a:cubicBezTo>
                  <a:pt x="1628" y="101"/>
                  <a:pt x="1634" y="94"/>
                  <a:pt x="1660" y="93"/>
                </a:cubicBezTo>
                <a:cubicBezTo>
                  <a:pt x="1686" y="92"/>
                  <a:pt x="1716" y="88"/>
                  <a:pt x="1747" y="84"/>
                </a:cubicBezTo>
              </a:path>
            </a:pathLst>
          </a:custGeom>
          <a:noFill/>
          <a:ln w="936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1952640"/>
            <a:ext cx="0" cy="178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5400" y="4311720"/>
            <a:ext cx="3314880" cy="463320"/>
          </a:xfrm>
          <a:custGeom>
            <a:avLst/>
            <a:gdLst/>
            <a:ahLst/>
            <a:rect l="l" t="t" r="r" b="b"/>
            <a:pathLst>
              <a:path w="1747" h="175">
                <a:moveTo>
                  <a:pt x="0" y="64"/>
                </a:moveTo>
                <a:cubicBezTo>
                  <a:pt x="59" y="71"/>
                  <a:pt x="119" y="78"/>
                  <a:pt x="166" y="93"/>
                </a:cubicBezTo>
                <a:cubicBezTo>
                  <a:pt x="213" y="108"/>
                  <a:pt x="244" y="144"/>
                  <a:pt x="283" y="152"/>
                </a:cubicBezTo>
                <a:cubicBezTo>
                  <a:pt x="322" y="160"/>
                  <a:pt x="372" y="155"/>
                  <a:pt x="400" y="142"/>
                </a:cubicBezTo>
                <a:cubicBezTo>
                  <a:pt x="428" y="129"/>
                  <a:pt x="430" y="89"/>
                  <a:pt x="449" y="74"/>
                </a:cubicBezTo>
                <a:cubicBezTo>
                  <a:pt x="468" y="59"/>
                  <a:pt x="488" y="56"/>
                  <a:pt x="517" y="54"/>
                </a:cubicBezTo>
                <a:cubicBezTo>
                  <a:pt x="546" y="52"/>
                  <a:pt x="589" y="54"/>
                  <a:pt x="625" y="64"/>
                </a:cubicBezTo>
                <a:cubicBezTo>
                  <a:pt x="661" y="74"/>
                  <a:pt x="690" y="113"/>
                  <a:pt x="732" y="113"/>
                </a:cubicBezTo>
                <a:cubicBezTo>
                  <a:pt x="774" y="113"/>
                  <a:pt x="837" y="74"/>
                  <a:pt x="879" y="64"/>
                </a:cubicBezTo>
                <a:cubicBezTo>
                  <a:pt x="921" y="54"/>
                  <a:pt x="944" y="46"/>
                  <a:pt x="986" y="54"/>
                </a:cubicBezTo>
                <a:cubicBezTo>
                  <a:pt x="1028" y="62"/>
                  <a:pt x="1093" y="100"/>
                  <a:pt x="1132" y="113"/>
                </a:cubicBezTo>
                <a:cubicBezTo>
                  <a:pt x="1171" y="126"/>
                  <a:pt x="1199" y="139"/>
                  <a:pt x="1220" y="133"/>
                </a:cubicBezTo>
                <a:cubicBezTo>
                  <a:pt x="1241" y="127"/>
                  <a:pt x="1248" y="94"/>
                  <a:pt x="1259" y="74"/>
                </a:cubicBezTo>
                <a:cubicBezTo>
                  <a:pt x="1270" y="54"/>
                  <a:pt x="1273" y="0"/>
                  <a:pt x="1289" y="15"/>
                </a:cubicBezTo>
                <a:cubicBezTo>
                  <a:pt x="1305" y="30"/>
                  <a:pt x="1343" y="149"/>
                  <a:pt x="1357" y="162"/>
                </a:cubicBezTo>
                <a:cubicBezTo>
                  <a:pt x="1371" y="175"/>
                  <a:pt x="1363" y="112"/>
                  <a:pt x="1376" y="93"/>
                </a:cubicBezTo>
                <a:cubicBezTo>
                  <a:pt x="1389" y="74"/>
                  <a:pt x="1399" y="45"/>
                  <a:pt x="1435" y="45"/>
                </a:cubicBezTo>
                <a:cubicBezTo>
                  <a:pt x="1471" y="45"/>
                  <a:pt x="1554" y="85"/>
                  <a:pt x="1591" y="93"/>
                </a:cubicBezTo>
                <a:cubicBezTo>
                  <a:pt x="1628" y="101"/>
                  <a:pt x="1634" y="94"/>
                  <a:pt x="1660" y="93"/>
                </a:cubicBezTo>
                <a:cubicBezTo>
                  <a:pt x="1686" y="92"/>
                  <a:pt x="1716" y="88"/>
                  <a:pt x="1747" y="84"/>
                </a:cubicBezTo>
              </a:path>
            </a:pathLst>
          </a:custGeom>
          <a:noFill/>
          <a:ln w="936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6960" y="5765760"/>
            <a:ext cx="36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supondrá que el proceso es ergód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C63-E458-4E64-A1EC-F316B5602C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Series tempor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042920" y="1989000"/>
                <a:ext cx="332748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↓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580000" y="1773360"/>
            <a:ext cx="0" cy="172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19640" y="321300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54800" y="2478240"/>
            <a:ext cx="71280" cy="7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637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43640" y="227664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77080" y="2421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85080" y="227664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44000" y="2637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585880"/>
            <a:ext cx="7164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7280" y="2212920"/>
            <a:ext cx="712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24520" y="2432160"/>
            <a:ext cx="7164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62760" y="2276640"/>
            <a:ext cx="71640" cy="7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04040" y="2554200"/>
            <a:ext cx="7164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162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675640" y="2997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80000" y="32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328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3284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4149720"/>
            <a:ext cx="44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Caracterización estadístic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3573360"/>
            <a:ext cx="4969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lización de un proceso estocástico {x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854360" y="4724280"/>
                <a:ext cx="1981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562040" y="5502240"/>
                <a:ext cx="3721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41360" y="4797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840" y="5589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aria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59280" y="436572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8920" y="580536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34080" y="5070600"/>
            <a:ext cx="712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56360" y="501336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153120" y="5013360"/>
            <a:ext cx="69840" cy="791640"/>
            <a:chOff x="6153120" y="5013360"/>
            <a:chExt cx="69840" cy="791640"/>
          </a:xfrm>
        </p:grpSpPr>
        <p:sp>
          <p:nvSpPr>
            <p:cNvPr id="169" name=""/>
            <p:cNvSpPr/>
            <p:nvPr/>
          </p:nvSpPr>
          <p:spPr>
            <a:xfrm>
              <a:off x="6191640" y="5077440"/>
              <a:ext cx="0" cy="7275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53120" y="5013360"/>
              <a:ext cx="69840" cy="91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588000" y="5084640"/>
            <a:ext cx="69840" cy="720360"/>
            <a:chOff x="6588000" y="5084640"/>
            <a:chExt cx="69840" cy="720360"/>
          </a:xfrm>
        </p:grpSpPr>
        <p:sp>
          <p:nvSpPr>
            <p:cNvPr id="172" name=""/>
            <p:cNvSpPr/>
            <p:nvPr/>
          </p:nvSpPr>
          <p:spPr>
            <a:xfrm>
              <a:off x="6623280" y="5130360"/>
              <a:ext cx="0" cy="6746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88000" y="5084640"/>
              <a:ext cx="69840" cy="52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004160" y="5024520"/>
            <a:ext cx="712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028000" y="5013360"/>
            <a:ext cx="85320" cy="792000"/>
            <a:chOff x="8028000" y="5013360"/>
            <a:chExt cx="85320" cy="792000"/>
          </a:xfrm>
        </p:grpSpPr>
        <p:sp>
          <p:nvSpPr>
            <p:cNvPr id="176" name=""/>
            <p:cNvSpPr/>
            <p:nvPr/>
          </p:nvSpPr>
          <p:spPr>
            <a:xfrm>
              <a:off x="8054280" y="5013360"/>
              <a:ext cx="0" cy="7920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28000" y="5013360"/>
              <a:ext cx="85320" cy="61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8373960" y="5013360"/>
            <a:ext cx="80640" cy="791640"/>
            <a:chOff x="8373960" y="5013360"/>
            <a:chExt cx="80640" cy="791640"/>
          </a:xfrm>
        </p:grpSpPr>
        <p:sp>
          <p:nvSpPr>
            <p:cNvPr id="179" name=""/>
            <p:cNvSpPr/>
            <p:nvPr/>
          </p:nvSpPr>
          <p:spPr>
            <a:xfrm>
              <a:off x="8418600" y="5112720"/>
              <a:ext cx="0" cy="69228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73960" y="5013360"/>
              <a:ext cx="80640" cy="87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83092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854920" y="5589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59280" y="587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46920" y="587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07280" y="587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02240" y="5051520"/>
            <a:ext cx="3160800" cy="47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45280" y="2446200"/>
            <a:ext cx="3160440" cy="47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8605800" y="2382840"/>
                <a:ext cx="1778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8728200" y="5000760"/>
                <a:ext cx="1778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7113600" y="28051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13760" y="531504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EDD-71E6-4704-B1C9-6F81C1D40E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Distribu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5508720" y="170172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314172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79920" y="2405160"/>
            <a:ext cx="7164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867280" y="2276640"/>
            <a:ext cx="69840" cy="837720"/>
            <a:chOff x="5867280" y="2276640"/>
            <a:chExt cx="69840" cy="837720"/>
          </a:xfrm>
        </p:grpSpPr>
        <p:sp>
          <p:nvSpPr>
            <p:cNvPr id="197" name=""/>
            <p:cNvSpPr/>
            <p:nvPr/>
          </p:nvSpPr>
          <p:spPr>
            <a:xfrm>
              <a:off x="5905800" y="2344320"/>
              <a:ext cx="0" cy="7700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7280" y="2276640"/>
              <a:ext cx="69840" cy="9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351480" y="2570040"/>
            <a:ext cx="55800" cy="571680"/>
            <a:chOff x="6351480" y="2570040"/>
            <a:chExt cx="55800" cy="571680"/>
          </a:xfrm>
        </p:grpSpPr>
        <p:sp>
          <p:nvSpPr>
            <p:cNvPr id="200" name=""/>
            <p:cNvSpPr/>
            <p:nvPr/>
          </p:nvSpPr>
          <p:spPr>
            <a:xfrm>
              <a:off x="6379920" y="2606400"/>
              <a:ext cx="0" cy="5353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51480" y="2570040"/>
              <a:ext cx="55800" cy="41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778800" y="2225520"/>
            <a:ext cx="71280" cy="854280"/>
            <a:chOff x="6778800" y="2225520"/>
            <a:chExt cx="71280" cy="854280"/>
          </a:xfrm>
        </p:grpSpPr>
        <p:sp>
          <p:nvSpPr>
            <p:cNvPr id="203" name=""/>
            <p:cNvSpPr/>
            <p:nvPr/>
          </p:nvSpPr>
          <p:spPr>
            <a:xfrm>
              <a:off x="6805440" y="2287440"/>
              <a:ext cx="0" cy="792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78800" y="2225520"/>
              <a:ext cx="71280" cy="730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807320" y="2131920"/>
            <a:ext cx="55440" cy="1009440"/>
            <a:chOff x="7807320" y="2131920"/>
            <a:chExt cx="55440" cy="1009440"/>
          </a:xfrm>
        </p:grpSpPr>
        <p:sp>
          <p:nvSpPr>
            <p:cNvPr id="206" name=""/>
            <p:cNvSpPr/>
            <p:nvPr/>
          </p:nvSpPr>
          <p:spPr>
            <a:xfrm>
              <a:off x="7824240" y="2131920"/>
              <a:ext cx="0" cy="1009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07320" y="2131920"/>
              <a:ext cx="55440" cy="7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8137440" y="2612880"/>
            <a:ext cx="66600" cy="528480"/>
            <a:chOff x="8137440" y="2612880"/>
            <a:chExt cx="66600" cy="528480"/>
          </a:xfrm>
        </p:grpSpPr>
        <p:sp>
          <p:nvSpPr>
            <p:cNvPr id="209" name=""/>
            <p:cNvSpPr/>
            <p:nvPr/>
          </p:nvSpPr>
          <p:spPr>
            <a:xfrm>
              <a:off x="8174160" y="2679120"/>
              <a:ext cx="0" cy="4622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37440" y="2612880"/>
              <a:ext cx="66600" cy="58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580000" y="155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08720" y="321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6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3213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2421000"/>
            <a:ext cx="3160800" cy="47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8477280" y="2336760"/>
                <a:ext cx="17784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062840" y="26510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08720" y="429408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573408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3160" y="4998960"/>
            <a:ext cx="7164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5440" y="494172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918040" y="4803840"/>
            <a:ext cx="54000" cy="929880"/>
            <a:chOff x="5918040" y="4803840"/>
            <a:chExt cx="54000" cy="929880"/>
          </a:xfrm>
        </p:grpSpPr>
        <p:sp>
          <p:nvSpPr>
            <p:cNvPr id="223" name=""/>
            <p:cNvSpPr/>
            <p:nvPr/>
          </p:nvSpPr>
          <p:spPr>
            <a:xfrm>
              <a:off x="5947920" y="4879080"/>
              <a:ext cx="0" cy="8546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18040" y="4803840"/>
              <a:ext cx="54000" cy="107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364440" y="5137200"/>
            <a:ext cx="42840" cy="596520"/>
            <a:chOff x="6364440" y="5137200"/>
            <a:chExt cx="42840" cy="596520"/>
          </a:xfrm>
        </p:grpSpPr>
        <p:sp>
          <p:nvSpPr>
            <p:cNvPr id="226" name=""/>
            <p:cNvSpPr/>
            <p:nvPr/>
          </p:nvSpPr>
          <p:spPr>
            <a:xfrm>
              <a:off x="6386040" y="5175000"/>
              <a:ext cx="0" cy="5587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64440" y="5137200"/>
              <a:ext cx="42840" cy="43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753240" y="4952880"/>
            <a:ext cx="712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777080" y="4896000"/>
            <a:ext cx="85320" cy="838080"/>
            <a:chOff x="7777080" y="4896000"/>
            <a:chExt cx="85320" cy="838080"/>
          </a:xfrm>
        </p:grpSpPr>
        <p:sp>
          <p:nvSpPr>
            <p:cNvPr id="230" name=""/>
            <p:cNvSpPr/>
            <p:nvPr/>
          </p:nvSpPr>
          <p:spPr>
            <a:xfrm>
              <a:off x="7803360" y="48960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77080" y="4896000"/>
              <a:ext cx="85320" cy="64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3400" y="5051520"/>
            <a:ext cx="80280" cy="682200"/>
            <a:chOff x="8123400" y="5051520"/>
            <a:chExt cx="80280" cy="682200"/>
          </a:xfrm>
        </p:grpSpPr>
        <p:sp>
          <p:nvSpPr>
            <p:cNvPr id="233" name=""/>
            <p:cNvSpPr/>
            <p:nvPr/>
          </p:nvSpPr>
          <p:spPr>
            <a:xfrm>
              <a:off x="8168040" y="5137200"/>
              <a:ext cx="0" cy="5965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23400" y="5051520"/>
              <a:ext cx="80280" cy="75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58000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8720" y="580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5805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56360" y="5805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1320" y="4979880"/>
            <a:ext cx="3160800" cy="47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8477280" y="4929120"/>
                <a:ext cx="17784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7062840" y="52434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502240" y="2309760"/>
            <a:ext cx="40320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518080" y="2603520"/>
            <a:ext cx="83664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503680" y="2247840"/>
            <a:ext cx="125244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519520" y="2664000"/>
            <a:ext cx="2646360" cy="1404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516280" y="2170080"/>
            <a:ext cx="229212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395360" y="1797120"/>
            <a:ext cx="14400" cy="136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22400" y="3022560"/>
            <a:ext cx="235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51800" y="296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582040" y="54770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09920" y="291312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17600" y="142560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recu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76480" y="2262240"/>
            <a:ext cx="15840" cy="106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982880" y="3343320"/>
                <a:ext cx="1778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 flipH="1">
            <a:off x="1347840" y="4091040"/>
            <a:ext cx="14400" cy="136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74880" y="5316480"/>
            <a:ext cx="235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62400" y="520704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70080" y="371952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recu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44800" y="4230720"/>
            <a:ext cx="0" cy="1395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935000" y="5637240"/>
                <a:ext cx="1778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5454720" y="1984320"/>
            <a:ext cx="9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84320" y="2401920"/>
            <a:ext cx="92160" cy="604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06720" y="2398680"/>
            <a:ext cx="91800" cy="622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00320" y="2416320"/>
            <a:ext cx="92160" cy="604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24160" y="2398680"/>
            <a:ext cx="92160" cy="622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32160" y="2416320"/>
            <a:ext cx="91800" cy="604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90720" y="2416320"/>
            <a:ext cx="92160" cy="604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82720" y="2414520"/>
            <a:ext cx="90360" cy="620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3520" y="2416320"/>
            <a:ext cx="91800" cy="604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73280" y="3022560"/>
            <a:ext cx="15840" cy="12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5760" y="3038400"/>
            <a:ext cx="15840" cy="12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27040" y="311472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86080" y="312912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75040" y="1704960"/>
            <a:ext cx="165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Distribución uniforme en [a,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503680" y="5079960"/>
            <a:ext cx="2646360" cy="1440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499000" y="4927680"/>
            <a:ext cx="229248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63800" y="4989600"/>
            <a:ext cx="125244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564160" y="5159520"/>
            <a:ext cx="83664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532480" y="4865760"/>
            <a:ext cx="40320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96920" y="4508640"/>
            <a:ext cx="76320" cy="804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20760" y="4708440"/>
            <a:ext cx="92160" cy="604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73080" y="4692600"/>
            <a:ext cx="92160" cy="604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14720" y="4879800"/>
            <a:ext cx="90360" cy="433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63640" y="4879800"/>
            <a:ext cx="90720" cy="433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308320" y="5095800"/>
            <a:ext cx="73080" cy="2318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1480" y="5079960"/>
            <a:ext cx="73080" cy="2318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46240" y="3703680"/>
            <a:ext cx="175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Distribución nor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024360" y="4478400"/>
                <a:ext cx="1422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14400" y="5935680"/>
            <a:ext cx="43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unción densidad de prob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5189400"/>
            <a:ext cx="56880" cy="1382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92280" y="5189400"/>
            <a:ext cx="57240" cy="1382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752-9E8F-4BF1-8749-11AD8CB161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Correl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00040" y="1957320"/>
                <a:ext cx="3670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4432320" y="1720800"/>
            <a:ext cx="4014720" cy="19731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a una serie temporal x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, ¿Cómo influye el valor que toma x en el instante t sobre el valor que va a tomar en t+k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87520" y="1808280"/>
            <a:ext cx="698400" cy="144360"/>
          </a:xfrm>
          <a:custGeom>
            <a:avLst/>
            <a:gdLst/>
            <a:ahLst/>
            <a:rect l="l" t="t" r="r" b="b"/>
            <a:pathLst>
              <a:path w="440" h="91">
                <a:moveTo>
                  <a:pt x="0" y="91"/>
                </a:moveTo>
                <a:cubicBezTo>
                  <a:pt x="60" y="58"/>
                  <a:pt x="121" y="26"/>
                  <a:pt x="176" y="13"/>
                </a:cubicBezTo>
                <a:cubicBezTo>
                  <a:pt x="231" y="0"/>
                  <a:pt x="288" y="2"/>
                  <a:pt x="332" y="13"/>
                </a:cubicBezTo>
                <a:cubicBezTo>
                  <a:pt x="376" y="24"/>
                  <a:pt x="422" y="70"/>
                  <a:pt x="440" y="82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76280" y="1836720"/>
            <a:ext cx="698760" cy="144360"/>
          </a:xfrm>
          <a:custGeom>
            <a:avLst/>
            <a:gdLst/>
            <a:ahLst/>
            <a:rect l="l" t="t" r="r" b="b"/>
            <a:pathLst>
              <a:path w="440" h="91">
                <a:moveTo>
                  <a:pt x="0" y="91"/>
                </a:moveTo>
                <a:cubicBezTo>
                  <a:pt x="60" y="58"/>
                  <a:pt x="121" y="26"/>
                  <a:pt x="176" y="13"/>
                </a:cubicBezTo>
                <a:cubicBezTo>
                  <a:pt x="231" y="0"/>
                  <a:pt x="288" y="2"/>
                  <a:pt x="332" y="13"/>
                </a:cubicBezTo>
                <a:cubicBezTo>
                  <a:pt x="376" y="24"/>
                  <a:pt x="422" y="70"/>
                  <a:pt x="440" y="82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61920" y="2232000"/>
            <a:ext cx="619200" cy="203400"/>
          </a:xfrm>
          <a:custGeom>
            <a:avLst/>
            <a:gdLst/>
            <a:ahLst/>
            <a:rect l="l" t="t" r="r" b="b"/>
            <a:pathLst>
              <a:path w="390" h="128">
                <a:moveTo>
                  <a:pt x="0" y="39"/>
                </a:moveTo>
                <a:cubicBezTo>
                  <a:pt x="33" y="72"/>
                  <a:pt x="67" y="106"/>
                  <a:pt x="117" y="117"/>
                </a:cubicBezTo>
                <a:cubicBezTo>
                  <a:pt x="167" y="128"/>
                  <a:pt x="257" y="126"/>
                  <a:pt x="302" y="107"/>
                </a:cubicBezTo>
                <a:cubicBezTo>
                  <a:pt x="347" y="88"/>
                  <a:pt x="375" y="18"/>
                  <a:pt x="39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00440" y="1789200"/>
            <a:ext cx="914400" cy="160200"/>
          </a:xfrm>
          <a:custGeom>
            <a:avLst/>
            <a:gdLst/>
            <a:ahLst/>
            <a:rect l="l" t="t" r="r" b="b"/>
            <a:pathLst>
              <a:path w="440" h="91">
                <a:moveTo>
                  <a:pt x="0" y="91"/>
                </a:moveTo>
                <a:cubicBezTo>
                  <a:pt x="60" y="58"/>
                  <a:pt x="121" y="26"/>
                  <a:pt x="176" y="13"/>
                </a:cubicBezTo>
                <a:cubicBezTo>
                  <a:pt x="231" y="0"/>
                  <a:pt x="288" y="2"/>
                  <a:pt x="332" y="13"/>
                </a:cubicBezTo>
                <a:cubicBezTo>
                  <a:pt x="376" y="24"/>
                  <a:pt x="422" y="70"/>
                  <a:pt x="440" y="82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17760" y="2340000"/>
            <a:ext cx="836640" cy="171360"/>
          </a:xfrm>
          <a:custGeom>
            <a:avLst/>
            <a:gdLst/>
            <a:ahLst/>
            <a:rect l="l" t="t" r="r" b="b"/>
            <a:pathLst>
              <a:path w="390" h="128">
                <a:moveTo>
                  <a:pt x="0" y="39"/>
                </a:moveTo>
                <a:cubicBezTo>
                  <a:pt x="33" y="72"/>
                  <a:pt x="67" y="106"/>
                  <a:pt x="117" y="117"/>
                </a:cubicBezTo>
                <a:cubicBezTo>
                  <a:pt x="167" y="128"/>
                  <a:pt x="257" y="126"/>
                  <a:pt x="302" y="107"/>
                </a:cubicBezTo>
                <a:cubicBezTo>
                  <a:pt x="347" y="88"/>
                  <a:pt x="375" y="18"/>
                  <a:pt x="39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4800" y="2697120"/>
            <a:ext cx="15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.e. k 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3213000"/>
            <a:ext cx="4044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ormar parejas (x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, x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Tahoma"/>
              </a:rPr>
              <a:t>t+k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) y representarlas gráficamente para estudiar las posible depend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60360" y="450864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8360" y="544500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4365720"/>
                <a:ext cx="889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290680" y="5445000"/>
                <a:ext cx="6987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 flipV="1">
            <a:off x="611280" y="4797360"/>
            <a:ext cx="1512720" cy="115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03280" y="4869000"/>
            <a:ext cx="73080" cy="7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19280" y="5084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35280" y="530064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4000" y="5084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76360" y="5516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79736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5300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42920" y="5300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580536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92360" y="573408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9640" y="566100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5950080"/>
            <a:ext cx="73080" cy="7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97440" y="450864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2000" y="544500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3997440" y="4365720"/>
                <a:ext cx="888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027760" y="5445000"/>
                <a:ext cx="698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 flipV="1">
            <a:off x="3348000" y="4797360"/>
            <a:ext cx="1513080" cy="115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40360" y="508464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56000" y="5084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00720" y="479736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494172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67280" y="5516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24360" y="5300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19640" y="566100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80000" y="551664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35280" y="573408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56000" y="537372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92360" y="5950080"/>
            <a:ext cx="73080" cy="7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43280" y="515772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450864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544500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6732720" y="4365720"/>
                <a:ext cx="888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7763040" y="5445000"/>
                <a:ext cx="698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 flipV="1">
            <a:off x="6083280" y="4797360"/>
            <a:ext cx="1513080" cy="115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77080" y="5300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91280" y="5084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08720" y="494172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596360" y="472428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20000" y="515772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732720" y="537372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573408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5166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72360" y="5661000"/>
            <a:ext cx="7272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24720" y="479736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84720" y="587700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5280" y="63086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o hay depend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867280" y="6237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pendencia compl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067280" y="580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pendencia pa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373-AEE1-4B86-9827-3FFAE185FB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8:19:27Z</dcterms:created>
  <dc:creator>Dpto. de Ing. de Sistemas y Automatica</dc:creator>
  <dc:description/>
  <dc:language>en-US</dc:language>
  <cp:lastModifiedBy>Dpto. de Ing. de Sistemas y Automatica</cp:lastModifiedBy>
  <dcterms:modified xsi:type="dcterms:W3CDTF">2004-04-03T13:18:26Z</dcterms:modified>
  <cp:revision>27</cp:revision>
  <dc:subject/>
  <dc:title>Proceso de señ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