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C18F-733C-48D3-BDA1-96431B267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52360" y="1808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52360" y="3957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54DB-9CD2-47A9-88F9-CC1F26CC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52360" y="1808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35040" y="1808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52360" y="3957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35040" y="3957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499B-1EAA-4C90-A16B-710C86884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2360" y="1808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780360" y="1808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08000" y="1808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52360" y="3957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780360" y="3957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08000" y="3957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87A2-E9B5-4063-BC07-51830209B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4C1E-0D7B-46B6-824D-A68B72C42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52360" y="180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4450-F558-4CE3-8756-892DEFE1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52360" y="180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CD10-5B71-40FD-8D4C-864F8C2B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2360" y="1808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35040" y="1808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F0EF-2FB6-4DF3-9BC6-7111D42D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1B03-92DD-4B2B-80F2-B67D96F0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54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0DDFB-450C-4576-93E8-BC98C608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52360" y="1808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35040" y="1808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52360" y="3957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3CA1-3EF5-492F-96FD-C8A0C01B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52360" y="180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6956-69D3-4918-B3B6-5C17310F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52360" y="1808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35040" y="1808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35040" y="3957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60A0D-8992-4C65-A112-9FCED7FD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52360" y="1808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35040" y="1808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52360" y="3957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B69E-DC38-464B-B8B9-0E66D551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52360" y="1808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52360" y="3957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5A7CF-8768-45C2-AF0A-A54271A2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52360" y="1808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35040" y="1808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52360" y="3957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35040" y="3957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D549-AF3B-4FEA-B73B-855D04654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52360" y="1808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780360" y="1808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08000" y="1808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52360" y="3957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780360" y="3957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08000" y="3957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75B6-5141-4363-B88A-EB30E486D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52360" y="180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AEE1-5EFA-46E9-AFAA-F19F2A0A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52360" y="1808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5040" y="1808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B1FD-A079-4E37-A786-8BDFDB3A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CB30-869A-4146-8C45-77D6E2F1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54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4A85-0F32-4503-A935-10F9C343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2360" y="1808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35040" y="1808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52360" y="3957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D771-8564-4A84-AAAA-9FF1FB44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2360" y="1808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35040" y="1808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35040" y="3957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B98D-F4F3-4FED-9483-9F89895C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2360" y="1808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040" y="1808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52360" y="3957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CDA3-1F7A-4FFA-9914-6AB5D98F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85640" y="78408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68320" y="78408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20636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79560" y="120636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5120" y="113364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0160" y="67644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11200" y="14670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52360" y="180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3A96-9ED1-4DEC-AB55-FF3DF94A0849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4507-110F-4DFA-94F5-84849DE8C1B2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Planificación y secuenciamiento de procesos por lote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. Cesar de Pra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A-U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Tiempo de ciclo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"/>
          <p:cNvSpPr/>
          <p:nvPr/>
        </p:nvSpPr>
        <p:spPr>
          <a:xfrm>
            <a:off x="2576520" y="4172040"/>
            <a:ext cx="915840" cy="32076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908000" y="3868560"/>
            <a:ext cx="669960" cy="3016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067280" y="4792680"/>
            <a:ext cx="288720" cy="2890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 flipV="1">
            <a:off x="1908000" y="3641400"/>
            <a:ext cx="43200" cy="1536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255760" y="5086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60680" y="5086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865600" y="5086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780000" y="5086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084560" y="5086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839600" y="5226120"/>
            <a:ext cx="564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0            2           4           6            8           10          12         14          16   t (h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170160" y="509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475080" y="509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389480" y="5086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694400" y="5086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998960" y="5086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913360" y="5086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218280" y="5086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03880" y="509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608800" y="509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951200" y="516240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523200" y="5086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827760" y="5086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260360" y="3857760"/>
            <a:ext cx="56052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492360" y="4505400"/>
            <a:ext cx="57636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935000" y="3784680"/>
            <a:ext cx="88128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001960" y="33228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iempo de ciclo = 3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6804000" y="3357720"/>
                <a:ext cx="15238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3495600" y="4178160"/>
            <a:ext cx="916200" cy="32076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827440" y="3889440"/>
            <a:ext cx="669960" cy="27144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986360" y="4797360"/>
            <a:ext cx="289080" cy="28908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411800" y="4511520"/>
            <a:ext cx="576000" cy="28764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901800" y="1843200"/>
            <a:ext cx="78231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tro ejemplo con tiempos diferentes en las etapas 1 y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iempo de proceso en la unida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1= 2h  , U2 = 3h,  U3 = 2h,  U4 = 1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963800" y="5576760"/>
            <a:ext cx="3327480" cy="0"/>
          </a:xfrm>
          <a:prstGeom prst="line">
            <a:avLst/>
          </a:prstGeom>
          <a:ln w="28440">
            <a:solidFill>
              <a:srgbClr val="33cc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768320" y="5653080"/>
            <a:ext cx="36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akespan = 11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14520" y="6221520"/>
            <a:ext cx="82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akespan: Tiempo total empleado en producir un numero de lotes (ejemplo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804000" y="4076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 numero de eta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333399"/>
                </a:solidFill>
                <a:latin typeface="Tahoma"/>
              </a:rPr>
              <a:t>Fabricación de varios productos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6" name=""/>
          <p:cNvSpPr/>
          <p:nvPr/>
        </p:nvSpPr>
        <p:spPr>
          <a:xfrm>
            <a:off x="1244520" y="1606680"/>
            <a:ext cx="731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lanta tipo </a:t>
            </a: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flowshop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: cada producto usa todas las etapas siguiendo la misma secuencia   (plantas </a:t>
            </a: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multiproducto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271520" y="2725560"/>
            <a:ext cx="936720" cy="107964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143160" y="2725560"/>
            <a:ext cx="433440" cy="107964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84600" y="2581200"/>
            <a:ext cx="1224000" cy="9367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entrif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U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673680" y="2725560"/>
            <a:ext cx="1225800" cy="935280"/>
          </a:xfrm>
          <a:custGeom>
            <a:avLst/>
            <a:gdLst>
              <a:gd name="textAreaLeft" fmla="*/ 269640 w 1225800"/>
              <a:gd name="textAreaRight" fmla="*/ 956160 w 1225800"/>
              <a:gd name="textAreaTop" fmla="*/ 205560 h 935280"/>
              <a:gd name="textAreaBottom" fmla="*/ 72972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e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U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8200" y="2994120"/>
            <a:ext cx="64908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336760" y="3003480"/>
            <a:ext cx="64944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719520" y="3022560"/>
            <a:ext cx="64944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965920" y="3019320"/>
            <a:ext cx="64908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927920" y="3019320"/>
            <a:ext cx="64944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224080" y="26305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583080" y="27068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805360" y="2646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891560" y="26337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34040" y="35179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380440" y="25876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360600" y="22939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500280" y="2332080"/>
            <a:ext cx="8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ezc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514520" y="2428920"/>
            <a:ext cx="0" cy="25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889280" y="2414520"/>
            <a:ext cx="0" cy="30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28480" y="3479760"/>
            <a:ext cx="6494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327400" y="3489480"/>
            <a:ext cx="649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710160" y="3508200"/>
            <a:ext cx="649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956200" y="3505320"/>
            <a:ext cx="6494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918560" y="3505320"/>
            <a:ext cx="649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232000" y="31305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2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649680" y="31608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3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843520" y="31608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2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883640" y="31338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2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412120" y="351000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174680" y="5081760"/>
            <a:ext cx="936720" cy="10792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046320" y="5081760"/>
            <a:ext cx="433440" cy="10792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87760" y="4937040"/>
            <a:ext cx="1224000" cy="9367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entrif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U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576840" y="5081760"/>
            <a:ext cx="1225800" cy="934920"/>
          </a:xfrm>
          <a:custGeom>
            <a:avLst/>
            <a:gdLst>
              <a:gd name="textAreaLeft" fmla="*/ 269640 w 1225800"/>
              <a:gd name="textAreaRight" fmla="*/ 956160 w 1225800"/>
              <a:gd name="textAreaTop" fmla="*/ 205560 h 934920"/>
              <a:gd name="textAreaBottom" fmla="*/ 72936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e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U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41360" y="5349960"/>
            <a:ext cx="64908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239920" y="5359320"/>
            <a:ext cx="64944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622680" y="5378400"/>
            <a:ext cx="64944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869080" y="5375160"/>
            <a:ext cx="64908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831080" y="5375160"/>
            <a:ext cx="64944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122480" y="63054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022560" y="62769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822920" y="623088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564240" y="621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137200" y="58737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8118360" y="49435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263760" y="46497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479760" y="47926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ezc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417680" y="4784760"/>
            <a:ext cx="0" cy="25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792440" y="4770360"/>
            <a:ext cx="0" cy="30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31640" y="5835600"/>
            <a:ext cx="6494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904000" y="5875200"/>
            <a:ext cx="649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821720" y="5861160"/>
            <a:ext cx="649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670040" y="63104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2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112160" y="62247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3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120160" y="586584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475000" y="5859360"/>
            <a:ext cx="0" cy="787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2249640" y="5829480"/>
            <a:ext cx="2394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459160" y="6638760"/>
            <a:ext cx="3433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5892840" y="5859360"/>
            <a:ext cx="0" cy="758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041480" y="3949560"/>
            <a:ext cx="731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lanta tipo </a:t>
            </a: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jobshop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: no todos los productos usan todas las etapas y/o siguen la misma secuencia   (plantas </a:t>
            </a: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multiproposito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Fabricación de varios producto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223920" y="2854440"/>
            <a:ext cx="3838320" cy="841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6399720" y="399096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Job-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980640" y="3855960"/>
            <a:ext cx="36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Flow-shop con multiples unida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por etapa (Parallel units, Multi-st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741240" y="4448160"/>
            <a:ext cx="3337200" cy="114444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4975200" y="1990800"/>
            <a:ext cx="30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Multiples maquinas o un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una etapa (Single-st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3"/>
          <a:stretch/>
        </p:blipFill>
        <p:spPr>
          <a:xfrm>
            <a:off x="4255920" y="2708280"/>
            <a:ext cx="4378320" cy="9414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1519920" y="235116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una maquina o un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68360" y="5734080"/>
            <a:ext cx="41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odos los productos requieren usar todas las etapas siguiendo la misma secu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643280" y="5734080"/>
            <a:ext cx="41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No todos los productos requieren usar todas las etapas y/o seguir la misma secu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198440" y="1619280"/>
            <a:ext cx="37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Puede haber varias maquinas o unidades en cada et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877000" y="4694400"/>
            <a:ext cx="398520" cy="598320"/>
            <a:chOff x="5877000" y="4694400"/>
            <a:chExt cx="398520" cy="598320"/>
          </a:xfrm>
        </p:grpSpPr>
        <p:sp>
          <p:nvSpPr>
            <p:cNvPr id="428" name=""/>
            <p:cNvSpPr/>
            <p:nvPr/>
          </p:nvSpPr>
          <p:spPr>
            <a:xfrm>
              <a:off x="5877000" y="4694400"/>
              <a:ext cx="398520" cy="598320"/>
            </a:xfrm>
            <a:custGeom>
              <a:avLst/>
              <a:gdLst/>
              <a:ahLst/>
              <a:rect l="l" t="t" r="r" b="b"/>
              <a:pathLst>
                <a:path w="3200" h="4800">
                  <a:moveTo>
                    <a:pt x="534" y="0"/>
                  </a:moveTo>
                  <a:cubicBezTo>
                    <a:pt x="239" y="0"/>
                    <a:pt x="0" y="239"/>
                    <a:pt x="0" y="534"/>
                  </a:cubicBezTo>
                  <a:lnTo>
                    <a:pt x="0" y="4267"/>
                  </a:lnTo>
                  <a:cubicBezTo>
                    <a:pt x="0" y="4562"/>
                    <a:pt x="239" y="4800"/>
                    <a:pt x="534" y="4800"/>
                  </a:cubicBezTo>
                  <a:lnTo>
                    <a:pt x="2667" y="4800"/>
                  </a:lnTo>
                  <a:cubicBezTo>
                    <a:pt x="2962" y="4800"/>
                    <a:pt x="3200" y="4562"/>
                    <a:pt x="3200" y="4267"/>
                  </a:cubicBezTo>
                  <a:lnTo>
                    <a:pt x="3200" y="534"/>
                  </a:lnTo>
                  <a:cubicBezTo>
                    <a:pt x="3200" y="239"/>
                    <a:pt x="2962" y="0"/>
                    <a:pt x="2667" y="0"/>
                  </a:cubicBezTo>
                  <a:lnTo>
                    <a:pt x="534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877000" y="4694400"/>
              <a:ext cx="398520" cy="598320"/>
            </a:xfrm>
            <a:custGeom>
              <a:avLst/>
              <a:gdLst/>
              <a:ahLst/>
              <a:rect l="l" t="t" r="r" b="b"/>
              <a:pathLst>
                <a:path w="3200" h="4800">
                  <a:moveTo>
                    <a:pt x="534" y="0"/>
                  </a:moveTo>
                  <a:cubicBezTo>
                    <a:pt x="239" y="0"/>
                    <a:pt x="0" y="239"/>
                    <a:pt x="0" y="534"/>
                  </a:cubicBezTo>
                  <a:lnTo>
                    <a:pt x="0" y="4267"/>
                  </a:lnTo>
                  <a:cubicBezTo>
                    <a:pt x="0" y="4562"/>
                    <a:pt x="239" y="4800"/>
                    <a:pt x="534" y="4800"/>
                  </a:cubicBezTo>
                  <a:lnTo>
                    <a:pt x="2667" y="4800"/>
                  </a:lnTo>
                  <a:cubicBezTo>
                    <a:pt x="2962" y="4800"/>
                    <a:pt x="3200" y="4562"/>
                    <a:pt x="3200" y="4267"/>
                  </a:cubicBezTo>
                  <a:lnTo>
                    <a:pt x="3200" y="534"/>
                  </a:lnTo>
                  <a:cubicBezTo>
                    <a:pt x="3200" y="239"/>
                    <a:pt x="2962" y="0"/>
                    <a:pt x="2667" y="0"/>
                  </a:cubicBezTo>
                  <a:lnTo>
                    <a:pt x="534" y="0"/>
                  </a:ln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5955480" y="4819680"/>
            <a:ext cx="2401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6775560" y="4694400"/>
            <a:ext cx="398520" cy="598320"/>
            <a:chOff x="6775560" y="4694400"/>
            <a:chExt cx="398520" cy="598320"/>
          </a:xfrm>
        </p:grpSpPr>
        <p:sp>
          <p:nvSpPr>
            <p:cNvPr id="432" name=""/>
            <p:cNvSpPr/>
            <p:nvPr/>
          </p:nvSpPr>
          <p:spPr>
            <a:xfrm>
              <a:off x="6775560" y="4694400"/>
              <a:ext cx="398520" cy="598320"/>
            </a:xfrm>
            <a:custGeom>
              <a:avLst/>
              <a:gdLst/>
              <a:ahLst/>
              <a:rect l="l" t="t" r="r" b="b"/>
              <a:pathLst>
                <a:path w="3200" h="4800">
                  <a:moveTo>
                    <a:pt x="534" y="0"/>
                  </a:moveTo>
                  <a:cubicBezTo>
                    <a:pt x="239" y="0"/>
                    <a:pt x="0" y="239"/>
                    <a:pt x="0" y="534"/>
                  </a:cubicBezTo>
                  <a:lnTo>
                    <a:pt x="0" y="4267"/>
                  </a:lnTo>
                  <a:cubicBezTo>
                    <a:pt x="0" y="4562"/>
                    <a:pt x="239" y="4800"/>
                    <a:pt x="534" y="4800"/>
                  </a:cubicBezTo>
                  <a:lnTo>
                    <a:pt x="2667" y="4800"/>
                  </a:lnTo>
                  <a:cubicBezTo>
                    <a:pt x="2962" y="4800"/>
                    <a:pt x="3200" y="4562"/>
                    <a:pt x="3200" y="4267"/>
                  </a:cubicBezTo>
                  <a:lnTo>
                    <a:pt x="3200" y="534"/>
                  </a:lnTo>
                  <a:cubicBezTo>
                    <a:pt x="3200" y="239"/>
                    <a:pt x="2962" y="0"/>
                    <a:pt x="2667" y="0"/>
                  </a:cubicBezTo>
                  <a:lnTo>
                    <a:pt x="534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775560" y="4694400"/>
              <a:ext cx="398520" cy="598320"/>
            </a:xfrm>
            <a:custGeom>
              <a:avLst/>
              <a:gdLst/>
              <a:ahLst/>
              <a:rect l="l" t="t" r="r" b="b"/>
              <a:pathLst>
                <a:path w="3200" h="4800">
                  <a:moveTo>
                    <a:pt x="534" y="0"/>
                  </a:moveTo>
                  <a:cubicBezTo>
                    <a:pt x="239" y="0"/>
                    <a:pt x="0" y="239"/>
                    <a:pt x="0" y="534"/>
                  </a:cubicBezTo>
                  <a:lnTo>
                    <a:pt x="0" y="4267"/>
                  </a:lnTo>
                  <a:cubicBezTo>
                    <a:pt x="0" y="4562"/>
                    <a:pt x="239" y="4800"/>
                    <a:pt x="534" y="4800"/>
                  </a:cubicBezTo>
                  <a:lnTo>
                    <a:pt x="2667" y="4800"/>
                  </a:lnTo>
                  <a:cubicBezTo>
                    <a:pt x="2962" y="4800"/>
                    <a:pt x="3200" y="4562"/>
                    <a:pt x="3200" y="4267"/>
                  </a:cubicBezTo>
                  <a:lnTo>
                    <a:pt x="3200" y="534"/>
                  </a:lnTo>
                  <a:cubicBezTo>
                    <a:pt x="3200" y="239"/>
                    <a:pt x="2962" y="0"/>
                    <a:pt x="2667" y="0"/>
                  </a:cubicBezTo>
                  <a:lnTo>
                    <a:pt x="534" y="0"/>
                  </a:lnTo>
                  <a:close/>
                </a:path>
              </a:pathLst>
            </a:custGeom>
            <a:solidFill>
              <a:srgbClr val="33cc33"/>
            </a:solidFill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6864120" y="4819680"/>
            <a:ext cx="2217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7672320" y="4694400"/>
            <a:ext cx="399960" cy="598320"/>
            <a:chOff x="7672320" y="4694400"/>
            <a:chExt cx="399960" cy="598320"/>
          </a:xfrm>
        </p:grpSpPr>
        <p:sp>
          <p:nvSpPr>
            <p:cNvPr id="436" name=""/>
            <p:cNvSpPr/>
            <p:nvPr/>
          </p:nvSpPr>
          <p:spPr>
            <a:xfrm>
              <a:off x="7672320" y="4694400"/>
              <a:ext cx="399960" cy="598320"/>
            </a:xfrm>
            <a:custGeom>
              <a:avLst/>
              <a:gdLst/>
              <a:ahLst/>
              <a:rect l="l" t="t" r="r" b="b"/>
              <a:pathLst>
                <a:path w="1600" h="2400">
                  <a:moveTo>
                    <a:pt x="267" y="0"/>
                  </a:moveTo>
                  <a:cubicBezTo>
                    <a:pt x="120" y="0"/>
                    <a:pt x="0" y="120"/>
                    <a:pt x="0" y="267"/>
                  </a:cubicBezTo>
                  <a:lnTo>
                    <a:pt x="0" y="2134"/>
                  </a:lnTo>
                  <a:cubicBezTo>
                    <a:pt x="0" y="2281"/>
                    <a:pt x="120" y="2400"/>
                    <a:pt x="267" y="2400"/>
                  </a:cubicBezTo>
                  <a:lnTo>
                    <a:pt x="1334" y="2400"/>
                  </a:lnTo>
                  <a:cubicBezTo>
                    <a:pt x="1481" y="2400"/>
                    <a:pt x="1600" y="2281"/>
                    <a:pt x="1600" y="2134"/>
                  </a:cubicBezTo>
                  <a:lnTo>
                    <a:pt x="1600" y="267"/>
                  </a:lnTo>
                  <a:cubicBezTo>
                    <a:pt x="1600" y="120"/>
                    <a:pt x="1481" y="0"/>
                    <a:pt x="1334" y="0"/>
                  </a:cubicBezTo>
                  <a:lnTo>
                    <a:pt x="267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672320" y="4694400"/>
              <a:ext cx="399960" cy="598320"/>
            </a:xfrm>
            <a:custGeom>
              <a:avLst/>
              <a:gdLst/>
              <a:ahLst/>
              <a:rect l="l" t="t" r="r" b="b"/>
              <a:pathLst>
                <a:path w="1600" h="2400">
                  <a:moveTo>
                    <a:pt x="267" y="0"/>
                  </a:moveTo>
                  <a:cubicBezTo>
                    <a:pt x="120" y="0"/>
                    <a:pt x="0" y="120"/>
                    <a:pt x="0" y="267"/>
                  </a:cubicBezTo>
                  <a:lnTo>
                    <a:pt x="0" y="2134"/>
                  </a:lnTo>
                  <a:cubicBezTo>
                    <a:pt x="0" y="2281"/>
                    <a:pt x="120" y="2400"/>
                    <a:pt x="267" y="2400"/>
                  </a:cubicBezTo>
                  <a:lnTo>
                    <a:pt x="1334" y="2400"/>
                  </a:lnTo>
                  <a:cubicBezTo>
                    <a:pt x="1481" y="2400"/>
                    <a:pt x="1600" y="2281"/>
                    <a:pt x="1600" y="2134"/>
                  </a:cubicBezTo>
                  <a:lnTo>
                    <a:pt x="1600" y="267"/>
                  </a:lnTo>
                  <a:cubicBezTo>
                    <a:pt x="1600" y="120"/>
                    <a:pt x="1481" y="0"/>
                    <a:pt x="1334" y="0"/>
                  </a:cubicBezTo>
                  <a:lnTo>
                    <a:pt x="267" y="0"/>
                  </a:ln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7762320" y="4819680"/>
            <a:ext cx="2217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378400" y="4987800"/>
            <a:ext cx="498600" cy="55800"/>
          </a:xfrm>
          <a:custGeom>
            <a:avLst/>
            <a:gdLst/>
            <a:ahLst/>
            <a:rect l="l" t="t" r="r" b="b"/>
            <a:pathLst>
              <a:path w="314" h="35">
                <a:moveTo>
                  <a:pt x="0" y="12"/>
                </a:moveTo>
                <a:lnTo>
                  <a:pt x="284" y="12"/>
                </a:lnTo>
                <a:lnTo>
                  <a:pt x="284" y="23"/>
                </a:lnTo>
                <a:lnTo>
                  <a:pt x="0" y="23"/>
                </a:lnTo>
                <a:lnTo>
                  <a:pt x="0" y="12"/>
                </a:lnTo>
                <a:close/>
                <a:moveTo>
                  <a:pt x="279" y="0"/>
                </a:moveTo>
                <a:lnTo>
                  <a:pt x="314" y="18"/>
                </a:lnTo>
                <a:lnTo>
                  <a:pt x="279" y="35"/>
                </a:lnTo>
                <a:lnTo>
                  <a:pt x="27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275520" y="4987800"/>
            <a:ext cx="500040" cy="55800"/>
          </a:xfrm>
          <a:custGeom>
            <a:avLst/>
            <a:gdLst/>
            <a:ahLst/>
            <a:rect l="l" t="t" r="r" b="b"/>
            <a:pathLst>
              <a:path w="315" h="35">
                <a:moveTo>
                  <a:pt x="0" y="12"/>
                </a:moveTo>
                <a:lnTo>
                  <a:pt x="285" y="12"/>
                </a:lnTo>
                <a:lnTo>
                  <a:pt x="285" y="23"/>
                </a:lnTo>
                <a:lnTo>
                  <a:pt x="0" y="23"/>
                </a:lnTo>
                <a:lnTo>
                  <a:pt x="0" y="12"/>
                </a:lnTo>
                <a:close/>
                <a:moveTo>
                  <a:pt x="279" y="0"/>
                </a:moveTo>
                <a:lnTo>
                  <a:pt x="315" y="18"/>
                </a:lnTo>
                <a:lnTo>
                  <a:pt x="279" y="35"/>
                </a:lnTo>
                <a:lnTo>
                  <a:pt x="27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174080" y="4987800"/>
            <a:ext cx="498240" cy="55800"/>
          </a:xfrm>
          <a:custGeom>
            <a:avLst/>
            <a:gdLst/>
            <a:ahLst/>
            <a:rect l="l" t="t" r="r" b="b"/>
            <a:pathLst>
              <a:path w="314" h="35">
                <a:moveTo>
                  <a:pt x="0" y="12"/>
                </a:moveTo>
                <a:lnTo>
                  <a:pt x="285" y="12"/>
                </a:lnTo>
                <a:lnTo>
                  <a:pt x="285" y="23"/>
                </a:lnTo>
                <a:lnTo>
                  <a:pt x="0" y="23"/>
                </a:lnTo>
                <a:lnTo>
                  <a:pt x="0" y="12"/>
                </a:lnTo>
                <a:close/>
                <a:moveTo>
                  <a:pt x="279" y="0"/>
                </a:moveTo>
                <a:lnTo>
                  <a:pt x="314" y="18"/>
                </a:lnTo>
                <a:lnTo>
                  <a:pt x="279" y="35"/>
                </a:lnTo>
                <a:lnTo>
                  <a:pt x="27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378400" y="4816440"/>
            <a:ext cx="498600" cy="55440"/>
          </a:xfrm>
          <a:custGeom>
            <a:avLst/>
            <a:gdLst/>
            <a:ahLst/>
            <a:rect l="l" t="t" r="r" b="b"/>
            <a:pathLst>
              <a:path w="314" h="35">
                <a:moveTo>
                  <a:pt x="0" y="12"/>
                </a:moveTo>
                <a:lnTo>
                  <a:pt x="284" y="12"/>
                </a:lnTo>
                <a:lnTo>
                  <a:pt x="284" y="24"/>
                </a:lnTo>
                <a:lnTo>
                  <a:pt x="0" y="24"/>
                </a:lnTo>
                <a:lnTo>
                  <a:pt x="0" y="12"/>
                </a:lnTo>
                <a:close/>
                <a:moveTo>
                  <a:pt x="279" y="0"/>
                </a:moveTo>
                <a:lnTo>
                  <a:pt x="314" y="18"/>
                </a:lnTo>
                <a:lnTo>
                  <a:pt x="279" y="35"/>
                </a:lnTo>
                <a:lnTo>
                  <a:pt x="27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275520" y="4844880"/>
            <a:ext cx="1998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6475320" y="4444560"/>
            <a:ext cx="1800" cy="399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475320" y="4444920"/>
            <a:ext cx="17463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8221680" y="4444560"/>
            <a:ext cx="1440" cy="399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072280" y="4816440"/>
            <a:ext cx="149400" cy="55440"/>
          </a:xfrm>
          <a:custGeom>
            <a:avLst/>
            <a:gdLst/>
            <a:ahLst/>
            <a:rect l="l" t="t" r="r" b="b"/>
            <a:pathLst>
              <a:path w="94" h="35">
                <a:moveTo>
                  <a:pt x="94" y="24"/>
                </a:moveTo>
                <a:lnTo>
                  <a:pt x="29" y="24"/>
                </a:lnTo>
                <a:lnTo>
                  <a:pt x="29" y="12"/>
                </a:lnTo>
                <a:lnTo>
                  <a:pt x="94" y="12"/>
                </a:lnTo>
                <a:lnTo>
                  <a:pt x="94" y="24"/>
                </a:lnTo>
                <a:close/>
                <a:moveTo>
                  <a:pt x="35" y="35"/>
                </a:moveTo>
                <a:lnTo>
                  <a:pt x="0" y="18"/>
                </a:lnTo>
                <a:lnTo>
                  <a:pt x="35" y="0"/>
                </a:lnTo>
                <a:lnTo>
                  <a:pt x="35" y="3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174080" y="4816440"/>
            <a:ext cx="498240" cy="55440"/>
          </a:xfrm>
          <a:custGeom>
            <a:avLst/>
            <a:gdLst/>
            <a:ahLst/>
            <a:rect l="l" t="t" r="r" b="b"/>
            <a:pathLst>
              <a:path w="314" h="35">
                <a:moveTo>
                  <a:pt x="30" y="12"/>
                </a:moveTo>
                <a:lnTo>
                  <a:pt x="314" y="12"/>
                </a:lnTo>
                <a:lnTo>
                  <a:pt x="314" y="24"/>
                </a:lnTo>
                <a:lnTo>
                  <a:pt x="30" y="24"/>
                </a:lnTo>
                <a:lnTo>
                  <a:pt x="30" y="12"/>
                </a:lnTo>
                <a:close/>
                <a:moveTo>
                  <a:pt x="35" y="35"/>
                </a:moveTo>
                <a:lnTo>
                  <a:pt x="0" y="18"/>
                </a:lnTo>
                <a:lnTo>
                  <a:pt x="35" y="0"/>
                </a:lnTo>
                <a:lnTo>
                  <a:pt x="35" y="3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227560" y="4764240"/>
            <a:ext cx="150840" cy="149040"/>
            <a:chOff x="5227560" y="4764240"/>
            <a:chExt cx="150840" cy="149040"/>
          </a:xfrm>
        </p:grpSpPr>
        <p:sp>
          <p:nvSpPr>
            <p:cNvPr id="450" name=""/>
            <p:cNvSpPr/>
            <p:nvPr/>
          </p:nvSpPr>
          <p:spPr>
            <a:xfrm>
              <a:off x="5227560" y="4764240"/>
              <a:ext cx="150840" cy="1490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227560" y="4764240"/>
              <a:ext cx="150840" cy="149040"/>
            </a:xfrm>
            <a:prstGeom prst="ellipse">
              <a:avLst/>
            </a:prstGeom>
            <a:noFill/>
            <a:ln cap="rnd"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5270040" y="47656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5227560" y="4943520"/>
            <a:ext cx="150840" cy="150840"/>
            <a:chOff x="5227560" y="4943520"/>
            <a:chExt cx="150840" cy="150840"/>
          </a:xfrm>
        </p:grpSpPr>
        <p:sp>
          <p:nvSpPr>
            <p:cNvPr id="454" name=""/>
            <p:cNvSpPr/>
            <p:nvPr/>
          </p:nvSpPr>
          <p:spPr>
            <a:xfrm>
              <a:off x="5227560" y="4943520"/>
              <a:ext cx="150840" cy="150840"/>
            </a:xfrm>
            <a:prstGeom prst="ellipse">
              <a:avLst/>
            </a:prstGeom>
            <a:solidFill>
              <a:srgbClr val="3399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227560" y="4943520"/>
              <a:ext cx="150840" cy="150840"/>
            </a:xfrm>
            <a:prstGeom prst="ellipse">
              <a:avLst/>
            </a:prstGeom>
            <a:noFill/>
            <a:ln cap="rnd"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5270040" y="494676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8570880" y="5062680"/>
            <a:ext cx="149400" cy="149040"/>
            <a:chOff x="8570880" y="5062680"/>
            <a:chExt cx="149400" cy="149040"/>
          </a:xfrm>
        </p:grpSpPr>
        <p:sp>
          <p:nvSpPr>
            <p:cNvPr id="458" name=""/>
            <p:cNvSpPr/>
            <p:nvPr/>
          </p:nvSpPr>
          <p:spPr>
            <a:xfrm>
              <a:off x="8570880" y="5062680"/>
              <a:ext cx="149400" cy="14904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570880" y="5062680"/>
              <a:ext cx="149400" cy="149040"/>
            </a:xfrm>
            <a:prstGeom prst="ellipse">
              <a:avLst/>
            </a:prstGeom>
            <a:noFill/>
            <a:ln cap="rnd"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8613360" y="506412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072280" y="5116680"/>
            <a:ext cx="498600" cy="55440"/>
          </a:xfrm>
          <a:custGeom>
            <a:avLst/>
            <a:gdLst/>
            <a:ahLst/>
            <a:rect l="l" t="t" r="r" b="b"/>
            <a:pathLst>
              <a:path w="314" h="35">
                <a:moveTo>
                  <a:pt x="29" y="11"/>
                </a:moveTo>
                <a:lnTo>
                  <a:pt x="314" y="11"/>
                </a:lnTo>
                <a:lnTo>
                  <a:pt x="314" y="23"/>
                </a:lnTo>
                <a:lnTo>
                  <a:pt x="29" y="23"/>
                </a:lnTo>
                <a:lnTo>
                  <a:pt x="29" y="11"/>
                </a:lnTo>
                <a:close/>
                <a:moveTo>
                  <a:pt x="35" y="35"/>
                </a:moveTo>
                <a:lnTo>
                  <a:pt x="0" y="17"/>
                </a:lnTo>
                <a:lnTo>
                  <a:pt x="35" y="0"/>
                </a:lnTo>
                <a:lnTo>
                  <a:pt x="35" y="3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473960" y="5143680"/>
            <a:ext cx="1983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727600" y="5143680"/>
            <a:ext cx="1800" cy="3981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727600" y="5114880"/>
            <a:ext cx="149400" cy="57240"/>
          </a:xfrm>
          <a:custGeom>
            <a:avLst/>
            <a:gdLst/>
            <a:ahLst/>
            <a:rect l="l" t="t" r="r" b="b"/>
            <a:pathLst>
              <a:path w="94" h="36">
                <a:moveTo>
                  <a:pt x="64" y="24"/>
                </a:moveTo>
                <a:lnTo>
                  <a:pt x="0" y="24"/>
                </a:lnTo>
                <a:lnTo>
                  <a:pt x="0" y="12"/>
                </a:lnTo>
                <a:lnTo>
                  <a:pt x="64" y="12"/>
                </a:lnTo>
                <a:lnTo>
                  <a:pt x="64" y="24"/>
                </a:lnTo>
                <a:close/>
                <a:moveTo>
                  <a:pt x="59" y="0"/>
                </a:moveTo>
                <a:lnTo>
                  <a:pt x="94" y="18"/>
                </a:lnTo>
                <a:lnTo>
                  <a:pt x="59" y="36"/>
                </a:lnTo>
                <a:lnTo>
                  <a:pt x="5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624720" y="4816440"/>
            <a:ext cx="150840" cy="55440"/>
          </a:xfrm>
          <a:custGeom>
            <a:avLst/>
            <a:gdLst/>
            <a:ahLst/>
            <a:rect l="l" t="t" r="r" b="b"/>
            <a:pathLst>
              <a:path w="95" h="35">
                <a:moveTo>
                  <a:pt x="95" y="24"/>
                </a:moveTo>
                <a:lnTo>
                  <a:pt x="30" y="24"/>
                </a:lnTo>
                <a:lnTo>
                  <a:pt x="30" y="12"/>
                </a:lnTo>
                <a:lnTo>
                  <a:pt x="95" y="12"/>
                </a:lnTo>
                <a:lnTo>
                  <a:pt x="95" y="24"/>
                </a:lnTo>
                <a:close/>
                <a:moveTo>
                  <a:pt x="36" y="35"/>
                </a:moveTo>
                <a:lnTo>
                  <a:pt x="0" y="18"/>
                </a:lnTo>
                <a:lnTo>
                  <a:pt x="36" y="0"/>
                </a:lnTo>
                <a:lnTo>
                  <a:pt x="36" y="3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072280" y="4975200"/>
            <a:ext cx="149400" cy="55440"/>
          </a:xfrm>
          <a:custGeom>
            <a:avLst/>
            <a:gdLst/>
            <a:ahLst/>
            <a:rect l="l" t="t" r="r" b="b"/>
            <a:pathLst>
              <a:path w="94" h="35">
                <a:moveTo>
                  <a:pt x="65" y="24"/>
                </a:moveTo>
                <a:lnTo>
                  <a:pt x="0" y="24"/>
                </a:lnTo>
                <a:lnTo>
                  <a:pt x="0" y="12"/>
                </a:lnTo>
                <a:lnTo>
                  <a:pt x="65" y="12"/>
                </a:lnTo>
                <a:lnTo>
                  <a:pt x="65" y="24"/>
                </a:lnTo>
                <a:close/>
                <a:moveTo>
                  <a:pt x="59" y="0"/>
                </a:moveTo>
                <a:lnTo>
                  <a:pt x="94" y="18"/>
                </a:lnTo>
                <a:lnTo>
                  <a:pt x="59" y="35"/>
                </a:lnTo>
                <a:lnTo>
                  <a:pt x="5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294600" y="5176800"/>
            <a:ext cx="149040" cy="55440"/>
          </a:xfrm>
          <a:custGeom>
            <a:avLst/>
            <a:gdLst/>
            <a:ahLst/>
            <a:rect l="l" t="t" r="r" b="b"/>
            <a:pathLst>
              <a:path w="94" h="35">
                <a:moveTo>
                  <a:pt x="65" y="23"/>
                </a:moveTo>
                <a:lnTo>
                  <a:pt x="0" y="23"/>
                </a:lnTo>
                <a:lnTo>
                  <a:pt x="0" y="11"/>
                </a:lnTo>
                <a:lnTo>
                  <a:pt x="65" y="11"/>
                </a:lnTo>
                <a:lnTo>
                  <a:pt x="65" y="23"/>
                </a:lnTo>
                <a:close/>
                <a:moveTo>
                  <a:pt x="59" y="0"/>
                </a:moveTo>
                <a:lnTo>
                  <a:pt x="94" y="17"/>
                </a:lnTo>
                <a:lnTo>
                  <a:pt x="59" y="35"/>
                </a:lnTo>
                <a:lnTo>
                  <a:pt x="5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6443640" y="5157720"/>
            <a:ext cx="100080" cy="99720"/>
            <a:chOff x="6443640" y="5157720"/>
            <a:chExt cx="100080" cy="99720"/>
          </a:xfrm>
        </p:grpSpPr>
        <p:sp>
          <p:nvSpPr>
            <p:cNvPr id="469" name=""/>
            <p:cNvSpPr/>
            <p:nvPr/>
          </p:nvSpPr>
          <p:spPr>
            <a:xfrm>
              <a:off x="6443640" y="5157720"/>
              <a:ext cx="100080" cy="9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443640" y="5157720"/>
              <a:ext cx="100080" cy="99720"/>
            </a:xfrm>
            <a:prstGeom prst="rect">
              <a:avLst/>
            </a:prstGeom>
            <a:noFill/>
            <a:ln cap="rnd"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8221680" y="4956120"/>
            <a:ext cx="100080" cy="100080"/>
            <a:chOff x="8221680" y="4956120"/>
            <a:chExt cx="100080" cy="100080"/>
          </a:xfrm>
        </p:grpSpPr>
        <p:sp>
          <p:nvSpPr>
            <p:cNvPr id="472" name=""/>
            <p:cNvSpPr/>
            <p:nvPr/>
          </p:nvSpPr>
          <p:spPr>
            <a:xfrm>
              <a:off x="8221680" y="4956120"/>
              <a:ext cx="100080" cy="100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221680" y="4956120"/>
              <a:ext cx="100080" cy="100080"/>
            </a:xfrm>
            <a:prstGeom prst="rect">
              <a:avLst/>
            </a:prstGeom>
            <a:noFill/>
            <a:ln cap="rnd"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6527880" y="4794120"/>
            <a:ext cx="100080" cy="100080"/>
            <a:chOff x="6527880" y="4794120"/>
            <a:chExt cx="100080" cy="100080"/>
          </a:xfrm>
        </p:grpSpPr>
        <p:sp>
          <p:nvSpPr>
            <p:cNvPr id="475" name=""/>
            <p:cNvSpPr/>
            <p:nvPr/>
          </p:nvSpPr>
          <p:spPr>
            <a:xfrm>
              <a:off x="6527880" y="4794120"/>
              <a:ext cx="100080" cy="100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527880" y="4794120"/>
              <a:ext cx="100080" cy="100080"/>
            </a:xfrm>
            <a:prstGeom prst="rect">
              <a:avLst/>
            </a:prstGeom>
            <a:noFill/>
            <a:ln cap="rnd"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 flipH="1">
            <a:off x="5724360" y="5516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451640" y="5157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Ejemplo, dos producto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0" name=""/>
          <p:cNvSpPr/>
          <p:nvPr/>
        </p:nvSpPr>
        <p:spPr>
          <a:xfrm>
            <a:off x="3060720" y="2637000"/>
            <a:ext cx="360360" cy="27432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836720" y="2335320"/>
            <a:ext cx="1224000" cy="2998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1836360" y="2060640"/>
            <a:ext cx="42840" cy="1536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8448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48904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79396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70836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01328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767960" y="3645000"/>
            <a:ext cx="564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0            2           4           6            8           10          12         14          16   t (h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098880" y="3516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403440" y="3516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31784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62276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92768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4208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14664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232240" y="3516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537160" y="3516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879560" y="358128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45156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75648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189080" y="2276640"/>
            <a:ext cx="56052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421080" y="2924280"/>
            <a:ext cx="59040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278240" y="2622600"/>
            <a:ext cx="360360" cy="2746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054240" y="2335320"/>
            <a:ext cx="1224000" cy="2854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213520" y="3197160"/>
            <a:ext cx="288720" cy="2890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638600" y="2909880"/>
            <a:ext cx="57636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025880" y="3214800"/>
            <a:ext cx="299880" cy="30456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869000" y="2638440"/>
            <a:ext cx="930240" cy="25884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275000" y="2335320"/>
            <a:ext cx="579600" cy="2872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419880" y="3198960"/>
            <a:ext cx="574560" cy="3031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816520" y="2897280"/>
            <a:ext cx="576360" cy="2872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784840" y="2652840"/>
            <a:ext cx="930240" cy="2584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91200" y="2351160"/>
            <a:ext cx="579240" cy="28584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335720" y="3213000"/>
            <a:ext cx="574920" cy="3034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732720" y="2911320"/>
            <a:ext cx="576000" cy="28764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09760" y="412272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Campaña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Fabricación de un numero determinado de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lotes de los distintos produ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79400" y="51562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jemplo: Campaña AA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Tipos de campaña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9" name=""/>
          <p:cNvSpPr/>
          <p:nvPr/>
        </p:nvSpPr>
        <p:spPr>
          <a:xfrm>
            <a:off x="3060720" y="2637000"/>
            <a:ext cx="360360" cy="27432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836720" y="2335320"/>
            <a:ext cx="1224000" cy="2998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H="1" flipV="1">
            <a:off x="1836360" y="2060640"/>
            <a:ext cx="42840" cy="1536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18448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48904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79396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70836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01328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767960" y="3645000"/>
            <a:ext cx="564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0            2           4           6            8           10          12         14          16   t (h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098880" y="3516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403440" y="3516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31784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62276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92768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84208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14664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232240" y="3516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537160" y="3516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879560" y="358128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45156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75648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189080" y="2276640"/>
            <a:ext cx="56052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421080" y="2924280"/>
            <a:ext cx="59040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278240" y="2622600"/>
            <a:ext cx="360360" cy="27468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054240" y="2335320"/>
            <a:ext cx="1224000" cy="28548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213520" y="3197160"/>
            <a:ext cx="288720" cy="28908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638600" y="2909880"/>
            <a:ext cx="576360" cy="28728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025880" y="3214800"/>
            <a:ext cx="299880" cy="30456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869000" y="2638440"/>
            <a:ext cx="960480" cy="25884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275000" y="2335320"/>
            <a:ext cx="609840" cy="2872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464160" y="3198960"/>
            <a:ext cx="574920" cy="3031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816520" y="2897280"/>
            <a:ext cx="622440" cy="2872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829480" y="2652840"/>
            <a:ext cx="930240" cy="228600"/>
          </a:xfrm>
          <a:prstGeom prst="rect">
            <a:avLst/>
          </a:prstGeom>
          <a:solidFill>
            <a:srgbClr val="ff7c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191200" y="2335320"/>
            <a:ext cx="625320" cy="301680"/>
          </a:xfrm>
          <a:prstGeom prst="rect">
            <a:avLst/>
          </a:prstGeom>
          <a:solidFill>
            <a:srgbClr val="ff7c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334280" y="3213000"/>
            <a:ext cx="574560" cy="303480"/>
          </a:xfrm>
          <a:prstGeom prst="rect">
            <a:avLst/>
          </a:prstGeom>
          <a:solidFill>
            <a:srgbClr val="ff7c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746760" y="2897280"/>
            <a:ext cx="576360" cy="287280"/>
          </a:xfrm>
          <a:prstGeom prst="rect">
            <a:avLst/>
          </a:prstGeom>
          <a:solidFill>
            <a:srgbClr val="ff7c80"/>
          </a:solidFill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083040" y="5130720"/>
            <a:ext cx="360360" cy="2746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859040" y="4829040"/>
            <a:ext cx="1224000" cy="30024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 flipV="1">
            <a:off x="1858680" y="4554000"/>
            <a:ext cx="42840" cy="1536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206800" y="5999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511360" y="5999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816280" y="5999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730680" y="5999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035600" y="5999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790280" y="6138720"/>
            <a:ext cx="564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0            2           4           6            8           10          12         14          16   t (h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121200" y="60102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425760" y="60102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340160" y="5999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645080" y="5999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950000" y="5999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864400" y="5999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168960" y="5999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254560" y="60102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559480" y="60102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901880" y="607536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473880" y="5999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778800" y="5999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211400" y="4770360"/>
            <a:ext cx="56016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443400" y="5418000"/>
            <a:ext cx="590400" cy="28764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900680" y="5132520"/>
            <a:ext cx="344520" cy="27468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660840" y="4827600"/>
            <a:ext cx="1224000" cy="28584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896080" y="5692680"/>
            <a:ext cx="288720" cy="28908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246640" y="5389560"/>
            <a:ext cx="620640" cy="28728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048200" y="5708520"/>
            <a:ext cx="299880" cy="30492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76680" y="5132520"/>
            <a:ext cx="930240" cy="2584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068640" y="4829040"/>
            <a:ext cx="609480" cy="28764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257800" y="5692680"/>
            <a:ext cx="604800" cy="3034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608360" y="5405400"/>
            <a:ext cx="650880" cy="27144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477040" y="5146560"/>
            <a:ext cx="930240" cy="244440"/>
          </a:xfrm>
          <a:prstGeom prst="rect">
            <a:avLst/>
          </a:prstGeom>
          <a:solidFill>
            <a:srgbClr val="ff7c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897440" y="4829040"/>
            <a:ext cx="579600" cy="301680"/>
          </a:xfrm>
          <a:prstGeom prst="rect">
            <a:avLst/>
          </a:prstGeom>
          <a:solidFill>
            <a:srgbClr val="ff7c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997680" y="5676840"/>
            <a:ext cx="574560" cy="303120"/>
          </a:xfrm>
          <a:prstGeom prst="rect">
            <a:avLst/>
          </a:prstGeom>
          <a:solidFill>
            <a:srgbClr val="ff7c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410160" y="5391000"/>
            <a:ext cx="576360" cy="287640"/>
          </a:xfrm>
          <a:prstGeom prst="rect">
            <a:avLst/>
          </a:prstGeom>
          <a:solidFill>
            <a:srgbClr val="ff7c80"/>
          </a:solidFill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508200" y="1693800"/>
            <a:ext cx="51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ducto único  (single product campaign </a:t>
            </a: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SPC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036960" y="4070520"/>
            <a:ext cx="57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ductos mezclados  (mixed product campaign </a:t>
            </a: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MPC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389720" y="2187720"/>
            <a:ext cx="133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ABB  makespan 20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410600" y="4576680"/>
            <a:ext cx="133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BAB  makespan 19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879560" y="2233440"/>
            <a:ext cx="393372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39760" y="1693800"/>
            <a:ext cx="31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iempo de ciclo de la campaña 13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909800" y="4692600"/>
            <a:ext cx="352908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16000" y="3813120"/>
            <a:ext cx="31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iempo de ciclo de la campaña 12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Tipos de campaña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"/>
          <p:cNvSpPr/>
          <p:nvPr/>
        </p:nvSpPr>
        <p:spPr>
          <a:xfrm>
            <a:off x="1571760" y="1593720"/>
            <a:ext cx="663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n general las campañas de productos mezclados MPC son mas eficaces, pero esto puede cambiar si se consideran los tiempos de limpieza necesarios asociados al cambio de 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851200" y="3206880"/>
            <a:ext cx="360360" cy="2746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627200" y="2905200"/>
            <a:ext cx="1224000" cy="2998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H="1" flipV="1">
            <a:off x="1626840" y="2630160"/>
            <a:ext cx="42840" cy="1536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974960" y="4075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279520" y="4075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84440" y="4075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498840" y="4075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803760" y="4075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558440" y="4214880"/>
            <a:ext cx="564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0            2           4           6            8           10          12         14          16   t (h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889360" y="4086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193920" y="4086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108320" y="4075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413240" y="4075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718160" y="4075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632560" y="4075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937120" y="4075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022720" y="4086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327640" y="4086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670040" y="415116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242040" y="4075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546960" y="4075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979560" y="2846520"/>
            <a:ext cx="56016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211560" y="3494160"/>
            <a:ext cx="59040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068720" y="3192480"/>
            <a:ext cx="360360" cy="27468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844720" y="2905200"/>
            <a:ext cx="1224000" cy="28584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003640" y="3767040"/>
            <a:ext cx="289080" cy="28908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429080" y="3479760"/>
            <a:ext cx="576360" cy="28728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816360" y="3784680"/>
            <a:ext cx="299880" cy="30456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887560" y="5265720"/>
            <a:ext cx="360360" cy="2746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663560" y="4964040"/>
            <a:ext cx="1224000" cy="30024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 flipV="1">
            <a:off x="1663200" y="4689000"/>
            <a:ext cx="42840" cy="1536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011320" y="6134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316240" y="6134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620800" y="6134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535200" y="6134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840120" y="6134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595160" y="6273720"/>
            <a:ext cx="564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0            2           4           6            8           10          12         14          16   t (h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925720" y="6145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230640" y="6145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145040" y="6134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449600" y="6134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754520" y="6134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668920" y="6134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973840" y="6134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059440" y="6145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364000" y="6145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706400" y="6210360"/>
            <a:ext cx="5410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278400" y="6134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583320" y="6134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015920" y="4905360"/>
            <a:ext cx="56052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382920" y="5553000"/>
            <a:ext cx="59076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138640" y="5267160"/>
            <a:ext cx="344520" cy="27468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794040" y="4976640"/>
            <a:ext cx="1224000" cy="28584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450120" y="5827680"/>
            <a:ext cx="288720" cy="27468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649840" y="5524560"/>
            <a:ext cx="620640" cy="28728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167360" y="5889600"/>
            <a:ext cx="299880" cy="24444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795840" y="5267160"/>
            <a:ext cx="930240" cy="25884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038400" y="4962600"/>
            <a:ext cx="609840" cy="2872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678640" y="5827680"/>
            <a:ext cx="604800" cy="25884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846680" y="5540400"/>
            <a:ext cx="650880" cy="27144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676840" y="5281560"/>
            <a:ext cx="930240" cy="244440"/>
          </a:xfrm>
          <a:prstGeom prst="rect">
            <a:avLst/>
          </a:prstGeom>
          <a:solidFill>
            <a:srgbClr val="ff7c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149800" y="4976640"/>
            <a:ext cx="517680" cy="287640"/>
          </a:xfrm>
          <a:prstGeom prst="rect">
            <a:avLst/>
          </a:prstGeom>
          <a:solidFill>
            <a:srgbClr val="ff7c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7218360" y="5811840"/>
            <a:ext cx="574560" cy="303120"/>
          </a:xfrm>
          <a:prstGeom prst="rect">
            <a:avLst/>
          </a:prstGeom>
          <a:solidFill>
            <a:srgbClr val="ff7c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618240" y="5524560"/>
            <a:ext cx="576360" cy="272880"/>
          </a:xfrm>
          <a:prstGeom prst="rect">
            <a:avLst/>
          </a:prstGeom>
          <a:solidFill>
            <a:srgbClr val="ff7c80"/>
          </a:solidFill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070520" y="2903400"/>
            <a:ext cx="126720" cy="260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435560" y="3209760"/>
            <a:ext cx="127080" cy="260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021280" y="3479760"/>
            <a:ext cx="127080" cy="260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307120" y="3780000"/>
            <a:ext cx="126720" cy="260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808520" y="3208320"/>
            <a:ext cx="960480" cy="25884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214880" y="2905200"/>
            <a:ext cx="609480" cy="2872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404040" y="3768840"/>
            <a:ext cx="574560" cy="3031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756400" y="3467160"/>
            <a:ext cx="622080" cy="2872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769000" y="3222720"/>
            <a:ext cx="930240" cy="228600"/>
          </a:xfrm>
          <a:prstGeom prst="rect">
            <a:avLst/>
          </a:prstGeom>
          <a:solidFill>
            <a:srgbClr val="ff7c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130720" y="2905200"/>
            <a:ext cx="625680" cy="301680"/>
          </a:xfrm>
          <a:prstGeom prst="rect">
            <a:avLst/>
          </a:prstGeom>
          <a:solidFill>
            <a:srgbClr val="ff7c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273800" y="3782880"/>
            <a:ext cx="574920" cy="303480"/>
          </a:xfrm>
          <a:prstGeom prst="rect">
            <a:avLst/>
          </a:prstGeom>
          <a:solidFill>
            <a:srgbClr val="ff7c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686640" y="3467160"/>
            <a:ext cx="576000" cy="287280"/>
          </a:xfrm>
          <a:prstGeom prst="rect">
            <a:avLst/>
          </a:prstGeom>
          <a:solidFill>
            <a:srgbClr val="ff7c80"/>
          </a:solidFill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259080" y="5268960"/>
            <a:ext cx="127080" cy="260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995640" y="5554800"/>
            <a:ext cx="127080" cy="2905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473720" y="5886360"/>
            <a:ext cx="126720" cy="2304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665520" y="4983120"/>
            <a:ext cx="127080" cy="2761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022720" y="4989600"/>
            <a:ext cx="125640" cy="2635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705200" y="5261040"/>
            <a:ext cx="127080" cy="2761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484960" y="5289480"/>
            <a:ext cx="171360" cy="2318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513400" y="5546880"/>
            <a:ext cx="127080" cy="2761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278400" y="5545080"/>
            <a:ext cx="127080" cy="24624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296040" y="5815080"/>
            <a:ext cx="141120" cy="29052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757920" y="5830920"/>
            <a:ext cx="127080" cy="2761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894040" y="4975200"/>
            <a:ext cx="127080" cy="27612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Tipos de almacenamiento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3181320" y="2146320"/>
            <a:ext cx="360360" cy="2746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957320" y="1859040"/>
            <a:ext cx="1224000" cy="28584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130640" y="2705040"/>
            <a:ext cx="300240" cy="30492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H="1" flipV="1">
            <a:off x="1956960" y="1569600"/>
            <a:ext cx="42840" cy="1536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305080" y="3014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610000" y="3014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914560" y="3014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828960" y="3014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133880" y="3014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887480" y="3154320"/>
            <a:ext cx="315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0            2           4           6            8   t (h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219480" y="3025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524400" y="3025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438800" y="3014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000160" y="3090960"/>
            <a:ext cx="329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309680" y="1785960"/>
            <a:ext cx="56052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541680" y="2433600"/>
            <a:ext cx="57636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292720" y="1628640"/>
            <a:ext cx="341784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Transferencia sin espera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: No existe almacenamiento intermedio y el producto no puede mantenerse mas tiempo en la unidad  (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ZW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zero wa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Almacenamiento intermedio ilimitado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: Existen tanques para almacenamiento intermedio de capacidad ilimitada (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UI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unlimited intermediate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095480" y="3836880"/>
            <a:ext cx="3267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Almacenamiento en la etapa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: No existen tanques de almacenamiento intermedio pero el producto puede mantenerse en la unidad (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NI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non-intermediate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4859280" y="5805360"/>
                <a:ext cx="204480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lim>
                    </m:limLow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09" name=""/>
          <p:cNvSpPr/>
          <p:nvPr/>
        </p:nvSpPr>
        <p:spPr>
          <a:xfrm>
            <a:off x="7093080" y="5589720"/>
            <a:ext cx="18730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ahoma"/>
              </a:rPr>
              <a:t>i,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nº de lotes del producto i  M,  nº de eta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711" name=""/>
          <p:cNvGraphicFramePr/>
          <p:nvPr/>
        </p:nvGraphicFramePr>
        <p:xfrm>
          <a:off x="755640" y="1989000"/>
          <a:ext cx="5495760" cy="1270080"/>
        </p:xfrm>
        <a:graphic>
          <a:graphicData uri="http://schemas.openxmlformats.org/drawingml/2006/table">
            <a:tbl>
              <a:tblPr/>
              <a:tblGrid>
                <a:gridCol w="1374840"/>
                <a:gridCol w="1373040"/>
                <a:gridCol w="1374840"/>
                <a:gridCol w="13730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duc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tapa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tapa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tapa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2" name=""/>
          <p:cNvSpPr/>
          <p:nvPr/>
        </p:nvSpPr>
        <p:spPr>
          <a:xfrm>
            <a:off x="6659640" y="198900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ampaña AB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916360" y="4365720"/>
            <a:ext cx="115092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044720" y="4076640"/>
            <a:ext cx="187164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1042920" y="3789360"/>
            <a:ext cx="1800" cy="12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320840" y="49449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625760" y="49449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930320" y="49449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2844720" y="49449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149640" y="49449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904320" y="5084640"/>
            <a:ext cx="564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0            2           4           6            8           10          12         14          16   t (h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235240" y="4956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540160" y="4956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454560" y="49449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759120" y="49449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064040" y="49449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978440" y="49449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283360" y="49449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368960" y="4956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673520" y="4956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015920" y="5021280"/>
            <a:ext cx="5410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587920" y="49449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892840" y="49449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96720" y="4005360"/>
            <a:ext cx="56052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067280" y="4653000"/>
            <a:ext cx="936360" cy="28872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356000" y="4365720"/>
            <a:ext cx="649440" cy="2872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492360" y="4076640"/>
            <a:ext cx="863640" cy="289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095480" y="3927600"/>
            <a:ext cx="3260520" cy="61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003640" y="4653000"/>
            <a:ext cx="576360" cy="2887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260360" y="342900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iempo de ciclo 11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356000" y="4076640"/>
            <a:ext cx="187164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7380360" y="4653000"/>
            <a:ext cx="863640" cy="28872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659640" y="4076640"/>
            <a:ext cx="934920" cy="289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8244000" y="4653000"/>
            <a:ext cx="504720" cy="2887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826920" y="5805360"/>
            <a:ext cx="71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ferencia sin esp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596360" y="4365720"/>
            <a:ext cx="649080" cy="2872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227640" y="4365720"/>
            <a:ext cx="115092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9" name=""/>
          <p:cNvSpPr/>
          <p:nvPr/>
        </p:nvSpPr>
        <p:spPr>
          <a:xfrm>
            <a:off x="3059280" y="2494080"/>
            <a:ext cx="122364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187280" y="2205000"/>
            <a:ext cx="187200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1185840" y="1917720"/>
            <a:ext cx="1440" cy="12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463760" y="30733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768320" y="30733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073240" y="30733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987640" y="30733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292560" y="30733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047240" y="3213000"/>
            <a:ext cx="564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0            2           4           6            8           10          12         14          16   t (h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378160" y="3084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682720" y="3084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597120" y="30733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902040" y="30733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4206960" y="30733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121360" y="30733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425920" y="30733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4511520" y="3084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816440" y="3084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158840" y="314964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730840" y="30733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035760" y="30733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39640" y="2133720"/>
            <a:ext cx="56052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4282920" y="2781360"/>
            <a:ext cx="863640" cy="28872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284720" y="2492280"/>
            <a:ext cx="577800" cy="2872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3059280" y="2205000"/>
            <a:ext cx="934920" cy="289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238400" y="2055960"/>
            <a:ext cx="3046320" cy="468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146560" y="2781360"/>
            <a:ext cx="505080" cy="2887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403280" y="1557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iempo de ciclo 10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156360" y="2492280"/>
            <a:ext cx="122400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4284720" y="2205000"/>
            <a:ext cx="187164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380360" y="2781360"/>
            <a:ext cx="863640" cy="28872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7381800" y="2492280"/>
            <a:ext cx="577800" cy="2872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156360" y="2205000"/>
            <a:ext cx="934920" cy="289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8244000" y="2781360"/>
            <a:ext cx="504720" cy="2887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916360" y="4869000"/>
            <a:ext cx="122400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116000" y="4581360"/>
            <a:ext cx="1800360" cy="28764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1114560" y="4294080"/>
            <a:ext cx="1440" cy="12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392120" y="545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697040" y="545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001960" y="545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916360" y="545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3220920" y="545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975960" y="5589720"/>
            <a:ext cx="564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0            2           4           6            8           10          12         14          16   t (h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306520" y="54608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611440" y="54608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3525840" y="545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830760" y="545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4135320" y="545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049720" y="545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354640" y="545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4440240" y="54608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4745160" y="54608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087560" y="552600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659560" y="545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964120" y="545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68360" y="4510080"/>
            <a:ext cx="56052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140360" y="5157720"/>
            <a:ext cx="93636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140360" y="4869000"/>
            <a:ext cx="577800" cy="2872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166760" y="4432320"/>
            <a:ext cx="2684520" cy="468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075280" y="5157720"/>
            <a:ext cx="576360" cy="289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332000" y="393372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iempo de ciclo 9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948360" y="1557360"/>
            <a:ext cx="20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lmacenamiento en la un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916360" y="4581360"/>
            <a:ext cx="934920" cy="289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3851280" y="4581360"/>
            <a:ext cx="1800360" cy="28764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5651640" y="4581360"/>
            <a:ext cx="934920" cy="289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651640" y="4869000"/>
            <a:ext cx="122400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875640" y="4869000"/>
            <a:ext cx="577800" cy="2872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877080" y="5157720"/>
            <a:ext cx="93672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7812000" y="5157720"/>
            <a:ext cx="576360" cy="289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6948360" y="386064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lmacenamiento intermedio ilimi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51280" y="5805360"/>
            <a:ext cx="0" cy="50328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4643280" y="5805360"/>
            <a:ext cx="0" cy="50328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516720" y="5805360"/>
            <a:ext cx="0" cy="50328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7451640" y="5734080"/>
            <a:ext cx="0" cy="50328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4932360" y="6308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lmac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995640" y="2205000"/>
            <a:ext cx="28908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859280" y="2492280"/>
            <a:ext cx="28908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4211640" y="1484280"/>
            <a:ext cx="172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almacenamiento en la un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flipH="1">
            <a:off x="4140360" y="1989000"/>
            <a:ext cx="71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 flipH="1">
            <a:off x="5076360" y="1989000"/>
            <a:ext cx="71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7093080" y="2205000"/>
            <a:ext cx="28872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7956720" y="2492280"/>
            <a:ext cx="28872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Unidades paralela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2" name=""/>
          <p:cNvSpPr/>
          <p:nvPr/>
        </p:nvSpPr>
        <p:spPr>
          <a:xfrm>
            <a:off x="2844720" y="2276640"/>
            <a:ext cx="936720" cy="1079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788000" y="3213000"/>
            <a:ext cx="433440" cy="1079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3956040" y="3733920"/>
            <a:ext cx="64944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843360" y="33606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005440" y="2781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087720" y="1979640"/>
            <a:ext cx="0" cy="25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462480" y="1965240"/>
            <a:ext cx="0" cy="30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5867280" y="3213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843280" y="4221000"/>
            <a:ext cx="936720" cy="1079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476360" y="3645000"/>
            <a:ext cx="64944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086280" y="3924360"/>
            <a:ext cx="0" cy="25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460680" y="3909960"/>
            <a:ext cx="0" cy="30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805360" y="3664080"/>
            <a:ext cx="64944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580000" y="4149720"/>
            <a:ext cx="273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os productos pueden procesarse en varias unidades similares en cada eta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Indice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2360" y="180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cesos y plantas b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ceptos básicos de secuenciamie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ormulación de problemas de secuenciamie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solución por optimiz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ormulación de problemas de sínte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Unidades paralela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7" name=""/>
          <p:cNvSpPr/>
          <p:nvPr/>
        </p:nvSpPr>
        <p:spPr>
          <a:xfrm>
            <a:off x="3851280" y="2492280"/>
            <a:ext cx="649440" cy="2890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050920" y="2205000"/>
            <a:ext cx="180036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2049480" y="1917720"/>
            <a:ext cx="1440" cy="12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327400" y="30733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631960" y="30733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936880" y="30733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851280" y="30733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4156200" y="30733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1910880" y="3213000"/>
            <a:ext cx="564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0            2           4           6            8           10          12         14          16   t (h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241800" y="3084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546360" y="3084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460760" y="30733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765680" y="30733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5070600" y="30733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5985000" y="30733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6289560" y="30733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375160" y="3084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5680080" y="3084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022480" y="314964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6594480" y="30733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899400" y="30733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403280" y="2133720"/>
            <a:ext cx="56052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101680" y="2055960"/>
            <a:ext cx="1749600" cy="468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651640" y="2492280"/>
            <a:ext cx="649080" cy="2890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3851280" y="2205000"/>
            <a:ext cx="180036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987640" y="3573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in unidades parale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851280" y="4941720"/>
            <a:ext cx="649440" cy="2890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052720" y="4365720"/>
            <a:ext cx="180000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2050920" y="4078080"/>
            <a:ext cx="1800" cy="165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2328840" y="566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633760" y="566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938320" y="566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3852720" y="566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4157640" y="566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1912320" y="5805360"/>
            <a:ext cx="564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0            2           4           6            8           10          12         14          16   t (h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243240" y="56768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3548160" y="56768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4462560" y="566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4767120" y="566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072040" y="566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5986440" y="566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291360" y="566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376960" y="56768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5681520" y="56768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023920" y="5742000"/>
            <a:ext cx="5410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595920" y="566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900840" y="566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258920" y="4294080"/>
            <a:ext cx="70632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4500720" y="5373720"/>
            <a:ext cx="115092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724360" y="4941720"/>
            <a:ext cx="576360" cy="2890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851280" y="4365720"/>
            <a:ext cx="180036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4500720" y="4941720"/>
            <a:ext cx="576000" cy="289080"/>
          </a:xfrm>
          <a:prstGeom prst="rect">
            <a:avLst/>
          </a:prstGeom>
          <a:solidFill>
            <a:srgbClr val="66ff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700360" y="4653000"/>
            <a:ext cx="1800360" cy="287280"/>
          </a:xfrm>
          <a:prstGeom prst="rect">
            <a:avLst/>
          </a:prstGeom>
          <a:solidFill>
            <a:srgbClr val="66ff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4500720" y="4653000"/>
            <a:ext cx="1800000" cy="287280"/>
          </a:xfrm>
          <a:prstGeom prst="rect">
            <a:avLst/>
          </a:prstGeom>
          <a:solidFill>
            <a:srgbClr val="66ff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1908000" y="1557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iempo de ciclo 6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6300720" y="4941720"/>
            <a:ext cx="576360" cy="289080"/>
          </a:xfrm>
          <a:prstGeom prst="rect">
            <a:avLst/>
          </a:prstGeom>
          <a:solidFill>
            <a:srgbClr val="66ff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5796000" y="5229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iempo de ciclo 4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124000" y="616572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n dos unidades  unidades paralelas en la etap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333399"/>
                </a:solidFill>
                <a:latin typeface="Tahoma"/>
              </a:rPr>
              <a:t>Planificación y secuenciamien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152360" y="180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lanning and Schedu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uerte demanda industr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otencial para optimiz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blema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mo mode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mo plantear la solución en términos de optimiz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mo resolver el problema de optimiz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333399"/>
                </a:solidFill>
                <a:latin typeface="Tahoma"/>
              </a:rPr>
              <a:t>Planificación y secuenciamien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8" name=""/>
          <p:cNvSpPr/>
          <p:nvPr/>
        </p:nvSpPr>
        <p:spPr>
          <a:xfrm>
            <a:off x="684360" y="551664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Decisiones jerarquicas multinivel con diferentes modelos, escalas de tiempo e incertidumb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6659640" y="3933720"/>
            <a:ext cx="22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Nuevas herramientas: Sistemas de informacion + 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1062000" y="2368440"/>
            <a:ext cx="1979640" cy="582840"/>
          </a:xfrm>
          <a:prstGeom prst="rect">
            <a:avLst/>
          </a:prstGeom>
          <a:solidFill>
            <a:srgbClr val="00c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062000" y="3416400"/>
            <a:ext cx="1979640" cy="582480"/>
          </a:xfrm>
          <a:prstGeom prst="rect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062000" y="4581360"/>
            <a:ext cx="1979640" cy="582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1339920" y="2944440"/>
            <a:ext cx="142920" cy="478080"/>
            <a:chOff x="1339920" y="2944440"/>
            <a:chExt cx="142920" cy="478080"/>
          </a:xfrm>
        </p:grpSpPr>
        <p:sp>
          <p:nvSpPr>
            <p:cNvPr id="914" name=""/>
            <p:cNvSpPr/>
            <p:nvPr/>
          </p:nvSpPr>
          <p:spPr>
            <a:xfrm>
              <a:off x="1339920" y="3241800"/>
              <a:ext cx="129960" cy="168120"/>
            </a:xfrm>
            <a:custGeom>
              <a:avLst/>
              <a:gdLst/>
              <a:ahLst/>
              <a:rect l="l" t="t" r="r" b="b"/>
              <a:pathLst>
                <a:path w="82" h="106">
                  <a:moveTo>
                    <a:pt x="41" y="106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2" y="0"/>
                  </a:lnTo>
                  <a:lnTo>
                    <a:pt x="41" y="10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353960" y="3255840"/>
              <a:ext cx="128880" cy="166680"/>
            </a:xfrm>
            <a:custGeom>
              <a:avLst/>
              <a:gdLst/>
              <a:ahLst/>
              <a:rect l="l" t="t" r="r" b="b"/>
              <a:pathLst>
                <a:path w="81" h="105">
                  <a:moveTo>
                    <a:pt x="40" y="105"/>
                  </a:moveTo>
                  <a:lnTo>
                    <a:pt x="0" y="0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40" y="105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V="1">
              <a:off x="1405080" y="2944440"/>
              <a:ext cx="1440" cy="2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1339920" y="3992040"/>
            <a:ext cx="142920" cy="595800"/>
            <a:chOff x="1339920" y="3992040"/>
            <a:chExt cx="142920" cy="595800"/>
          </a:xfrm>
        </p:grpSpPr>
        <p:sp>
          <p:nvSpPr>
            <p:cNvPr id="918" name=""/>
            <p:cNvSpPr/>
            <p:nvPr/>
          </p:nvSpPr>
          <p:spPr>
            <a:xfrm>
              <a:off x="1339920" y="4406760"/>
              <a:ext cx="129960" cy="168480"/>
            </a:xfrm>
            <a:custGeom>
              <a:avLst/>
              <a:gdLst/>
              <a:ahLst/>
              <a:rect l="l" t="t" r="r" b="b"/>
              <a:pathLst>
                <a:path w="82" h="106">
                  <a:moveTo>
                    <a:pt x="41" y="106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2" y="0"/>
                  </a:lnTo>
                  <a:lnTo>
                    <a:pt x="41" y="10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353960" y="4419720"/>
              <a:ext cx="128880" cy="16812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40" y="106"/>
                  </a:moveTo>
                  <a:lnTo>
                    <a:pt x="0" y="0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40" y="106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>
              <a:off x="1405080" y="3992040"/>
              <a:ext cx="1440" cy="41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2505240" y="2944800"/>
            <a:ext cx="142560" cy="464760"/>
            <a:chOff x="2505240" y="2944800"/>
            <a:chExt cx="142560" cy="464760"/>
          </a:xfrm>
        </p:grpSpPr>
        <p:sp>
          <p:nvSpPr>
            <p:cNvPr id="922" name=""/>
            <p:cNvSpPr/>
            <p:nvPr/>
          </p:nvSpPr>
          <p:spPr>
            <a:xfrm>
              <a:off x="2505240" y="2944800"/>
              <a:ext cx="129960" cy="168120"/>
            </a:xfrm>
            <a:custGeom>
              <a:avLst/>
              <a:gdLst/>
              <a:ahLst/>
              <a:rect l="l" t="t" r="r" b="b"/>
              <a:pathLst>
                <a:path w="82" h="106">
                  <a:moveTo>
                    <a:pt x="41" y="0"/>
                  </a:moveTo>
                  <a:lnTo>
                    <a:pt x="82" y="106"/>
                  </a:lnTo>
                  <a:lnTo>
                    <a:pt x="41" y="106"/>
                  </a:lnTo>
                  <a:lnTo>
                    <a:pt x="0" y="106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517840" y="2957400"/>
              <a:ext cx="129960" cy="168480"/>
            </a:xfrm>
            <a:custGeom>
              <a:avLst/>
              <a:gdLst/>
              <a:ahLst/>
              <a:rect l="l" t="t" r="r" b="b"/>
              <a:pathLst>
                <a:path w="82" h="106">
                  <a:moveTo>
                    <a:pt x="41" y="0"/>
                  </a:moveTo>
                  <a:lnTo>
                    <a:pt x="82" y="106"/>
                  </a:lnTo>
                  <a:lnTo>
                    <a:pt x="41" y="106"/>
                  </a:lnTo>
                  <a:lnTo>
                    <a:pt x="0" y="106"/>
                  </a:lnTo>
                  <a:lnTo>
                    <a:pt x="41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2570040" y="3112560"/>
              <a:ext cx="1800" cy="2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2505240" y="3992400"/>
            <a:ext cx="142560" cy="582480"/>
            <a:chOff x="2505240" y="3992400"/>
            <a:chExt cx="142560" cy="582480"/>
          </a:xfrm>
        </p:grpSpPr>
        <p:sp>
          <p:nvSpPr>
            <p:cNvPr id="926" name=""/>
            <p:cNvSpPr/>
            <p:nvPr/>
          </p:nvSpPr>
          <p:spPr>
            <a:xfrm>
              <a:off x="2505240" y="3992400"/>
              <a:ext cx="129960" cy="168480"/>
            </a:xfrm>
            <a:custGeom>
              <a:avLst/>
              <a:gdLst/>
              <a:ahLst/>
              <a:rect l="l" t="t" r="r" b="b"/>
              <a:pathLst>
                <a:path w="82" h="106">
                  <a:moveTo>
                    <a:pt x="41" y="0"/>
                  </a:moveTo>
                  <a:lnTo>
                    <a:pt x="82" y="106"/>
                  </a:lnTo>
                  <a:lnTo>
                    <a:pt x="41" y="106"/>
                  </a:lnTo>
                  <a:lnTo>
                    <a:pt x="0" y="106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517840" y="4005360"/>
              <a:ext cx="129960" cy="168120"/>
            </a:xfrm>
            <a:custGeom>
              <a:avLst/>
              <a:gdLst/>
              <a:ahLst/>
              <a:rect l="l" t="t" r="r" b="b"/>
              <a:pathLst>
                <a:path w="82" h="106">
                  <a:moveTo>
                    <a:pt x="41" y="0"/>
                  </a:moveTo>
                  <a:lnTo>
                    <a:pt x="82" y="106"/>
                  </a:lnTo>
                  <a:lnTo>
                    <a:pt x="41" y="106"/>
                  </a:lnTo>
                  <a:lnTo>
                    <a:pt x="0" y="106"/>
                  </a:lnTo>
                  <a:lnTo>
                    <a:pt x="41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>
              <a:off x="2570040" y="4160520"/>
              <a:ext cx="1800" cy="41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9" name=""/>
          <p:cNvSpPr/>
          <p:nvPr/>
        </p:nvSpPr>
        <p:spPr>
          <a:xfrm>
            <a:off x="1536480" y="2556000"/>
            <a:ext cx="8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1419480" y="3603600"/>
            <a:ext cx="112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1535760" y="4741920"/>
            <a:ext cx="73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514680" y="2608200"/>
            <a:ext cx="34941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3475080" y="2542680"/>
            <a:ext cx="1440" cy="117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7008840" y="2542680"/>
            <a:ext cx="1440" cy="117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475080" y="3681360"/>
            <a:ext cx="14619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3449520" y="3618000"/>
            <a:ext cx="1800" cy="1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 flipV="1">
            <a:off x="5060880" y="3487680"/>
            <a:ext cx="1800" cy="1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540240" y="4781520"/>
            <a:ext cx="439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3514680" y="4730760"/>
            <a:ext cx="1800" cy="1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4006800" y="4730760"/>
            <a:ext cx="1800" cy="1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4912200" y="2671920"/>
            <a:ext cx="102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dd0000"/>
                </a:solidFill>
                <a:latin typeface="Arial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5293800" y="335772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dd0000"/>
                </a:solidFill>
                <a:latin typeface="Arial"/>
              </a:rPr>
              <a:t>Factibil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5295600" y="3589200"/>
            <a:ext cx="267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dd0000"/>
                </a:solidFill>
                <a:latin typeface="Arial"/>
              </a:rPr>
              <a:t>Cumplimiento de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926520" y="4941720"/>
            <a:ext cx="2408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dd0000"/>
                </a:solidFill>
                <a:latin typeface="Arial"/>
              </a:rPr>
              <a:t>Prestaciones dinám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4270320" y="2276640"/>
            <a:ext cx="744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eses, añ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204800" y="24782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777840" y="3429000"/>
            <a:ext cx="90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as , sema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3345480" y="4437000"/>
            <a:ext cx="1162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egundos, minu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3399"/>
                </a:solidFill>
                <a:latin typeface="Tahoma"/>
              </a:rPr>
              <a:t>Visión ampliada de la planificación y el secuenciamiento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50" name="" descr=""/>
          <p:cNvPicPr/>
          <p:nvPr/>
        </p:nvPicPr>
        <p:blipFill>
          <a:blip r:embed="rId1"/>
          <a:stretch/>
        </p:blipFill>
        <p:spPr>
          <a:xfrm>
            <a:off x="826920" y="4149720"/>
            <a:ext cx="5761080" cy="2502000"/>
          </a:xfrm>
          <a:prstGeom prst="rect">
            <a:avLst/>
          </a:prstGeom>
          <a:ln w="0">
            <a:noFill/>
          </a:ln>
        </p:spPr>
      </p:pic>
      <p:pic>
        <p:nvPicPr>
          <p:cNvPr id="951" name="" descr=""/>
          <p:cNvPicPr/>
          <p:nvPr/>
        </p:nvPicPr>
        <p:blipFill>
          <a:blip r:embed="rId2"/>
          <a:stretch/>
        </p:blipFill>
        <p:spPr>
          <a:xfrm>
            <a:off x="476280" y="2276640"/>
            <a:ext cx="5338800" cy="2041200"/>
          </a:xfrm>
          <a:prstGeom prst="rect">
            <a:avLst/>
          </a:prstGeom>
          <a:ln w="0">
            <a:noFill/>
          </a:ln>
        </p:spPr>
      </p:pic>
      <p:sp>
        <p:nvSpPr>
          <p:cNvPr id="952" name=""/>
          <p:cNvSpPr/>
          <p:nvPr/>
        </p:nvSpPr>
        <p:spPr>
          <a:xfrm>
            <a:off x="5651640" y="1916280"/>
            <a:ext cx="33130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upply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dena de suministro: empresa, almacenes, suministros, distrib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333399"/>
                </a:solidFill>
                <a:latin typeface="Tahoma"/>
              </a:rPr>
              <a:t>Secuenciamiento cíclico en una planta tipo flowshop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4" name=""/>
          <p:cNvSpPr/>
          <p:nvPr/>
        </p:nvSpPr>
        <p:spPr>
          <a:xfrm>
            <a:off x="2987640" y="2708280"/>
            <a:ext cx="115092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116000" y="2421000"/>
            <a:ext cx="187164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1114560" y="2133720"/>
            <a:ext cx="1440" cy="12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392120" y="328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1697040" y="328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2001960" y="328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2916360" y="328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3220920" y="328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975960" y="3429000"/>
            <a:ext cx="564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0            2           4           6            8           10          12         14          16   t (h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306520" y="3300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2611440" y="3300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525840" y="328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830760" y="328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4135320" y="328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049720" y="328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354640" y="328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4440240" y="3300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4745160" y="3300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1087560" y="336564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659560" y="328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5964120" y="328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68360" y="2349360"/>
            <a:ext cx="56052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4138560" y="2997360"/>
            <a:ext cx="936720" cy="28872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4427640" y="2709720"/>
            <a:ext cx="649080" cy="28764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3564000" y="2421000"/>
            <a:ext cx="863640" cy="2887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1187280" y="2276640"/>
            <a:ext cx="446436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5075280" y="2997360"/>
            <a:ext cx="576360" cy="2887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332000" y="1773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iempo de ciclo 15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4427640" y="2421000"/>
            <a:ext cx="1224000" cy="2872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804000" y="2997360"/>
            <a:ext cx="863640" cy="28872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5651640" y="2708280"/>
            <a:ext cx="1150920" cy="2872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468360" y="4076640"/>
            <a:ext cx="83516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En que orden deben procesarse los lotes si tenemos N product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ado su carácter cíclico, basta resolver el problema para el primer cic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 criterio puede ser escoger el orden para minimizar el tiempo de cic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5651640" y="2421000"/>
            <a:ext cx="187164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7524720" y="2708280"/>
            <a:ext cx="115092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8388360" y="2997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/>
          <p:nvPr/>
        </p:nvSpPr>
        <p:spPr>
          <a:xfrm>
            <a:off x="115092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333399"/>
                </a:solidFill>
                <a:latin typeface="Tahoma"/>
              </a:rPr>
              <a:t>Secuenciamiento cíclico en una planta tipo flowshop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2987640" y="2708280"/>
            <a:ext cx="115092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116000" y="2421000"/>
            <a:ext cx="187164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flipV="1">
            <a:off x="1114560" y="2133720"/>
            <a:ext cx="1440" cy="12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1392120" y="328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1697040" y="328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001960" y="328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2916360" y="328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220920" y="328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975960" y="3429000"/>
            <a:ext cx="564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0            2           4           6            8           10          12         14          16   t (h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2306520" y="3300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611440" y="3300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3525840" y="328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830760" y="328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4135320" y="328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049720" y="328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5354640" y="328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4440240" y="3300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4745160" y="3300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87560" y="336564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659560" y="328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5964120" y="328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468360" y="2349360"/>
            <a:ext cx="56052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4138560" y="2997360"/>
            <a:ext cx="936720" cy="28872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4427640" y="2709720"/>
            <a:ext cx="649080" cy="28764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3564000" y="2421000"/>
            <a:ext cx="863640" cy="2887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1187280" y="2276640"/>
            <a:ext cx="446436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5075280" y="2997360"/>
            <a:ext cx="576360" cy="2887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1332000" y="1773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iempo de ciclo 15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4427640" y="2421000"/>
            <a:ext cx="1224000" cy="2872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804000" y="2997360"/>
            <a:ext cx="863640" cy="28872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5651640" y="2708280"/>
            <a:ext cx="1150920" cy="2872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395280" y="3860640"/>
            <a:ext cx="8352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ara determinar el tiempo de ciclo hay que calcular los tiempos muertos s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ikj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entre productos, con tiempos de limpieza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ikj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 Un posible algoritmo 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5651640" y="2421000"/>
            <a:ext cx="187164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7524720" y="2708280"/>
            <a:ext cx="115092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8388360" y="2997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3635280" y="1628640"/>
            <a:ext cx="50403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ahoma"/>
              </a:rPr>
              <a:t>ikj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tiempo muerto entre los productos i y k en la etapa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 flipH="1">
            <a:off x="3276720" y="1916280"/>
            <a:ext cx="3585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611280" y="4816440"/>
                <a:ext cx="3456000" cy="15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2,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M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m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j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8" name=""/>
              <p:cNvSpPr txBox="1"/>
              <p:nvPr/>
            </p:nvSpPr>
            <p:spPr>
              <a:xfrm>
                <a:off x="5084640" y="4869000"/>
                <a:ext cx="13510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j</m:t>
                            </m:r>
                          </m:lim>
                        </m:limLow>
                        <m:r>
                          <m:t xml:space="preserve"> 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δ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333399"/>
                </a:solidFill>
                <a:latin typeface="Tahoma"/>
              </a:rPr>
              <a:t>Secuencia óptima para minimizar el tiempo de cicl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960480" y="1700280"/>
                <a:ext cx="683244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 el producto i va seguido del producto  m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1" name=""/>
              <p:cNvSpPr txBox="1"/>
              <p:nvPr/>
            </p:nvSpPr>
            <p:spPr>
              <a:xfrm>
                <a:off x="1187280" y="2924280"/>
                <a:ext cx="2737080" cy="31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y</m:t>
                            </m:r>
                          </m:lim>
                        </m:limLow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m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jeto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m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m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∞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32" name=""/>
          <p:cNvSpPr/>
          <p:nvPr/>
        </p:nvSpPr>
        <p:spPr>
          <a:xfrm>
            <a:off x="4643280" y="2997360"/>
            <a:ext cx="39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asegurar que la secuencia resultante sea cícl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3" name=""/>
              <p:cNvSpPr txBox="1"/>
              <p:nvPr/>
            </p:nvSpPr>
            <p:spPr>
              <a:xfrm>
                <a:off x="4788000" y="4076640"/>
                <a:ext cx="216036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Q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∈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m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Q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⊆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Q</m:t>
                        </m:r>
                        <m:r>
                          <m:t xml:space="preserve">≠</m:t>
                        </m:r>
                        <m:r>
                          <m:t xml:space="preserve">∅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,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34" name=""/>
          <p:cNvSpPr/>
          <p:nvPr/>
        </p:nvSpPr>
        <p:spPr>
          <a:xfrm>
            <a:off x="4427640" y="595008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todo subconjunto Q de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333399"/>
                </a:solidFill>
                <a:latin typeface="Tahoma"/>
              </a:rPr>
              <a:t>Secuenciamiento mono-etapa multi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6" name=""/>
          <p:cNvSpPr/>
          <p:nvPr/>
        </p:nvSpPr>
        <p:spPr>
          <a:xfrm>
            <a:off x="1258920" y="2565360"/>
            <a:ext cx="1944720" cy="71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1042920" y="2492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3851280" y="2492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971640" y="3068640"/>
            <a:ext cx="1511280" cy="71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1547640" y="3573360"/>
            <a:ext cx="151164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547640" y="4437000"/>
            <a:ext cx="2808360" cy="71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1403280" y="3860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11280" y="2924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3276720" y="2924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258920" y="3429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4284720" y="3429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971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442764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50920" y="537372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iempo mínimo de in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3492360" y="5229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iempo máximo  de fin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2050920" y="486900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uración de la t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826920" y="4797360"/>
            <a:ext cx="216000" cy="360360"/>
          </a:xfrm>
          <a:prstGeom prst="upArrow">
            <a:avLst>
              <a:gd name="adj1" fmla="val 50000"/>
              <a:gd name="adj2" fmla="val 4170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4356000" y="4797360"/>
            <a:ext cx="216000" cy="360360"/>
          </a:xfrm>
          <a:prstGeom prst="upArrow">
            <a:avLst>
              <a:gd name="adj1" fmla="val 50000"/>
              <a:gd name="adj2" fmla="val 4170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556000" y="4581360"/>
            <a:ext cx="215640" cy="360360"/>
          </a:xfrm>
          <a:prstGeom prst="upArrow">
            <a:avLst>
              <a:gd name="adj1" fmla="val 50000"/>
              <a:gd name="adj2" fmla="val 4177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619280" y="2205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are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116000" y="27082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are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1692360" y="3141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are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195640" y="400536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area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5651640" y="1989000"/>
            <a:ext cx="1655640" cy="648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quip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5651640" y="2852640"/>
            <a:ext cx="1655640" cy="647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quipo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651640" y="4076640"/>
            <a:ext cx="1655640" cy="647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quipo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5651640" y="537372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L equipos similares para realizar las tareas pero, quizas, con costos difer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1332000" y="6021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Tareas correspondientes a los n 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796000" y="3645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……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Asignación y secuenciamiento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6" name=""/>
          <p:cNvSpPr/>
          <p:nvPr/>
        </p:nvSpPr>
        <p:spPr>
          <a:xfrm>
            <a:off x="393840" y="2925720"/>
            <a:ext cx="69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e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393840" y="3357720"/>
            <a:ext cx="69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e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393840" y="3860640"/>
            <a:ext cx="69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ea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4138920" y="3573360"/>
            <a:ext cx="834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p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4138920" y="4076640"/>
            <a:ext cx="834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po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4138920" y="4581360"/>
            <a:ext cx="834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po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1203480" y="3005280"/>
            <a:ext cx="0" cy="11592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2536920" y="3005280"/>
            <a:ext cx="0" cy="11592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1297080" y="3460680"/>
            <a:ext cx="0" cy="11592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2503440" y="3460680"/>
            <a:ext cx="0" cy="11592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1292400" y="3978360"/>
            <a:ext cx="0" cy="11268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056040" y="3981600"/>
            <a:ext cx="0" cy="11268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3419640" y="3494160"/>
            <a:ext cx="2233440" cy="115920"/>
            <a:chOff x="3419640" y="3494160"/>
            <a:chExt cx="2233440" cy="115920"/>
          </a:xfrm>
        </p:grpSpPr>
        <p:sp>
          <p:nvSpPr>
            <p:cNvPr id="1079" name=""/>
            <p:cNvSpPr/>
            <p:nvPr/>
          </p:nvSpPr>
          <p:spPr>
            <a:xfrm>
              <a:off x="3445560" y="3552120"/>
              <a:ext cx="2176920" cy="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419640" y="3497040"/>
              <a:ext cx="0" cy="1130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653080" y="3494160"/>
              <a:ext cx="0" cy="1130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3419640" y="3981600"/>
            <a:ext cx="2233440" cy="117000"/>
            <a:chOff x="3419640" y="3981600"/>
            <a:chExt cx="2233440" cy="117000"/>
          </a:xfrm>
        </p:grpSpPr>
        <p:sp>
          <p:nvSpPr>
            <p:cNvPr id="1083" name=""/>
            <p:cNvSpPr/>
            <p:nvPr/>
          </p:nvSpPr>
          <p:spPr>
            <a:xfrm>
              <a:off x="3445560" y="4041360"/>
              <a:ext cx="2176920" cy="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419640" y="3984480"/>
              <a:ext cx="0" cy="1141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653080" y="3981600"/>
              <a:ext cx="0" cy="1141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"/>
          <p:cNvGrpSpPr/>
          <p:nvPr/>
        </p:nvGrpSpPr>
        <p:grpSpPr>
          <a:xfrm>
            <a:off x="3419640" y="4468680"/>
            <a:ext cx="2233440" cy="117360"/>
            <a:chOff x="3419640" y="4468680"/>
            <a:chExt cx="2233440" cy="117360"/>
          </a:xfrm>
        </p:grpSpPr>
        <p:sp>
          <p:nvSpPr>
            <p:cNvPr id="1087" name=""/>
            <p:cNvSpPr/>
            <p:nvPr/>
          </p:nvSpPr>
          <p:spPr>
            <a:xfrm>
              <a:off x="3445560" y="4527360"/>
              <a:ext cx="2176920" cy="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419640" y="4471560"/>
              <a:ext cx="0" cy="11448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653080" y="4468680"/>
              <a:ext cx="0" cy="11448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0" name=""/>
          <p:cNvSpPr/>
          <p:nvPr/>
        </p:nvSpPr>
        <p:spPr>
          <a:xfrm>
            <a:off x="1968480" y="5394240"/>
            <a:ext cx="988920" cy="88920"/>
          </a:xfrm>
          <a:prstGeom prst="roundRect">
            <a:avLst>
              <a:gd name="adj" fmla="val 1611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400" bIns="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1657440" y="3473280"/>
            <a:ext cx="647640" cy="88920"/>
          </a:xfrm>
          <a:prstGeom prst="roundRect">
            <a:avLst>
              <a:gd name="adj" fmla="val 1611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400" bIns="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251000" y="3019320"/>
            <a:ext cx="990720" cy="87480"/>
          </a:xfrm>
          <a:prstGeom prst="roundRect">
            <a:avLst>
              <a:gd name="adj" fmla="val 1611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5970600" y="3075120"/>
            <a:ext cx="0" cy="2008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4" name=""/>
          <p:cNvGrpSpPr/>
          <p:nvPr/>
        </p:nvGrpSpPr>
        <p:grpSpPr>
          <a:xfrm>
            <a:off x="6315120" y="3745080"/>
            <a:ext cx="2233440" cy="115200"/>
            <a:chOff x="6315120" y="3745080"/>
            <a:chExt cx="2233440" cy="115200"/>
          </a:xfrm>
        </p:grpSpPr>
        <p:sp>
          <p:nvSpPr>
            <p:cNvPr id="1095" name=""/>
            <p:cNvSpPr/>
            <p:nvPr/>
          </p:nvSpPr>
          <p:spPr>
            <a:xfrm>
              <a:off x="6339240" y="3803400"/>
              <a:ext cx="2180160" cy="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315120" y="3746160"/>
              <a:ext cx="0" cy="1141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8548560" y="3745080"/>
              <a:ext cx="0" cy="11268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6315120" y="4233960"/>
            <a:ext cx="2233440" cy="115560"/>
            <a:chOff x="6315120" y="4233960"/>
            <a:chExt cx="2233440" cy="115560"/>
          </a:xfrm>
        </p:grpSpPr>
        <p:sp>
          <p:nvSpPr>
            <p:cNvPr id="1099" name=""/>
            <p:cNvSpPr/>
            <p:nvPr/>
          </p:nvSpPr>
          <p:spPr>
            <a:xfrm>
              <a:off x="6339240" y="4292640"/>
              <a:ext cx="2180160" cy="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315120" y="4236840"/>
              <a:ext cx="0" cy="11268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8548560" y="4233960"/>
              <a:ext cx="0" cy="11448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6315120" y="4718160"/>
            <a:ext cx="2233440" cy="117000"/>
            <a:chOff x="6315120" y="4718160"/>
            <a:chExt cx="2233440" cy="117000"/>
          </a:xfrm>
        </p:grpSpPr>
        <p:sp>
          <p:nvSpPr>
            <p:cNvPr id="1103" name=""/>
            <p:cNvSpPr/>
            <p:nvPr/>
          </p:nvSpPr>
          <p:spPr>
            <a:xfrm>
              <a:off x="6339240" y="4777920"/>
              <a:ext cx="2180160" cy="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315120" y="4721040"/>
              <a:ext cx="0" cy="1141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8548560" y="4718160"/>
              <a:ext cx="0" cy="1141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6" name=""/>
          <p:cNvSpPr/>
          <p:nvPr/>
        </p:nvSpPr>
        <p:spPr>
          <a:xfrm>
            <a:off x="6392880" y="3692520"/>
            <a:ext cx="506520" cy="61920"/>
          </a:xfrm>
          <a:prstGeom prst="roundRect">
            <a:avLst>
              <a:gd name="adj" fmla="val 2269"/>
            </a:avLst>
          </a:prstGeom>
          <a:solidFill>
            <a:srgbClr val="6b4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7765920" y="3692520"/>
            <a:ext cx="507960" cy="61920"/>
          </a:xfrm>
          <a:prstGeom prst="roundRect">
            <a:avLst>
              <a:gd name="adj" fmla="val 2269"/>
            </a:avLst>
          </a:prstGeom>
          <a:solidFill>
            <a:srgbClr val="dc2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7067520" y="3692520"/>
            <a:ext cx="507960" cy="61920"/>
          </a:xfrm>
          <a:prstGeom prst="roundRect">
            <a:avLst>
              <a:gd name="adj" fmla="val 226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7399440" y="4170240"/>
            <a:ext cx="506160" cy="63720"/>
          </a:xfrm>
          <a:prstGeom prst="roundRect">
            <a:avLst>
              <a:gd name="adj" fmla="val 226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6624720" y="4170240"/>
            <a:ext cx="506160" cy="63720"/>
          </a:xfrm>
          <a:prstGeom prst="roundRect">
            <a:avLst>
              <a:gd name="adj" fmla="val 2269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7020000" y="4662360"/>
            <a:ext cx="506160" cy="61920"/>
          </a:xfrm>
          <a:prstGeom prst="roundRect">
            <a:avLst>
              <a:gd name="adj" fmla="val 226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6583320" y="3068640"/>
            <a:ext cx="1549440" cy="557280"/>
          </a:xfrm>
          <a:custGeom>
            <a:avLst/>
            <a:gdLst/>
            <a:ahLst/>
            <a:rect l="l" t="t" r="r" b="b"/>
            <a:pathLst>
              <a:path w="4748" h="1713">
                <a:moveTo>
                  <a:pt x="0" y="1673"/>
                </a:moveTo>
                <a:cubicBezTo>
                  <a:pt x="856" y="623"/>
                  <a:pt x="3541" y="0"/>
                  <a:pt x="4747" y="1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6788160" y="3843360"/>
            <a:ext cx="838080" cy="264960"/>
          </a:xfrm>
          <a:custGeom>
            <a:avLst/>
            <a:gdLst/>
            <a:ahLst/>
            <a:rect l="l" t="t" r="r" b="b"/>
            <a:pathLst>
              <a:path w="2569" h="818">
                <a:moveTo>
                  <a:pt x="0" y="817"/>
                </a:moveTo>
                <a:cubicBezTo>
                  <a:pt x="895" y="0"/>
                  <a:pt x="1712" y="117"/>
                  <a:pt x="2568" y="81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7383600" y="3411360"/>
            <a:ext cx="609480" cy="228600"/>
          </a:xfrm>
          <a:custGeom>
            <a:avLst/>
            <a:gdLst/>
            <a:ahLst/>
            <a:rect l="l" t="t" r="r" b="b"/>
            <a:pathLst>
              <a:path w="1868" h="701">
                <a:moveTo>
                  <a:pt x="0" y="700"/>
                </a:moveTo>
                <a:cubicBezTo>
                  <a:pt x="661" y="0"/>
                  <a:pt x="1284" y="194"/>
                  <a:pt x="1867" y="7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6673680" y="3463920"/>
            <a:ext cx="595440" cy="189000"/>
          </a:xfrm>
          <a:custGeom>
            <a:avLst/>
            <a:gdLst/>
            <a:ahLst/>
            <a:rect l="l" t="t" r="r" b="b"/>
            <a:pathLst>
              <a:path w="1828" h="584">
                <a:moveTo>
                  <a:pt x="0" y="583"/>
                </a:moveTo>
                <a:cubicBezTo>
                  <a:pt x="467" y="0"/>
                  <a:pt x="1321" y="36"/>
                  <a:pt x="1827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93840" y="4294080"/>
            <a:ext cx="69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ea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393840" y="4797360"/>
            <a:ext cx="69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ea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393840" y="5229360"/>
            <a:ext cx="69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ea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1398600" y="4410000"/>
            <a:ext cx="0" cy="11448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2536920" y="4410000"/>
            <a:ext cx="0" cy="11448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1298520" y="4865760"/>
            <a:ext cx="0" cy="11412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2797200" y="4865760"/>
            <a:ext cx="0" cy="11412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1619280" y="5381640"/>
            <a:ext cx="0" cy="11592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3316320" y="5384880"/>
            <a:ext cx="0" cy="11592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1708200" y="3990960"/>
            <a:ext cx="988920" cy="87480"/>
          </a:xfrm>
          <a:prstGeom prst="roundRect">
            <a:avLst>
              <a:gd name="adj" fmla="val 1611"/>
            </a:avLst>
          </a:prstGeom>
          <a:solidFill>
            <a:srgbClr val="dc2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1657440" y="4879800"/>
            <a:ext cx="647640" cy="87480"/>
          </a:xfrm>
          <a:prstGeom prst="roundRect">
            <a:avLst>
              <a:gd name="adj" fmla="val 1611"/>
            </a:avLst>
          </a:prstGeom>
          <a:solidFill>
            <a:srgbClr val="6b4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1481040" y="4422600"/>
            <a:ext cx="989280" cy="87480"/>
          </a:xfrm>
          <a:prstGeom prst="roundRect">
            <a:avLst>
              <a:gd name="adj" fmla="val 1611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1982880" y="2739960"/>
            <a:ext cx="2109600" cy="747720"/>
          </a:xfrm>
          <a:custGeom>
            <a:avLst/>
            <a:gdLst/>
            <a:ahLst/>
            <a:rect l="l" t="t" r="r" b="b"/>
            <a:pathLst>
              <a:path w="6463" h="2291">
                <a:moveTo>
                  <a:pt x="0" y="710"/>
                </a:moveTo>
                <a:cubicBezTo>
                  <a:pt x="1658" y="0"/>
                  <a:pt x="5317" y="513"/>
                  <a:pt x="6462" y="229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2833560" y="4570560"/>
            <a:ext cx="992160" cy="787320"/>
          </a:xfrm>
          <a:custGeom>
            <a:avLst/>
            <a:gdLst/>
            <a:ahLst/>
            <a:rect l="l" t="t" r="r" b="b"/>
            <a:pathLst>
              <a:path w="3041" h="2410">
                <a:moveTo>
                  <a:pt x="0" y="2409"/>
                </a:moveTo>
                <a:cubicBezTo>
                  <a:pt x="1184" y="2251"/>
                  <a:pt x="2645" y="1343"/>
                  <a:pt x="30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2266920" y="4094280"/>
            <a:ext cx="1635120" cy="554040"/>
          </a:xfrm>
          <a:custGeom>
            <a:avLst/>
            <a:gdLst/>
            <a:ahLst/>
            <a:rect l="l" t="t" r="r" b="b"/>
            <a:pathLst>
              <a:path w="5016" h="1699">
                <a:moveTo>
                  <a:pt x="0" y="1382"/>
                </a:moveTo>
                <a:cubicBezTo>
                  <a:pt x="1816" y="1698"/>
                  <a:pt x="3751" y="1027"/>
                  <a:pt x="501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2076480" y="3151080"/>
            <a:ext cx="1714320" cy="811440"/>
          </a:xfrm>
          <a:custGeom>
            <a:avLst/>
            <a:gdLst/>
            <a:ahLst/>
            <a:rect l="l" t="t" r="r" b="b"/>
            <a:pathLst>
              <a:path w="5253" h="2489">
                <a:moveTo>
                  <a:pt x="0" y="711"/>
                </a:moveTo>
                <a:cubicBezTo>
                  <a:pt x="1935" y="0"/>
                  <a:pt x="4068" y="1106"/>
                  <a:pt x="5252" y="24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2448000" y="3062160"/>
            <a:ext cx="1103400" cy="862200"/>
          </a:xfrm>
          <a:custGeom>
            <a:avLst/>
            <a:gdLst/>
            <a:ahLst/>
            <a:rect l="l" t="t" r="r" b="b"/>
            <a:pathLst>
              <a:path w="3383" h="2647">
                <a:moveTo>
                  <a:pt x="0" y="2646"/>
                </a:moveTo>
                <a:cubicBezTo>
                  <a:pt x="65" y="1382"/>
                  <a:pt x="2158" y="0"/>
                  <a:pt x="3382" y="12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2289240" y="3592440"/>
            <a:ext cx="1519200" cy="1249560"/>
          </a:xfrm>
          <a:custGeom>
            <a:avLst/>
            <a:gdLst/>
            <a:ahLst/>
            <a:rect l="l" t="t" r="r" b="b"/>
            <a:pathLst>
              <a:path w="4660" h="3831">
                <a:moveTo>
                  <a:pt x="0" y="3830"/>
                </a:moveTo>
                <a:cubicBezTo>
                  <a:pt x="2290" y="3159"/>
                  <a:pt x="3869" y="1540"/>
                  <a:pt x="465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1620720" y="58770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sig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6300360" y="5877000"/>
            <a:ext cx="23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ecuenci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1258920" y="1628640"/>
            <a:ext cx="756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Asignar cada tarea a un equipo, y el orden y tiempo de ejecución en los mismos, de forma que se cumplan las restricciones de tiempos y se minimizen co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Plantas batch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2360" y="180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 medida que la fabricación de productos de alto valor añadido (químicos, farmaceúticos, alimentos, ciertos polímeros…) y producción limitada va generalizándose, tiene mas interés la fabricación en forma bat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gualmente tiene creciente interés el reutilizar los equipos para fabricar distintos productos, dando lugar a fábricas flexibles multiproducto situadas cerca de los lugares de consum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sto requiere planificar y secuenciar la producción decidiendo qué productos se procesan, en qué equipos, en qué orden y los tiempos de inicio y fin de cada proce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Unidades batch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6460920" cy="4354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020000" y="2349360"/>
            <a:ext cx="1871640" cy="2025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Secuencia de operaciones internas en la un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Des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93080" y="472428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ceta para la un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59600" y="559260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Basicamente problemas d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45200" y="1784520"/>
            <a:ext cx="17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Ope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Plantas batch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44400" y="2309760"/>
            <a:ext cx="4262400" cy="3195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200560" y="2428920"/>
            <a:ext cx="3583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uando se considera un conjunto de unidades batch, el problema fundamental es saber cuando arrancar y descargar cada una, de forma que se procese un determinado flujo de productos y se satisfagan las restricciones de energia, calidad, almacenamiento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Fabricación monoproducto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071720" y="1865160"/>
            <a:ext cx="7272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ormalmente, la fabricación de un producto implica varias etapas que se llevan a cabo secuencialmente en varios equipos de acuerdo a una receta de fabr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jempl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30200" y="3789360"/>
            <a:ext cx="936720" cy="1079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01840" y="3789360"/>
            <a:ext cx="433440" cy="1079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3280" y="3645000"/>
            <a:ext cx="1224000" cy="9363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entrif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U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32720" y="3789360"/>
            <a:ext cx="1225440" cy="934920"/>
          </a:xfrm>
          <a:custGeom>
            <a:avLst/>
            <a:gdLst>
              <a:gd name="textAreaLeft" fmla="*/ 269280 w 1225440"/>
              <a:gd name="textAreaRight" fmla="*/ 956160 w 1225440"/>
              <a:gd name="textAreaTop" fmla="*/ 205560 h 934920"/>
              <a:gd name="textAreaBottom" fmla="*/ 72936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e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U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9720" y="4299120"/>
            <a:ext cx="649440" cy="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09840" y="4292640"/>
            <a:ext cx="649440" cy="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78200" y="4221000"/>
            <a:ext cx="649440" cy="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84720" y="4292640"/>
            <a:ext cx="649440" cy="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956720" y="4292640"/>
            <a:ext cx="649080" cy="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26920" y="571176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n el ejemplo, la fabricación del producto A implica cuatro etapas (cada en una unidad de proceso) sucesivas empleando en cada una los tiempos indic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54080" y="495288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tapa 1, 4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92720" y="4581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244000" y="386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19640" y="3357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35280" y="3500280"/>
            <a:ext cx="8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ezc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14400" y="3597120"/>
            <a:ext cx="0" cy="150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93880" y="4973760"/>
            <a:ext cx="14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tapa 2, 1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62600" y="4933800"/>
            <a:ext cx="14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tapa 4, 1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57600" y="4950000"/>
            <a:ext cx="14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tapa 3, 2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Diagrama de Gantt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3060720" y="2925720"/>
            <a:ext cx="360360" cy="2746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6720" y="2638440"/>
            <a:ext cx="1224000" cy="28584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10040" y="3484440"/>
            <a:ext cx="299880" cy="30492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1836360" y="2349000"/>
            <a:ext cx="42840" cy="1536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84480" y="3794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9040" y="3794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93960" y="3794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08360" y="3794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13280" y="3794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7960" y="3933720"/>
            <a:ext cx="564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0            2           4           6            8           10          12         14          16   t (h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98880" y="3805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03440" y="3805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17840" y="3794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22760" y="3794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927680" y="3794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42080" y="3794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46640" y="3794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32240" y="3805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37160" y="3805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79560" y="387036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51560" y="3794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756480" y="3794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89080" y="2565360"/>
            <a:ext cx="56052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21080" y="3213000"/>
            <a:ext cx="57636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64000" y="4797360"/>
            <a:ext cx="36036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24000" y="4508640"/>
            <a:ext cx="1224000" cy="28872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932360" y="5373720"/>
            <a:ext cx="28728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1908000" y="4220640"/>
            <a:ext cx="43200" cy="1536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55760" y="566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60680" y="566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65600" y="566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80000" y="566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84560" y="566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39600" y="5805360"/>
            <a:ext cx="564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0            2           4           6            8           10          12         14          16   t (h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70160" y="56768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75080" y="56768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89480" y="566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94400" y="566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98960" y="566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913360" y="566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18280" y="566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03880" y="56768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08800" y="56768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51200" y="574200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23200" y="566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27760" y="566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60360" y="4437000"/>
            <a:ext cx="56052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40360" y="5084640"/>
            <a:ext cx="576000" cy="2890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08000" y="4508640"/>
            <a:ext cx="216000" cy="28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348000" y="4508640"/>
            <a:ext cx="216000" cy="28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48000" y="4797360"/>
            <a:ext cx="228600" cy="287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4797360"/>
            <a:ext cx="216000" cy="289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24360" y="5084640"/>
            <a:ext cx="216000" cy="289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16360" y="5084640"/>
            <a:ext cx="216000" cy="289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16360" y="5373720"/>
            <a:ext cx="216000" cy="288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19640" y="5373720"/>
            <a:ext cx="216000" cy="288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27640" y="4508640"/>
            <a:ext cx="216000" cy="288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2720" y="443700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ferencia entre un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Diagrama de Gantt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3060720" y="2637000"/>
            <a:ext cx="360360" cy="27432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36720" y="2349360"/>
            <a:ext cx="1224000" cy="28584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1836360" y="2060640"/>
            <a:ext cx="42840" cy="1536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8448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8904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79396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0836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01328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767960" y="3645000"/>
            <a:ext cx="564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0            2           4           6            8           10          12         14          16   t (h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98880" y="3516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03440" y="3516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31784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2276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2768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84208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4664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232240" y="3516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37160" y="3516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79560" y="358128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5156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5648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89080" y="2276640"/>
            <a:ext cx="56052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421080" y="2924280"/>
            <a:ext cx="59040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08720" y="2637000"/>
            <a:ext cx="360360" cy="27432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84720" y="2349360"/>
            <a:ext cx="1224000" cy="28584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43640" y="3211560"/>
            <a:ext cx="289080" cy="28872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869080" y="2924280"/>
            <a:ext cx="57600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227640" y="19162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peración no-solap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132000" y="4726080"/>
            <a:ext cx="360360" cy="2746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908000" y="4437000"/>
            <a:ext cx="122400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067280" y="5300640"/>
            <a:ext cx="288720" cy="2890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1908000" y="4149360"/>
            <a:ext cx="43200" cy="1536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55760" y="5594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60680" y="5594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865600" y="5594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780000" y="5594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084560" y="5594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9600" y="5734080"/>
            <a:ext cx="564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0            2           4           6            8           10          12         14          16   t (h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170160" y="5605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75080" y="5605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389480" y="5594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94400" y="5594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98960" y="5594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913360" y="5594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218280" y="5594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03880" y="5605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608800" y="5605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51200" y="567072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23200" y="5594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27760" y="5594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60360" y="4365720"/>
            <a:ext cx="56052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5013360"/>
            <a:ext cx="57636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356000" y="4724280"/>
            <a:ext cx="360360" cy="27468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132000" y="4437000"/>
            <a:ext cx="1224000" cy="28584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91280" y="5299200"/>
            <a:ext cx="288720" cy="28872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716360" y="5011560"/>
            <a:ext cx="576360" cy="28764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227640" y="4292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peración solap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025880" y="3214800"/>
            <a:ext cx="299880" cy="30456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Tiempo de ciclo (Cycle Time)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"/>
          <p:cNvSpPr/>
          <p:nvPr/>
        </p:nvSpPr>
        <p:spPr>
          <a:xfrm>
            <a:off x="3060720" y="2637000"/>
            <a:ext cx="360360" cy="27432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836720" y="2349360"/>
            <a:ext cx="1224000" cy="28584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95640" y="3211560"/>
            <a:ext cx="289080" cy="28872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1836360" y="2060640"/>
            <a:ext cx="42840" cy="1536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8448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8904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79396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70836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01328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767960" y="3645000"/>
            <a:ext cx="564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0            2           4           6            8           10          12         14          16   t (h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98880" y="3516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403440" y="3516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1784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2276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92768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84208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14664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232240" y="3516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537160" y="3516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879560" y="358128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5156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5648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189080" y="2276640"/>
            <a:ext cx="56052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421080" y="2924280"/>
            <a:ext cx="57636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508720" y="2637000"/>
            <a:ext cx="360360" cy="27432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284720" y="2349360"/>
            <a:ext cx="1224000" cy="28584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443640" y="3211560"/>
            <a:ext cx="289080" cy="28872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869080" y="2924280"/>
            <a:ext cx="57600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132000" y="4726080"/>
            <a:ext cx="360360" cy="2746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908000" y="4437000"/>
            <a:ext cx="122400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067280" y="5300640"/>
            <a:ext cx="288720" cy="2890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1908000" y="4149360"/>
            <a:ext cx="43200" cy="1536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255760" y="5594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560680" y="5594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65600" y="5594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780000" y="5594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084560" y="5594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839600" y="5734080"/>
            <a:ext cx="564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0            2           4           6            8           10          12         14          16   t (h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170160" y="5605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475080" y="5605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389480" y="5594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94400" y="5594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998960" y="5594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913360" y="5594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218280" y="5594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303880" y="5605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608800" y="5605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51200" y="567072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23200" y="5594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827760" y="5594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60360" y="4365720"/>
            <a:ext cx="56052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492360" y="5013360"/>
            <a:ext cx="57636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356000" y="4724280"/>
            <a:ext cx="360360" cy="27468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132000" y="4437000"/>
            <a:ext cx="1224000" cy="28584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291280" y="5299200"/>
            <a:ext cx="288720" cy="28872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16360" y="5011560"/>
            <a:ext cx="576360" cy="28764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469880" y="6135840"/>
            <a:ext cx="642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Intervalo de tiempo entre el comienzo de dos cic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835280" y="220500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050920" y="1773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iempo de ciclo = 8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979640" y="4292640"/>
            <a:ext cx="115236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95640" y="3860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iempo de ciclo = 4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7102440" y="2276640"/>
                <a:ext cx="11685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7093080" y="4437000"/>
                <a:ext cx="152388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7" name=""/>
          <p:cNvSpPr/>
          <p:nvPr/>
        </p:nvSpPr>
        <p:spPr>
          <a:xfrm>
            <a:off x="7596360" y="328464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 = nº de eta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11:38:32Z</dcterms:created>
  <dc:creator>Dpto. de Ing. de Sistemas y Automatica</dc:creator>
  <dc:description/>
  <dc:language>en-US</dc:language>
  <cp:lastModifiedBy>isa</cp:lastModifiedBy>
  <dcterms:modified xsi:type="dcterms:W3CDTF">2008-05-27T12:18:59Z</dcterms:modified>
  <cp:revision>15</cp:revision>
  <dc:subject/>
  <dc:title>Planificación y secuenciamiento de procesos por lotes</dc:title>
</cp:coreProperties>
</file>