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4.jpeg" ContentType="image/jpeg"/>
  <Override PartName="/ppt/media/image5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9.png" ContentType="image/png"/>
  <Override PartName="/ppt/media/image13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3.png" ContentType="image/png"/>
  <Override PartName="/ppt/media/image8.jpeg" ContentType="image/jpeg"/>
  <Override PartName="/ppt/media/image3.wmf" ContentType="image/x-wmf"/>
  <Override PartName="/ppt/media/image26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1B2-41DC-4E80-ADE7-763B6844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99B-4F61-484F-86B2-C85E1B5E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A6D-CFEC-4A4E-ACFA-D10A2772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B3E-71F0-4CE0-9584-0B5C6C3E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807-8A36-4539-AFF5-DB8BA4CA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17B-236F-43F9-8D67-D9C6DE79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50A-7C49-405A-B027-2ED39888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B10-4599-44B9-877F-E8B65E10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363-DC7D-4069-BCC5-2B62D335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798-3751-4278-96D5-05A8524B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832B-A0E5-464A-B534-3A7FAC82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155-C21F-4CDC-B093-0C0A2E70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7CBD-E433-4955-881D-880AF7043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8.jpeg"/><Relationship Id="rId6" Type="http://schemas.openxmlformats.org/officeDocument/2006/relationships/image" Target="../media/image13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4.wmf"/><Relationship Id="rId2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wmf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jpe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por comput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. Cesar de P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pto. Ingeniería de Sistemas y Auto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da@autom.uva.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trol por comput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1840" y="38862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648320" y="3873600"/>
            <a:ext cx="44424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3886200"/>
            <a:ext cx="4442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99040" y="38862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870440" y="364464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3429000"/>
            <a:ext cx="596880" cy="216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32360"/>
            <a:ext cx="1054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38680" y="3429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3886200"/>
            <a:ext cx="68580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90920" y="4038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62520" y="4038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172200" y="3416400"/>
            <a:ext cx="0" cy="65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3429000"/>
            <a:ext cx="2133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52680" y="3809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426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2349360"/>
            <a:ext cx="609480" cy="60984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58128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26668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769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2666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89160" y="31608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mba centríf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4495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udalí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álv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3276720"/>
            <a:ext cx="1066680" cy="3045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981080" y="3998880"/>
            <a:ext cx="609840" cy="5335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4260960"/>
            <a:ext cx="942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114640" y="4515840"/>
            <a:ext cx="371520" cy="98280"/>
          </a:xfrm>
          <a:custGeom>
            <a:avLst/>
            <a:gdLst>
              <a:gd name="textAreaLeft" fmla="*/ 81720 w 371520"/>
              <a:gd name="textAreaRight" fmla="*/ 289800 w 371520"/>
              <a:gd name="textAreaTop" fmla="*/ 21600 h 98280"/>
              <a:gd name="textAreaBottom" fmla="*/ 76680 h 9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004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24382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464832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48320" y="24382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25909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800600" y="30477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800600" y="3124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276720" y="5257800"/>
                <a:ext cx="530532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t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828800" y="571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380360" y="765000"/>
            <a:ext cx="76176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55556E-006 C -0.06614 0.00069 -0.13281 -0.00533 -0.19861 0.0037 C -0.25 0.01064 -0.29965 0.03263 -0.35139 0.03958 C -0.36042 0.04374 -0.3691 0.04722 -0.3783 0.05046 C -0.38298 0.05462 -0.39028 0.05949 -0.39462 0.06481 C -0.41024 0.08356 -0.39844 0.07268 -0.40798 0.08101 C -0.41094 0.09282 -0.41319 0.10185 -0.41892 0.1118 C -0.42274 0.12638 -0.42812 0.14027 -0.43646 0.15138 C -0.43819 0.1581 -0.44548 0.16689 -0.44861 0.17291 C -0.44965 0.17476 -0.45139 0.17847 -0.45139 0.17847 C -0.45312 0.18587 -0.4566 0.19143 -0.45937 0.19814 E">
                                      <p:cBhvr>
                                        <p:cTn id="11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por comput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3124080"/>
            <a:ext cx="1600200" cy="6098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34290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342900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105520" y="464832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69040" y="4425840"/>
            <a:ext cx="444600" cy="444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67280" y="342900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03560" y="4952880"/>
            <a:ext cx="1572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48320" y="365760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075880" y="289548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-2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27432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-2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3048120"/>
            <a:ext cx="1663560" cy="825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34225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124080" y="3263400"/>
            <a:ext cx="6372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34225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3048120"/>
            <a:ext cx="901800" cy="825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5680" y="3422520"/>
            <a:ext cx="10670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483080" y="46418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81280" y="4267080"/>
            <a:ext cx="901800" cy="67320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892160" y="464184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898640" y="387360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33520" y="3422520"/>
            <a:ext cx="4442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82320" y="41641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4720" y="266688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28954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800600" y="44193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2362320"/>
            <a:ext cx="4572000" cy="297180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2880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dor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3200400"/>
            <a:ext cx="2919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13920" y="259092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5715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señales que recibe y procesa el ordenador son de naturaleza distinta: digitales y solo cambian en ciertos instantes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por comput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72200" y="2666880"/>
            <a:ext cx="1600200" cy="15242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772400" y="34290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153280" y="342900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5105520" y="464832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365760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52200" y="251460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19920" y="5029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-2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7432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-2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90720" y="3048120"/>
            <a:ext cx="1663560" cy="825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66880" y="34225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124080" y="3263400"/>
            <a:ext cx="6372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76720" y="34225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81280" y="3048120"/>
            <a:ext cx="901800" cy="825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95680" y="3422520"/>
            <a:ext cx="1676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483080" y="46418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267080"/>
            <a:ext cx="901800" cy="67320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892160" y="464184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898640" y="387360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33520" y="3422520"/>
            <a:ext cx="4442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182320" y="41641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4720" y="266688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28954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800600" y="43430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2362320"/>
            <a:ext cx="4572000" cy="297180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90720" y="55627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ordenador puede procesar múltiples laz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95680" y="36576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95680" y="3200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72400" y="32004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1880" y="320040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105160" y="441972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72400" y="36576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924680" y="36576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105160" y="487692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4952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x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por comput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ordenador opera con señales digitales y se conecta al proceso por medio de convertidores analógico digitales A/D y digital analógico D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odelos, algoritmos de control y comportamiento dinámico son de naturaleza diferente al caso de señales ana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funciones de regulación se realizan por software, lo que da una gran potencia y flex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 de diversos tipos de control, puede realizar otras fu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por Comput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54100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señales de planta van a armarios con convertidores A/D y D/A y son procesadas por uno o varios computadores en forma de tarjetas alojadas también en otros armario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14920" y="2276640"/>
            <a:ext cx="901800" cy="68256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16720" y="4221000"/>
            <a:ext cx="901440" cy="60192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05640" y="2611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4114800" cy="32097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364000" y="2060640"/>
            <a:ext cx="1440000" cy="2952720"/>
          </a:xfrm>
          <a:prstGeom prst="rect">
            <a:avLst/>
          </a:prstGeom>
          <a:gradFill rotWithShape="0">
            <a:gsLst>
              <a:gs pos="0">
                <a:srgbClr val="99ff33">
                  <a:alpha val="14117"/>
                </a:srgbClr>
              </a:gs>
              <a:gs pos="100000">
                <a:srgbClr val="467517">
                  <a:alpha val="14117"/>
                </a:srgbClr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05640" y="2755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Cloud"/>
          <p:cNvSpPr/>
          <p:nvPr/>
        </p:nvSpPr>
        <p:spPr>
          <a:xfrm>
            <a:off x="7308720" y="1916280"/>
            <a:ext cx="1314720" cy="324144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80360" y="3141720"/>
            <a:ext cx="12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88000" y="2492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16720" y="3284640"/>
            <a:ext cx="901440" cy="60156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8472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8472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292720" y="1916280"/>
            <a:ext cx="1436760" cy="32414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5148360" y="3500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588000" y="4508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48360" y="378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7524720" y="4149720"/>
            <a:ext cx="527040" cy="468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588000" y="46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7667640" y="2276640"/>
            <a:ext cx="504720" cy="73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588000" y="4365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3017880" cy="22636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trol por comput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070600" y="2262240"/>
            <a:ext cx="1390680" cy="1039680"/>
            <a:chOff x="5070600" y="2262240"/>
            <a:chExt cx="1390680" cy="103968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5070600" y="2262240"/>
              <a:ext cx="139068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3"/>
            <a:stretch/>
          </p:blipFill>
          <p:spPr>
            <a:xfrm>
              <a:off x="5511960" y="2351160"/>
              <a:ext cx="735120" cy="52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7370640" y="2664000"/>
            <a:ext cx="806400" cy="3412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 flipV="1">
            <a:off x="7812000" y="2923920"/>
            <a:ext cx="0" cy="2151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759800" y="5064120"/>
            <a:ext cx="0" cy="271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6383160" y="5170320"/>
            <a:ext cx="505080" cy="7383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4906800" y="5232240"/>
            <a:ext cx="862200" cy="3765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924440" y="5065560"/>
            <a:ext cx="2889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075280" y="5070240"/>
            <a:ext cx="0" cy="260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045120" y="5070600"/>
            <a:ext cx="0" cy="271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7"/>
          <a:stretch/>
        </p:blipFill>
        <p:spPr>
          <a:xfrm>
            <a:off x="5756400" y="5226120"/>
            <a:ext cx="527040" cy="4683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 flipV="1">
            <a:off x="6603840" y="5070600"/>
            <a:ext cx="0" cy="118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7054920" y="4206960"/>
            <a:ext cx="442800" cy="6271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9"/>
          <a:stretch/>
        </p:blipFill>
        <p:spPr>
          <a:xfrm>
            <a:off x="7648560" y="5249880"/>
            <a:ext cx="353880" cy="214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 flipH="1">
            <a:off x="7404120" y="4487760"/>
            <a:ext cx="419040" cy="1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0"/>
          <a:stretch/>
        </p:blipFill>
        <p:spPr>
          <a:xfrm>
            <a:off x="7007400" y="5208480"/>
            <a:ext cx="502920" cy="5508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 flipV="1">
            <a:off x="7213680" y="5070600"/>
            <a:ext cx="0" cy="118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59480" y="2816280"/>
            <a:ext cx="908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26920" y="1916280"/>
            <a:ext cx="36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potencia de cálculo del ordenador abre las puertas para una operación óptima del proceso y múltiples aplicaciones integ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ir las bases del modelado, análisis, proceso de señal, control, configuración y operación de procesos por medio de sistemas basados en ordenador  (Sistemas de control distribuido DC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41832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2286000"/>
            <a:ext cx="35053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ir el control avanzado de procesos basado en model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64120" y="2682720"/>
            <a:ext cx="765360" cy="2752920"/>
          </a:xfrm>
          <a:custGeom>
            <a:avLst/>
            <a:gdLst>
              <a:gd name="textAreaLeft" fmla="*/ 36360 w 765360"/>
              <a:gd name="textAreaRight" fmla="*/ 729000 w 765360"/>
              <a:gd name="textAreaTop" fmla="*/ 36360 h 2752920"/>
              <a:gd name="textAreaBottom" fmla="*/ 2716560 h 2752920"/>
            </a:gdLst>
            <a:ahLst/>
            <a:rect l="textAreaLeft" t="textAreaTop" r="textAreaRight" b="textAreaBottom"/>
            <a:pathLst>
              <a:path w="21600" h="77667">
                <a:moveTo>
                  <a:pt x="3534" y="0"/>
                </a:moveTo>
                <a:arcTo wR="3534" hR="3534" stAng="16200000" swAng="-5400000"/>
                <a:lnTo>
                  <a:pt x="0" y="74133"/>
                </a:lnTo>
                <a:arcTo wR="3534" hR="3534" stAng="10800000" swAng="-5400000"/>
                <a:lnTo>
                  <a:pt x="18066" y="77667"/>
                </a:lnTo>
                <a:arcTo wR="3534" hR="3534" stAng="5400000" swAng="-5400000"/>
                <a:lnTo>
                  <a:pt x="21600" y="3534"/>
                </a:lnTo>
                <a:arcTo wR="3534" hR="3534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27680" y="4822920"/>
            <a:ext cx="687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6210360" y="47466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10360" y="48229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5445000" y="5433480"/>
            <a:ext cx="1800" cy="4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45000" y="5664240"/>
            <a:ext cx="1070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515280" y="482292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286680" y="5051520"/>
            <a:ext cx="455400" cy="458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438960" y="520524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438600" y="528156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38960" y="5357880"/>
            <a:ext cx="534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438960" y="5205240"/>
            <a:ext cx="687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21640" y="528156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821280" y="535788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515280" y="5510160"/>
            <a:ext cx="1440" cy="1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99120" y="4363920"/>
            <a:ext cx="765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64120" y="4135320"/>
            <a:ext cx="533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5216400" y="4670280"/>
            <a:ext cx="611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54760" y="5129280"/>
            <a:ext cx="771480" cy="95040"/>
          </a:xfrm>
          <a:custGeom>
            <a:avLst/>
            <a:gdLst/>
            <a:ahLst/>
            <a:rect l="l" t="t" r="r" b="b"/>
            <a:pathLst>
              <a:path w="486" h="60">
                <a:moveTo>
                  <a:pt x="5" y="48"/>
                </a:moveTo>
                <a:lnTo>
                  <a:pt x="0" y="36"/>
                </a:lnTo>
                <a:lnTo>
                  <a:pt x="11" y="36"/>
                </a:lnTo>
                <a:lnTo>
                  <a:pt x="22" y="36"/>
                </a:lnTo>
                <a:lnTo>
                  <a:pt x="22" y="48"/>
                </a:lnTo>
                <a:lnTo>
                  <a:pt x="33" y="48"/>
                </a:lnTo>
                <a:lnTo>
                  <a:pt x="45" y="48"/>
                </a:lnTo>
                <a:lnTo>
                  <a:pt x="56" y="48"/>
                </a:lnTo>
                <a:lnTo>
                  <a:pt x="67" y="48"/>
                </a:lnTo>
                <a:lnTo>
                  <a:pt x="79" y="60"/>
                </a:lnTo>
                <a:lnTo>
                  <a:pt x="90" y="60"/>
                </a:lnTo>
                <a:lnTo>
                  <a:pt x="90" y="48"/>
                </a:lnTo>
                <a:lnTo>
                  <a:pt x="101" y="48"/>
                </a:lnTo>
                <a:lnTo>
                  <a:pt x="113" y="48"/>
                </a:lnTo>
                <a:lnTo>
                  <a:pt x="113" y="36"/>
                </a:lnTo>
                <a:lnTo>
                  <a:pt x="124" y="36"/>
                </a:lnTo>
                <a:lnTo>
                  <a:pt x="135" y="36"/>
                </a:lnTo>
                <a:lnTo>
                  <a:pt x="146" y="36"/>
                </a:lnTo>
                <a:lnTo>
                  <a:pt x="158" y="24"/>
                </a:lnTo>
                <a:lnTo>
                  <a:pt x="169" y="24"/>
                </a:lnTo>
                <a:lnTo>
                  <a:pt x="180" y="24"/>
                </a:lnTo>
                <a:lnTo>
                  <a:pt x="192" y="24"/>
                </a:lnTo>
                <a:lnTo>
                  <a:pt x="203" y="24"/>
                </a:lnTo>
                <a:lnTo>
                  <a:pt x="214" y="24"/>
                </a:lnTo>
                <a:lnTo>
                  <a:pt x="226" y="24"/>
                </a:lnTo>
                <a:lnTo>
                  <a:pt x="237" y="24"/>
                </a:lnTo>
                <a:lnTo>
                  <a:pt x="248" y="12"/>
                </a:lnTo>
                <a:lnTo>
                  <a:pt x="259" y="12"/>
                </a:lnTo>
                <a:lnTo>
                  <a:pt x="271" y="12"/>
                </a:lnTo>
                <a:lnTo>
                  <a:pt x="282" y="12"/>
                </a:lnTo>
                <a:lnTo>
                  <a:pt x="293" y="12"/>
                </a:lnTo>
                <a:lnTo>
                  <a:pt x="305" y="12"/>
                </a:lnTo>
                <a:lnTo>
                  <a:pt x="316" y="12"/>
                </a:lnTo>
                <a:lnTo>
                  <a:pt x="327" y="12"/>
                </a:lnTo>
                <a:lnTo>
                  <a:pt x="339" y="24"/>
                </a:lnTo>
                <a:lnTo>
                  <a:pt x="339" y="36"/>
                </a:lnTo>
                <a:lnTo>
                  <a:pt x="350" y="36"/>
                </a:lnTo>
                <a:lnTo>
                  <a:pt x="350" y="24"/>
                </a:lnTo>
                <a:lnTo>
                  <a:pt x="362" y="24"/>
                </a:lnTo>
                <a:lnTo>
                  <a:pt x="362" y="36"/>
                </a:lnTo>
                <a:lnTo>
                  <a:pt x="373" y="36"/>
                </a:lnTo>
                <a:lnTo>
                  <a:pt x="385" y="36"/>
                </a:lnTo>
                <a:lnTo>
                  <a:pt x="396" y="36"/>
                </a:lnTo>
                <a:lnTo>
                  <a:pt x="407" y="24"/>
                </a:lnTo>
                <a:lnTo>
                  <a:pt x="419" y="24"/>
                </a:lnTo>
                <a:lnTo>
                  <a:pt x="430" y="24"/>
                </a:lnTo>
                <a:lnTo>
                  <a:pt x="441" y="24"/>
                </a:lnTo>
                <a:lnTo>
                  <a:pt x="453" y="24"/>
                </a:lnTo>
                <a:lnTo>
                  <a:pt x="464" y="24"/>
                </a:lnTo>
                <a:lnTo>
                  <a:pt x="464" y="12"/>
                </a:lnTo>
                <a:lnTo>
                  <a:pt x="464" y="24"/>
                </a:lnTo>
                <a:lnTo>
                  <a:pt x="464" y="12"/>
                </a:lnTo>
                <a:lnTo>
                  <a:pt x="475" y="12"/>
                </a:lnTo>
                <a:lnTo>
                  <a:pt x="486" y="12"/>
                </a:lnTo>
                <a:lnTo>
                  <a:pt x="45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10360" y="5586480"/>
            <a:ext cx="7632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6210360" y="566424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375080" y="5205240"/>
            <a:ext cx="304920" cy="303480"/>
            <a:chOff x="4375080" y="5205240"/>
            <a:chExt cx="304920" cy="303480"/>
          </a:xfrm>
        </p:grpSpPr>
        <p:sp>
          <p:nvSpPr>
            <p:cNvPr id="475" name=""/>
            <p:cNvSpPr/>
            <p:nvPr/>
          </p:nvSpPr>
          <p:spPr>
            <a:xfrm>
              <a:off x="4375080" y="5205240"/>
              <a:ext cx="304920" cy="303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58600" y="528948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stem"/>
                </a:rPr>
                <a:t>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681440" y="5357880"/>
            <a:ext cx="3826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529160" y="5510160"/>
            <a:ext cx="1440" cy="5349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4833720" y="428760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4833720" y="436392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180040" y="5931000"/>
            <a:ext cx="303120" cy="243720"/>
            <a:chOff x="5180040" y="5931000"/>
            <a:chExt cx="303120" cy="243720"/>
          </a:xfrm>
        </p:grpSpPr>
        <p:sp>
          <p:nvSpPr>
            <p:cNvPr id="482" name=""/>
            <p:cNvSpPr/>
            <p:nvPr/>
          </p:nvSpPr>
          <p:spPr>
            <a:xfrm>
              <a:off x="5180040" y="5932800"/>
              <a:ext cx="243720" cy="2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56" y="21599"/>
                  </a:moveTo>
                  <a:arcTo wR="10800" hR="10800" stAng="5445898" swAng="540186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56" y="21599"/>
                  </a:moveTo>
                  <a:arcTo wR="10800" hR="10800" stAng="5445898" swAng="5401867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5361120" y="5931000"/>
              <a:ext cx="12204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5360760" y="5931000"/>
              <a:ext cx="122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61120" y="5931000"/>
              <a:ext cx="12204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61120" y="6157800"/>
              <a:ext cx="122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00640" y="6045120"/>
              <a:ext cx="122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81480" y="5931000"/>
              <a:ext cx="2408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5932" swAng="53112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5932" swAng="5311284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80040" y="6037200"/>
              <a:ext cx="117360" cy="14400"/>
            </a:xfrm>
            <a:prstGeom prst="roundRect">
              <a:avLst>
                <a:gd name="adj" fmla="val 423528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4529160" y="6045120"/>
            <a:ext cx="6112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45000" y="61992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45000" y="627516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5368680" y="627516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03720" y="5357880"/>
            <a:ext cx="1713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56600" y="5205240"/>
            <a:ext cx="534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7661160" y="4650840"/>
            <a:ext cx="1800" cy="535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7432200" y="4670280"/>
            <a:ext cx="2286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107120" y="4497480"/>
            <a:ext cx="304920" cy="304560"/>
            <a:chOff x="7107120" y="4497480"/>
            <a:chExt cx="304920" cy="304560"/>
          </a:xfrm>
        </p:grpSpPr>
        <p:sp>
          <p:nvSpPr>
            <p:cNvPr id="499" name=""/>
            <p:cNvSpPr/>
            <p:nvPr/>
          </p:nvSpPr>
          <p:spPr>
            <a:xfrm>
              <a:off x="7107120" y="44974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190640" y="458316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stem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7126200" y="4975200"/>
            <a:ext cx="228600" cy="24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60"/>
                </a:moveTo>
                <a:arcTo wR="10800" hR="10800" stAng="-10755356" swAng="5307612"/>
                <a:lnTo>
                  <a:pt x="10800" y="10800"/>
                </a:lnTo>
                <a:close/>
              </a:path>
              <a:path fill="none" w="21600" h="21600">
                <a:moveTo>
                  <a:pt x="1" y="10660"/>
                </a:moveTo>
                <a:arcTo wR="10800" hR="10800" stAng="-10755356" swAng="5307612"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126200" y="5157720"/>
            <a:ext cx="228600" cy="1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7354800" y="5157720"/>
            <a:ext cx="1800" cy="1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125840" y="5157720"/>
            <a:ext cx="228600" cy="1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126200" y="5157720"/>
            <a:ext cx="1800" cy="12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5095800"/>
            <a:ext cx="180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112160" y="4975200"/>
            <a:ext cx="24408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1" y="1"/>
                </a:moveTo>
                <a:arcTo wR="10800" hR="10800" stAng="-5444355" swAng="5399422"/>
                <a:lnTo>
                  <a:pt x="10800" y="10800"/>
                </a:lnTo>
                <a:close/>
              </a:path>
              <a:path fill="none" w="21600" h="21600">
                <a:moveTo>
                  <a:pt x="10661" y="1"/>
                </a:moveTo>
                <a:arcTo wR="10800" hR="10800" stAng="-5444355" swAng="5399422"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232760" y="4975200"/>
            <a:ext cx="14040" cy="117360"/>
          </a:xfrm>
          <a:custGeom>
            <a:avLst/>
            <a:gdLst/>
            <a:ahLst/>
            <a:rect l="l" t="t" r="r" b="b"/>
            <a:pathLst>
              <a:path w="21600" h="176580">
                <a:moveTo>
                  <a:pt x="91482" y="0"/>
                </a:moveTo>
                <a:arcTo wR="91482" hR="91482" stAng="16200000" swAng="-5400000"/>
                <a:lnTo>
                  <a:pt x="0" y="85098"/>
                </a:lnTo>
                <a:arcTo wR="91482" hR="91482" stAng="10800000" swAng="-5400000"/>
                <a:lnTo>
                  <a:pt x="-69882" y="176580"/>
                </a:lnTo>
                <a:arcTo wR="91482" hR="91482" stAng="5400000" swAng="-5400000"/>
                <a:lnTo>
                  <a:pt x="21600" y="91482"/>
                </a:lnTo>
                <a:arcTo wR="91482" hR="91482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40680" y="4822920"/>
            <a:ext cx="1440" cy="133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27680" y="4746600"/>
            <a:ext cx="2286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056280" y="4516200"/>
            <a:ext cx="1800" cy="2300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904000" y="4287960"/>
            <a:ext cx="306360" cy="228600"/>
            <a:chOff x="5904000" y="4287960"/>
            <a:chExt cx="306360" cy="228600"/>
          </a:xfrm>
        </p:grpSpPr>
        <p:sp>
          <p:nvSpPr>
            <p:cNvPr id="513" name=""/>
            <p:cNvSpPr/>
            <p:nvPr/>
          </p:nvSpPr>
          <p:spPr>
            <a:xfrm>
              <a:off x="5904000" y="4287960"/>
              <a:ext cx="30636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81760" y="4295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stem"/>
                </a:rPr>
                <a:t>T 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 flipV="1">
            <a:off x="5445000" y="2147760"/>
            <a:ext cx="1800" cy="53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45000" y="222408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445000" y="2071440"/>
            <a:ext cx="18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368680" y="207180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45000" y="207180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445000" y="2071800"/>
            <a:ext cx="1222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05400" y="3065400"/>
            <a:ext cx="1852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5292720" y="3600360"/>
            <a:ext cx="534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591240" y="2071800"/>
            <a:ext cx="230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05400" y="3065400"/>
            <a:ext cx="534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591240" y="3081240"/>
            <a:ext cx="1800" cy="5349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362280" y="3597120"/>
            <a:ext cx="2286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6419880" y="3463920"/>
            <a:ext cx="303120" cy="304920"/>
            <a:chOff x="6419880" y="3463920"/>
            <a:chExt cx="303120" cy="304920"/>
          </a:xfrm>
        </p:grpSpPr>
        <p:sp>
          <p:nvSpPr>
            <p:cNvPr id="528" name=""/>
            <p:cNvSpPr/>
            <p:nvPr/>
          </p:nvSpPr>
          <p:spPr>
            <a:xfrm>
              <a:off x="6419880" y="3463920"/>
              <a:ext cx="30312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503400" y="349092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stem"/>
                </a:rPr>
                <a:t>F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6056280" y="3049560"/>
            <a:ext cx="228600" cy="24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7" y="21599"/>
                </a:moveTo>
                <a:arcTo wR="10800" hR="10800" stAng="5448698" swAng="5351302"/>
                <a:lnTo>
                  <a:pt x="10800" y="10800"/>
                </a:lnTo>
                <a:close/>
              </a:path>
              <a:path fill="none" w="21600" h="21600">
                <a:moveTo>
                  <a:pt x="10647" y="21599"/>
                </a:moveTo>
                <a:arcTo wR="10800" hR="10800" stAng="5448698" swAng="5351302"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056280" y="2986200"/>
            <a:ext cx="22860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84880" y="2986200"/>
            <a:ext cx="180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6055920" y="2986200"/>
            <a:ext cx="22860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6056280" y="2986200"/>
            <a:ext cx="180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6168960" y="3047760"/>
            <a:ext cx="1800" cy="12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41160" y="3048120"/>
            <a:ext cx="24660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9" y="10658"/>
                </a:moveTo>
                <a:arcTo wR="10800" hR="10800" stAng="-45227" swAng="5490470"/>
                <a:lnTo>
                  <a:pt x="10800" y="10800"/>
                </a:lnTo>
                <a:close/>
              </a:path>
              <a:path fill="none" w="21600" h="21600">
                <a:moveTo>
                  <a:pt x="21599" y="10658"/>
                </a:moveTo>
                <a:arcTo wR="10800" hR="10800" stAng="-45227" swAng="5490470"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162840" y="3173400"/>
            <a:ext cx="15840" cy="117360"/>
          </a:xfrm>
          <a:custGeom>
            <a:avLst/>
            <a:gdLst/>
            <a:ahLst/>
            <a:rect l="l" t="t" r="r" b="b"/>
            <a:pathLst>
              <a:path w="21600" h="156960">
                <a:moveTo>
                  <a:pt x="91482" y="0"/>
                </a:moveTo>
                <a:arcTo wR="91482" hR="91482" stAng="16200000" swAng="-5400000"/>
                <a:lnTo>
                  <a:pt x="0" y="65478"/>
                </a:lnTo>
                <a:arcTo wR="91482" hR="91482" stAng="10800000" swAng="-5400000"/>
                <a:lnTo>
                  <a:pt x="-69882" y="156960"/>
                </a:lnTo>
                <a:arcTo wR="91482" hR="91482" stAng="5400000" swAng="-5400000"/>
                <a:lnTo>
                  <a:pt x="21600" y="91482"/>
                </a:lnTo>
                <a:arcTo wR="91482" hR="91482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827680" y="3061800"/>
            <a:ext cx="219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821280" y="2071800"/>
            <a:ext cx="152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73920" y="1841400"/>
            <a:ext cx="458640" cy="45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7049880" y="1917720"/>
            <a:ext cx="75960" cy="1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050240" y="2071800"/>
            <a:ext cx="306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278840" y="2071800"/>
            <a:ext cx="777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78840" y="2224080"/>
            <a:ext cx="2300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6897240" y="16887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97600" y="168912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97600" y="168912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7202520" y="2300040"/>
            <a:ext cx="144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7202520" y="2452680"/>
            <a:ext cx="14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1640" y="2452680"/>
            <a:ext cx="838080" cy="304920"/>
          </a:xfrm>
          <a:prstGeom prst="roundRect">
            <a:avLst>
              <a:gd name="adj" fmla="val 3618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02520" y="275904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7202520" y="291132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7202520" y="2835000"/>
            <a:ext cx="1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02520" y="2835360"/>
            <a:ext cx="144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7202520" y="2987640"/>
            <a:ext cx="7632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7584840" y="2987640"/>
            <a:ext cx="1522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584840" y="30654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7126200" y="2987640"/>
            <a:ext cx="7632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8120160" y="2452680"/>
            <a:ext cx="303120" cy="304920"/>
            <a:chOff x="8120160" y="2452680"/>
            <a:chExt cx="303120" cy="304920"/>
          </a:xfrm>
        </p:grpSpPr>
        <p:sp>
          <p:nvSpPr>
            <p:cNvPr id="560" name=""/>
            <p:cNvSpPr/>
            <p:nvPr/>
          </p:nvSpPr>
          <p:spPr>
            <a:xfrm>
              <a:off x="8120160" y="2452680"/>
              <a:ext cx="30312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203320" y="253836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stem"/>
                </a:rPr>
                <a:t>L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7661160" y="2606760"/>
            <a:ext cx="459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272440" y="2759040"/>
            <a:ext cx="1440" cy="76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8142120" y="2835360"/>
            <a:ext cx="244800" cy="304560"/>
            <a:chOff x="8142120" y="2835360"/>
            <a:chExt cx="244800" cy="304560"/>
          </a:xfrm>
        </p:grpSpPr>
        <p:sp>
          <p:nvSpPr>
            <p:cNvPr id="565" name=""/>
            <p:cNvSpPr/>
            <p:nvPr/>
          </p:nvSpPr>
          <p:spPr>
            <a:xfrm>
              <a:off x="8159760" y="2835360"/>
              <a:ext cx="22500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1"/>
                  </a:moveTo>
                  <a:arcTo wR="10800" hR="10800" stAng="-10755667" swAng="5307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1"/>
                  </a:moveTo>
                  <a:arcTo wR="10800" hR="10800" stAng="-10755667" swAng="5307589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58320" y="3017880"/>
              <a:ext cx="22680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8385120" y="3017520"/>
              <a:ext cx="180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8158320" y="3017880"/>
              <a:ext cx="22680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158320" y="3017880"/>
              <a:ext cx="14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271000" y="2955960"/>
              <a:ext cx="14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42120" y="2835360"/>
              <a:ext cx="2444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553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55356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64520" y="2835360"/>
              <a:ext cx="14400" cy="117360"/>
            </a:xfrm>
            <a:custGeom>
              <a:avLst/>
              <a:gdLst/>
              <a:ahLst/>
              <a:rect l="l" t="t" r="r" b="b"/>
              <a:pathLst>
                <a:path w="21600" h="172273">
                  <a:moveTo>
                    <a:pt x="91482" y="0"/>
                  </a:moveTo>
                  <a:arcTo wR="91482" hR="91482" stAng="16200000" swAng="-5400000"/>
                  <a:lnTo>
                    <a:pt x="0" y="80791"/>
                  </a:lnTo>
                  <a:arcTo wR="91482" hR="91482" stAng="10800000" swAng="-5400000"/>
                  <a:lnTo>
                    <a:pt x="-69882" y="172273"/>
                  </a:lnTo>
                  <a:arcTo wR="91482" hR="91482" stAng="5400000" swAng="-5400000"/>
                  <a:lnTo>
                    <a:pt x="21600" y="91482"/>
                  </a:lnTo>
                  <a:arcTo wR="91482" hR="91482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8424720" y="3065400"/>
            <a:ext cx="306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263080" y="2300400"/>
            <a:ext cx="1440" cy="15228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6897600" y="2987640"/>
            <a:ext cx="7632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97600" y="30654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132240" y="3600360"/>
            <a:ext cx="30636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6170760" y="3293640"/>
            <a:ext cx="1440" cy="3063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904000" y="3753000"/>
            <a:ext cx="306360" cy="228600"/>
            <a:chOff x="5904000" y="3753000"/>
            <a:chExt cx="306360" cy="228600"/>
          </a:xfrm>
        </p:grpSpPr>
        <p:sp>
          <p:nvSpPr>
            <p:cNvPr id="580" name=""/>
            <p:cNvSpPr/>
            <p:nvPr/>
          </p:nvSpPr>
          <p:spPr>
            <a:xfrm>
              <a:off x="5904000" y="3753000"/>
              <a:ext cx="30636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81760" y="37800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stem"/>
                </a:rPr>
                <a:t>T 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5827680" y="3294000"/>
            <a:ext cx="2286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56280" y="3293640"/>
            <a:ext cx="1800" cy="4590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28400" y="3378240"/>
            <a:ext cx="15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System"/>
              </a:rPr>
              <a:t>q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337880" y="4295880"/>
            <a:ext cx="18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System"/>
              </a:rPr>
              <a:t>q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86960" y="4067280"/>
            <a:ext cx="9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stem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219720" y="3867120"/>
            <a:ext cx="1335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200640" y="4402080"/>
            <a:ext cx="13356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24040" y="3665520"/>
            <a:ext cx="14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System"/>
              </a:rPr>
              <a:t>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75240" y="4295880"/>
            <a:ext cx="18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System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System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86640" y="3848040"/>
            <a:ext cx="1106280" cy="42084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6362640" y="390528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362640" y="3981600"/>
            <a:ext cx="3049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362640" y="4287600"/>
            <a:ext cx="1800" cy="7596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6362640" y="4211640"/>
            <a:ext cx="1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62640" y="4211640"/>
            <a:ext cx="3049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6591240" y="39052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6591240" y="3981600"/>
            <a:ext cx="7632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6591240" y="413532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6591240" y="421164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278840" y="4287960"/>
            <a:ext cx="1440" cy="228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278840" y="4363920"/>
            <a:ext cx="77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7202520" y="436392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050240" y="444024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743880" y="3600360"/>
            <a:ext cx="4586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02520" y="3600360"/>
            <a:ext cx="1440" cy="2286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7126200" y="3676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202520" y="36766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813800" y="3905280"/>
            <a:ext cx="5349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7813800" y="3828960"/>
            <a:ext cx="153720" cy="76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813800" y="3905280"/>
            <a:ext cx="153720" cy="76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7813800" y="4135320"/>
            <a:ext cx="534960" cy="152640"/>
            <a:chOff x="7813800" y="4135320"/>
            <a:chExt cx="534960" cy="152640"/>
          </a:xfrm>
        </p:grpSpPr>
        <p:sp>
          <p:nvSpPr>
            <p:cNvPr id="613" name=""/>
            <p:cNvSpPr/>
            <p:nvPr/>
          </p:nvSpPr>
          <p:spPr>
            <a:xfrm>
              <a:off x="7813800" y="4211640"/>
              <a:ext cx="5349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7813800" y="4135320"/>
              <a:ext cx="153720" cy="763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813800" y="4211640"/>
              <a:ext cx="153720" cy="763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8175240" y="3684600"/>
            <a:ext cx="4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System"/>
              </a:rPr>
              <a:t>Ref 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174520" y="3990960"/>
            <a:ext cx="42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System"/>
              </a:rPr>
              <a:t>Ref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023960" y="399096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stem"/>
              </a:rPr>
              <a:t>MB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4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1292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1374840" y="1728720"/>
          <a:ext cx="20620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1728720"/>
                    <a:ext cx="2062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"/>
          <p:cNvSpPr/>
          <p:nvPr/>
        </p:nvSpPr>
        <p:spPr>
          <a:xfrm>
            <a:off x="3955680" y="2133720"/>
            <a:ext cx="4236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poder aborda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un nivel, los niveles inf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 de funcionar correctam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14080" y="3657600"/>
            <a:ext cx="3768840" cy="155196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oncreto, la optim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ómica exige que el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control func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cuad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predi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006880" y="2666880"/>
            <a:ext cx="1820880" cy="427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05120" y="2666880"/>
            <a:ext cx="1814400" cy="427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timiz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840360" y="2897280"/>
            <a:ext cx="1257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20120" y="2895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666880" y="3093840"/>
            <a:ext cx="7920" cy="48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00240" y="2897280"/>
            <a:ext cx="691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846760" y="22604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6200" y="2660760"/>
            <a:ext cx="352440" cy="168120"/>
          </a:xfrm>
          <a:custGeom>
            <a:avLst/>
            <a:gdLst>
              <a:gd name="textAreaLeft" fmla="*/ 12960 w 352440"/>
              <a:gd name="textAreaRight" fmla="*/ 339480 w 352440"/>
              <a:gd name="textAreaTop" fmla="*/ 6120 h 168120"/>
              <a:gd name="textAreaBottom" fmla="*/ 134280 h 168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094040" y="24703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10400" y="2660760"/>
            <a:ext cx="49392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059520" y="2320920"/>
            <a:ext cx="563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943600" y="1981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62520" y="3352680"/>
            <a:ext cx="1609560" cy="427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d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64080" y="2928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562720" y="3581280"/>
            <a:ext cx="2070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2666880" y="358128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26000" y="292248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21880" y="3282840"/>
            <a:ext cx="880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t+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295280" y="441972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multi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do en modelos diná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por Comput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º Curso de Ingeniería Quí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quisito previo:    Control e Instru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º cuatrimestre        6 crédito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horas teoria           Lun, Mart, Mierc, 12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hora  laboratorio   Miercoles   4-5 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minario / Lab  del Dpt. Ing. de 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f. Cesar de Prada / Smaranda Cris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4724280" cy="311472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762120" y="3048120"/>
            <a:ext cx="259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ender técnicas de estimación de modelos dinámicos a partir de datos de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ado y análisis de sistemas muestr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digi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o de señ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cación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Avanzado (Predictiv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800600" y="1828800"/>
            <a:ext cx="3657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igital de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ción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O,  H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yecto de control avanzado de un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741240" y="2149560"/>
            <a:ext cx="385632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7960" y="1890720"/>
            <a:ext cx="8646120" cy="44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istemas controlados por computador., Astrom, Wittenmark, Edt. Paraninfo, 198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igital control of dynamic systems., Franklin, Powell, Workman, Edt Addison Wesley, 199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ppenheim A, et al. Señales y sistemas, Prentice Hall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jung, L. System Identification, Prentice Hall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jung, L. , Glad J. Modelling of dynamical Systems, Prentice Hall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Camacho E. F., Bordons C., Model predictive control in the process industry, Springer Verlag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ichalet J. Pratique de la commande predictive, Hermes, 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cumentación adicional en página web: www.isa.cie.uva.es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p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por comput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si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a prevista una visita a una instalación industrial  en cooperación con la sección de estudiantes de la ISA (Refinería de Petronor) 3 de Mayo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ferencias / Simu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"Advanced Control Systems" a cargo del profesor Robin de Keyser, Universidad de Gante, Bélgica,  12 de Abril de 2005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strumentación industrial” a cargo de Enrique Blanco, CERN, Ginebra.  8 de Abril, 20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fic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amen  (problemas + cuestiones, teoría) 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yecto práctico 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tajas de control por computa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Flexi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mbios de estructura o algoritmos sin recab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cilidad de crecimiento y rapidez en los cam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Mejor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ráficos, esquemáticos, históricos, variables calcul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Mejor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sión, métodos, estructuras, secuencias, integ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Gestión de ala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ñalización, niveles, tratamiento lógico, integ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Mas funcion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adística, comunicaciones, optimización, 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sidad de Sist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00600" y="2651040"/>
            <a:ext cx="523800" cy="1168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330880" y="3065400"/>
            <a:ext cx="928800" cy="75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5299200" y="2395440"/>
            <a:ext cx="96048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262560" y="2400480"/>
            <a:ext cx="0" cy="66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4800600" y="2395440"/>
            <a:ext cx="108432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91040" y="2397240"/>
            <a:ext cx="36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4952880" y="3030120"/>
            <a:ext cx="0" cy="38268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5016600" y="2945880"/>
            <a:ext cx="0" cy="466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24440" y="3514680"/>
            <a:ext cx="18252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173560" y="3209760"/>
            <a:ext cx="120600" cy="795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173560" y="3041640"/>
            <a:ext cx="120600" cy="795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16200000">
            <a:off x="4943520" y="3609720"/>
            <a:ext cx="50760" cy="8892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rot="16200000">
            <a:off x="4942440" y="3665520"/>
            <a:ext cx="50760" cy="8892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820760" y="2671920"/>
            <a:ext cx="51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SP  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PV 45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73560" y="3629160"/>
            <a:ext cx="88920" cy="792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262560" y="2239920"/>
            <a:ext cx="613080" cy="325440"/>
          </a:xfrm>
          <a:custGeom>
            <a:avLst/>
            <a:gdLst/>
            <a:ahLst/>
            <a:rect l="l" t="t" r="r" b="b"/>
            <a:pathLst>
              <a:path w="946" h="559">
                <a:moveTo>
                  <a:pt x="0" y="558"/>
                </a:moveTo>
                <a:lnTo>
                  <a:pt x="45" y="540"/>
                </a:lnTo>
                <a:lnTo>
                  <a:pt x="105" y="510"/>
                </a:lnTo>
                <a:lnTo>
                  <a:pt x="165" y="480"/>
                </a:lnTo>
                <a:lnTo>
                  <a:pt x="225" y="480"/>
                </a:lnTo>
                <a:lnTo>
                  <a:pt x="285" y="450"/>
                </a:lnTo>
                <a:lnTo>
                  <a:pt x="345" y="420"/>
                </a:lnTo>
                <a:lnTo>
                  <a:pt x="405" y="360"/>
                </a:lnTo>
                <a:lnTo>
                  <a:pt x="465" y="330"/>
                </a:lnTo>
                <a:lnTo>
                  <a:pt x="495" y="270"/>
                </a:lnTo>
                <a:lnTo>
                  <a:pt x="555" y="210"/>
                </a:lnTo>
                <a:lnTo>
                  <a:pt x="585" y="150"/>
                </a:lnTo>
                <a:lnTo>
                  <a:pt x="675" y="90"/>
                </a:lnTo>
                <a:lnTo>
                  <a:pt x="735" y="30"/>
                </a:lnTo>
                <a:lnTo>
                  <a:pt x="795" y="30"/>
                </a:lnTo>
                <a:lnTo>
                  <a:pt x="855" y="30"/>
                </a:lnTo>
                <a:lnTo>
                  <a:pt x="915" y="60"/>
                </a:lnTo>
                <a:lnTo>
                  <a:pt x="94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2286000"/>
            <a:ext cx="612720" cy="324000"/>
          </a:xfrm>
          <a:custGeom>
            <a:avLst/>
            <a:gdLst/>
            <a:ahLst/>
            <a:rect l="l" t="t" r="r" b="b"/>
            <a:pathLst>
              <a:path w="946" h="559">
                <a:moveTo>
                  <a:pt x="0" y="558"/>
                </a:moveTo>
                <a:lnTo>
                  <a:pt x="45" y="540"/>
                </a:lnTo>
                <a:lnTo>
                  <a:pt x="105" y="510"/>
                </a:lnTo>
                <a:lnTo>
                  <a:pt x="165" y="480"/>
                </a:lnTo>
                <a:lnTo>
                  <a:pt x="225" y="480"/>
                </a:lnTo>
                <a:lnTo>
                  <a:pt x="285" y="450"/>
                </a:lnTo>
                <a:lnTo>
                  <a:pt x="345" y="420"/>
                </a:lnTo>
                <a:lnTo>
                  <a:pt x="405" y="360"/>
                </a:lnTo>
                <a:lnTo>
                  <a:pt x="465" y="330"/>
                </a:lnTo>
                <a:lnTo>
                  <a:pt x="495" y="270"/>
                </a:lnTo>
                <a:lnTo>
                  <a:pt x="555" y="210"/>
                </a:lnTo>
                <a:lnTo>
                  <a:pt x="585" y="150"/>
                </a:lnTo>
                <a:lnTo>
                  <a:pt x="675" y="90"/>
                </a:lnTo>
                <a:lnTo>
                  <a:pt x="735" y="30"/>
                </a:lnTo>
                <a:lnTo>
                  <a:pt x="795" y="30"/>
                </a:lnTo>
                <a:lnTo>
                  <a:pt x="855" y="30"/>
                </a:lnTo>
                <a:lnTo>
                  <a:pt x="915" y="60"/>
                </a:lnTo>
                <a:lnTo>
                  <a:pt x="94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62560" y="2871720"/>
            <a:ext cx="633600" cy="6840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8520" y="2895480"/>
            <a:ext cx="633240" cy="6696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909120" y="2057400"/>
            <a:ext cx="1723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20 mA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940800" y="2755800"/>
            <a:ext cx="1571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20 mA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219320" y="27432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dores industriales de lazo  (Exact, Sipart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43600" y="2819520"/>
            <a:ext cx="304920" cy="30456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43600" y="2438280"/>
            <a:ext cx="304920" cy="30492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4120" y="3276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proces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3505320" y="4191120"/>
          <a:ext cx="266220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191120"/>
                    <a:ext cx="266220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"/>
          <p:cNvSpPr/>
          <p:nvPr/>
        </p:nvSpPr>
        <p:spPr>
          <a:xfrm>
            <a:off x="5715000" y="5105520"/>
            <a:ext cx="609480" cy="30456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/A, A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24480" y="4819680"/>
            <a:ext cx="612720" cy="325440"/>
          </a:xfrm>
          <a:custGeom>
            <a:avLst/>
            <a:gdLst/>
            <a:ahLst/>
            <a:rect l="l" t="t" r="r" b="b"/>
            <a:pathLst>
              <a:path w="946" h="559">
                <a:moveTo>
                  <a:pt x="0" y="558"/>
                </a:moveTo>
                <a:lnTo>
                  <a:pt x="45" y="540"/>
                </a:lnTo>
                <a:lnTo>
                  <a:pt x="105" y="510"/>
                </a:lnTo>
                <a:lnTo>
                  <a:pt x="165" y="480"/>
                </a:lnTo>
                <a:lnTo>
                  <a:pt x="225" y="480"/>
                </a:lnTo>
                <a:lnTo>
                  <a:pt x="285" y="450"/>
                </a:lnTo>
                <a:lnTo>
                  <a:pt x="345" y="420"/>
                </a:lnTo>
                <a:lnTo>
                  <a:pt x="405" y="360"/>
                </a:lnTo>
                <a:lnTo>
                  <a:pt x="465" y="330"/>
                </a:lnTo>
                <a:lnTo>
                  <a:pt x="495" y="270"/>
                </a:lnTo>
                <a:lnTo>
                  <a:pt x="555" y="210"/>
                </a:lnTo>
                <a:lnTo>
                  <a:pt x="585" y="150"/>
                </a:lnTo>
                <a:lnTo>
                  <a:pt x="675" y="90"/>
                </a:lnTo>
                <a:lnTo>
                  <a:pt x="735" y="30"/>
                </a:lnTo>
                <a:lnTo>
                  <a:pt x="795" y="30"/>
                </a:lnTo>
                <a:lnTo>
                  <a:pt x="855" y="30"/>
                </a:lnTo>
                <a:lnTo>
                  <a:pt x="915" y="60"/>
                </a:lnTo>
                <a:lnTo>
                  <a:pt x="94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324480" y="4876920"/>
            <a:ext cx="612720" cy="323640"/>
          </a:xfrm>
          <a:custGeom>
            <a:avLst/>
            <a:gdLst/>
            <a:ahLst/>
            <a:rect l="l" t="t" r="r" b="b"/>
            <a:pathLst>
              <a:path w="946" h="559">
                <a:moveTo>
                  <a:pt x="0" y="558"/>
                </a:moveTo>
                <a:lnTo>
                  <a:pt x="45" y="540"/>
                </a:lnTo>
                <a:lnTo>
                  <a:pt x="105" y="510"/>
                </a:lnTo>
                <a:lnTo>
                  <a:pt x="165" y="480"/>
                </a:lnTo>
                <a:lnTo>
                  <a:pt x="225" y="480"/>
                </a:lnTo>
                <a:lnTo>
                  <a:pt x="285" y="450"/>
                </a:lnTo>
                <a:lnTo>
                  <a:pt x="345" y="420"/>
                </a:lnTo>
                <a:lnTo>
                  <a:pt x="405" y="360"/>
                </a:lnTo>
                <a:lnTo>
                  <a:pt x="465" y="330"/>
                </a:lnTo>
                <a:lnTo>
                  <a:pt x="495" y="270"/>
                </a:lnTo>
                <a:lnTo>
                  <a:pt x="555" y="210"/>
                </a:lnTo>
                <a:lnTo>
                  <a:pt x="585" y="150"/>
                </a:lnTo>
                <a:lnTo>
                  <a:pt x="675" y="90"/>
                </a:lnTo>
                <a:lnTo>
                  <a:pt x="735" y="30"/>
                </a:lnTo>
                <a:lnTo>
                  <a:pt x="795" y="30"/>
                </a:lnTo>
                <a:lnTo>
                  <a:pt x="855" y="30"/>
                </a:lnTo>
                <a:lnTo>
                  <a:pt x="915" y="60"/>
                </a:lnTo>
                <a:lnTo>
                  <a:pt x="94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324480" y="5353200"/>
            <a:ext cx="633600" cy="6804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324480" y="5410080"/>
            <a:ext cx="633600" cy="6696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85520" y="4495680"/>
            <a:ext cx="1918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20 mA a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117200" y="5194440"/>
            <a:ext cx="1918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20 mA a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48006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mediante PC  (Regula,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ador dig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533520" y="1339920"/>
            <a:ext cx="777240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sidad de Sist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048120" cy="210672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990720" y="198108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tómatas Programables (PLC) Secuencias y funciones lógicas   (S7, Allan Bradley,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6248520" y="4572000"/>
          <a:ext cx="714240" cy="5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4572000"/>
                    <a:ext cx="7142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"/>
          <p:cNvSpPr/>
          <p:nvPr/>
        </p:nvSpPr>
        <p:spPr>
          <a:xfrm>
            <a:off x="3809880" y="556272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4114800" y="5943600"/>
            <a:ext cx="838080" cy="57960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5"/>
          <a:stretch/>
        </p:blipFill>
        <p:spPr>
          <a:xfrm>
            <a:off x="5257800" y="5943600"/>
            <a:ext cx="838080" cy="579600"/>
          </a:xfrm>
          <a:prstGeom prst="rect">
            <a:avLst/>
          </a:prstGeom>
          <a:ln w="0">
            <a:noFill/>
          </a:ln>
        </p:spPr>
      </p:pic>
      <p:grpSp>
        <p:nvGrpSpPr>
          <p:cNvPr id="706" name=""/>
          <p:cNvGrpSpPr/>
          <p:nvPr/>
        </p:nvGrpSpPr>
        <p:grpSpPr>
          <a:xfrm>
            <a:off x="6553080" y="5943600"/>
            <a:ext cx="754200" cy="500040"/>
            <a:chOff x="6553080" y="5943600"/>
            <a:chExt cx="754200" cy="500040"/>
          </a:xfrm>
        </p:grpSpPr>
        <p:sp>
          <p:nvSpPr>
            <p:cNvPr id="707" name=""/>
            <p:cNvSpPr/>
            <p:nvPr/>
          </p:nvSpPr>
          <p:spPr>
            <a:xfrm>
              <a:off x="6553080" y="6032880"/>
              <a:ext cx="270000" cy="408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6826680" y="6177960"/>
              <a:ext cx="478800" cy="26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6810120" y="5943600"/>
              <a:ext cx="49536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307280" y="594504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553080" y="5943600"/>
              <a:ext cx="55944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15400" y="5943960"/>
              <a:ext cx="1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6631560" y="6165720"/>
              <a:ext cx="0" cy="13392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664320" y="6136200"/>
              <a:ext cx="0" cy="163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16800" y="6335280"/>
              <a:ext cx="9396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45320" y="6228360"/>
              <a:ext cx="61920" cy="27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45320" y="6169680"/>
              <a:ext cx="61920" cy="27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6200000">
              <a:off x="6630840" y="6360840"/>
              <a:ext cx="17640" cy="4572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rot="16200000">
              <a:off x="6629760" y="6380640"/>
              <a:ext cx="17640" cy="4572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62440" y="6040080"/>
              <a:ext cx="51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imes New Roman"/>
                </a:rPr>
                <a:t>SP  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imes New Roman"/>
                </a:rPr>
                <a:t>PV 45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45320" y="6375240"/>
              <a:ext cx="45720" cy="27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457200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1500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23888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662940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9480" y="42670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s SCADA 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pervision,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ntrol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d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a </a:t>
            </a: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quisition (Fix, InTouch, PI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05360" y="2620800"/>
            <a:ext cx="2133720" cy="325440"/>
          </a:xfrm>
          <a:custGeom>
            <a:avLst/>
            <a:gdLst/>
            <a:ahLst/>
            <a:rect l="l" t="t" r="r" b="b"/>
            <a:pathLst>
              <a:path w="946" h="559">
                <a:moveTo>
                  <a:pt x="0" y="558"/>
                </a:moveTo>
                <a:lnTo>
                  <a:pt x="45" y="540"/>
                </a:lnTo>
                <a:lnTo>
                  <a:pt x="105" y="510"/>
                </a:lnTo>
                <a:lnTo>
                  <a:pt x="165" y="480"/>
                </a:lnTo>
                <a:lnTo>
                  <a:pt x="225" y="480"/>
                </a:lnTo>
                <a:lnTo>
                  <a:pt x="285" y="450"/>
                </a:lnTo>
                <a:lnTo>
                  <a:pt x="345" y="420"/>
                </a:lnTo>
                <a:lnTo>
                  <a:pt x="405" y="360"/>
                </a:lnTo>
                <a:lnTo>
                  <a:pt x="465" y="330"/>
                </a:lnTo>
                <a:lnTo>
                  <a:pt x="495" y="270"/>
                </a:lnTo>
                <a:lnTo>
                  <a:pt x="555" y="210"/>
                </a:lnTo>
                <a:lnTo>
                  <a:pt x="585" y="150"/>
                </a:lnTo>
                <a:lnTo>
                  <a:pt x="675" y="90"/>
                </a:lnTo>
                <a:lnTo>
                  <a:pt x="735" y="30"/>
                </a:lnTo>
                <a:lnTo>
                  <a:pt x="795" y="30"/>
                </a:lnTo>
                <a:lnTo>
                  <a:pt x="855" y="30"/>
                </a:lnTo>
                <a:lnTo>
                  <a:pt x="915" y="60"/>
                </a:lnTo>
                <a:lnTo>
                  <a:pt x="94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791320" y="2666880"/>
            <a:ext cx="2133360" cy="324000"/>
          </a:xfrm>
          <a:custGeom>
            <a:avLst/>
            <a:gdLst/>
            <a:ahLst/>
            <a:rect l="l" t="t" r="r" b="b"/>
            <a:pathLst>
              <a:path w="946" h="559">
                <a:moveTo>
                  <a:pt x="0" y="558"/>
                </a:moveTo>
                <a:lnTo>
                  <a:pt x="45" y="540"/>
                </a:lnTo>
                <a:lnTo>
                  <a:pt x="105" y="510"/>
                </a:lnTo>
                <a:lnTo>
                  <a:pt x="165" y="480"/>
                </a:lnTo>
                <a:lnTo>
                  <a:pt x="225" y="480"/>
                </a:lnTo>
                <a:lnTo>
                  <a:pt x="285" y="450"/>
                </a:lnTo>
                <a:lnTo>
                  <a:pt x="345" y="420"/>
                </a:lnTo>
                <a:lnTo>
                  <a:pt x="405" y="360"/>
                </a:lnTo>
                <a:lnTo>
                  <a:pt x="465" y="330"/>
                </a:lnTo>
                <a:lnTo>
                  <a:pt x="495" y="270"/>
                </a:lnTo>
                <a:lnTo>
                  <a:pt x="555" y="210"/>
                </a:lnTo>
                <a:lnTo>
                  <a:pt x="585" y="150"/>
                </a:lnTo>
                <a:lnTo>
                  <a:pt x="675" y="90"/>
                </a:lnTo>
                <a:lnTo>
                  <a:pt x="735" y="30"/>
                </a:lnTo>
                <a:lnTo>
                  <a:pt x="795" y="30"/>
                </a:lnTo>
                <a:lnTo>
                  <a:pt x="855" y="30"/>
                </a:lnTo>
                <a:lnTo>
                  <a:pt x="915" y="60"/>
                </a:lnTo>
                <a:lnTo>
                  <a:pt x="94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805360" y="2925720"/>
            <a:ext cx="2133720" cy="325440"/>
          </a:xfrm>
          <a:custGeom>
            <a:avLst/>
            <a:gdLst/>
            <a:ahLst/>
            <a:rect l="l" t="t" r="r" b="b"/>
            <a:pathLst>
              <a:path w="946" h="559">
                <a:moveTo>
                  <a:pt x="0" y="558"/>
                </a:moveTo>
                <a:lnTo>
                  <a:pt x="45" y="540"/>
                </a:lnTo>
                <a:lnTo>
                  <a:pt x="105" y="510"/>
                </a:lnTo>
                <a:lnTo>
                  <a:pt x="165" y="480"/>
                </a:lnTo>
                <a:lnTo>
                  <a:pt x="225" y="480"/>
                </a:lnTo>
                <a:lnTo>
                  <a:pt x="285" y="450"/>
                </a:lnTo>
                <a:lnTo>
                  <a:pt x="345" y="420"/>
                </a:lnTo>
                <a:lnTo>
                  <a:pt x="405" y="360"/>
                </a:lnTo>
                <a:lnTo>
                  <a:pt x="465" y="330"/>
                </a:lnTo>
                <a:lnTo>
                  <a:pt x="495" y="270"/>
                </a:lnTo>
                <a:lnTo>
                  <a:pt x="555" y="210"/>
                </a:lnTo>
                <a:lnTo>
                  <a:pt x="585" y="150"/>
                </a:lnTo>
                <a:lnTo>
                  <a:pt x="675" y="90"/>
                </a:lnTo>
                <a:lnTo>
                  <a:pt x="735" y="30"/>
                </a:lnTo>
                <a:lnTo>
                  <a:pt x="795" y="30"/>
                </a:lnTo>
                <a:lnTo>
                  <a:pt x="855" y="30"/>
                </a:lnTo>
                <a:lnTo>
                  <a:pt x="915" y="60"/>
                </a:lnTo>
                <a:lnTo>
                  <a:pt x="94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791320" y="2971800"/>
            <a:ext cx="2133360" cy="324000"/>
          </a:xfrm>
          <a:custGeom>
            <a:avLst/>
            <a:gdLst/>
            <a:ahLst/>
            <a:rect l="l" t="t" r="r" b="b"/>
            <a:pathLst>
              <a:path w="946" h="559">
                <a:moveTo>
                  <a:pt x="0" y="558"/>
                </a:moveTo>
                <a:lnTo>
                  <a:pt x="45" y="540"/>
                </a:lnTo>
                <a:lnTo>
                  <a:pt x="105" y="510"/>
                </a:lnTo>
                <a:lnTo>
                  <a:pt x="165" y="480"/>
                </a:lnTo>
                <a:lnTo>
                  <a:pt x="225" y="480"/>
                </a:lnTo>
                <a:lnTo>
                  <a:pt x="285" y="450"/>
                </a:lnTo>
                <a:lnTo>
                  <a:pt x="345" y="420"/>
                </a:lnTo>
                <a:lnTo>
                  <a:pt x="405" y="360"/>
                </a:lnTo>
                <a:lnTo>
                  <a:pt x="465" y="330"/>
                </a:lnTo>
                <a:lnTo>
                  <a:pt x="495" y="270"/>
                </a:lnTo>
                <a:lnTo>
                  <a:pt x="555" y="210"/>
                </a:lnTo>
                <a:lnTo>
                  <a:pt x="585" y="150"/>
                </a:lnTo>
                <a:lnTo>
                  <a:pt x="675" y="90"/>
                </a:lnTo>
                <a:lnTo>
                  <a:pt x="735" y="30"/>
                </a:lnTo>
                <a:lnTo>
                  <a:pt x="795" y="30"/>
                </a:lnTo>
                <a:lnTo>
                  <a:pt x="855" y="30"/>
                </a:lnTo>
                <a:lnTo>
                  <a:pt x="915" y="60"/>
                </a:lnTo>
                <a:lnTo>
                  <a:pt x="94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20120" y="304812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ñales de contactos y ana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329600" y="6072120"/>
            <a:ext cx="633240" cy="6840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6095880"/>
            <a:ext cx="633240" cy="6696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57800" y="6300720"/>
            <a:ext cx="533160" cy="23328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43400" y="6324480"/>
            <a:ext cx="533520" cy="22860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00800" y="6300720"/>
            <a:ext cx="533160" cy="23328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86400" y="6324480"/>
            <a:ext cx="533520" cy="22860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sidad de Sist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3597120" y="5570640"/>
          <a:ext cx="336564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7120" y="5570640"/>
                    <a:ext cx="336564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>
            <a:off x="1922400" y="4129200"/>
            <a:ext cx="5943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1851120" y="3162240"/>
          <a:ext cx="3888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1120" y="3162240"/>
                    <a:ext cx="3888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3220920" y="3132000"/>
          <a:ext cx="3891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0920" y="3132000"/>
                    <a:ext cx="3891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"/>
          <p:cNvSpPr/>
          <p:nvPr/>
        </p:nvSpPr>
        <p:spPr>
          <a:xfrm flipV="1">
            <a:off x="5807160" y="382536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57040" y="2833560"/>
            <a:ext cx="1036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CONSOLAS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OPER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075040" y="3672000"/>
            <a:ext cx="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444840" y="3673440"/>
            <a:ext cx="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12920" y="3046320"/>
            <a:ext cx="934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VANZ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DMC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81240" y="2757600"/>
            <a:ext cx="134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SISTE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 INFORM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99000" y="5394240"/>
            <a:ext cx="87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5192640" y="4451400"/>
          <a:ext cx="62712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92640" y="4451400"/>
                    <a:ext cx="6271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"/>
          <p:cNvSpPr/>
          <p:nvPr/>
        </p:nvSpPr>
        <p:spPr>
          <a:xfrm flipV="1">
            <a:off x="5502240" y="413028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14600" y="4876920"/>
            <a:ext cx="2819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ARMARIOS DE CONTROL: CONTROLA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de PROCESO + TARJETAS DE  E/S  ANALOGICAS Y DE CONTA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607000" y="5052960"/>
            <a:ext cx="270000" cy="365040"/>
          </a:xfrm>
          <a:prstGeom prst="upArrow">
            <a:avLst>
              <a:gd name="adj1" fmla="val 50000"/>
              <a:gd name="adj2" fmla="val 67581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182360" y="4052880"/>
            <a:ext cx="1808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RED LOCAL DE CONTR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2120" y="1752480"/>
            <a:ext cx="4419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 Distribuido:           (TDC-3000, Delta-V, PCS7,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0360" y="3419640"/>
            <a:ext cx="13158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A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1" name=""/>
          <p:cNvGraphicFramePr/>
          <p:nvPr/>
        </p:nvGraphicFramePr>
        <p:xfrm>
          <a:off x="5504040" y="3290760"/>
          <a:ext cx="714240" cy="57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4040" y="3290760"/>
                    <a:ext cx="7142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"/>
          <p:cNvGraphicFramePr/>
          <p:nvPr/>
        </p:nvGraphicFramePr>
        <p:xfrm>
          <a:off x="7332840" y="3519360"/>
          <a:ext cx="642600" cy="336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32840" y="3519360"/>
                    <a:ext cx="64260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 flipV="1">
            <a:off x="7594560" y="382536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35920" y="3048120"/>
            <a:ext cx="113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RESORA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AR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02080" y="5052960"/>
            <a:ext cx="270000" cy="365040"/>
          </a:xfrm>
          <a:prstGeom prst="downArrow">
            <a:avLst>
              <a:gd name="adj1" fmla="val 50000"/>
              <a:gd name="adj2" fmla="val 67619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4208400" y="4433760"/>
          <a:ext cx="627120" cy="39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08400" y="4433760"/>
                    <a:ext cx="6271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"/>
          <p:cNvSpPr/>
          <p:nvPr/>
        </p:nvSpPr>
        <p:spPr>
          <a:xfrm flipV="1">
            <a:off x="4513320" y="4129200"/>
            <a:ext cx="0" cy="29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2836800" y="4433760"/>
          <a:ext cx="627120" cy="392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36800" y="4433760"/>
                    <a:ext cx="6271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"/>
          <p:cNvSpPr/>
          <p:nvPr/>
        </p:nvSpPr>
        <p:spPr>
          <a:xfrm flipV="1">
            <a:off x="3141720" y="4129200"/>
            <a:ext cx="0" cy="29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3827520" y="3138480"/>
          <a:ext cx="714240" cy="571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27520" y="3138480"/>
                    <a:ext cx="7142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6342120" y="3290760"/>
          <a:ext cx="714240" cy="571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42120" y="3290760"/>
                    <a:ext cx="7142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"/>
          <p:cNvSpPr/>
          <p:nvPr/>
        </p:nvSpPr>
        <p:spPr>
          <a:xfrm flipV="1">
            <a:off x="6723000" y="3823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522600" y="351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433760" y="4776840"/>
            <a:ext cx="533520" cy="23328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419720" y="4800600"/>
            <a:ext cx="533160" cy="22860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662360" y="4700520"/>
            <a:ext cx="533520" cy="23328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48320" y="4724280"/>
            <a:ext cx="533160" cy="22860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por Comput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entación y 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sidad de Sist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3427560" y="6013440"/>
          <a:ext cx="336528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7560" y="6013440"/>
                    <a:ext cx="33652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"/>
          <p:cNvSpPr/>
          <p:nvPr/>
        </p:nvSpPr>
        <p:spPr>
          <a:xfrm>
            <a:off x="1752480" y="4572000"/>
            <a:ext cx="5484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751040" y="3048120"/>
            <a:ext cx="602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3355920" y="2057400"/>
          <a:ext cx="38916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5920" y="2057400"/>
                    <a:ext cx="3891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"/>
          <p:cNvSpPr/>
          <p:nvPr/>
        </p:nvSpPr>
        <p:spPr>
          <a:xfrm>
            <a:off x="3718080" y="2049480"/>
            <a:ext cx="10918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U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ERG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1681200" y="3605040"/>
          <a:ext cx="388800" cy="5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1200" y="3605040"/>
                    <a:ext cx="3888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3051000" y="3575160"/>
          <a:ext cx="38916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1000" y="3575160"/>
                    <a:ext cx="3891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"/>
          <p:cNvSpPr/>
          <p:nvPr/>
        </p:nvSpPr>
        <p:spPr>
          <a:xfrm flipV="1">
            <a:off x="5637240" y="4268880"/>
            <a:ext cx="0" cy="29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226840" y="3338640"/>
            <a:ext cx="1036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CONSOLAS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OPER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1905120" y="4114800"/>
            <a:ext cx="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3274920" y="4116240"/>
            <a:ext cx="0" cy="44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043000" y="3489480"/>
            <a:ext cx="934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VANZ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DMC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354120" y="3352680"/>
            <a:ext cx="1343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SISTE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 INFORM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229080" y="5837400"/>
            <a:ext cx="872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5022720" y="4894200"/>
          <a:ext cx="62712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2720" y="4894200"/>
                    <a:ext cx="6271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 flipV="1">
            <a:off x="5332320" y="457308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623560" y="4862520"/>
            <a:ext cx="168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imes New Roman"/>
              </a:rPr>
              <a:t>ARMARIOS D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437080" y="5495760"/>
            <a:ext cx="270000" cy="365400"/>
          </a:xfrm>
          <a:prstGeom prst="upArrow">
            <a:avLst>
              <a:gd name="adj1" fmla="val 50000"/>
              <a:gd name="adj2" fmla="val 67648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 flipV="1">
            <a:off x="3200400" y="3047760"/>
            <a:ext cx="1440" cy="53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5022720" y="2379600"/>
          <a:ext cx="627120" cy="392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2720" y="2379600"/>
                    <a:ext cx="6271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"/>
          <p:cNvSpPr/>
          <p:nvPr/>
        </p:nvSpPr>
        <p:spPr>
          <a:xfrm>
            <a:off x="5622840" y="2354400"/>
            <a:ext cx="846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EX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MO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526440" y="2735280"/>
            <a:ext cx="2353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RED GESTION DE LA PRODUCC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917400" y="4419720"/>
            <a:ext cx="1808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RED LOCAL DE CONTR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5332320" y="2744280"/>
            <a:ext cx="0" cy="3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3579840" y="2592360"/>
            <a:ext cx="0" cy="45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5332320" y="175392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631760" y="1357200"/>
            <a:ext cx="1472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CENTROS REMO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761760" y="5410080"/>
            <a:ext cx="7466040" cy="0"/>
          </a:xfrm>
          <a:prstGeom prst="line">
            <a:avLst/>
          </a:prstGeom>
          <a:ln w="12600">
            <a:solidFill>
              <a:srgbClr val="00279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09480" y="3276720"/>
            <a:ext cx="7694640" cy="0"/>
          </a:xfrm>
          <a:prstGeom prst="line">
            <a:avLst/>
          </a:prstGeom>
          <a:ln w="12600">
            <a:solidFill>
              <a:srgbClr val="00279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62880" y="2338560"/>
            <a:ext cx="127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OFIC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600" y="5486400"/>
            <a:ext cx="441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 de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0440" y="3862440"/>
            <a:ext cx="13158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A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1784520" y="2038320"/>
          <a:ext cx="388800" cy="546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84520" y="2038320"/>
                    <a:ext cx="3888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"/>
          <p:cNvSpPr/>
          <p:nvPr/>
        </p:nvSpPr>
        <p:spPr>
          <a:xfrm>
            <a:off x="2144520" y="2030400"/>
            <a:ext cx="126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MAC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008080" y="2573280"/>
            <a:ext cx="0" cy="45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6524640" y="2184480"/>
          <a:ext cx="728640" cy="582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24640" y="2184480"/>
                    <a:ext cx="7286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 flipV="1">
            <a:off x="6907320" y="2744280"/>
            <a:ext cx="0" cy="30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79480" y="2239920"/>
            <a:ext cx="817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SUAR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5305320" y="3708360"/>
          <a:ext cx="714600" cy="571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05320" y="3708360"/>
                    <a:ext cx="7146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"/>
          <p:cNvGraphicFramePr/>
          <p:nvPr/>
        </p:nvGraphicFramePr>
        <p:xfrm>
          <a:off x="6365880" y="3962520"/>
          <a:ext cx="642960" cy="336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65880" y="3962520"/>
                    <a:ext cx="64296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5" name=""/>
          <p:cNvSpPr/>
          <p:nvPr/>
        </p:nvSpPr>
        <p:spPr>
          <a:xfrm flipV="1">
            <a:off x="6627960" y="4268880"/>
            <a:ext cx="0" cy="29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168960" y="3490920"/>
            <a:ext cx="1131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RESORA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AR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132520" y="5495760"/>
            <a:ext cx="269640" cy="365400"/>
          </a:xfrm>
          <a:prstGeom prst="downArrow">
            <a:avLst>
              <a:gd name="adj1" fmla="val 50000"/>
              <a:gd name="adj2" fmla="val 6777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4038480" y="4876920"/>
          <a:ext cx="627120" cy="392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4876920"/>
                    <a:ext cx="6271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"/>
          <p:cNvSpPr/>
          <p:nvPr/>
        </p:nvSpPr>
        <p:spPr>
          <a:xfrm flipV="1">
            <a:off x="4343400" y="457164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2666880" y="4876920"/>
          <a:ext cx="627120" cy="392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66880" y="4876920"/>
                    <a:ext cx="6271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 flipV="1">
            <a:off x="2971800" y="457164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522680" y="429372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4191120" y="3733920"/>
          <a:ext cx="714240" cy="571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191120" y="3733920"/>
                    <a:ext cx="7142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iones del orden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6858000" y="1905120"/>
          <a:ext cx="71424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1905120"/>
                    <a:ext cx="7142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"/>
          <p:cNvSpPr/>
          <p:nvPr/>
        </p:nvSpPr>
        <p:spPr>
          <a:xfrm>
            <a:off x="4419720" y="289548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3"/>
          <a:stretch/>
        </p:blipFill>
        <p:spPr>
          <a:xfrm>
            <a:off x="4724280" y="3276720"/>
            <a:ext cx="838440" cy="57924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838440" cy="579240"/>
          </a:xfrm>
          <a:prstGeom prst="rect">
            <a:avLst/>
          </a:prstGeom>
          <a:ln w="0">
            <a:noFill/>
          </a:ln>
        </p:spPr>
      </p:pic>
      <p:grpSp>
        <p:nvGrpSpPr>
          <p:cNvPr id="853" name=""/>
          <p:cNvGrpSpPr/>
          <p:nvPr/>
        </p:nvGrpSpPr>
        <p:grpSpPr>
          <a:xfrm>
            <a:off x="7162920" y="3276720"/>
            <a:ext cx="753840" cy="500040"/>
            <a:chOff x="7162920" y="3276720"/>
            <a:chExt cx="753840" cy="500040"/>
          </a:xfrm>
        </p:grpSpPr>
        <p:sp>
          <p:nvSpPr>
            <p:cNvPr id="854" name=""/>
            <p:cNvSpPr/>
            <p:nvPr/>
          </p:nvSpPr>
          <p:spPr>
            <a:xfrm>
              <a:off x="7162920" y="3366000"/>
              <a:ext cx="270000" cy="408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436160" y="3511080"/>
              <a:ext cx="478800" cy="26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7419600" y="3276720"/>
              <a:ext cx="49536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916760" y="327816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162920" y="3276720"/>
              <a:ext cx="55908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725240" y="3277080"/>
              <a:ext cx="1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241400" y="3498840"/>
              <a:ext cx="0" cy="13392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273800" y="3469320"/>
              <a:ext cx="0" cy="163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226640" y="3668400"/>
              <a:ext cx="9396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55160" y="3561480"/>
              <a:ext cx="61920" cy="27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355160" y="3502800"/>
              <a:ext cx="61920" cy="27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6200000">
              <a:off x="7240680" y="3693960"/>
              <a:ext cx="17640" cy="4572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rot="16200000">
              <a:off x="7239600" y="3713760"/>
              <a:ext cx="17640" cy="4572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171920" y="3373200"/>
              <a:ext cx="51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imes New Roman"/>
                </a:rPr>
                <a:t>SP  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imes New Roman"/>
                </a:rPr>
                <a:t>PV 45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355160" y="3708360"/>
              <a:ext cx="45720" cy="27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51814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324480" y="2895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84872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723888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6934320" y="4191120"/>
          <a:ext cx="71424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34320" y="4191120"/>
                    <a:ext cx="7142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"/>
          <p:cNvSpPr/>
          <p:nvPr/>
        </p:nvSpPr>
        <p:spPr>
          <a:xfrm>
            <a:off x="4495680" y="518148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7"/>
          <a:stretch/>
        </p:blipFill>
        <p:spPr>
          <a:xfrm>
            <a:off x="4800600" y="5562720"/>
            <a:ext cx="838080" cy="57924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8"/>
          <a:stretch/>
        </p:blipFill>
        <p:spPr>
          <a:xfrm>
            <a:off x="5943600" y="5562720"/>
            <a:ext cx="838080" cy="579240"/>
          </a:xfrm>
          <a:prstGeom prst="rect">
            <a:avLst/>
          </a:prstGeom>
          <a:ln w="0">
            <a:noFill/>
          </a:ln>
        </p:spPr>
      </p:pic>
      <p:grpSp>
        <p:nvGrpSpPr>
          <p:cNvPr id="878" name=""/>
          <p:cNvGrpSpPr/>
          <p:nvPr/>
        </p:nvGrpSpPr>
        <p:grpSpPr>
          <a:xfrm>
            <a:off x="7238880" y="5562720"/>
            <a:ext cx="754200" cy="500040"/>
            <a:chOff x="7238880" y="5562720"/>
            <a:chExt cx="754200" cy="500040"/>
          </a:xfrm>
        </p:grpSpPr>
        <p:sp>
          <p:nvSpPr>
            <p:cNvPr id="879" name=""/>
            <p:cNvSpPr/>
            <p:nvPr/>
          </p:nvSpPr>
          <p:spPr>
            <a:xfrm>
              <a:off x="7238880" y="5652000"/>
              <a:ext cx="270000" cy="408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512480" y="5797080"/>
              <a:ext cx="478800" cy="26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7495920" y="5562720"/>
              <a:ext cx="49536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993080" y="556416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7238880" y="5562720"/>
              <a:ext cx="55944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801200" y="5563080"/>
              <a:ext cx="1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317360" y="5784840"/>
              <a:ext cx="0" cy="13392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7350120" y="5755320"/>
              <a:ext cx="0" cy="163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02600" y="5954400"/>
              <a:ext cx="9396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31120" y="5847480"/>
              <a:ext cx="61920" cy="27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31120" y="5788800"/>
              <a:ext cx="61920" cy="27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6200000">
              <a:off x="7316640" y="5979960"/>
              <a:ext cx="17640" cy="4572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 rot="16200000">
              <a:off x="7315560" y="5999760"/>
              <a:ext cx="17640" cy="4572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48240" y="5659200"/>
              <a:ext cx="51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imes New Roman"/>
                </a:rPr>
                <a:t>SP  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imes New Roman"/>
                </a:rPr>
                <a:t>PV 45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431120" y="5994360"/>
              <a:ext cx="45720" cy="27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52578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4008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92468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31520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914400" y="2209680"/>
            <a:ext cx="3352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nitoriz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áficos, Esquemáticos, Históricos, señalización de alarma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781680" y="251460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44956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pervis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Monitorización, gestión de alarmas, cambio de consignas o secuencias, sintonía,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934320" y="48006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91520" y="48769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iones del orden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4" name=""/>
          <p:cNvGraphicFramePr/>
          <p:nvPr/>
        </p:nvGraphicFramePr>
        <p:xfrm>
          <a:off x="5410080" y="2057400"/>
          <a:ext cx="197640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057400"/>
                    <a:ext cx="197640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"/>
          <p:cNvSpPr/>
          <p:nvPr/>
        </p:nvSpPr>
        <p:spPr>
          <a:xfrm>
            <a:off x="7091280" y="2459160"/>
            <a:ext cx="452520" cy="20772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/A, A/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539120" y="2197080"/>
            <a:ext cx="453960" cy="222120"/>
          </a:xfrm>
          <a:custGeom>
            <a:avLst/>
            <a:gdLst/>
            <a:ahLst/>
            <a:rect l="l" t="t" r="r" b="b"/>
            <a:pathLst>
              <a:path w="946" h="559">
                <a:moveTo>
                  <a:pt x="0" y="558"/>
                </a:moveTo>
                <a:lnTo>
                  <a:pt x="45" y="540"/>
                </a:lnTo>
                <a:lnTo>
                  <a:pt x="105" y="510"/>
                </a:lnTo>
                <a:lnTo>
                  <a:pt x="165" y="480"/>
                </a:lnTo>
                <a:lnTo>
                  <a:pt x="225" y="480"/>
                </a:lnTo>
                <a:lnTo>
                  <a:pt x="285" y="450"/>
                </a:lnTo>
                <a:lnTo>
                  <a:pt x="345" y="420"/>
                </a:lnTo>
                <a:lnTo>
                  <a:pt x="405" y="360"/>
                </a:lnTo>
                <a:lnTo>
                  <a:pt x="465" y="330"/>
                </a:lnTo>
                <a:lnTo>
                  <a:pt x="495" y="270"/>
                </a:lnTo>
                <a:lnTo>
                  <a:pt x="555" y="210"/>
                </a:lnTo>
                <a:lnTo>
                  <a:pt x="585" y="150"/>
                </a:lnTo>
                <a:lnTo>
                  <a:pt x="675" y="90"/>
                </a:lnTo>
                <a:lnTo>
                  <a:pt x="735" y="30"/>
                </a:lnTo>
                <a:lnTo>
                  <a:pt x="795" y="30"/>
                </a:lnTo>
                <a:lnTo>
                  <a:pt x="855" y="30"/>
                </a:lnTo>
                <a:lnTo>
                  <a:pt x="915" y="60"/>
                </a:lnTo>
                <a:lnTo>
                  <a:pt x="94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539120" y="2254320"/>
            <a:ext cx="453960" cy="220680"/>
          </a:xfrm>
          <a:custGeom>
            <a:avLst/>
            <a:gdLst/>
            <a:ahLst/>
            <a:rect l="l" t="t" r="r" b="b"/>
            <a:pathLst>
              <a:path w="946" h="559">
                <a:moveTo>
                  <a:pt x="0" y="558"/>
                </a:moveTo>
                <a:lnTo>
                  <a:pt x="45" y="540"/>
                </a:lnTo>
                <a:lnTo>
                  <a:pt x="105" y="510"/>
                </a:lnTo>
                <a:lnTo>
                  <a:pt x="165" y="480"/>
                </a:lnTo>
                <a:lnTo>
                  <a:pt x="225" y="480"/>
                </a:lnTo>
                <a:lnTo>
                  <a:pt x="285" y="450"/>
                </a:lnTo>
                <a:lnTo>
                  <a:pt x="345" y="420"/>
                </a:lnTo>
                <a:lnTo>
                  <a:pt x="405" y="360"/>
                </a:lnTo>
                <a:lnTo>
                  <a:pt x="465" y="330"/>
                </a:lnTo>
                <a:lnTo>
                  <a:pt x="495" y="270"/>
                </a:lnTo>
                <a:lnTo>
                  <a:pt x="555" y="210"/>
                </a:lnTo>
                <a:lnTo>
                  <a:pt x="585" y="150"/>
                </a:lnTo>
                <a:lnTo>
                  <a:pt x="675" y="90"/>
                </a:lnTo>
                <a:lnTo>
                  <a:pt x="735" y="30"/>
                </a:lnTo>
                <a:lnTo>
                  <a:pt x="795" y="30"/>
                </a:lnTo>
                <a:lnTo>
                  <a:pt x="855" y="30"/>
                </a:lnTo>
                <a:lnTo>
                  <a:pt x="915" y="60"/>
                </a:lnTo>
                <a:lnTo>
                  <a:pt x="94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543800" y="2611440"/>
            <a:ext cx="469800" cy="8424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543800" y="2666880"/>
            <a:ext cx="469800" cy="8424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638680" y="3886200"/>
            <a:ext cx="754200" cy="500040"/>
            <a:chOff x="5638680" y="3886200"/>
            <a:chExt cx="754200" cy="500040"/>
          </a:xfrm>
        </p:grpSpPr>
        <p:sp>
          <p:nvSpPr>
            <p:cNvPr id="912" name=""/>
            <p:cNvSpPr/>
            <p:nvPr/>
          </p:nvSpPr>
          <p:spPr>
            <a:xfrm>
              <a:off x="5638680" y="3975480"/>
              <a:ext cx="270000" cy="408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5912280" y="4120560"/>
              <a:ext cx="478800" cy="26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5895720" y="3886200"/>
              <a:ext cx="49536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392880" y="388764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5638680" y="3886200"/>
              <a:ext cx="55944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201000" y="3886560"/>
              <a:ext cx="1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5717160" y="4108320"/>
              <a:ext cx="0" cy="13392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5749920" y="4078800"/>
              <a:ext cx="0" cy="163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702400" y="4277880"/>
              <a:ext cx="9396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830920" y="4170960"/>
              <a:ext cx="61920" cy="27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30920" y="4112280"/>
              <a:ext cx="61920" cy="27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rot="16200000">
              <a:off x="5716440" y="4303440"/>
              <a:ext cx="17640" cy="4572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16200000">
              <a:off x="5715360" y="4323240"/>
              <a:ext cx="17640" cy="4572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648040" y="3982680"/>
              <a:ext cx="51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imes New Roman"/>
                </a:rPr>
                <a:t>SP  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imes New Roman"/>
                </a:rPr>
                <a:t>PV 45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830920" y="4317840"/>
              <a:ext cx="45720" cy="27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6415200" y="4014720"/>
            <a:ext cx="633240" cy="6840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400800" y="4038480"/>
            <a:ext cx="633240" cy="6696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415200" y="3938760"/>
            <a:ext cx="633240" cy="6804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400800" y="3962520"/>
            <a:ext cx="633240" cy="6660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008840" y="503028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6394320" y="5656320"/>
          <a:ext cx="6271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4320" y="5656320"/>
                    <a:ext cx="6271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4" name=""/>
          <p:cNvSpPr/>
          <p:nvPr/>
        </p:nvSpPr>
        <p:spPr>
          <a:xfrm flipV="1">
            <a:off x="6703920" y="533520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5" name=""/>
          <p:cNvGraphicFramePr/>
          <p:nvPr/>
        </p:nvGraphicFramePr>
        <p:xfrm>
          <a:off x="6705720" y="4495680"/>
          <a:ext cx="71424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4495680"/>
                    <a:ext cx="7142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7" name=""/>
          <p:cNvGraphicFramePr/>
          <p:nvPr/>
        </p:nvGraphicFramePr>
        <p:xfrm>
          <a:off x="5410080" y="5638680"/>
          <a:ext cx="627120" cy="39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5638680"/>
                    <a:ext cx="6271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9" name=""/>
          <p:cNvSpPr/>
          <p:nvPr/>
        </p:nvSpPr>
        <p:spPr>
          <a:xfrm flipV="1">
            <a:off x="5715000" y="5334120"/>
            <a:ext cx="0" cy="29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635800" y="5981760"/>
            <a:ext cx="533160" cy="23328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21400" y="6005520"/>
            <a:ext cx="533160" cy="22860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864400" y="5905440"/>
            <a:ext cx="533160" cy="23328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850000" y="5929200"/>
            <a:ext cx="533160" cy="22860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257800" y="5334120"/>
            <a:ext cx="2362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410080" y="60958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086600" y="373392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077320" y="2133720"/>
            <a:ext cx="533160" cy="228600"/>
          </a:xfrm>
          <a:prstGeom prst="leftArrow">
            <a:avLst>
              <a:gd name="adj1" fmla="val 50000"/>
              <a:gd name="adj2" fmla="val 583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62920" y="40384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153280" y="25909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248520" y="6095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914400" y="2590920"/>
            <a:ext cx="3352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trol Digital Direc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l proceso: se recibe información, se calcula la señal de control y se envía a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digit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05120" y="1752480"/>
            <a:ext cx="1358640" cy="1359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226120" y="1816200"/>
            <a:ext cx="1359000" cy="1358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905120" y="2514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195640" y="1947960"/>
            <a:ext cx="77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176200" y="25574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44080" y="206208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567400" y="251928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724280" y="3505320"/>
            <a:ext cx="3310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rmalmente no accesible al oper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138320" y="4952880"/>
            <a:ext cx="277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cesible al oper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8320" y="3319560"/>
            <a:ext cx="35402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rte varias fun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play, control,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figurable por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ceso por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966600" y="5681520"/>
            <a:ext cx="6932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número es el mismo en todos los instrumentos de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mo lazo de 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05120" y="1752480"/>
            <a:ext cx="13716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81480" y="1828800"/>
            <a:ext cx="144792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038480" y="5257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410080" y="44197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ador de DCS, regulador por microprocesador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1828800" y="1828800"/>
            <a:ext cx="1447920" cy="1295280"/>
          </a:xfrm>
          <a:prstGeom prst="hexagon">
            <a:avLst>
              <a:gd name="adj" fmla="val 27946"/>
              <a:gd name="vf" fmla="val 115470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digit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73080" y="249552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195640" y="1947960"/>
            <a:ext cx="77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176200" y="25574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295280" y="3276720"/>
            <a:ext cx="32004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tinto del controlador de un D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s funciones: DDC, registro, alarmas,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ceso por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29200" y="2590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943600" y="2590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858000" y="2590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15000" y="251460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629400" y="2514600"/>
            <a:ext cx="152280" cy="152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715000" y="33526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exión software o por red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5791320" y="1676520"/>
            <a:ext cx="1752480" cy="18288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digit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5280" y="3809880"/>
            <a:ext cx="3200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lógico o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334120" y="3886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C o secuencias/ lógica de un D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905120" y="1752480"/>
            <a:ext cx="1828800" cy="1828800"/>
          </a:xfrm>
          <a:prstGeom prst="diamond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5791320" y="1676520"/>
            <a:ext cx="1752480" cy="1828800"/>
            <a:chOff x="5791320" y="1676520"/>
            <a:chExt cx="1752480" cy="1828800"/>
          </a:xfrm>
        </p:grpSpPr>
        <p:sp>
          <p:nvSpPr>
            <p:cNvPr id="986" name=""/>
            <p:cNvSpPr/>
            <p:nvPr/>
          </p:nvSpPr>
          <p:spPr>
            <a:xfrm>
              <a:off x="5791320" y="1676520"/>
              <a:ext cx="1752480" cy="1828800"/>
            </a:xfrm>
            <a:prstGeom prst="diamond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791320" y="1676520"/>
              <a:ext cx="1752480" cy="1828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791320" y="259092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1443240" y="5029200"/>
            <a:ext cx="277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cesible al oper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518840" y="5867280"/>
            <a:ext cx="314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accesible al oper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791320" y="1676520"/>
            <a:ext cx="1752480" cy="182880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91320" y="259092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5486400" y="4952880"/>
            <a:ext cx="685800" cy="609840"/>
            <a:chOff x="5486400" y="4952880"/>
            <a:chExt cx="685800" cy="609840"/>
          </a:xfrm>
        </p:grpSpPr>
        <p:sp>
          <p:nvSpPr>
            <p:cNvPr id="994" name=""/>
            <p:cNvSpPr/>
            <p:nvPr/>
          </p:nvSpPr>
          <p:spPr>
            <a:xfrm>
              <a:off x="5486400" y="4952880"/>
              <a:ext cx="685800" cy="609840"/>
            </a:xfrm>
            <a:prstGeom prst="diamond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486400" y="4952880"/>
              <a:ext cx="685800" cy="609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86400" y="5257800"/>
              <a:ext cx="65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5486400" y="5715000"/>
            <a:ext cx="685800" cy="609480"/>
            <a:chOff x="5486400" y="5715000"/>
            <a:chExt cx="685800" cy="609480"/>
          </a:xfrm>
        </p:grpSpPr>
        <p:sp>
          <p:nvSpPr>
            <p:cNvPr id="998" name=""/>
            <p:cNvSpPr/>
            <p:nvPr/>
          </p:nvSpPr>
          <p:spPr>
            <a:xfrm>
              <a:off x="5486400" y="5715000"/>
              <a:ext cx="685800" cy="609480"/>
            </a:xfrm>
            <a:prstGeom prst="diamond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86400" y="5715000"/>
              <a:ext cx="685800" cy="609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exión al proce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3635280" y="2133720"/>
            <a:ext cx="1862280" cy="3390840"/>
          </a:xfrm>
          <a:prstGeom prst="rect">
            <a:avLst/>
          </a:prstGeom>
          <a:ln w="0">
            <a:noFill/>
          </a:ln>
        </p:spPr>
      </p:pic>
      <p:sp>
        <p:nvSpPr>
          <p:cNvPr id="1002" name=""/>
          <p:cNvSpPr/>
          <p:nvPr/>
        </p:nvSpPr>
        <p:spPr>
          <a:xfrm>
            <a:off x="558000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58000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80000" y="378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580000" y="422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Cloud"/>
          <p:cNvSpPr/>
          <p:nvPr/>
        </p:nvSpPr>
        <p:spPr>
          <a:xfrm>
            <a:off x="6948360" y="2205000"/>
            <a:ext cx="1314720" cy="3241800"/>
          </a:xfrm>
          <a:prstGeom prst="pi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020000" y="3430440"/>
            <a:ext cx="12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580000" y="2349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 – 2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39640" y="2565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ma tradicional: señales analógicas de 4-20 mA  mas convertidores A/D y 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2"/>
          <a:stretch/>
        </p:blipFill>
        <p:spPr>
          <a:xfrm>
            <a:off x="7020000" y="2924280"/>
            <a:ext cx="527040" cy="46836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7020000" y="3933720"/>
            <a:ext cx="50472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vertidores D/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5556240" y="1955520"/>
            <a:ext cx="739440" cy="144720"/>
            <a:chOff x="5556240" y="1955520"/>
            <a:chExt cx="739440" cy="144720"/>
          </a:xfrm>
        </p:grpSpPr>
        <p:sp>
          <p:nvSpPr>
            <p:cNvPr id="1014" name=""/>
            <p:cNvSpPr/>
            <p:nvPr/>
          </p:nvSpPr>
          <p:spPr>
            <a:xfrm flipV="1">
              <a:off x="5678640" y="1955520"/>
              <a:ext cx="62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741280" y="1955880"/>
              <a:ext cx="1224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5863680" y="1955520"/>
              <a:ext cx="1234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987160" y="1955880"/>
              <a:ext cx="1238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6111360" y="2028960"/>
              <a:ext cx="608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5556240" y="202896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172200" y="2028960"/>
              <a:ext cx="12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 rot="5400000">
            <a:off x="5599080" y="2506680"/>
            <a:ext cx="1008000" cy="792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499080" y="29019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30480" y="2627280"/>
            <a:ext cx="358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5419800" y="31910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419800" y="319104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5202360" y="3909960"/>
            <a:ext cx="433440" cy="216000"/>
            <a:chOff x="5202360" y="3909960"/>
            <a:chExt cx="433440" cy="216000"/>
          </a:xfrm>
        </p:grpSpPr>
        <p:sp>
          <p:nvSpPr>
            <p:cNvPr id="1027" name=""/>
            <p:cNvSpPr/>
            <p:nvPr/>
          </p:nvSpPr>
          <p:spPr>
            <a:xfrm>
              <a:off x="5202360" y="39099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75440" y="39830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346720" y="40543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419800" y="4125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2100240" y="4449600"/>
            <a:ext cx="410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395360" y="2627280"/>
            <a:ext cx="815760" cy="1822320"/>
            <a:chOff x="1395360" y="2627280"/>
            <a:chExt cx="815760" cy="1822320"/>
          </a:xfrm>
        </p:grpSpPr>
        <p:sp>
          <p:nvSpPr>
            <p:cNvPr id="1033" name=""/>
            <p:cNvSpPr/>
            <p:nvPr/>
          </p:nvSpPr>
          <p:spPr>
            <a:xfrm>
              <a:off x="2130480" y="26272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1914480" y="3682800"/>
              <a:ext cx="22248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78120" y="3843000"/>
              <a:ext cx="88920" cy="88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2099880" y="3892320"/>
              <a:ext cx="11160" cy="55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1550880" y="4076640"/>
              <a:ext cx="433440" cy="215640"/>
              <a:chOff x="1550880" y="4076640"/>
              <a:chExt cx="433440" cy="215640"/>
            </a:xfrm>
          </p:grpSpPr>
          <p:sp>
            <p:nvSpPr>
              <p:cNvPr id="1038" name=""/>
              <p:cNvSpPr/>
              <p:nvPr/>
            </p:nvSpPr>
            <p:spPr>
              <a:xfrm>
                <a:off x="1550880" y="4076640"/>
                <a:ext cx="43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623960" y="414936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695600" y="4221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768680" y="42922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 flipV="1">
              <a:off x="1754280" y="391752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2041200" y="2849400"/>
              <a:ext cx="169920" cy="640800"/>
              <a:chOff x="2041200" y="2849400"/>
              <a:chExt cx="169920" cy="640800"/>
            </a:xfrm>
          </p:grpSpPr>
          <p:sp>
            <p:nvSpPr>
              <p:cNvPr id="1044" name=""/>
              <p:cNvSpPr/>
              <p:nvPr/>
            </p:nvSpPr>
            <p:spPr>
              <a:xfrm flipH="1" flipV="1">
                <a:off x="2041560" y="3330360"/>
                <a:ext cx="8568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2041560" y="3224160"/>
                <a:ext cx="169560" cy="10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 flipV="1">
                <a:off x="2041200" y="3116880"/>
                <a:ext cx="16956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2041560" y="3009240"/>
                <a:ext cx="16956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127240" y="2956320"/>
                <a:ext cx="8352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127240" y="338292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2127240" y="2849400"/>
                <a:ext cx="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1" name=""/>
            <p:cNvSpPr/>
            <p:nvPr/>
          </p:nvSpPr>
          <p:spPr>
            <a:xfrm>
              <a:off x="2135160" y="344772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395360" y="28666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3100320" y="2631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2884320" y="3687840"/>
            <a:ext cx="2224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847960" y="38480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3069720" y="3897360"/>
            <a:ext cx="11160" cy="5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2521080" y="4081320"/>
            <a:ext cx="433080" cy="215640"/>
            <a:chOff x="2521080" y="4081320"/>
            <a:chExt cx="433080" cy="215640"/>
          </a:xfrm>
        </p:grpSpPr>
        <p:sp>
          <p:nvSpPr>
            <p:cNvPr id="1058" name=""/>
            <p:cNvSpPr/>
            <p:nvPr/>
          </p:nvSpPr>
          <p:spPr>
            <a:xfrm>
              <a:off x="2521080" y="4081320"/>
              <a:ext cx="43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3800" y="415404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665440" y="4225680"/>
              <a:ext cx="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38520" y="42969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2" name=""/>
          <p:cNvSpPr/>
          <p:nvPr/>
        </p:nvSpPr>
        <p:spPr>
          <a:xfrm flipV="1">
            <a:off x="2724120" y="3922560"/>
            <a:ext cx="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3011040" y="2854440"/>
            <a:ext cx="169920" cy="640800"/>
            <a:chOff x="3011040" y="2854440"/>
            <a:chExt cx="169920" cy="640800"/>
          </a:xfrm>
        </p:grpSpPr>
        <p:sp>
          <p:nvSpPr>
            <p:cNvPr id="1064" name=""/>
            <p:cNvSpPr/>
            <p:nvPr/>
          </p:nvSpPr>
          <p:spPr>
            <a:xfrm flipH="1" flipV="1">
              <a:off x="3011400" y="3335400"/>
              <a:ext cx="8568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3011400" y="3229200"/>
              <a:ext cx="16956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 flipV="1">
              <a:off x="3011040" y="3121920"/>
              <a:ext cx="169560" cy="10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3011400" y="3014280"/>
              <a:ext cx="16956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 flipV="1">
              <a:off x="3097080" y="2961360"/>
              <a:ext cx="83520" cy="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097080" y="338796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3097080" y="2854440"/>
              <a:ext cx="0" cy="10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1" name=""/>
          <p:cNvSpPr/>
          <p:nvPr/>
        </p:nvSpPr>
        <p:spPr>
          <a:xfrm>
            <a:off x="3105000" y="3452760"/>
            <a:ext cx="0" cy="23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292480" y="287172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618080" y="26337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4402080" y="3689280"/>
            <a:ext cx="22248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365720" y="3849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4587480" y="3898800"/>
            <a:ext cx="11160" cy="5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4038480" y="4083120"/>
            <a:ext cx="433440" cy="215640"/>
            <a:chOff x="4038480" y="4083120"/>
            <a:chExt cx="433440" cy="215640"/>
          </a:xfrm>
        </p:grpSpPr>
        <p:sp>
          <p:nvSpPr>
            <p:cNvPr id="1078" name=""/>
            <p:cNvSpPr/>
            <p:nvPr/>
          </p:nvSpPr>
          <p:spPr>
            <a:xfrm>
              <a:off x="4038480" y="408312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111560" y="4155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183200" y="422748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56280" y="4298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 flipV="1">
            <a:off x="4241880" y="392400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4528800" y="2856240"/>
            <a:ext cx="169920" cy="641160"/>
            <a:chOff x="4528800" y="2856240"/>
            <a:chExt cx="169920" cy="641160"/>
          </a:xfrm>
        </p:grpSpPr>
        <p:sp>
          <p:nvSpPr>
            <p:cNvPr id="1084" name=""/>
            <p:cNvSpPr/>
            <p:nvPr/>
          </p:nvSpPr>
          <p:spPr>
            <a:xfrm flipH="1" flipV="1">
              <a:off x="4529160" y="3337560"/>
              <a:ext cx="8568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4529160" y="3231360"/>
              <a:ext cx="169560" cy="1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 flipV="1">
              <a:off x="4528800" y="3124080"/>
              <a:ext cx="169560" cy="10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4529160" y="3016440"/>
              <a:ext cx="16956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flipV="1">
              <a:off x="4614840" y="2963160"/>
              <a:ext cx="83520" cy="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14840" y="3390120"/>
              <a:ext cx="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4614840" y="2856240"/>
              <a:ext cx="0" cy="10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4622760" y="3454560"/>
            <a:ext cx="0" cy="23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030560" y="28735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459240" y="3189240"/>
            <a:ext cx="7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335560" y="2050920"/>
            <a:ext cx="0" cy="55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273720" y="2039760"/>
            <a:ext cx="5936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80320" y="2039760"/>
            <a:ext cx="0" cy="8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5324400" y="2039760"/>
            <a:ext cx="22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681520" y="2424240"/>
            <a:ext cx="5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681520" y="295272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807160" y="160668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746840" y="28670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943760" y="2509920"/>
            <a:ext cx="10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302520" y="4251240"/>
            <a:ext cx="71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300720" y="3298680"/>
            <a:ext cx="186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mplificador 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547640" y="335772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440080" y="3378240"/>
            <a:ext cx="69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097160" y="339264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781200" y="4832280"/>
                <a:ext cx="554832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4327560" y="4830840"/>
                <a:ext cx="2631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0" name=""/>
          <p:cNvSpPr/>
          <p:nvPr/>
        </p:nvSpPr>
        <p:spPr>
          <a:xfrm>
            <a:off x="506520" y="14698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tencia  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vertidores A/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4691160" y="2111040"/>
            <a:ext cx="739440" cy="144720"/>
            <a:chOff x="4691160" y="2111040"/>
            <a:chExt cx="739440" cy="144720"/>
          </a:xfrm>
        </p:grpSpPr>
        <p:sp>
          <p:nvSpPr>
            <p:cNvPr id="1113" name=""/>
            <p:cNvSpPr/>
            <p:nvPr/>
          </p:nvSpPr>
          <p:spPr>
            <a:xfrm flipV="1">
              <a:off x="4813560" y="2111040"/>
              <a:ext cx="62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876200" y="2111400"/>
              <a:ext cx="1224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4998600" y="2111040"/>
              <a:ext cx="1234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22080" y="2111400"/>
              <a:ext cx="1238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5246280" y="2184480"/>
              <a:ext cx="608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4691160" y="218448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307120" y="2184480"/>
              <a:ext cx="12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0" name=""/>
          <p:cNvSpPr/>
          <p:nvPr/>
        </p:nvSpPr>
        <p:spPr>
          <a:xfrm rot="5400000">
            <a:off x="4733640" y="2651040"/>
            <a:ext cx="1008360" cy="792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634000" y="3046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470480" y="2195640"/>
            <a:ext cx="0" cy="55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408640" y="2184480"/>
            <a:ext cx="5936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14880" y="218448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4458960" y="218448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816440" y="2568600"/>
            <a:ext cx="5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816440" y="309708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932360" y="177336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876240" y="2752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411280" y="2781360"/>
            <a:ext cx="240984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898560" y="278136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2050920" y="2636640"/>
            <a:ext cx="33336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338560" y="2565360"/>
            <a:ext cx="8856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27280" y="278136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338560" y="30700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338560" y="3213000"/>
            <a:ext cx="57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2626920" y="3213000"/>
            <a:ext cx="111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2411280" y="3502080"/>
            <a:ext cx="433440" cy="216000"/>
            <a:chOff x="2411280" y="3502080"/>
            <a:chExt cx="433440" cy="216000"/>
          </a:xfrm>
        </p:grpSpPr>
        <p:sp>
          <p:nvSpPr>
            <p:cNvPr id="1139" name=""/>
            <p:cNvSpPr/>
            <p:nvPr/>
          </p:nvSpPr>
          <p:spPr>
            <a:xfrm>
              <a:off x="2411280" y="350208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484360" y="35751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555640" y="36464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628720" y="3718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1042920" y="2205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59280" y="299736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770200" y="2205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6560" y="2494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138200" y="3357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348000" y="3933720"/>
            <a:ext cx="1655640" cy="719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385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348000" y="5373720"/>
            <a:ext cx="165564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300720" y="5373720"/>
            <a:ext cx="1265400" cy="79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óg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0 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3564000" y="465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3780000" y="465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4356000" y="465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4572000" y="465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4788000" y="465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2627280" y="5229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765680" y="5184720"/>
            <a:ext cx="712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2619360" y="5114880"/>
            <a:ext cx="19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546440" y="5065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2619000" y="4892760"/>
            <a:ext cx="114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732120" y="48434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2619000" y="4794120"/>
            <a:ext cx="939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508200" y="473220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1886040" y="3994200"/>
                <a:ext cx="465120" cy="19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3510000" y="5533920"/>
            <a:ext cx="14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4992480" y="5783400"/>
            <a:ext cx="128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919920" y="3052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7562520" y="5734080"/>
            <a:ext cx="71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723080" y="4954680"/>
            <a:ext cx="107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lsos de Rel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6364440" y="1641600"/>
                <a:ext cx="25635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2" name=""/>
          <p:cNvSpPr/>
          <p:nvPr/>
        </p:nvSpPr>
        <p:spPr>
          <a:xfrm>
            <a:off x="7018200" y="2805120"/>
            <a:ext cx="79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84040" y="1593720"/>
            <a:ext cx="34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chos tipos 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rjeta A/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4000" y="227664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3097440" y="2276640"/>
            <a:ext cx="144720" cy="791640"/>
            <a:chOff x="3097440" y="2276640"/>
            <a:chExt cx="144720" cy="791640"/>
          </a:xfrm>
        </p:grpSpPr>
        <p:sp>
          <p:nvSpPr>
            <p:cNvPr id="1177" name=""/>
            <p:cNvSpPr/>
            <p:nvPr/>
          </p:nvSpPr>
          <p:spPr>
            <a:xfrm>
              <a:off x="3169080" y="2407680"/>
              <a:ext cx="7308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097440" y="2474640"/>
              <a:ext cx="144360" cy="1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097800" y="2605680"/>
              <a:ext cx="14436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3097440" y="2738160"/>
              <a:ext cx="144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097440" y="2870640"/>
              <a:ext cx="7128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3168720" y="2276640"/>
              <a:ext cx="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168720" y="293616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 flipH="1">
            <a:off x="2664000" y="3068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0" y="2421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-20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240000" y="2492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=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736720" y="24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4032360" y="2204640"/>
            <a:ext cx="739440" cy="144720"/>
            <a:chOff x="4032360" y="2204640"/>
            <a:chExt cx="739440" cy="144720"/>
          </a:xfrm>
        </p:grpSpPr>
        <p:sp>
          <p:nvSpPr>
            <p:cNvPr id="1189" name=""/>
            <p:cNvSpPr/>
            <p:nvPr/>
          </p:nvSpPr>
          <p:spPr>
            <a:xfrm flipV="1">
              <a:off x="4154760" y="2204640"/>
              <a:ext cx="62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17400" y="2205000"/>
              <a:ext cx="1224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339800" y="2204640"/>
              <a:ext cx="1234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463280" y="2205000"/>
              <a:ext cx="1238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4587480" y="2278080"/>
              <a:ext cx="608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4032360" y="227808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648320" y="2278080"/>
              <a:ext cx="12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4680000" y="2276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824360" y="227664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535640" y="263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535640" y="2781360"/>
            <a:ext cx="57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4824000" y="2781360"/>
            <a:ext cx="111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168720" y="22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222200" y="2060640"/>
            <a:ext cx="1441800" cy="1224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222200" y="206064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tección Optoacop,  Zener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60360" y="22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60360" y="299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960720" y="1989000"/>
            <a:ext cx="1441440" cy="136872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033800" y="1557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31640" y="177336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302080" y="1701720"/>
            <a:ext cx="6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419880" y="2965320"/>
            <a:ext cx="936720" cy="1368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92960" y="339732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&amp;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356600" y="36133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664000" y="407664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3097440" y="4076640"/>
            <a:ext cx="144720" cy="792000"/>
            <a:chOff x="3097440" y="4076640"/>
            <a:chExt cx="144720" cy="792000"/>
          </a:xfrm>
        </p:grpSpPr>
        <p:sp>
          <p:nvSpPr>
            <p:cNvPr id="1215" name=""/>
            <p:cNvSpPr/>
            <p:nvPr/>
          </p:nvSpPr>
          <p:spPr>
            <a:xfrm>
              <a:off x="3169080" y="4207680"/>
              <a:ext cx="7308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3097440" y="4274640"/>
              <a:ext cx="144360" cy="1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097800" y="4405680"/>
              <a:ext cx="14436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3097440" y="4538160"/>
              <a:ext cx="144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097440" y="4671000"/>
              <a:ext cx="7128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3168720" y="4076640"/>
              <a:ext cx="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168720" y="473652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2" name=""/>
          <p:cNvSpPr/>
          <p:nvPr/>
        </p:nvSpPr>
        <p:spPr>
          <a:xfrm flipH="1">
            <a:off x="2664000" y="48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0" y="4221000"/>
            <a:ext cx="12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-20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240000" y="4292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=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73672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4032360" y="4005000"/>
            <a:ext cx="739440" cy="144720"/>
            <a:chOff x="4032360" y="4005000"/>
            <a:chExt cx="739440" cy="144720"/>
          </a:xfrm>
        </p:grpSpPr>
        <p:sp>
          <p:nvSpPr>
            <p:cNvPr id="1227" name=""/>
            <p:cNvSpPr/>
            <p:nvPr/>
          </p:nvSpPr>
          <p:spPr>
            <a:xfrm flipV="1">
              <a:off x="4154760" y="4005000"/>
              <a:ext cx="62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217400" y="4005360"/>
              <a:ext cx="1224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4339800" y="4005000"/>
              <a:ext cx="1234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63280" y="4005360"/>
              <a:ext cx="1238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587480" y="4078440"/>
              <a:ext cx="608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4032360" y="4078440"/>
              <a:ext cx="1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648320" y="4078440"/>
              <a:ext cx="12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4680000" y="4076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824360" y="407664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535640" y="44388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535640" y="4581360"/>
            <a:ext cx="57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4824000" y="4581360"/>
            <a:ext cx="111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16872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222200" y="3860640"/>
            <a:ext cx="1441800" cy="1224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222200" y="386064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tección Optoacop,  Zener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6036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60360" y="479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960720" y="3789360"/>
            <a:ext cx="1441440" cy="136836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033800" y="3357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31640" y="357336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413320" y="355140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197000" y="54133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705800" y="2955960"/>
            <a:ext cx="792000" cy="13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496360" y="3573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8496360" y="3789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8496360" y="335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073920" y="3673440"/>
            <a:ext cx="36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H="1">
            <a:off x="5590440" y="224460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5633280" y="404352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234040" y="579600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5571360" y="578484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69040" y="5240160"/>
            <a:ext cx="642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H="1" flipV="1">
            <a:off x="5814720" y="3300480"/>
            <a:ext cx="258840" cy="371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742160" y="339732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753160" y="32385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986440" y="2360520"/>
            <a:ext cx="16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ltiplex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956200" y="3174840"/>
            <a:ext cx="55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1440" y="5881680"/>
            <a:ext cx="77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nales independientes /tierra común                                Otras funcionalidades: contadores, temporizadores, DMA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881840" y="4384800"/>
            <a:ext cx="107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ñal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60200" y="655560"/>
            <a:ext cx="16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Times New Roman"/>
              </a:rPr>
              <a:t>Ca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52480" y="1593720"/>
            <a:ext cx="7759800" cy="438624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a d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191120" cy="3030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3047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14800" y="5105520"/>
            <a:ext cx="762120" cy="304560"/>
          </a:xfrm>
          <a:prstGeom prst="rightArrow">
            <a:avLst>
              <a:gd name="adj1" fmla="val 50000"/>
              <a:gd name="adj2" fmla="val 62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5334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5334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por 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971800" y="5867280"/>
          <a:ext cx="336564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5867280"/>
                    <a:ext cx="336564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rjeta D/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1463040" y="589104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1469160" y="2635200"/>
            <a:ext cx="73080" cy="7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014480" y="59292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014480" y="61452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014480" y="57135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977760" y="26416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77760" y="28576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77760" y="24256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915840" y="35845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015920" y="4915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015920" y="5130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015920" y="4699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463040" y="4865760"/>
            <a:ext cx="73080" cy="71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464600" y="1978200"/>
            <a:ext cx="14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-2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343240" y="2014560"/>
            <a:ext cx="936360" cy="1368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284720" y="2004840"/>
            <a:ext cx="792000" cy="13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5111640" y="2536560"/>
            <a:ext cx="5968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996920" y="2722680"/>
            <a:ext cx="36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 flipV="1">
            <a:off x="1738440" y="2349360"/>
            <a:ext cx="258480" cy="371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321080" y="244620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676520" y="22874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989000" y="2951280"/>
            <a:ext cx="36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003400" y="2468520"/>
            <a:ext cx="36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325680" y="2629080"/>
            <a:ext cx="93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325680" y="2844720"/>
            <a:ext cx="96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325680" y="2413080"/>
            <a:ext cx="96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127240" y="3362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gistro de almac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092560" y="2854440"/>
            <a:ext cx="60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349800" y="2928960"/>
            <a:ext cx="11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191200" y="182880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46680" y="1952640"/>
            <a:ext cx="1532160" cy="1407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7305840" y="2517480"/>
            <a:ext cx="5968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286760" y="2835360"/>
            <a:ext cx="60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448000" y="249552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101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722920" y="2273400"/>
            <a:ext cx="142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uente de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89560" y="1309680"/>
            <a:ext cx="28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 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324160" y="4206960"/>
            <a:ext cx="936720" cy="1368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265640" y="4197240"/>
            <a:ext cx="792000" cy="13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5092560" y="4729320"/>
            <a:ext cx="596880" cy="1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78200" y="4915080"/>
            <a:ext cx="36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 flipV="1">
            <a:off x="1719000" y="4541760"/>
            <a:ext cx="258840" cy="371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302000" y="463860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657440" y="447984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969920" y="5143680"/>
            <a:ext cx="36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984320" y="4660920"/>
            <a:ext cx="36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306600" y="4821120"/>
            <a:ext cx="93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306600" y="5037120"/>
            <a:ext cx="96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306600" y="4605480"/>
            <a:ext cx="96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073480" y="5046840"/>
            <a:ext cx="60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172120" y="4021200"/>
            <a:ext cx="4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27600" y="4145040"/>
            <a:ext cx="1532160" cy="1407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7286760" y="4709880"/>
            <a:ext cx="5968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267680" y="5027760"/>
            <a:ext cx="60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428920" y="468792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101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703840" y="4465800"/>
            <a:ext cx="142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uente de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255840" y="514656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477200" y="4097160"/>
            <a:ext cx="14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-2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494000" y="1716120"/>
            <a:ext cx="6141960" cy="438624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uses de cam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4716360" y="2060640"/>
            <a:ext cx="1390680" cy="1039680"/>
            <a:chOff x="4716360" y="2060640"/>
            <a:chExt cx="1390680" cy="1039680"/>
          </a:xfrm>
        </p:grpSpPr>
        <p:pic>
          <p:nvPicPr>
            <p:cNvPr id="1329" name="" descr=""/>
            <p:cNvPicPr/>
            <p:nvPr/>
          </p:nvPicPr>
          <p:blipFill>
            <a:blip r:embed="rId1"/>
            <a:stretch/>
          </p:blipFill>
          <p:spPr>
            <a:xfrm>
              <a:off x="4716360" y="2060640"/>
              <a:ext cx="139068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0" name="" descr=""/>
            <p:cNvPicPr/>
            <p:nvPr/>
          </p:nvPicPr>
          <p:blipFill>
            <a:blip r:embed="rId2"/>
            <a:stretch/>
          </p:blipFill>
          <p:spPr>
            <a:xfrm>
              <a:off x="5157720" y="2149560"/>
              <a:ext cx="735120" cy="52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1" name="" descr=""/>
          <p:cNvPicPr/>
          <p:nvPr/>
        </p:nvPicPr>
        <p:blipFill>
          <a:blip r:embed="rId3"/>
          <a:stretch/>
        </p:blipFill>
        <p:spPr>
          <a:xfrm>
            <a:off x="7016760" y="2462040"/>
            <a:ext cx="806400" cy="341640"/>
          </a:xfrm>
          <a:prstGeom prst="rect">
            <a:avLst/>
          </a:prstGeom>
          <a:ln w="0">
            <a:noFill/>
          </a:ln>
        </p:spPr>
      </p:pic>
      <p:sp>
        <p:nvSpPr>
          <p:cNvPr id="1332" name=""/>
          <p:cNvSpPr/>
          <p:nvPr/>
        </p:nvSpPr>
        <p:spPr>
          <a:xfrm flipV="1">
            <a:off x="7458120" y="2722320"/>
            <a:ext cx="0" cy="2151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7405560" y="4862520"/>
            <a:ext cx="0" cy="271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4"/>
          <a:stretch/>
        </p:blipFill>
        <p:spPr>
          <a:xfrm>
            <a:off x="6029280" y="4968720"/>
            <a:ext cx="504720" cy="73836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5"/>
          <a:stretch/>
        </p:blipFill>
        <p:spPr>
          <a:xfrm>
            <a:off x="4552920" y="5030640"/>
            <a:ext cx="862200" cy="376560"/>
          </a:xfrm>
          <a:prstGeom prst="rect">
            <a:avLst/>
          </a:prstGeom>
          <a:ln w="0">
            <a:noFill/>
          </a:ln>
        </p:spPr>
      </p:pic>
      <p:sp>
        <p:nvSpPr>
          <p:cNvPr id="1336" name=""/>
          <p:cNvSpPr/>
          <p:nvPr/>
        </p:nvSpPr>
        <p:spPr>
          <a:xfrm>
            <a:off x="4570560" y="4863960"/>
            <a:ext cx="2889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4721400" y="4868640"/>
            <a:ext cx="0" cy="26028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5691240" y="4869000"/>
            <a:ext cx="0" cy="2714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9" name="" descr=""/>
          <p:cNvPicPr/>
          <p:nvPr/>
        </p:nvPicPr>
        <p:blipFill>
          <a:blip r:embed="rId6"/>
          <a:stretch/>
        </p:blipFill>
        <p:spPr>
          <a:xfrm>
            <a:off x="5402160" y="5024520"/>
            <a:ext cx="527040" cy="468360"/>
          </a:xfrm>
          <a:prstGeom prst="rect">
            <a:avLst/>
          </a:prstGeom>
          <a:ln w="0">
            <a:noFill/>
          </a:ln>
        </p:spPr>
      </p:pic>
      <p:sp>
        <p:nvSpPr>
          <p:cNvPr id="1340" name=""/>
          <p:cNvSpPr/>
          <p:nvPr/>
        </p:nvSpPr>
        <p:spPr>
          <a:xfrm flipV="1">
            <a:off x="6249960" y="4869000"/>
            <a:ext cx="0" cy="118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" descr=""/>
          <p:cNvPicPr/>
          <p:nvPr/>
        </p:nvPicPr>
        <p:blipFill>
          <a:blip r:embed="rId7"/>
          <a:stretch/>
        </p:blipFill>
        <p:spPr>
          <a:xfrm>
            <a:off x="6700680" y="4005360"/>
            <a:ext cx="443160" cy="627120"/>
          </a:xfrm>
          <a:prstGeom prst="rect">
            <a:avLst/>
          </a:prstGeom>
          <a:ln w="0">
            <a:noFill/>
          </a:ln>
        </p:spPr>
      </p:pic>
      <p:pic>
        <p:nvPicPr>
          <p:cNvPr id="1342" name="" descr=""/>
          <p:cNvPicPr/>
          <p:nvPr/>
        </p:nvPicPr>
        <p:blipFill>
          <a:blip r:embed="rId8"/>
          <a:stretch/>
        </p:blipFill>
        <p:spPr>
          <a:xfrm>
            <a:off x="7294680" y="5048280"/>
            <a:ext cx="353880" cy="21420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/>
          <p:nvPr/>
        </p:nvSpPr>
        <p:spPr>
          <a:xfrm flipH="1">
            <a:off x="7050240" y="4286160"/>
            <a:ext cx="419040" cy="1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" descr=""/>
          <p:cNvPicPr/>
          <p:nvPr/>
        </p:nvPicPr>
        <p:blipFill>
          <a:blip r:embed="rId9"/>
          <a:stretch/>
        </p:blipFill>
        <p:spPr>
          <a:xfrm>
            <a:off x="6653160" y="5006880"/>
            <a:ext cx="503280" cy="550800"/>
          </a:xfrm>
          <a:prstGeom prst="rect">
            <a:avLst/>
          </a:prstGeom>
          <a:ln w="0">
            <a:noFill/>
          </a:ln>
        </p:spPr>
      </p:pic>
      <p:sp>
        <p:nvSpPr>
          <p:cNvPr id="1345" name=""/>
          <p:cNvSpPr/>
          <p:nvPr/>
        </p:nvSpPr>
        <p:spPr>
          <a:xfrm flipV="1">
            <a:off x="6859440" y="4869000"/>
            <a:ext cx="0" cy="118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105600" y="2614680"/>
            <a:ext cx="907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826920" y="2421000"/>
            <a:ext cx="316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ñales digitales de y a los instrumentos a través de un bus de comunicaciones digital (Fieldb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ieldbus Foundation Profibus,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es de Cam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68240" y="2292480"/>
            <a:ext cx="1511280" cy="1054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996840" y="3809880"/>
            <a:ext cx="70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807080" y="2597040"/>
            <a:ext cx="749160" cy="6732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181480" y="3352680"/>
            <a:ext cx="0" cy="45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178680" y="2597040"/>
            <a:ext cx="749160" cy="6732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553080" y="3352680"/>
            <a:ext cx="0" cy="45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397640" y="4654440"/>
            <a:ext cx="749520" cy="6732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7772400" y="380376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523880" y="33591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47000" y="2347920"/>
            <a:ext cx="148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031200" y="3338640"/>
            <a:ext cx="151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110040" y="3871800"/>
            <a:ext cx="101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1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69040" y="4502160"/>
            <a:ext cx="113040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719520" y="4786200"/>
            <a:ext cx="2365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croproces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ódulo A/D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unicaciones mas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5950080" y="4489560"/>
            <a:ext cx="1130040" cy="7747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102360" y="3282840"/>
            <a:ext cx="901800" cy="63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730760" y="3282840"/>
            <a:ext cx="901800" cy="63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938480" y="28051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310440" y="2805120"/>
            <a:ext cx="53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453440" y="4786200"/>
            <a:ext cx="58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093080" y="4221000"/>
            <a:ext cx="1295280" cy="122400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397160" y="3200400"/>
            <a:ext cx="258480" cy="444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30360" y="4189320"/>
            <a:ext cx="21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troladora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865080" y="3521160"/>
            <a:ext cx="408240" cy="60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es de Cam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8240" y="2292480"/>
            <a:ext cx="1511280" cy="1054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996840" y="3809880"/>
            <a:ext cx="70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807080" y="2749680"/>
            <a:ext cx="749160" cy="67284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181480" y="3435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178680" y="2749680"/>
            <a:ext cx="749160" cy="67284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553080" y="3435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397640" y="4273560"/>
            <a:ext cx="749520" cy="6732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7772400" y="38034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523880" y="33591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04120" y="4405320"/>
            <a:ext cx="85964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orro de cabl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hazo de r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evas funciones: Ajuste remoto de rangos, test, documentación,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ción mas elaborada, configurable por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istribuido en los 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quitecturas y Protoc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47000" y="2347920"/>
            <a:ext cx="148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31200" y="3338640"/>
            <a:ext cx="151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110040" y="3871800"/>
            <a:ext cx="101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1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724280" y="3429000"/>
            <a:ext cx="901800" cy="63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095880" y="3429000"/>
            <a:ext cx="901800" cy="63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315200" y="4191120"/>
            <a:ext cx="901800" cy="63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938480" y="2805120"/>
            <a:ext cx="553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248520" y="2895480"/>
            <a:ext cx="536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467840" y="4343400"/>
            <a:ext cx="58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por comput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172200" y="3124080"/>
            <a:ext cx="1600200" cy="6098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772400" y="34290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8153280" y="3429000"/>
            <a:ext cx="0" cy="12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H="1">
            <a:off x="5105520" y="464832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169040" y="4425840"/>
            <a:ext cx="444600" cy="4446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867280" y="3429000"/>
            <a:ext cx="27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703560" y="4952880"/>
            <a:ext cx="1572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648320" y="3657600"/>
            <a:ext cx="76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8075880" y="2895480"/>
            <a:ext cx="62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029200" y="4648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-2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495680" y="27432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-2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990720" y="3048120"/>
            <a:ext cx="1663560" cy="825480"/>
          </a:xfrm>
          <a:prstGeom prst="rec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666880" y="34225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3124080" y="3263400"/>
            <a:ext cx="6372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276720" y="34225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581280" y="3048120"/>
            <a:ext cx="901800" cy="825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500720" y="3429000"/>
            <a:ext cx="106668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H="1">
            <a:off x="4483080" y="46418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581280" y="4267080"/>
            <a:ext cx="901800" cy="67320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1892160" y="464184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1898640" y="387360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V="1">
            <a:off x="533520" y="3422520"/>
            <a:ext cx="44424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82320" y="416412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664720" y="2666880"/>
            <a:ext cx="76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(k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04920" y="28954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4800600" y="44193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62120" y="2362320"/>
            <a:ext cx="4572000" cy="297180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2880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dor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580000" y="3213000"/>
            <a:ext cx="29232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713920" y="259092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85800" y="5715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señales que recibe y procesa el ordenador son de naturaleza distinta: digitales y solo cambian en ciertos instantes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zos de reg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905120" y="5029200"/>
            <a:ext cx="304560" cy="304560"/>
            <a:chOff x="1905120" y="5029200"/>
            <a:chExt cx="304560" cy="304560"/>
          </a:xfrm>
        </p:grpSpPr>
        <p:sp>
          <p:nvSpPr>
            <p:cNvPr id="57" name=""/>
            <p:cNvSpPr/>
            <p:nvPr/>
          </p:nvSpPr>
          <p:spPr>
            <a:xfrm>
              <a:off x="1940760" y="5212080"/>
              <a:ext cx="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944000" y="5206680"/>
              <a:ext cx="2268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44000" y="5212080"/>
              <a:ext cx="22680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040" y="5212080"/>
              <a:ext cx="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2057400" y="5115240"/>
              <a:ext cx="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5120" y="5029200"/>
              <a:ext cx="304560" cy="86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352680" y="1905120"/>
            <a:ext cx="762120" cy="342900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3429000"/>
              <a:gd name="textAreaBottom" fmla="*/ 3391920 h 3429000"/>
            </a:gdLst>
            <a:ahLst/>
            <a:rect l="textAreaLeft" t="textAreaTop" r="textAreaRight" b="textAreaBottom"/>
            <a:pathLst>
              <a:path w="21600" h="97149">
                <a:moveTo>
                  <a:pt x="3600" y="0"/>
                </a:moveTo>
                <a:arcTo wR="3600" hR="3600" stAng="16200000" swAng="-5400000"/>
                <a:lnTo>
                  <a:pt x="0" y="93549"/>
                </a:lnTo>
                <a:arcTo wR="3600" hR="3600" stAng="10800000" swAng="-5400000"/>
                <a:lnTo>
                  <a:pt x="18000" y="97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44800" y="35751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517120" y="5105520"/>
            <a:ext cx="455400" cy="45864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68320" y="525924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8680" y="533556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170080" y="5257800"/>
            <a:ext cx="650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743200" y="5564160"/>
            <a:ext cx="144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2096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334120"/>
            <a:ext cx="0" cy="566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3526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12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526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128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3526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58128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57150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16280" y="5843520"/>
            <a:ext cx="292320" cy="2923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5105520"/>
            <a:ext cx="291960" cy="2919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11444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67120" y="526104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920840" y="5996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65640" y="5116680"/>
            <a:ext cx="741240" cy="55440"/>
          </a:xfrm>
          <a:custGeom>
            <a:avLst/>
            <a:gdLst/>
            <a:ahLst/>
            <a:rect l="l" t="t" r="r" b="b"/>
            <a:pathLst>
              <a:path w="467" h="35">
                <a:moveTo>
                  <a:pt x="0" y="11"/>
                </a:moveTo>
                <a:cubicBezTo>
                  <a:pt x="98" y="0"/>
                  <a:pt x="78" y="8"/>
                  <a:pt x="155" y="35"/>
                </a:cubicBezTo>
                <a:cubicBezTo>
                  <a:pt x="187" y="14"/>
                  <a:pt x="195" y="9"/>
                  <a:pt x="233" y="19"/>
                </a:cubicBezTo>
                <a:cubicBezTo>
                  <a:pt x="256" y="16"/>
                  <a:pt x="339" y="3"/>
                  <a:pt x="358" y="3"/>
                </a:cubicBezTo>
                <a:cubicBezTo>
                  <a:pt x="377" y="3"/>
                  <a:pt x="394" y="17"/>
                  <a:pt x="413" y="19"/>
                </a:cubicBezTo>
                <a:cubicBezTo>
                  <a:pt x="431" y="21"/>
                  <a:pt x="449" y="19"/>
                  <a:pt x="467" y="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743200" y="4952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49528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5257800"/>
            <a:ext cx="644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54100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4584600"/>
            <a:ext cx="292320" cy="2923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3320" y="4572000"/>
            <a:ext cx="292320" cy="2919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4479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048040" y="4267080"/>
            <a:ext cx="936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040" y="5028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125600" y="22287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2438280"/>
            <a:ext cx="1067040" cy="5335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0240" y="3323160"/>
            <a:ext cx="304920" cy="304200"/>
            <a:chOff x="5340240" y="3323160"/>
            <a:chExt cx="304920" cy="304200"/>
          </a:xfrm>
        </p:grpSpPr>
        <p:sp>
          <p:nvSpPr>
            <p:cNvPr id="99" name=""/>
            <p:cNvSpPr/>
            <p:nvPr/>
          </p:nvSpPr>
          <p:spPr>
            <a:xfrm flipV="1">
              <a:off x="5375880" y="3328200"/>
              <a:ext cx="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79120" y="3323160"/>
              <a:ext cx="22680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379120" y="3328200"/>
              <a:ext cx="22680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609520" y="3328200"/>
              <a:ext cx="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92520" y="3384360"/>
              <a:ext cx="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340240" y="3540960"/>
              <a:ext cx="304920" cy="860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V="1">
            <a:off x="3733920" y="1599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6002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1219320"/>
            <a:ext cx="749160" cy="6858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705720" y="1066680"/>
            <a:ext cx="457200" cy="38124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1447920"/>
            <a:ext cx="0" cy="15228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477120" y="1617840"/>
            <a:ext cx="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476760" y="1447560"/>
            <a:ext cx="228600" cy="15228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1447920"/>
            <a:ext cx="0" cy="1699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430600" y="1849320"/>
            <a:ext cx="383040" cy="396360"/>
            <a:chOff x="5430600" y="1849320"/>
            <a:chExt cx="383040" cy="396360"/>
          </a:xfrm>
        </p:grpSpPr>
        <p:sp>
          <p:nvSpPr>
            <p:cNvPr id="114" name=""/>
            <p:cNvSpPr/>
            <p:nvPr/>
          </p:nvSpPr>
          <p:spPr>
            <a:xfrm>
              <a:off x="5553000" y="2142000"/>
              <a:ext cx="586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617080" y="2022120"/>
              <a:ext cx="13248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555880" y="2127600"/>
              <a:ext cx="25452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54960" y="2024640"/>
              <a:ext cx="586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5605200" y="1999800"/>
              <a:ext cx="792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791000">
              <a:off x="5431320" y="1919880"/>
              <a:ext cx="304920" cy="8604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343400" y="1752480"/>
            <a:ext cx="291960" cy="2923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1752480"/>
            <a:ext cx="291960" cy="2923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1905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791320" y="1600200"/>
            <a:ext cx="685800" cy="45720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19051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848720" y="3124080"/>
            <a:ext cx="304560" cy="304560"/>
            <a:chOff x="7848720" y="3124080"/>
            <a:chExt cx="304560" cy="304560"/>
          </a:xfrm>
        </p:grpSpPr>
        <p:sp>
          <p:nvSpPr>
            <p:cNvPr id="129" name=""/>
            <p:cNvSpPr/>
            <p:nvPr/>
          </p:nvSpPr>
          <p:spPr>
            <a:xfrm>
              <a:off x="7884360" y="3306960"/>
              <a:ext cx="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7887600" y="3301560"/>
              <a:ext cx="2268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87600" y="3306960"/>
              <a:ext cx="22680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17640" y="3306960"/>
              <a:ext cx="0" cy="11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8001000" y="3210120"/>
              <a:ext cx="0" cy="1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48720" y="3124080"/>
              <a:ext cx="304560" cy="86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7315200" y="2666880"/>
            <a:ext cx="291960" cy="2923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2666880"/>
            <a:ext cx="291960" cy="2923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53280" y="33526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45160" y="3373560"/>
            <a:ext cx="22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2920" y="2819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010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82440" y="358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1720" y="2668680"/>
            <a:ext cx="1038240" cy="74520"/>
          </a:xfrm>
          <a:custGeom>
            <a:avLst/>
            <a:gdLst/>
            <a:ahLst/>
            <a:rect l="l" t="t" r="r" b="b"/>
            <a:pathLst>
              <a:path w="654" h="47">
                <a:moveTo>
                  <a:pt x="0" y="10"/>
                </a:moveTo>
                <a:cubicBezTo>
                  <a:pt x="52" y="28"/>
                  <a:pt x="118" y="10"/>
                  <a:pt x="179" y="18"/>
                </a:cubicBezTo>
                <a:cubicBezTo>
                  <a:pt x="238" y="39"/>
                  <a:pt x="169" y="18"/>
                  <a:pt x="296" y="18"/>
                </a:cubicBezTo>
                <a:cubicBezTo>
                  <a:pt x="332" y="18"/>
                  <a:pt x="369" y="23"/>
                  <a:pt x="405" y="26"/>
                </a:cubicBezTo>
                <a:cubicBezTo>
                  <a:pt x="474" y="47"/>
                  <a:pt x="521" y="7"/>
                  <a:pt x="584" y="2"/>
                </a:cubicBezTo>
                <a:cubicBezTo>
                  <a:pt x="607" y="0"/>
                  <a:pt x="631" y="2"/>
                  <a:pt x="654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333760" y="2209680"/>
            <a:ext cx="228600" cy="1526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13200" y="2241720"/>
            <a:ext cx="0" cy="114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11400" y="3389400"/>
            <a:ext cx="54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48160" y="3774960"/>
            <a:ext cx="292320" cy="2923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31000" y="3800520"/>
            <a:ext cx="291960" cy="2919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73920" y="337824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629320" y="3933720"/>
            <a:ext cx="296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79920" y="3612960"/>
            <a:ext cx="12960" cy="16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7680" y="312300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32400" y="3029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35800" y="5039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84680" y="6174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67560" y="271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8600" y="4527720"/>
            <a:ext cx="29196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36800" y="4106880"/>
            <a:ext cx="29232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130560" y="470052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984400" y="4392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053800" y="4268880"/>
            <a:ext cx="77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81160" y="383544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73560" y="2325600"/>
            <a:ext cx="291960" cy="292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73560" y="3786120"/>
            <a:ext cx="291960" cy="292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119480" y="2475000"/>
            <a:ext cx="1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6480" y="2622600"/>
            <a:ext cx="0" cy="1174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029200" y="2057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419720" y="405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08840" y="10656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rige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668760" y="5859360"/>
            <a:ext cx="304560" cy="304920"/>
            <a:chOff x="3668760" y="5859360"/>
            <a:chExt cx="304560" cy="304920"/>
          </a:xfrm>
        </p:grpSpPr>
        <p:sp>
          <p:nvSpPr>
            <p:cNvPr id="173" name=""/>
            <p:cNvSpPr/>
            <p:nvPr/>
          </p:nvSpPr>
          <p:spPr>
            <a:xfrm flipH="1">
              <a:off x="3673800" y="589500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5898240"/>
              <a:ext cx="12708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673800" y="5898240"/>
              <a:ext cx="11664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673800" y="6128640"/>
              <a:ext cx="11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29960" y="6011640"/>
              <a:ext cx="15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3777480" y="5968440"/>
              <a:ext cx="304920" cy="86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H="1">
            <a:off x="3719160" y="6140520"/>
            <a:ext cx="12600" cy="37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81320" y="5846760"/>
            <a:ext cx="292320" cy="2919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33960" y="572940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948120" y="6012000"/>
            <a:ext cx="146160" cy="1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385880" y="599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84560" y="5479920"/>
            <a:ext cx="292320" cy="2923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2760" y="564048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9760" y="523404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641840" y="38862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648320" y="3873600"/>
            <a:ext cx="44424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3886200"/>
            <a:ext cx="4442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99040" y="38862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870440" y="364464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3429000"/>
            <a:ext cx="596880" cy="216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032360"/>
            <a:ext cx="1054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3429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de flujo conven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886200"/>
            <a:ext cx="68580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4038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4038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172200" y="3416400"/>
            <a:ext cx="0" cy="65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3429000"/>
            <a:ext cx="2133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809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426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362320"/>
            <a:ext cx="609480" cy="60948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58128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6668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2895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2666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2057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89160" y="31608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mba centrífu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495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udalí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álv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3276720"/>
            <a:ext cx="1066680" cy="3045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981080" y="3998880"/>
            <a:ext cx="609840" cy="5335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4260960"/>
            <a:ext cx="942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114640" y="4515840"/>
            <a:ext cx="371520" cy="98280"/>
          </a:xfrm>
          <a:custGeom>
            <a:avLst/>
            <a:gdLst>
              <a:gd name="textAreaLeft" fmla="*/ 81720 w 371520"/>
              <a:gd name="textAreaRight" fmla="*/ 289800 w 371520"/>
              <a:gd name="textAreaTop" fmla="*/ 21600 h 98280"/>
              <a:gd name="textAreaBottom" fmla="*/ 76680 h 9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24382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64832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24382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25909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800600" y="30477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800600" y="3124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276720" y="5257800"/>
                <a:ext cx="530532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t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1828800" y="571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ñales del sis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2286000"/>
            <a:ext cx="160020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2286000"/>
            <a:ext cx="1447920" cy="609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86200" y="2590920"/>
            <a:ext cx="12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92960" y="2590920"/>
            <a:ext cx="1114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259092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2606760"/>
            <a:ext cx="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209320" y="3429000"/>
            <a:ext cx="473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209680" y="2895480"/>
            <a:ext cx="0" cy="55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50080" y="3206880"/>
            <a:ext cx="444240" cy="444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7240" y="2368440"/>
            <a:ext cx="29232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0080" y="2590920"/>
            <a:ext cx="35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84240" y="3733920"/>
            <a:ext cx="1572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0" y="1752480"/>
            <a:ext cx="1316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440" y="198108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4648320"/>
            <a:ext cx="7772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señales de entrada y salida al regulador 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ñales normalizadas, normalmente de 4-2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057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20574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3429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-2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2590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-2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9840" y="2597040"/>
            <a:ext cx="1282680" cy="318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435480" y="3727440"/>
            <a:ext cx="2273040" cy="20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359160" y="1898640"/>
            <a:ext cx="234936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1911240"/>
            <a:ext cx="0" cy="18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139840" y="1898640"/>
            <a:ext cx="265428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7080" y="190512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514600" y="3631680"/>
            <a:ext cx="0" cy="104148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666880" y="3403440"/>
            <a:ext cx="0" cy="12700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44760" y="4952880"/>
            <a:ext cx="44460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4240" y="4121280"/>
            <a:ext cx="292320" cy="2156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54240" y="3664080"/>
            <a:ext cx="292320" cy="2156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2482920" y="5226120"/>
            <a:ext cx="139680" cy="21600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rot="16200000">
            <a:off x="2482920" y="5378400"/>
            <a:ext cx="139680" cy="21600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93120" y="2652840"/>
            <a:ext cx="1019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  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V 4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4240" y="5264280"/>
            <a:ext cx="216000" cy="215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15000" y="1476360"/>
            <a:ext cx="1501920" cy="887400"/>
          </a:xfrm>
          <a:custGeom>
            <a:avLst/>
            <a:gdLst/>
            <a:ahLst/>
            <a:rect l="l" t="t" r="r" b="b"/>
            <a:pathLst>
              <a:path w="946" h="559">
                <a:moveTo>
                  <a:pt x="0" y="558"/>
                </a:moveTo>
                <a:lnTo>
                  <a:pt x="45" y="540"/>
                </a:lnTo>
                <a:lnTo>
                  <a:pt x="105" y="510"/>
                </a:lnTo>
                <a:lnTo>
                  <a:pt x="165" y="480"/>
                </a:lnTo>
                <a:lnTo>
                  <a:pt x="225" y="480"/>
                </a:lnTo>
                <a:lnTo>
                  <a:pt x="285" y="450"/>
                </a:lnTo>
                <a:lnTo>
                  <a:pt x="345" y="420"/>
                </a:lnTo>
                <a:lnTo>
                  <a:pt x="405" y="360"/>
                </a:lnTo>
                <a:lnTo>
                  <a:pt x="465" y="330"/>
                </a:lnTo>
                <a:lnTo>
                  <a:pt x="495" y="270"/>
                </a:lnTo>
                <a:lnTo>
                  <a:pt x="555" y="210"/>
                </a:lnTo>
                <a:lnTo>
                  <a:pt x="585" y="150"/>
                </a:lnTo>
                <a:lnTo>
                  <a:pt x="675" y="90"/>
                </a:lnTo>
                <a:lnTo>
                  <a:pt x="735" y="30"/>
                </a:lnTo>
                <a:lnTo>
                  <a:pt x="795" y="30"/>
                </a:lnTo>
                <a:lnTo>
                  <a:pt x="855" y="30"/>
                </a:lnTo>
                <a:lnTo>
                  <a:pt x="915" y="60"/>
                </a:lnTo>
                <a:lnTo>
                  <a:pt x="94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15000" y="1628640"/>
            <a:ext cx="1501920" cy="887400"/>
          </a:xfrm>
          <a:custGeom>
            <a:avLst/>
            <a:gdLst/>
            <a:ahLst/>
            <a:rect l="l" t="t" r="r" b="b"/>
            <a:pathLst>
              <a:path w="946" h="559">
                <a:moveTo>
                  <a:pt x="0" y="558"/>
                </a:moveTo>
                <a:lnTo>
                  <a:pt x="45" y="540"/>
                </a:lnTo>
                <a:lnTo>
                  <a:pt x="105" y="510"/>
                </a:lnTo>
                <a:lnTo>
                  <a:pt x="165" y="480"/>
                </a:lnTo>
                <a:lnTo>
                  <a:pt x="225" y="480"/>
                </a:lnTo>
                <a:lnTo>
                  <a:pt x="285" y="450"/>
                </a:lnTo>
                <a:lnTo>
                  <a:pt x="345" y="420"/>
                </a:lnTo>
                <a:lnTo>
                  <a:pt x="405" y="360"/>
                </a:lnTo>
                <a:lnTo>
                  <a:pt x="465" y="330"/>
                </a:lnTo>
                <a:lnTo>
                  <a:pt x="495" y="270"/>
                </a:lnTo>
                <a:lnTo>
                  <a:pt x="555" y="210"/>
                </a:lnTo>
                <a:lnTo>
                  <a:pt x="585" y="150"/>
                </a:lnTo>
                <a:lnTo>
                  <a:pt x="675" y="90"/>
                </a:lnTo>
                <a:lnTo>
                  <a:pt x="735" y="30"/>
                </a:lnTo>
                <a:lnTo>
                  <a:pt x="795" y="30"/>
                </a:lnTo>
                <a:lnTo>
                  <a:pt x="855" y="30"/>
                </a:lnTo>
                <a:lnTo>
                  <a:pt x="915" y="60"/>
                </a:lnTo>
                <a:lnTo>
                  <a:pt x="94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3200400"/>
            <a:ext cx="1549440" cy="18252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3352680"/>
            <a:ext cx="1549440" cy="182520"/>
          </a:xfrm>
          <a:custGeom>
            <a:avLst/>
            <a:gdLst/>
            <a:ahLst/>
            <a:rect l="l" t="t" r="r" b="b"/>
            <a:pathLst>
              <a:path w="976" h="115">
                <a:moveTo>
                  <a:pt x="0" y="0"/>
                </a:moveTo>
                <a:lnTo>
                  <a:pt x="75" y="54"/>
                </a:lnTo>
                <a:lnTo>
                  <a:pt x="255" y="54"/>
                </a:lnTo>
                <a:lnTo>
                  <a:pt x="435" y="84"/>
                </a:lnTo>
                <a:lnTo>
                  <a:pt x="495" y="84"/>
                </a:lnTo>
                <a:lnTo>
                  <a:pt x="555" y="84"/>
                </a:lnTo>
                <a:lnTo>
                  <a:pt x="615" y="54"/>
                </a:lnTo>
                <a:lnTo>
                  <a:pt x="675" y="54"/>
                </a:lnTo>
                <a:lnTo>
                  <a:pt x="735" y="54"/>
                </a:lnTo>
                <a:lnTo>
                  <a:pt x="795" y="54"/>
                </a:lnTo>
                <a:lnTo>
                  <a:pt x="855" y="84"/>
                </a:lnTo>
                <a:lnTo>
                  <a:pt x="915" y="114"/>
                </a:lnTo>
                <a:lnTo>
                  <a:pt x="975" y="1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99360" y="976320"/>
            <a:ext cx="1723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20 mA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m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75680" y="2881440"/>
            <a:ext cx="1571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-20 mA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91120" y="411480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regulador analógico opera de forma continua mediante circuitos electrónicos que implementan las funciones de regulación (P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nel de una sala de control convencional (analógic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029200" y="2209680"/>
            <a:ext cx="3831840" cy="1766520"/>
            <a:chOff x="5029200" y="2209680"/>
            <a:chExt cx="3831840" cy="1766520"/>
          </a:xfrm>
        </p:grpSpPr>
        <p:sp>
          <p:nvSpPr>
            <p:cNvPr id="271" name=""/>
            <p:cNvSpPr/>
            <p:nvPr/>
          </p:nvSpPr>
          <p:spPr>
            <a:xfrm>
              <a:off x="5029200" y="2803680"/>
              <a:ext cx="524160" cy="11682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558760" y="3217680"/>
              <a:ext cx="929160" cy="75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527440" y="2547360"/>
              <a:ext cx="960120" cy="25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90440" y="2552040"/>
              <a:ext cx="0" cy="66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029200" y="2547360"/>
              <a:ext cx="1085040" cy="25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19280" y="25498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182200" y="3182760"/>
              <a:ext cx="0" cy="38160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244480" y="3098880"/>
              <a:ext cx="0" cy="465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53760" y="3666960"/>
              <a:ext cx="18144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02880" y="3362400"/>
              <a:ext cx="119160" cy="788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02880" y="3194640"/>
              <a:ext cx="119160" cy="788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5172120" y="3762360"/>
              <a:ext cx="51120" cy="8820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5171040" y="3818160"/>
              <a:ext cx="51120" cy="88200"/>
            </a:xfrm>
            <a:prstGeom prst="rightArrow">
              <a:avLst>
                <a:gd name="adj1" fmla="val 75000"/>
                <a:gd name="adj2" fmla="val 5000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49360" y="2823840"/>
              <a:ext cx="51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imes New Roman"/>
                </a:rPr>
                <a:t>SP  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808080"/>
                  </a:solidFill>
                  <a:latin typeface="Times New Roman"/>
                </a:rPr>
                <a:t>PV 45.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02880" y="3781080"/>
              <a:ext cx="88200" cy="78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90440" y="2392920"/>
              <a:ext cx="613800" cy="325080"/>
            </a:xfrm>
            <a:custGeom>
              <a:avLst/>
              <a:gdLst/>
              <a:ahLst/>
              <a:rect l="l" t="t" r="r" b="b"/>
              <a:pathLst>
                <a:path w="946" h="559">
                  <a:moveTo>
                    <a:pt x="0" y="558"/>
                  </a:moveTo>
                  <a:lnTo>
                    <a:pt x="45" y="540"/>
                  </a:lnTo>
                  <a:lnTo>
                    <a:pt x="105" y="510"/>
                  </a:lnTo>
                  <a:lnTo>
                    <a:pt x="165" y="480"/>
                  </a:lnTo>
                  <a:lnTo>
                    <a:pt x="225" y="480"/>
                  </a:lnTo>
                  <a:lnTo>
                    <a:pt x="285" y="450"/>
                  </a:lnTo>
                  <a:lnTo>
                    <a:pt x="345" y="420"/>
                  </a:lnTo>
                  <a:lnTo>
                    <a:pt x="405" y="360"/>
                  </a:lnTo>
                  <a:lnTo>
                    <a:pt x="465" y="330"/>
                  </a:lnTo>
                  <a:lnTo>
                    <a:pt x="495" y="270"/>
                  </a:lnTo>
                  <a:lnTo>
                    <a:pt x="555" y="210"/>
                  </a:lnTo>
                  <a:lnTo>
                    <a:pt x="585" y="150"/>
                  </a:lnTo>
                  <a:lnTo>
                    <a:pt x="675" y="90"/>
                  </a:lnTo>
                  <a:lnTo>
                    <a:pt x="735" y="30"/>
                  </a:lnTo>
                  <a:lnTo>
                    <a:pt x="795" y="30"/>
                  </a:lnTo>
                  <a:lnTo>
                    <a:pt x="855" y="30"/>
                  </a:lnTo>
                  <a:lnTo>
                    <a:pt x="915" y="60"/>
                  </a:lnTo>
                  <a:lnTo>
                    <a:pt x="9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90440" y="2448720"/>
              <a:ext cx="613800" cy="325080"/>
            </a:xfrm>
            <a:custGeom>
              <a:avLst/>
              <a:gdLst/>
              <a:ahLst/>
              <a:rect l="l" t="t" r="r" b="b"/>
              <a:pathLst>
                <a:path w="946" h="559">
                  <a:moveTo>
                    <a:pt x="0" y="558"/>
                  </a:moveTo>
                  <a:lnTo>
                    <a:pt x="45" y="540"/>
                  </a:lnTo>
                  <a:lnTo>
                    <a:pt x="105" y="510"/>
                  </a:lnTo>
                  <a:lnTo>
                    <a:pt x="165" y="480"/>
                  </a:lnTo>
                  <a:lnTo>
                    <a:pt x="225" y="480"/>
                  </a:lnTo>
                  <a:lnTo>
                    <a:pt x="285" y="450"/>
                  </a:lnTo>
                  <a:lnTo>
                    <a:pt x="345" y="420"/>
                  </a:lnTo>
                  <a:lnTo>
                    <a:pt x="405" y="360"/>
                  </a:lnTo>
                  <a:lnTo>
                    <a:pt x="465" y="330"/>
                  </a:lnTo>
                  <a:lnTo>
                    <a:pt x="495" y="270"/>
                  </a:lnTo>
                  <a:lnTo>
                    <a:pt x="555" y="210"/>
                  </a:lnTo>
                  <a:lnTo>
                    <a:pt x="585" y="150"/>
                  </a:lnTo>
                  <a:lnTo>
                    <a:pt x="675" y="90"/>
                  </a:lnTo>
                  <a:lnTo>
                    <a:pt x="735" y="30"/>
                  </a:lnTo>
                  <a:lnTo>
                    <a:pt x="795" y="30"/>
                  </a:lnTo>
                  <a:lnTo>
                    <a:pt x="855" y="30"/>
                  </a:lnTo>
                  <a:lnTo>
                    <a:pt x="915" y="60"/>
                  </a:lnTo>
                  <a:lnTo>
                    <a:pt x="9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90440" y="3024720"/>
              <a:ext cx="633240" cy="66600"/>
            </a:xfrm>
            <a:custGeom>
              <a:avLst/>
              <a:gdLst/>
              <a:ahLst/>
              <a:rect l="l" t="t" r="r" b="b"/>
              <a:pathLst>
                <a:path w="976" h="115">
                  <a:moveTo>
                    <a:pt x="0" y="0"/>
                  </a:moveTo>
                  <a:lnTo>
                    <a:pt x="75" y="54"/>
                  </a:lnTo>
                  <a:lnTo>
                    <a:pt x="255" y="54"/>
                  </a:lnTo>
                  <a:lnTo>
                    <a:pt x="435" y="84"/>
                  </a:lnTo>
                  <a:lnTo>
                    <a:pt x="495" y="84"/>
                  </a:lnTo>
                  <a:lnTo>
                    <a:pt x="555" y="84"/>
                  </a:lnTo>
                  <a:lnTo>
                    <a:pt x="615" y="54"/>
                  </a:lnTo>
                  <a:lnTo>
                    <a:pt x="675" y="54"/>
                  </a:lnTo>
                  <a:lnTo>
                    <a:pt x="735" y="54"/>
                  </a:lnTo>
                  <a:lnTo>
                    <a:pt x="795" y="54"/>
                  </a:lnTo>
                  <a:lnTo>
                    <a:pt x="855" y="84"/>
                  </a:lnTo>
                  <a:lnTo>
                    <a:pt x="915" y="114"/>
                  </a:lnTo>
                  <a:lnTo>
                    <a:pt x="975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90440" y="3080520"/>
              <a:ext cx="633240" cy="66600"/>
            </a:xfrm>
            <a:custGeom>
              <a:avLst/>
              <a:gdLst/>
              <a:ahLst/>
              <a:rect l="l" t="t" r="r" b="b"/>
              <a:pathLst>
                <a:path w="976" h="115">
                  <a:moveTo>
                    <a:pt x="0" y="0"/>
                  </a:moveTo>
                  <a:lnTo>
                    <a:pt x="75" y="54"/>
                  </a:lnTo>
                  <a:lnTo>
                    <a:pt x="255" y="54"/>
                  </a:lnTo>
                  <a:lnTo>
                    <a:pt x="435" y="84"/>
                  </a:lnTo>
                  <a:lnTo>
                    <a:pt x="495" y="84"/>
                  </a:lnTo>
                  <a:lnTo>
                    <a:pt x="555" y="84"/>
                  </a:lnTo>
                  <a:lnTo>
                    <a:pt x="615" y="54"/>
                  </a:lnTo>
                  <a:lnTo>
                    <a:pt x="675" y="54"/>
                  </a:lnTo>
                  <a:lnTo>
                    <a:pt x="735" y="54"/>
                  </a:lnTo>
                  <a:lnTo>
                    <a:pt x="795" y="54"/>
                  </a:lnTo>
                  <a:lnTo>
                    <a:pt x="855" y="84"/>
                  </a:lnTo>
                  <a:lnTo>
                    <a:pt x="915" y="114"/>
                  </a:lnTo>
                  <a:lnTo>
                    <a:pt x="975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37360" y="2209680"/>
              <a:ext cx="1723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-20 mA 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ransmi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69040" y="2908440"/>
              <a:ext cx="1571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4-20 mA 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ctu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191120" cy="30304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 flipH="1">
            <a:off x="3657600" y="3657600"/>
            <a:ext cx="1295280" cy="533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29200" y="4114800"/>
            <a:ext cx="3505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lazo de regulación va asociado a un controlador del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adores, registradores, pulsadores, alarmas, sinopticos,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22:18:33Z</dcterms:created>
  <dc:creator>Ing. de Sistemas y Automatica</dc:creator>
  <dc:description/>
  <dc:language>en-US</dc:language>
  <cp:lastModifiedBy>Dpto. de Ing. de Sistemas y Automatica</cp:lastModifiedBy>
  <dcterms:modified xsi:type="dcterms:W3CDTF">2005-03-28T07:33:26Z</dcterms:modified>
  <cp:revision>25</cp:revision>
  <dc:subject/>
  <dc:title>Control por computador</dc:title>
</cp:coreProperties>
</file>