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_rels/notesSlide5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5.xml.rels" ContentType="application/vnd.openxmlformats-package.relationships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3273-80DB-4ECE-AF37-26E71A283C5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F2E5-3C9F-4942-A9B7-E575F090DC9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884760" y="6480"/>
            <a:ext cx="2973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884760" y="8704440"/>
            <a:ext cx="2973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-1440" y="870444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-1440" y="648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912960" y="4360680"/>
            <a:ext cx="5029200" cy="361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55EC-406D-4E20-AD11-9055C25F35E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884760" y="6480"/>
            <a:ext cx="2973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884760" y="8704440"/>
            <a:ext cx="2973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-1440" y="870444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-1440" y="648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912960" y="4360680"/>
            <a:ext cx="5029200" cy="361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1847-5C75-4992-A7FF-57489846817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884760" y="6480"/>
            <a:ext cx="2973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884760" y="8704440"/>
            <a:ext cx="2973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-1440" y="870444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-1440" y="648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912960" y="4360680"/>
            <a:ext cx="5029200" cy="361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EC98-D938-4103-977E-4716FA36A9B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884760" y="6480"/>
            <a:ext cx="2973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884760" y="8704440"/>
            <a:ext cx="2973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-1440" y="870444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-1440" y="648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912960" y="4360680"/>
            <a:ext cx="5029200" cy="361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A3A2-BF7B-4719-B037-8BC6FE96038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884760" y="6480"/>
            <a:ext cx="2973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3884760" y="8704440"/>
            <a:ext cx="2973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-1440" y="870444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-1440" y="648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912960" y="4360680"/>
            <a:ext cx="5029200" cy="361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6659-8BE7-4E10-B65F-268F2950D7F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884760" y="6480"/>
            <a:ext cx="2973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884760" y="8704440"/>
            <a:ext cx="2973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-1440" y="870444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-1440" y="648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912960" y="4360680"/>
            <a:ext cx="5029200" cy="361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D298-F995-42EB-B671-F1AD91614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7ADA-E91A-4A0F-B2C3-66C7A761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599A-208D-4BC1-A5DC-48469DC9E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6DB3-7D3C-46D7-84BE-48BB5DE79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E331-27B0-4CE7-B682-9BB27571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0B40-9BD1-4C44-A669-FC0FC7B5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9765-7D35-429E-A691-5798BD7D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2B19-7794-4CC0-8C5D-98D6F500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2995-51DE-4F9D-95CF-3FC00523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18E4-4C8D-4E7C-814C-F8F4A0A6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70C8-9A23-43F3-A081-887C0F72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E222-0DA4-4DBA-9819-6C8829F5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79F6-95AF-4EC2-8DEF-9979FB356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C:\programas\simumodu\SIMUMODU.EXE" TargetMode="External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C:\EDIT\CLASE\Control\segundoorden.exe" TargetMode="Externa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C:\EDIT\CLASE\Control\termicos.ppt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C:\Programas\CSTATION\Cstation.exe" TargetMode="Externa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álisis de sistemas en el dominio de la frecu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f. Cesar de P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pt. Ingenieria de Sistemas y Autom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ultad de Ci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iversidad de Vallad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ada@autom.uva.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puesta en frecu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9810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 valores de la atenuación |G(j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|  y el desfas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rg(G(j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 que introduce un sistema lineal dependen solo de G(s) y pueden representarse en función de la frecuenci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 diversos tipos de diagramas sin mas que sustituir la variable s por j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 G(s) y calcular el módulo y argumento del complejo G(j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resul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779400" y="4213080"/>
                <a:ext cx="7129440" cy="16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num>
                          <m:den>
                            <m:sSup>
                              <m:e>
                                <m:r>
                                  <m:t xml:space="preserve">j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jω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jω</m:t>
                            </m:r>
                          </m:den>
                        </m:f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−</m:t>
                                        </m:r>
                                        <m:sSup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9</m:t>
                                </m:r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700280" y="1581120"/>
            <a:ext cx="6248160" cy="46846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grama de B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4800" y="4114800"/>
            <a:ext cx="160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g(G(j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) en g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4240" y="1981080"/>
            <a:ext cx="18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G(j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| en 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62960" y="3657600"/>
            <a:ext cx="30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escala logarit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58672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B = 20log | . 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562720" y="2895480"/>
            <a:ext cx="0" cy="865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819520" y="2919240"/>
            <a:ext cx="2743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567400" y="5246280"/>
            <a:ext cx="0" cy="3459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798640" y="5237280"/>
            <a:ext cx="2743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37520" y="5994360"/>
            <a:ext cx="23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tlab: bode(s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fase en gra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32040" y="2571840"/>
            <a:ext cx="5729400" cy="814320"/>
          </a:xfrm>
          <a:custGeom>
            <a:avLst/>
            <a:gdLst/>
            <a:ahLst/>
            <a:rect l="l" t="t" r="r" b="b"/>
            <a:pathLst>
              <a:path w="850" h="513">
                <a:moveTo>
                  <a:pt x="0" y="258"/>
                </a:moveTo>
                <a:cubicBezTo>
                  <a:pt x="17" y="228"/>
                  <a:pt x="35" y="199"/>
                  <a:pt x="47" y="172"/>
                </a:cubicBezTo>
                <a:cubicBezTo>
                  <a:pt x="59" y="145"/>
                  <a:pt x="62" y="116"/>
                  <a:pt x="70" y="94"/>
                </a:cubicBezTo>
                <a:cubicBezTo>
                  <a:pt x="78" y="72"/>
                  <a:pt x="86" y="55"/>
                  <a:pt x="94" y="40"/>
                </a:cubicBezTo>
                <a:cubicBezTo>
                  <a:pt x="102" y="25"/>
                  <a:pt x="105" y="2"/>
                  <a:pt x="117" y="1"/>
                </a:cubicBezTo>
                <a:cubicBezTo>
                  <a:pt x="129" y="0"/>
                  <a:pt x="154" y="18"/>
                  <a:pt x="164" y="32"/>
                </a:cubicBezTo>
                <a:cubicBezTo>
                  <a:pt x="174" y="46"/>
                  <a:pt x="170" y="60"/>
                  <a:pt x="179" y="86"/>
                </a:cubicBezTo>
                <a:cubicBezTo>
                  <a:pt x="188" y="112"/>
                  <a:pt x="209" y="163"/>
                  <a:pt x="218" y="188"/>
                </a:cubicBezTo>
                <a:cubicBezTo>
                  <a:pt x="227" y="213"/>
                  <a:pt x="228" y="206"/>
                  <a:pt x="234" y="234"/>
                </a:cubicBezTo>
                <a:cubicBezTo>
                  <a:pt x="240" y="262"/>
                  <a:pt x="249" y="329"/>
                  <a:pt x="257" y="359"/>
                </a:cubicBezTo>
                <a:cubicBezTo>
                  <a:pt x="265" y="389"/>
                  <a:pt x="272" y="397"/>
                  <a:pt x="281" y="414"/>
                </a:cubicBezTo>
                <a:cubicBezTo>
                  <a:pt x="290" y="431"/>
                  <a:pt x="306" y="445"/>
                  <a:pt x="312" y="460"/>
                </a:cubicBezTo>
                <a:cubicBezTo>
                  <a:pt x="318" y="475"/>
                  <a:pt x="310" y="501"/>
                  <a:pt x="320" y="507"/>
                </a:cubicBezTo>
                <a:cubicBezTo>
                  <a:pt x="330" y="513"/>
                  <a:pt x="360" y="509"/>
                  <a:pt x="374" y="499"/>
                </a:cubicBezTo>
                <a:cubicBezTo>
                  <a:pt x="388" y="489"/>
                  <a:pt x="394" y="470"/>
                  <a:pt x="405" y="445"/>
                </a:cubicBezTo>
                <a:cubicBezTo>
                  <a:pt x="416" y="420"/>
                  <a:pt x="428" y="377"/>
                  <a:pt x="437" y="351"/>
                </a:cubicBezTo>
                <a:cubicBezTo>
                  <a:pt x="446" y="325"/>
                  <a:pt x="455" y="308"/>
                  <a:pt x="460" y="289"/>
                </a:cubicBezTo>
                <a:cubicBezTo>
                  <a:pt x="465" y="270"/>
                  <a:pt x="464" y="253"/>
                  <a:pt x="468" y="234"/>
                </a:cubicBezTo>
                <a:cubicBezTo>
                  <a:pt x="472" y="215"/>
                  <a:pt x="478" y="190"/>
                  <a:pt x="483" y="172"/>
                </a:cubicBezTo>
                <a:cubicBezTo>
                  <a:pt x="488" y="154"/>
                  <a:pt x="493" y="142"/>
                  <a:pt x="499" y="125"/>
                </a:cubicBezTo>
                <a:cubicBezTo>
                  <a:pt x="505" y="108"/>
                  <a:pt x="516" y="90"/>
                  <a:pt x="522" y="71"/>
                </a:cubicBezTo>
                <a:cubicBezTo>
                  <a:pt x="528" y="52"/>
                  <a:pt x="526" y="13"/>
                  <a:pt x="538" y="8"/>
                </a:cubicBezTo>
                <a:cubicBezTo>
                  <a:pt x="550" y="3"/>
                  <a:pt x="574" y="17"/>
                  <a:pt x="592" y="40"/>
                </a:cubicBezTo>
                <a:cubicBezTo>
                  <a:pt x="610" y="63"/>
                  <a:pt x="635" y="119"/>
                  <a:pt x="647" y="149"/>
                </a:cubicBezTo>
                <a:cubicBezTo>
                  <a:pt x="659" y="179"/>
                  <a:pt x="657" y="192"/>
                  <a:pt x="663" y="219"/>
                </a:cubicBezTo>
                <a:cubicBezTo>
                  <a:pt x="669" y="246"/>
                  <a:pt x="681" y="289"/>
                  <a:pt x="686" y="312"/>
                </a:cubicBezTo>
                <a:cubicBezTo>
                  <a:pt x="691" y="335"/>
                  <a:pt x="691" y="343"/>
                  <a:pt x="694" y="359"/>
                </a:cubicBezTo>
                <a:cubicBezTo>
                  <a:pt x="697" y="375"/>
                  <a:pt x="696" y="392"/>
                  <a:pt x="702" y="406"/>
                </a:cubicBezTo>
                <a:cubicBezTo>
                  <a:pt x="708" y="420"/>
                  <a:pt x="723" y="431"/>
                  <a:pt x="733" y="445"/>
                </a:cubicBezTo>
                <a:cubicBezTo>
                  <a:pt x="743" y="459"/>
                  <a:pt x="750" y="487"/>
                  <a:pt x="764" y="492"/>
                </a:cubicBezTo>
                <a:cubicBezTo>
                  <a:pt x="778" y="497"/>
                  <a:pt x="804" y="488"/>
                  <a:pt x="818" y="476"/>
                </a:cubicBezTo>
                <a:cubicBezTo>
                  <a:pt x="832" y="464"/>
                  <a:pt x="845" y="431"/>
                  <a:pt x="850" y="4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33760" y="2241720"/>
            <a:ext cx="28321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83160" y="2317680"/>
            <a:ext cx="13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0º =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3746520"/>
            <a:ext cx="5729040" cy="814320"/>
          </a:xfrm>
          <a:custGeom>
            <a:avLst/>
            <a:gdLst/>
            <a:ahLst/>
            <a:rect l="l" t="t" r="r" b="b"/>
            <a:pathLst>
              <a:path w="850" h="513">
                <a:moveTo>
                  <a:pt x="0" y="258"/>
                </a:moveTo>
                <a:cubicBezTo>
                  <a:pt x="17" y="228"/>
                  <a:pt x="35" y="199"/>
                  <a:pt x="47" y="172"/>
                </a:cubicBezTo>
                <a:cubicBezTo>
                  <a:pt x="59" y="145"/>
                  <a:pt x="62" y="116"/>
                  <a:pt x="70" y="94"/>
                </a:cubicBezTo>
                <a:cubicBezTo>
                  <a:pt x="78" y="72"/>
                  <a:pt x="86" y="55"/>
                  <a:pt x="94" y="40"/>
                </a:cubicBezTo>
                <a:cubicBezTo>
                  <a:pt x="102" y="25"/>
                  <a:pt x="105" y="2"/>
                  <a:pt x="117" y="1"/>
                </a:cubicBezTo>
                <a:cubicBezTo>
                  <a:pt x="129" y="0"/>
                  <a:pt x="154" y="18"/>
                  <a:pt x="164" y="32"/>
                </a:cubicBezTo>
                <a:cubicBezTo>
                  <a:pt x="174" y="46"/>
                  <a:pt x="170" y="60"/>
                  <a:pt x="179" y="86"/>
                </a:cubicBezTo>
                <a:cubicBezTo>
                  <a:pt x="188" y="112"/>
                  <a:pt x="209" y="163"/>
                  <a:pt x="218" y="188"/>
                </a:cubicBezTo>
                <a:cubicBezTo>
                  <a:pt x="227" y="213"/>
                  <a:pt x="228" y="206"/>
                  <a:pt x="234" y="234"/>
                </a:cubicBezTo>
                <a:cubicBezTo>
                  <a:pt x="240" y="262"/>
                  <a:pt x="249" y="329"/>
                  <a:pt x="257" y="359"/>
                </a:cubicBezTo>
                <a:cubicBezTo>
                  <a:pt x="265" y="389"/>
                  <a:pt x="272" y="397"/>
                  <a:pt x="281" y="414"/>
                </a:cubicBezTo>
                <a:cubicBezTo>
                  <a:pt x="290" y="431"/>
                  <a:pt x="306" y="445"/>
                  <a:pt x="312" y="460"/>
                </a:cubicBezTo>
                <a:cubicBezTo>
                  <a:pt x="318" y="475"/>
                  <a:pt x="310" y="501"/>
                  <a:pt x="320" y="507"/>
                </a:cubicBezTo>
                <a:cubicBezTo>
                  <a:pt x="330" y="513"/>
                  <a:pt x="360" y="509"/>
                  <a:pt x="374" y="499"/>
                </a:cubicBezTo>
                <a:cubicBezTo>
                  <a:pt x="388" y="489"/>
                  <a:pt x="394" y="470"/>
                  <a:pt x="405" y="445"/>
                </a:cubicBezTo>
                <a:cubicBezTo>
                  <a:pt x="416" y="420"/>
                  <a:pt x="428" y="377"/>
                  <a:pt x="437" y="351"/>
                </a:cubicBezTo>
                <a:cubicBezTo>
                  <a:pt x="446" y="325"/>
                  <a:pt x="455" y="308"/>
                  <a:pt x="460" y="289"/>
                </a:cubicBezTo>
                <a:cubicBezTo>
                  <a:pt x="465" y="270"/>
                  <a:pt x="464" y="253"/>
                  <a:pt x="468" y="234"/>
                </a:cubicBezTo>
                <a:cubicBezTo>
                  <a:pt x="472" y="215"/>
                  <a:pt x="478" y="190"/>
                  <a:pt x="483" y="172"/>
                </a:cubicBezTo>
                <a:cubicBezTo>
                  <a:pt x="488" y="154"/>
                  <a:pt x="493" y="142"/>
                  <a:pt x="499" y="125"/>
                </a:cubicBezTo>
                <a:cubicBezTo>
                  <a:pt x="505" y="108"/>
                  <a:pt x="516" y="90"/>
                  <a:pt x="522" y="71"/>
                </a:cubicBezTo>
                <a:cubicBezTo>
                  <a:pt x="528" y="52"/>
                  <a:pt x="526" y="13"/>
                  <a:pt x="538" y="8"/>
                </a:cubicBezTo>
                <a:cubicBezTo>
                  <a:pt x="550" y="3"/>
                  <a:pt x="574" y="17"/>
                  <a:pt x="592" y="40"/>
                </a:cubicBezTo>
                <a:cubicBezTo>
                  <a:pt x="610" y="63"/>
                  <a:pt x="635" y="119"/>
                  <a:pt x="647" y="149"/>
                </a:cubicBezTo>
                <a:cubicBezTo>
                  <a:pt x="659" y="179"/>
                  <a:pt x="657" y="192"/>
                  <a:pt x="663" y="219"/>
                </a:cubicBezTo>
                <a:cubicBezTo>
                  <a:pt x="669" y="246"/>
                  <a:pt x="681" y="289"/>
                  <a:pt x="686" y="312"/>
                </a:cubicBezTo>
                <a:cubicBezTo>
                  <a:pt x="691" y="335"/>
                  <a:pt x="691" y="343"/>
                  <a:pt x="694" y="359"/>
                </a:cubicBezTo>
                <a:cubicBezTo>
                  <a:pt x="697" y="375"/>
                  <a:pt x="696" y="392"/>
                  <a:pt x="702" y="406"/>
                </a:cubicBezTo>
                <a:cubicBezTo>
                  <a:pt x="708" y="420"/>
                  <a:pt x="723" y="431"/>
                  <a:pt x="733" y="445"/>
                </a:cubicBezTo>
                <a:cubicBezTo>
                  <a:pt x="743" y="459"/>
                  <a:pt x="750" y="487"/>
                  <a:pt x="764" y="492"/>
                </a:cubicBezTo>
                <a:cubicBezTo>
                  <a:pt x="778" y="497"/>
                  <a:pt x="804" y="488"/>
                  <a:pt x="818" y="476"/>
                </a:cubicBezTo>
                <a:cubicBezTo>
                  <a:pt x="832" y="464"/>
                  <a:pt x="845" y="431"/>
                  <a:pt x="850" y="4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20800" y="3441600"/>
            <a:ext cx="7416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82800" y="294480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01600" y="4800600"/>
            <a:ext cx="68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desfas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 grados puede traducirse a tiempo de retardo como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/3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879640" y="1720800"/>
            <a:ext cx="5905440" cy="44276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iagrama de Nyqu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21120" y="3897360"/>
            <a:ext cx="428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27520" y="2214720"/>
            <a:ext cx="0" cy="337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27520" y="3897360"/>
            <a:ext cx="1473480" cy="1349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86440" y="3897360"/>
            <a:ext cx="162000" cy="309600"/>
          </a:xfrm>
          <a:custGeom>
            <a:avLst/>
            <a:gdLst/>
            <a:ahLst/>
            <a:rect l="l" t="t" r="r" b="b"/>
            <a:pathLst>
              <a:path w="102" h="195">
                <a:moveTo>
                  <a:pt x="102" y="0"/>
                </a:moveTo>
                <a:cubicBezTo>
                  <a:pt x="98" y="45"/>
                  <a:pt x="95" y="91"/>
                  <a:pt x="86" y="117"/>
                </a:cubicBezTo>
                <a:cubicBezTo>
                  <a:pt x="77" y="143"/>
                  <a:pt x="61" y="143"/>
                  <a:pt x="47" y="156"/>
                </a:cubicBezTo>
                <a:cubicBezTo>
                  <a:pt x="33" y="169"/>
                  <a:pt x="16" y="182"/>
                  <a:pt x="0" y="195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5835600" y="4649760"/>
                <a:ext cx="7365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6188040" y="4057560"/>
                <a:ext cx="116856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g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7093440" y="505296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520" y="2214720"/>
            <a:ext cx="196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cada valor d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 dibuja el módulo y argumento de G(j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0280" y="4897440"/>
            <a:ext cx="205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agrama polar: parametrizado en 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63640" y="606888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tlab: nyquist(s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43640" y="3860640"/>
            <a:ext cx="73080" cy="73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930400" y="1800360"/>
            <a:ext cx="5384880" cy="40370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iagrama de Nich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1040" y="2670120"/>
            <a:ext cx="262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es de |G(j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| en dB en función de arg(G(j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 en g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9560" y="5079960"/>
            <a:ext cx="28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tlab: nichols(s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¿Por qué diagramas logaritmico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826920" y="1916280"/>
                <a:ext cx="7596360" cy="22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τ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j</m:t>
                                </m:r>
                                <m:r>
                                  <m:t xml:space="preserve">ω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j</m:t>
                            </m:r>
                            <m:r>
                              <m:t xml:space="preserve">ω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jω</m:t>
                            </m:r>
                            <m:r>
                              <m:t xml:space="preserve">(</m:t>
                            </m:r>
                            <m:r>
                              <m:t xml:space="preserve">τjω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j</m:t>
                                    </m:r>
                                    <m:r>
                                      <m:t xml:space="preserve">ω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j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jω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τjω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K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j</m:t>
                                </m:r>
                                <m:r>
                                  <m:t xml:space="preserve">ω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j</m:t>
                            </m:r>
                            <m:r>
                              <m:t xml:space="preserve">ω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ω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τjω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681120" y="4305240"/>
            <a:ext cx="77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dB, el diagrama de |G(j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|  puede obtenerse por superposición de los diagramas de términos elementales correspondientes a cada polo, cero, ganancia y retar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79280" y="5589720"/>
                <a:ext cx="8460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g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ωd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j</m:t>
                    </m:r>
                    <m:r>
                      <m:t xml:space="preserve">ω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τjω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de: polo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38840" y="1817640"/>
            <a:ext cx="0" cy="173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43480" y="2720880"/>
            <a:ext cx="317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156160" y="26654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74560" y="170964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G(j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| en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30920" y="3949560"/>
            <a:ext cx="0" cy="173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5560" y="4853160"/>
            <a:ext cx="317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073360" y="477216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93120" y="3805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rgG(j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) en 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56240" y="2671920"/>
            <a:ext cx="2043360" cy="890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56320" y="2622600"/>
            <a:ext cx="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383160" y="2251080"/>
            <a:ext cx="5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21360" y="2349360"/>
            <a:ext cx="7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59400" y="445608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5630760"/>
            <a:ext cx="2201760" cy="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94160" y="536904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90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76200" y="1598760"/>
                <a:ext cx="5130720" cy="46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ωτ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τ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τ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onótonamente decrecient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ara  </m:t>
                        </m:r>
                        <m:r>
                          <m:t xml:space="preserve">ω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τ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ara  </m:t>
                        </m:r>
                        <m:r>
                          <m:t xml:space="preserve">ω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τ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τ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ω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cta de pendiente -20dB y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ue pasa por 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/</m:t>
                        </m:r>
                        <m:r>
                          <m:t xml:space="preserve">τ</m:t>
                        </m:r>
                        <m:r>
                          <m:rPr>
                            <m:lit/>
                            <m:nor/>
                          </m:rPr>
                          <m:t xml:space="preserve"> , 0 dB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ωτ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  <m:r>
                          <m:t xml:space="preserve">)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ω</m:t>
                                  </m:r>
                                  <m:r>
                                    <m:t xml:space="preserve">→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φ</m:t>
                                  </m:r>
                                  <m:r>
                                    <m:t xml:space="preserve">→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ω</m:t>
                                  </m:r>
                                  <m:r>
                                    <m:t xml:space="preserve">→</m:t>
                                  </m:r>
                                  <m:r>
                                    <m:t xml:space="preserve">∞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φ</m:t>
                                  </m:r>
                                  <m:r>
                                    <m:t xml:space="preserve">→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0</m:t>
                                  </m:r>
                                  <m:r>
                                    <m:t xml:space="preserve">º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onótonamente decreciente,  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º</m:t>
                        </m:r>
                        <m:r>
                          <m:rPr>
                            <m:lit/>
                            <m:nor/>
                          </m:rPr>
                          <m:t xml:space="preserve">para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5753160" y="3228840"/>
            <a:ext cx="14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89600" y="299736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950080" y="3228840"/>
            <a:ext cx="18428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792920" y="2720520"/>
            <a:ext cx="0" cy="507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792920" y="2660760"/>
            <a:ext cx="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575480" y="225576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68760" y="2720880"/>
            <a:ext cx="129888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838840" y="2733840"/>
            <a:ext cx="2289240" cy="655560"/>
          </a:xfrm>
          <a:custGeom>
            <a:avLst/>
            <a:gdLst/>
            <a:ahLst/>
            <a:rect l="l" t="t" r="r" b="b"/>
            <a:pathLst>
              <a:path w="1442" h="413">
                <a:moveTo>
                  <a:pt x="0" y="0"/>
                </a:moveTo>
                <a:cubicBezTo>
                  <a:pt x="44" y="2"/>
                  <a:pt x="89" y="4"/>
                  <a:pt x="140" y="8"/>
                </a:cubicBezTo>
                <a:cubicBezTo>
                  <a:pt x="191" y="12"/>
                  <a:pt x="256" y="16"/>
                  <a:pt x="304" y="24"/>
                </a:cubicBezTo>
                <a:cubicBezTo>
                  <a:pt x="352" y="32"/>
                  <a:pt x="369" y="38"/>
                  <a:pt x="429" y="55"/>
                </a:cubicBezTo>
                <a:cubicBezTo>
                  <a:pt x="489" y="72"/>
                  <a:pt x="596" y="106"/>
                  <a:pt x="662" y="125"/>
                </a:cubicBezTo>
                <a:cubicBezTo>
                  <a:pt x="728" y="144"/>
                  <a:pt x="769" y="154"/>
                  <a:pt x="826" y="172"/>
                </a:cubicBezTo>
                <a:cubicBezTo>
                  <a:pt x="883" y="190"/>
                  <a:pt x="939" y="209"/>
                  <a:pt x="1005" y="234"/>
                </a:cubicBezTo>
                <a:cubicBezTo>
                  <a:pt x="1071" y="259"/>
                  <a:pt x="1151" y="290"/>
                  <a:pt x="1224" y="320"/>
                </a:cubicBezTo>
                <a:cubicBezTo>
                  <a:pt x="1297" y="350"/>
                  <a:pt x="1406" y="396"/>
                  <a:pt x="1442" y="413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186680" y="1112760"/>
            <a:ext cx="164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cuencia de c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6816600" y="1979640"/>
            <a:ext cx="457200" cy="34596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18160" y="4856040"/>
            <a:ext cx="2324160" cy="746280"/>
          </a:xfrm>
          <a:custGeom>
            <a:avLst/>
            <a:gdLst/>
            <a:ahLst/>
            <a:rect l="l" t="t" r="r" b="b"/>
            <a:pathLst>
              <a:path w="1363" h="462">
                <a:moveTo>
                  <a:pt x="0" y="3"/>
                </a:moveTo>
                <a:cubicBezTo>
                  <a:pt x="79" y="1"/>
                  <a:pt x="159" y="0"/>
                  <a:pt x="233" y="19"/>
                </a:cubicBezTo>
                <a:cubicBezTo>
                  <a:pt x="307" y="38"/>
                  <a:pt x="388" y="82"/>
                  <a:pt x="444" y="120"/>
                </a:cubicBezTo>
                <a:cubicBezTo>
                  <a:pt x="500" y="158"/>
                  <a:pt x="512" y="203"/>
                  <a:pt x="568" y="245"/>
                </a:cubicBezTo>
                <a:cubicBezTo>
                  <a:pt x="624" y="287"/>
                  <a:pt x="669" y="336"/>
                  <a:pt x="779" y="370"/>
                </a:cubicBezTo>
                <a:cubicBezTo>
                  <a:pt x="889" y="404"/>
                  <a:pt x="1134" y="434"/>
                  <a:pt x="1231" y="448"/>
                </a:cubicBezTo>
                <a:cubicBezTo>
                  <a:pt x="1328" y="462"/>
                  <a:pt x="1345" y="459"/>
                  <a:pt x="1363" y="45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585120" y="4754520"/>
            <a:ext cx="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11960" y="4383000"/>
            <a:ext cx="5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581880" y="488628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5825880" y="525780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84800" y="502596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45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433760" y="2179800"/>
            <a:ext cx="4326120" cy="389412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de: polo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6654600" y="2647440"/>
            <a:ext cx="1670040" cy="1335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19640" y="2733840"/>
            <a:ext cx="1881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23200" y="3529080"/>
            <a:ext cx="5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6800" y="2374920"/>
            <a:ext cx="35384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enuación pequeña hasta la frecuencia 1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luego crece progresi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as lentos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rande) tienen frecuencias de corte pequeñas y atenuan los cambios rápidos. Sistemas rápidos responden a un rango mayor de velocidades de camb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013280" y="1820880"/>
            <a:ext cx="4325760" cy="38941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160680" y="355428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cho de b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62440" y="2585880"/>
            <a:ext cx="1608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70560" y="2585880"/>
            <a:ext cx="0" cy="1063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87760" y="2363760"/>
            <a:ext cx="11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3 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5440" y="1968480"/>
            <a:ext cx="286704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frecuencia a la cual la atenuación es de -3 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 una medida del rango de velocidades de cambio de la entrada al que el sistema responde sin atenuación no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iagrama de Nyqu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15080" y="1930320"/>
            <a:ext cx="0" cy="253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72040" y="2720880"/>
            <a:ext cx="342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895320" y="1954080"/>
                <a:ext cx="5130720" cy="383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ωτ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onótonamente decrecient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ara  </m:t>
                        </m:r>
                        <m:r>
                          <m:t xml:space="preserve">ω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ωτ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  <m:r>
                          <m:t xml:space="preserve">→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ara  </m:t>
                        </m:r>
                        <m:r>
                          <m:t xml:space="preserve">ω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ωτ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  <m:r>
                          <m:t xml:space="preserve">→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ωτ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  <m:r>
                          <m:t xml:space="preserve">)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ω</m:t>
                                  </m:r>
                                  <m:r>
                                    <m:t xml:space="preserve">→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φ</m:t>
                                  </m:r>
                                  <m:r>
                                    <m:t xml:space="preserve">→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ω</m:t>
                                  </m:r>
                                  <m:r>
                                    <m:t xml:space="preserve">→</m:t>
                                  </m:r>
                                  <m:r>
                                    <m:t xml:space="preserve">∞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φ</m:t>
                                  </m:r>
                                  <m:r>
                                    <m:t xml:space="preserve">→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0</m:t>
                                  </m:r>
                                  <m:r>
                                    <m:t xml:space="preserve">º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onótonamente decreciente,  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º</m:t>
                        </m:r>
                        <m:r>
                          <m:rPr>
                            <m:lit/>
                            <m:nor/>
                          </m:rPr>
                          <m:t xml:space="preserve">para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5815080" y="2720880"/>
            <a:ext cx="1844640" cy="839880"/>
          </a:xfrm>
          <a:custGeom>
            <a:avLst/>
            <a:gdLst/>
            <a:ahLst/>
            <a:rect l="l" t="t" r="r" b="b"/>
            <a:pathLst>
              <a:path w="1162" h="529">
                <a:moveTo>
                  <a:pt x="1162" y="0"/>
                </a:moveTo>
                <a:cubicBezTo>
                  <a:pt x="1159" y="57"/>
                  <a:pt x="1157" y="115"/>
                  <a:pt x="1138" y="172"/>
                </a:cubicBezTo>
                <a:cubicBezTo>
                  <a:pt x="1119" y="229"/>
                  <a:pt x="1081" y="295"/>
                  <a:pt x="1045" y="343"/>
                </a:cubicBezTo>
                <a:cubicBezTo>
                  <a:pt x="1009" y="391"/>
                  <a:pt x="982" y="430"/>
                  <a:pt x="920" y="460"/>
                </a:cubicBezTo>
                <a:cubicBezTo>
                  <a:pt x="858" y="490"/>
                  <a:pt x="754" y="517"/>
                  <a:pt x="671" y="523"/>
                </a:cubicBezTo>
                <a:cubicBezTo>
                  <a:pt x="588" y="529"/>
                  <a:pt x="495" y="520"/>
                  <a:pt x="421" y="499"/>
                </a:cubicBezTo>
                <a:cubicBezTo>
                  <a:pt x="347" y="478"/>
                  <a:pt x="280" y="439"/>
                  <a:pt x="226" y="398"/>
                </a:cubicBezTo>
                <a:cubicBezTo>
                  <a:pt x="172" y="357"/>
                  <a:pt x="125" y="294"/>
                  <a:pt x="94" y="250"/>
                </a:cubicBezTo>
                <a:cubicBezTo>
                  <a:pt x="63" y="206"/>
                  <a:pt x="55" y="173"/>
                  <a:pt x="39" y="133"/>
                </a:cubicBezTo>
                <a:cubicBezTo>
                  <a:pt x="23" y="93"/>
                  <a:pt x="11" y="50"/>
                  <a:pt x="0" y="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496280" y="2289240"/>
            <a:ext cx="3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15080" y="2720880"/>
            <a:ext cx="1546200" cy="63180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6737400" y="2793960"/>
                <a:ext cx="7365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ominio frecuen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estudio en el dominio frecuencial permite ver y analizar los sistemas de control desde otra perspectiva. Muchos aspectos se ven mas fácilmente desde el dominio de   la frecue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114800" y="5181480"/>
          <a:ext cx="830160" cy="6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5181480"/>
                    <a:ext cx="830160" cy="6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4648320" y="2147760"/>
          <a:ext cx="3809880" cy="378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147760"/>
                    <a:ext cx="3809880" cy="37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7924680" y="5638680"/>
          <a:ext cx="986040" cy="91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924680" y="5638680"/>
                    <a:ext cx="986040" cy="9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de: Cero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38840" y="1817640"/>
            <a:ext cx="0" cy="173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43480" y="2720880"/>
            <a:ext cx="317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156160" y="26654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74560" y="170964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G(j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| en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830920" y="3949560"/>
            <a:ext cx="0" cy="173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5560" y="4853160"/>
            <a:ext cx="317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073360" y="477216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93120" y="37558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rgG(j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) en 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6469200" y="1879560"/>
            <a:ext cx="2043000" cy="8906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556320" y="2622600"/>
            <a:ext cx="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383160" y="2251080"/>
            <a:ext cx="5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/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121360" y="2349360"/>
            <a:ext cx="7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73720" y="481500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40280" y="4059360"/>
            <a:ext cx="2202120" cy="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115480" y="387180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0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753160" y="3228840"/>
            <a:ext cx="14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89600" y="299736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50080" y="3228840"/>
            <a:ext cx="18428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92920" y="2720880"/>
            <a:ext cx="0" cy="507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7792920" y="2660400"/>
            <a:ext cx="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575480" y="225576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68760" y="2720880"/>
            <a:ext cx="129888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5800680" y="2040840"/>
            <a:ext cx="2289240" cy="655560"/>
          </a:xfrm>
          <a:custGeom>
            <a:avLst/>
            <a:gdLst/>
            <a:ahLst/>
            <a:rect l="l" t="t" r="r" b="b"/>
            <a:pathLst>
              <a:path w="1442" h="413">
                <a:moveTo>
                  <a:pt x="0" y="0"/>
                </a:moveTo>
                <a:cubicBezTo>
                  <a:pt x="44" y="2"/>
                  <a:pt x="89" y="4"/>
                  <a:pt x="140" y="8"/>
                </a:cubicBezTo>
                <a:cubicBezTo>
                  <a:pt x="191" y="12"/>
                  <a:pt x="256" y="16"/>
                  <a:pt x="304" y="24"/>
                </a:cubicBezTo>
                <a:cubicBezTo>
                  <a:pt x="352" y="32"/>
                  <a:pt x="369" y="38"/>
                  <a:pt x="429" y="55"/>
                </a:cubicBezTo>
                <a:cubicBezTo>
                  <a:pt x="489" y="72"/>
                  <a:pt x="596" y="106"/>
                  <a:pt x="662" y="125"/>
                </a:cubicBezTo>
                <a:cubicBezTo>
                  <a:pt x="728" y="144"/>
                  <a:pt x="769" y="154"/>
                  <a:pt x="826" y="172"/>
                </a:cubicBezTo>
                <a:cubicBezTo>
                  <a:pt x="883" y="190"/>
                  <a:pt x="939" y="209"/>
                  <a:pt x="1005" y="234"/>
                </a:cubicBezTo>
                <a:cubicBezTo>
                  <a:pt x="1071" y="259"/>
                  <a:pt x="1151" y="290"/>
                  <a:pt x="1224" y="320"/>
                </a:cubicBezTo>
                <a:cubicBezTo>
                  <a:pt x="1297" y="350"/>
                  <a:pt x="1406" y="396"/>
                  <a:pt x="1442" y="413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86680" y="1112760"/>
            <a:ext cx="164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cuencia de c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6816600" y="1979640"/>
            <a:ext cx="457200" cy="34596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5630760" y="4064760"/>
            <a:ext cx="2324160" cy="746280"/>
          </a:xfrm>
          <a:custGeom>
            <a:avLst/>
            <a:gdLst/>
            <a:ahLst/>
            <a:rect l="l" t="t" r="r" b="b"/>
            <a:pathLst>
              <a:path w="1363" h="462">
                <a:moveTo>
                  <a:pt x="0" y="3"/>
                </a:moveTo>
                <a:cubicBezTo>
                  <a:pt x="79" y="1"/>
                  <a:pt x="159" y="0"/>
                  <a:pt x="233" y="19"/>
                </a:cubicBezTo>
                <a:cubicBezTo>
                  <a:pt x="307" y="38"/>
                  <a:pt x="388" y="82"/>
                  <a:pt x="444" y="120"/>
                </a:cubicBezTo>
                <a:cubicBezTo>
                  <a:pt x="500" y="158"/>
                  <a:pt x="512" y="203"/>
                  <a:pt x="568" y="245"/>
                </a:cubicBezTo>
                <a:cubicBezTo>
                  <a:pt x="624" y="287"/>
                  <a:pt x="669" y="336"/>
                  <a:pt x="779" y="370"/>
                </a:cubicBezTo>
                <a:cubicBezTo>
                  <a:pt x="889" y="404"/>
                  <a:pt x="1134" y="434"/>
                  <a:pt x="1231" y="448"/>
                </a:cubicBezTo>
                <a:cubicBezTo>
                  <a:pt x="1328" y="462"/>
                  <a:pt x="1345" y="459"/>
                  <a:pt x="1363" y="45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85120" y="4754520"/>
            <a:ext cx="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38880" y="5013360"/>
            <a:ext cx="5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/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581880" y="444168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825880" y="442908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59240" y="418464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5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496800" y="1763640"/>
                <a:ext cx="4889520" cy="431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jωc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onótonamente decrecient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ara  </m:t>
                        </m:r>
                        <m:r>
                          <m:t xml:space="preserve">ω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ara  </m:t>
                        </m:r>
                        <m:r>
                          <m:t xml:space="preserve">ω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ω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cta de pendiente 20dB y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ue pasa por 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/</m:t>
                        </m:r>
                        <m:r>
                          <m:t xml:space="preserve">τ</m:t>
                        </m:r>
                        <m:r>
                          <m:rPr>
                            <m:lit/>
                            <m:nor/>
                          </m:rPr>
                          <m:t xml:space="preserve"> , 0 dB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jωc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r>
                          <m:t xml:space="preserve">(</m:t>
                        </m:r>
                        <m:r>
                          <m:t xml:space="preserve">ωc</m:t>
                        </m:r>
                        <m:r>
                          <m:t xml:space="preserve">)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ω</m:t>
                                  </m:r>
                                  <m:r>
                                    <m:t xml:space="preserve">→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φ</m:t>
                                  </m:r>
                                  <m:r>
                                    <m:t xml:space="preserve">→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ω</m:t>
                                  </m:r>
                                  <m:r>
                                    <m:t xml:space="preserve">→</m:t>
                                  </m:r>
                                  <m:r>
                                    <m:t xml:space="preserve">∞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φ</m:t>
                                  </m:r>
                                  <m:r>
                                    <m:t xml:space="preserve">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0</m:t>
                                  </m:r>
                                  <m:r>
                                    <m:t xml:space="preserve">º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onótonamente creciente,  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º</m:t>
                        </m:r>
                        <m:r>
                          <m:rPr>
                            <m:lit/>
                            <m:nor/>
                          </m:rPr>
                          <m:t xml:space="preserve">para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6024600" y="5616720"/>
            <a:ext cx="259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 frecuencias altas se amplif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de: polo do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31840" y="1770120"/>
                <a:ext cx="5295960" cy="430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j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ωτ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τ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onótonamente decrecient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ara  </m:t>
                        </m:r>
                        <m:r>
                          <m:t xml:space="preserve">ω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τ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ara  </m:t>
                        </m:r>
                        <m:r>
                          <m:t xml:space="preserve">ω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τ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τ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ω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cta de pendiente -40dB y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ue pasa por 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/</m:t>
                        </m:r>
                        <m:r>
                          <m:t xml:space="preserve">τ</m:t>
                        </m:r>
                        <m:r>
                          <m:rPr>
                            <m:lit/>
                            <m:nor/>
                          </m:rPr>
                          <m:t xml:space="preserve"> , 0 dB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j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ωτ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  <m:r>
                          <m:t xml:space="preserve">)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ω</m:t>
                                  </m:r>
                                  <m:r>
                                    <m:t xml:space="preserve">→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φ</m:t>
                                  </m:r>
                                  <m:r>
                                    <m:t xml:space="preserve">→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ω</m:t>
                                  </m:r>
                                  <m:r>
                                    <m:t xml:space="preserve">→</m:t>
                                  </m:r>
                                  <m:r>
                                    <m:t xml:space="preserve">∞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φ</m:t>
                                  </m:r>
                                  <m:r>
                                    <m:t xml:space="preserve">→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80</m:t>
                                  </m:r>
                                  <m:r>
                                    <m:t xml:space="preserve">º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onótonamente decreciente,  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º</m:t>
                        </m:r>
                        <m:r>
                          <m:rPr>
                            <m:lit/>
                            <m:nor/>
                          </m:rPr>
                          <m:t xml:space="preserve">para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5962680" y="1843200"/>
            <a:ext cx="0" cy="18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67320" y="2746440"/>
            <a:ext cx="317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280000" y="269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98400" y="17352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G(j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| en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954760" y="3975120"/>
            <a:ext cx="0" cy="173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59400" y="4878360"/>
            <a:ext cx="317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197200" y="479736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93120" y="3805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rgG(j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) en 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93040" y="2684520"/>
            <a:ext cx="1746000" cy="1360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680160" y="2647800"/>
            <a:ext cx="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07000" y="2276640"/>
            <a:ext cx="5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45200" y="2374920"/>
            <a:ext cx="7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83240" y="448164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977080" y="5656320"/>
            <a:ext cx="2201760" cy="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251920" y="545616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180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851440" y="3613320"/>
            <a:ext cx="14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62680" y="339408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40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946840" y="3613320"/>
            <a:ext cx="1843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7769160" y="2746080"/>
            <a:ext cx="0" cy="855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769160" y="2685960"/>
            <a:ext cx="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539120" y="225756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592600" y="2746440"/>
            <a:ext cx="129888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208560" y="2771640"/>
            <a:ext cx="1770120" cy="1051200"/>
          </a:xfrm>
          <a:custGeom>
            <a:avLst/>
            <a:gdLst/>
            <a:ahLst/>
            <a:rect l="l" t="t" r="r" b="b"/>
            <a:pathLst>
              <a:path w="1442" h="413">
                <a:moveTo>
                  <a:pt x="0" y="0"/>
                </a:moveTo>
                <a:cubicBezTo>
                  <a:pt x="44" y="2"/>
                  <a:pt x="89" y="4"/>
                  <a:pt x="140" y="8"/>
                </a:cubicBezTo>
                <a:cubicBezTo>
                  <a:pt x="191" y="12"/>
                  <a:pt x="256" y="16"/>
                  <a:pt x="304" y="24"/>
                </a:cubicBezTo>
                <a:cubicBezTo>
                  <a:pt x="352" y="32"/>
                  <a:pt x="369" y="38"/>
                  <a:pt x="429" y="55"/>
                </a:cubicBezTo>
                <a:cubicBezTo>
                  <a:pt x="489" y="72"/>
                  <a:pt x="596" y="106"/>
                  <a:pt x="662" y="125"/>
                </a:cubicBezTo>
                <a:cubicBezTo>
                  <a:pt x="728" y="144"/>
                  <a:pt x="769" y="154"/>
                  <a:pt x="826" y="172"/>
                </a:cubicBezTo>
                <a:cubicBezTo>
                  <a:pt x="883" y="190"/>
                  <a:pt x="939" y="209"/>
                  <a:pt x="1005" y="234"/>
                </a:cubicBezTo>
                <a:cubicBezTo>
                  <a:pt x="1071" y="259"/>
                  <a:pt x="1151" y="290"/>
                  <a:pt x="1224" y="320"/>
                </a:cubicBezTo>
                <a:cubicBezTo>
                  <a:pt x="1297" y="350"/>
                  <a:pt x="1406" y="396"/>
                  <a:pt x="1442" y="413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310520" y="1138320"/>
            <a:ext cx="164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cuencia de c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6940440" y="2004840"/>
            <a:ext cx="457200" cy="34632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42000" y="4881600"/>
            <a:ext cx="2324160" cy="745920"/>
          </a:xfrm>
          <a:custGeom>
            <a:avLst/>
            <a:gdLst/>
            <a:ahLst/>
            <a:rect l="l" t="t" r="r" b="b"/>
            <a:pathLst>
              <a:path w="1363" h="462">
                <a:moveTo>
                  <a:pt x="0" y="3"/>
                </a:moveTo>
                <a:cubicBezTo>
                  <a:pt x="79" y="1"/>
                  <a:pt x="159" y="0"/>
                  <a:pt x="233" y="19"/>
                </a:cubicBezTo>
                <a:cubicBezTo>
                  <a:pt x="307" y="38"/>
                  <a:pt x="388" y="82"/>
                  <a:pt x="444" y="120"/>
                </a:cubicBezTo>
                <a:cubicBezTo>
                  <a:pt x="500" y="158"/>
                  <a:pt x="512" y="203"/>
                  <a:pt x="568" y="245"/>
                </a:cubicBezTo>
                <a:cubicBezTo>
                  <a:pt x="624" y="287"/>
                  <a:pt x="669" y="336"/>
                  <a:pt x="779" y="370"/>
                </a:cubicBezTo>
                <a:cubicBezTo>
                  <a:pt x="889" y="404"/>
                  <a:pt x="1134" y="434"/>
                  <a:pt x="1231" y="448"/>
                </a:cubicBezTo>
                <a:cubicBezTo>
                  <a:pt x="1328" y="462"/>
                  <a:pt x="1345" y="459"/>
                  <a:pt x="1363" y="45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08600" y="4780080"/>
            <a:ext cx="0" cy="16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35800" y="4408560"/>
            <a:ext cx="5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05720" y="49118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5949720" y="52833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31000" y="506412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90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iagrama de Nyqu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815080" y="1930320"/>
            <a:ext cx="0" cy="253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072040" y="2720880"/>
            <a:ext cx="342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812880" y="1878120"/>
                <a:ext cx="5295960" cy="39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j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ωτ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τ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onótonamente decrecient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ara  </m:t>
                        </m:r>
                        <m:r>
                          <m:t xml:space="preserve">ω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j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ωτ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→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ara  </m:t>
                        </m:r>
                        <m:r>
                          <m:t xml:space="preserve">ω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j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ωτ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→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j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ωτ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  <m:r>
                          <m:t xml:space="preserve">)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ω</m:t>
                                  </m:r>
                                  <m:r>
                                    <m:t xml:space="preserve">→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φ</m:t>
                                  </m:r>
                                  <m:r>
                                    <m:t xml:space="preserve">→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ω</m:t>
                                  </m:r>
                                  <m:r>
                                    <m:t xml:space="preserve">→</m:t>
                                  </m:r>
                                  <m:r>
                                    <m:t xml:space="preserve">∞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φ</m:t>
                                  </m:r>
                                  <m:r>
                                    <m:t xml:space="preserve">→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80</m:t>
                                  </m:r>
                                  <m:r>
                                    <m:t xml:space="preserve">º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onótonamente decreciente,  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º</m:t>
                        </m:r>
                        <m:r>
                          <m:rPr>
                            <m:lit/>
                            <m:nor/>
                          </m:rPr>
                          <m:t xml:space="preserve">para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6" name=""/>
          <p:cNvSpPr/>
          <p:nvPr/>
        </p:nvSpPr>
        <p:spPr>
          <a:xfrm>
            <a:off x="7496280" y="2289240"/>
            <a:ext cx="3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815080" y="2720880"/>
            <a:ext cx="1409760" cy="10033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6686640" y="2905200"/>
                <a:ext cx="7365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5375160" y="2733840"/>
            <a:ext cx="2347920" cy="1122120"/>
          </a:xfrm>
          <a:custGeom>
            <a:avLst/>
            <a:gdLst/>
            <a:ahLst/>
            <a:rect l="l" t="t" r="r" b="b"/>
            <a:pathLst>
              <a:path w="1479" h="707">
                <a:moveTo>
                  <a:pt x="1477" y="7"/>
                </a:moveTo>
                <a:cubicBezTo>
                  <a:pt x="1478" y="56"/>
                  <a:pt x="1479" y="105"/>
                  <a:pt x="1470" y="156"/>
                </a:cubicBezTo>
                <a:cubicBezTo>
                  <a:pt x="1461" y="207"/>
                  <a:pt x="1452" y="253"/>
                  <a:pt x="1423" y="311"/>
                </a:cubicBezTo>
                <a:cubicBezTo>
                  <a:pt x="1394" y="369"/>
                  <a:pt x="1358" y="449"/>
                  <a:pt x="1298" y="506"/>
                </a:cubicBezTo>
                <a:cubicBezTo>
                  <a:pt x="1238" y="563"/>
                  <a:pt x="1154" y="622"/>
                  <a:pt x="1064" y="654"/>
                </a:cubicBezTo>
                <a:cubicBezTo>
                  <a:pt x="974" y="686"/>
                  <a:pt x="844" y="695"/>
                  <a:pt x="760" y="701"/>
                </a:cubicBezTo>
                <a:cubicBezTo>
                  <a:pt x="676" y="707"/>
                  <a:pt x="629" y="705"/>
                  <a:pt x="558" y="693"/>
                </a:cubicBezTo>
                <a:cubicBezTo>
                  <a:pt x="487" y="681"/>
                  <a:pt x="403" y="662"/>
                  <a:pt x="332" y="631"/>
                </a:cubicBezTo>
                <a:cubicBezTo>
                  <a:pt x="261" y="600"/>
                  <a:pt x="183" y="564"/>
                  <a:pt x="129" y="506"/>
                </a:cubicBezTo>
                <a:cubicBezTo>
                  <a:pt x="75" y="448"/>
                  <a:pt x="10" y="357"/>
                  <a:pt x="5" y="280"/>
                </a:cubicBezTo>
                <a:cubicBezTo>
                  <a:pt x="0" y="203"/>
                  <a:pt x="49" y="92"/>
                  <a:pt x="98" y="46"/>
                </a:cubicBezTo>
                <a:cubicBezTo>
                  <a:pt x="147" y="0"/>
                  <a:pt x="224" y="3"/>
                  <a:pt x="301" y="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ode: polos complejos conjug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258920" y="1976400"/>
                <a:ext cx="6199200" cy="396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δ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jω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δ</m:t>
                            </m:r>
                            <m:f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δ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j</m:t>
                                </m:r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δ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sSup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num>
                                      <m:den>
                                        <m:sSubSup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δω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  </m:t>
                        </m:r>
                        <m:r>
                          <m:t xml:space="preserve">ω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20log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  <m:r>
                          <m:t xml:space="preserve">→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20log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  <m:r>
                          <m:t xml:space="preserve">→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ω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cta de pendiente -40 dB y que pasa por 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4057560" y="4478400"/>
            <a:ext cx="2090880" cy="44604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ode: polos complejos conjug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074600" y="1994040"/>
                <a:ext cx="6326280" cy="37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¿Presenta un máximo?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j</m:t>
                                </m:r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δ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sSup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num>
                                      <m:den>
                                        <m:sSubSup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δω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dω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sSup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num>
                                      <m:den>
                                        <m:sSubSup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δω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ω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t xml:space="preserve">δ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ω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δ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  </m:t>
                        </m:r>
                        <m:r>
                          <m:t xml:space="preserve">δ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  existirá un máximo en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conocido  como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ico de resonancia  M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 la frecuencia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5799240" y="5627520"/>
                <a:ext cx="27176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δ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δ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6" name=""/>
          <p:cNvSpPr/>
          <p:nvPr/>
        </p:nvSpPr>
        <p:spPr>
          <a:xfrm>
            <a:off x="7227720" y="1517760"/>
            <a:ext cx="0" cy="18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32720" y="2421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63800" y="140976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G(j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| en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317080" y="2708280"/>
            <a:ext cx="647640" cy="5047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873920" y="2384280"/>
            <a:ext cx="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62960" y="1938240"/>
            <a:ext cx="582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604360" y="2422440"/>
            <a:ext cx="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164360" y="2421000"/>
            <a:ext cx="57636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302600" y="237960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885080" y="234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ode: polos complejos conjug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1557360" y="2085840"/>
                <a:ext cx="5562720" cy="379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δ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jω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δ</m:t>
                            </m:r>
                            <m:f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δ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δ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δ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den>
                                </m:f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  </m:t>
                        </m:r>
                        <m:r>
                          <m:t xml:space="preserve">ω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φ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ω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º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  </m:t>
                        </m:r>
                        <m:r>
                          <m:t xml:space="preserve">ω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  <m:r>
                          <m:t xml:space="preserve"> </m:t>
                        </m:r>
                        <m:r>
                          <m:t xml:space="preserve">φ</m:t>
                        </m:r>
                        <m:r>
                          <m:t xml:space="preserve">→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º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o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&lt; 0.707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210280" y="1909800"/>
            <a:ext cx="0" cy="18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714920" y="2813040"/>
            <a:ext cx="317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446000" y="18018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G(j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| en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202360" y="4041720"/>
            <a:ext cx="0" cy="180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707000" y="4944960"/>
            <a:ext cx="317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44800" y="486396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140720" y="38718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rgG(j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) en 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224760" y="2751120"/>
            <a:ext cx="1560240" cy="1211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286680" y="2714760"/>
            <a:ext cx="0" cy="16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75360" y="2268360"/>
            <a:ext cx="582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92800" y="2441520"/>
            <a:ext cx="76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830840" y="454824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224320" y="5772240"/>
            <a:ext cx="2202120" cy="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43560" y="553572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180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099040" y="3679920"/>
            <a:ext cx="14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96160" y="3102120"/>
            <a:ext cx="97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40 dB por dé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016760" y="2752560"/>
            <a:ext cx="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840200" y="2813040"/>
            <a:ext cx="15955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6373800" y="2319480"/>
            <a:ext cx="457200" cy="34596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86320" y="4997520"/>
            <a:ext cx="2324160" cy="745920"/>
          </a:xfrm>
          <a:custGeom>
            <a:avLst/>
            <a:gdLst/>
            <a:ahLst/>
            <a:rect l="l" t="t" r="r" b="b"/>
            <a:pathLst>
              <a:path w="1363" h="462">
                <a:moveTo>
                  <a:pt x="0" y="3"/>
                </a:moveTo>
                <a:cubicBezTo>
                  <a:pt x="79" y="1"/>
                  <a:pt x="159" y="0"/>
                  <a:pt x="233" y="19"/>
                </a:cubicBezTo>
                <a:cubicBezTo>
                  <a:pt x="307" y="38"/>
                  <a:pt x="388" y="82"/>
                  <a:pt x="444" y="120"/>
                </a:cubicBezTo>
                <a:cubicBezTo>
                  <a:pt x="500" y="158"/>
                  <a:pt x="512" y="203"/>
                  <a:pt x="568" y="245"/>
                </a:cubicBezTo>
                <a:cubicBezTo>
                  <a:pt x="624" y="287"/>
                  <a:pt x="669" y="336"/>
                  <a:pt x="779" y="370"/>
                </a:cubicBezTo>
                <a:cubicBezTo>
                  <a:pt x="889" y="404"/>
                  <a:pt x="1134" y="434"/>
                  <a:pt x="1231" y="448"/>
                </a:cubicBezTo>
                <a:cubicBezTo>
                  <a:pt x="1328" y="462"/>
                  <a:pt x="1345" y="459"/>
                  <a:pt x="1363" y="45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342120" y="4846680"/>
            <a:ext cx="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350040" y="502776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5223960" y="539748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475320" y="518004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90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0440" y="1943280"/>
            <a:ext cx="320364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nancia: La amplitud de la salida se ve amplificada a ciertas frecuencias y es máxima par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reciendo inversamente c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60920" y="2879640"/>
            <a:ext cx="582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046840" y="2505240"/>
            <a:ext cx="2349360" cy="1170000"/>
          </a:xfrm>
          <a:custGeom>
            <a:avLst/>
            <a:gdLst/>
            <a:ahLst/>
            <a:rect l="l" t="t" r="r" b="b"/>
            <a:pathLst>
              <a:path w="1480" h="737">
                <a:moveTo>
                  <a:pt x="0" y="184"/>
                </a:moveTo>
                <a:cubicBezTo>
                  <a:pt x="45" y="190"/>
                  <a:pt x="91" y="196"/>
                  <a:pt x="132" y="191"/>
                </a:cubicBezTo>
                <a:cubicBezTo>
                  <a:pt x="173" y="186"/>
                  <a:pt x="219" y="170"/>
                  <a:pt x="249" y="153"/>
                </a:cubicBezTo>
                <a:cubicBezTo>
                  <a:pt x="279" y="136"/>
                  <a:pt x="290" y="109"/>
                  <a:pt x="311" y="90"/>
                </a:cubicBezTo>
                <a:cubicBezTo>
                  <a:pt x="332" y="71"/>
                  <a:pt x="355" y="50"/>
                  <a:pt x="374" y="36"/>
                </a:cubicBezTo>
                <a:cubicBezTo>
                  <a:pt x="393" y="22"/>
                  <a:pt x="401" y="0"/>
                  <a:pt x="428" y="4"/>
                </a:cubicBezTo>
                <a:cubicBezTo>
                  <a:pt x="455" y="8"/>
                  <a:pt x="498" y="25"/>
                  <a:pt x="537" y="59"/>
                </a:cubicBezTo>
                <a:cubicBezTo>
                  <a:pt x="576" y="93"/>
                  <a:pt x="620" y="166"/>
                  <a:pt x="662" y="207"/>
                </a:cubicBezTo>
                <a:cubicBezTo>
                  <a:pt x="704" y="248"/>
                  <a:pt x="722" y="269"/>
                  <a:pt x="787" y="308"/>
                </a:cubicBezTo>
                <a:cubicBezTo>
                  <a:pt x="852" y="347"/>
                  <a:pt x="982" y="405"/>
                  <a:pt x="1052" y="441"/>
                </a:cubicBezTo>
                <a:cubicBezTo>
                  <a:pt x="1122" y="477"/>
                  <a:pt x="1137" y="478"/>
                  <a:pt x="1208" y="527"/>
                </a:cubicBezTo>
                <a:cubicBezTo>
                  <a:pt x="1279" y="576"/>
                  <a:pt x="1379" y="656"/>
                  <a:pt x="1480" y="737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5000" y="270972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159600" y="1708200"/>
            <a:ext cx="176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cuencia de transi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29360" y="4475160"/>
            <a:ext cx="582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06400" y="5121360"/>
            <a:ext cx="1101960" cy="593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087560" y="5467320"/>
            <a:ext cx="618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819520" y="5442120"/>
            <a:ext cx="77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936880" y="4689360"/>
            <a:ext cx="1349280" cy="654120"/>
          </a:xfrm>
          <a:custGeom>
            <a:avLst/>
            <a:gdLst/>
            <a:ahLst/>
            <a:rect l="l" t="t" r="r" b="b"/>
            <a:pathLst>
              <a:path w="850" h="513">
                <a:moveTo>
                  <a:pt x="0" y="258"/>
                </a:moveTo>
                <a:cubicBezTo>
                  <a:pt x="17" y="228"/>
                  <a:pt x="35" y="199"/>
                  <a:pt x="47" y="172"/>
                </a:cubicBezTo>
                <a:cubicBezTo>
                  <a:pt x="59" y="145"/>
                  <a:pt x="62" y="116"/>
                  <a:pt x="70" y="94"/>
                </a:cubicBezTo>
                <a:cubicBezTo>
                  <a:pt x="78" y="72"/>
                  <a:pt x="86" y="55"/>
                  <a:pt x="94" y="40"/>
                </a:cubicBezTo>
                <a:cubicBezTo>
                  <a:pt x="102" y="25"/>
                  <a:pt x="105" y="2"/>
                  <a:pt x="117" y="1"/>
                </a:cubicBezTo>
                <a:cubicBezTo>
                  <a:pt x="129" y="0"/>
                  <a:pt x="154" y="18"/>
                  <a:pt x="164" y="32"/>
                </a:cubicBezTo>
                <a:cubicBezTo>
                  <a:pt x="174" y="46"/>
                  <a:pt x="170" y="60"/>
                  <a:pt x="179" y="86"/>
                </a:cubicBezTo>
                <a:cubicBezTo>
                  <a:pt x="188" y="112"/>
                  <a:pt x="209" y="163"/>
                  <a:pt x="218" y="188"/>
                </a:cubicBezTo>
                <a:cubicBezTo>
                  <a:pt x="227" y="213"/>
                  <a:pt x="228" y="206"/>
                  <a:pt x="234" y="234"/>
                </a:cubicBezTo>
                <a:cubicBezTo>
                  <a:pt x="240" y="262"/>
                  <a:pt x="249" y="329"/>
                  <a:pt x="257" y="359"/>
                </a:cubicBezTo>
                <a:cubicBezTo>
                  <a:pt x="265" y="389"/>
                  <a:pt x="272" y="397"/>
                  <a:pt x="281" y="414"/>
                </a:cubicBezTo>
                <a:cubicBezTo>
                  <a:pt x="290" y="431"/>
                  <a:pt x="306" y="445"/>
                  <a:pt x="312" y="460"/>
                </a:cubicBezTo>
                <a:cubicBezTo>
                  <a:pt x="318" y="475"/>
                  <a:pt x="310" y="501"/>
                  <a:pt x="320" y="507"/>
                </a:cubicBezTo>
                <a:cubicBezTo>
                  <a:pt x="330" y="513"/>
                  <a:pt x="360" y="509"/>
                  <a:pt x="374" y="499"/>
                </a:cubicBezTo>
                <a:cubicBezTo>
                  <a:pt x="388" y="489"/>
                  <a:pt x="394" y="470"/>
                  <a:pt x="405" y="445"/>
                </a:cubicBezTo>
                <a:cubicBezTo>
                  <a:pt x="416" y="420"/>
                  <a:pt x="428" y="377"/>
                  <a:pt x="437" y="351"/>
                </a:cubicBezTo>
                <a:cubicBezTo>
                  <a:pt x="446" y="325"/>
                  <a:pt x="455" y="308"/>
                  <a:pt x="460" y="289"/>
                </a:cubicBezTo>
                <a:cubicBezTo>
                  <a:pt x="465" y="270"/>
                  <a:pt x="464" y="253"/>
                  <a:pt x="468" y="234"/>
                </a:cubicBezTo>
                <a:cubicBezTo>
                  <a:pt x="472" y="215"/>
                  <a:pt x="478" y="190"/>
                  <a:pt x="483" y="172"/>
                </a:cubicBezTo>
                <a:cubicBezTo>
                  <a:pt x="488" y="154"/>
                  <a:pt x="493" y="142"/>
                  <a:pt x="499" y="125"/>
                </a:cubicBezTo>
                <a:cubicBezTo>
                  <a:pt x="505" y="108"/>
                  <a:pt x="516" y="90"/>
                  <a:pt x="522" y="71"/>
                </a:cubicBezTo>
                <a:cubicBezTo>
                  <a:pt x="528" y="52"/>
                  <a:pt x="526" y="13"/>
                  <a:pt x="538" y="8"/>
                </a:cubicBezTo>
                <a:cubicBezTo>
                  <a:pt x="550" y="3"/>
                  <a:pt x="574" y="17"/>
                  <a:pt x="592" y="40"/>
                </a:cubicBezTo>
                <a:cubicBezTo>
                  <a:pt x="610" y="63"/>
                  <a:pt x="635" y="119"/>
                  <a:pt x="647" y="149"/>
                </a:cubicBezTo>
                <a:cubicBezTo>
                  <a:pt x="659" y="179"/>
                  <a:pt x="657" y="192"/>
                  <a:pt x="663" y="219"/>
                </a:cubicBezTo>
                <a:cubicBezTo>
                  <a:pt x="669" y="246"/>
                  <a:pt x="681" y="289"/>
                  <a:pt x="686" y="312"/>
                </a:cubicBezTo>
                <a:cubicBezTo>
                  <a:pt x="691" y="335"/>
                  <a:pt x="691" y="343"/>
                  <a:pt x="694" y="359"/>
                </a:cubicBezTo>
                <a:cubicBezTo>
                  <a:pt x="697" y="375"/>
                  <a:pt x="696" y="392"/>
                  <a:pt x="702" y="406"/>
                </a:cubicBezTo>
                <a:cubicBezTo>
                  <a:pt x="708" y="420"/>
                  <a:pt x="723" y="431"/>
                  <a:pt x="733" y="445"/>
                </a:cubicBezTo>
                <a:cubicBezTo>
                  <a:pt x="743" y="459"/>
                  <a:pt x="750" y="487"/>
                  <a:pt x="764" y="492"/>
                </a:cubicBezTo>
                <a:cubicBezTo>
                  <a:pt x="778" y="497"/>
                  <a:pt x="804" y="488"/>
                  <a:pt x="818" y="476"/>
                </a:cubicBezTo>
                <a:cubicBezTo>
                  <a:pt x="832" y="464"/>
                  <a:pt x="845" y="431"/>
                  <a:pt x="850" y="4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43000" y="5029200"/>
            <a:ext cx="1349280" cy="208080"/>
          </a:xfrm>
          <a:custGeom>
            <a:avLst/>
            <a:gdLst/>
            <a:ahLst/>
            <a:rect l="l" t="t" r="r" b="b"/>
            <a:pathLst>
              <a:path w="850" h="513">
                <a:moveTo>
                  <a:pt x="0" y="258"/>
                </a:moveTo>
                <a:cubicBezTo>
                  <a:pt x="17" y="228"/>
                  <a:pt x="35" y="199"/>
                  <a:pt x="47" y="172"/>
                </a:cubicBezTo>
                <a:cubicBezTo>
                  <a:pt x="59" y="145"/>
                  <a:pt x="62" y="116"/>
                  <a:pt x="70" y="94"/>
                </a:cubicBezTo>
                <a:cubicBezTo>
                  <a:pt x="78" y="72"/>
                  <a:pt x="86" y="55"/>
                  <a:pt x="94" y="40"/>
                </a:cubicBezTo>
                <a:cubicBezTo>
                  <a:pt x="102" y="25"/>
                  <a:pt x="105" y="2"/>
                  <a:pt x="117" y="1"/>
                </a:cubicBezTo>
                <a:cubicBezTo>
                  <a:pt x="129" y="0"/>
                  <a:pt x="154" y="18"/>
                  <a:pt x="164" y="32"/>
                </a:cubicBezTo>
                <a:cubicBezTo>
                  <a:pt x="174" y="46"/>
                  <a:pt x="170" y="60"/>
                  <a:pt x="179" y="86"/>
                </a:cubicBezTo>
                <a:cubicBezTo>
                  <a:pt x="188" y="112"/>
                  <a:pt x="209" y="163"/>
                  <a:pt x="218" y="188"/>
                </a:cubicBezTo>
                <a:cubicBezTo>
                  <a:pt x="227" y="213"/>
                  <a:pt x="228" y="206"/>
                  <a:pt x="234" y="234"/>
                </a:cubicBezTo>
                <a:cubicBezTo>
                  <a:pt x="240" y="262"/>
                  <a:pt x="249" y="329"/>
                  <a:pt x="257" y="359"/>
                </a:cubicBezTo>
                <a:cubicBezTo>
                  <a:pt x="265" y="389"/>
                  <a:pt x="272" y="397"/>
                  <a:pt x="281" y="414"/>
                </a:cubicBezTo>
                <a:cubicBezTo>
                  <a:pt x="290" y="431"/>
                  <a:pt x="306" y="445"/>
                  <a:pt x="312" y="460"/>
                </a:cubicBezTo>
                <a:cubicBezTo>
                  <a:pt x="318" y="475"/>
                  <a:pt x="310" y="501"/>
                  <a:pt x="320" y="507"/>
                </a:cubicBezTo>
                <a:cubicBezTo>
                  <a:pt x="330" y="513"/>
                  <a:pt x="360" y="509"/>
                  <a:pt x="374" y="499"/>
                </a:cubicBezTo>
                <a:cubicBezTo>
                  <a:pt x="388" y="489"/>
                  <a:pt x="394" y="470"/>
                  <a:pt x="405" y="445"/>
                </a:cubicBezTo>
                <a:cubicBezTo>
                  <a:pt x="416" y="420"/>
                  <a:pt x="428" y="377"/>
                  <a:pt x="437" y="351"/>
                </a:cubicBezTo>
                <a:cubicBezTo>
                  <a:pt x="446" y="325"/>
                  <a:pt x="455" y="308"/>
                  <a:pt x="460" y="289"/>
                </a:cubicBezTo>
                <a:cubicBezTo>
                  <a:pt x="465" y="270"/>
                  <a:pt x="464" y="253"/>
                  <a:pt x="468" y="234"/>
                </a:cubicBezTo>
                <a:cubicBezTo>
                  <a:pt x="472" y="215"/>
                  <a:pt x="478" y="190"/>
                  <a:pt x="483" y="172"/>
                </a:cubicBezTo>
                <a:cubicBezTo>
                  <a:pt x="488" y="154"/>
                  <a:pt x="493" y="142"/>
                  <a:pt x="499" y="125"/>
                </a:cubicBezTo>
                <a:cubicBezTo>
                  <a:pt x="505" y="108"/>
                  <a:pt x="516" y="90"/>
                  <a:pt x="522" y="71"/>
                </a:cubicBezTo>
                <a:cubicBezTo>
                  <a:pt x="528" y="52"/>
                  <a:pt x="526" y="13"/>
                  <a:pt x="538" y="8"/>
                </a:cubicBezTo>
                <a:cubicBezTo>
                  <a:pt x="550" y="3"/>
                  <a:pt x="574" y="17"/>
                  <a:pt x="592" y="40"/>
                </a:cubicBezTo>
                <a:cubicBezTo>
                  <a:pt x="610" y="63"/>
                  <a:pt x="635" y="119"/>
                  <a:pt x="647" y="149"/>
                </a:cubicBezTo>
                <a:cubicBezTo>
                  <a:pt x="659" y="179"/>
                  <a:pt x="657" y="192"/>
                  <a:pt x="663" y="219"/>
                </a:cubicBezTo>
                <a:cubicBezTo>
                  <a:pt x="669" y="246"/>
                  <a:pt x="681" y="289"/>
                  <a:pt x="686" y="312"/>
                </a:cubicBezTo>
                <a:cubicBezTo>
                  <a:pt x="691" y="335"/>
                  <a:pt x="691" y="343"/>
                  <a:pt x="694" y="359"/>
                </a:cubicBezTo>
                <a:cubicBezTo>
                  <a:pt x="697" y="375"/>
                  <a:pt x="696" y="392"/>
                  <a:pt x="702" y="406"/>
                </a:cubicBezTo>
                <a:cubicBezTo>
                  <a:pt x="708" y="420"/>
                  <a:pt x="723" y="431"/>
                  <a:pt x="733" y="445"/>
                </a:cubicBezTo>
                <a:cubicBezTo>
                  <a:pt x="743" y="459"/>
                  <a:pt x="750" y="487"/>
                  <a:pt x="764" y="492"/>
                </a:cubicBezTo>
                <a:cubicBezTo>
                  <a:pt x="778" y="497"/>
                  <a:pt x="804" y="488"/>
                  <a:pt x="818" y="476"/>
                </a:cubicBezTo>
                <a:cubicBezTo>
                  <a:pt x="832" y="464"/>
                  <a:pt x="845" y="431"/>
                  <a:pt x="850" y="4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433440" y="2600280"/>
            <a:ext cx="4025880" cy="301788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4686480" y="2762280"/>
            <a:ext cx="3822480" cy="28670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 flipV="1">
            <a:off x="6462720" y="3068640"/>
            <a:ext cx="0" cy="2160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364000" y="4149720"/>
            <a:ext cx="273708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o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&gt; 0.70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45280" y="1819440"/>
            <a:ext cx="0" cy="18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849920" y="2722680"/>
            <a:ext cx="317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581000" y="171144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G(j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| en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337000" y="3951360"/>
            <a:ext cx="0" cy="173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842000" y="4854600"/>
            <a:ext cx="317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579800" y="47736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275360" y="37814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rgG(j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) en 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975280" y="2660760"/>
            <a:ext cx="1746360" cy="1360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62760" y="2624040"/>
            <a:ext cx="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627440" y="2351160"/>
            <a:ext cx="7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965840" y="445788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59320" y="5632560"/>
            <a:ext cx="2202120" cy="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634160" y="543240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180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34040" y="3589200"/>
            <a:ext cx="14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444920" y="3370320"/>
            <a:ext cx="9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40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329080" y="3589200"/>
            <a:ext cx="1843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7151760" y="2722320"/>
            <a:ext cx="0" cy="855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151760" y="2662200"/>
            <a:ext cx="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921360" y="2233440"/>
            <a:ext cx="86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975200" y="2722680"/>
            <a:ext cx="12985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591160" y="2747880"/>
            <a:ext cx="1770120" cy="1050840"/>
          </a:xfrm>
          <a:custGeom>
            <a:avLst/>
            <a:gdLst/>
            <a:ahLst/>
            <a:rect l="l" t="t" r="r" b="b"/>
            <a:pathLst>
              <a:path w="1442" h="413">
                <a:moveTo>
                  <a:pt x="0" y="0"/>
                </a:moveTo>
                <a:cubicBezTo>
                  <a:pt x="44" y="2"/>
                  <a:pt x="89" y="4"/>
                  <a:pt x="140" y="8"/>
                </a:cubicBezTo>
                <a:cubicBezTo>
                  <a:pt x="191" y="12"/>
                  <a:pt x="256" y="16"/>
                  <a:pt x="304" y="24"/>
                </a:cubicBezTo>
                <a:cubicBezTo>
                  <a:pt x="352" y="32"/>
                  <a:pt x="369" y="38"/>
                  <a:pt x="429" y="55"/>
                </a:cubicBezTo>
                <a:cubicBezTo>
                  <a:pt x="489" y="72"/>
                  <a:pt x="596" y="106"/>
                  <a:pt x="662" y="125"/>
                </a:cubicBezTo>
                <a:cubicBezTo>
                  <a:pt x="728" y="144"/>
                  <a:pt x="769" y="154"/>
                  <a:pt x="826" y="172"/>
                </a:cubicBezTo>
                <a:cubicBezTo>
                  <a:pt x="883" y="190"/>
                  <a:pt x="939" y="209"/>
                  <a:pt x="1005" y="234"/>
                </a:cubicBezTo>
                <a:cubicBezTo>
                  <a:pt x="1071" y="259"/>
                  <a:pt x="1151" y="290"/>
                  <a:pt x="1224" y="320"/>
                </a:cubicBezTo>
                <a:cubicBezTo>
                  <a:pt x="1297" y="350"/>
                  <a:pt x="1406" y="396"/>
                  <a:pt x="1442" y="413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6149520" y="1981080"/>
            <a:ext cx="630360" cy="6066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24600" y="4857840"/>
            <a:ext cx="2323800" cy="745920"/>
          </a:xfrm>
          <a:custGeom>
            <a:avLst/>
            <a:gdLst/>
            <a:ahLst/>
            <a:rect l="l" t="t" r="r" b="b"/>
            <a:pathLst>
              <a:path w="1363" h="462">
                <a:moveTo>
                  <a:pt x="0" y="3"/>
                </a:moveTo>
                <a:cubicBezTo>
                  <a:pt x="79" y="1"/>
                  <a:pt x="159" y="0"/>
                  <a:pt x="233" y="19"/>
                </a:cubicBezTo>
                <a:cubicBezTo>
                  <a:pt x="307" y="38"/>
                  <a:pt x="388" y="82"/>
                  <a:pt x="444" y="120"/>
                </a:cubicBezTo>
                <a:cubicBezTo>
                  <a:pt x="500" y="158"/>
                  <a:pt x="512" y="203"/>
                  <a:pt x="568" y="245"/>
                </a:cubicBezTo>
                <a:cubicBezTo>
                  <a:pt x="624" y="287"/>
                  <a:pt x="669" y="336"/>
                  <a:pt x="779" y="370"/>
                </a:cubicBezTo>
                <a:cubicBezTo>
                  <a:pt x="889" y="404"/>
                  <a:pt x="1134" y="434"/>
                  <a:pt x="1231" y="448"/>
                </a:cubicBezTo>
                <a:cubicBezTo>
                  <a:pt x="1328" y="462"/>
                  <a:pt x="1345" y="459"/>
                  <a:pt x="1363" y="45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91200" y="4756320"/>
            <a:ext cx="0" cy="16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087960" y="488808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5331960" y="525924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213600" y="504036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90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773680" y="2187720"/>
            <a:ext cx="582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181160" y="2144880"/>
            <a:ext cx="223848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 Resonancia, la atenuacion en monótonamente decreciente, con pendiente -40dB por década para frecuencias superiores a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89640" y="1414440"/>
            <a:ext cx="176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cuencia de transi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883120" y="4338720"/>
            <a:ext cx="582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de:  K, retar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838840" y="1817640"/>
            <a:ext cx="0" cy="173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343480" y="2720880"/>
            <a:ext cx="317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776160" y="2157480"/>
                <a:ext cx="17272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K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o  -</m:t>
                        </m:r>
                        <m:r>
                          <m:t xml:space="preserve">π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>
            <a:off x="2413080" y="2077920"/>
            <a:ext cx="24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 una c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536400" y="4395960"/>
                <a:ext cx="25783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d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d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ω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7" name=""/>
          <p:cNvSpPr/>
          <p:nvPr/>
        </p:nvSpPr>
        <p:spPr>
          <a:xfrm>
            <a:off x="8081280" y="287496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074560" y="170964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G(j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| en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30920" y="3949560"/>
            <a:ext cx="0" cy="173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335560" y="4853160"/>
            <a:ext cx="317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073360" y="50068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893120" y="3805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rgG(j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) en 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15000" y="2362320"/>
            <a:ext cx="2263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94480" y="2724120"/>
            <a:ext cx="22636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187280" y="5492880"/>
            <a:ext cx="9036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78000" y="3171960"/>
            <a:ext cx="9032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45240" y="4853160"/>
            <a:ext cx="2263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529240" y="4935600"/>
            <a:ext cx="1682640" cy="977760"/>
          </a:xfrm>
          <a:custGeom>
            <a:avLst/>
            <a:gdLst/>
            <a:ahLst/>
            <a:rect l="l" t="t" r="r" b="b"/>
            <a:pathLst>
              <a:path w="1060" h="616">
                <a:moveTo>
                  <a:pt x="0" y="8"/>
                </a:moveTo>
                <a:cubicBezTo>
                  <a:pt x="93" y="4"/>
                  <a:pt x="187" y="0"/>
                  <a:pt x="265" y="8"/>
                </a:cubicBezTo>
                <a:cubicBezTo>
                  <a:pt x="343" y="16"/>
                  <a:pt x="391" y="19"/>
                  <a:pt x="468" y="55"/>
                </a:cubicBezTo>
                <a:cubicBezTo>
                  <a:pt x="545" y="91"/>
                  <a:pt x="626" y="133"/>
                  <a:pt x="725" y="226"/>
                </a:cubicBezTo>
                <a:cubicBezTo>
                  <a:pt x="824" y="319"/>
                  <a:pt x="1004" y="551"/>
                  <a:pt x="1060" y="61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527720" y="2486160"/>
            <a:ext cx="76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803840" y="461808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¿Como responden los sistemas ante entradas de distinta velocidad de cambio ó cualquier tipo de entrad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señales se pueden expresar como valores en el tiempo, o como suma de señales sinusoidales de distinta frecuenc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izar el comportamiento dinámico desde el punto de vista de la fr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trado de señ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er orden mas retar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64400" y="2413080"/>
            <a:ext cx="10800" cy="282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145040" y="3809880"/>
            <a:ext cx="356220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2816280" y="2214720"/>
                <a:ext cx="469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s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341280" y="3654360"/>
            <a:ext cx="3060720" cy="2295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1332000" y="5969160"/>
                <a:ext cx="469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3492360" y="1719360"/>
            <a:ext cx="4996080" cy="374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tar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uando existen retardos es difícil aplicar ciertas técnicas de análisis, tales como el lugar de las ra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sta técnica requiere aproximar el retardo por Pade mediante ceros y po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n embargo, en el dominio de la frecuencia, el análisis con diagramas de Nyquist o Bode no presenta especial dificult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2997360" y="3968640"/>
                <a:ext cx="251460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s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de: integrad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838840" y="1817640"/>
            <a:ext cx="0" cy="173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343480" y="2720880"/>
            <a:ext cx="317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081280" y="287496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074560" y="170964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G(j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| en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830920" y="3949560"/>
            <a:ext cx="0" cy="173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560" y="4853160"/>
            <a:ext cx="317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073360" y="50068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893120" y="3805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rgG(j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) en 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2362320"/>
            <a:ext cx="2103480" cy="87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1130400" y="2308320"/>
                <a:ext cx="2209680" cy="14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ω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ω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ω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º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2" name=""/>
          <p:cNvSpPr/>
          <p:nvPr/>
        </p:nvSpPr>
        <p:spPr>
          <a:xfrm>
            <a:off x="6556320" y="2622600"/>
            <a:ext cx="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383160" y="2251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527720" y="2486160"/>
            <a:ext cx="76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803840" y="461808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629320" y="5369040"/>
            <a:ext cx="2201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23000" y="515952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90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04880" y="4057560"/>
            <a:ext cx="338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ta de pendiente -20 dB que pasa por 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1, 0 d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er orden mas integra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3336840" y="1974960"/>
            <a:ext cx="5002200" cy="3751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1627200" y="2516040"/>
                <a:ext cx="72216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2" name=""/>
          <p:cNvSpPr/>
          <p:nvPr/>
        </p:nvSpPr>
        <p:spPr>
          <a:xfrm>
            <a:off x="7542360" y="2349360"/>
            <a:ext cx="0" cy="2924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211640" y="4014720"/>
            <a:ext cx="36464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lt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003640" y="2205000"/>
            <a:ext cx="1828800" cy="10666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51280" y="274644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4760" y="2743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164360" y="2997360"/>
            <a:ext cx="1349280" cy="814320"/>
          </a:xfrm>
          <a:custGeom>
            <a:avLst/>
            <a:gdLst/>
            <a:ahLst/>
            <a:rect l="l" t="t" r="r" b="b"/>
            <a:pathLst>
              <a:path w="850" h="513">
                <a:moveTo>
                  <a:pt x="0" y="258"/>
                </a:moveTo>
                <a:cubicBezTo>
                  <a:pt x="17" y="228"/>
                  <a:pt x="35" y="199"/>
                  <a:pt x="47" y="172"/>
                </a:cubicBezTo>
                <a:cubicBezTo>
                  <a:pt x="59" y="145"/>
                  <a:pt x="62" y="116"/>
                  <a:pt x="70" y="94"/>
                </a:cubicBezTo>
                <a:cubicBezTo>
                  <a:pt x="78" y="72"/>
                  <a:pt x="86" y="55"/>
                  <a:pt x="94" y="40"/>
                </a:cubicBezTo>
                <a:cubicBezTo>
                  <a:pt x="102" y="25"/>
                  <a:pt x="105" y="2"/>
                  <a:pt x="117" y="1"/>
                </a:cubicBezTo>
                <a:cubicBezTo>
                  <a:pt x="129" y="0"/>
                  <a:pt x="154" y="18"/>
                  <a:pt x="164" y="32"/>
                </a:cubicBezTo>
                <a:cubicBezTo>
                  <a:pt x="174" y="46"/>
                  <a:pt x="170" y="60"/>
                  <a:pt x="179" y="86"/>
                </a:cubicBezTo>
                <a:cubicBezTo>
                  <a:pt x="188" y="112"/>
                  <a:pt x="209" y="163"/>
                  <a:pt x="218" y="188"/>
                </a:cubicBezTo>
                <a:cubicBezTo>
                  <a:pt x="227" y="213"/>
                  <a:pt x="228" y="206"/>
                  <a:pt x="234" y="234"/>
                </a:cubicBezTo>
                <a:cubicBezTo>
                  <a:pt x="240" y="262"/>
                  <a:pt x="249" y="329"/>
                  <a:pt x="257" y="359"/>
                </a:cubicBezTo>
                <a:cubicBezTo>
                  <a:pt x="265" y="389"/>
                  <a:pt x="272" y="397"/>
                  <a:pt x="281" y="414"/>
                </a:cubicBezTo>
                <a:cubicBezTo>
                  <a:pt x="290" y="431"/>
                  <a:pt x="306" y="445"/>
                  <a:pt x="312" y="460"/>
                </a:cubicBezTo>
                <a:cubicBezTo>
                  <a:pt x="318" y="475"/>
                  <a:pt x="310" y="501"/>
                  <a:pt x="320" y="507"/>
                </a:cubicBezTo>
                <a:cubicBezTo>
                  <a:pt x="330" y="513"/>
                  <a:pt x="360" y="509"/>
                  <a:pt x="374" y="499"/>
                </a:cubicBezTo>
                <a:cubicBezTo>
                  <a:pt x="388" y="489"/>
                  <a:pt x="394" y="470"/>
                  <a:pt x="405" y="445"/>
                </a:cubicBezTo>
                <a:cubicBezTo>
                  <a:pt x="416" y="420"/>
                  <a:pt x="428" y="377"/>
                  <a:pt x="437" y="351"/>
                </a:cubicBezTo>
                <a:cubicBezTo>
                  <a:pt x="446" y="325"/>
                  <a:pt x="455" y="308"/>
                  <a:pt x="460" y="289"/>
                </a:cubicBezTo>
                <a:cubicBezTo>
                  <a:pt x="465" y="270"/>
                  <a:pt x="464" y="253"/>
                  <a:pt x="468" y="234"/>
                </a:cubicBezTo>
                <a:cubicBezTo>
                  <a:pt x="472" y="215"/>
                  <a:pt x="478" y="190"/>
                  <a:pt x="483" y="172"/>
                </a:cubicBezTo>
                <a:cubicBezTo>
                  <a:pt x="488" y="154"/>
                  <a:pt x="493" y="142"/>
                  <a:pt x="499" y="125"/>
                </a:cubicBezTo>
                <a:cubicBezTo>
                  <a:pt x="505" y="108"/>
                  <a:pt x="516" y="90"/>
                  <a:pt x="522" y="71"/>
                </a:cubicBezTo>
                <a:cubicBezTo>
                  <a:pt x="528" y="52"/>
                  <a:pt x="526" y="13"/>
                  <a:pt x="538" y="8"/>
                </a:cubicBezTo>
                <a:cubicBezTo>
                  <a:pt x="550" y="3"/>
                  <a:pt x="574" y="17"/>
                  <a:pt x="592" y="40"/>
                </a:cubicBezTo>
                <a:cubicBezTo>
                  <a:pt x="610" y="63"/>
                  <a:pt x="635" y="119"/>
                  <a:pt x="647" y="149"/>
                </a:cubicBezTo>
                <a:cubicBezTo>
                  <a:pt x="659" y="179"/>
                  <a:pt x="657" y="192"/>
                  <a:pt x="663" y="219"/>
                </a:cubicBezTo>
                <a:cubicBezTo>
                  <a:pt x="669" y="246"/>
                  <a:pt x="681" y="289"/>
                  <a:pt x="686" y="312"/>
                </a:cubicBezTo>
                <a:cubicBezTo>
                  <a:pt x="691" y="335"/>
                  <a:pt x="691" y="343"/>
                  <a:pt x="694" y="359"/>
                </a:cubicBezTo>
                <a:cubicBezTo>
                  <a:pt x="697" y="375"/>
                  <a:pt x="696" y="392"/>
                  <a:pt x="702" y="406"/>
                </a:cubicBezTo>
                <a:cubicBezTo>
                  <a:pt x="708" y="420"/>
                  <a:pt x="723" y="431"/>
                  <a:pt x="733" y="445"/>
                </a:cubicBezTo>
                <a:cubicBezTo>
                  <a:pt x="743" y="459"/>
                  <a:pt x="750" y="487"/>
                  <a:pt x="764" y="492"/>
                </a:cubicBezTo>
                <a:cubicBezTo>
                  <a:pt x="778" y="497"/>
                  <a:pt x="804" y="488"/>
                  <a:pt x="818" y="476"/>
                </a:cubicBezTo>
                <a:cubicBezTo>
                  <a:pt x="832" y="464"/>
                  <a:pt x="845" y="431"/>
                  <a:pt x="850" y="4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236000" y="1981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51280" y="20606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68360" y="404640"/>
            <a:ext cx="2057400" cy="774720"/>
          </a:xfrm>
          <a:custGeom>
            <a:avLst/>
            <a:gdLst/>
            <a:ahLst/>
            <a:rect l="l" t="t" r="r" b="b"/>
            <a:pathLst>
              <a:path w="1296" h="488">
                <a:moveTo>
                  <a:pt x="0" y="368"/>
                </a:moveTo>
                <a:cubicBezTo>
                  <a:pt x="32" y="324"/>
                  <a:pt x="64" y="280"/>
                  <a:pt x="96" y="224"/>
                </a:cubicBezTo>
                <a:cubicBezTo>
                  <a:pt x="128" y="168"/>
                  <a:pt x="168" y="24"/>
                  <a:pt x="192" y="32"/>
                </a:cubicBezTo>
                <a:cubicBezTo>
                  <a:pt x="216" y="40"/>
                  <a:pt x="224" y="224"/>
                  <a:pt x="240" y="272"/>
                </a:cubicBezTo>
                <a:cubicBezTo>
                  <a:pt x="256" y="320"/>
                  <a:pt x="280" y="320"/>
                  <a:pt x="288" y="320"/>
                </a:cubicBezTo>
                <a:cubicBezTo>
                  <a:pt x="296" y="320"/>
                  <a:pt x="288" y="296"/>
                  <a:pt x="288" y="272"/>
                </a:cubicBezTo>
                <a:cubicBezTo>
                  <a:pt x="288" y="248"/>
                  <a:pt x="280" y="176"/>
                  <a:pt x="288" y="176"/>
                </a:cubicBezTo>
                <a:cubicBezTo>
                  <a:pt x="296" y="176"/>
                  <a:pt x="328" y="240"/>
                  <a:pt x="336" y="272"/>
                </a:cubicBezTo>
                <a:cubicBezTo>
                  <a:pt x="344" y="304"/>
                  <a:pt x="312" y="352"/>
                  <a:pt x="336" y="368"/>
                </a:cubicBezTo>
                <a:cubicBezTo>
                  <a:pt x="360" y="384"/>
                  <a:pt x="448" y="392"/>
                  <a:pt x="480" y="368"/>
                </a:cubicBezTo>
                <a:cubicBezTo>
                  <a:pt x="512" y="344"/>
                  <a:pt x="504" y="280"/>
                  <a:pt x="528" y="224"/>
                </a:cubicBezTo>
                <a:cubicBezTo>
                  <a:pt x="552" y="168"/>
                  <a:pt x="600" y="64"/>
                  <a:pt x="624" y="32"/>
                </a:cubicBezTo>
                <a:cubicBezTo>
                  <a:pt x="648" y="0"/>
                  <a:pt x="656" y="24"/>
                  <a:pt x="672" y="32"/>
                </a:cubicBezTo>
                <a:cubicBezTo>
                  <a:pt x="688" y="40"/>
                  <a:pt x="704" y="48"/>
                  <a:pt x="720" y="80"/>
                </a:cubicBezTo>
                <a:cubicBezTo>
                  <a:pt x="736" y="112"/>
                  <a:pt x="760" y="216"/>
                  <a:pt x="768" y="224"/>
                </a:cubicBezTo>
                <a:cubicBezTo>
                  <a:pt x="776" y="232"/>
                  <a:pt x="760" y="136"/>
                  <a:pt x="768" y="128"/>
                </a:cubicBezTo>
                <a:cubicBezTo>
                  <a:pt x="776" y="120"/>
                  <a:pt x="808" y="152"/>
                  <a:pt x="816" y="176"/>
                </a:cubicBezTo>
                <a:cubicBezTo>
                  <a:pt x="824" y="200"/>
                  <a:pt x="808" y="224"/>
                  <a:pt x="816" y="272"/>
                </a:cubicBezTo>
                <a:cubicBezTo>
                  <a:pt x="824" y="320"/>
                  <a:pt x="848" y="440"/>
                  <a:pt x="864" y="464"/>
                </a:cubicBezTo>
                <a:cubicBezTo>
                  <a:pt x="880" y="488"/>
                  <a:pt x="904" y="440"/>
                  <a:pt x="912" y="416"/>
                </a:cubicBezTo>
                <a:cubicBezTo>
                  <a:pt x="920" y="392"/>
                  <a:pt x="896" y="344"/>
                  <a:pt x="912" y="320"/>
                </a:cubicBezTo>
                <a:cubicBezTo>
                  <a:pt x="928" y="296"/>
                  <a:pt x="952" y="296"/>
                  <a:pt x="1008" y="272"/>
                </a:cubicBezTo>
                <a:cubicBezTo>
                  <a:pt x="1064" y="248"/>
                  <a:pt x="1200" y="200"/>
                  <a:pt x="1248" y="176"/>
                </a:cubicBezTo>
                <a:cubicBezTo>
                  <a:pt x="1296" y="152"/>
                  <a:pt x="1288" y="136"/>
                  <a:pt x="1296" y="1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230480" y="264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835280" y="1557360"/>
            <a:ext cx="1349280" cy="814320"/>
          </a:xfrm>
          <a:custGeom>
            <a:avLst/>
            <a:gdLst/>
            <a:ahLst/>
            <a:rect l="l" t="t" r="r" b="b"/>
            <a:pathLst>
              <a:path w="850" h="513">
                <a:moveTo>
                  <a:pt x="0" y="258"/>
                </a:moveTo>
                <a:cubicBezTo>
                  <a:pt x="17" y="228"/>
                  <a:pt x="35" y="199"/>
                  <a:pt x="47" y="172"/>
                </a:cubicBezTo>
                <a:cubicBezTo>
                  <a:pt x="59" y="145"/>
                  <a:pt x="62" y="116"/>
                  <a:pt x="70" y="94"/>
                </a:cubicBezTo>
                <a:cubicBezTo>
                  <a:pt x="78" y="72"/>
                  <a:pt x="86" y="55"/>
                  <a:pt x="94" y="40"/>
                </a:cubicBezTo>
                <a:cubicBezTo>
                  <a:pt x="102" y="25"/>
                  <a:pt x="105" y="2"/>
                  <a:pt x="117" y="1"/>
                </a:cubicBezTo>
                <a:cubicBezTo>
                  <a:pt x="129" y="0"/>
                  <a:pt x="154" y="18"/>
                  <a:pt x="164" y="32"/>
                </a:cubicBezTo>
                <a:cubicBezTo>
                  <a:pt x="174" y="46"/>
                  <a:pt x="170" y="60"/>
                  <a:pt x="179" y="86"/>
                </a:cubicBezTo>
                <a:cubicBezTo>
                  <a:pt x="188" y="112"/>
                  <a:pt x="209" y="163"/>
                  <a:pt x="218" y="188"/>
                </a:cubicBezTo>
                <a:cubicBezTo>
                  <a:pt x="227" y="213"/>
                  <a:pt x="228" y="206"/>
                  <a:pt x="234" y="234"/>
                </a:cubicBezTo>
                <a:cubicBezTo>
                  <a:pt x="240" y="262"/>
                  <a:pt x="249" y="329"/>
                  <a:pt x="257" y="359"/>
                </a:cubicBezTo>
                <a:cubicBezTo>
                  <a:pt x="265" y="389"/>
                  <a:pt x="272" y="397"/>
                  <a:pt x="281" y="414"/>
                </a:cubicBezTo>
                <a:cubicBezTo>
                  <a:pt x="290" y="431"/>
                  <a:pt x="306" y="445"/>
                  <a:pt x="312" y="460"/>
                </a:cubicBezTo>
                <a:cubicBezTo>
                  <a:pt x="318" y="475"/>
                  <a:pt x="310" y="501"/>
                  <a:pt x="320" y="507"/>
                </a:cubicBezTo>
                <a:cubicBezTo>
                  <a:pt x="330" y="513"/>
                  <a:pt x="360" y="509"/>
                  <a:pt x="374" y="499"/>
                </a:cubicBezTo>
                <a:cubicBezTo>
                  <a:pt x="388" y="489"/>
                  <a:pt x="394" y="470"/>
                  <a:pt x="405" y="445"/>
                </a:cubicBezTo>
                <a:cubicBezTo>
                  <a:pt x="416" y="420"/>
                  <a:pt x="428" y="377"/>
                  <a:pt x="437" y="351"/>
                </a:cubicBezTo>
                <a:cubicBezTo>
                  <a:pt x="446" y="325"/>
                  <a:pt x="455" y="308"/>
                  <a:pt x="460" y="289"/>
                </a:cubicBezTo>
                <a:cubicBezTo>
                  <a:pt x="465" y="270"/>
                  <a:pt x="464" y="253"/>
                  <a:pt x="468" y="234"/>
                </a:cubicBezTo>
                <a:cubicBezTo>
                  <a:pt x="472" y="215"/>
                  <a:pt x="478" y="190"/>
                  <a:pt x="483" y="172"/>
                </a:cubicBezTo>
                <a:cubicBezTo>
                  <a:pt x="488" y="154"/>
                  <a:pt x="493" y="142"/>
                  <a:pt x="499" y="125"/>
                </a:cubicBezTo>
                <a:cubicBezTo>
                  <a:pt x="505" y="108"/>
                  <a:pt x="516" y="90"/>
                  <a:pt x="522" y="71"/>
                </a:cubicBezTo>
                <a:cubicBezTo>
                  <a:pt x="528" y="52"/>
                  <a:pt x="526" y="13"/>
                  <a:pt x="538" y="8"/>
                </a:cubicBezTo>
                <a:cubicBezTo>
                  <a:pt x="550" y="3"/>
                  <a:pt x="574" y="17"/>
                  <a:pt x="592" y="40"/>
                </a:cubicBezTo>
                <a:cubicBezTo>
                  <a:pt x="610" y="63"/>
                  <a:pt x="635" y="119"/>
                  <a:pt x="647" y="149"/>
                </a:cubicBezTo>
                <a:cubicBezTo>
                  <a:pt x="659" y="179"/>
                  <a:pt x="657" y="192"/>
                  <a:pt x="663" y="219"/>
                </a:cubicBezTo>
                <a:cubicBezTo>
                  <a:pt x="669" y="246"/>
                  <a:pt x="681" y="289"/>
                  <a:pt x="686" y="312"/>
                </a:cubicBezTo>
                <a:cubicBezTo>
                  <a:pt x="691" y="335"/>
                  <a:pt x="691" y="343"/>
                  <a:pt x="694" y="359"/>
                </a:cubicBezTo>
                <a:cubicBezTo>
                  <a:pt x="697" y="375"/>
                  <a:pt x="696" y="392"/>
                  <a:pt x="702" y="406"/>
                </a:cubicBezTo>
                <a:cubicBezTo>
                  <a:pt x="708" y="420"/>
                  <a:pt x="723" y="431"/>
                  <a:pt x="733" y="445"/>
                </a:cubicBezTo>
                <a:cubicBezTo>
                  <a:pt x="743" y="459"/>
                  <a:pt x="750" y="487"/>
                  <a:pt x="764" y="492"/>
                </a:cubicBezTo>
                <a:cubicBezTo>
                  <a:pt x="778" y="497"/>
                  <a:pt x="804" y="488"/>
                  <a:pt x="818" y="476"/>
                </a:cubicBezTo>
                <a:cubicBezTo>
                  <a:pt x="832" y="464"/>
                  <a:pt x="845" y="431"/>
                  <a:pt x="850" y="4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006640" y="2781360"/>
            <a:ext cx="650880" cy="433440"/>
          </a:xfrm>
          <a:custGeom>
            <a:avLst/>
            <a:gdLst/>
            <a:ahLst/>
            <a:rect l="l" t="t" r="r" b="b"/>
            <a:pathLst>
              <a:path w="850" h="513">
                <a:moveTo>
                  <a:pt x="0" y="258"/>
                </a:moveTo>
                <a:cubicBezTo>
                  <a:pt x="17" y="228"/>
                  <a:pt x="35" y="199"/>
                  <a:pt x="47" y="172"/>
                </a:cubicBezTo>
                <a:cubicBezTo>
                  <a:pt x="59" y="145"/>
                  <a:pt x="62" y="116"/>
                  <a:pt x="70" y="94"/>
                </a:cubicBezTo>
                <a:cubicBezTo>
                  <a:pt x="78" y="72"/>
                  <a:pt x="86" y="55"/>
                  <a:pt x="94" y="40"/>
                </a:cubicBezTo>
                <a:cubicBezTo>
                  <a:pt x="102" y="25"/>
                  <a:pt x="105" y="2"/>
                  <a:pt x="117" y="1"/>
                </a:cubicBezTo>
                <a:cubicBezTo>
                  <a:pt x="129" y="0"/>
                  <a:pt x="154" y="18"/>
                  <a:pt x="164" y="32"/>
                </a:cubicBezTo>
                <a:cubicBezTo>
                  <a:pt x="174" y="46"/>
                  <a:pt x="170" y="60"/>
                  <a:pt x="179" y="86"/>
                </a:cubicBezTo>
                <a:cubicBezTo>
                  <a:pt x="188" y="112"/>
                  <a:pt x="209" y="163"/>
                  <a:pt x="218" y="188"/>
                </a:cubicBezTo>
                <a:cubicBezTo>
                  <a:pt x="227" y="213"/>
                  <a:pt x="228" y="206"/>
                  <a:pt x="234" y="234"/>
                </a:cubicBezTo>
                <a:cubicBezTo>
                  <a:pt x="240" y="262"/>
                  <a:pt x="249" y="329"/>
                  <a:pt x="257" y="359"/>
                </a:cubicBezTo>
                <a:cubicBezTo>
                  <a:pt x="265" y="389"/>
                  <a:pt x="272" y="397"/>
                  <a:pt x="281" y="414"/>
                </a:cubicBezTo>
                <a:cubicBezTo>
                  <a:pt x="290" y="431"/>
                  <a:pt x="306" y="445"/>
                  <a:pt x="312" y="460"/>
                </a:cubicBezTo>
                <a:cubicBezTo>
                  <a:pt x="318" y="475"/>
                  <a:pt x="310" y="501"/>
                  <a:pt x="320" y="507"/>
                </a:cubicBezTo>
                <a:cubicBezTo>
                  <a:pt x="330" y="513"/>
                  <a:pt x="360" y="509"/>
                  <a:pt x="374" y="499"/>
                </a:cubicBezTo>
                <a:cubicBezTo>
                  <a:pt x="388" y="489"/>
                  <a:pt x="394" y="470"/>
                  <a:pt x="405" y="445"/>
                </a:cubicBezTo>
                <a:cubicBezTo>
                  <a:pt x="416" y="420"/>
                  <a:pt x="428" y="377"/>
                  <a:pt x="437" y="351"/>
                </a:cubicBezTo>
                <a:cubicBezTo>
                  <a:pt x="446" y="325"/>
                  <a:pt x="455" y="308"/>
                  <a:pt x="460" y="289"/>
                </a:cubicBezTo>
                <a:cubicBezTo>
                  <a:pt x="465" y="270"/>
                  <a:pt x="464" y="253"/>
                  <a:pt x="468" y="234"/>
                </a:cubicBezTo>
                <a:cubicBezTo>
                  <a:pt x="472" y="215"/>
                  <a:pt x="478" y="190"/>
                  <a:pt x="483" y="172"/>
                </a:cubicBezTo>
                <a:cubicBezTo>
                  <a:pt x="488" y="154"/>
                  <a:pt x="493" y="142"/>
                  <a:pt x="499" y="125"/>
                </a:cubicBezTo>
                <a:cubicBezTo>
                  <a:pt x="505" y="108"/>
                  <a:pt x="516" y="90"/>
                  <a:pt x="522" y="71"/>
                </a:cubicBezTo>
                <a:cubicBezTo>
                  <a:pt x="528" y="52"/>
                  <a:pt x="526" y="13"/>
                  <a:pt x="538" y="8"/>
                </a:cubicBezTo>
                <a:cubicBezTo>
                  <a:pt x="550" y="3"/>
                  <a:pt x="574" y="17"/>
                  <a:pt x="592" y="40"/>
                </a:cubicBezTo>
                <a:cubicBezTo>
                  <a:pt x="610" y="63"/>
                  <a:pt x="635" y="119"/>
                  <a:pt x="647" y="149"/>
                </a:cubicBezTo>
                <a:cubicBezTo>
                  <a:pt x="659" y="179"/>
                  <a:pt x="657" y="192"/>
                  <a:pt x="663" y="219"/>
                </a:cubicBezTo>
                <a:cubicBezTo>
                  <a:pt x="669" y="246"/>
                  <a:pt x="681" y="289"/>
                  <a:pt x="686" y="312"/>
                </a:cubicBezTo>
                <a:cubicBezTo>
                  <a:pt x="691" y="335"/>
                  <a:pt x="691" y="343"/>
                  <a:pt x="694" y="359"/>
                </a:cubicBezTo>
                <a:cubicBezTo>
                  <a:pt x="697" y="375"/>
                  <a:pt x="696" y="392"/>
                  <a:pt x="702" y="406"/>
                </a:cubicBezTo>
                <a:cubicBezTo>
                  <a:pt x="708" y="420"/>
                  <a:pt x="723" y="431"/>
                  <a:pt x="733" y="445"/>
                </a:cubicBezTo>
                <a:cubicBezTo>
                  <a:pt x="743" y="459"/>
                  <a:pt x="750" y="487"/>
                  <a:pt x="764" y="492"/>
                </a:cubicBezTo>
                <a:cubicBezTo>
                  <a:pt x="778" y="497"/>
                  <a:pt x="804" y="488"/>
                  <a:pt x="818" y="476"/>
                </a:cubicBezTo>
                <a:cubicBezTo>
                  <a:pt x="832" y="464"/>
                  <a:pt x="845" y="431"/>
                  <a:pt x="850" y="4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124000" y="22766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144880" y="3254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124000" y="3716280"/>
            <a:ext cx="287280" cy="252360"/>
          </a:xfrm>
          <a:custGeom>
            <a:avLst/>
            <a:gdLst/>
            <a:ahLst/>
            <a:rect l="l" t="t" r="r" b="b"/>
            <a:pathLst>
              <a:path w="272" h="144">
                <a:moveTo>
                  <a:pt x="0" y="91"/>
                </a:moveTo>
                <a:cubicBezTo>
                  <a:pt x="15" y="45"/>
                  <a:pt x="30" y="0"/>
                  <a:pt x="45" y="0"/>
                </a:cubicBezTo>
                <a:cubicBezTo>
                  <a:pt x="60" y="0"/>
                  <a:pt x="76" y="68"/>
                  <a:pt x="91" y="91"/>
                </a:cubicBezTo>
                <a:cubicBezTo>
                  <a:pt x="106" y="114"/>
                  <a:pt x="129" y="144"/>
                  <a:pt x="136" y="137"/>
                </a:cubicBezTo>
                <a:cubicBezTo>
                  <a:pt x="143" y="130"/>
                  <a:pt x="128" y="69"/>
                  <a:pt x="136" y="46"/>
                </a:cubicBezTo>
                <a:cubicBezTo>
                  <a:pt x="144" y="23"/>
                  <a:pt x="167" y="0"/>
                  <a:pt x="182" y="0"/>
                </a:cubicBezTo>
                <a:cubicBezTo>
                  <a:pt x="197" y="0"/>
                  <a:pt x="220" y="23"/>
                  <a:pt x="227" y="46"/>
                </a:cubicBezTo>
                <a:cubicBezTo>
                  <a:pt x="234" y="69"/>
                  <a:pt x="220" y="130"/>
                  <a:pt x="227" y="137"/>
                </a:cubicBezTo>
                <a:cubicBezTo>
                  <a:pt x="234" y="144"/>
                  <a:pt x="265" y="99"/>
                  <a:pt x="272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849920" y="3843360"/>
            <a:ext cx="0" cy="18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354560" y="4746600"/>
            <a:ext cx="317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926160" y="3789360"/>
            <a:ext cx="8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|G(j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)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567400" y="4648320"/>
            <a:ext cx="0" cy="16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132440" y="4375080"/>
            <a:ext cx="76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364000" y="4724280"/>
            <a:ext cx="1770120" cy="1051200"/>
          </a:xfrm>
          <a:custGeom>
            <a:avLst/>
            <a:gdLst/>
            <a:ahLst/>
            <a:rect l="l" t="t" r="r" b="b"/>
            <a:pathLst>
              <a:path w="1442" h="413">
                <a:moveTo>
                  <a:pt x="0" y="0"/>
                </a:moveTo>
                <a:cubicBezTo>
                  <a:pt x="44" y="2"/>
                  <a:pt x="89" y="4"/>
                  <a:pt x="140" y="8"/>
                </a:cubicBezTo>
                <a:cubicBezTo>
                  <a:pt x="191" y="12"/>
                  <a:pt x="256" y="16"/>
                  <a:pt x="304" y="24"/>
                </a:cubicBezTo>
                <a:cubicBezTo>
                  <a:pt x="352" y="32"/>
                  <a:pt x="369" y="38"/>
                  <a:pt x="429" y="55"/>
                </a:cubicBezTo>
                <a:cubicBezTo>
                  <a:pt x="489" y="72"/>
                  <a:pt x="596" y="106"/>
                  <a:pt x="662" y="125"/>
                </a:cubicBezTo>
                <a:cubicBezTo>
                  <a:pt x="728" y="144"/>
                  <a:pt x="769" y="154"/>
                  <a:pt x="826" y="172"/>
                </a:cubicBezTo>
                <a:cubicBezTo>
                  <a:pt x="883" y="190"/>
                  <a:pt x="939" y="209"/>
                  <a:pt x="1005" y="234"/>
                </a:cubicBezTo>
                <a:cubicBezTo>
                  <a:pt x="1071" y="259"/>
                  <a:pt x="1151" y="290"/>
                  <a:pt x="1224" y="320"/>
                </a:cubicBezTo>
                <a:cubicBezTo>
                  <a:pt x="1297" y="350"/>
                  <a:pt x="1406" y="396"/>
                  <a:pt x="1442" y="413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5654160" y="4005360"/>
            <a:ext cx="630360" cy="60624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04000" y="4365720"/>
            <a:ext cx="5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4859280" y="4724280"/>
            <a:ext cx="5047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11280" y="4292640"/>
            <a:ext cx="259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 filtro es un dispositivo que permite eliminar frecuencias no deseadas en una señ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156360" y="587700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roduce un retard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>
            <a:hlinkClick r:id="rId1"/>
          </p:cNvPr>
          <p:cNvSpPr/>
          <p:nvPr/>
        </p:nvSpPr>
        <p:spPr>
          <a:xfrm>
            <a:off x="7308720" y="5229360"/>
            <a:ext cx="1440000" cy="504720"/>
          </a:xfrm>
          <a:custGeom>
            <a:avLst/>
            <a:gdLst>
              <a:gd name="textAreaLeft" fmla="*/ 32400 w 1440000"/>
              <a:gd name="textAreaRight" fmla="*/ 1407600 w 1440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1598" h="21600">
                <a:moveTo>
                  <a:pt x="0" y="0"/>
                </a:moveTo>
                <a:lnTo>
                  <a:pt x="61598" y="0"/>
                </a:lnTo>
                <a:lnTo>
                  <a:pt x="61598" y="21600"/>
                </a:lnTo>
                <a:lnTo>
                  <a:pt x="0" y="21600"/>
                </a:lnTo>
                <a:close/>
              </a:path>
              <a:path fill="lightenLess" w="61598" h="21600">
                <a:moveTo>
                  <a:pt x="0" y="0"/>
                </a:moveTo>
                <a:lnTo>
                  <a:pt x="61598" y="0"/>
                </a:lnTo>
                <a:lnTo>
                  <a:pt x="60198" y="1400"/>
                </a:lnTo>
                <a:lnTo>
                  <a:pt x="1400" y="1400"/>
                </a:lnTo>
                <a:close/>
              </a:path>
              <a:path fill="darken" w="61598" h="21600">
                <a:moveTo>
                  <a:pt x="61598" y="0"/>
                </a:moveTo>
                <a:lnTo>
                  <a:pt x="61598" y="21600"/>
                </a:lnTo>
                <a:lnTo>
                  <a:pt x="60198" y="20200"/>
                </a:lnTo>
                <a:lnTo>
                  <a:pt x="60198" y="1400"/>
                </a:lnTo>
                <a:close/>
              </a:path>
              <a:path fill="darkenLess" w="61598" h="21600">
                <a:moveTo>
                  <a:pt x="615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198" y="20200"/>
                </a:lnTo>
                <a:close/>
              </a:path>
              <a:path fill="lighten" w="615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l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ad/Lag   Cero/po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611280" y="1584360"/>
            <a:ext cx="4276800" cy="3206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2141640" y="4960800"/>
                <a:ext cx="5839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4662360" y="1584360"/>
            <a:ext cx="4365720" cy="3273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6494400" y="5005440"/>
                <a:ext cx="698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5" name=""/>
          <p:cNvSpPr/>
          <p:nvPr/>
        </p:nvSpPr>
        <p:spPr>
          <a:xfrm>
            <a:off x="3041640" y="4870440"/>
            <a:ext cx="319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a posición del cero determina el comportamiento a altas frecu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281640" y="5905440"/>
            <a:ext cx="188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361280" y="5815080"/>
            <a:ext cx="181080" cy="179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642000" y="5815080"/>
            <a:ext cx="179640" cy="179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6641640" y="5815080"/>
            <a:ext cx="179640" cy="179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106640" y="5951520"/>
            <a:ext cx="188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557360" y="5861160"/>
            <a:ext cx="181080" cy="179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457360" y="5861160"/>
            <a:ext cx="179640" cy="179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2457000" y="5861160"/>
            <a:ext cx="179640" cy="179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281640" y="6219720"/>
            <a:ext cx="21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ero domi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062000" y="6173640"/>
            <a:ext cx="21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olo domi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puesta en frecuencia en lazo cerr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916280" y="4959360"/>
            <a:ext cx="5838480" cy="8380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886280" y="2532240"/>
            <a:ext cx="1600200" cy="6094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797200" y="2532240"/>
            <a:ext cx="869760" cy="609480"/>
          </a:xfrm>
          <a:prstGeom prst="rect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666960" y="28368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486480" y="28368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553160" y="283680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1837800" y="3662280"/>
            <a:ext cx="571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1814400" y="3017520"/>
            <a:ext cx="0" cy="63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819600" y="2379600"/>
            <a:ext cx="814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066760" y="2836800"/>
            <a:ext cx="719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076400" y="2836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1609560" y="2608200"/>
            <a:ext cx="457200" cy="474840"/>
            <a:chOff x="1609560" y="2608200"/>
            <a:chExt cx="457200" cy="474840"/>
          </a:xfrm>
        </p:grpSpPr>
        <p:sp>
          <p:nvSpPr>
            <p:cNvPr id="489" name=""/>
            <p:cNvSpPr/>
            <p:nvPr/>
          </p:nvSpPr>
          <p:spPr>
            <a:xfrm>
              <a:off x="1609560" y="2608200"/>
              <a:ext cx="444240" cy="44460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609560" y="2684520"/>
              <a:ext cx="30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761840" y="283680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7095960" y="23796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47720" y="2255760"/>
            <a:ext cx="8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122560" y="2319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2328840" y="4022640"/>
                <a:ext cx="458460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6" name=""/>
          <p:cNvSpPr/>
          <p:nvPr/>
        </p:nvSpPr>
        <p:spPr>
          <a:xfrm>
            <a:off x="6956280" y="2712960"/>
            <a:ext cx="228600" cy="228600"/>
          </a:xfrm>
          <a:prstGeom prst="flowChar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938840" y="1646280"/>
            <a:ext cx="1600200" cy="6094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539040" y="1951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072200" y="195120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405320" y="1951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567240" y="1646280"/>
            <a:ext cx="814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2832120" y="5065560"/>
                <a:ext cx="373392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puesta en frecuencia en lazo cerr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886280" y="2532240"/>
            <a:ext cx="1600200" cy="6094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797200" y="2532240"/>
            <a:ext cx="869760" cy="609480"/>
          </a:xfrm>
          <a:prstGeom prst="rect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666960" y="28368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486480" y="28368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553160" y="283680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1837800" y="3662280"/>
            <a:ext cx="571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1814400" y="3017520"/>
            <a:ext cx="0" cy="63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19600" y="2379600"/>
            <a:ext cx="814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066760" y="2836800"/>
            <a:ext cx="719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076400" y="2836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1609560" y="2608200"/>
            <a:ext cx="457200" cy="474840"/>
            <a:chOff x="1609560" y="2608200"/>
            <a:chExt cx="457200" cy="474840"/>
          </a:xfrm>
        </p:grpSpPr>
        <p:sp>
          <p:nvSpPr>
            <p:cNvPr id="515" name=""/>
            <p:cNvSpPr/>
            <p:nvPr/>
          </p:nvSpPr>
          <p:spPr>
            <a:xfrm>
              <a:off x="1609560" y="2608200"/>
              <a:ext cx="444240" cy="44460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09560" y="2684520"/>
              <a:ext cx="30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761840" y="283680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7095960" y="23796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47720" y="2255760"/>
            <a:ext cx="8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122560" y="2319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956280" y="2712960"/>
            <a:ext cx="228600" cy="228600"/>
          </a:xfrm>
          <a:prstGeom prst="flowChar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938840" y="1646280"/>
            <a:ext cx="1600200" cy="6094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539040" y="1951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072200" y="195120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405320" y="1951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567240" y="1646280"/>
            <a:ext cx="814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1062000" y="4176720"/>
                <a:ext cx="37339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8" name=""/>
          <p:cNvSpPr/>
          <p:nvPr/>
        </p:nvSpPr>
        <p:spPr>
          <a:xfrm>
            <a:off x="5776920" y="4106880"/>
            <a:ext cx="0" cy="173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30960" y="4873680"/>
            <a:ext cx="298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776920" y="4600440"/>
            <a:ext cx="2709720" cy="1103400"/>
          </a:xfrm>
          <a:custGeom>
            <a:avLst/>
            <a:gdLst/>
            <a:ahLst/>
            <a:rect l="l" t="t" r="r" b="b"/>
            <a:pathLst>
              <a:path w="1707" h="695">
                <a:moveTo>
                  <a:pt x="0" y="172"/>
                </a:moveTo>
                <a:cubicBezTo>
                  <a:pt x="55" y="176"/>
                  <a:pt x="110" y="181"/>
                  <a:pt x="226" y="172"/>
                </a:cubicBezTo>
                <a:cubicBezTo>
                  <a:pt x="342" y="163"/>
                  <a:pt x="582" y="143"/>
                  <a:pt x="694" y="118"/>
                </a:cubicBezTo>
                <a:cubicBezTo>
                  <a:pt x="806" y="93"/>
                  <a:pt x="821" y="32"/>
                  <a:pt x="896" y="24"/>
                </a:cubicBezTo>
                <a:cubicBezTo>
                  <a:pt x="971" y="16"/>
                  <a:pt x="1046" y="0"/>
                  <a:pt x="1146" y="71"/>
                </a:cubicBezTo>
                <a:cubicBezTo>
                  <a:pt x="1246" y="142"/>
                  <a:pt x="1403" y="349"/>
                  <a:pt x="1496" y="453"/>
                </a:cubicBezTo>
                <a:cubicBezTo>
                  <a:pt x="1589" y="557"/>
                  <a:pt x="1672" y="655"/>
                  <a:pt x="1707" y="69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098920" y="45259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28640" y="5035680"/>
            <a:ext cx="433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de estudiarse el rechazo de ruidos o perturbaciones, así como la rapidez de respuesta con el ancho de b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6407280" y="5753160"/>
            <a:ext cx="1744560" cy="56844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725480" y="2374920"/>
            <a:ext cx="1479600" cy="1609560"/>
          </a:xfrm>
          <a:custGeom>
            <a:avLst/>
            <a:gdLst/>
            <a:ahLst/>
            <a:rect l="l" t="t" r="r" b="b"/>
            <a:pathLst>
              <a:path w="932" h="1014">
                <a:moveTo>
                  <a:pt x="542" y="24"/>
                </a:moveTo>
                <a:cubicBezTo>
                  <a:pt x="620" y="29"/>
                  <a:pt x="705" y="3"/>
                  <a:pt x="768" y="78"/>
                </a:cubicBezTo>
                <a:cubicBezTo>
                  <a:pt x="831" y="153"/>
                  <a:pt x="914" y="334"/>
                  <a:pt x="923" y="476"/>
                </a:cubicBezTo>
                <a:cubicBezTo>
                  <a:pt x="932" y="618"/>
                  <a:pt x="929" y="844"/>
                  <a:pt x="822" y="928"/>
                </a:cubicBezTo>
                <a:cubicBezTo>
                  <a:pt x="715" y="1012"/>
                  <a:pt x="414" y="1014"/>
                  <a:pt x="284" y="982"/>
                </a:cubicBezTo>
                <a:cubicBezTo>
                  <a:pt x="154" y="950"/>
                  <a:pt x="83" y="845"/>
                  <a:pt x="43" y="733"/>
                </a:cubicBezTo>
                <a:cubicBezTo>
                  <a:pt x="3" y="621"/>
                  <a:pt x="0" y="426"/>
                  <a:pt x="43" y="312"/>
                </a:cubicBezTo>
                <a:cubicBezTo>
                  <a:pt x="86" y="198"/>
                  <a:pt x="217" y="94"/>
                  <a:pt x="300" y="47"/>
                </a:cubicBezTo>
                <a:cubicBezTo>
                  <a:pt x="383" y="0"/>
                  <a:pt x="464" y="19"/>
                  <a:pt x="542" y="24"/>
                </a:cubicBez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orema del argum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338560" y="2239920"/>
            <a:ext cx="0" cy="21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138320" y="3290760"/>
            <a:ext cx="267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313320" y="2232000"/>
            <a:ext cx="0" cy="21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113440" y="3282840"/>
            <a:ext cx="267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3092040" y="2660760"/>
            <a:ext cx="49320" cy="11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2993760" y="2733480"/>
            <a:ext cx="98280" cy="3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017880" y="220176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995640" y="2090880"/>
            <a:ext cx="7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959280" y="2610000"/>
            <a:ext cx="803160" cy="149040"/>
          </a:xfrm>
          <a:prstGeom prst="rightArrow">
            <a:avLst>
              <a:gd name="adj1" fmla="val 50000"/>
              <a:gd name="adj2" fmla="val 1347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940360" y="2386080"/>
            <a:ext cx="1738440" cy="1847880"/>
          </a:xfrm>
          <a:custGeom>
            <a:avLst/>
            <a:gdLst/>
            <a:ahLst/>
            <a:rect l="l" t="t" r="r" b="b"/>
            <a:pathLst>
              <a:path w="1095" h="1164">
                <a:moveTo>
                  <a:pt x="427" y="24"/>
                </a:moveTo>
                <a:cubicBezTo>
                  <a:pt x="455" y="12"/>
                  <a:pt x="484" y="0"/>
                  <a:pt x="536" y="32"/>
                </a:cubicBezTo>
                <a:cubicBezTo>
                  <a:pt x="588" y="64"/>
                  <a:pt x="678" y="132"/>
                  <a:pt x="739" y="219"/>
                </a:cubicBezTo>
                <a:cubicBezTo>
                  <a:pt x="800" y="306"/>
                  <a:pt x="845" y="435"/>
                  <a:pt x="902" y="554"/>
                </a:cubicBezTo>
                <a:cubicBezTo>
                  <a:pt x="959" y="673"/>
                  <a:pt x="1095" y="836"/>
                  <a:pt x="1081" y="936"/>
                </a:cubicBezTo>
                <a:cubicBezTo>
                  <a:pt x="1067" y="1036"/>
                  <a:pt x="917" y="1144"/>
                  <a:pt x="816" y="1154"/>
                </a:cubicBezTo>
                <a:cubicBezTo>
                  <a:pt x="715" y="1164"/>
                  <a:pt x="586" y="1056"/>
                  <a:pt x="474" y="999"/>
                </a:cubicBezTo>
                <a:cubicBezTo>
                  <a:pt x="362" y="942"/>
                  <a:pt x="223" y="890"/>
                  <a:pt x="146" y="812"/>
                </a:cubicBezTo>
                <a:cubicBezTo>
                  <a:pt x="69" y="734"/>
                  <a:pt x="28" y="637"/>
                  <a:pt x="14" y="531"/>
                </a:cubicBezTo>
                <a:cubicBezTo>
                  <a:pt x="0" y="425"/>
                  <a:pt x="12" y="255"/>
                  <a:pt x="61" y="173"/>
                </a:cubicBezTo>
                <a:cubicBezTo>
                  <a:pt x="110" y="91"/>
                  <a:pt x="257" y="62"/>
                  <a:pt x="310" y="40"/>
                </a:cubicBezTo>
                <a:cubicBezTo>
                  <a:pt x="363" y="18"/>
                  <a:pt x="362" y="41"/>
                  <a:pt x="380" y="4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95360" y="1535040"/>
            <a:ext cx="347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orno cerrado que no pasa por ninguna singularidad de F(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360440" y="4552920"/>
            <a:ext cx="6075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    nº de polos de F(s) dentro del contorno         Z     nº de ceros de F(s) dentro del contorno         N    nº de rodeos al origen de F(s) en el sentido hor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618240" y="583884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Z -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1892160" y="4329000"/>
            <a:ext cx="5838840" cy="8384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886280" y="2681280"/>
            <a:ext cx="1600200" cy="6094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797200" y="2681280"/>
            <a:ext cx="869760" cy="609480"/>
          </a:xfrm>
          <a:prstGeom prst="rect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66960" y="29862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486480" y="29862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553160" y="29862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1837800" y="3811680"/>
            <a:ext cx="571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1814400" y="3166560"/>
            <a:ext cx="0" cy="63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819600" y="2529000"/>
            <a:ext cx="814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066760" y="2986200"/>
            <a:ext cx="719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076400" y="2986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1609560" y="2757600"/>
            <a:ext cx="457200" cy="474840"/>
            <a:chOff x="1609560" y="2757600"/>
            <a:chExt cx="457200" cy="474840"/>
          </a:xfrm>
        </p:grpSpPr>
        <p:sp>
          <p:nvSpPr>
            <p:cNvPr id="561" name=""/>
            <p:cNvSpPr/>
            <p:nvPr/>
          </p:nvSpPr>
          <p:spPr>
            <a:xfrm>
              <a:off x="1609560" y="2757600"/>
              <a:ext cx="444240" cy="44460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609560" y="2833920"/>
              <a:ext cx="30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761840" y="298620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7095960" y="25290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47720" y="2405160"/>
            <a:ext cx="8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122560" y="2468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2341440" y="4443480"/>
                <a:ext cx="45849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8" name=""/>
          <p:cNvSpPr/>
          <p:nvPr/>
        </p:nvSpPr>
        <p:spPr>
          <a:xfrm>
            <a:off x="6956280" y="2862360"/>
            <a:ext cx="228600" cy="228600"/>
          </a:xfrm>
          <a:prstGeom prst="flowChar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938840" y="1795320"/>
            <a:ext cx="1600200" cy="60984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539040" y="210024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072200" y="21002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405320" y="2100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567240" y="1795320"/>
            <a:ext cx="814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abilidad en lazo cerr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460520" y="5479920"/>
            <a:ext cx="65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Cuantas raices de 1 + G(s)R(s) = 0 son positiv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ñales sinusoid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09560" y="2138400"/>
            <a:ext cx="1349640" cy="814320"/>
          </a:xfrm>
          <a:custGeom>
            <a:avLst/>
            <a:gdLst/>
            <a:ahLst/>
            <a:rect l="l" t="t" r="r" b="b"/>
            <a:pathLst>
              <a:path w="850" h="513">
                <a:moveTo>
                  <a:pt x="0" y="258"/>
                </a:moveTo>
                <a:cubicBezTo>
                  <a:pt x="17" y="228"/>
                  <a:pt x="35" y="199"/>
                  <a:pt x="47" y="172"/>
                </a:cubicBezTo>
                <a:cubicBezTo>
                  <a:pt x="59" y="145"/>
                  <a:pt x="62" y="116"/>
                  <a:pt x="70" y="94"/>
                </a:cubicBezTo>
                <a:cubicBezTo>
                  <a:pt x="78" y="72"/>
                  <a:pt x="86" y="55"/>
                  <a:pt x="94" y="40"/>
                </a:cubicBezTo>
                <a:cubicBezTo>
                  <a:pt x="102" y="25"/>
                  <a:pt x="105" y="2"/>
                  <a:pt x="117" y="1"/>
                </a:cubicBezTo>
                <a:cubicBezTo>
                  <a:pt x="129" y="0"/>
                  <a:pt x="154" y="18"/>
                  <a:pt x="164" y="32"/>
                </a:cubicBezTo>
                <a:cubicBezTo>
                  <a:pt x="174" y="46"/>
                  <a:pt x="170" y="60"/>
                  <a:pt x="179" y="86"/>
                </a:cubicBezTo>
                <a:cubicBezTo>
                  <a:pt x="188" y="112"/>
                  <a:pt x="209" y="163"/>
                  <a:pt x="218" y="188"/>
                </a:cubicBezTo>
                <a:cubicBezTo>
                  <a:pt x="227" y="213"/>
                  <a:pt x="228" y="206"/>
                  <a:pt x="234" y="234"/>
                </a:cubicBezTo>
                <a:cubicBezTo>
                  <a:pt x="240" y="262"/>
                  <a:pt x="249" y="329"/>
                  <a:pt x="257" y="359"/>
                </a:cubicBezTo>
                <a:cubicBezTo>
                  <a:pt x="265" y="389"/>
                  <a:pt x="272" y="397"/>
                  <a:pt x="281" y="414"/>
                </a:cubicBezTo>
                <a:cubicBezTo>
                  <a:pt x="290" y="431"/>
                  <a:pt x="306" y="445"/>
                  <a:pt x="312" y="460"/>
                </a:cubicBezTo>
                <a:cubicBezTo>
                  <a:pt x="318" y="475"/>
                  <a:pt x="310" y="501"/>
                  <a:pt x="320" y="507"/>
                </a:cubicBezTo>
                <a:cubicBezTo>
                  <a:pt x="330" y="513"/>
                  <a:pt x="360" y="509"/>
                  <a:pt x="374" y="499"/>
                </a:cubicBezTo>
                <a:cubicBezTo>
                  <a:pt x="388" y="489"/>
                  <a:pt x="394" y="470"/>
                  <a:pt x="405" y="445"/>
                </a:cubicBezTo>
                <a:cubicBezTo>
                  <a:pt x="416" y="420"/>
                  <a:pt x="428" y="377"/>
                  <a:pt x="437" y="351"/>
                </a:cubicBezTo>
                <a:cubicBezTo>
                  <a:pt x="446" y="325"/>
                  <a:pt x="455" y="308"/>
                  <a:pt x="460" y="289"/>
                </a:cubicBezTo>
                <a:cubicBezTo>
                  <a:pt x="465" y="270"/>
                  <a:pt x="464" y="253"/>
                  <a:pt x="468" y="234"/>
                </a:cubicBezTo>
                <a:cubicBezTo>
                  <a:pt x="472" y="215"/>
                  <a:pt x="478" y="190"/>
                  <a:pt x="483" y="172"/>
                </a:cubicBezTo>
                <a:cubicBezTo>
                  <a:pt x="488" y="154"/>
                  <a:pt x="493" y="142"/>
                  <a:pt x="499" y="125"/>
                </a:cubicBezTo>
                <a:cubicBezTo>
                  <a:pt x="505" y="108"/>
                  <a:pt x="516" y="90"/>
                  <a:pt x="522" y="71"/>
                </a:cubicBezTo>
                <a:cubicBezTo>
                  <a:pt x="528" y="52"/>
                  <a:pt x="526" y="13"/>
                  <a:pt x="538" y="8"/>
                </a:cubicBezTo>
                <a:cubicBezTo>
                  <a:pt x="550" y="3"/>
                  <a:pt x="574" y="17"/>
                  <a:pt x="592" y="40"/>
                </a:cubicBezTo>
                <a:cubicBezTo>
                  <a:pt x="610" y="63"/>
                  <a:pt x="635" y="119"/>
                  <a:pt x="647" y="149"/>
                </a:cubicBezTo>
                <a:cubicBezTo>
                  <a:pt x="659" y="179"/>
                  <a:pt x="657" y="192"/>
                  <a:pt x="663" y="219"/>
                </a:cubicBezTo>
                <a:cubicBezTo>
                  <a:pt x="669" y="246"/>
                  <a:pt x="681" y="289"/>
                  <a:pt x="686" y="312"/>
                </a:cubicBezTo>
                <a:cubicBezTo>
                  <a:pt x="691" y="335"/>
                  <a:pt x="691" y="343"/>
                  <a:pt x="694" y="359"/>
                </a:cubicBezTo>
                <a:cubicBezTo>
                  <a:pt x="697" y="375"/>
                  <a:pt x="696" y="392"/>
                  <a:pt x="702" y="406"/>
                </a:cubicBezTo>
                <a:cubicBezTo>
                  <a:pt x="708" y="420"/>
                  <a:pt x="723" y="431"/>
                  <a:pt x="733" y="445"/>
                </a:cubicBezTo>
                <a:cubicBezTo>
                  <a:pt x="743" y="459"/>
                  <a:pt x="750" y="487"/>
                  <a:pt x="764" y="492"/>
                </a:cubicBezTo>
                <a:cubicBezTo>
                  <a:pt x="778" y="497"/>
                  <a:pt x="804" y="488"/>
                  <a:pt x="818" y="476"/>
                </a:cubicBezTo>
                <a:cubicBezTo>
                  <a:pt x="832" y="464"/>
                  <a:pt x="845" y="431"/>
                  <a:pt x="850" y="4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60600" y="3759120"/>
            <a:ext cx="5729040" cy="814320"/>
          </a:xfrm>
          <a:custGeom>
            <a:avLst/>
            <a:gdLst/>
            <a:ahLst/>
            <a:rect l="l" t="t" r="r" b="b"/>
            <a:pathLst>
              <a:path w="850" h="513">
                <a:moveTo>
                  <a:pt x="0" y="258"/>
                </a:moveTo>
                <a:cubicBezTo>
                  <a:pt x="17" y="228"/>
                  <a:pt x="35" y="199"/>
                  <a:pt x="47" y="172"/>
                </a:cubicBezTo>
                <a:cubicBezTo>
                  <a:pt x="59" y="145"/>
                  <a:pt x="62" y="116"/>
                  <a:pt x="70" y="94"/>
                </a:cubicBezTo>
                <a:cubicBezTo>
                  <a:pt x="78" y="72"/>
                  <a:pt x="86" y="55"/>
                  <a:pt x="94" y="40"/>
                </a:cubicBezTo>
                <a:cubicBezTo>
                  <a:pt x="102" y="25"/>
                  <a:pt x="105" y="2"/>
                  <a:pt x="117" y="1"/>
                </a:cubicBezTo>
                <a:cubicBezTo>
                  <a:pt x="129" y="0"/>
                  <a:pt x="154" y="18"/>
                  <a:pt x="164" y="32"/>
                </a:cubicBezTo>
                <a:cubicBezTo>
                  <a:pt x="174" y="46"/>
                  <a:pt x="170" y="60"/>
                  <a:pt x="179" y="86"/>
                </a:cubicBezTo>
                <a:cubicBezTo>
                  <a:pt x="188" y="112"/>
                  <a:pt x="209" y="163"/>
                  <a:pt x="218" y="188"/>
                </a:cubicBezTo>
                <a:cubicBezTo>
                  <a:pt x="227" y="213"/>
                  <a:pt x="228" y="206"/>
                  <a:pt x="234" y="234"/>
                </a:cubicBezTo>
                <a:cubicBezTo>
                  <a:pt x="240" y="262"/>
                  <a:pt x="249" y="329"/>
                  <a:pt x="257" y="359"/>
                </a:cubicBezTo>
                <a:cubicBezTo>
                  <a:pt x="265" y="389"/>
                  <a:pt x="272" y="397"/>
                  <a:pt x="281" y="414"/>
                </a:cubicBezTo>
                <a:cubicBezTo>
                  <a:pt x="290" y="431"/>
                  <a:pt x="306" y="445"/>
                  <a:pt x="312" y="460"/>
                </a:cubicBezTo>
                <a:cubicBezTo>
                  <a:pt x="318" y="475"/>
                  <a:pt x="310" y="501"/>
                  <a:pt x="320" y="507"/>
                </a:cubicBezTo>
                <a:cubicBezTo>
                  <a:pt x="330" y="513"/>
                  <a:pt x="360" y="509"/>
                  <a:pt x="374" y="499"/>
                </a:cubicBezTo>
                <a:cubicBezTo>
                  <a:pt x="388" y="489"/>
                  <a:pt x="394" y="470"/>
                  <a:pt x="405" y="445"/>
                </a:cubicBezTo>
                <a:cubicBezTo>
                  <a:pt x="416" y="420"/>
                  <a:pt x="428" y="377"/>
                  <a:pt x="437" y="351"/>
                </a:cubicBezTo>
                <a:cubicBezTo>
                  <a:pt x="446" y="325"/>
                  <a:pt x="455" y="308"/>
                  <a:pt x="460" y="289"/>
                </a:cubicBezTo>
                <a:cubicBezTo>
                  <a:pt x="465" y="270"/>
                  <a:pt x="464" y="253"/>
                  <a:pt x="468" y="234"/>
                </a:cubicBezTo>
                <a:cubicBezTo>
                  <a:pt x="472" y="215"/>
                  <a:pt x="478" y="190"/>
                  <a:pt x="483" y="172"/>
                </a:cubicBezTo>
                <a:cubicBezTo>
                  <a:pt x="488" y="154"/>
                  <a:pt x="493" y="142"/>
                  <a:pt x="499" y="125"/>
                </a:cubicBezTo>
                <a:cubicBezTo>
                  <a:pt x="505" y="108"/>
                  <a:pt x="516" y="90"/>
                  <a:pt x="522" y="71"/>
                </a:cubicBezTo>
                <a:cubicBezTo>
                  <a:pt x="528" y="52"/>
                  <a:pt x="526" y="13"/>
                  <a:pt x="538" y="8"/>
                </a:cubicBezTo>
                <a:cubicBezTo>
                  <a:pt x="550" y="3"/>
                  <a:pt x="574" y="17"/>
                  <a:pt x="592" y="40"/>
                </a:cubicBezTo>
                <a:cubicBezTo>
                  <a:pt x="610" y="63"/>
                  <a:pt x="635" y="119"/>
                  <a:pt x="647" y="149"/>
                </a:cubicBezTo>
                <a:cubicBezTo>
                  <a:pt x="659" y="179"/>
                  <a:pt x="657" y="192"/>
                  <a:pt x="663" y="219"/>
                </a:cubicBezTo>
                <a:cubicBezTo>
                  <a:pt x="669" y="246"/>
                  <a:pt x="681" y="289"/>
                  <a:pt x="686" y="312"/>
                </a:cubicBezTo>
                <a:cubicBezTo>
                  <a:pt x="691" y="335"/>
                  <a:pt x="691" y="343"/>
                  <a:pt x="694" y="359"/>
                </a:cubicBezTo>
                <a:cubicBezTo>
                  <a:pt x="697" y="375"/>
                  <a:pt x="696" y="392"/>
                  <a:pt x="702" y="406"/>
                </a:cubicBezTo>
                <a:cubicBezTo>
                  <a:pt x="708" y="420"/>
                  <a:pt x="723" y="431"/>
                  <a:pt x="733" y="445"/>
                </a:cubicBezTo>
                <a:cubicBezTo>
                  <a:pt x="743" y="459"/>
                  <a:pt x="750" y="487"/>
                  <a:pt x="764" y="492"/>
                </a:cubicBezTo>
                <a:cubicBezTo>
                  <a:pt x="778" y="497"/>
                  <a:pt x="804" y="488"/>
                  <a:pt x="818" y="476"/>
                </a:cubicBezTo>
                <a:cubicBezTo>
                  <a:pt x="832" y="464"/>
                  <a:pt x="845" y="431"/>
                  <a:pt x="850" y="4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14840" y="2116080"/>
            <a:ext cx="303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a frecuencia: cambio ráp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86200" y="4884840"/>
            <a:ext cx="253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ja frecuencia: cambio l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62160" y="5072040"/>
            <a:ext cx="31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  rad/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3429000"/>
            <a:ext cx="28321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35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00320" y="5702400"/>
            <a:ext cx="26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 = A sen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0" y="5486400"/>
            <a:ext cx="2006640" cy="99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riterio de Nyqu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584360" y="1892160"/>
            <a:ext cx="0" cy="216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927000" y="2906640"/>
            <a:ext cx="2511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383160" y="1955880"/>
            <a:ext cx="0" cy="233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170320" y="2906640"/>
            <a:ext cx="26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538440" y="1731960"/>
            <a:ext cx="17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+ G(s)R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933720" y="2289240"/>
            <a:ext cx="816120" cy="196920"/>
          </a:xfrm>
          <a:prstGeom prst="rightArrow">
            <a:avLst>
              <a:gd name="adj1" fmla="val 50000"/>
              <a:gd name="adj2" fmla="val 10361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1582560" y="2139480"/>
            <a:ext cx="0" cy="1670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014480" y="2313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582560" y="1538280"/>
            <a:ext cx="1370160" cy="2841480"/>
          </a:xfrm>
          <a:custGeom>
            <a:avLst/>
            <a:gdLst/>
            <a:ahLst/>
            <a:rect l="l" t="t" r="r" b="b"/>
            <a:pathLst>
              <a:path w="863" h="1790">
                <a:moveTo>
                  <a:pt x="0" y="5"/>
                </a:moveTo>
                <a:cubicBezTo>
                  <a:pt x="68" y="2"/>
                  <a:pt x="137" y="0"/>
                  <a:pt x="211" y="21"/>
                </a:cubicBezTo>
                <a:cubicBezTo>
                  <a:pt x="285" y="42"/>
                  <a:pt x="367" y="72"/>
                  <a:pt x="445" y="130"/>
                </a:cubicBezTo>
                <a:cubicBezTo>
                  <a:pt x="523" y="188"/>
                  <a:pt x="618" y="283"/>
                  <a:pt x="678" y="371"/>
                </a:cubicBezTo>
                <a:cubicBezTo>
                  <a:pt x="738" y="459"/>
                  <a:pt x="774" y="557"/>
                  <a:pt x="803" y="660"/>
                </a:cubicBezTo>
                <a:cubicBezTo>
                  <a:pt x="832" y="763"/>
                  <a:pt x="863" y="872"/>
                  <a:pt x="850" y="987"/>
                </a:cubicBezTo>
                <a:cubicBezTo>
                  <a:pt x="837" y="1102"/>
                  <a:pt x="782" y="1245"/>
                  <a:pt x="725" y="1353"/>
                </a:cubicBezTo>
                <a:cubicBezTo>
                  <a:pt x="668" y="1461"/>
                  <a:pt x="582" y="1568"/>
                  <a:pt x="507" y="1634"/>
                </a:cubicBezTo>
                <a:cubicBezTo>
                  <a:pt x="432" y="1700"/>
                  <a:pt x="347" y="1725"/>
                  <a:pt x="273" y="1751"/>
                </a:cubicBezTo>
                <a:cubicBezTo>
                  <a:pt x="199" y="1777"/>
                  <a:pt x="98" y="1784"/>
                  <a:pt x="63" y="1790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1582560" y="2312640"/>
            <a:ext cx="1101960" cy="59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866960" y="2152800"/>
            <a:ext cx="3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437080" y="2906640"/>
            <a:ext cx="2347920" cy="1122480"/>
          </a:xfrm>
          <a:custGeom>
            <a:avLst/>
            <a:gdLst/>
            <a:ahLst/>
            <a:rect l="l" t="t" r="r" b="b"/>
            <a:pathLst>
              <a:path w="1479" h="707">
                <a:moveTo>
                  <a:pt x="1477" y="7"/>
                </a:moveTo>
                <a:cubicBezTo>
                  <a:pt x="1478" y="56"/>
                  <a:pt x="1479" y="105"/>
                  <a:pt x="1470" y="156"/>
                </a:cubicBezTo>
                <a:cubicBezTo>
                  <a:pt x="1461" y="207"/>
                  <a:pt x="1452" y="253"/>
                  <a:pt x="1423" y="311"/>
                </a:cubicBezTo>
                <a:cubicBezTo>
                  <a:pt x="1394" y="369"/>
                  <a:pt x="1358" y="449"/>
                  <a:pt x="1298" y="506"/>
                </a:cubicBezTo>
                <a:cubicBezTo>
                  <a:pt x="1238" y="563"/>
                  <a:pt x="1154" y="622"/>
                  <a:pt x="1064" y="654"/>
                </a:cubicBezTo>
                <a:cubicBezTo>
                  <a:pt x="974" y="686"/>
                  <a:pt x="844" y="695"/>
                  <a:pt x="760" y="701"/>
                </a:cubicBezTo>
                <a:cubicBezTo>
                  <a:pt x="676" y="707"/>
                  <a:pt x="629" y="705"/>
                  <a:pt x="558" y="693"/>
                </a:cubicBezTo>
                <a:cubicBezTo>
                  <a:pt x="487" y="681"/>
                  <a:pt x="403" y="662"/>
                  <a:pt x="332" y="631"/>
                </a:cubicBezTo>
                <a:cubicBezTo>
                  <a:pt x="261" y="600"/>
                  <a:pt x="183" y="564"/>
                  <a:pt x="129" y="506"/>
                </a:cubicBezTo>
                <a:cubicBezTo>
                  <a:pt x="75" y="448"/>
                  <a:pt x="10" y="357"/>
                  <a:pt x="5" y="280"/>
                </a:cubicBezTo>
                <a:cubicBezTo>
                  <a:pt x="0" y="203"/>
                  <a:pt x="49" y="92"/>
                  <a:pt x="98" y="46"/>
                </a:cubicBezTo>
                <a:cubicBezTo>
                  <a:pt x="147" y="0"/>
                  <a:pt x="224" y="3"/>
                  <a:pt x="301" y="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5429160" y="1783800"/>
            <a:ext cx="2347920" cy="1122120"/>
          </a:xfrm>
          <a:custGeom>
            <a:avLst/>
            <a:gdLst/>
            <a:ahLst/>
            <a:rect l="l" t="t" r="r" b="b"/>
            <a:pathLst>
              <a:path w="1479" h="707">
                <a:moveTo>
                  <a:pt x="1477" y="7"/>
                </a:moveTo>
                <a:cubicBezTo>
                  <a:pt x="1478" y="56"/>
                  <a:pt x="1479" y="105"/>
                  <a:pt x="1470" y="156"/>
                </a:cubicBezTo>
                <a:cubicBezTo>
                  <a:pt x="1461" y="207"/>
                  <a:pt x="1452" y="253"/>
                  <a:pt x="1423" y="311"/>
                </a:cubicBezTo>
                <a:cubicBezTo>
                  <a:pt x="1394" y="369"/>
                  <a:pt x="1358" y="449"/>
                  <a:pt x="1298" y="506"/>
                </a:cubicBezTo>
                <a:cubicBezTo>
                  <a:pt x="1238" y="563"/>
                  <a:pt x="1154" y="622"/>
                  <a:pt x="1064" y="654"/>
                </a:cubicBezTo>
                <a:cubicBezTo>
                  <a:pt x="974" y="686"/>
                  <a:pt x="844" y="695"/>
                  <a:pt x="760" y="701"/>
                </a:cubicBezTo>
                <a:cubicBezTo>
                  <a:pt x="676" y="707"/>
                  <a:pt x="629" y="705"/>
                  <a:pt x="558" y="693"/>
                </a:cubicBezTo>
                <a:cubicBezTo>
                  <a:pt x="487" y="681"/>
                  <a:pt x="403" y="662"/>
                  <a:pt x="332" y="631"/>
                </a:cubicBezTo>
                <a:cubicBezTo>
                  <a:pt x="261" y="600"/>
                  <a:pt x="183" y="564"/>
                  <a:pt x="129" y="506"/>
                </a:cubicBezTo>
                <a:cubicBezTo>
                  <a:pt x="75" y="448"/>
                  <a:pt x="10" y="357"/>
                  <a:pt x="5" y="280"/>
                </a:cubicBezTo>
                <a:cubicBezTo>
                  <a:pt x="0" y="203"/>
                  <a:pt x="49" y="92"/>
                  <a:pt x="98" y="46"/>
                </a:cubicBezTo>
                <a:cubicBezTo>
                  <a:pt x="147" y="0"/>
                  <a:pt x="224" y="3"/>
                  <a:pt x="301" y="7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216240" y="3289320"/>
            <a:ext cx="274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orno que encierra el semiplano derecho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484200" y="4757760"/>
                <a:ext cx="3301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GR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u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n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Nu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2" name=""/>
          <p:cNvSpPr/>
          <p:nvPr/>
        </p:nvSpPr>
        <p:spPr>
          <a:xfrm>
            <a:off x="4316400" y="4614840"/>
            <a:ext cx="449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nº de polos inestables de G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= nº de ceros de 1+GR en el semiplano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84200" y="5494320"/>
            <a:ext cx="251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olos de 1+GR = polos de G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7251840" y="3919680"/>
                <a:ext cx="161280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6184800" y="5900760"/>
            <a:ext cx="1497240" cy="55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389400" y="3241800"/>
            <a:ext cx="1484280" cy="54432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riterio de Nyqu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584360" y="1892160"/>
            <a:ext cx="0" cy="216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927000" y="2906640"/>
            <a:ext cx="2511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383160" y="1955880"/>
            <a:ext cx="0" cy="233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170320" y="2906640"/>
            <a:ext cx="26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538440" y="1731960"/>
            <a:ext cx="17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+ G(s)R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933720" y="2289240"/>
            <a:ext cx="816120" cy="196920"/>
          </a:xfrm>
          <a:prstGeom prst="rightArrow">
            <a:avLst>
              <a:gd name="adj1" fmla="val 50000"/>
              <a:gd name="adj2" fmla="val 10361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1582560" y="2139480"/>
            <a:ext cx="0" cy="1670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014480" y="2313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681200" y="1538280"/>
            <a:ext cx="1271520" cy="2482920"/>
          </a:xfrm>
          <a:custGeom>
            <a:avLst/>
            <a:gdLst/>
            <a:ahLst/>
            <a:rect l="l" t="t" r="r" b="b"/>
            <a:pathLst>
              <a:path w="863" h="1790">
                <a:moveTo>
                  <a:pt x="0" y="5"/>
                </a:moveTo>
                <a:cubicBezTo>
                  <a:pt x="68" y="2"/>
                  <a:pt x="137" y="0"/>
                  <a:pt x="211" y="21"/>
                </a:cubicBezTo>
                <a:cubicBezTo>
                  <a:pt x="285" y="42"/>
                  <a:pt x="367" y="72"/>
                  <a:pt x="445" y="130"/>
                </a:cubicBezTo>
                <a:cubicBezTo>
                  <a:pt x="523" y="188"/>
                  <a:pt x="618" y="283"/>
                  <a:pt x="678" y="371"/>
                </a:cubicBezTo>
                <a:cubicBezTo>
                  <a:pt x="738" y="459"/>
                  <a:pt x="774" y="557"/>
                  <a:pt x="803" y="660"/>
                </a:cubicBezTo>
                <a:cubicBezTo>
                  <a:pt x="832" y="763"/>
                  <a:pt x="863" y="872"/>
                  <a:pt x="850" y="987"/>
                </a:cubicBezTo>
                <a:cubicBezTo>
                  <a:pt x="837" y="1102"/>
                  <a:pt x="782" y="1245"/>
                  <a:pt x="725" y="1353"/>
                </a:cubicBezTo>
                <a:cubicBezTo>
                  <a:pt x="668" y="1461"/>
                  <a:pt x="582" y="1568"/>
                  <a:pt x="507" y="1634"/>
                </a:cubicBezTo>
                <a:cubicBezTo>
                  <a:pt x="432" y="1700"/>
                  <a:pt x="347" y="1725"/>
                  <a:pt x="273" y="1751"/>
                </a:cubicBezTo>
                <a:cubicBezTo>
                  <a:pt x="199" y="1777"/>
                  <a:pt x="98" y="1784"/>
                  <a:pt x="63" y="1790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1582560" y="2312640"/>
            <a:ext cx="1101960" cy="59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866960" y="2152800"/>
            <a:ext cx="3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437080" y="2906640"/>
            <a:ext cx="2347920" cy="1122480"/>
          </a:xfrm>
          <a:custGeom>
            <a:avLst/>
            <a:gdLst/>
            <a:ahLst/>
            <a:rect l="l" t="t" r="r" b="b"/>
            <a:pathLst>
              <a:path w="1479" h="707">
                <a:moveTo>
                  <a:pt x="1477" y="7"/>
                </a:moveTo>
                <a:cubicBezTo>
                  <a:pt x="1478" y="56"/>
                  <a:pt x="1479" y="105"/>
                  <a:pt x="1470" y="156"/>
                </a:cubicBezTo>
                <a:cubicBezTo>
                  <a:pt x="1461" y="207"/>
                  <a:pt x="1452" y="253"/>
                  <a:pt x="1423" y="311"/>
                </a:cubicBezTo>
                <a:cubicBezTo>
                  <a:pt x="1394" y="369"/>
                  <a:pt x="1358" y="449"/>
                  <a:pt x="1298" y="506"/>
                </a:cubicBezTo>
                <a:cubicBezTo>
                  <a:pt x="1238" y="563"/>
                  <a:pt x="1154" y="622"/>
                  <a:pt x="1064" y="654"/>
                </a:cubicBezTo>
                <a:cubicBezTo>
                  <a:pt x="974" y="686"/>
                  <a:pt x="844" y="695"/>
                  <a:pt x="760" y="701"/>
                </a:cubicBezTo>
                <a:cubicBezTo>
                  <a:pt x="676" y="707"/>
                  <a:pt x="629" y="705"/>
                  <a:pt x="558" y="693"/>
                </a:cubicBezTo>
                <a:cubicBezTo>
                  <a:pt x="487" y="681"/>
                  <a:pt x="403" y="662"/>
                  <a:pt x="332" y="631"/>
                </a:cubicBezTo>
                <a:cubicBezTo>
                  <a:pt x="261" y="600"/>
                  <a:pt x="183" y="564"/>
                  <a:pt x="129" y="506"/>
                </a:cubicBezTo>
                <a:cubicBezTo>
                  <a:pt x="75" y="448"/>
                  <a:pt x="10" y="357"/>
                  <a:pt x="5" y="280"/>
                </a:cubicBezTo>
                <a:cubicBezTo>
                  <a:pt x="0" y="203"/>
                  <a:pt x="49" y="92"/>
                  <a:pt x="98" y="46"/>
                </a:cubicBezTo>
                <a:cubicBezTo>
                  <a:pt x="147" y="0"/>
                  <a:pt x="224" y="3"/>
                  <a:pt x="301" y="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5429160" y="1783800"/>
            <a:ext cx="2347920" cy="1122120"/>
          </a:xfrm>
          <a:custGeom>
            <a:avLst/>
            <a:gdLst/>
            <a:ahLst/>
            <a:rect l="l" t="t" r="r" b="b"/>
            <a:pathLst>
              <a:path w="1479" h="707">
                <a:moveTo>
                  <a:pt x="1477" y="7"/>
                </a:moveTo>
                <a:cubicBezTo>
                  <a:pt x="1478" y="56"/>
                  <a:pt x="1479" y="105"/>
                  <a:pt x="1470" y="156"/>
                </a:cubicBezTo>
                <a:cubicBezTo>
                  <a:pt x="1461" y="207"/>
                  <a:pt x="1452" y="253"/>
                  <a:pt x="1423" y="311"/>
                </a:cubicBezTo>
                <a:cubicBezTo>
                  <a:pt x="1394" y="369"/>
                  <a:pt x="1358" y="449"/>
                  <a:pt x="1298" y="506"/>
                </a:cubicBezTo>
                <a:cubicBezTo>
                  <a:pt x="1238" y="563"/>
                  <a:pt x="1154" y="622"/>
                  <a:pt x="1064" y="654"/>
                </a:cubicBezTo>
                <a:cubicBezTo>
                  <a:pt x="974" y="686"/>
                  <a:pt x="844" y="695"/>
                  <a:pt x="760" y="701"/>
                </a:cubicBezTo>
                <a:cubicBezTo>
                  <a:pt x="676" y="707"/>
                  <a:pt x="629" y="705"/>
                  <a:pt x="558" y="693"/>
                </a:cubicBezTo>
                <a:cubicBezTo>
                  <a:pt x="487" y="681"/>
                  <a:pt x="403" y="662"/>
                  <a:pt x="332" y="631"/>
                </a:cubicBezTo>
                <a:cubicBezTo>
                  <a:pt x="261" y="600"/>
                  <a:pt x="183" y="564"/>
                  <a:pt x="129" y="506"/>
                </a:cubicBezTo>
                <a:cubicBezTo>
                  <a:pt x="75" y="448"/>
                  <a:pt x="10" y="357"/>
                  <a:pt x="5" y="280"/>
                </a:cubicBezTo>
                <a:cubicBezTo>
                  <a:pt x="0" y="203"/>
                  <a:pt x="49" y="92"/>
                  <a:pt x="98" y="46"/>
                </a:cubicBezTo>
                <a:cubicBezTo>
                  <a:pt x="147" y="0"/>
                  <a:pt x="224" y="3"/>
                  <a:pt x="301" y="7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44680" y="4035600"/>
            <a:ext cx="46767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nº de polos inestables de G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= nº de ceros de 1+GR en el semiplano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nº de rodeos al origen de 1+G(j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R(j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en sentido hor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463920" y="3303720"/>
            <a:ext cx="15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Z -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691240" y="4352760"/>
            <a:ext cx="27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la estabilidad del sistema en lazo cerrado  Z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381720" y="5927760"/>
            <a:ext cx="12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-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7251840" y="3919680"/>
                <a:ext cx="161280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701640" y="593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riterio de Nyqu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677000" y="1943280"/>
            <a:ext cx="0" cy="233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737320" y="2889360"/>
            <a:ext cx="297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116760" y="2892600"/>
            <a:ext cx="2347920" cy="1122120"/>
          </a:xfrm>
          <a:custGeom>
            <a:avLst/>
            <a:gdLst/>
            <a:ahLst/>
            <a:rect l="l" t="t" r="r" b="b"/>
            <a:pathLst>
              <a:path w="1479" h="707">
                <a:moveTo>
                  <a:pt x="1477" y="7"/>
                </a:moveTo>
                <a:cubicBezTo>
                  <a:pt x="1478" y="56"/>
                  <a:pt x="1479" y="105"/>
                  <a:pt x="1470" y="156"/>
                </a:cubicBezTo>
                <a:cubicBezTo>
                  <a:pt x="1461" y="207"/>
                  <a:pt x="1452" y="253"/>
                  <a:pt x="1423" y="311"/>
                </a:cubicBezTo>
                <a:cubicBezTo>
                  <a:pt x="1394" y="369"/>
                  <a:pt x="1358" y="449"/>
                  <a:pt x="1298" y="506"/>
                </a:cubicBezTo>
                <a:cubicBezTo>
                  <a:pt x="1238" y="563"/>
                  <a:pt x="1154" y="622"/>
                  <a:pt x="1064" y="654"/>
                </a:cubicBezTo>
                <a:cubicBezTo>
                  <a:pt x="974" y="686"/>
                  <a:pt x="844" y="695"/>
                  <a:pt x="760" y="701"/>
                </a:cubicBezTo>
                <a:cubicBezTo>
                  <a:pt x="676" y="707"/>
                  <a:pt x="629" y="705"/>
                  <a:pt x="558" y="693"/>
                </a:cubicBezTo>
                <a:cubicBezTo>
                  <a:pt x="487" y="681"/>
                  <a:pt x="403" y="662"/>
                  <a:pt x="332" y="631"/>
                </a:cubicBezTo>
                <a:cubicBezTo>
                  <a:pt x="261" y="600"/>
                  <a:pt x="183" y="564"/>
                  <a:pt x="129" y="506"/>
                </a:cubicBezTo>
                <a:cubicBezTo>
                  <a:pt x="75" y="448"/>
                  <a:pt x="10" y="357"/>
                  <a:pt x="5" y="280"/>
                </a:cubicBezTo>
                <a:cubicBezTo>
                  <a:pt x="0" y="203"/>
                  <a:pt x="49" y="92"/>
                  <a:pt x="98" y="46"/>
                </a:cubicBezTo>
                <a:cubicBezTo>
                  <a:pt x="147" y="0"/>
                  <a:pt x="224" y="3"/>
                  <a:pt x="301" y="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6097680" y="1763640"/>
            <a:ext cx="2347920" cy="1122480"/>
          </a:xfrm>
          <a:custGeom>
            <a:avLst/>
            <a:gdLst/>
            <a:ahLst/>
            <a:rect l="l" t="t" r="r" b="b"/>
            <a:pathLst>
              <a:path w="1479" h="707">
                <a:moveTo>
                  <a:pt x="1477" y="7"/>
                </a:moveTo>
                <a:cubicBezTo>
                  <a:pt x="1478" y="56"/>
                  <a:pt x="1479" y="105"/>
                  <a:pt x="1470" y="156"/>
                </a:cubicBezTo>
                <a:cubicBezTo>
                  <a:pt x="1461" y="207"/>
                  <a:pt x="1452" y="253"/>
                  <a:pt x="1423" y="311"/>
                </a:cubicBezTo>
                <a:cubicBezTo>
                  <a:pt x="1394" y="369"/>
                  <a:pt x="1358" y="449"/>
                  <a:pt x="1298" y="506"/>
                </a:cubicBezTo>
                <a:cubicBezTo>
                  <a:pt x="1238" y="563"/>
                  <a:pt x="1154" y="622"/>
                  <a:pt x="1064" y="654"/>
                </a:cubicBezTo>
                <a:cubicBezTo>
                  <a:pt x="974" y="686"/>
                  <a:pt x="844" y="695"/>
                  <a:pt x="760" y="701"/>
                </a:cubicBezTo>
                <a:cubicBezTo>
                  <a:pt x="676" y="707"/>
                  <a:pt x="629" y="705"/>
                  <a:pt x="558" y="693"/>
                </a:cubicBezTo>
                <a:cubicBezTo>
                  <a:pt x="487" y="681"/>
                  <a:pt x="403" y="662"/>
                  <a:pt x="332" y="631"/>
                </a:cubicBezTo>
                <a:cubicBezTo>
                  <a:pt x="261" y="600"/>
                  <a:pt x="183" y="564"/>
                  <a:pt x="129" y="506"/>
                </a:cubicBezTo>
                <a:cubicBezTo>
                  <a:pt x="75" y="448"/>
                  <a:pt x="10" y="357"/>
                  <a:pt x="5" y="280"/>
                </a:cubicBezTo>
                <a:cubicBezTo>
                  <a:pt x="0" y="203"/>
                  <a:pt x="49" y="92"/>
                  <a:pt x="98" y="46"/>
                </a:cubicBezTo>
                <a:cubicBezTo>
                  <a:pt x="147" y="0"/>
                  <a:pt x="224" y="3"/>
                  <a:pt x="301" y="7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402000" y="3024360"/>
            <a:ext cx="2565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 igual considerar los rodeos al origen de 1+G(j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R(j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e los rodeos de G(j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R(j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l punto 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596960" y="4908600"/>
            <a:ext cx="6332760" cy="1191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el sistema es estable en lazo abierto P = 0, y la estabilidad en lazo cerrado se logra si el diagrama de Nyquist no envuelve al punto (-1,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909800" y="1947960"/>
            <a:ext cx="0" cy="233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96960" y="2898720"/>
            <a:ext cx="269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963720" y="2898720"/>
            <a:ext cx="2347920" cy="1122480"/>
          </a:xfrm>
          <a:custGeom>
            <a:avLst/>
            <a:gdLst/>
            <a:ahLst/>
            <a:rect l="l" t="t" r="r" b="b"/>
            <a:pathLst>
              <a:path w="1479" h="707">
                <a:moveTo>
                  <a:pt x="1477" y="7"/>
                </a:moveTo>
                <a:cubicBezTo>
                  <a:pt x="1478" y="56"/>
                  <a:pt x="1479" y="105"/>
                  <a:pt x="1470" y="156"/>
                </a:cubicBezTo>
                <a:cubicBezTo>
                  <a:pt x="1461" y="207"/>
                  <a:pt x="1452" y="253"/>
                  <a:pt x="1423" y="311"/>
                </a:cubicBezTo>
                <a:cubicBezTo>
                  <a:pt x="1394" y="369"/>
                  <a:pt x="1358" y="449"/>
                  <a:pt x="1298" y="506"/>
                </a:cubicBezTo>
                <a:cubicBezTo>
                  <a:pt x="1238" y="563"/>
                  <a:pt x="1154" y="622"/>
                  <a:pt x="1064" y="654"/>
                </a:cubicBezTo>
                <a:cubicBezTo>
                  <a:pt x="974" y="686"/>
                  <a:pt x="844" y="695"/>
                  <a:pt x="760" y="701"/>
                </a:cubicBezTo>
                <a:cubicBezTo>
                  <a:pt x="676" y="707"/>
                  <a:pt x="629" y="705"/>
                  <a:pt x="558" y="693"/>
                </a:cubicBezTo>
                <a:cubicBezTo>
                  <a:pt x="487" y="681"/>
                  <a:pt x="403" y="662"/>
                  <a:pt x="332" y="631"/>
                </a:cubicBezTo>
                <a:cubicBezTo>
                  <a:pt x="261" y="600"/>
                  <a:pt x="183" y="564"/>
                  <a:pt x="129" y="506"/>
                </a:cubicBezTo>
                <a:cubicBezTo>
                  <a:pt x="75" y="448"/>
                  <a:pt x="10" y="357"/>
                  <a:pt x="5" y="280"/>
                </a:cubicBezTo>
                <a:cubicBezTo>
                  <a:pt x="0" y="203"/>
                  <a:pt x="49" y="92"/>
                  <a:pt x="98" y="46"/>
                </a:cubicBezTo>
                <a:cubicBezTo>
                  <a:pt x="147" y="0"/>
                  <a:pt x="224" y="3"/>
                  <a:pt x="301" y="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955800" y="1776240"/>
            <a:ext cx="2347920" cy="1122480"/>
          </a:xfrm>
          <a:custGeom>
            <a:avLst/>
            <a:gdLst/>
            <a:ahLst/>
            <a:rect l="l" t="t" r="r" b="b"/>
            <a:pathLst>
              <a:path w="1479" h="707">
                <a:moveTo>
                  <a:pt x="1477" y="7"/>
                </a:moveTo>
                <a:cubicBezTo>
                  <a:pt x="1478" y="56"/>
                  <a:pt x="1479" y="105"/>
                  <a:pt x="1470" y="156"/>
                </a:cubicBezTo>
                <a:cubicBezTo>
                  <a:pt x="1461" y="207"/>
                  <a:pt x="1452" y="253"/>
                  <a:pt x="1423" y="311"/>
                </a:cubicBezTo>
                <a:cubicBezTo>
                  <a:pt x="1394" y="369"/>
                  <a:pt x="1358" y="449"/>
                  <a:pt x="1298" y="506"/>
                </a:cubicBezTo>
                <a:cubicBezTo>
                  <a:pt x="1238" y="563"/>
                  <a:pt x="1154" y="622"/>
                  <a:pt x="1064" y="654"/>
                </a:cubicBezTo>
                <a:cubicBezTo>
                  <a:pt x="974" y="686"/>
                  <a:pt x="844" y="695"/>
                  <a:pt x="760" y="701"/>
                </a:cubicBezTo>
                <a:cubicBezTo>
                  <a:pt x="676" y="707"/>
                  <a:pt x="629" y="705"/>
                  <a:pt x="558" y="693"/>
                </a:cubicBezTo>
                <a:cubicBezTo>
                  <a:pt x="487" y="681"/>
                  <a:pt x="403" y="662"/>
                  <a:pt x="332" y="631"/>
                </a:cubicBezTo>
                <a:cubicBezTo>
                  <a:pt x="261" y="600"/>
                  <a:pt x="183" y="564"/>
                  <a:pt x="129" y="506"/>
                </a:cubicBezTo>
                <a:cubicBezTo>
                  <a:pt x="75" y="448"/>
                  <a:pt x="10" y="357"/>
                  <a:pt x="5" y="280"/>
                </a:cubicBezTo>
                <a:cubicBezTo>
                  <a:pt x="0" y="203"/>
                  <a:pt x="49" y="92"/>
                  <a:pt x="98" y="46"/>
                </a:cubicBezTo>
                <a:cubicBezTo>
                  <a:pt x="147" y="0"/>
                  <a:pt x="224" y="3"/>
                  <a:pt x="301" y="7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316080" y="4010040"/>
                <a:ext cx="161280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6880320" y="3387600"/>
                <a:ext cx="130788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9" name=""/>
          <p:cNvSpPr/>
          <p:nvPr/>
        </p:nvSpPr>
        <p:spPr>
          <a:xfrm>
            <a:off x="7008840" y="2795760"/>
            <a:ext cx="0" cy="18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662880" y="2424240"/>
            <a:ext cx="50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>
            <a:hlinkClick r:id="rId1"/>
          </p:cNvPr>
          <p:cNvSpPr/>
          <p:nvPr/>
        </p:nvSpPr>
        <p:spPr>
          <a:xfrm>
            <a:off x="6732720" y="6264360"/>
            <a:ext cx="1665000" cy="404640"/>
          </a:xfrm>
          <a:custGeom>
            <a:avLst/>
            <a:gdLst>
              <a:gd name="textAreaLeft" fmla="*/ 25920 w 1665000"/>
              <a:gd name="textAreaRight" fmla="*/ 1639080 w 1665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88819" h="21600">
                <a:moveTo>
                  <a:pt x="0" y="0"/>
                </a:moveTo>
                <a:lnTo>
                  <a:pt x="88819" y="0"/>
                </a:lnTo>
                <a:lnTo>
                  <a:pt x="88819" y="21600"/>
                </a:lnTo>
                <a:lnTo>
                  <a:pt x="0" y="21600"/>
                </a:lnTo>
                <a:close/>
              </a:path>
              <a:path fill="lightenLess" w="88819" h="21600">
                <a:moveTo>
                  <a:pt x="0" y="0"/>
                </a:moveTo>
                <a:lnTo>
                  <a:pt x="88819" y="0"/>
                </a:lnTo>
                <a:lnTo>
                  <a:pt x="87419" y="1400"/>
                </a:lnTo>
                <a:lnTo>
                  <a:pt x="1400" y="1400"/>
                </a:lnTo>
                <a:close/>
              </a:path>
              <a:path fill="darken" w="88819" h="21600">
                <a:moveTo>
                  <a:pt x="88819" y="0"/>
                </a:moveTo>
                <a:lnTo>
                  <a:pt x="88819" y="21600"/>
                </a:lnTo>
                <a:lnTo>
                  <a:pt x="87419" y="20200"/>
                </a:lnTo>
                <a:lnTo>
                  <a:pt x="87419" y="1400"/>
                </a:lnTo>
                <a:close/>
              </a:path>
              <a:path fill="darkenLess" w="88819" h="21600">
                <a:moveTo>
                  <a:pt x="888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419" y="20200"/>
                </a:lnTo>
                <a:close/>
              </a:path>
              <a:path fill="lighten" w="888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squ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das de robuste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427640" y="2184480"/>
            <a:ext cx="1084320" cy="5950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502240" y="2457360"/>
            <a:ext cx="1495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2473200"/>
            <a:ext cx="0" cy="56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2428560" y="3068640"/>
            <a:ext cx="383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2449440" y="2598480"/>
            <a:ext cx="1800" cy="493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1"/>
          <a:stretch/>
        </p:blipFill>
        <p:spPr>
          <a:xfrm>
            <a:off x="2279520" y="2298600"/>
            <a:ext cx="419400" cy="34308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2682720" y="2457360"/>
            <a:ext cx="408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463760" y="2457360"/>
            <a:ext cx="809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525680" y="2001960"/>
            <a:ext cx="377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52720" y="1903320"/>
            <a:ext cx="454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021360" y="1925640"/>
            <a:ext cx="60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105000" y="2189160"/>
            <a:ext cx="668520" cy="56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087720" y="2230560"/>
            <a:ext cx="8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773520" y="2475000"/>
            <a:ext cx="642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543720" y="3438360"/>
            <a:ext cx="0" cy="217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492880" y="4379760"/>
            <a:ext cx="283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743440" y="4146480"/>
            <a:ext cx="2098800" cy="1227240"/>
          </a:xfrm>
          <a:custGeom>
            <a:avLst/>
            <a:gdLst/>
            <a:ahLst/>
            <a:rect l="l" t="t" r="r" b="b"/>
            <a:pathLst>
              <a:path w="1322" h="773">
                <a:moveTo>
                  <a:pt x="1322" y="147"/>
                </a:moveTo>
                <a:cubicBezTo>
                  <a:pt x="1321" y="262"/>
                  <a:pt x="1320" y="377"/>
                  <a:pt x="1245" y="474"/>
                </a:cubicBezTo>
                <a:cubicBezTo>
                  <a:pt x="1170" y="571"/>
                  <a:pt x="1056" y="692"/>
                  <a:pt x="871" y="731"/>
                </a:cubicBezTo>
                <a:cubicBezTo>
                  <a:pt x="686" y="770"/>
                  <a:pt x="276" y="773"/>
                  <a:pt x="138" y="708"/>
                </a:cubicBezTo>
                <a:cubicBezTo>
                  <a:pt x="0" y="643"/>
                  <a:pt x="29" y="451"/>
                  <a:pt x="45" y="342"/>
                </a:cubicBezTo>
                <a:cubicBezTo>
                  <a:pt x="61" y="233"/>
                  <a:pt x="168" y="106"/>
                  <a:pt x="232" y="53"/>
                </a:cubicBezTo>
                <a:cubicBezTo>
                  <a:pt x="296" y="0"/>
                  <a:pt x="381" y="8"/>
                  <a:pt x="426" y="22"/>
                </a:cubicBezTo>
                <a:cubicBezTo>
                  <a:pt x="471" y="36"/>
                  <a:pt x="487" y="87"/>
                  <a:pt x="504" y="139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332320" y="3921120"/>
            <a:ext cx="5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640480" y="4317840"/>
            <a:ext cx="0" cy="13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22360" y="3429000"/>
            <a:ext cx="36003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 el modelo no es correcto, cambia o se modifica la sintonía, ¿seguirá el sistema siendo estable en lazo cerr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¿Cuan cerca está el sistema en lazo cerrado de la inestabi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810400" y="4307040"/>
            <a:ext cx="741240" cy="1866600"/>
          </a:xfrm>
          <a:custGeom>
            <a:avLst/>
            <a:gdLst/>
            <a:ahLst/>
            <a:rect l="l" t="t" r="r" b="b"/>
            <a:pathLst>
              <a:path w="467" h="1176">
                <a:moveTo>
                  <a:pt x="467" y="71"/>
                </a:moveTo>
                <a:cubicBezTo>
                  <a:pt x="443" y="47"/>
                  <a:pt x="420" y="23"/>
                  <a:pt x="382" y="14"/>
                </a:cubicBezTo>
                <a:cubicBezTo>
                  <a:pt x="344" y="5"/>
                  <a:pt x="279" y="0"/>
                  <a:pt x="241" y="14"/>
                </a:cubicBezTo>
                <a:cubicBezTo>
                  <a:pt x="203" y="28"/>
                  <a:pt x="184" y="52"/>
                  <a:pt x="156" y="99"/>
                </a:cubicBezTo>
                <a:cubicBezTo>
                  <a:pt x="128" y="146"/>
                  <a:pt x="94" y="226"/>
                  <a:pt x="70" y="297"/>
                </a:cubicBezTo>
                <a:cubicBezTo>
                  <a:pt x="46" y="368"/>
                  <a:pt x="23" y="458"/>
                  <a:pt x="14" y="524"/>
                </a:cubicBezTo>
                <a:cubicBezTo>
                  <a:pt x="5" y="590"/>
                  <a:pt x="0" y="637"/>
                  <a:pt x="14" y="694"/>
                </a:cubicBezTo>
                <a:cubicBezTo>
                  <a:pt x="28" y="751"/>
                  <a:pt x="75" y="826"/>
                  <a:pt x="99" y="864"/>
                </a:cubicBezTo>
                <a:cubicBezTo>
                  <a:pt x="123" y="902"/>
                  <a:pt x="132" y="893"/>
                  <a:pt x="156" y="921"/>
                </a:cubicBezTo>
                <a:cubicBezTo>
                  <a:pt x="180" y="949"/>
                  <a:pt x="213" y="993"/>
                  <a:pt x="241" y="1035"/>
                </a:cubicBezTo>
                <a:cubicBezTo>
                  <a:pt x="269" y="1077"/>
                  <a:pt x="307" y="1153"/>
                  <a:pt x="326" y="1176"/>
                </a:cubicBezTo>
              </a:path>
            </a:pathLst>
          </a:custGeom>
          <a:noFill/>
          <a:ln w="284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gen de fase M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889360" y="2301840"/>
            <a:ext cx="0" cy="239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77960" y="2736720"/>
            <a:ext cx="293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523880" y="268272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142640" y="2286000"/>
            <a:ext cx="435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523880" y="1295280"/>
            <a:ext cx="2819520" cy="2743200"/>
          </a:xfrm>
          <a:prstGeom prst="ellipse">
            <a:avLst/>
          </a:prstGeom>
          <a:noFill/>
          <a:ln w="1260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483520" y="2743200"/>
            <a:ext cx="2792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agrama de Nyqu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945160" y="225900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677960" y="28972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360520" y="2744640"/>
            <a:ext cx="2619360" cy="1627200"/>
          </a:xfrm>
          <a:custGeom>
            <a:avLst/>
            <a:gdLst/>
            <a:ahLst/>
            <a:rect l="l" t="t" r="r" b="b"/>
            <a:pathLst>
              <a:path w="1650" h="1025">
                <a:moveTo>
                  <a:pt x="339" y="0"/>
                </a:moveTo>
                <a:lnTo>
                  <a:pt x="217" y="152"/>
                </a:lnTo>
                <a:lnTo>
                  <a:pt x="167" y="228"/>
                </a:lnTo>
                <a:lnTo>
                  <a:pt x="116" y="300"/>
                </a:lnTo>
                <a:lnTo>
                  <a:pt x="71" y="371"/>
                </a:lnTo>
                <a:lnTo>
                  <a:pt x="35" y="443"/>
                </a:lnTo>
                <a:lnTo>
                  <a:pt x="10" y="510"/>
                </a:lnTo>
                <a:lnTo>
                  <a:pt x="0" y="577"/>
                </a:lnTo>
                <a:lnTo>
                  <a:pt x="0" y="639"/>
                </a:lnTo>
                <a:lnTo>
                  <a:pt x="10" y="706"/>
                </a:lnTo>
                <a:lnTo>
                  <a:pt x="35" y="774"/>
                </a:lnTo>
                <a:lnTo>
                  <a:pt x="66" y="832"/>
                </a:lnTo>
                <a:lnTo>
                  <a:pt x="101" y="890"/>
                </a:lnTo>
                <a:lnTo>
                  <a:pt x="147" y="939"/>
                </a:lnTo>
                <a:lnTo>
                  <a:pt x="192" y="979"/>
                </a:lnTo>
                <a:lnTo>
                  <a:pt x="243" y="1006"/>
                </a:lnTo>
                <a:lnTo>
                  <a:pt x="298" y="1024"/>
                </a:lnTo>
                <a:lnTo>
                  <a:pt x="359" y="1024"/>
                </a:lnTo>
                <a:lnTo>
                  <a:pt x="430" y="1019"/>
                </a:lnTo>
                <a:lnTo>
                  <a:pt x="501" y="1006"/>
                </a:lnTo>
                <a:lnTo>
                  <a:pt x="577" y="988"/>
                </a:lnTo>
                <a:lnTo>
                  <a:pt x="657" y="966"/>
                </a:lnTo>
                <a:lnTo>
                  <a:pt x="819" y="912"/>
                </a:lnTo>
                <a:lnTo>
                  <a:pt x="905" y="881"/>
                </a:lnTo>
                <a:lnTo>
                  <a:pt x="1001" y="836"/>
                </a:lnTo>
                <a:lnTo>
                  <a:pt x="1102" y="787"/>
                </a:lnTo>
                <a:lnTo>
                  <a:pt x="1209" y="738"/>
                </a:lnTo>
                <a:lnTo>
                  <a:pt x="1305" y="689"/>
                </a:lnTo>
                <a:lnTo>
                  <a:pt x="1396" y="644"/>
                </a:lnTo>
                <a:lnTo>
                  <a:pt x="1477" y="604"/>
                </a:lnTo>
                <a:lnTo>
                  <a:pt x="1507" y="590"/>
                </a:lnTo>
                <a:lnTo>
                  <a:pt x="1537" y="577"/>
                </a:lnTo>
                <a:lnTo>
                  <a:pt x="1583" y="559"/>
                </a:lnTo>
                <a:lnTo>
                  <a:pt x="1613" y="550"/>
                </a:lnTo>
                <a:lnTo>
                  <a:pt x="1634" y="541"/>
                </a:lnTo>
                <a:lnTo>
                  <a:pt x="1644" y="546"/>
                </a:lnTo>
                <a:lnTo>
                  <a:pt x="1649" y="550"/>
                </a:lnTo>
                <a:lnTo>
                  <a:pt x="1649" y="555"/>
                </a:lnTo>
                <a:lnTo>
                  <a:pt x="1634" y="57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411800" y="3814920"/>
            <a:ext cx="1778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(j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R(j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215080" y="4110120"/>
            <a:ext cx="43884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2048040" y="2759040"/>
            <a:ext cx="860400" cy="2028960"/>
          </a:xfrm>
          <a:prstGeom prst="line">
            <a:avLst/>
          </a:prstGeom>
          <a:ln w="1260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476280" y="5072040"/>
                <a:ext cx="811512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mayor frecuencia a la que   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ϕ</m:t>
                        </m:r>
                        <m:r>
                          <m:rPr>
                            <m:lit/>
                            <m:nor/>
                          </m:rPr>
                          <m:t xml:space="preserve">  angulo que verifica                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0" name=""/>
          <p:cNvSpPr/>
          <p:nvPr/>
        </p:nvSpPr>
        <p:spPr>
          <a:xfrm>
            <a:off x="230040" y="3201840"/>
            <a:ext cx="11289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f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rot="120000">
            <a:off x="2023920" y="1940760"/>
            <a:ext cx="1167120" cy="162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24" y="21599"/>
                </a:moveTo>
                <a:arcTo wR="10800" hR="10800" stAng="5456155" swAng="5343845"/>
                <a:lnTo>
                  <a:pt x="10800" y="10800"/>
                </a:lnTo>
                <a:close/>
              </a:path>
              <a:path fill="none" w="21600" h="21600">
                <a:moveTo>
                  <a:pt x="10624" y="21599"/>
                </a:moveTo>
                <a:arcTo wR="10800" hR="10800" stAng="5456155" swAng="5343845"/>
              </a:path>
            </a:pathLst>
          </a:custGeom>
          <a:noFill/>
          <a:ln cap="rnd"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gen de f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95280" y="4282920"/>
            <a:ext cx="0" cy="141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006560" y="5486400"/>
            <a:ext cx="286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370160" y="4478400"/>
            <a:ext cx="2595240" cy="1011240"/>
          </a:xfrm>
          <a:custGeom>
            <a:avLst/>
            <a:gdLst/>
            <a:ahLst/>
            <a:rect l="l" t="t" r="r" b="b"/>
            <a:pathLst>
              <a:path w="1635" h="637">
                <a:moveTo>
                  <a:pt x="0" y="636"/>
                </a:moveTo>
                <a:lnTo>
                  <a:pt x="48" y="531"/>
                </a:lnTo>
                <a:lnTo>
                  <a:pt x="96" y="431"/>
                </a:lnTo>
                <a:lnTo>
                  <a:pt x="144" y="332"/>
                </a:lnTo>
                <a:lnTo>
                  <a:pt x="192" y="249"/>
                </a:lnTo>
                <a:lnTo>
                  <a:pt x="240" y="177"/>
                </a:lnTo>
                <a:lnTo>
                  <a:pt x="284" y="105"/>
                </a:lnTo>
                <a:lnTo>
                  <a:pt x="332" y="50"/>
                </a:lnTo>
                <a:lnTo>
                  <a:pt x="356" y="28"/>
                </a:lnTo>
                <a:lnTo>
                  <a:pt x="384" y="11"/>
                </a:lnTo>
                <a:lnTo>
                  <a:pt x="411" y="0"/>
                </a:lnTo>
                <a:lnTo>
                  <a:pt x="439" y="0"/>
                </a:lnTo>
                <a:lnTo>
                  <a:pt x="503" y="11"/>
                </a:lnTo>
                <a:lnTo>
                  <a:pt x="567" y="33"/>
                </a:lnTo>
                <a:lnTo>
                  <a:pt x="623" y="61"/>
                </a:lnTo>
                <a:lnTo>
                  <a:pt x="651" y="77"/>
                </a:lnTo>
                <a:lnTo>
                  <a:pt x="675" y="94"/>
                </a:lnTo>
                <a:lnTo>
                  <a:pt x="719" y="138"/>
                </a:lnTo>
                <a:lnTo>
                  <a:pt x="767" y="182"/>
                </a:lnTo>
                <a:lnTo>
                  <a:pt x="791" y="199"/>
                </a:lnTo>
                <a:lnTo>
                  <a:pt x="819" y="205"/>
                </a:lnTo>
                <a:lnTo>
                  <a:pt x="847" y="205"/>
                </a:lnTo>
                <a:lnTo>
                  <a:pt x="875" y="194"/>
                </a:lnTo>
                <a:lnTo>
                  <a:pt x="939" y="160"/>
                </a:lnTo>
                <a:lnTo>
                  <a:pt x="1003" y="127"/>
                </a:lnTo>
                <a:lnTo>
                  <a:pt x="1031" y="111"/>
                </a:lnTo>
                <a:lnTo>
                  <a:pt x="1059" y="105"/>
                </a:lnTo>
                <a:lnTo>
                  <a:pt x="1111" y="111"/>
                </a:lnTo>
                <a:lnTo>
                  <a:pt x="1155" y="127"/>
                </a:lnTo>
                <a:lnTo>
                  <a:pt x="1199" y="144"/>
                </a:lnTo>
                <a:lnTo>
                  <a:pt x="1250" y="155"/>
                </a:lnTo>
                <a:lnTo>
                  <a:pt x="1310" y="155"/>
                </a:lnTo>
                <a:lnTo>
                  <a:pt x="1374" y="155"/>
                </a:lnTo>
                <a:lnTo>
                  <a:pt x="1434" y="155"/>
                </a:lnTo>
                <a:lnTo>
                  <a:pt x="1490" y="155"/>
                </a:lnTo>
                <a:lnTo>
                  <a:pt x="1534" y="155"/>
                </a:lnTo>
                <a:lnTo>
                  <a:pt x="1570" y="155"/>
                </a:lnTo>
                <a:lnTo>
                  <a:pt x="1602" y="155"/>
                </a:lnTo>
                <a:lnTo>
                  <a:pt x="1634" y="15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506760" y="5564160"/>
            <a:ext cx="378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839880" y="419256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192560" y="4573440"/>
            <a:ext cx="4721400" cy="1574280"/>
          </a:xfrm>
          <a:prstGeom prst="rect">
            <a:avLst/>
          </a:prstGeom>
          <a:noFill/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margen de fas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sta relacio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 el sobrepico y la es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frecuenci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 relacionada con la velocidad de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27640" y="2184480"/>
            <a:ext cx="1084320" cy="5950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502240" y="2457360"/>
            <a:ext cx="1495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248520" y="2473200"/>
            <a:ext cx="0" cy="56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2428560" y="3068640"/>
            <a:ext cx="383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2449440" y="2598480"/>
            <a:ext cx="1800" cy="493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1"/>
          <a:stretch/>
        </p:blipFill>
        <p:spPr>
          <a:xfrm>
            <a:off x="2279520" y="2298600"/>
            <a:ext cx="419400" cy="343080"/>
          </a:xfrm>
          <a:prstGeom prst="rect">
            <a:avLst/>
          </a:prstGeom>
          <a:ln w="0">
            <a:noFill/>
          </a:ln>
        </p:spPr>
      </p:pic>
      <p:sp>
        <p:nvSpPr>
          <p:cNvPr id="687" name=""/>
          <p:cNvSpPr/>
          <p:nvPr/>
        </p:nvSpPr>
        <p:spPr>
          <a:xfrm>
            <a:off x="2682720" y="2457360"/>
            <a:ext cx="408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463760" y="2457360"/>
            <a:ext cx="809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525680" y="2001960"/>
            <a:ext cx="377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852720" y="1903320"/>
            <a:ext cx="454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021360" y="1925640"/>
            <a:ext cx="60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105000" y="2189160"/>
            <a:ext cx="668520" cy="56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087720" y="2230560"/>
            <a:ext cx="8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773520" y="2475000"/>
            <a:ext cx="642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istemas de mayor orden rela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889360" y="2301840"/>
            <a:ext cx="0" cy="239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77960" y="2736720"/>
            <a:ext cx="293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523880" y="268272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142640" y="2286000"/>
            <a:ext cx="435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523880" y="1295280"/>
            <a:ext cx="2819520" cy="2743200"/>
          </a:xfrm>
          <a:prstGeom prst="ellipse">
            <a:avLst/>
          </a:prstGeom>
          <a:noFill/>
          <a:ln w="1260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483520" y="2743200"/>
            <a:ext cx="2792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agrama de Nyqu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945160" y="225900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692360" y="288936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360520" y="2744640"/>
            <a:ext cx="2619360" cy="1627200"/>
          </a:xfrm>
          <a:custGeom>
            <a:avLst/>
            <a:gdLst/>
            <a:ahLst/>
            <a:rect l="l" t="t" r="r" b="b"/>
            <a:pathLst>
              <a:path w="1650" h="1025">
                <a:moveTo>
                  <a:pt x="339" y="0"/>
                </a:moveTo>
                <a:lnTo>
                  <a:pt x="217" y="152"/>
                </a:lnTo>
                <a:lnTo>
                  <a:pt x="167" y="228"/>
                </a:lnTo>
                <a:lnTo>
                  <a:pt x="116" y="300"/>
                </a:lnTo>
                <a:lnTo>
                  <a:pt x="71" y="371"/>
                </a:lnTo>
                <a:lnTo>
                  <a:pt x="35" y="443"/>
                </a:lnTo>
                <a:lnTo>
                  <a:pt x="10" y="510"/>
                </a:lnTo>
                <a:lnTo>
                  <a:pt x="0" y="577"/>
                </a:lnTo>
                <a:lnTo>
                  <a:pt x="0" y="639"/>
                </a:lnTo>
                <a:lnTo>
                  <a:pt x="10" y="706"/>
                </a:lnTo>
                <a:lnTo>
                  <a:pt x="35" y="774"/>
                </a:lnTo>
                <a:lnTo>
                  <a:pt x="66" y="832"/>
                </a:lnTo>
                <a:lnTo>
                  <a:pt x="101" y="890"/>
                </a:lnTo>
                <a:lnTo>
                  <a:pt x="147" y="939"/>
                </a:lnTo>
                <a:lnTo>
                  <a:pt x="192" y="979"/>
                </a:lnTo>
                <a:lnTo>
                  <a:pt x="243" y="1006"/>
                </a:lnTo>
                <a:lnTo>
                  <a:pt x="298" y="1024"/>
                </a:lnTo>
                <a:lnTo>
                  <a:pt x="359" y="1024"/>
                </a:lnTo>
                <a:lnTo>
                  <a:pt x="430" y="1019"/>
                </a:lnTo>
                <a:lnTo>
                  <a:pt x="501" y="1006"/>
                </a:lnTo>
                <a:lnTo>
                  <a:pt x="577" y="988"/>
                </a:lnTo>
                <a:lnTo>
                  <a:pt x="657" y="966"/>
                </a:lnTo>
                <a:lnTo>
                  <a:pt x="819" y="912"/>
                </a:lnTo>
                <a:lnTo>
                  <a:pt x="905" y="881"/>
                </a:lnTo>
                <a:lnTo>
                  <a:pt x="1001" y="836"/>
                </a:lnTo>
                <a:lnTo>
                  <a:pt x="1102" y="787"/>
                </a:lnTo>
                <a:lnTo>
                  <a:pt x="1209" y="738"/>
                </a:lnTo>
                <a:lnTo>
                  <a:pt x="1305" y="689"/>
                </a:lnTo>
                <a:lnTo>
                  <a:pt x="1396" y="644"/>
                </a:lnTo>
                <a:lnTo>
                  <a:pt x="1477" y="604"/>
                </a:lnTo>
                <a:lnTo>
                  <a:pt x="1507" y="590"/>
                </a:lnTo>
                <a:lnTo>
                  <a:pt x="1537" y="577"/>
                </a:lnTo>
                <a:lnTo>
                  <a:pt x="1583" y="559"/>
                </a:lnTo>
                <a:lnTo>
                  <a:pt x="1613" y="550"/>
                </a:lnTo>
                <a:lnTo>
                  <a:pt x="1634" y="541"/>
                </a:lnTo>
                <a:lnTo>
                  <a:pt x="1644" y="546"/>
                </a:lnTo>
                <a:lnTo>
                  <a:pt x="1649" y="550"/>
                </a:lnTo>
                <a:lnTo>
                  <a:pt x="1649" y="555"/>
                </a:lnTo>
                <a:lnTo>
                  <a:pt x="1634" y="57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021280" y="3429000"/>
            <a:ext cx="1778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(j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R(j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215080" y="4110120"/>
            <a:ext cx="43884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H="1">
            <a:off x="2048040" y="2759040"/>
            <a:ext cx="860400" cy="2028960"/>
          </a:xfrm>
          <a:prstGeom prst="line">
            <a:avLst/>
          </a:prstGeom>
          <a:ln w="1260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30040" y="3201840"/>
            <a:ext cx="11289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f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rot="120000">
            <a:off x="2023920" y="1940760"/>
            <a:ext cx="1167120" cy="162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24" y="21599"/>
                </a:moveTo>
                <a:arcTo wR="10800" hR="10800" stAng="5456155" swAng="5343845"/>
                <a:lnTo>
                  <a:pt x="10800" y="10800"/>
                </a:lnTo>
                <a:close/>
              </a:path>
              <a:path fill="none" w="21600" h="21600">
                <a:moveTo>
                  <a:pt x="10624" y="21599"/>
                </a:moveTo>
                <a:arcTo wR="10800" hR="10800" stAng="5456155" swAng="5343845"/>
              </a:path>
            </a:pathLst>
          </a:custGeom>
          <a:noFill/>
          <a:ln cap="rnd"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rot="1510200">
            <a:off x="1916280" y="2979360"/>
            <a:ext cx="2619360" cy="1627200"/>
          </a:xfrm>
          <a:custGeom>
            <a:avLst/>
            <a:gdLst/>
            <a:ahLst/>
            <a:rect l="l" t="t" r="r" b="b"/>
            <a:pathLst>
              <a:path w="1650" h="1025">
                <a:moveTo>
                  <a:pt x="339" y="0"/>
                </a:moveTo>
                <a:lnTo>
                  <a:pt x="217" y="152"/>
                </a:lnTo>
                <a:lnTo>
                  <a:pt x="167" y="228"/>
                </a:lnTo>
                <a:lnTo>
                  <a:pt x="116" y="300"/>
                </a:lnTo>
                <a:lnTo>
                  <a:pt x="71" y="371"/>
                </a:lnTo>
                <a:lnTo>
                  <a:pt x="35" y="443"/>
                </a:lnTo>
                <a:lnTo>
                  <a:pt x="10" y="510"/>
                </a:lnTo>
                <a:lnTo>
                  <a:pt x="0" y="577"/>
                </a:lnTo>
                <a:lnTo>
                  <a:pt x="0" y="639"/>
                </a:lnTo>
                <a:lnTo>
                  <a:pt x="10" y="706"/>
                </a:lnTo>
                <a:lnTo>
                  <a:pt x="35" y="774"/>
                </a:lnTo>
                <a:lnTo>
                  <a:pt x="66" y="832"/>
                </a:lnTo>
                <a:lnTo>
                  <a:pt x="101" y="890"/>
                </a:lnTo>
                <a:lnTo>
                  <a:pt x="147" y="939"/>
                </a:lnTo>
                <a:lnTo>
                  <a:pt x="192" y="979"/>
                </a:lnTo>
                <a:lnTo>
                  <a:pt x="243" y="1006"/>
                </a:lnTo>
                <a:lnTo>
                  <a:pt x="298" y="1024"/>
                </a:lnTo>
                <a:lnTo>
                  <a:pt x="359" y="1024"/>
                </a:lnTo>
                <a:lnTo>
                  <a:pt x="430" y="1019"/>
                </a:lnTo>
                <a:lnTo>
                  <a:pt x="501" y="1006"/>
                </a:lnTo>
                <a:lnTo>
                  <a:pt x="577" y="988"/>
                </a:lnTo>
                <a:lnTo>
                  <a:pt x="657" y="966"/>
                </a:lnTo>
                <a:lnTo>
                  <a:pt x="819" y="912"/>
                </a:lnTo>
                <a:lnTo>
                  <a:pt x="905" y="881"/>
                </a:lnTo>
                <a:lnTo>
                  <a:pt x="1001" y="836"/>
                </a:lnTo>
                <a:lnTo>
                  <a:pt x="1102" y="787"/>
                </a:lnTo>
                <a:lnTo>
                  <a:pt x="1209" y="738"/>
                </a:lnTo>
                <a:lnTo>
                  <a:pt x="1305" y="689"/>
                </a:lnTo>
                <a:lnTo>
                  <a:pt x="1396" y="644"/>
                </a:lnTo>
                <a:lnTo>
                  <a:pt x="1477" y="604"/>
                </a:lnTo>
                <a:lnTo>
                  <a:pt x="1507" y="590"/>
                </a:lnTo>
                <a:lnTo>
                  <a:pt x="1537" y="577"/>
                </a:lnTo>
                <a:lnTo>
                  <a:pt x="1583" y="559"/>
                </a:lnTo>
                <a:lnTo>
                  <a:pt x="1613" y="550"/>
                </a:lnTo>
                <a:lnTo>
                  <a:pt x="1634" y="541"/>
                </a:lnTo>
                <a:lnTo>
                  <a:pt x="1644" y="546"/>
                </a:lnTo>
                <a:lnTo>
                  <a:pt x="1649" y="550"/>
                </a:lnTo>
                <a:lnTo>
                  <a:pt x="1649" y="555"/>
                </a:lnTo>
                <a:lnTo>
                  <a:pt x="1634" y="577"/>
                </a:lnTo>
              </a:path>
            </a:pathLst>
          </a:custGeom>
          <a:noFill/>
          <a:ln cap="rnd" w="255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1" name=""/>
              <p:cNvSpPr txBox="1"/>
              <p:nvPr/>
            </p:nvSpPr>
            <p:spPr>
              <a:xfrm>
                <a:off x="4572000" y="4194000"/>
                <a:ext cx="133344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τ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2" name=""/>
          <p:cNvSpPr/>
          <p:nvPr/>
        </p:nvSpPr>
        <p:spPr>
          <a:xfrm flipH="1">
            <a:off x="1645920" y="2754360"/>
            <a:ext cx="1260360" cy="1079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871640" y="3564000"/>
            <a:ext cx="90360" cy="90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511280" y="419400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146640" y="4014720"/>
            <a:ext cx="2791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stemas con polos adicionales (por añadir un filtro, etc.) son mas dificiles de controlar (mas cercanos a la inestabi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31640" y="5049720"/>
            <a:ext cx="369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 aumentar el número de polos sobre el de ceros se aumenta el desf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Margen de fase, 2º ord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648320" y="1905120"/>
            <a:ext cx="1828800" cy="7617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787480" y="1981080"/>
            <a:ext cx="870120" cy="609840"/>
          </a:xfrm>
          <a:prstGeom prst="rect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657600" y="228600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477120" y="228600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543800" y="22860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1828440" y="3111480"/>
            <a:ext cx="571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1805040" y="2466720"/>
            <a:ext cx="0" cy="63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809880" y="1828800"/>
            <a:ext cx="814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057400" y="2286000"/>
            <a:ext cx="719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066680" y="2286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1600200" y="2057400"/>
            <a:ext cx="457200" cy="474840"/>
            <a:chOff x="1600200" y="2057400"/>
            <a:chExt cx="457200" cy="474840"/>
          </a:xfrm>
        </p:grpSpPr>
        <p:sp>
          <p:nvSpPr>
            <p:cNvPr id="729" name=""/>
            <p:cNvSpPr/>
            <p:nvPr/>
          </p:nvSpPr>
          <p:spPr>
            <a:xfrm>
              <a:off x="1600200" y="2057400"/>
              <a:ext cx="444240" cy="44460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600200" y="2133720"/>
              <a:ext cx="30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752480" y="228600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2" name=""/>
          <p:cNvSpPr/>
          <p:nvPr/>
        </p:nvSpPr>
        <p:spPr>
          <a:xfrm>
            <a:off x="7086600" y="1828800"/>
            <a:ext cx="8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38360" y="1704960"/>
            <a:ext cx="8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112840" y="176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4952880" y="1905120"/>
                <a:ext cx="12067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K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860400" y="4022640"/>
                <a:ext cx="35305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Sup>
                          <m:e>
                            <m:r>
                              <m:t xml:space="preserve">K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Sup>
                          <m:e>
                            <m:r>
                              <m:t xml:space="preserve">K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7" name=""/>
          <p:cNvSpPr/>
          <p:nvPr/>
        </p:nvSpPr>
        <p:spPr>
          <a:xfrm>
            <a:off x="979560" y="34005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lazo cerr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672000" y="4915080"/>
            <a:ext cx="496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Cual es el MF de este sistema?      Que relación tiene el comportamiento en lazo cerrado y el M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Margen de fase , 2º ord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648320" y="1905120"/>
            <a:ext cx="1828800" cy="7617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787480" y="1981080"/>
            <a:ext cx="870120" cy="609840"/>
          </a:xfrm>
          <a:prstGeom prst="rect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657600" y="228600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477120" y="228600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543800" y="22860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1828440" y="3111480"/>
            <a:ext cx="571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1805040" y="2466720"/>
            <a:ext cx="0" cy="63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809880" y="1828800"/>
            <a:ext cx="814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2286000"/>
            <a:ext cx="719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066680" y="2286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1600200" y="2057400"/>
            <a:ext cx="457200" cy="474840"/>
            <a:chOff x="1600200" y="2057400"/>
            <a:chExt cx="457200" cy="474840"/>
          </a:xfrm>
        </p:grpSpPr>
        <p:sp>
          <p:nvSpPr>
            <p:cNvPr id="751" name=""/>
            <p:cNvSpPr/>
            <p:nvPr/>
          </p:nvSpPr>
          <p:spPr>
            <a:xfrm>
              <a:off x="1600200" y="2057400"/>
              <a:ext cx="444240" cy="44460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600200" y="2133720"/>
              <a:ext cx="30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752480" y="228600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4" name=""/>
          <p:cNvSpPr/>
          <p:nvPr/>
        </p:nvSpPr>
        <p:spPr>
          <a:xfrm>
            <a:off x="7086600" y="1828800"/>
            <a:ext cx="8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38360" y="1704960"/>
            <a:ext cx="8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112840" y="176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1068480" y="3833640"/>
                <a:ext cx="6959520" cy="23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K</m:t>
                                        </m:r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t xml:space="preserve">s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s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δω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jω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δ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δ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K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Sup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sSub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bSup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δ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58" name=""/>
          <p:cNvSpPr/>
          <p:nvPr/>
        </p:nvSpPr>
        <p:spPr>
          <a:xfrm>
            <a:off x="1068480" y="3219480"/>
            <a:ext cx="66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el margen de fase corresponde a la frecuencia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4952880" y="1905120"/>
                <a:ext cx="12067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K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Margen de fase, 2º ord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220680" y="2576520"/>
                <a:ext cx="861840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jω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δ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±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4</m:t>
                                    </m:r>
                                    <m:sSup>
                                      <m:e>
                                        <m:r>
                                          <m:t xml:space="preserve">δ</m:t>
                                        </m:r>
                                      </m:e>
                                      <m:sup>
                                        <m:r>
                                          <m:t xml:space="preserve">4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sSubSup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rad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δ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2359080" y="1938240"/>
                <a:ext cx="32130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3" name=""/>
          <p:cNvSpPr/>
          <p:nvPr/>
        </p:nvSpPr>
        <p:spPr>
          <a:xfrm>
            <a:off x="411120" y="3645000"/>
            <a:ext cx="807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ay una relación directa entre el Margen de Fase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y el amortiguamiento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en un sistema de 2º orden. Para órdenes mas altos la relación solo es aproximad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286680" y="4826160"/>
            <a:ext cx="0" cy="146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796000" y="602136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651640" y="4869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8170920" y="6093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299280" y="4629240"/>
            <a:ext cx="1655640" cy="1392120"/>
          </a:xfrm>
          <a:custGeom>
            <a:avLst/>
            <a:gdLst/>
            <a:ahLst/>
            <a:rect l="l" t="t" r="r" b="b"/>
            <a:pathLst>
              <a:path w="1043" h="877">
                <a:moveTo>
                  <a:pt x="0" y="877"/>
                </a:moveTo>
                <a:cubicBezTo>
                  <a:pt x="7" y="812"/>
                  <a:pt x="15" y="748"/>
                  <a:pt x="45" y="650"/>
                </a:cubicBezTo>
                <a:cubicBezTo>
                  <a:pt x="75" y="552"/>
                  <a:pt x="114" y="378"/>
                  <a:pt x="182" y="287"/>
                </a:cubicBezTo>
                <a:cubicBezTo>
                  <a:pt x="250" y="196"/>
                  <a:pt x="348" y="151"/>
                  <a:pt x="454" y="106"/>
                </a:cubicBezTo>
                <a:cubicBezTo>
                  <a:pt x="560" y="61"/>
                  <a:pt x="719" y="30"/>
                  <a:pt x="817" y="15"/>
                </a:cubicBezTo>
                <a:cubicBezTo>
                  <a:pt x="915" y="0"/>
                  <a:pt x="979" y="7"/>
                  <a:pt x="1043" y="1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onentes de frecu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19810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nálisis de Four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71600" y="2768760"/>
            <a:ext cx="2057400" cy="774720"/>
          </a:xfrm>
          <a:custGeom>
            <a:avLst/>
            <a:gdLst/>
            <a:ahLst/>
            <a:rect l="l" t="t" r="r" b="b"/>
            <a:pathLst>
              <a:path w="1296" h="488">
                <a:moveTo>
                  <a:pt x="0" y="368"/>
                </a:moveTo>
                <a:cubicBezTo>
                  <a:pt x="32" y="324"/>
                  <a:pt x="64" y="280"/>
                  <a:pt x="96" y="224"/>
                </a:cubicBezTo>
                <a:cubicBezTo>
                  <a:pt x="128" y="168"/>
                  <a:pt x="168" y="24"/>
                  <a:pt x="192" y="32"/>
                </a:cubicBezTo>
                <a:cubicBezTo>
                  <a:pt x="216" y="40"/>
                  <a:pt x="224" y="224"/>
                  <a:pt x="240" y="272"/>
                </a:cubicBezTo>
                <a:cubicBezTo>
                  <a:pt x="256" y="320"/>
                  <a:pt x="280" y="320"/>
                  <a:pt x="288" y="320"/>
                </a:cubicBezTo>
                <a:cubicBezTo>
                  <a:pt x="296" y="320"/>
                  <a:pt x="288" y="296"/>
                  <a:pt x="288" y="272"/>
                </a:cubicBezTo>
                <a:cubicBezTo>
                  <a:pt x="288" y="248"/>
                  <a:pt x="280" y="176"/>
                  <a:pt x="288" y="176"/>
                </a:cubicBezTo>
                <a:cubicBezTo>
                  <a:pt x="296" y="176"/>
                  <a:pt x="328" y="240"/>
                  <a:pt x="336" y="272"/>
                </a:cubicBezTo>
                <a:cubicBezTo>
                  <a:pt x="344" y="304"/>
                  <a:pt x="312" y="352"/>
                  <a:pt x="336" y="368"/>
                </a:cubicBezTo>
                <a:cubicBezTo>
                  <a:pt x="360" y="384"/>
                  <a:pt x="448" y="392"/>
                  <a:pt x="480" y="368"/>
                </a:cubicBezTo>
                <a:cubicBezTo>
                  <a:pt x="512" y="344"/>
                  <a:pt x="504" y="280"/>
                  <a:pt x="528" y="224"/>
                </a:cubicBezTo>
                <a:cubicBezTo>
                  <a:pt x="552" y="168"/>
                  <a:pt x="600" y="64"/>
                  <a:pt x="624" y="32"/>
                </a:cubicBezTo>
                <a:cubicBezTo>
                  <a:pt x="648" y="0"/>
                  <a:pt x="656" y="24"/>
                  <a:pt x="672" y="32"/>
                </a:cubicBezTo>
                <a:cubicBezTo>
                  <a:pt x="688" y="40"/>
                  <a:pt x="704" y="48"/>
                  <a:pt x="720" y="80"/>
                </a:cubicBezTo>
                <a:cubicBezTo>
                  <a:pt x="736" y="112"/>
                  <a:pt x="760" y="216"/>
                  <a:pt x="768" y="224"/>
                </a:cubicBezTo>
                <a:cubicBezTo>
                  <a:pt x="776" y="232"/>
                  <a:pt x="760" y="136"/>
                  <a:pt x="768" y="128"/>
                </a:cubicBezTo>
                <a:cubicBezTo>
                  <a:pt x="776" y="120"/>
                  <a:pt x="808" y="152"/>
                  <a:pt x="816" y="176"/>
                </a:cubicBezTo>
                <a:cubicBezTo>
                  <a:pt x="824" y="200"/>
                  <a:pt x="808" y="224"/>
                  <a:pt x="816" y="272"/>
                </a:cubicBezTo>
                <a:cubicBezTo>
                  <a:pt x="824" y="320"/>
                  <a:pt x="848" y="440"/>
                  <a:pt x="864" y="464"/>
                </a:cubicBezTo>
                <a:cubicBezTo>
                  <a:pt x="880" y="488"/>
                  <a:pt x="904" y="440"/>
                  <a:pt x="912" y="416"/>
                </a:cubicBezTo>
                <a:cubicBezTo>
                  <a:pt x="920" y="392"/>
                  <a:pt x="896" y="344"/>
                  <a:pt x="912" y="320"/>
                </a:cubicBezTo>
                <a:cubicBezTo>
                  <a:pt x="928" y="296"/>
                  <a:pt x="952" y="296"/>
                  <a:pt x="1008" y="272"/>
                </a:cubicBezTo>
                <a:cubicBezTo>
                  <a:pt x="1064" y="248"/>
                  <a:pt x="1200" y="200"/>
                  <a:pt x="1248" y="176"/>
                </a:cubicBezTo>
                <a:cubicBezTo>
                  <a:pt x="1296" y="152"/>
                  <a:pt x="1288" y="136"/>
                  <a:pt x="1296" y="1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289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43400" y="2743200"/>
            <a:ext cx="1349280" cy="814320"/>
          </a:xfrm>
          <a:custGeom>
            <a:avLst/>
            <a:gdLst/>
            <a:ahLst/>
            <a:rect l="l" t="t" r="r" b="b"/>
            <a:pathLst>
              <a:path w="850" h="513">
                <a:moveTo>
                  <a:pt x="0" y="258"/>
                </a:moveTo>
                <a:cubicBezTo>
                  <a:pt x="17" y="228"/>
                  <a:pt x="35" y="199"/>
                  <a:pt x="47" y="172"/>
                </a:cubicBezTo>
                <a:cubicBezTo>
                  <a:pt x="59" y="145"/>
                  <a:pt x="62" y="116"/>
                  <a:pt x="70" y="94"/>
                </a:cubicBezTo>
                <a:cubicBezTo>
                  <a:pt x="78" y="72"/>
                  <a:pt x="86" y="55"/>
                  <a:pt x="94" y="40"/>
                </a:cubicBezTo>
                <a:cubicBezTo>
                  <a:pt x="102" y="25"/>
                  <a:pt x="105" y="2"/>
                  <a:pt x="117" y="1"/>
                </a:cubicBezTo>
                <a:cubicBezTo>
                  <a:pt x="129" y="0"/>
                  <a:pt x="154" y="18"/>
                  <a:pt x="164" y="32"/>
                </a:cubicBezTo>
                <a:cubicBezTo>
                  <a:pt x="174" y="46"/>
                  <a:pt x="170" y="60"/>
                  <a:pt x="179" y="86"/>
                </a:cubicBezTo>
                <a:cubicBezTo>
                  <a:pt x="188" y="112"/>
                  <a:pt x="209" y="163"/>
                  <a:pt x="218" y="188"/>
                </a:cubicBezTo>
                <a:cubicBezTo>
                  <a:pt x="227" y="213"/>
                  <a:pt x="228" y="206"/>
                  <a:pt x="234" y="234"/>
                </a:cubicBezTo>
                <a:cubicBezTo>
                  <a:pt x="240" y="262"/>
                  <a:pt x="249" y="329"/>
                  <a:pt x="257" y="359"/>
                </a:cubicBezTo>
                <a:cubicBezTo>
                  <a:pt x="265" y="389"/>
                  <a:pt x="272" y="397"/>
                  <a:pt x="281" y="414"/>
                </a:cubicBezTo>
                <a:cubicBezTo>
                  <a:pt x="290" y="431"/>
                  <a:pt x="306" y="445"/>
                  <a:pt x="312" y="460"/>
                </a:cubicBezTo>
                <a:cubicBezTo>
                  <a:pt x="318" y="475"/>
                  <a:pt x="310" y="501"/>
                  <a:pt x="320" y="507"/>
                </a:cubicBezTo>
                <a:cubicBezTo>
                  <a:pt x="330" y="513"/>
                  <a:pt x="360" y="509"/>
                  <a:pt x="374" y="499"/>
                </a:cubicBezTo>
                <a:cubicBezTo>
                  <a:pt x="388" y="489"/>
                  <a:pt x="394" y="470"/>
                  <a:pt x="405" y="445"/>
                </a:cubicBezTo>
                <a:cubicBezTo>
                  <a:pt x="416" y="420"/>
                  <a:pt x="428" y="377"/>
                  <a:pt x="437" y="351"/>
                </a:cubicBezTo>
                <a:cubicBezTo>
                  <a:pt x="446" y="325"/>
                  <a:pt x="455" y="308"/>
                  <a:pt x="460" y="289"/>
                </a:cubicBezTo>
                <a:cubicBezTo>
                  <a:pt x="465" y="270"/>
                  <a:pt x="464" y="253"/>
                  <a:pt x="468" y="234"/>
                </a:cubicBezTo>
                <a:cubicBezTo>
                  <a:pt x="472" y="215"/>
                  <a:pt x="478" y="190"/>
                  <a:pt x="483" y="172"/>
                </a:cubicBezTo>
                <a:cubicBezTo>
                  <a:pt x="488" y="154"/>
                  <a:pt x="493" y="142"/>
                  <a:pt x="499" y="125"/>
                </a:cubicBezTo>
                <a:cubicBezTo>
                  <a:pt x="505" y="108"/>
                  <a:pt x="516" y="90"/>
                  <a:pt x="522" y="71"/>
                </a:cubicBezTo>
                <a:cubicBezTo>
                  <a:pt x="528" y="52"/>
                  <a:pt x="526" y="13"/>
                  <a:pt x="538" y="8"/>
                </a:cubicBezTo>
                <a:cubicBezTo>
                  <a:pt x="550" y="3"/>
                  <a:pt x="574" y="17"/>
                  <a:pt x="592" y="40"/>
                </a:cubicBezTo>
                <a:cubicBezTo>
                  <a:pt x="610" y="63"/>
                  <a:pt x="635" y="119"/>
                  <a:pt x="647" y="149"/>
                </a:cubicBezTo>
                <a:cubicBezTo>
                  <a:pt x="659" y="179"/>
                  <a:pt x="657" y="192"/>
                  <a:pt x="663" y="219"/>
                </a:cubicBezTo>
                <a:cubicBezTo>
                  <a:pt x="669" y="246"/>
                  <a:pt x="681" y="289"/>
                  <a:pt x="686" y="312"/>
                </a:cubicBezTo>
                <a:cubicBezTo>
                  <a:pt x="691" y="335"/>
                  <a:pt x="691" y="343"/>
                  <a:pt x="694" y="359"/>
                </a:cubicBezTo>
                <a:cubicBezTo>
                  <a:pt x="697" y="375"/>
                  <a:pt x="696" y="392"/>
                  <a:pt x="702" y="406"/>
                </a:cubicBezTo>
                <a:cubicBezTo>
                  <a:pt x="708" y="420"/>
                  <a:pt x="723" y="431"/>
                  <a:pt x="733" y="445"/>
                </a:cubicBezTo>
                <a:cubicBezTo>
                  <a:pt x="743" y="459"/>
                  <a:pt x="750" y="487"/>
                  <a:pt x="764" y="492"/>
                </a:cubicBezTo>
                <a:cubicBezTo>
                  <a:pt x="778" y="497"/>
                  <a:pt x="804" y="488"/>
                  <a:pt x="818" y="476"/>
                </a:cubicBezTo>
                <a:cubicBezTo>
                  <a:pt x="832" y="464"/>
                  <a:pt x="845" y="431"/>
                  <a:pt x="850" y="4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2057400"/>
            <a:ext cx="2133720" cy="433440"/>
          </a:xfrm>
          <a:custGeom>
            <a:avLst/>
            <a:gdLst/>
            <a:ahLst/>
            <a:rect l="l" t="t" r="r" b="b"/>
            <a:pathLst>
              <a:path w="850" h="513">
                <a:moveTo>
                  <a:pt x="0" y="258"/>
                </a:moveTo>
                <a:cubicBezTo>
                  <a:pt x="17" y="228"/>
                  <a:pt x="35" y="199"/>
                  <a:pt x="47" y="172"/>
                </a:cubicBezTo>
                <a:cubicBezTo>
                  <a:pt x="59" y="145"/>
                  <a:pt x="62" y="116"/>
                  <a:pt x="70" y="94"/>
                </a:cubicBezTo>
                <a:cubicBezTo>
                  <a:pt x="78" y="72"/>
                  <a:pt x="86" y="55"/>
                  <a:pt x="94" y="40"/>
                </a:cubicBezTo>
                <a:cubicBezTo>
                  <a:pt x="102" y="25"/>
                  <a:pt x="105" y="2"/>
                  <a:pt x="117" y="1"/>
                </a:cubicBezTo>
                <a:cubicBezTo>
                  <a:pt x="129" y="0"/>
                  <a:pt x="154" y="18"/>
                  <a:pt x="164" y="32"/>
                </a:cubicBezTo>
                <a:cubicBezTo>
                  <a:pt x="174" y="46"/>
                  <a:pt x="170" y="60"/>
                  <a:pt x="179" y="86"/>
                </a:cubicBezTo>
                <a:cubicBezTo>
                  <a:pt x="188" y="112"/>
                  <a:pt x="209" y="163"/>
                  <a:pt x="218" y="188"/>
                </a:cubicBezTo>
                <a:cubicBezTo>
                  <a:pt x="227" y="213"/>
                  <a:pt x="228" y="206"/>
                  <a:pt x="234" y="234"/>
                </a:cubicBezTo>
                <a:cubicBezTo>
                  <a:pt x="240" y="262"/>
                  <a:pt x="249" y="329"/>
                  <a:pt x="257" y="359"/>
                </a:cubicBezTo>
                <a:cubicBezTo>
                  <a:pt x="265" y="389"/>
                  <a:pt x="272" y="397"/>
                  <a:pt x="281" y="414"/>
                </a:cubicBezTo>
                <a:cubicBezTo>
                  <a:pt x="290" y="431"/>
                  <a:pt x="306" y="445"/>
                  <a:pt x="312" y="460"/>
                </a:cubicBezTo>
                <a:cubicBezTo>
                  <a:pt x="318" y="475"/>
                  <a:pt x="310" y="501"/>
                  <a:pt x="320" y="507"/>
                </a:cubicBezTo>
                <a:cubicBezTo>
                  <a:pt x="330" y="513"/>
                  <a:pt x="360" y="509"/>
                  <a:pt x="374" y="499"/>
                </a:cubicBezTo>
                <a:cubicBezTo>
                  <a:pt x="388" y="489"/>
                  <a:pt x="394" y="470"/>
                  <a:pt x="405" y="445"/>
                </a:cubicBezTo>
                <a:cubicBezTo>
                  <a:pt x="416" y="420"/>
                  <a:pt x="428" y="377"/>
                  <a:pt x="437" y="351"/>
                </a:cubicBezTo>
                <a:cubicBezTo>
                  <a:pt x="446" y="325"/>
                  <a:pt x="455" y="308"/>
                  <a:pt x="460" y="289"/>
                </a:cubicBezTo>
                <a:cubicBezTo>
                  <a:pt x="465" y="270"/>
                  <a:pt x="464" y="253"/>
                  <a:pt x="468" y="234"/>
                </a:cubicBezTo>
                <a:cubicBezTo>
                  <a:pt x="472" y="215"/>
                  <a:pt x="478" y="190"/>
                  <a:pt x="483" y="172"/>
                </a:cubicBezTo>
                <a:cubicBezTo>
                  <a:pt x="488" y="154"/>
                  <a:pt x="493" y="142"/>
                  <a:pt x="499" y="125"/>
                </a:cubicBezTo>
                <a:cubicBezTo>
                  <a:pt x="505" y="108"/>
                  <a:pt x="516" y="90"/>
                  <a:pt x="522" y="71"/>
                </a:cubicBezTo>
                <a:cubicBezTo>
                  <a:pt x="528" y="52"/>
                  <a:pt x="526" y="13"/>
                  <a:pt x="538" y="8"/>
                </a:cubicBezTo>
                <a:cubicBezTo>
                  <a:pt x="550" y="3"/>
                  <a:pt x="574" y="17"/>
                  <a:pt x="592" y="40"/>
                </a:cubicBezTo>
                <a:cubicBezTo>
                  <a:pt x="610" y="63"/>
                  <a:pt x="635" y="119"/>
                  <a:pt x="647" y="149"/>
                </a:cubicBezTo>
                <a:cubicBezTo>
                  <a:pt x="659" y="179"/>
                  <a:pt x="657" y="192"/>
                  <a:pt x="663" y="219"/>
                </a:cubicBezTo>
                <a:cubicBezTo>
                  <a:pt x="669" y="246"/>
                  <a:pt x="681" y="289"/>
                  <a:pt x="686" y="312"/>
                </a:cubicBezTo>
                <a:cubicBezTo>
                  <a:pt x="691" y="335"/>
                  <a:pt x="691" y="343"/>
                  <a:pt x="694" y="359"/>
                </a:cubicBezTo>
                <a:cubicBezTo>
                  <a:pt x="697" y="375"/>
                  <a:pt x="696" y="392"/>
                  <a:pt x="702" y="406"/>
                </a:cubicBezTo>
                <a:cubicBezTo>
                  <a:pt x="708" y="420"/>
                  <a:pt x="723" y="431"/>
                  <a:pt x="733" y="445"/>
                </a:cubicBezTo>
                <a:cubicBezTo>
                  <a:pt x="743" y="459"/>
                  <a:pt x="750" y="487"/>
                  <a:pt x="764" y="492"/>
                </a:cubicBezTo>
                <a:cubicBezTo>
                  <a:pt x="778" y="497"/>
                  <a:pt x="804" y="488"/>
                  <a:pt x="818" y="476"/>
                </a:cubicBezTo>
                <a:cubicBezTo>
                  <a:pt x="832" y="464"/>
                  <a:pt x="845" y="431"/>
                  <a:pt x="850" y="4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886200"/>
            <a:ext cx="533520" cy="433440"/>
          </a:xfrm>
          <a:custGeom>
            <a:avLst/>
            <a:gdLst/>
            <a:ahLst/>
            <a:rect l="l" t="t" r="r" b="b"/>
            <a:pathLst>
              <a:path w="850" h="513">
                <a:moveTo>
                  <a:pt x="0" y="258"/>
                </a:moveTo>
                <a:cubicBezTo>
                  <a:pt x="17" y="228"/>
                  <a:pt x="35" y="199"/>
                  <a:pt x="47" y="172"/>
                </a:cubicBezTo>
                <a:cubicBezTo>
                  <a:pt x="59" y="145"/>
                  <a:pt x="62" y="116"/>
                  <a:pt x="70" y="94"/>
                </a:cubicBezTo>
                <a:cubicBezTo>
                  <a:pt x="78" y="72"/>
                  <a:pt x="86" y="55"/>
                  <a:pt x="94" y="40"/>
                </a:cubicBezTo>
                <a:cubicBezTo>
                  <a:pt x="102" y="25"/>
                  <a:pt x="105" y="2"/>
                  <a:pt x="117" y="1"/>
                </a:cubicBezTo>
                <a:cubicBezTo>
                  <a:pt x="129" y="0"/>
                  <a:pt x="154" y="18"/>
                  <a:pt x="164" y="32"/>
                </a:cubicBezTo>
                <a:cubicBezTo>
                  <a:pt x="174" y="46"/>
                  <a:pt x="170" y="60"/>
                  <a:pt x="179" y="86"/>
                </a:cubicBezTo>
                <a:cubicBezTo>
                  <a:pt x="188" y="112"/>
                  <a:pt x="209" y="163"/>
                  <a:pt x="218" y="188"/>
                </a:cubicBezTo>
                <a:cubicBezTo>
                  <a:pt x="227" y="213"/>
                  <a:pt x="228" y="206"/>
                  <a:pt x="234" y="234"/>
                </a:cubicBezTo>
                <a:cubicBezTo>
                  <a:pt x="240" y="262"/>
                  <a:pt x="249" y="329"/>
                  <a:pt x="257" y="359"/>
                </a:cubicBezTo>
                <a:cubicBezTo>
                  <a:pt x="265" y="389"/>
                  <a:pt x="272" y="397"/>
                  <a:pt x="281" y="414"/>
                </a:cubicBezTo>
                <a:cubicBezTo>
                  <a:pt x="290" y="431"/>
                  <a:pt x="306" y="445"/>
                  <a:pt x="312" y="460"/>
                </a:cubicBezTo>
                <a:cubicBezTo>
                  <a:pt x="318" y="475"/>
                  <a:pt x="310" y="501"/>
                  <a:pt x="320" y="507"/>
                </a:cubicBezTo>
                <a:cubicBezTo>
                  <a:pt x="330" y="513"/>
                  <a:pt x="360" y="509"/>
                  <a:pt x="374" y="499"/>
                </a:cubicBezTo>
                <a:cubicBezTo>
                  <a:pt x="388" y="489"/>
                  <a:pt x="394" y="470"/>
                  <a:pt x="405" y="445"/>
                </a:cubicBezTo>
                <a:cubicBezTo>
                  <a:pt x="416" y="420"/>
                  <a:pt x="428" y="377"/>
                  <a:pt x="437" y="351"/>
                </a:cubicBezTo>
                <a:cubicBezTo>
                  <a:pt x="446" y="325"/>
                  <a:pt x="455" y="308"/>
                  <a:pt x="460" y="289"/>
                </a:cubicBezTo>
                <a:cubicBezTo>
                  <a:pt x="465" y="270"/>
                  <a:pt x="464" y="253"/>
                  <a:pt x="468" y="234"/>
                </a:cubicBezTo>
                <a:cubicBezTo>
                  <a:pt x="472" y="215"/>
                  <a:pt x="478" y="190"/>
                  <a:pt x="483" y="172"/>
                </a:cubicBezTo>
                <a:cubicBezTo>
                  <a:pt x="488" y="154"/>
                  <a:pt x="493" y="142"/>
                  <a:pt x="499" y="125"/>
                </a:cubicBezTo>
                <a:cubicBezTo>
                  <a:pt x="505" y="108"/>
                  <a:pt x="516" y="90"/>
                  <a:pt x="522" y="71"/>
                </a:cubicBezTo>
                <a:cubicBezTo>
                  <a:pt x="528" y="52"/>
                  <a:pt x="526" y="13"/>
                  <a:pt x="538" y="8"/>
                </a:cubicBezTo>
                <a:cubicBezTo>
                  <a:pt x="550" y="3"/>
                  <a:pt x="574" y="17"/>
                  <a:pt x="592" y="40"/>
                </a:cubicBezTo>
                <a:cubicBezTo>
                  <a:pt x="610" y="63"/>
                  <a:pt x="635" y="119"/>
                  <a:pt x="647" y="149"/>
                </a:cubicBezTo>
                <a:cubicBezTo>
                  <a:pt x="659" y="179"/>
                  <a:pt x="657" y="192"/>
                  <a:pt x="663" y="219"/>
                </a:cubicBezTo>
                <a:cubicBezTo>
                  <a:pt x="669" y="246"/>
                  <a:pt x="681" y="289"/>
                  <a:pt x="686" y="312"/>
                </a:cubicBezTo>
                <a:cubicBezTo>
                  <a:pt x="691" y="335"/>
                  <a:pt x="691" y="343"/>
                  <a:pt x="694" y="359"/>
                </a:cubicBezTo>
                <a:cubicBezTo>
                  <a:pt x="697" y="375"/>
                  <a:pt x="696" y="392"/>
                  <a:pt x="702" y="406"/>
                </a:cubicBezTo>
                <a:cubicBezTo>
                  <a:pt x="708" y="420"/>
                  <a:pt x="723" y="431"/>
                  <a:pt x="733" y="445"/>
                </a:cubicBezTo>
                <a:cubicBezTo>
                  <a:pt x="743" y="459"/>
                  <a:pt x="750" y="487"/>
                  <a:pt x="764" y="492"/>
                </a:cubicBezTo>
                <a:cubicBezTo>
                  <a:pt x="778" y="497"/>
                  <a:pt x="804" y="488"/>
                  <a:pt x="818" y="476"/>
                </a:cubicBezTo>
                <a:cubicBezTo>
                  <a:pt x="832" y="464"/>
                  <a:pt x="845" y="431"/>
                  <a:pt x="850" y="4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4280" y="2514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24280" y="3505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42670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042920" y="4581360"/>
                <a:ext cx="5004000" cy="7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  <m:r>
                          <m:t xml:space="preserve">dω</m:t>
                        </m:r>
                      </m:e>
                    </m:nary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t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j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6504120" y="27608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75520" y="40561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408880" y="42084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487360" y="382752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580080" y="2684520"/>
                <a:ext cx="58284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6732720" y="443700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pectro de f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504120" y="3129120"/>
            <a:ext cx="1904760" cy="850680"/>
          </a:xfrm>
          <a:custGeom>
            <a:avLst/>
            <a:gdLst/>
            <a:ahLst/>
            <a:rect l="l" t="t" r="r" b="b"/>
            <a:pathLst>
              <a:path w="1200" h="536">
                <a:moveTo>
                  <a:pt x="0" y="344"/>
                </a:moveTo>
                <a:cubicBezTo>
                  <a:pt x="80" y="336"/>
                  <a:pt x="160" y="328"/>
                  <a:pt x="240" y="296"/>
                </a:cubicBezTo>
                <a:cubicBezTo>
                  <a:pt x="320" y="264"/>
                  <a:pt x="424" y="200"/>
                  <a:pt x="480" y="152"/>
                </a:cubicBezTo>
                <a:cubicBezTo>
                  <a:pt x="536" y="104"/>
                  <a:pt x="528" y="16"/>
                  <a:pt x="576" y="8"/>
                </a:cubicBezTo>
                <a:cubicBezTo>
                  <a:pt x="624" y="0"/>
                  <a:pt x="712" y="40"/>
                  <a:pt x="768" y="104"/>
                </a:cubicBezTo>
                <a:cubicBezTo>
                  <a:pt x="824" y="168"/>
                  <a:pt x="848" y="328"/>
                  <a:pt x="912" y="392"/>
                </a:cubicBezTo>
                <a:cubicBezTo>
                  <a:pt x="976" y="456"/>
                  <a:pt x="1104" y="464"/>
                  <a:pt x="1152" y="488"/>
                </a:cubicBezTo>
                <a:cubicBezTo>
                  <a:pt x="1200" y="512"/>
                  <a:pt x="1200" y="524"/>
                  <a:pt x="1200" y="5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5516640"/>
            <a:ext cx="68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La respuesta de G(s) ante una señal cualquiera es la suma de las respuestas a cada una de las senoides que la comp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209680" y="2149560"/>
            <a:ext cx="0" cy="21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692360" y="4114800"/>
            <a:ext cx="56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211480" y="2475000"/>
            <a:ext cx="4878360" cy="1617480"/>
          </a:xfrm>
          <a:custGeom>
            <a:avLst/>
            <a:gdLst/>
            <a:ahLst/>
            <a:rect l="l" t="t" r="r" b="b"/>
            <a:pathLst>
              <a:path w="3073" h="1019">
                <a:moveTo>
                  <a:pt x="0" y="1018"/>
                </a:moveTo>
                <a:lnTo>
                  <a:pt x="86" y="828"/>
                </a:lnTo>
                <a:lnTo>
                  <a:pt x="136" y="729"/>
                </a:lnTo>
                <a:lnTo>
                  <a:pt x="193" y="635"/>
                </a:lnTo>
                <a:lnTo>
                  <a:pt x="257" y="536"/>
                </a:lnTo>
                <a:lnTo>
                  <a:pt x="336" y="433"/>
                </a:lnTo>
                <a:lnTo>
                  <a:pt x="407" y="334"/>
                </a:lnTo>
                <a:lnTo>
                  <a:pt x="443" y="288"/>
                </a:lnTo>
                <a:lnTo>
                  <a:pt x="479" y="247"/>
                </a:lnTo>
                <a:lnTo>
                  <a:pt x="543" y="173"/>
                </a:lnTo>
                <a:lnTo>
                  <a:pt x="600" y="103"/>
                </a:lnTo>
                <a:lnTo>
                  <a:pt x="629" y="70"/>
                </a:lnTo>
                <a:lnTo>
                  <a:pt x="657" y="45"/>
                </a:lnTo>
                <a:lnTo>
                  <a:pt x="693" y="24"/>
                </a:lnTo>
                <a:lnTo>
                  <a:pt x="722" y="8"/>
                </a:lnTo>
                <a:lnTo>
                  <a:pt x="750" y="0"/>
                </a:lnTo>
                <a:lnTo>
                  <a:pt x="786" y="0"/>
                </a:lnTo>
                <a:lnTo>
                  <a:pt x="814" y="4"/>
                </a:lnTo>
                <a:lnTo>
                  <a:pt x="843" y="8"/>
                </a:lnTo>
                <a:lnTo>
                  <a:pt x="907" y="33"/>
                </a:lnTo>
                <a:lnTo>
                  <a:pt x="957" y="57"/>
                </a:lnTo>
                <a:lnTo>
                  <a:pt x="979" y="74"/>
                </a:lnTo>
                <a:lnTo>
                  <a:pt x="1000" y="90"/>
                </a:lnTo>
                <a:lnTo>
                  <a:pt x="1029" y="136"/>
                </a:lnTo>
                <a:lnTo>
                  <a:pt x="1057" y="177"/>
                </a:lnTo>
                <a:lnTo>
                  <a:pt x="1079" y="193"/>
                </a:lnTo>
                <a:lnTo>
                  <a:pt x="1100" y="202"/>
                </a:lnTo>
                <a:lnTo>
                  <a:pt x="1129" y="206"/>
                </a:lnTo>
                <a:lnTo>
                  <a:pt x="1165" y="202"/>
                </a:lnTo>
                <a:lnTo>
                  <a:pt x="1236" y="189"/>
                </a:lnTo>
                <a:lnTo>
                  <a:pt x="1315" y="169"/>
                </a:lnTo>
                <a:lnTo>
                  <a:pt x="1393" y="152"/>
                </a:lnTo>
                <a:lnTo>
                  <a:pt x="1465" y="136"/>
                </a:lnTo>
                <a:lnTo>
                  <a:pt x="1529" y="119"/>
                </a:lnTo>
                <a:lnTo>
                  <a:pt x="1600" y="107"/>
                </a:lnTo>
                <a:lnTo>
                  <a:pt x="1643" y="107"/>
                </a:lnTo>
                <a:lnTo>
                  <a:pt x="1679" y="107"/>
                </a:lnTo>
                <a:lnTo>
                  <a:pt x="1722" y="115"/>
                </a:lnTo>
                <a:lnTo>
                  <a:pt x="1765" y="123"/>
                </a:lnTo>
                <a:lnTo>
                  <a:pt x="1858" y="156"/>
                </a:lnTo>
                <a:lnTo>
                  <a:pt x="1943" y="185"/>
                </a:lnTo>
                <a:lnTo>
                  <a:pt x="1979" y="197"/>
                </a:lnTo>
                <a:lnTo>
                  <a:pt x="2015" y="202"/>
                </a:lnTo>
                <a:lnTo>
                  <a:pt x="2043" y="202"/>
                </a:lnTo>
                <a:lnTo>
                  <a:pt x="2072" y="197"/>
                </a:lnTo>
                <a:lnTo>
                  <a:pt x="2122" y="185"/>
                </a:lnTo>
                <a:lnTo>
                  <a:pt x="2165" y="164"/>
                </a:lnTo>
                <a:lnTo>
                  <a:pt x="2208" y="152"/>
                </a:lnTo>
                <a:lnTo>
                  <a:pt x="2229" y="148"/>
                </a:lnTo>
                <a:lnTo>
                  <a:pt x="2243" y="148"/>
                </a:lnTo>
                <a:lnTo>
                  <a:pt x="2272" y="148"/>
                </a:lnTo>
                <a:lnTo>
                  <a:pt x="2293" y="152"/>
                </a:lnTo>
                <a:lnTo>
                  <a:pt x="2322" y="152"/>
                </a:lnTo>
                <a:lnTo>
                  <a:pt x="2350" y="152"/>
                </a:lnTo>
                <a:lnTo>
                  <a:pt x="2400" y="152"/>
                </a:lnTo>
                <a:lnTo>
                  <a:pt x="2458" y="152"/>
                </a:lnTo>
                <a:lnTo>
                  <a:pt x="2529" y="152"/>
                </a:lnTo>
                <a:lnTo>
                  <a:pt x="2608" y="152"/>
                </a:lnTo>
                <a:lnTo>
                  <a:pt x="2693" y="152"/>
                </a:lnTo>
                <a:lnTo>
                  <a:pt x="2879" y="152"/>
                </a:lnTo>
                <a:lnTo>
                  <a:pt x="3072" y="15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170080" y="2498760"/>
            <a:ext cx="5452920" cy="1630440"/>
          </a:xfrm>
          <a:custGeom>
            <a:avLst/>
            <a:gdLst/>
            <a:ahLst/>
            <a:rect l="l" t="t" r="r" b="b"/>
            <a:pathLst>
              <a:path w="3435" h="1027">
                <a:moveTo>
                  <a:pt x="23" y="1018"/>
                </a:moveTo>
                <a:lnTo>
                  <a:pt x="8" y="1026"/>
                </a:lnTo>
                <a:lnTo>
                  <a:pt x="0" y="1026"/>
                </a:lnTo>
                <a:lnTo>
                  <a:pt x="8" y="1022"/>
                </a:lnTo>
                <a:lnTo>
                  <a:pt x="16" y="1010"/>
                </a:lnTo>
                <a:lnTo>
                  <a:pt x="39" y="997"/>
                </a:lnTo>
                <a:lnTo>
                  <a:pt x="69" y="972"/>
                </a:lnTo>
                <a:lnTo>
                  <a:pt x="123" y="938"/>
                </a:lnTo>
                <a:lnTo>
                  <a:pt x="185" y="892"/>
                </a:lnTo>
                <a:lnTo>
                  <a:pt x="261" y="842"/>
                </a:lnTo>
                <a:lnTo>
                  <a:pt x="346" y="783"/>
                </a:lnTo>
                <a:lnTo>
                  <a:pt x="430" y="729"/>
                </a:lnTo>
                <a:lnTo>
                  <a:pt x="515" y="675"/>
                </a:lnTo>
                <a:lnTo>
                  <a:pt x="584" y="624"/>
                </a:lnTo>
                <a:lnTo>
                  <a:pt x="646" y="587"/>
                </a:lnTo>
                <a:lnTo>
                  <a:pt x="692" y="557"/>
                </a:lnTo>
                <a:lnTo>
                  <a:pt x="730" y="536"/>
                </a:lnTo>
                <a:lnTo>
                  <a:pt x="768" y="520"/>
                </a:lnTo>
                <a:lnTo>
                  <a:pt x="792" y="507"/>
                </a:lnTo>
                <a:lnTo>
                  <a:pt x="853" y="478"/>
                </a:lnTo>
                <a:lnTo>
                  <a:pt x="891" y="461"/>
                </a:lnTo>
                <a:lnTo>
                  <a:pt x="937" y="440"/>
                </a:lnTo>
                <a:lnTo>
                  <a:pt x="991" y="415"/>
                </a:lnTo>
                <a:lnTo>
                  <a:pt x="1060" y="386"/>
                </a:lnTo>
                <a:lnTo>
                  <a:pt x="1199" y="319"/>
                </a:lnTo>
                <a:lnTo>
                  <a:pt x="1345" y="256"/>
                </a:lnTo>
                <a:lnTo>
                  <a:pt x="1406" y="226"/>
                </a:lnTo>
                <a:lnTo>
                  <a:pt x="1468" y="201"/>
                </a:lnTo>
                <a:lnTo>
                  <a:pt x="1521" y="185"/>
                </a:lnTo>
                <a:lnTo>
                  <a:pt x="1567" y="168"/>
                </a:lnTo>
                <a:lnTo>
                  <a:pt x="1652" y="147"/>
                </a:lnTo>
                <a:lnTo>
                  <a:pt x="1729" y="126"/>
                </a:lnTo>
                <a:lnTo>
                  <a:pt x="1798" y="105"/>
                </a:lnTo>
                <a:lnTo>
                  <a:pt x="1859" y="80"/>
                </a:lnTo>
                <a:lnTo>
                  <a:pt x="1905" y="51"/>
                </a:lnTo>
                <a:lnTo>
                  <a:pt x="1944" y="26"/>
                </a:lnTo>
                <a:lnTo>
                  <a:pt x="1990" y="9"/>
                </a:lnTo>
                <a:lnTo>
                  <a:pt x="2044" y="0"/>
                </a:lnTo>
                <a:lnTo>
                  <a:pt x="2105" y="0"/>
                </a:lnTo>
                <a:lnTo>
                  <a:pt x="2167" y="5"/>
                </a:lnTo>
                <a:lnTo>
                  <a:pt x="2236" y="9"/>
                </a:lnTo>
                <a:lnTo>
                  <a:pt x="2320" y="17"/>
                </a:lnTo>
                <a:lnTo>
                  <a:pt x="2420" y="30"/>
                </a:lnTo>
                <a:lnTo>
                  <a:pt x="2520" y="42"/>
                </a:lnTo>
                <a:lnTo>
                  <a:pt x="2620" y="59"/>
                </a:lnTo>
                <a:lnTo>
                  <a:pt x="2720" y="80"/>
                </a:lnTo>
                <a:lnTo>
                  <a:pt x="2819" y="105"/>
                </a:lnTo>
                <a:lnTo>
                  <a:pt x="2919" y="134"/>
                </a:lnTo>
                <a:lnTo>
                  <a:pt x="3004" y="155"/>
                </a:lnTo>
                <a:lnTo>
                  <a:pt x="3073" y="172"/>
                </a:lnTo>
                <a:lnTo>
                  <a:pt x="3134" y="185"/>
                </a:lnTo>
                <a:lnTo>
                  <a:pt x="3188" y="197"/>
                </a:lnTo>
                <a:lnTo>
                  <a:pt x="3242" y="201"/>
                </a:lnTo>
                <a:lnTo>
                  <a:pt x="3296" y="197"/>
                </a:lnTo>
                <a:lnTo>
                  <a:pt x="3342" y="185"/>
                </a:lnTo>
                <a:lnTo>
                  <a:pt x="3434" y="155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301840" y="2743200"/>
            <a:ext cx="6067440" cy="0"/>
          </a:xfrm>
          <a:prstGeom prst="line">
            <a:avLst/>
          </a:prstGeom>
          <a:ln w="1260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630840" y="3659040"/>
            <a:ext cx="1521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830240" y="2058840"/>
            <a:ext cx="454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601640" y="4649760"/>
            <a:ext cx="6473880" cy="13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ay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nor sobrep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es mayores d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n respuestas mas  rápidas y controles mas a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gen de gana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038480" y="2073240"/>
            <a:ext cx="0" cy="25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311120" y="3352680"/>
            <a:ext cx="492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708280" y="2774880"/>
            <a:ext cx="1333440" cy="2714760"/>
          </a:xfrm>
          <a:custGeom>
            <a:avLst/>
            <a:gdLst/>
            <a:ahLst/>
            <a:rect l="l" t="t" r="r" b="b"/>
            <a:pathLst>
              <a:path w="840" h="1710">
                <a:moveTo>
                  <a:pt x="839" y="365"/>
                </a:moveTo>
                <a:lnTo>
                  <a:pt x="774" y="260"/>
                </a:lnTo>
                <a:lnTo>
                  <a:pt x="709" y="166"/>
                </a:lnTo>
                <a:lnTo>
                  <a:pt x="672" y="122"/>
                </a:lnTo>
                <a:lnTo>
                  <a:pt x="631" y="83"/>
                </a:lnTo>
                <a:lnTo>
                  <a:pt x="595" y="50"/>
                </a:lnTo>
                <a:lnTo>
                  <a:pt x="550" y="28"/>
                </a:lnTo>
                <a:lnTo>
                  <a:pt x="501" y="11"/>
                </a:lnTo>
                <a:lnTo>
                  <a:pt x="444" y="0"/>
                </a:lnTo>
                <a:lnTo>
                  <a:pt x="387" y="0"/>
                </a:lnTo>
                <a:lnTo>
                  <a:pt x="322" y="0"/>
                </a:lnTo>
                <a:lnTo>
                  <a:pt x="265" y="5"/>
                </a:lnTo>
                <a:lnTo>
                  <a:pt x="208" y="11"/>
                </a:lnTo>
                <a:lnTo>
                  <a:pt x="159" y="16"/>
                </a:lnTo>
                <a:lnTo>
                  <a:pt x="118" y="28"/>
                </a:lnTo>
                <a:lnTo>
                  <a:pt x="90" y="39"/>
                </a:lnTo>
                <a:lnTo>
                  <a:pt x="69" y="50"/>
                </a:lnTo>
                <a:lnTo>
                  <a:pt x="53" y="66"/>
                </a:lnTo>
                <a:lnTo>
                  <a:pt x="41" y="83"/>
                </a:lnTo>
                <a:lnTo>
                  <a:pt x="29" y="122"/>
                </a:lnTo>
                <a:lnTo>
                  <a:pt x="21" y="171"/>
                </a:lnTo>
                <a:lnTo>
                  <a:pt x="8" y="232"/>
                </a:lnTo>
                <a:lnTo>
                  <a:pt x="0" y="304"/>
                </a:lnTo>
                <a:lnTo>
                  <a:pt x="4" y="382"/>
                </a:lnTo>
                <a:lnTo>
                  <a:pt x="8" y="420"/>
                </a:lnTo>
                <a:lnTo>
                  <a:pt x="21" y="459"/>
                </a:lnTo>
                <a:lnTo>
                  <a:pt x="41" y="498"/>
                </a:lnTo>
                <a:lnTo>
                  <a:pt x="69" y="542"/>
                </a:lnTo>
                <a:lnTo>
                  <a:pt x="102" y="592"/>
                </a:lnTo>
                <a:lnTo>
                  <a:pt x="139" y="636"/>
                </a:lnTo>
                <a:lnTo>
                  <a:pt x="175" y="680"/>
                </a:lnTo>
                <a:lnTo>
                  <a:pt x="212" y="724"/>
                </a:lnTo>
                <a:lnTo>
                  <a:pt x="240" y="763"/>
                </a:lnTo>
                <a:lnTo>
                  <a:pt x="261" y="796"/>
                </a:lnTo>
                <a:lnTo>
                  <a:pt x="277" y="818"/>
                </a:lnTo>
                <a:lnTo>
                  <a:pt x="285" y="841"/>
                </a:lnTo>
                <a:lnTo>
                  <a:pt x="297" y="863"/>
                </a:lnTo>
                <a:lnTo>
                  <a:pt x="301" y="874"/>
                </a:lnTo>
                <a:lnTo>
                  <a:pt x="301" y="890"/>
                </a:lnTo>
                <a:lnTo>
                  <a:pt x="306" y="913"/>
                </a:lnTo>
                <a:lnTo>
                  <a:pt x="310" y="940"/>
                </a:lnTo>
                <a:lnTo>
                  <a:pt x="318" y="979"/>
                </a:lnTo>
                <a:lnTo>
                  <a:pt x="322" y="1034"/>
                </a:lnTo>
                <a:lnTo>
                  <a:pt x="330" y="1090"/>
                </a:lnTo>
                <a:lnTo>
                  <a:pt x="338" y="1150"/>
                </a:lnTo>
                <a:lnTo>
                  <a:pt x="342" y="1211"/>
                </a:lnTo>
                <a:lnTo>
                  <a:pt x="350" y="1272"/>
                </a:lnTo>
                <a:lnTo>
                  <a:pt x="354" y="1327"/>
                </a:lnTo>
                <a:lnTo>
                  <a:pt x="359" y="1372"/>
                </a:lnTo>
                <a:lnTo>
                  <a:pt x="363" y="1410"/>
                </a:lnTo>
                <a:lnTo>
                  <a:pt x="363" y="1438"/>
                </a:lnTo>
                <a:lnTo>
                  <a:pt x="363" y="1488"/>
                </a:lnTo>
                <a:lnTo>
                  <a:pt x="359" y="1526"/>
                </a:lnTo>
                <a:lnTo>
                  <a:pt x="359" y="1565"/>
                </a:lnTo>
                <a:lnTo>
                  <a:pt x="359" y="1648"/>
                </a:lnTo>
                <a:lnTo>
                  <a:pt x="359" y="1681"/>
                </a:lnTo>
                <a:lnTo>
                  <a:pt x="359" y="1709"/>
                </a:lnTo>
              </a:path>
            </a:pathLst>
          </a:custGeom>
          <a:noFill/>
          <a:ln cap="rnd" w="255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743200" y="3352680"/>
            <a:ext cx="124128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133720" y="321624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754280" y="282096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4984920" y="1865160"/>
                <a:ext cx="2592360" cy="11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jω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jω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9" name=""/>
          <p:cNvSpPr/>
          <p:nvPr/>
        </p:nvSpPr>
        <p:spPr>
          <a:xfrm>
            <a:off x="2216160" y="3201840"/>
            <a:ext cx="45720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954680" y="3735360"/>
            <a:ext cx="373068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G = factor en el que se puede incrementar la ganancia antes de que el sistema en lazo cerrado se haga ine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da de robust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246400" y="4178160"/>
            <a:ext cx="1865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(j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G(j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97000" y="5003640"/>
            <a:ext cx="265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 conviene trabajar con ganancias al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iones de trans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952880" y="2149560"/>
            <a:ext cx="954360" cy="627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6092280" y="2273400"/>
            <a:ext cx="353520" cy="454680"/>
            <a:chOff x="6092280" y="2273400"/>
            <a:chExt cx="353520" cy="454680"/>
          </a:xfrm>
        </p:grpSpPr>
        <p:sp>
          <p:nvSpPr>
            <p:cNvPr id="798" name=""/>
            <p:cNvSpPr/>
            <p:nvPr/>
          </p:nvSpPr>
          <p:spPr>
            <a:xfrm>
              <a:off x="6149880" y="2363760"/>
              <a:ext cx="171720" cy="2001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092280" y="2273400"/>
              <a:ext cx="353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3340080" y="2255760"/>
            <a:ext cx="585720" cy="4143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879640" y="2363760"/>
            <a:ext cx="171360" cy="2001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935680" y="246384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079800" y="2463840"/>
            <a:ext cx="235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V="1">
            <a:off x="2965320" y="2552400"/>
            <a:ext cx="0" cy="726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684160" y="211464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730240" y="254016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235560" y="2006640"/>
            <a:ext cx="0" cy="331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512040" y="2486160"/>
            <a:ext cx="0" cy="75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428640" y="2286000"/>
            <a:ext cx="31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033160" y="2806560"/>
            <a:ext cx="1147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573080" y="2128680"/>
            <a:ext cx="283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092280" y="1649520"/>
            <a:ext cx="283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460920" y="2075040"/>
            <a:ext cx="283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171760" y="236376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346800" y="2438280"/>
            <a:ext cx="49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057400" y="2057400"/>
            <a:ext cx="466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2209680" y="3657600"/>
                <a:ext cx="36576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</m:den>
                    </m:f>
                    <m:r>
                      <m:t xml:space="preserve">w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</m:den>
                    </m:f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2819520" y="5029200"/>
                <a:ext cx="26208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</m:den>
                    </m:f>
                    <m:r>
                      <m:t xml:space="preserve">w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</m:den>
                    </m:f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9" name=""/>
          <p:cNvSpPr/>
          <p:nvPr/>
        </p:nvSpPr>
        <p:spPr>
          <a:xfrm>
            <a:off x="2895480" y="4572000"/>
            <a:ext cx="619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Times New Roman"/>
              </a:rPr>
              <a:t>S</a:t>
            </a:r>
            <a:r>
              <a:rPr b="0" lang="es-ES_tradnl" sz="2400" spc="-1" strike="noStrike" baseline="-25000">
                <a:solidFill>
                  <a:srgbClr val="ccccff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648320" y="4572000"/>
            <a:ext cx="618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Times New Roman"/>
              </a:rPr>
              <a:t>S</a:t>
            </a:r>
            <a:r>
              <a:rPr b="0" lang="es-ES_tradnl" sz="2400" spc="-1" strike="noStrike" baseline="-25000">
                <a:solidFill>
                  <a:srgbClr val="ccccff"/>
                </a:solidFill>
                <a:latin typeface="Times New Roman"/>
              </a:rPr>
              <a:t>v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048120" y="5943600"/>
            <a:ext cx="618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Times New Roman"/>
              </a:rPr>
              <a:t>S</a:t>
            </a:r>
            <a:r>
              <a:rPr b="0" lang="es-ES_tradnl" sz="2400" spc="-1" strike="noStrike" baseline="-25000">
                <a:solidFill>
                  <a:srgbClr val="ccccff"/>
                </a:solidFill>
                <a:latin typeface="Times New Roman"/>
              </a:rPr>
              <a:t>w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572000" y="5943600"/>
            <a:ext cx="619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Times New Roman"/>
              </a:rPr>
              <a:t>S</a:t>
            </a:r>
            <a:r>
              <a:rPr b="0" lang="es-ES_tradnl" sz="2400" spc="-1" strike="noStrike" baseline="-25000">
                <a:solidFill>
                  <a:srgbClr val="ccccff"/>
                </a:solidFill>
                <a:latin typeface="Times New Roman"/>
              </a:rPr>
              <a:t>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301840" y="2438280"/>
            <a:ext cx="504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978360" y="2438280"/>
            <a:ext cx="961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2962440" y="3276720"/>
            <a:ext cx="352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hazo de perturb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9" name=""/>
              <p:cNvSpPr txBox="1"/>
              <p:nvPr/>
            </p:nvSpPr>
            <p:spPr>
              <a:xfrm>
                <a:off x="914400" y="1981080"/>
                <a:ext cx="2997360" cy="314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y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 R tiene accion integra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    </m:t>
                        </m:r>
                        <m:r>
                          <m:t xml:space="preserve">ω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y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ω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y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0" name=""/>
          <p:cNvSpPr/>
          <p:nvPr/>
        </p:nvSpPr>
        <p:spPr>
          <a:xfrm>
            <a:off x="4495680" y="2308320"/>
            <a:ext cx="0" cy="29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060800" y="2971800"/>
            <a:ext cx="399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487040" y="1884240"/>
            <a:ext cx="1943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|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v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j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| en 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724280" y="2590920"/>
            <a:ext cx="2706840" cy="2211120"/>
          </a:xfrm>
          <a:custGeom>
            <a:avLst/>
            <a:gdLst/>
            <a:ahLst/>
            <a:rect l="l" t="t" r="r" b="b"/>
            <a:pathLst>
              <a:path w="1705" h="1393">
                <a:moveTo>
                  <a:pt x="0" y="1392"/>
                </a:moveTo>
                <a:lnTo>
                  <a:pt x="0" y="1344"/>
                </a:lnTo>
                <a:lnTo>
                  <a:pt x="0" y="1296"/>
                </a:lnTo>
                <a:lnTo>
                  <a:pt x="0" y="1248"/>
                </a:lnTo>
                <a:lnTo>
                  <a:pt x="24" y="1200"/>
                </a:lnTo>
                <a:lnTo>
                  <a:pt x="24" y="1152"/>
                </a:lnTo>
                <a:lnTo>
                  <a:pt x="48" y="1104"/>
                </a:lnTo>
                <a:lnTo>
                  <a:pt x="72" y="1056"/>
                </a:lnTo>
                <a:lnTo>
                  <a:pt x="96" y="1008"/>
                </a:lnTo>
                <a:lnTo>
                  <a:pt x="120" y="960"/>
                </a:lnTo>
                <a:lnTo>
                  <a:pt x="144" y="912"/>
                </a:lnTo>
                <a:lnTo>
                  <a:pt x="168" y="864"/>
                </a:lnTo>
                <a:lnTo>
                  <a:pt x="192" y="816"/>
                </a:lnTo>
                <a:lnTo>
                  <a:pt x="216" y="768"/>
                </a:lnTo>
                <a:lnTo>
                  <a:pt x="240" y="720"/>
                </a:lnTo>
                <a:lnTo>
                  <a:pt x="264" y="672"/>
                </a:lnTo>
                <a:lnTo>
                  <a:pt x="288" y="624"/>
                </a:lnTo>
                <a:lnTo>
                  <a:pt x="312" y="576"/>
                </a:lnTo>
                <a:lnTo>
                  <a:pt x="336" y="528"/>
                </a:lnTo>
                <a:lnTo>
                  <a:pt x="360" y="480"/>
                </a:lnTo>
                <a:lnTo>
                  <a:pt x="384" y="432"/>
                </a:lnTo>
                <a:lnTo>
                  <a:pt x="432" y="384"/>
                </a:lnTo>
                <a:lnTo>
                  <a:pt x="456" y="336"/>
                </a:lnTo>
                <a:lnTo>
                  <a:pt x="456" y="288"/>
                </a:lnTo>
                <a:lnTo>
                  <a:pt x="480" y="240"/>
                </a:lnTo>
                <a:lnTo>
                  <a:pt x="504" y="192"/>
                </a:lnTo>
                <a:lnTo>
                  <a:pt x="528" y="144"/>
                </a:lnTo>
                <a:lnTo>
                  <a:pt x="576" y="120"/>
                </a:lnTo>
                <a:lnTo>
                  <a:pt x="624" y="72"/>
                </a:lnTo>
                <a:lnTo>
                  <a:pt x="672" y="48"/>
                </a:lnTo>
                <a:lnTo>
                  <a:pt x="720" y="24"/>
                </a:lnTo>
                <a:lnTo>
                  <a:pt x="768" y="0"/>
                </a:lnTo>
                <a:lnTo>
                  <a:pt x="816" y="24"/>
                </a:lnTo>
                <a:lnTo>
                  <a:pt x="864" y="0"/>
                </a:lnTo>
                <a:lnTo>
                  <a:pt x="912" y="0"/>
                </a:lnTo>
                <a:lnTo>
                  <a:pt x="960" y="24"/>
                </a:lnTo>
                <a:lnTo>
                  <a:pt x="1008" y="48"/>
                </a:lnTo>
                <a:lnTo>
                  <a:pt x="1056" y="72"/>
                </a:lnTo>
                <a:lnTo>
                  <a:pt x="1104" y="96"/>
                </a:lnTo>
                <a:lnTo>
                  <a:pt x="1152" y="120"/>
                </a:lnTo>
                <a:lnTo>
                  <a:pt x="1176" y="168"/>
                </a:lnTo>
                <a:lnTo>
                  <a:pt x="1224" y="168"/>
                </a:lnTo>
                <a:lnTo>
                  <a:pt x="1224" y="216"/>
                </a:lnTo>
                <a:lnTo>
                  <a:pt x="1272" y="216"/>
                </a:lnTo>
                <a:lnTo>
                  <a:pt x="1320" y="216"/>
                </a:lnTo>
                <a:lnTo>
                  <a:pt x="1368" y="216"/>
                </a:lnTo>
                <a:lnTo>
                  <a:pt x="1416" y="192"/>
                </a:lnTo>
                <a:lnTo>
                  <a:pt x="1464" y="216"/>
                </a:lnTo>
                <a:lnTo>
                  <a:pt x="1512" y="216"/>
                </a:lnTo>
                <a:lnTo>
                  <a:pt x="1560" y="216"/>
                </a:lnTo>
                <a:lnTo>
                  <a:pt x="1608" y="216"/>
                </a:lnTo>
                <a:lnTo>
                  <a:pt x="1656" y="240"/>
                </a:lnTo>
                <a:lnTo>
                  <a:pt x="1704" y="240"/>
                </a:lnTo>
              </a:path>
            </a:pathLst>
          </a:custGeom>
          <a:noFill/>
          <a:ln cap="rnd"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827840" y="2494080"/>
            <a:ext cx="39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312520" y="3898800"/>
            <a:ext cx="3579840" cy="2333880"/>
          </a:xfrm>
          <a:prstGeom prst="rect">
            <a:avLst/>
          </a:prstGeom>
          <a:noFill/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un rango de frecuencia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regulador pue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mpeorar el rechaz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erturb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nte minimizar 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ximo |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v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j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gen de Mód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200400" y="2155680"/>
            <a:ext cx="0" cy="239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089000" y="2590920"/>
            <a:ext cx="293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447920" y="2536920"/>
            <a:ext cx="0" cy="18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198080" y="2112840"/>
            <a:ext cx="435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469880" y="2612880"/>
            <a:ext cx="873360" cy="133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2346120" y="2612880"/>
            <a:ext cx="873000" cy="133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5" name=""/>
              <p:cNvSpPr txBox="1"/>
              <p:nvPr/>
            </p:nvSpPr>
            <p:spPr>
              <a:xfrm>
                <a:off x="4648320" y="2209680"/>
                <a:ext cx="372240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ba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M</m:t>
                            </m:r>
                          </m:e>
                        </m:ba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M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M</m:t>
                                </m:r>
                              </m:e>
                            </m:ba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y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46" name=""/>
          <p:cNvSpPr/>
          <p:nvPr/>
        </p:nvSpPr>
        <p:spPr>
          <a:xfrm>
            <a:off x="1122480" y="264636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960560" y="3941640"/>
            <a:ext cx="452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87360" y="1606680"/>
            <a:ext cx="1968480" cy="1892160"/>
          </a:xfrm>
          <a:prstGeom prst="ellipse">
            <a:avLst/>
          </a:prstGeom>
          <a:noFill/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247840" y="2495520"/>
            <a:ext cx="954000" cy="2516040"/>
          </a:xfrm>
          <a:custGeom>
            <a:avLst/>
            <a:gdLst/>
            <a:ahLst/>
            <a:rect l="l" t="t" r="r" b="b"/>
            <a:pathLst>
              <a:path w="601" h="1585">
                <a:moveTo>
                  <a:pt x="600" y="60"/>
                </a:moveTo>
                <a:lnTo>
                  <a:pt x="552" y="48"/>
                </a:lnTo>
                <a:lnTo>
                  <a:pt x="504" y="24"/>
                </a:lnTo>
                <a:lnTo>
                  <a:pt x="456" y="0"/>
                </a:lnTo>
                <a:lnTo>
                  <a:pt x="408" y="24"/>
                </a:lnTo>
                <a:lnTo>
                  <a:pt x="360" y="24"/>
                </a:lnTo>
                <a:lnTo>
                  <a:pt x="312" y="48"/>
                </a:lnTo>
                <a:lnTo>
                  <a:pt x="264" y="72"/>
                </a:lnTo>
                <a:lnTo>
                  <a:pt x="216" y="96"/>
                </a:lnTo>
                <a:lnTo>
                  <a:pt x="192" y="144"/>
                </a:lnTo>
                <a:lnTo>
                  <a:pt x="144" y="168"/>
                </a:lnTo>
                <a:lnTo>
                  <a:pt x="96" y="192"/>
                </a:lnTo>
                <a:lnTo>
                  <a:pt x="72" y="240"/>
                </a:lnTo>
                <a:lnTo>
                  <a:pt x="24" y="264"/>
                </a:lnTo>
                <a:lnTo>
                  <a:pt x="24" y="312"/>
                </a:lnTo>
                <a:lnTo>
                  <a:pt x="0" y="360"/>
                </a:lnTo>
                <a:lnTo>
                  <a:pt x="0" y="408"/>
                </a:lnTo>
                <a:lnTo>
                  <a:pt x="0" y="456"/>
                </a:lnTo>
                <a:lnTo>
                  <a:pt x="24" y="504"/>
                </a:lnTo>
                <a:lnTo>
                  <a:pt x="24" y="552"/>
                </a:lnTo>
                <a:lnTo>
                  <a:pt x="48" y="600"/>
                </a:lnTo>
                <a:lnTo>
                  <a:pt x="48" y="648"/>
                </a:lnTo>
                <a:lnTo>
                  <a:pt x="48" y="696"/>
                </a:lnTo>
                <a:lnTo>
                  <a:pt x="72" y="744"/>
                </a:lnTo>
                <a:lnTo>
                  <a:pt x="72" y="792"/>
                </a:lnTo>
                <a:lnTo>
                  <a:pt x="72" y="840"/>
                </a:lnTo>
                <a:lnTo>
                  <a:pt x="96" y="888"/>
                </a:lnTo>
                <a:lnTo>
                  <a:pt x="96" y="936"/>
                </a:lnTo>
                <a:lnTo>
                  <a:pt x="96" y="984"/>
                </a:lnTo>
                <a:lnTo>
                  <a:pt x="120" y="1032"/>
                </a:lnTo>
                <a:lnTo>
                  <a:pt x="144" y="1080"/>
                </a:lnTo>
                <a:lnTo>
                  <a:pt x="168" y="1128"/>
                </a:lnTo>
                <a:lnTo>
                  <a:pt x="192" y="1176"/>
                </a:lnTo>
                <a:lnTo>
                  <a:pt x="216" y="1224"/>
                </a:lnTo>
                <a:lnTo>
                  <a:pt x="264" y="1248"/>
                </a:lnTo>
                <a:lnTo>
                  <a:pt x="264" y="1296"/>
                </a:lnTo>
                <a:lnTo>
                  <a:pt x="264" y="1344"/>
                </a:lnTo>
                <a:lnTo>
                  <a:pt x="264" y="1392"/>
                </a:lnTo>
                <a:lnTo>
                  <a:pt x="288" y="1440"/>
                </a:lnTo>
                <a:lnTo>
                  <a:pt x="288" y="1488"/>
                </a:lnTo>
                <a:lnTo>
                  <a:pt x="264" y="1536"/>
                </a:lnTo>
                <a:lnTo>
                  <a:pt x="264" y="1584"/>
                </a:lnTo>
                <a:lnTo>
                  <a:pt x="216" y="1584"/>
                </a:lnTo>
              </a:path>
            </a:pathLst>
          </a:custGeom>
          <a:noFill/>
          <a:ln cap="rnd" w="1260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62400" y="5237280"/>
            <a:ext cx="2792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agrama de Nyqu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469880" y="2612880"/>
            <a:ext cx="797040" cy="263520"/>
          </a:xfrm>
          <a:prstGeom prst="line">
            <a:avLst/>
          </a:prstGeom>
          <a:ln w="1260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256200" y="211284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266000" y="4724280"/>
            <a:ext cx="134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in |NM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5715000" y="4705200"/>
                <a:ext cx="3119400" cy="70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w</m:t>
                        </m:r>
                        <m:r>
                          <m:t xml:space="preserve">)</m:t>
                        </m:r>
                      </m:e>
                    </m: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5715000" y="5315040"/>
                <a:ext cx="311796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y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jw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b>
                        <m:r>
                          <m:t xml:space="preserve">¥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856" name=""/>
          <p:cNvSpPr/>
          <p:nvPr/>
        </p:nvSpPr>
        <p:spPr>
          <a:xfrm>
            <a:off x="653400" y="5923080"/>
            <a:ext cx="8261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margen de módulo mayor mejora el rechazo de perturb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192560" y="3583080"/>
            <a:ext cx="4187880" cy="454680"/>
          </a:xfrm>
          <a:prstGeom prst="rect">
            <a:avLst/>
          </a:prstGeom>
          <a:noFill/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gen de módulo = min |NM|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¿Por qué es dificil el control de un sistema con retard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889360" y="2301840"/>
            <a:ext cx="0" cy="239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77960" y="2736720"/>
            <a:ext cx="293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523880" y="268272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142640" y="2286000"/>
            <a:ext cx="435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523880" y="1295280"/>
            <a:ext cx="2819520" cy="2743200"/>
          </a:xfrm>
          <a:prstGeom prst="ellipse">
            <a:avLst/>
          </a:prstGeom>
          <a:noFill/>
          <a:ln w="1260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945160" y="225900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677960" y="28972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95280" y="5229360"/>
            <a:ext cx="1778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(j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R(j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215080" y="4110120"/>
            <a:ext cx="43884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2048040" y="2759040"/>
            <a:ext cx="860400" cy="2028960"/>
          </a:xfrm>
          <a:prstGeom prst="line">
            <a:avLst/>
          </a:prstGeom>
          <a:ln w="1260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30040" y="3201840"/>
            <a:ext cx="11289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f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rot="120000">
            <a:off x="2023920" y="1940760"/>
            <a:ext cx="1167120" cy="162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24" y="21599"/>
                </a:moveTo>
                <a:arcTo wR="10800" hR="10800" stAng="5456155" swAng="5343845"/>
                <a:lnTo>
                  <a:pt x="10800" y="10800"/>
                </a:lnTo>
                <a:close/>
              </a:path>
              <a:path fill="none" w="21600" h="21600">
                <a:moveTo>
                  <a:pt x="10624" y="21599"/>
                </a:moveTo>
                <a:arcTo wR="10800" hR="10800" stAng="5456155" swAng="5343845"/>
              </a:path>
            </a:pathLst>
          </a:custGeom>
          <a:noFill/>
          <a:ln cap="rnd"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327400" y="2708280"/>
            <a:ext cx="515880" cy="2521080"/>
          </a:xfrm>
          <a:custGeom>
            <a:avLst/>
            <a:gdLst/>
            <a:ahLst/>
            <a:rect l="l" t="t" r="r" b="b"/>
            <a:pathLst>
              <a:path w="325" h="1588">
                <a:moveTo>
                  <a:pt x="235" y="1588"/>
                </a:moveTo>
                <a:cubicBezTo>
                  <a:pt x="223" y="1474"/>
                  <a:pt x="212" y="1361"/>
                  <a:pt x="189" y="1270"/>
                </a:cubicBezTo>
                <a:cubicBezTo>
                  <a:pt x="166" y="1179"/>
                  <a:pt x="122" y="1127"/>
                  <a:pt x="99" y="1044"/>
                </a:cubicBezTo>
                <a:cubicBezTo>
                  <a:pt x="76" y="961"/>
                  <a:pt x="68" y="863"/>
                  <a:pt x="53" y="772"/>
                </a:cubicBezTo>
                <a:cubicBezTo>
                  <a:pt x="38" y="681"/>
                  <a:pt x="0" y="597"/>
                  <a:pt x="8" y="499"/>
                </a:cubicBezTo>
                <a:cubicBezTo>
                  <a:pt x="16" y="401"/>
                  <a:pt x="61" y="257"/>
                  <a:pt x="99" y="182"/>
                </a:cubicBezTo>
                <a:cubicBezTo>
                  <a:pt x="137" y="107"/>
                  <a:pt x="198" y="76"/>
                  <a:pt x="235" y="46"/>
                </a:cubicBezTo>
                <a:cubicBezTo>
                  <a:pt x="272" y="16"/>
                  <a:pt x="298" y="8"/>
                  <a:pt x="325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778800" y="2301840"/>
            <a:ext cx="0" cy="239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667400" y="2736720"/>
            <a:ext cx="293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413320" y="268272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032080" y="2286000"/>
            <a:ext cx="435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413320" y="1295280"/>
            <a:ext cx="2819520" cy="2743200"/>
          </a:xfrm>
          <a:prstGeom prst="ellipse">
            <a:avLst/>
          </a:prstGeom>
          <a:noFill/>
          <a:ln w="1260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834600" y="225900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708360" y="4437000"/>
            <a:ext cx="2592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(j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e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-dj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(j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727960" y="1916280"/>
            <a:ext cx="43884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H="1" flipV="1">
            <a:off x="4932000" y="1412640"/>
            <a:ext cx="1865160" cy="1346040"/>
          </a:xfrm>
          <a:prstGeom prst="line">
            <a:avLst/>
          </a:prstGeom>
          <a:ln w="1260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7020000" y="4149720"/>
            <a:ext cx="1800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fase / Margen de modulo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087880" y="1736640"/>
            <a:ext cx="2232000" cy="3492720"/>
          </a:xfrm>
          <a:custGeom>
            <a:avLst/>
            <a:gdLst/>
            <a:ahLst/>
            <a:rect l="l" t="t" r="r" b="b"/>
            <a:pathLst>
              <a:path w="1406" h="2200">
                <a:moveTo>
                  <a:pt x="809" y="2200"/>
                </a:moveTo>
                <a:cubicBezTo>
                  <a:pt x="801" y="2124"/>
                  <a:pt x="794" y="2049"/>
                  <a:pt x="764" y="1973"/>
                </a:cubicBezTo>
                <a:cubicBezTo>
                  <a:pt x="734" y="1897"/>
                  <a:pt x="674" y="1822"/>
                  <a:pt x="628" y="1746"/>
                </a:cubicBezTo>
                <a:cubicBezTo>
                  <a:pt x="582" y="1670"/>
                  <a:pt x="582" y="1648"/>
                  <a:pt x="491" y="1520"/>
                </a:cubicBezTo>
                <a:cubicBezTo>
                  <a:pt x="400" y="1392"/>
                  <a:pt x="159" y="1149"/>
                  <a:pt x="83" y="975"/>
                </a:cubicBezTo>
                <a:cubicBezTo>
                  <a:pt x="7" y="801"/>
                  <a:pt x="0" y="620"/>
                  <a:pt x="38" y="476"/>
                </a:cubicBezTo>
                <a:cubicBezTo>
                  <a:pt x="76" y="332"/>
                  <a:pt x="182" y="188"/>
                  <a:pt x="310" y="113"/>
                </a:cubicBezTo>
                <a:cubicBezTo>
                  <a:pt x="438" y="38"/>
                  <a:pt x="643" y="0"/>
                  <a:pt x="809" y="23"/>
                </a:cubicBezTo>
                <a:cubicBezTo>
                  <a:pt x="975" y="46"/>
                  <a:pt x="1210" y="174"/>
                  <a:pt x="1308" y="250"/>
                </a:cubicBezTo>
                <a:cubicBezTo>
                  <a:pt x="1406" y="326"/>
                  <a:pt x="1402" y="401"/>
                  <a:pt x="1399" y="47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981760" y="2244600"/>
            <a:ext cx="1163520" cy="2309760"/>
          </a:xfrm>
          <a:custGeom>
            <a:avLst/>
            <a:gdLst/>
            <a:ahLst/>
            <a:rect l="l" t="t" r="r" b="b"/>
            <a:pathLst>
              <a:path w="733" h="1455">
                <a:moveTo>
                  <a:pt x="274" y="1455"/>
                </a:moveTo>
                <a:cubicBezTo>
                  <a:pt x="250" y="1270"/>
                  <a:pt x="227" y="1086"/>
                  <a:pt x="189" y="944"/>
                </a:cubicBezTo>
                <a:cubicBezTo>
                  <a:pt x="151" y="802"/>
                  <a:pt x="76" y="717"/>
                  <a:pt x="48" y="604"/>
                </a:cubicBezTo>
                <a:cubicBezTo>
                  <a:pt x="20" y="491"/>
                  <a:pt x="0" y="354"/>
                  <a:pt x="19" y="264"/>
                </a:cubicBezTo>
                <a:cubicBezTo>
                  <a:pt x="38" y="174"/>
                  <a:pt x="109" y="108"/>
                  <a:pt x="161" y="66"/>
                </a:cubicBezTo>
                <a:cubicBezTo>
                  <a:pt x="213" y="24"/>
                  <a:pt x="279" y="18"/>
                  <a:pt x="331" y="9"/>
                </a:cubicBezTo>
                <a:cubicBezTo>
                  <a:pt x="383" y="0"/>
                  <a:pt x="426" y="4"/>
                  <a:pt x="473" y="9"/>
                </a:cubicBezTo>
                <a:cubicBezTo>
                  <a:pt x="520" y="14"/>
                  <a:pt x="582" y="23"/>
                  <a:pt x="615" y="37"/>
                </a:cubicBezTo>
                <a:cubicBezTo>
                  <a:pt x="648" y="51"/>
                  <a:pt x="657" y="70"/>
                  <a:pt x="671" y="94"/>
                </a:cubicBezTo>
                <a:cubicBezTo>
                  <a:pt x="685" y="118"/>
                  <a:pt x="691" y="141"/>
                  <a:pt x="700" y="179"/>
                </a:cubicBezTo>
                <a:cubicBezTo>
                  <a:pt x="709" y="217"/>
                  <a:pt x="733" y="283"/>
                  <a:pt x="728" y="321"/>
                </a:cubicBezTo>
                <a:cubicBezTo>
                  <a:pt x="723" y="359"/>
                  <a:pt x="699" y="382"/>
                  <a:pt x="671" y="406"/>
                </a:cubicBezTo>
                <a:cubicBezTo>
                  <a:pt x="643" y="430"/>
                  <a:pt x="591" y="458"/>
                  <a:pt x="558" y="463"/>
                </a:cubicBezTo>
                <a:cubicBezTo>
                  <a:pt x="525" y="468"/>
                  <a:pt x="497" y="448"/>
                  <a:pt x="473" y="434"/>
                </a:cubicBezTo>
                <a:cubicBezTo>
                  <a:pt x="449" y="420"/>
                  <a:pt x="426" y="396"/>
                  <a:pt x="416" y="377"/>
                </a:cubicBezTo>
                <a:cubicBezTo>
                  <a:pt x="406" y="358"/>
                  <a:pt x="416" y="340"/>
                  <a:pt x="416" y="321"/>
                </a:cubicBezTo>
                <a:cubicBezTo>
                  <a:pt x="416" y="302"/>
                  <a:pt x="406" y="278"/>
                  <a:pt x="416" y="264"/>
                </a:cubicBezTo>
                <a:cubicBezTo>
                  <a:pt x="426" y="250"/>
                  <a:pt x="464" y="241"/>
                  <a:pt x="473" y="236"/>
                </a:cubicBezTo>
              </a:path>
            </a:pathLst>
          </a:custGeom>
          <a:noFill/>
          <a:ln w="28440">
            <a:solidFill>
              <a:srgbClr val="00cc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istemas de fase no-míni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5" name=""/>
              <p:cNvSpPr txBox="1"/>
              <p:nvPr/>
            </p:nvSpPr>
            <p:spPr>
              <a:xfrm>
                <a:off x="755640" y="1916280"/>
                <a:ext cx="54626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τ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j</m:t>
                                </m:r>
                                <m:r>
                                  <m:t xml:space="preserve">ω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j</m:t>
                            </m:r>
                            <m:r>
                              <m:t xml:space="preserve">ω</m:t>
                            </m:r>
                            <m:r>
                              <m:t xml:space="preserve">±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jω</m:t>
                            </m:r>
                            <m:r>
                              <m:t xml:space="preserve">(</m:t>
                            </m:r>
                            <m:r>
                              <m:t xml:space="preserve">τjω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468360" y="3141720"/>
                <a:ext cx="8459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g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ωd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j</m:t>
                    </m:r>
                    <m:r>
                      <m:t xml:space="preserve">ω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τjω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7" name=""/>
          <p:cNvSpPr/>
          <p:nvPr/>
        </p:nvSpPr>
        <p:spPr>
          <a:xfrm>
            <a:off x="6804000" y="1700280"/>
            <a:ext cx="17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 módulo no se modi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468360" y="3573360"/>
                <a:ext cx="8459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g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ωd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j</m:t>
                    </m:r>
                    <m:r>
                      <m:t xml:space="preserve">ω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τjω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9" name=""/>
          <p:cNvSpPr/>
          <p:nvPr/>
        </p:nvSpPr>
        <p:spPr>
          <a:xfrm>
            <a:off x="2124000" y="1773360"/>
            <a:ext cx="792360" cy="576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995640" y="2997360"/>
            <a:ext cx="1225800" cy="1150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531800" y="4681440"/>
            <a:ext cx="0" cy="173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036800" y="5584680"/>
            <a:ext cx="317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774600" y="55040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828360" y="44370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074600" y="5546880"/>
            <a:ext cx="5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541520" y="4791240"/>
            <a:ext cx="2201760" cy="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816360" y="460368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0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1332000" y="4796640"/>
            <a:ext cx="2324160" cy="746280"/>
          </a:xfrm>
          <a:custGeom>
            <a:avLst/>
            <a:gdLst/>
            <a:ahLst/>
            <a:rect l="l" t="t" r="r" b="b"/>
            <a:pathLst>
              <a:path w="1363" h="462">
                <a:moveTo>
                  <a:pt x="0" y="3"/>
                </a:moveTo>
                <a:cubicBezTo>
                  <a:pt x="79" y="1"/>
                  <a:pt x="159" y="0"/>
                  <a:pt x="233" y="19"/>
                </a:cubicBezTo>
                <a:cubicBezTo>
                  <a:pt x="307" y="38"/>
                  <a:pt x="388" y="82"/>
                  <a:pt x="444" y="120"/>
                </a:cubicBezTo>
                <a:cubicBezTo>
                  <a:pt x="500" y="158"/>
                  <a:pt x="512" y="203"/>
                  <a:pt x="568" y="245"/>
                </a:cubicBezTo>
                <a:cubicBezTo>
                  <a:pt x="624" y="287"/>
                  <a:pt x="669" y="336"/>
                  <a:pt x="779" y="370"/>
                </a:cubicBezTo>
                <a:cubicBezTo>
                  <a:pt x="889" y="404"/>
                  <a:pt x="1134" y="434"/>
                  <a:pt x="1231" y="448"/>
                </a:cubicBezTo>
                <a:cubicBezTo>
                  <a:pt x="1328" y="462"/>
                  <a:pt x="1345" y="459"/>
                  <a:pt x="1363" y="45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286000" y="5486400"/>
            <a:ext cx="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039760" y="5745240"/>
            <a:ext cx="5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/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282760" y="51735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1526760" y="51609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960480" y="491652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5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572080" y="4397400"/>
            <a:ext cx="0" cy="173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076720" y="5300640"/>
            <a:ext cx="317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814880" y="5219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868640" y="41529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114880" y="526248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592600" y="6084720"/>
            <a:ext cx="2202120" cy="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8172360" y="587700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90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580000" y="5300640"/>
            <a:ext cx="2324160" cy="746280"/>
          </a:xfrm>
          <a:custGeom>
            <a:avLst/>
            <a:gdLst/>
            <a:ahLst/>
            <a:rect l="l" t="t" r="r" b="b"/>
            <a:pathLst>
              <a:path w="1363" h="462">
                <a:moveTo>
                  <a:pt x="0" y="3"/>
                </a:moveTo>
                <a:cubicBezTo>
                  <a:pt x="79" y="1"/>
                  <a:pt x="159" y="0"/>
                  <a:pt x="233" y="19"/>
                </a:cubicBezTo>
                <a:cubicBezTo>
                  <a:pt x="307" y="38"/>
                  <a:pt x="388" y="82"/>
                  <a:pt x="444" y="120"/>
                </a:cubicBezTo>
                <a:cubicBezTo>
                  <a:pt x="500" y="158"/>
                  <a:pt x="512" y="203"/>
                  <a:pt x="568" y="245"/>
                </a:cubicBezTo>
                <a:cubicBezTo>
                  <a:pt x="624" y="287"/>
                  <a:pt x="669" y="336"/>
                  <a:pt x="779" y="370"/>
                </a:cubicBezTo>
                <a:cubicBezTo>
                  <a:pt x="889" y="404"/>
                  <a:pt x="1134" y="434"/>
                  <a:pt x="1231" y="448"/>
                </a:cubicBezTo>
                <a:cubicBezTo>
                  <a:pt x="1328" y="462"/>
                  <a:pt x="1345" y="459"/>
                  <a:pt x="1363" y="45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326280" y="5202360"/>
            <a:ext cx="0" cy="16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080040" y="5460840"/>
            <a:ext cx="5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/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000760" y="463248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5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156360" y="4005360"/>
            <a:ext cx="259092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 cero desfasa en lugar de adelantar la f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¿Por qué es dificil el control de un sistema con fase no-mínim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889360" y="2301840"/>
            <a:ext cx="0" cy="239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77960" y="2736720"/>
            <a:ext cx="293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523880" y="268272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142640" y="2286000"/>
            <a:ext cx="435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523880" y="1295280"/>
            <a:ext cx="2819520" cy="2743200"/>
          </a:xfrm>
          <a:prstGeom prst="ellipse">
            <a:avLst/>
          </a:prstGeom>
          <a:noFill/>
          <a:ln w="1260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945160" y="225900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677960" y="28972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95280" y="5229360"/>
            <a:ext cx="1778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(j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R(j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215080" y="4110120"/>
            <a:ext cx="43884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H="1">
            <a:off x="2048040" y="2759040"/>
            <a:ext cx="860400" cy="2028960"/>
          </a:xfrm>
          <a:prstGeom prst="line">
            <a:avLst/>
          </a:prstGeom>
          <a:ln w="1260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30040" y="3201840"/>
            <a:ext cx="11289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f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rot="120000">
            <a:off x="2023920" y="1940760"/>
            <a:ext cx="1167120" cy="162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24" y="21599"/>
                </a:moveTo>
                <a:arcTo wR="10800" hR="10800" stAng="5456155" swAng="5343845"/>
                <a:lnTo>
                  <a:pt x="10800" y="10800"/>
                </a:lnTo>
                <a:close/>
              </a:path>
              <a:path fill="none" w="21600" h="21600">
                <a:moveTo>
                  <a:pt x="10624" y="21599"/>
                </a:moveTo>
                <a:arcTo wR="10800" hR="10800" stAng="5456155" swAng="5343845"/>
              </a:path>
            </a:pathLst>
          </a:custGeom>
          <a:noFill/>
          <a:ln cap="rnd"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327400" y="2708280"/>
            <a:ext cx="515880" cy="2521080"/>
          </a:xfrm>
          <a:custGeom>
            <a:avLst/>
            <a:gdLst/>
            <a:ahLst/>
            <a:rect l="l" t="t" r="r" b="b"/>
            <a:pathLst>
              <a:path w="325" h="1588">
                <a:moveTo>
                  <a:pt x="235" y="1588"/>
                </a:moveTo>
                <a:cubicBezTo>
                  <a:pt x="223" y="1474"/>
                  <a:pt x="212" y="1361"/>
                  <a:pt x="189" y="1270"/>
                </a:cubicBezTo>
                <a:cubicBezTo>
                  <a:pt x="166" y="1179"/>
                  <a:pt x="122" y="1127"/>
                  <a:pt x="99" y="1044"/>
                </a:cubicBezTo>
                <a:cubicBezTo>
                  <a:pt x="76" y="961"/>
                  <a:pt x="68" y="863"/>
                  <a:pt x="53" y="772"/>
                </a:cubicBezTo>
                <a:cubicBezTo>
                  <a:pt x="38" y="681"/>
                  <a:pt x="0" y="597"/>
                  <a:pt x="8" y="499"/>
                </a:cubicBezTo>
                <a:cubicBezTo>
                  <a:pt x="16" y="401"/>
                  <a:pt x="61" y="257"/>
                  <a:pt x="99" y="182"/>
                </a:cubicBezTo>
                <a:cubicBezTo>
                  <a:pt x="137" y="107"/>
                  <a:pt x="198" y="76"/>
                  <a:pt x="235" y="46"/>
                </a:cubicBezTo>
                <a:cubicBezTo>
                  <a:pt x="272" y="16"/>
                  <a:pt x="298" y="8"/>
                  <a:pt x="325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6778800" y="2301840"/>
            <a:ext cx="0" cy="239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667400" y="2736720"/>
            <a:ext cx="293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413320" y="268272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032080" y="2286000"/>
            <a:ext cx="435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413320" y="1295280"/>
            <a:ext cx="2819520" cy="2743200"/>
          </a:xfrm>
          <a:prstGeom prst="ellipse">
            <a:avLst/>
          </a:prstGeom>
          <a:noFill/>
          <a:ln w="1260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834600" y="225900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211640" y="4365720"/>
            <a:ext cx="1871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(j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 R(j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727960" y="1916280"/>
            <a:ext cx="43884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4859280" y="2759040"/>
            <a:ext cx="1938240" cy="1101600"/>
          </a:xfrm>
          <a:prstGeom prst="line">
            <a:avLst/>
          </a:prstGeom>
          <a:ln w="1260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7020000" y="4149720"/>
            <a:ext cx="1800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fase / Margen de modulo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568840" y="2336760"/>
            <a:ext cx="1235160" cy="2820960"/>
          </a:xfrm>
          <a:custGeom>
            <a:avLst/>
            <a:gdLst/>
            <a:ahLst/>
            <a:rect l="l" t="t" r="r" b="b"/>
            <a:pathLst>
              <a:path w="778" h="1777">
                <a:moveTo>
                  <a:pt x="642" y="1777"/>
                </a:moveTo>
                <a:cubicBezTo>
                  <a:pt x="619" y="1607"/>
                  <a:pt x="597" y="1437"/>
                  <a:pt x="506" y="1278"/>
                </a:cubicBezTo>
                <a:cubicBezTo>
                  <a:pt x="415" y="1119"/>
                  <a:pt x="181" y="968"/>
                  <a:pt x="98" y="824"/>
                </a:cubicBezTo>
                <a:cubicBezTo>
                  <a:pt x="15" y="680"/>
                  <a:pt x="0" y="537"/>
                  <a:pt x="7" y="416"/>
                </a:cubicBezTo>
                <a:cubicBezTo>
                  <a:pt x="14" y="295"/>
                  <a:pt x="90" y="166"/>
                  <a:pt x="143" y="98"/>
                </a:cubicBezTo>
                <a:cubicBezTo>
                  <a:pt x="196" y="30"/>
                  <a:pt x="257" y="16"/>
                  <a:pt x="325" y="8"/>
                </a:cubicBezTo>
                <a:cubicBezTo>
                  <a:pt x="393" y="0"/>
                  <a:pt x="483" y="30"/>
                  <a:pt x="551" y="53"/>
                </a:cubicBezTo>
                <a:cubicBezTo>
                  <a:pt x="619" y="76"/>
                  <a:pt x="695" y="121"/>
                  <a:pt x="733" y="144"/>
                </a:cubicBezTo>
                <a:cubicBezTo>
                  <a:pt x="771" y="167"/>
                  <a:pt x="774" y="178"/>
                  <a:pt x="778" y="18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¿Por qué, ante la duda, se debe escoger una ganancia mayor del proces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338640" y="2581200"/>
            <a:ext cx="0" cy="256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11280" y="3860640"/>
            <a:ext cx="367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008080" y="3282840"/>
            <a:ext cx="1333440" cy="2714760"/>
          </a:xfrm>
          <a:custGeom>
            <a:avLst/>
            <a:gdLst/>
            <a:ahLst/>
            <a:rect l="l" t="t" r="r" b="b"/>
            <a:pathLst>
              <a:path w="840" h="1710">
                <a:moveTo>
                  <a:pt x="839" y="365"/>
                </a:moveTo>
                <a:lnTo>
                  <a:pt x="774" y="260"/>
                </a:lnTo>
                <a:lnTo>
                  <a:pt x="709" y="166"/>
                </a:lnTo>
                <a:lnTo>
                  <a:pt x="672" y="122"/>
                </a:lnTo>
                <a:lnTo>
                  <a:pt x="631" y="83"/>
                </a:lnTo>
                <a:lnTo>
                  <a:pt x="595" y="50"/>
                </a:lnTo>
                <a:lnTo>
                  <a:pt x="550" y="28"/>
                </a:lnTo>
                <a:lnTo>
                  <a:pt x="501" y="11"/>
                </a:lnTo>
                <a:lnTo>
                  <a:pt x="444" y="0"/>
                </a:lnTo>
                <a:lnTo>
                  <a:pt x="387" y="0"/>
                </a:lnTo>
                <a:lnTo>
                  <a:pt x="322" y="0"/>
                </a:lnTo>
                <a:lnTo>
                  <a:pt x="265" y="5"/>
                </a:lnTo>
                <a:lnTo>
                  <a:pt x="208" y="11"/>
                </a:lnTo>
                <a:lnTo>
                  <a:pt x="159" y="16"/>
                </a:lnTo>
                <a:lnTo>
                  <a:pt x="118" y="28"/>
                </a:lnTo>
                <a:lnTo>
                  <a:pt x="90" y="39"/>
                </a:lnTo>
                <a:lnTo>
                  <a:pt x="69" y="50"/>
                </a:lnTo>
                <a:lnTo>
                  <a:pt x="53" y="66"/>
                </a:lnTo>
                <a:lnTo>
                  <a:pt x="41" y="83"/>
                </a:lnTo>
                <a:lnTo>
                  <a:pt x="29" y="122"/>
                </a:lnTo>
                <a:lnTo>
                  <a:pt x="21" y="171"/>
                </a:lnTo>
                <a:lnTo>
                  <a:pt x="8" y="232"/>
                </a:lnTo>
                <a:lnTo>
                  <a:pt x="0" y="304"/>
                </a:lnTo>
                <a:lnTo>
                  <a:pt x="4" y="382"/>
                </a:lnTo>
                <a:lnTo>
                  <a:pt x="8" y="420"/>
                </a:lnTo>
                <a:lnTo>
                  <a:pt x="21" y="459"/>
                </a:lnTo>
                <a:lnTo>
                  <a:pt x="41" y="498"/>
                </a:lnTo>
                <a:lnTo>
                  <a:pt x="69" y="542"/>
                </a:lnTo>
                <a:lnTo>
                  <a:pt x="102" y="592"/>
                </a:lnTo>
                <a:lnTo>
                  <a:pt x="139" y="636"/>
                </a:lnTo>
                <a:lnTo>
                  <a:pt x="175" y="680"/>
                </a:lnTo>
                <a:lnTo>
                  <a:pt x="212" y="724"/>
                </a:lnTo>
                <a:lnTo>
                  <a:pt x="240" y="763"/>
                </a:lnTo>
                <a:lnTo>
                  <a:pt x="261" y="796"/>
                </a:lnTo>
                <a:lnTo>
                  <a:pt x="277" y="818"/>
                </a:lnTo>
                <a:lnTo>
                  <a:pt x="285" y="841"/>
                </a:lnTo>
                <a:lnTo>
                  <a:pt x="297" y="863"/>
                </a:lnTo>
                <a:lnTo>
                  <a:pt x="301" y="874"/>
                </a:lnTo>
                <a:lnTo>
                  <a:pt x="301" y="890"/>
                </a:lnTo>
                <a:lnTo>
                  <a:pt x="306" y="913"/>
                </a:lnTo>
                <a:lnTo>
                  <a:pt x="310" y="940"/>
                </a:lnTo>
                <a:lnTo>
                  <a:pt x="318" y="979"/>
                </a:lnTo>
                <a:lnTo>
                  <a:pt x="322" y="1034"/>
                </a:lnTo>
                <a:lnTo>
                  <a:pt x="330" y="1090"/>
                </a:lnTo>
                <a:lnTo>
                  <a:pt x="338" y="1150"/>
                </a:lnTo>
                <a:lnTo>
                  <a:pt x="342" y="1211"/>
                </a:lnTo>
                <a:lnTo>
                  <a:pt x="350" y="1272"/>
                </a:lnTo>
                <a:lnTo>
                  <a:pt x="354" y="1327"/>
                </a:lnTo>
                <a:lnTo>
                  <a:pt x="359" y="1372"/>
                </a:lnTo>
                <a:lnTo>
                  <a:pt x="363" y="1410"/>
                </a:lnTo>
                <a:lnTo>
                  <a:pt x="363" y="1438"/>
                </a:lnTo>
                <a:lnTo>
                  <a:pt x="363" y="1488"/>
                </a:lnTo>
                <a:lnTo>
                  <a:pt x="359" y="1526"/>
                </a:lnTo>
                <a:lnTo>
                  <a:pt x="359" y="1565"/>
                </a:lnTo>
                <a:lnTo>
                  <a:pt x="359" y="1648"/>
                </a:lnTo>
                <a:lnTo>
                  <a:pt x="359" y="1681"/>
                </a:lnTo>
                <a:lnTo>
                  <a:pt x="359" y="1709"/>
                </a:lnTo>
              </a:path>
            </a:pathLst>
          </a:custGeom>
          <a:noFill/>
          <a:ln cap="rnd" w="255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043000" y="3860640"/>
            <a:ext cx="124164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1433520" y="372420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054080" y="332892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515960" y="3710160"/>
            <a:ext cx="45720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546200" y="4686480"/>
            <a:ext cx="1865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(j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G(j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643280" y="1989000"/>
            <a:ext cx="424656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 dejamos un margen de ganancia pequeño, y luego la ganancia del proceso es menor siempre se está en el lado  segu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a el mismo margen de ganancia, si la ganancia del proceso se escoge la menor se tendrá un regulador quizá con excesiva ganancia, si la del proceso resulta ser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fuerzos d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1758960" y="1914480"/>
                <a:ext cx="5473800" cy="14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G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u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GR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GR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R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GR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3" name=""/>
          <p:cNvSpPr/>
          <p:nvPr/>
        </p:nvSpPr>
        <p:spPr>
          <a:xfrm>
            <a:off x="2133720" y="38098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828800" y="4495680"/>
            <a:ext cx="4876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858000" y="4191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85800" y="3733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log| . 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133720" y="4457880"/>
            <a:ext cx="4190760" cy="1485720"/>
          </a:xfrm>
          <a:custGeom>
            <a:avLst/>
            <a:gdLst/>
            <a:ahLst/>
            <a:rect l="l" t="t" r="r" b="b"/>
            <a:pathLst>
              <a:path w="2640" h="936">
                <a:moveTo>
                  <a:pt x="0" y="24"/>
                </a:moveTo>
                <a:cubicBezTo>
                  <a:pt x="96" y="24"/>
                  <a:pt x="192" y="24"/>
                  <a:pt x="336" y="24"/>
                </a:cubicBezTo>
                <a:cubicBezTo>
                  <a:pt x="480" y="24"/>
                  <a:pt x="640" y="24"/>
                  <a:pt x="864" y="24"/>
                </a:cubicBezTo>
                <a:cubicBezTo>
                  <a:pt x="1088" y="24"/>
                  <a:pt x="1520" y="24"/>
                  <a:pt x="1680" y="24"/>
                </a:cubicBezTo>
                <a:cubicBezTo>
                  <a:pt x="1840" y="24"/>
                  <a:pt x="1776" y="24"/>
                  <a:pt x="1824" y="24"/>
                </a:cubicBezTo>
                <a:cubicBezTo>
                  <a:pt x="1872" y="24"/>
                  <a:pt x="1912" y="0"/>
                  <a:pt x="1968" y="24"/>
                </a:cubicBezTo>
                <a:cubicBezTo>
                  <a:pt x="2024" y="48"/>
                  <a:pt x="2088" y="96"/>
                  <a:pt x="2160" y="168"/>
                </a:cubicBezTo>
                <a:cubicBezTo>
                  <a:pt x="2232" y="240"/>
                  <a:pt x="2336" y="360"/>
                  <a:pt x="2400" y="456"/>
                </a:cubicBezTo>
                <a:cubicBezTo>
                  <a:pt x="2464" y="552"/>
                  <a:pt x="2504" y="664"/>
                  <a:pt x="2544" y="744"/>
                </a:cubicBezTo>
                <a:cubicBezTo>
                  <a:pt x="2584" y="824"/>
                  <a:pt x="2612" y="880"/>
                  <a:pt x="2640" y="93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133720" y="4711680"/>
            <a:ext cx="3352680" cy="1765440"/>
          </a:xfrm>
          <a:custGeom>
            <a:avLst/>
            <a:gdLst/>
            <a:ahLst/>
            <a:rect l="l" t="t" r="r" b="b"/>
            <a:pathLst>
              <a:path w="2352" h="776">
                <a:moveTo>
                  <a:pt x="0" y="8"/>
                </a:moveTo>
                <a:cubicBezTo>
                  <a:pt x="88" y="8"/>
                  <a:pt x="176" y="8"/>
                  <a:pt x="288" y="8"/>
                </a:cubicBezTo>
                <a:cubicBezTo>
                  <a:pt x="400" y="8"/>
                  <a:pt x="544" y="8"/>
                  <a:pt x="672" y="8"/>
                </a:cubicBezTo>
                <a:cubicBezTo>
                  <a:pt x="800" y="8"/>
                  <a:pt x="952" y="0"/>
                  <a:pt x="1056" y="8"/>
                </a:cubicBezTo>
                <a:cubicBezTo>
                  <a:pt x="1160" y="16"/>
                  <a:pt x="1232" y="32"/>
                  <a:pt x="1296" y="56"/>
                </a:cubicBezTo>
                <a:cubicBezTo>
                  <a:pt x="1360" y="80"/>
                  <a:pt x="1384" y="136"/>
                  <a:pt x="1440" y="152"/>
                </a:cubicBezTo>
                <a:cubicBezTo>
                  <a:pt x="1496" y="168"/>
                  <a:pt x="1568" y="152"/>
                  <a:pt x="1632" y="152"/>
                </a:cubicBezTo>
                <a:cubicBezTo>
                  <a:pt x="1696" y="152"/>
                  <a:pt x="1720" y="72"/>
                  <a:pt x="1824" y="152"/>
                </a:cubicBezTo>
                <a:cubicBezTo>
                  <a:pt x="1928" y="232"/>
                  <a:pt x="2168" y="528"/>
                  <a:pt x="2256" y="632"/>
                </a:cubicBezTo>
                <a:cubicBezTo>
                  <a:pt x="2344" y="736"/>
                  <a:pt x="2336" y="752"/>
                  <a:pt x="2352" y="77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5334120" y="45720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4800600" y="3733920"/>
                <a:ext cx="80028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1" name=""/>
              <p:cNvSpPr txBox="1"/>
              <p:nvPr/>
            </p:nvSpPr>
            <p:spPr>
              <a:xfrm>
                <a:off x="4572000" y="5334120"/>
                <a:ext cx="29052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G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62" name=""/>
          <p:cNvSpPr/>
          <p:nvPr/>
        </p:nvSpPr>
        <p:spPr>
          <a:xfrm>
            <a:off x="5334120" y="5181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fuerzos d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09480" y="4876920"/>
            <a:ext cx="2895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ancho de banda grande implica esfuerzos de control elev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radas sinusoid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2209680"/>
            <a:ext cx="1828800" cy="1067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2743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2743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2286000"/>
            <a:ext cx="1349280" cy="814320"/>
          </a:xfrm>
          <a:custGeom>
            <a:avLst/>
            <a:gdLst/>
            <a:ahLst/>
            <a:rect l="l" t="t" r="r" b="b"/>
            <a:pathLst>
              <a:path w="850" h="513">
                <a:moveTo>
                  <a:pt x="0" y="258"/>
                </a:moveTo>
                <a:cubicBezTo>
                  <a:pt x="17" y="228"/>
                  <a:pt x="35" y="199"/>
                  <a:pt x="47" y="172"/>
                </a:cubicBezTo>
                <a:cubicBezTo>
                  <a:pt x="59" y="145"/>
                  <a:pt x="62" y="116"/>
                  <a:pt x="70" y="94"/>
                </a:cubicBezTo>
                <a:cubicBezTo>
                  <a:pt x="78" y="72"/>
                  <a:pt x="86" y="55"/>
                  <a:pt x="94" y="40"/>
                </a:cubicBezTo>
                <a:cubicBezTo>
                  <a:pt x="102" y="25"/>
                  <a:pt x="105" y="2"/>
                  <a:pt x="117" y="1"/>
                </a:cubicBezTo>
                <a:cubicBezTo>
                  <a:pt x="129" y="0"/>
                  <a:pt x="154" y="18"/>
                  <a:pt x="164" y="32"/>
                </a:cubicBezTo>
                <a:cubicBezTo>
                  <a:pt x="174" y="46"/>
                  <a:pt x="170" y="60"/>
                  <a:pt x="179" y="86"/>
                </a:cubicBezTo>
                <a:cubicBezTo>
                  <a:pt x="188" y="112"/>
                  <a:pt x="209" y="163"/>
                  <a:pt x="218" y="188"/>
                </a:cubicBezTo>
                <a:cubicBezTo>
                  <a:pt x="227" y="213"/>
                  <a:pt x="228" y="206"/>
                  <a:pt x="234" y="234"/>
                </a:cubicBezTo>
                <a:cubicBezTo>
                  <a:pt x="240" y="262"/>
                  <a:pt x="249" y="329"/>
                  <a:pt x="257" y="359"/>
                </a:cubicBezTo>
                <a:cubicBezTo>
                  <a:pt x="265" y="389"/>
                  <a:pt x="272" y="397"/>
                  <a:pt x="281" y="414"/>
                </a:cubicBezTo>
                <a:cubicBezTo>
                  <a:pt x="290" y="431"/>
                  <a:pt x="306" y="445"/>
                  <a:pt x="312" y="460"/>
                </a:cubicBezTo>
                <a:cubicBezTo>
                  <a:pt x="318" y="475"/>
                  <a:pt x="310" y="501"/>
                  <a:pt x="320" y="507"/>
                </a:cubicBezTo>
                <a:cubicBezTo>
                  <a:pt x="330" y="513"/>
                  <a:pt x="360" y="509"/>
                  <a:pt x="374" y="499"/>
                </a:cubicBezTo>
                <a:cubicBezTo>
                  <a:pt x="388" y="489"/>
                  <a:pt x="394" y="470"/>
                  <a:pt x="405" y="445"/>
                </a:cubicBezTo>
                <a:cubicBezTo>
                  <a:pt x="416" y="420"/>
                  <a:pt x="428" y="377"/>
                  <a:pt x="437" y="351"/>
                </a:cubicBezTo>
                <a:cubicBezTo>
                  <a:pt x="446" y="325"/>
                  <a:pt x="455" y="308"/>
                  <a:pt x="460" y="289"/>
                </a:cubicBezTo>
                <a:cubicBezTo>
                  <a:pt x="465" y="270"/>
                  <a:pt x="464" y="253"/>
                  <a:pt x="468" y="234"/>
                </a:cubicBezTo>
                <a:cubicBezTo>
                  <a:pt x="472" y="215"/>
                  <a:pt x="478" y="190"/>
                  <a:pt x="483" y="172"/>
                </a:cubicBezTo>
                <a:cubicBezTo>
                  <a:pt x="488" y="154"/>
                  <a:pt x="493" y="142"/>
                  <a:pt x="499" y="125"/>
                </a:cubicBezTo>
                <a:cubicBezTo>
                  <a:pt x="505" y="108"/>
                  <a:pt x="516" y="90"/>
                  <a:pt x="522" y="71"/>
                </a:cubicBezTo>
                <a:cubicBezTo>
                  <a:pt x="528" y="52"/>
                  <a:pt x="526" y="13"/>
                  <a:pt x="538" y="8"/>
                </a:cubicBezTo>
                <a:cubicBezTo>
                  <a:pt x="550" y="3"/>
                  <a:pt x="574" y="17"/>
                  <a:pt x="592" y="40"/>
                </a:cubicBezTo>
                <a:cubicBezTo>
                  <a:pt x="610" y="63"/>
                  <a:pt x="635" y="119"/>
                  <a:pt x="647" y="149"/>
                </a:cubicBezTo>
                <a:cubicBezTo>
                  <a:pt x="659" y="179"/>
                  <a:pt x="657" y="192"/>
                  <a:pt x="663" y="219"/>
                </a:cubicBezTo>
                <a:cubicBezTo>
                  <a:pt x="669" y="246"/>
                  <a:pt x="681" y="289"/>
                  <a:pt x="686" y="312"/>
                </a:cubicBezTo>
                <a:cubicBezTo>
                  <a:pt x="691" y="335"/>
                  <a:pt x="691" y="343"/>
                  <a:pt x="694" y="359"/>
                </a:cubicBezTo>
                <a:cubicBezTo>
                  <a:pt x="697" y="375"/>
                  <a:pt x="696" y="392"/>
                  <a:pt x="702" y="406"/>
                </a:cubicBezTo>
                <a:cubicBezTo>
                  <a:pt x="708" y="420"/>
                  <a:pt x="723" y="431"/>
                  <a:pt x="733" y="445"/>
                </a:cubicBezTo>
                <a:cubicBezTo>
                  <a:pt x="743" y="459"/>
                  <a:pt x="750" y="487"/>
                  <a:pt x="764" y="492"/>
                </a:cubicBezTo>
                <a:cubicBezTo>
                  <a:pt x="778" y="497"/>
                  <a:pt x="804" y="488"/>
                  <a:pt x="818" y="476"/>
                </a:cubicBezTo>
                <a:cubicBezTo>
                  <a:pt x="832" y="464"/>
                  <a:pt x="845" y="431"/>
                  <a:pt x="850" y="4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96160" y="2449440"/>
            <a:ext cx="1349280" cy="493920"/>
          </a:xfrm>
          <a:custGeom>
            <a:avLst/>
            <a:gdLst/>
            <a:ahLst/>
            <a:rect l="l" t="t" r="r" b="b"/>
            <a:pathLst>
              <a:path w="850" h="513">
                <a:moveTo>
                  <a:pt x="0" y="258"/>
                </a:moveTo>
                <a:cubicBezTo>
                  <a:pt x="17" y="228"/>
                  <a:pt x="35" y="199"/>
                  <a:pt x="47" y="172"/>
                </a:cubicBezTo>
                <a:cubicBezTo>
                  <a:pt x="59" y="145"/>
                  <a:pt x="62" y="116"/>
                  <a:pt x="70" y="94"/>
                </a:cubicBezTo>
                <a:cubicBezTo>
                  <a:pt x="78" y="72"/>
                  <a:pt x="86" y="55"/>
                  <a:pt x="94" y="40"/>
                </a:cubicBezTo>
                <a:cubicBezTo>
                  <a:pt x="102" y="25"/>
                  <a:pt x="105" y="2"/>
                  <a:pt x="117" y="1"/>
                </a:cubicBezTo>
                <a:cubicBezTo>
                  <a:pt x="129" y="0"/>
                  <a:pt x="154" y="18"/>
                  <a:pt x="164" y="32"/>
                </a:cubicBezTo>
                <a:cubicBezTo>
                  <a:pt x="174" y="46"/>
                  <a:pt x="170" y="60"/>
                  <a:pt x="179" y="86"/>
                </a:cubicBezTo>
                <a:cubicBezTo>
                  <a:pt x="188" y="112"/>
                  <a:pt x="209" y="163"/>
                  <a:pt x="218" y="188"/>
                </a:cubicBezTo>
                <a:cubicBezTo>
                  <a:pt x="227" y="213"/>
                  <a:pt x="228" y="206"/>
                  <a:pt x="234" y="234"/>
                </a:cubicBezTo>
                <a:cubicBezTo>
                  <a:pt x="240" y="262"/>
                  <a:pt x="249" y="329"/>
                  <a:pt x="257" y="359"/>
                </a:cubicBezTo>
                <a:cubicBezTo>
                  <a:pt x="265" y="389"/>
                  <a:pt x="272" y="397"/>
                  <a:pt x="281" y="414"/>
                </a:cubicBezTo>
                <a:cubicBezTo>
                  <a:pt x="290" y="431"/>
                  <a:pt x="306" y="445"/>
                  <a:pt x="312" y="460"/>
                </a:cubicBezTo>
                <a:cubicBezTo>
                  <a:pt x="318" y="475"/>
                  <a:pt x="310" y="501"/>
                  <a:pt x="320" y="507"/>
                </a:cubicBezTo>
                <a:cubicBezTo>
                  <a:pt x="330" y="513"/>
                  <a:pt x="360" y="509"/>
                  <a:pt x="374" y="499"/>
                </a:cubicBezTo>
                <a:cubicBezTo>
                  <a:pt x="388" y="489"/>
                  <a:pt x="394" y="470"/>
                  <a:pt x="405" y="445"/>
                </a:cubicBezTo>
                <a:cubicBezTo>
                  <a:pt x="416" y="420"/>
                  <a:pt x="428" y="377"/>
                  <a:pt x="437" y="351"/>
                </a:cubicBezTo>
                <a:cubicBezTo>
                  <a:pt x="446" y="325"/>
                  <a:pt x="455" y="308"/>
                  <a:pt x="460" y="289"/>
                </a:cubicBezTo>
                <a:cubicBezTo>
                  <a:pt x="465" y="270"/>
                  <a:pt x="464" y="253"/>
                  <a:pt x="468" y="234"/>
                </a:cubicBezTo>
                <a:cubicBezTo>
                  <a:pt x="472" y="215"/>
                  <a:pt x="478" y="190"/>
                  <a:pt x="483" y="172"/>
                </a:cubicBezTo>
                <a:cubicBezTo>
                  <a:pt x="488" y="154"/>
                  <a:pt x="493" y="142"/>
                  <a:pt x="499" y="125"/>
                </a:cubicBezTo>
                <a:cubicBezTo>
                  <a:pt x="505" y="108"/>
                  <a:pt x="516" y="90"/>
                  <a:pt x="522" y="71"/>
                </a:cubicBezTo>
                <a:cubicBezTo>
                  <a:pt x="528" y="52"/>
                  <a:pt x="526" y="13"/>
                  <a:pt x="538" y="8"/>
                </a:cubicBezTo>
                <a:cubicBezTo>
                  <a:pt x="550" y="3"/>
                  <a:pt x="574" y="17"/>
                  <a:pt x="592" y="40"/>
                </a:cubicBezTo>
                <a:cubicBezTo>
                  <a:pt x="610" y="63"/>
                  <a:pt x="635" y="119"/>
                  <a:pt x="647" y="149"/>
                </a:cubicBezTo>
                <a:cubicBezTo>
                  <a:pt x="659" y="179"/>
                  <a:pt x="657" y="192"/>
                  <a:pt x="663" y="219"/>
                </a:cubicBezTo>
                <a:cubicBezTo>
                  <a:pt x="669" y="246"/>
                  <a:pt x="681" y="289"/>
                  <a:pt x="686" y="312"/>
                </a:cubicBezTo>
                <a:cubicBezTo>
                  <a:pt x="691" y="335"/>
                  <a:pt x="691" y="343"/>
                  <a:pt x="694" y="359"/>
                </a:cubicBezTo>
                <a:cubicBezTo>
                  <a:pt x="697" y="375"/>
                  <a:pt x="696" y="392"/>
                  <a:pt x="702" y="406"/>
                </a:cubicBezTo>
                <a:cubicBezTo>
                  <a:pt x="708" y="420"/>
                  <a:pt x="723" y="431"/>
                  <a:pt x="733" y="445"/>
                </a:cubicBezTo>
                <a:cubicBezTo>
                  <a:pt x="743" y="459"/>
                  <a:pt x="750" y="487"/>
                  <a:pt x="764" y="492"/>
                </a:cubicBezTo>
                <a:cubicBezTo>
                  <a:pt x="778" y="497"/>
                  <a:pt x="804" y="488"/>
                  <a:pt x="818" y="476"/>
                </a:cubicBezTo>
                <a:cubicBezTo>
                  <a:pt x="832" y="464"/>
                  <a:pt x="845" y="431"/>
                  <a:pt x="850" y="4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3809880"/>
            <a:ext cx="7238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udiar la respuesta de un sistema lineal estable ante cambios tipo sinusoide a la 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s centraremos en el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stado estacio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1981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54100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(s) = G(s) U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572000" y="5334120"/>
                <a:ext cx="32637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ωA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bustez del diseñ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952880" y="2149560"/>
            <a:ext cx="954360" cy="627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6092280" y="2273400"/>
            <a:ext cx="353520" cy="454680"/>
            <a:chOff x="6092280" y="2273400"/>
            <a:chExt cx="353520" cy="454680"/>
          </a:xfrm>
        </p:grpSpPr>
        <p:sp>
          <p:nvSpPr>
            <p:cNvPr id="967" name=""/>
            <p:cNvSpPr/>
            <p:nvPr/>
          </p:nvSpPr>
          <p:spPr>
            <a:xfrm>
              <a:off x="6149880" y="2363760"/>
              <a:ext cx="171720" cy="2001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092280" y="2273400"/>
              <a:ext cx="353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"/>
          <p:cNvSpPr/>
          <p:nvPr/>
        </p:nvSpPr>
        <p:spPr>
          <a:xfrm>
            <a:off x="3340080" y="2255760"/>
            <a:ext cx="585720" cy="4143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879640" y="2363760"/>
            <a:ext cx="171360" cy="2001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935680" y="246384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079800" y="2463840"/>
            <a:ext cx="235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V="1">
            <a:off x="2965320" y="2552400"/>
            <a:ext cx="0" cy="726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2684160" y="211464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730240" y="254016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235560" y="2006640"/>
            <a:ext cx="0" cy="331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512040" y="2486160"/>
            <a:ext cx="0" cy="75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428640" y="2286000"/>
            <a:ext cx="31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033160" y="2806560"/>
            <a:ext cx="1147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573080" y="2128680"/>
            <a:ext cx="283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092280" y="1649520"/>
            <a:ext cx="283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460920" y="2075040"/>
            <a:ext cx="283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171760" y="236376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346800" y="2438280"/>
            <a:ext cx="49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057400" y="2057400"/>
            <a:ext cx="466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2895480" y="3505320"/>
                <a:ext cx="36576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</m:den>
                    </m:f>
                    <m:r>
                      <m:t xml:space="preserve">w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</m:den>
                    </m:f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7" name=""/>
          <p:cNvSpPr/>
          <p:nvPr/>
        </p:nvSpPr>
        <p:spPr>
          <a:xfrm>
            <a:off x="2301840" y="2438280"/>
            <a:ext cx="504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8360" y="2438280"/>
            <a:ext cx="961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H="1">
            <a:off x="2962440" y="3276720"/>
            <a:ext cx="352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0" name=""/>
              <p:cNvSpPr txBox="1"/>
              <p:nvPr/>
            </p:nvSpPr>
            <p:spPr>
              <a:xfrm>
                <a:off x="1457280" y="5262480"/>
                <a:ext cx="438156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nsibilidad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f>
                      <m:num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G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          </m:t>
                    </m:r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1" name=""/>
          <p:cNvSpPr/>
          <p:nvPr/>
        </p:nvSpPr>
        <p:spPr>
          <a:xfrm>
            <a:off x="1752480" y="441972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 Cuanto varía la respuesta en lazo cerrado cuando varian los parámetros del proces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bustez del diseñ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576600" y="2162160"/>
            <a:ext cx="954000" cy="627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4715640" y="2286000"/>
            <a:ext cx="353520" cy="454680"/>
            <a:chOff x="4715640" y="2286000"/>
            <a:chExt cx="353520" cy="454680"/>
          </a:xfrm>
        </p:grpSpPr>
        <p:sp>
          <p:nvSpPr>
            <p:cNvPr id="995" name=""/>
            <p:cNvSpPr/>
            <p:nvPr/>
          </p:nvSpPr>
          <p:spPr>
            <a:xfrm>
              <a:off x="4773240" y="2376360"/>
              <a:ext cx="171720" cy="2001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715640" y="2286000"/>
              <a:ext cx="353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7" name=""/>
          <p:cNvSpPr/>
          <p:nvPr/>
        </p:nvSpPr>
        <p:spPr>
          <a:xfrm>
            <a:off x="1963800" y="2268360"/>
            <a:ext cx="585720" cy="4143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1503360" y="2376360"/>
            <a:ext cx="171360" cy="2001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559400" y="2476440"/>
            <a:ext cx="18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703520" y="2476440"/>
            <a:ext cx="234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1589040" y="2565360"/>
            <a:ext cx="0" cy="72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307880" y="212724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353600" y="255276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859280" y="2019240"/>
            <a:ext cx="0" cy="331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135400" y="2498760"/>
            <a:ext cx="0" cy="75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052000" y="2298600"/>
            <a:ext cx="31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656880" y="2819520"/>
            <a:ext cx="1147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196800" y="2141640"/>
            <a:ext cx="283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716000" y="1662120"/>
            <a:ext cx="283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5084280" y="2087640"/>
            <a:ext cx="283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795480" y="237636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970520" y="2451240"/>
            <a:ext cx="49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81120" y="2070000"/>
            <a:ext cx="466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6172200" y="2209680"/>
                <a:ext cx="247644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den>
                        </m:f>
                        <m:r>
                          <m:t xml:space="preserve">w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den>
                        </m:f>
                        <m:r>
                          <m:t xml:space="preserve">v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w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15" name=""/>
          <p:cNvSpPr/>
          <p:nvPr/>
        </p:nvSpPr>
        <p:spPr>
          <a:xfrm>
            <a:off x="925560" y="2451240"/>
            <a:ext cx="504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602080" y="2451240"/>
            <a:ext cx="961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H="1">
            <a:off x="1585440" y="3289320"/>
            <a:ext cx="352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8" name=""/>
              <p:cNvSpPr txBox="1"/>
              <p:nvPr/>
            </p:nvSpPr>
            <p:spPr>
              <a:xfrm>
                <a:off x="990720" y="3581280"/>
                <a:ext cx="751824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G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</m:den>
                    </m:f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  <m:r>
                          <m:t xml:space="preserve">)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GRR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19" name=""/>
          <p:cNvSpPr/>
          <p:nvPr/>
        </p:nvSpPr>
        <p:spPr>
          <a:xfrm>
            <a:off x="774720" y="5329080"/>
            <a:ext cx="7924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ón de sensibilidad 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v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sensibilidad frente a errores en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0" name=""/>
              <p:cNvSpPr txBox="1"/>
              <p:nvPr/>
            </p:nvSpPr>
            <p:spPr>
              <a:xfrm>
                <a:off x="2209680" y="4419720"/>
                <a:ext cx="502308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G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f>
                      <m:num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1" name=""/>
              <p:cNvSpPr txBox="1"/>
              <p:nvPr/>
            </p:nvSpPr>
            <p:spPr>
              <a:xfrm>
                <a:off x="4495680" y="3270240"/>
                <a:ext cx="1526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22" name="">
            <a:hlinkClick r:id="rId1"/>
          </p:cNvPr>
          <p:cNvSpPr/>
          <p:nvPr/>
        </p:nvSpPr>
        <p:spPr>
          <a:xfrm>
            <a:off x="6732720" y="6093000"/>
            <a:ext cx="1511280" cy="431640"/>
          </a:xfrm>
          <a:custGeom>
            <a:avLst/>
            <a:gdLst>
              <a:gd name="textAreaLeft" fmla="*/ 27720 w 1511280"/>
              <a:gd name="textAreaRight" fmla="*/ 1483560 w 1511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75582" h="21600">
                <a:moveTo>
                  <a:pt x="0" y="0"/>
                </a:moveTo>
                <a:lnTo>
                  <a:pt x="75582" y="0"/>
                </a:lnTo>
                <a:lnTo>
                  <a:pt x="75582" y="21600"/>
                </a:lnTo>
                <a:lnTo>
                  <a:pt x="0" y="21600"/>
                </a:lnTo>
                <a:close/>
              </a:path>
              <a:path fill="lightenLess" w="75582" h="21600">
                <a:moveTo>
                  <a:pt x="0" y="0"/>
                </a:moveTo>
                <a:lnTo>
                  <a:pt x="75582" y="0"/>
                </a:lnTo>
                <a:lnTo>
                  <a:pt x="74182" y="1400"/>
                </a:lnTo>
                <a:lnTo>
                  <a:pt x="1400" y="1400"/>
                </a:lnTo>
                <a:close/>
              </a:path>
              <a:path fill="darken" w="75582" h="21600">
                <a:moveTo>
                  <a:pt x="75582" y="0"/>
                </a:moveTo>
                <a:lnTo>
                  <a:pt x="75582" y="21600"/>
                </a:lnTo>
                <a:lnTo>
                  <a:pt x="74182" y="20200"/>
                </a:lnTo>
                <a:lnTo>
                  <a:pt x="74182" y="1400"/>
                </a:lnTo>
                <a:close/>
              </a:path>
              <a:path fill="darkenLess" w="75582" h="21600">
                <a:moveTo>
                  <a:pt x="755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82" y="20200"/>
                </a:lnTo>
                <a:close/>
              </a:path>
              <a:path fill="lighten" w="755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ér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puesta en frecu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16000" y="2133720"/>
                <a:ext cx="7237440" cy="36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den>
                        </m:f>
                        <m:f>
                          <m:num>
                            <m:r>
                              <m:t xml:space="preserve">ωA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jω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a</m:t>
                                </m:r>
                              </m:e>
                            </m:ba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den>
                        </m:f>
                        <m:f>
                          <m:num>
                            <m:r>
                              <m:t xml:space="preserve">ωA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a</m:t>
                                </m:r>
                              </m:e>
                            </m:ba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ωA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ara 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ωA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2</m:t>
                        </m:r>
                        <m:r>
                          <m:t xml:space="preserve">jωD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G</m:t>
                            </m:r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j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ara 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ωA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2</m:t>
                        </m:r>
                        <m:r>
                          <m:t xml:space="preserve">jωD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G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j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puesta en frecu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143000" y="1828800"/>
                <a:ext cx="7494480" cy="40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ω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a</m:t>
                                    </m:r>
                                  </m:e>
                                </m:bar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jω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b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D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G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j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t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G</m:t>
                            </m:r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j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 D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es estable, en estado estacionario: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t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G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j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t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G</m:t>
                            </m:r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j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φ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j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t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A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φ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j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A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</m:e>
                        </m:d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ω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φ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ω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φ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A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3505320"/>
            <a:ext cx="2057400" cy="60948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81280" y="3505320"/>
            <a:ext cx="5029200" cy="6858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puesta en frecu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57600" y="2209680"/>
            <a:ext cx="1828800" cy="1067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2743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2743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2286000"/>
            <a:ext cx="1349280" cy="814320"/>
          </a:xfrm>
          <a:custGeom>
            <a:avLst/>
            <a:gdLst/>
            <a:ahLst/>
            <a:rect l="l" t="t" r="r" b="b"/>
            <a:pathLst>
              <a:path w="850" h="513">
                <a:moveTo>
                  <a:pt x="0" y="258"/>
                </a:moveTo>
                <a:cubicBezTo>
                  <a:pt x="17" y="228"/>
                  <a:pt x="35" y="199"/>
                  <a:pt x="47" y="172"/>
                </a:cubicBezTo>
                <a:cubicBezTo>
                  <a:pt x="59" y="145"/>
                  <a:pt x="62" y="116"/>
                  <a:pt x="70" y="94"/>
                </a:cubicBezTo>
                <a:cubicBezTo>
                  <a:pt x="78" y="72"/>
                  <a:pt x="86" y="55"/>
                  <a:pt x="94" y="40"/>
                </a:cubicBezTo>
                <a:cubicBezTo>
                  <a:pt x="102" y="25"/>
                  <a:pt x="105" y="2"/>
                  <a:pt x="117" y="1"/>
                </a:cubicBezTo>
                <a:cubicBezTo>
                  <a:pt x="129" y="0"/>
                  <a:pt x="154" y="18"/>
                  <a:pt x="164" y="32"/>
                </a:cubicBezTo>
                <a:cubicBezTo>
                  <a:pt x="174" y="46"/>
                  <a:pt x="170" y="60"/>
                  <a:pt x="179" y="86"/>
                </a:cubicBezTo>
                <a:cubicBezTo>
                  <a:pt x="188" y="112"/>
                  <a:pt x="209" y="163"/>
                  <a:pt x="218" y="188"/>
                </a:cubicBezTo>
                <a:cubicBezTo>
                  <a:pt x="227" y="213"/>
                  <a:pt x="228" y="206"/>
                  <a:pt x="234" y="234"/>
                </a:cubicBezTo>
                <a:cubicBezTo>
                  <a:pt x="240" y="262"/>
                  <a:pt x="249" y="329"/>
                  <a:pt x="257" y="359"/>
                </a:cubicBezTo>
                <a:cubicBezTo>
                  <a:pt x="265" y="389"/>
                  <a:pt x="272" y="397"/>
                  <a:pt x="281" y="414"/>
                </a:cubicBezTo>
                <a:cubicBezTo>
                  <a:pt x="290" y="431"/>
                  <a:pt x="306" y="445"/>
                  <a:pt x="312" y="460"/>
                </a:cubicBezTo>
                <a:cubicBezTo>
                  <a:pt x="318" y="475"/>
                  <a:pt x="310" y="501"/>
                  <a:pt x="320" y="507"/>
                </a:cubicBezTo>
                <a:cubicBezTo>
                  <a:pt x="330" y="513"/>
                  <a:pt x="360" y="509"/>
                  <a:pt x="374" y="499"/>
                </a:cubicBezTo>
                <a:cubicBezTo>
                  <a:pt x="388" y="489"/>
                  <a:pt x="394" y="470"/>
                  <a:pt x="405" y="445"/>
                </a:cubicBezTo>
                <a:cubicBezTo>
                  <a:pt x="416" y="420"/>
                  <a:pt x="428" y="377"/>
                  <a:pt x="437" y="351"/>
                </a:cubicBezTo>
                <a:cubicBezTo>
                  <a:pt x="446" y="325"/>
                  <a:pt x="455" y="308"/>
                  <a:pt x="460" y="289"/>
                </a:cubicBezTo>
                <a:cubicBezTo>
                  <a:pt x="465" y="270"/>
                  <a:pt x="464" y="253"/>
                  <a:pt x="468" y="234"/>
                </a:cubicBezTo>
                <a:cubicBezTo>
                  <a:pt x="472" y="215"/>
                  <a:pt x="478" y="190"/>
                  <a:pt x="483" y="172"/>
                </a:cubicBezTo>
                <a:cubicBezTo>
                  <a:pt x="488" y="154"/>
                  <a:pt x="493" y="142"/>
                  <a:pt x="499" y="125"/>
                </a:cubicBezTo>
                <a:cubicBezTo>
                  <a:pt x="505" y="108"/>
                  <a:pt x="516" y="90"/>
                  <a:pt x="522" y="71"/>
                </a:cubicBezTo>
                <a:cubicBezTo>
                  <a:pt x="528" y="52"/>
                  <a:pt x="526" y="13"/>
                  <a:pt x="538" y="8"/>
                </a:cubicBezTo>
                <a:cubicBezTo>
                  <a:pt x="550" y="3"/>
                  <a:pt x="574" y="17"/>
                  <a:pt x="592" y="40"/>
                </a:cubicBezTo>
                <a:cubicBezTo>
                  <a:pt x="610" y="63"/>
                  <a:pt x="635" y="119"/>
                  <a:pt x="647" y="149"/>
                </a:cubicBezTo>
                <a:cubicBezTo>
                  <a:pt x="659" y="179"/>
                  <a:pt x="657" y="192"/>
                  <a:pt x="663" y="219"/>
                </a:cubicBezTo>
                <a:cubicBezTo>
                  <a:pt x="669" y="246"/>
                  <a:pt x="681" y="289"/>
                  <a:pt x="686" y="312"/>
                </a:cubicBezTo>
                <a:cubicBezTo>
                  <a:pt x="691" y="335"/>
                  <a:pt x="691" y="343"/>
                  <a:pt x="694" y="359"/>
                </a:cubicBezTo>
                <a:cubicBezTo>
                  <a:pt x="697" y="375"/>
                  <a:pt x="696" y="392"/>
                  <a:pt x="702" y="406"/>
                </a:cubicBezTo>
                <a:cubicBezTo>
                  <a:pt x="708" y="420"/>
                  <a:pt x="723" y="431"/>
                  <a:pt x="733" y="445"/>
                </a:cubicBezTo>
                <a:cubicBezTo>
                  <a:pt x="743" y="459"/>
                  <a:pt x="750" y="487"/>
                  <a:pt x="764" y="492"/>
                </a:cubicBezTo>
                <a:cubicBezTo>
                  <a:pt x="778" y="497"/>
                  <a:pt x="804" y="488"/>
                  <a:pt x="818" y="476"/>
                </a:cubicBezTo>
                <a:cubicBezTo>
                  <a:pt x="832" y="464"/>
                  <a:pt x="845" y="431"/>
                  <a:pt x="850" y="4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96160" y="2449440"/>
            <a:ext cx="1349280" cy="493920"/>
          </a:xfrm>
          <a:custGeom>
            <a:avLst/>
            <a:gdLst/>
            <a:ahLst/>
            <a:rect l="l" t="t" r="r" b="b"/>
            <a:pathLst>
              <a:path w="850" h="513">
                <a:moveTo>
                  <a:pt x="0" y="258"/>
                </a:moveTo>
                <a:cubicBezTo>
                  <a:pt x="17" y="228"/>
                  <a:pt x="35" y="199"/>
                  <a:pt x="47" y="172"/>
                </a:cubicBezTo>
                <a:cubicBezTo>
                  <a:pt x="59" y="145"/>
                  <a:pt x="62" y="116"/>
                  <a:pt x="70" y="94"/>
                </a:cubicBezTo>
                <a:cubicBezTo>
                  <a:pt x="78" y="72"/>
                  <a:pt x="86" y="55"/>
                  <a:pt x="94" y="40"/>
                </a:cubicBezTo>
                <a:cubicBezTo>
                  <a:pt x="102" y="25"/>
                  <a:pt x="105" y="2"/>
                  <a:pt x="117" y="1"/>
                </a:cubicBezTo>
                <a:cubicBezTo>
                  <a:pt x="129" y="0"/>
                  <a:pt x="154" y="18"/>
                  <a:pt x="164" y="32"/>
                </a:cubicBezTo>
                <a:cubicBezTo>
                  <a:pt x="174" y="46"/>
                  <a:pt x="170" y="60"/>
                  <a:pt x="179" y="86"/>
                </a:cubicBezTo>
                <a:cubicBezTo>
                  <a:pt x="188" y="112"/>
                  <a:pt x="209" y="163"/>
                  <a:pt x="218" y="188"/>
                </a:cubicBezTo>
                <a:cubicBezTo>
                  <a:pt x="227" y="213"/>
                  <a:pt x="228" y="206"/>
                  <a:pt x="234" y="234"/>
                </a:cubicBezTo>
                <a:cubicBezTo>
                  <a:pt x="240" y="262"/>
                  <a:pt x="249" y="329"/>
                  <a:pt x="257" y="359"/>
                </a:cubicBezTo>
                <a:cubicBezTo>
                  <a:pt x="265" y="389"/>
                  <a:pt x="272" y="397"/>
                  <a:pt x="281" y="414"/>
                </a:cubicBezTo>
                <a:cubicBezTo>
                  <a:pt x="290" y="431"/>
                  <a:pt x="306" y="445"/>
                  <a:pt x="312" y="460"/>
                </a:cubicBezTo>
                <a:cubicBezTo>
                  <a:pt x="318" y="475"/>
                  <a:pt x="310" y="501"/>
                  <a:pt x="320" y="507"/>
                </a:cubicBezTo>
                <a:cubicBezTo>
                  <a:pt x="330" y="513"/>
                  <a:pt x="360" y="509"/>
                  <a:pt x="374" y="499"/>
                </a:cubicBezTo>
                <a:cubicBezTo>
                  <a:pt x="388" y="489"/>
                  <a:pt x="394" y="470"/>
                  <a:pt x="405" y="445"/>
                </a:cubicBezTo>
                <a:cubicBezTo>
                  <a:pt x="416" y="420"/>
                  <a:pt x="428" y="377"/>
                  <a:pt x="437" y="351"/>
                </a:cubicBezTo>
                <a:cubicBezTo>
                  <a:pt x="446" y="325"/>
                  <a:pt x="455" y="308"/>
                  <a:pt x="460" y="289"/>
                </a:cubicBezTo>
                <a:cubicBezTo>
                  <a:pt x="465" y="270"/>
                  <a:pt x="464" y="253"/>
                  <a:pt x="468" y="234"/>
                </a:cubicBezTo>
                <a:cubicBezTo>
                  <a:pt x="472" y="215"/>
                  <a:pt x="478" y="190"/>
                  <a:pt x="483" y="172"/>
                </a:cubicBezTo>
                <a:cubicBezTo>
                  <a:pt x="488" y="154"/>
                  <a:pt x="493" y="142"/>
                  <a:pt x="499" y="125"/>
                </a:cubicBezTo>
                <a:cubicBezTo>
                  <a:pt x="505" y="108"/>
                  <a:pt x="516" y="90"/>
                  <a:pt x="522" y="71"/>
                </a:cubicBezTo>
                <a:cubicBezTo>
                  <a:pt x="528" y="52"/>
                  <a:pt x="526" y="13"/>
                  <a:pt x="538" y="8"/>
                </a:cubicBezTo>
                <a:cubicBezTo>
                  <a:pt x="550" y="3"/>
                  <a:pt x="574" y="17"/>
                  <a:pt x="592" y="40"/>
                </a:cubicBezTo>
                <a:cubicBezTo>
                  <a:pt x="610" y="63"/>
                  <a:pt x="635" y="119"/>
                  <a:pt x="647" y="149"/>
                </a:cubicBezTo>
                <a:cubicBezTo>
                  <a:pt x="659" y="179"/>
                  <a:pt x="657" y="192"/>
                  <a:pt x="663" y="219"/>
                </a:cubicBezTo>
                <a:cubicBezTo>
                  <a:pt x="669" y="246"/>
                  <a:pt x="681" y="289"/>
                  <a:pt x="686" y="312"/>
                </a:cubicBezTo>
                <a:cubicBezTo>
                  <a:pt x="691" y="335"/>
                  <a:pt x="691" y="343"/>
                  <a:pt x="694" y="359"/>
                </a:cubicBezTo>
                <a:cubicBezTo>
                  <a:pt x="697" y="375"/>
                  <a:pt x="696" y="392"/>
                  <a:pt x="702" y="406"/>
                </a:cubicBezTo>
                <a:cubicBezTo>
                  <a:pt x="708" y="420"/>
                  <a:pt x="723" y="431"/>
                  <a:pt x="733" y="445"/>
                </a:cubicBezTo>
                <a:cubicBezTo>
                  <a:pt x="743" y="459"/>
                  <a:pt x="750" y="487"/>
                  <a:pt x="764" y="492"/>
                </a:cubicBezTo>
                <a:cubicBezTo>
                  <a:pt x="778" y="497"/>
                  <a:pt x="804" y="488"/>
                  <a:pt x="818" y="476"/>
                </a:cubicBezTo>
                <a:cubicBezTo>
                  <a:pt x="832" y="464"/>
                  <a:pt x="845" y="431"/>
                  <a:pt x="850" y="4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67280" y="1981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809880" y="3657600"/>
                <a:ext cx="463572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φ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φ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838080" y="3657600"/>
                <a:ext cx="167652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838080" y="457200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respuesta oscila con la misma frecuenci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o atenuada por un factor |G(j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|  y desfasada un ángulo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rg(G(j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  que dependen d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1"/>
          </p:cNvPr>
          <p:cNvSpPr/>
          <p:nvPr/>
        </p:nvSpPr>
        <p:spPr>
          <a:xfrm>
            <a:off x="6481800" y="5727600"/>
            <a:ext cx="1225440" cy="335160"/>
          </a:xfrm>
          <a:custGeom>
            <a:avLst/>
            <a:gdLst>
              <a:gd name="textAreaLeft" fmla="*/ 21600 w 1225440"/>
              <a:gd name="textAreaRight" fmla="*/ 1203840 w 1225440"/>
              <a:gd name="textAreaTop" fmla="*/ 21600 h 335160"/>
              <a:gd name="textAreaBottom" fmla="*/ 313560 h 335160"/>
            </a:gdLst>
            <a:ahLst/>
            <a:rect l="textAreaLeft" t="textAreaTop" r="textAreaRight" b="textAreaBottom"/>
            <a:pathLst>
              <a:path w="78914" h="21600">
                <a:moveTo>
                  <a:pt x="0" y="0"/>
                </a:moveTo>
                <a:lnTo>
                  <a:pt x="78914" y="0"/>
                </a:lnTo>
                <a:lnTo>
                  <a:pt x="78914" y="21600"/>
                </a:lnTo>
                <a:lnTo>
                  <a:pt x="0" y="21600"/>
                </a:lnTo>
                <a:close/>
              </a:path>
              <a:path fill="lightenLess" w="78914" h="21600">
                <a:moveTo>
                  <a:pt x="0" y="0"/>
                </a:moveTo>
                <a:lnTo>
                  <a:pt x="78914" y="0"/>
                </a:lnTo>
                <a:lnTo>
                  <a:pt x="77514" y="1400"/>
                </a:lnTo>
                <a:lnTo>
                  <a:pt x="1400" y="1400"/>
                </a:lnTo>
                <a:close/>
              </a:path>
              <a:path fill="darken" w="78914" h="21600">
                <a:moveTo>
                  <a:pt x="78914" y="0"/>
                </a:moveTo>
                <a:lnTo>
                  <a:pt x="78914" y="21600"/>
                </a:lnTo>
                <a:lnTo>
                  <a:pt x="77514" y="20200"/>
                </a:lnTo>
                <a:lnTo>
                  <a:pt x="77514" y="1400"/>
                </a:lnTo>
                <a:close/>
              </a:path>
              <a:path fill="darkenLess" w="78914" h="21600">
                <a:moveTo>
                  <a:pt x="78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514" y="20200"/>
                </a:lnTo>
                <a:close/>
              </a:path>
              <a:path fill="lighten" w="78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6T08:46:10Z</dcterms:created>
  <dc:creator>Ing. de Sistemas y Automatica</dc:creator>
  <dc:description/>
  <dc:language>en-US</dc:language>
  <cp:lastModifiedBy>isa</cp:lastModifiedBy>
  <dcterms:modified xsi:type="dcterms:W3CDTF">2008-04-14T08:00:23Z</dcterms:modified>
  <cp:revision>33</cp:revision>
  <dc:subject/>
  <dc:title>Análisis de sistemas en el dominio de la frecuencia</dc:title>
</cp:coreProperties>
</file>