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20D9-64C3-4BEA-85D4-3421FC9AF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CE3E-2803-477D-9D1F-A042804A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7E44-FA33-423E-851A-06AB36BB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06CF-2EC0-4F8C-90B8-735320813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8BB1-5D35-410D-A149-D6F4DB14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5B1F-BC40-47F2-8448-DF704BB4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2E25-C3F3-4A69-9FC3-ECAC2D4F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6BA2-01D4-475A-8ECE-A19B8E10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134C-7525-4E56-B0AE-C5525096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1497-0DC2-4847-8258-561C56C5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8590-BE6B-4682-8494-B3F17064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96A5-5165-46ED-82FC-37746FB0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14FB-D517-4FE3-BAF7-9328E42D4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elos de procesos muestre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f. Cesar de P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pto. Ingeniería de Sistemas y Autom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ada@autom.uva.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ineal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19320" y="2057400"/>
            <a:ext cx="6553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 en serie de Taylor sobre un punto de operación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066680" y="3124080"/>
                <a:ext cx="702468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457200" y="4343400"/>
            <a:ext cx="3505320" cy="1066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838080" y="4495680"/>
                <a:ext cx="73677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u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Δu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Δy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Δz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Δu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Δy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Δz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762120" y="55627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uación lineal en las nuevas variabl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Modelo Linealizado del  Depósi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038480" y="56386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cuación diferencial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2080" y="4397400"/>
            <a:ext cx="3933720" cy="10666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625920" y="1676520"/>
                <a:ext cx="5518080" cy="35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</m:t>
                        </m:r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 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d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uk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h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r>
                              <m:t xml:space="preserve">h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            {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h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+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u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q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h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k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     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u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ra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q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A</m:t>
                    </m:r>
                    <m:f>
                      <m:num>
                        <m:r>
                          <m:t xml:space="preserve">dΔ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k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rad>
                      </m:den>
                    </m:f>
                    <m:r>
                      <m:t xml:space="preserve">Δh</m:t>
                    </m:r>
                    <m:r>
                      <m:t xml:space="preserve">+</m:t>
                    </m:r>
                    <m:r>
                      <m:t xml:space="preserve">k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rad>
                    <m:r>
                      <m:t xml:space="preserve">Δu</m:t>
                    </m:r>
                    <m:r>
                      <m:t xml:space="preserve">−</m:t>
                    </m:r>
                    <m:r>
                      <m:t xml:space="preserve">Δq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685800" y="4800600"/>
            <a:ext cx="24382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desvi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 = h -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 = q -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950760" y="1690560"/>
            <a:ext cx="2523960" cy="3052800"/>
            <a:chOff x="950760" y="1690560"/>
            <a:chExt cx="2523960" cy="3052800"/>
          </a:xfrm>
        </p:grpSpPr>
        <p:sp>
          <p:nvSpPr>
            <p:cNvPr id="306" name=""/>
            <p:cNvSpPr/>
            <p:nvPr/>
          </p:nvSpPr>
          <p:spPr>
            <a:xfrm>
              <a:off x="1309320" y="2336760"/>
              <a:ext cx="0" cy="140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331640" y="3762360"/>
              <a:ext cx="163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2985840" y="2372760"/>
              <a:ext cx="0" cy="140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315800" y="2930400"/>
              <a:ext cx="1663920" cy="82548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950760" y="1704960"/>
              <a:ext cx="117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147760" y="1727280"/>
              <a:ext cx="0" cy="41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361960" y="169056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24080" y="306216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47760" y="3786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87160" y="39416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2041920" y="4151160"/>
              <a:ext cx="472320" cy="270000"/>
              <a:chOff x="2041920" y="4151160"/>
              <a:chExt cx="472320" cy="270000"/>
            </a:xfrm>
          </p:grpSpPr>
          <p:sp>
            <p:nvSpPr>
              <p:cNvPr id="317" name=""/>
              <p:cNvSpPr/>
              <p:nvPr/>
            </p:nvSpPr>
            <p:spPr>
              <a:xfrm flipH="1">
                <a:off x="2049480" y="4182480"/>
                <a:ext cx="18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041920" y="4185360"/>
                <a:ext cx="196920" cy="20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2049480" y="4185360"/>
                <a:ext cx="181080" cy="20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2049480" y="4389480"/>
                <a:ext cx="18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136240" y="4286160"/>
                <a:ext cx="244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5400000">
                <a:off x="2312280" y="4219200"/>
                <a:ext cx="270000" cy="13392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 flipH="1">
              <a:off x="2113920" y="4397400"/>
              <a:ext cx="1116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509560" y="429876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42920" y="406404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4211640" y="3860640"/>
            <a:ext cx="2232000" cy="1440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638520" y="2529000"/>
            <a:ext cx="3343320" cy="1212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os en variables de est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3830760" y="1690560"/>
                <a:ext cx="4519440" cy="194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Δ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  <m:r>
                          <m:t xml:space="preserve">Δh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k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rad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Δu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Δq</m:t>
                        </m:r>
                      </m:e>
                      <m:e>
                        <m:f>
                          <m:num>
                            <m:r>
                              <m:t xml:space="preserve">dΔ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αΔh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β</m:t>
                                  </m:r>
                                </m:e>
                                <m:e>
                                  <m:r>
                                    <m:t xml:space="preserve">γ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Δu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Δq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Δh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4335480" y="3911760"/>
                <a:ext cx="194292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d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u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69880" y="4551480"/>
                <a:ext cx="3006720" cy="20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β</m:t>
                                  </m:r>
                                </m:e>
                                <m:e>
                                  <m:r>
                                    <m:t xml:space="preserve">γ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t xml:space="preserve">−</m:t>
                                      </m:r>
                                      <m:r>
                                        <m:t xml:space="preserve">k</m:t>
                                      </m:r>
                                      <m:rad>
                                        <m:radPr>
                                          <m:degHide m:val="1"/>
                                        </m:radPr>
                                        <m:deg/>
                                        <m:e>
                                          <m:sSub>
                                            <m:e>
                                              <m:r>
                                                <m:t xml:space="preserve">h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0</m:t>
                                              </m:r>
                                            </m:sub>
                                          </m:sSub>
                                        </m:e>
                                      </m:rad>
                                    </m:num>
                                    <m:den>
                                      <m:r>
                                        <m:t xml:space="preserve">A</m:t>
                                      </m:r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A</m:t>
                                      </m:r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4116240" y="553716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ende del punto de line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938160" y="1914480"/>
            <a:ext cx="2075400" cy="2422080"/>
            <a:chOff x="938160" y="1914480"/>
            <a:chExt cx="2075400" cy="2422080"/>
          </a:xfrm>
        </p:grpSpPr>
        <p:sp>
          <p:nvSpPr>
            <p:cNvPr id="334" name=""/>
            <p:cNvSpPr/>
            <p:nvPr/>
          </p:nvSpPr>
          <p:spPr>
            <a:xfrm>
              <a:off x="1222920" y="2427120"/>
              <a:ext cx="0" cy="11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240560" y="3558240"/>
              <a:ext cx="129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2554200" y="2455920"/>
              <a:ext cx="0" cy="11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27960" y="2898000"/>
              <a:ext cx="1321200" cy="6548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938160" y="1925640"/>
              <a:ext cx="93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888560" y="1943280"/>
              <a:ext cx="0" cy="32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058840" y="191448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662920" y="300276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888560" y="3577320"/>
              <a:ext cx="0" cy="30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362960" y="3700440"/>
              <a:ext cx="42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1803960" y="3866760"/>
              <a:ext cx="375120" cy="214200"/>
              <a:chOff x="1803960" y="3866760"/>
              <a:chExt cx="375120" cy="214200"/>
            </a:xfrm>
          </p:grpSpPr>
          <p:sp>
            <p:nvSpPr>
              <p:cNvPr id="345" name=""/>
              <p:cNvSpPr/>
              <p:nvPr/>
            </p:nvSpPr>
            <p:spPr>
              <a:xfrm flipH="1">
                <a:off x="1810080" y="3891600"/>
                <a:ext cx="143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803960" y="3894120"/>
                <a:ext cx="156240" cy="15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1810080" y="3894120"/>
                <a:ext cx="143640" cy="15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1810080" y="4055760"/>
                <a:ext cx="143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879200" y="3973680"/>
                <a:ext cx="19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5400000">
                <a:off x="2018880" y="3920760"/>
                <a:ext cx="214200" cy="1062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 flipH="1">
              <a:off x="1861920" y="4062240"/>
              <a:ext cx="8640" cy="2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2175840" y="3984120"/>
              <a:ext cx="21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440800" y="3797640"/>
              <a:ext cx="35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819520" y="3200400"/>
            <a:ext cx="60948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os en variables de est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1547640" y="2276640"/>
                <a:ext cx="2065680" cy="15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x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u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7" name=""/>
          <p:cNvSpPr/>
          <p:nvPr/>
        </p:nvSpPr>
        <p:spPr>
          <a:xfrm>
            <a:off x="4191120" y="2057400"/>
            <a:ext cx="41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 variables de estado:  conocido su valor en el instante inicial y los valores de u(t) a lo largo del tiempo, puede determinarse el valor de las salidas a lo largo d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3809880" y="4572000"/>
                <a:ext cx="45975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Bu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59" name=""/>
          <p:cNvSpPr/>
          <p:nvPr/>
        </p:nvSpPr>
        <p:spPr>
          <a:xfrm>
            <a:off x="1295280" y="457200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ción analít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atriz de transición de est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1187280" y="1844640"/>
                <a:ext cx="45975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Bu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1187280" y="2924280"/>
                <a:ext cx="5348520" cy="32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</m:e>
                      <m:e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verifica   </m:t>
                        </m:r>
                        <m:f>
                          <m:num>
                            <m:r>
                              <m:t xml:space="preserve">dφ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Aφ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uego   s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AΦ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⇒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2771640" y="292428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00"/>
                </a:solidFill>
                <a:latin typeface="Times New Roman"/>
              </a:rPr>
              <a:t>Matriz de transición de es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or 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590920" y="2895480"/>
            <a:ext cx="1371600" cy="1219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600200" y="2285640"/>
            <a:ext cx="685800" cy="167040"/>
            <a:chOff x="1600200" y="2285640"/>
            <a:chExt cx="685800" cy="167040"/>
          </a:xfrm>
        </p:grpSpPr>
        <p:sp>
          <p:nvSpPr>
            <p:cNvPr id="367" name=""/>
            <p:cNvSpPr/>
            <p:nvPr/>
          </p:nvSpPr>
          <p:spPr>
            <a:xfrm>
              <a:off x="1600200" y="2369880"/>
              <a:ext cx="17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1771560" y="2285640"/>
              <a:ext cx="6840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39960" y="2286000"/>
              <a:ext cx="6804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1908000" y="2285640"/>
              <a:ext cx="10332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011320" y="2286000"/>
              <a:ext cx="684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2079720" y="2369880"/>
              <a:ext cx="34920" cy="8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114640" y="2369880"/>
              <a:ext cx="17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228600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819520" y="2209680"/>
            <a:ext cx="304200" cy="304920"/>
            <a:chOff x="2819520" y="2209680"/>
            <a:chExt cx="304200" cy="304920"/>
          </a:xfrm>
        </p:grpSpPr>
        <p:sp>
          <p:nvSpPr>
            <p:cNvPr id="376" name=""/>
            <p:cNvSpPr/>
            <p:nvPr/>
          </p:nvSpPr>
          <p:spPr>
            <a:xfrm>
              <a:off x="2819520" y="2209680"/>
              <a:ext cx="10116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69920" y="2209680"/>
              <a:ext cx="10152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971800" y="2209680"/>
              <a:ext cx="10116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022200" y="2209680"/>
              <a:ext cx="10152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920680" y="2209680"/>
              <a:ext cx="10116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3124080" y="2362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767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7672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04812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12408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200400" y="4876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276720" y="3581280"/>
            <a:ext cx="1295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95680" y="3657600"/>
            <a:ext cx="317520" cy="469800"/>
          </a:xfrm>
          <a:custGeom>
            <a:avLst/>
            <a:gdLst/>
            <a:ahLst/>
            <a:rect l="l" t="t" r="r" b="b"/>
            <a:pathLst>
              <a:path w="200" h="296">
                <a:moveTo>
                  <a:pt x="0" y="288"/>
                </a:moveTo>
                <a:cubicBezTo>
                  <a:pt x="12" y="292"/>
                  <a:pt x="24" y="296"/>
                  <a:pt x="48" y="288"/>
                </a:cubicBezTo>
                <a:cubicBezTo>
                  <a:pt x="72" y="280"/>
                  <a:pt x="120" y="264"/>
                  <a:pt x="144" y="240"/>
                </a:cubicBezTo>
                <a:cubicBezTo>
                  <a:pt x="168" y="216"/>
                  <a:pt x="184" y="176"/>
                  <a:pt x="192" y="144"/>
                </a:cubicBezTo>
                <a:cubicBezTo>
                  <a:pt x="200" y="112"/>
                  <a:pt x="200" y="72"/>
                  <a:pt x="192" y="48"/>
                </a:cubicBezTo>
                <a:cubicBezTo>
                  <a:pt x="184" y="24"/>
                  <a:pt x="152" y="8"/>
                  <a:pt x="14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26708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819520" y="1752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76520" y="1752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9480" y="24382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600200" y="32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2128320" y="3347280"/>
            <a:ext cx="315360" cy="315360"/>
            <a:chOff x="2128320" y="3347280"/>
            <a:chExt cx="315360" cy="315360"/>
          </a:xfrm>
        </p:grpSpPr>
        <p:sp>
          <p:nvSpPr>
            <p:cNvPr id="396" name=""/>
            <p:cNvSpPr/>
            <p:nvPr/>
          </p:nvSpPr>
          <p:spPr>
            <a:xfrm rot="5274000">
              <a:off x="2231280" y="3251160"/>
              <a:ext cx="10152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5274000">
              <a:off x="2233080" y="3301560"/>
              <a:ext cx="10152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5274000">
              <a:off x="2237040" y="3403080"/>
              <a:ext cx="10152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5274000">
              <a:off x="2238840" y="3453840"/>
              <a:ext cx="10152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5274000">
              <a:off x="2235240" y="3352680"/>
              <a:ext cx="10152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2286000" y="3200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599840" y="3962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57200" y="41911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itación independ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508720" y="1844640"/>
                <a:ext cx="2530440" cy="25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J</m:t>
                        </m:r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 </m:t>
                            </m:r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fω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 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3352680" y="2438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300720" y="5445000"/>
            <a:ext cx="25146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par ex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f.c.e.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26708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356000" y="2852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9640" y="5445000"/>
            <a:ext cx="266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 voltaje apli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 corriente del ro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419640" y="551664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419640" y="5445000"/>
            <a:ext cx="266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velocidad de gi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gulo gi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580000" y="465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00"/>
                </a:solidFill>
                <a:latin typeface="Times New Roman"/>
              </a:rPr>
              <a:t>Modelo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o en variables de est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684360" y="1773360"/>
                <a:ext cx="5400360" cy="28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d</m:t>
                                  </m:r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Δc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d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t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d</m:t>
                                  </m:r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Δc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d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t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Δ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Δ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ΔF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Δ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i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>
            <a:off x="3132000" y="3502080"/>
            <a:ext cx="266724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3564000" y="3573360"/>
                <a:ext cx="17524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d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u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6516720" y="1989000"/>
                <a:ext cx="2181240" cy="22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J</m:t>
                        </m:r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 </m:t>
                            </m:r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fω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 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684360" y="4797360"/>
                <a:ext cx="5086080" cy="18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(</m:t>
                                  </m:r>
                                  <m:f>
                                    <m:num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RJ</m:t>
                                      </m:r>
                                    </m:den>
                                  </m:f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r>
                                        <m:t xml:space="preserve">f</m:t>
                                      </m:r>
                                    </m:num>
                                    <m:den>
                                      <m:r>
                                        <m:t xml:space="preserve">J</m:t>
                                      </m:r>
                                    </m:den>
                                  </m:f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θ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RJ</m:t>
                                      </m:r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J</m:t>
                                      </m:r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V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T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θ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0" name=""/>
          <p:cNvSpPr/>
          <p:nvPr/>
        </p:nvSpPr>
        <p:spPr>
          <a:xfrm>
            <a:off x="324000" y="4724280"/>
            <a:ext cx="8424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6804000" y="4797360"/>
                <a:ext cx="1871640" cy="17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J</m:t>
                        </m:r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 </m:t>
                            </m:r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fω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 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2" name=""/>
          <p:cNvSpPr/>
          <p:nvPr/>
        </p:nvSpPr>
        <p:spPr>
          <a:xfrm>
            <a:off x="5292720" y="616572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i L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ndiciones inici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611280" y="1628640"/>
                <a:ext cx="458316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(</m:t>
                                  </m:r>
                                  <m:f>
                                    <m:num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RJ</m:t>
                                      </m:r>
                                    </m:den>
                                  </m:f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r>
                                        <m:t xml:space="preserve">f</m:t>
                                      </m:r>
                                    </m:num>
                                    <m:den>
                                      <m:r>
                                        <m:t xml:space="preserve">J</m:t>
                                      </m:r>
                                    </m:den>
                                  </m:f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θ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RJ</m:t>
                                      </m:r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J</m:t>
                                      </m:r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V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T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θ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611280" y="3284640"/>
                <a:ext cx="4851360" cy="16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θ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(</m:t>
                                  </m:r>
                                  <m:f>
                                    <m:num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RJ</m:t>
                                      </m:r>
                                    </m:den>
                                  </m:f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r>
                                        <m:t xml:space="preserve">f</m:t>
                                      </m:r>
                                    </m:num>
                                    <m:den>
                                      <m:r>
                                        <m:t xml:space="preserve">J</m:t>
                                      </m:r>
                                    </m:den>
                                  </m:f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RJ</m:t>
                                      </m:r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J</m:t>
                                      </m:r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590400" y="5013360"/>
                <a:ext cx="505800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Δ</m:t>
                                  </m:r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Δ</m:t>
                                  </m:r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(</m:t>
                                  </m:r>
                                  <m:f>
                                    <m:num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RJ</m:t>
                                      </m:r>
                                    </m:den>
                                  </m:f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r>
                                        <m:t xml:space="preserve">f</m:t>
                                      </m:r>
                                    </m:num>
                                    <m:den>
                                      <m:r>
                                        <m:t xml:space="preserve">J</m:t>
                                      </m:r>
                                    </m:den>
                                  </m:f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Δθ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Δω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RJ</m:t>
                                      </m:r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J</m:t>
                                      </m:r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ΔV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ΔT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Δθ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Δω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5940360" y="170028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diciones iniciales no necesariamente n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940360" y="328464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ticularizando en un punto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96000" y="5013360"/>
            <a:ext cx="3168720" cy="1191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elo de perturbación con condiciones iniciales n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492360" y="4365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tan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odelo discretiz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508720" y="2781360"/>
            <a:ext cx="2247840" cy="10792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756560" y="322884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137440" y="3228840"/>
            <a:ext cx="0" cy="120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5089680" y="4448160"/>
            <a:ext cx="306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643280" y="3213000"/>
            <a:ext cx="76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060040" y="2695680"/>
            <a:ext cx="62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974880" y="2847960"/>
            <a:ext cx="1663560" cy="82548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n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651040" y="32227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3108240" y="3063960"/>
            <a:ext cx="6372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260880" y="322272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565440" y="2847960"/>
            <a:ext cx="901800" cy="82548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79840" y="3222720"/>
            <a:ext cx="1067040" cy="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4467240" y="44416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565440" y="4067280"/>
            <a:ext cx="901800" cy="67284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/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1876320" y="4441680"/>
            <a:ext cx="168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1882800" y="3673440"/>
            <a:ext cx="0" cy="77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517680" y="3222360"/>
            <a:ext cx="444240" cy="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050200" y="3933720"/>
            <a:ext cx="87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(k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810800" y="1704960"/>
            <a:ext cx="763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(k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9080" y="269568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4784760" y="42192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79840" y="20098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403880" y="26193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479840" y="21621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4708440" y="193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708440" y="19335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37040" y="1933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937040" y="23144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5165640" y="216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65640" y="21621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775480" y="2390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46680" y="1781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651040" y="19335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575080" y="254304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2879640" y="1856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3336840" y="208584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794040" y="23144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651040" y="208584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108240" y="223848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627280" y="3213000"/>
            <a:ext cx="1008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(k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5796000" y="2852640"/>
                <a:ext cx="17524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d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u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3" name=""/>
          <p:cNvSpPr/>
          <p:nvPr/>
        </p:nvSpPr>
        <p:spPr>
          <a:xfrm>
            <a:off x="611280" y="5229360"/>
            <a:ext cx="79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contrar un modelo y(kT) = f( u(kT) )  tal que y(kT) = y(t) en los instantes de muestr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odelo discretiz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611280" y="1844640"/>
                <a:ext cx="2065320" cy="15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x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u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3419640" y="1789200"/>
                <a:ext cx="453708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σ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Bu</m:t>
                        </m:r>
                        <m:r>
                          <m:t xml:space="preserve">(</m:t>
                        </m:r>
                        <m:r>
                          <m:t xml:space="preserve">σ</m:t>
                        </m:r>
                        <m:r>
                          <m:t xml:space="preserve">)</m:t>
                        </m:r>
                        <m:r>
                          <m:t xml:space="preserve">dσ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77" name=""/>
          <p:cNvSpPr/>
          <p:nvPr/>
        </p:nvSpPr>
        <p:spPr>
          <a:xfrm>
            <a:off x="3059280" y="3068640"/>
            <a:ext cx="53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mando como tiempos de inicio y final los instantes kT y (k+1)T de un periodo de muestre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1116000" y="4581360"/>
                <a:ext cx="65516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σ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Bu</m:t>
                        </m:r>
                        <m:r>
                          <m:t xml:space="preserve">(</m:t>
                        </m:r>
                        <m:r>
                          <m:t xml:space="preserve">σ</m:t>
                        </m:r>
                        <m:r>
                          <m:t xml:space="preserve">)</m:t>
                        </m:r>
                        <m:r>
                          <m:t xml:space="preserve">dσ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de procesos por computa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72200" y="3124080"/>
            <a:ext cx="1600200" cy="60984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772400" y="342900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153280" y="3429000"/>
            <a:ext cx="0" cy="12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105520" y="4648320"/>
            <a:ext cx="306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69040" y="4425840"/>
            <a:ext cx="444600" cy="444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3429000"/>
            <a:ext cx="27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03560" y="4952880"/>
            <a:ext cx="1572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3657600"/>
            <a:ext cx="76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75880" y="2895480"/>
            <a:ext cx="62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29200" y="4648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4-20 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27432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4-20 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3048120"/>
            <a:ext cx="1663560" cy="82548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n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34225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124080" y="3263400"/>
            <a:ext cx="6372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342252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81280" y="3048120"/>
            <a:ext cx="901800" cy="82548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95680" y="3422520"/>
            <a:ext cx="106704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483080" y="464184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81280" y="4267080"/>
            <a:ext cx="901800" cy="67320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/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892160" y="4641840"/>
            <a:ext cx="168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898640" y="3873600"/>
            <a:ext cx="0" cy="77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33520" y="3422520"/>
            <a:ext cx="44424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82320" y="4164120"/>
            <a:ext cx="763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(k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4720" y="2666880"/>
            <a:ext cx="763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(k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289548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800600" y="441936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2362320"/>
            <a:ext cx="4572000" cy="2971800"/>
          </a:xfrm>
          <a:prstGeom prst="rect">
            <a:avLst/>
          </a:prstGeom>
          <a:noFill/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1828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dor dig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2720" y="3200400"/>
            <a:ext cx="291960" cy="444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3920" y="2590920"/>
            <a:ext cx="1316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t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57150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 señales que recibe y procesa el ordenador son de naturaleza distinta: digitales y solo cambian en ciertos instantes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odelo discretiz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444600" y="2843280"/>
                <a:ext cx="7804080" cy="37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A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σ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Bu</m:t>
                            </m:r>
                            <m:r>
                              <m:t xml:space="preserve">(</m:t>
                            </m:r>
                            <m:r>
                              <m:t xml:space="preserve">σ</m:t>
                            </m:r>
                            <m:r>
                              <m:t xml:space="preserve">)</m:t>
                            </m:r>
                            <m:r>
                              <m:t xml:space="preserve">dσ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A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σ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dσ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u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ambio de variable:   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T-</m:t>
                        </m:r>
                        <m:r>
                          <m:t xml:space="preserve">σ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 </m:t>
                        </m:r>
                        <m:r>
                          <m:t xml:space="preserve">dτ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-d</m:t>
                        </m:r>
                        <m:r>
                          <m:t xml:space="preserve">σ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Aτ</m:t>
                                </m:r>
                              </m:sup>
                            </m:sSup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u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1" name=""/>
          <p:cNvSpPr/>
          <p:nvPr/>
        </p:nvSpPr>
        <p:spPr>
          <a:xfrm>
            <a:off x="1263600" y="18111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187280" y="2421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263600" y="1963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1492200" y="1734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492200" y="1735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720800" y="1735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720800" y="2116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1949400" y="1963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949400" y="1963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30080" y="158256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059280" y="1773360"/>
            <a:ext cx="51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urante un periodo de muestreo u(t) es constante e igual a u(k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213000" y="5694480"/>
            <a:ext cx="581040" cy="6062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635360" y="5450040"/>
            <a:ext cx="1522440" cy="11491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odelo discretiz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3995640" y="1844640"/>
                <a:ext cx="4386240" cy="20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Φx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Φ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Aτ</m:t>
                                </m:r>
                              </m:sup>
                            </m:sSup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684360" y="1989000"/>
                <a:ext cx="2065320" cy="15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x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u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7" name=""/>
          <p:cNvSpPr/>
          <p:nvPr/>
        </p:nvSpPr>
        <p:spPr>
          <a:xfrm>
            <a:off x="3059280" y="2708280"/>
            <a:ext cx="576000" cy="28908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63600" y="48355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187280" y="5445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263600" y="4987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1492200" y="4758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492200" y="475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720800" y="47592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720800" y="51404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1949400" y="49878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949400" y="4987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0080" y="4606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276720" y="4653000"/>
            <a:ext cx="54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este tipo de entradas, el modelo discretizado da los mismos valores en los instantes t = kT que el modelo continuo. (Partiendo del mismo estado inicial y aplicando las mismas entr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995640" y="393372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00"/>
                </a:solidFill>
                <a:latin typeface="Times New Roman"/>
              </a:rPr>
              <a:t>Ecuación en di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50920" y="393372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lab  c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116000" y="6308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258920" y="580536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84360" y="5661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y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163520" y="5802480"/>
            <a:ext cx="1219320" cy="237960"/>
          </a:xfrm>
          <a:custGeom>
            <a:avLst/>
            <a:gdLst/>
            <a:ahLst/>
            <a:rect l="l" t="t" r="r" b="b"/>
            <a:pathLst>
              <a:path w="768" h="150">
                <a:moveTo>
                  <a:pt x="0" y="133"/>
                </a:moveTo>
                <a:cubicBezTo>
                  <a:pt x="42" y="146"/>
                  <a:pt x="43" y="150"/>
                  <a:pt x="105" y="133"/>
                </a:cubicBezTo>
                <a:cubicBezTo>
                  <a:pt x="113" y="131"/>
                  <a:pt x="115" y="119"/>
                  <a:pt x="122" y="115"/>
                </a:cubicBezTo>
                <a:cubicBezTo>
                  <a:pt x="130" y="110"/>
                  <a:pt x="139" y="109"/>
                  <a:pt x="148" y="106"/>
                </a:cubicBezTo>
                <a:cubicBezTo>
                  <a:pt x="181" y="75"/>
                  <a:pt x="219" y="43"/>
                  <a:pt x="262" y="28"/>
                </a:cubicBezTo>
                <a:cubicBezTo>
                  <a:pt x="286" y="2"/>
                  <a:pt x="298" y="0"/>
                  <a:pt x="332" y="10"/>
                </a:cubicBezTo>
                <a:cubicBezTo>
                  <a:pt x="371" y="52"/>
                  <a:pt x="324" y="7"/>
                  <a:pt x="375" y="37"/>
                </a:cubicBezTo>
                <a:cubicBezTo>
                  <a:pt x="396" y="49"/>
                  <a:pt x="407" y="77"/>
                  <a:pt x="428" y="89"/>
                </a:cubicBezTo>
                <a:cubicBezTo>
                  <a:pt x="436" y="94"/>
                  <a:pt x="446" y="94"/>
                  <a:pt x="454" y="98"/>
                </a:cubicBezTo>
                <a:cubicBezTo>
                  <a:pt x="463" y="103"/>
                  <a:pt x="472" y="109"/>
                  <a:pt x="480" y="115"/>
                </a:cubicBezTo>
                <a:cubicBezTo>
                  <a:pt x="487" y="120"/>
                  <a:pt x="491" y="129"/>
                  <a:pt x="498" y="133"/>
                </a:cubicBezTo>
                <a:cubicBezTo>
                  <a:pt x="514" y="142"/>
                  <a:pt x="533" y="144"/>
                  <a:pt x="550" y="150"/>
                </a:cubicBezTo>
                <a:cubicBezTo>
                  <a:pt x="624" y="139"/>
                  <a:pt x="693" y="106"/>
                  <a:pt x="768" y="1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201680" y="5991120"/>
            <a:ext cx="71640" cy="7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444680" y="5886360"/>
            <a:ext cx="71280" cy="7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82640" y="5805360"/>
            <a:ext cx="71640" cy="7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903320" y="5956200"/>
            <a:ext cx="71640" cy="7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151000" y="5958000"/>
            <a:ext cx="71640" cy="71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482840" y="501660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947960" y="51354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727280" y="5148360"/>
            <a:ext cx="0" cy="1093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182680" y="50245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04920" y="606744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y(k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939960" y="6229440"/>
            <a:ext cx="71280" cy="71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odelo discretiz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3995640" y="1844640"/>
                <a:ext cx="4386240" cy="20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Φx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Φ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Aτ</m:t>
                                </m:r>
                              </m:sup>
                            </m:sSup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684360" y="1989000"/>
                <a:ext cx="2065320" cy="15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x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u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9" name=""/>
          <p:cNvSpPr/>
          <p:nvPr/>
        </p:nvSpPr>
        <p:spPr>
          <a:xfrm>
            <a:off x="3059280" y="2708280"/>
            <a:ext cx="576000" cy="28908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673440" y="4248000"/>
                <a:ext cx="5070600" cy="20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Φx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Φ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Aτ</m:t>
                                </m:r>
                              </m:sup>
                            </m:sSup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519120" y="4275000"/>
            <a:ext cx="253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ormulaciones 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mplo: Depós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944640" y="2154240"/>
                <a:ext cx="23050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Δ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αΔh</m:t>
                        </m:r>
                        <m:r>
                          <m:t xml:space="preserve">+</m:t>
                        </m:r>
                        <m:r>
                          <m:t xml:space="preserve">βΔu</m:t>
                        </m:r>
                      </m:e>
                      <m:e>
                        <m:r>
                          <m:t xml:space="preserve">Δh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4140360" y="1844640"/>
                <a:ext cx="395280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Φx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Φ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Aτ</m:t>
                                </m:r>
                              </m:sup>
                            </m:sSup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954000" y="3860640"/>
                <a:ext cx="5749920" cy="17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Φ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α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ατ</m:t>
                                </m:r>
                              </m:sup>
                            </m:sSup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αT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Δh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αT</m:t>
                            </m:r>
                          </m:sup>
                        </m:sSup>
                        <m:r>
                          <m:t xml:space="preserve">Δ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αT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u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6" name=""/>
          <p:cNvSpPr/>
          <p:nvPr/>
        </p:nvSpPr>
        <p:spPr>
          <a:xfrm>
            <a:off x="826920" y="587700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elo discretizado: Ecuación en di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11280" y="4797360"/>
            <a:ext cx="6481800" cy="936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65080" y="1604880"/>
            <a:ext cx="16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q = 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mplo: Depós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598320" y="2154240"/>
                <a:ext cx="23050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Δ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αΔh</m:t>
                        </m:r>
                        <m:r>
                          <m:t xml:space="preserve">+</m:t>
                        </m:r>
                        <m:r>
                          <m:t xml:space="preserve">βΔu</m:t>
                        </m:r>
                      </m:e>
                      <m:e>
                        <m:r>
                          <m:t xml:space="preserve">Δh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4349880" y="1738440"/>
                <a:ext cx="39528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Φx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3139920" y="2901960"/>
                <a:ext cx="574992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h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αT</m:t>
                        </m:r>
                      </m:sup>
                    </m:sSup>
                    <m:r>
                      <m:t xml:space="preserve">Δ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β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αT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Δu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3" name=""/>
          <p:cNvSpPr/>
          <p:nvPr/>
        </p:nvSpPr>
        <p:spPr>
          <a:xfrm>
            <a:off x="3094200" y="4603680"/>
            <a:ext cx="58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elo discretizado: Ecuación en di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30360" y="1604880"/>
            <a:ext cx="16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q = 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496800" y="4197240"/>
                <a:ext cx="2330640" cy="18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2</m:t>
                        </m:r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rad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7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2876400" y="3718080"/>
                <a:ext cx="603252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h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5</m:t>
                    </m:r>
                    <m:r>
                      <m:t xml:space="preserve">Δh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2</m:t>
                    </m:r>
                    <m:r>
                      <m:t xml:space="preserve">Δu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7" name=""/>
          <p:cNvSpPr/>
          <p:nvPr/>
        </p:nvSpPr>
        <p:spPr>
          <a:xfrm>
            <a:off x="469800" y="373212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mplo: Mo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755640" y="3933720"/>
                <a:ext cx="307008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α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θ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β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V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θ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684360" y="1700280"/>
                <a:ext cx="5086080" cy="18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(</m:t>
                                  </m:r>
                                  <m:f>
                                    <m:num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RJ</m:t>
                                      </m:r>
                                    </m:den>
                                  </m:f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r>
                                        <m:t xml:space="preserve">f</m:t>
                                      </m:r>
                                    </m:num>
                                    <m:den>
                                      <m:r>
                                        <m:t xml:space="preserve">J</m:t>
                                      </m:r>
                                    </m:den>
                                  </m:f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θ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RJ</m:t>
                                      </m:r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J</m:t>
                                      </m:r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V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T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θ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3492360" y="4797360"/>
                <a:ext cx="148932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J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J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52" name=""/>
          <p:cNvSpPr/>
          <p:nvPr/>
        </p:nvSpPr>
        <p:spPr>
          <a:xfrm>
            <a:off x="6516720" y="3860640"/>
            <a:ext cx="1371600" cy="1219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5526000" y="3250800"/>
            <a:ext cx="685800" cy="167040"/>
            <a:chOff x="5526000" y="3250800"/>
            <a:chExt cx="685800" cy="167040"/>
          </a:xfrm>
        </p:grpSpPr>
        <p:sp>
          <p:nvSpPr>
            <p:cNvPr id="554" name=""/>
            <p:cNvSpPr/>
            <p:nvPr/>
          </p:nvSpPr>
          <p:spPr>
            <a:xfrm>
              <a:off x="5526000" y="3335040"/>
              <a:ext cx="17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5697360" y="3250800"/>
              <a:ext cx="6840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765760" y="3251160"/>
              <a:ext cx="6804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833800" y="3250800"/>
              <a:ext cx="10332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37120" y="3251160"/>
              <a:ext cx="684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6005520" y="3335040"/>
              <a:ext cx="34920" cy="8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040440" y="3335040"/>
              <a:ext cx="17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6211800" y="3327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6745320" y="3174840"/>
            <a:ext cx="304560" cy="304920"/>
            <a:chOff x="6745320" y="3174840"/>
            <a:chExt cx="304560" cy="304920"/>
          </a:xfrm>
        </p:grpSpPr>
        <p:sp>
          <p:nvSpPr>
            <p:cNvPr id="563" name=""/>
            <p:cNvSpPr/>
            <p:nvPr/>
          </p:nvSpPr>
          <p:spPr>
            <a:xfrm>
              <a:off x="6745320" y="3174840"/>
              <a:ext cx="10152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795720" y="3174840"/>
              <a:ext cx="10152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897600" y="3174840"/>
              <a:ext cx="10152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948360" y="3174840"/>
              <a:ext cx="10152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846840" y="3174840"/>
              <a:ext cx="10152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7050240" y="3327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202520" y="332748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916520" y="3327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202520" y="5079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973920" y="5689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050240" y="576576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126200" y="5842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202520" y="4546440"/>
            <a:ext cx="1295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421840" y="4622760"/>
            <a:ext cx="317520" cy="469800"/>
          </a:xfrm>
          <a:custGeom>
            <a:avLst/>
            <a:gdLst/>
            <a:ahLst/>
            <a:rect l="l" t="t" r="r" b="b"/>
            <a:pathLst>
              <a:path w="200" h="296">
                <a:moveTo>
                  <a:pt x="0" y="288"/>
                </a:moveTo>
                <a:cubicBezTo>
                  <a:pt x="12" y="292"/>
                  <a:pt x="24" y="296"/>
                  <a:pt x="48" y="288"/>
                </a:cubicBezTo>
                <a:cubicBezTo>
                  <a:pt x="72" y="280"/>
                  <a:pt x="120" y="264"/>
                  <a:pt x="144" y="240"/>
                </a:cubicBezTo>
                <a:cubicBezTo>
                  <a:pt x="168" y="216"/>
                  <a:pt x="184" y="176"/>
                  <a:pt x="192" y="144"/>
                </a:cubicBezTo>
                <a:cubicBezTo>
                  <a:pt x="200" y="112"/>
                  <a:pt x="200" y="72"/>
                  <a:pt x="192" y="48"/>
                </a:cubicBezTo>
                <a:cubicBezTo>
                  <a:pt x="184" y="24"/>
                  <a:pt x="152" y="8"/>
                  <a:pt x="14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193240" y="4241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745320" y="2717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602320" y="27176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535640" y="3403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526000" y="41655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6053760" y="4312440"/>
            <a:ext cx="315720" cy="315360"/>
            <a:chOff x="6053760" y="4312440"/>
            <a:chExt cx="315720" cy="315360"/>
          </a:xfrm>
        </p:grpSpPr>
        <p:sp>
          <p:nvSpPr>
            <p:cNvPr id="583" name=""/>
            <p:cNvSpPr/>
            <p:nvPr/>
          </p:nvSpPr>
          <p:spPr>
            <a:xfrm rot="5274000">
              <a:off x="6156720" y="4215960"/>
              <a:ext cx="10152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5274000">
              <a:off x="6158520" y="4266360"/>
              <a:ext cx="10152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5274000">
              <a:off x="6162480" y="4367880"/>
              <a:ext cx="10152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5274000">
              <a:off x="6164280" y="4418640"/>
              <a:ext cx="10152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5274000">
              <a:off x="6160680" y="4317480"/>
              <a:ext cx="10152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>
            <a:off x="6211800" y="4165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211800" y="4622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5525640" y="4927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278840" y="34034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193240" y="5156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282160" y="381780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mplo: Mo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611280" y="1773360"/>
                <a:ext cx="307008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α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θ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β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V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θ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4643280" y="1773360"/>
                <a:ext cx="395316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Φx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Φ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Aτ</m:t>
                                </m:r>
                              </m:sup>
                            </m:sSup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611280" y="3789360"/>
                <a:ext cx="8315280" cy="29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Φ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e>
                            </m:d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m>
                                              <m:mr>
                                                <m:e>
                                                  <m:r>
                                                    <m:t xml:space="preserve">s</m:t>
                                                  </m:r>
                                                </m:e>
                                                <m:e>
                                                  <m:r>
                                                    <m:t xml:space="preserve">0</m:t>
                                                  </m:r>
                                                </m:e>
                                              </m:mr>
                                              <m:mr>
                                                <m:e>
                                                  <m:r>
                                                    <m:t xml:space="preserve">0</m:t>
                                                  </m:r>
                                                </m:e>
                                                <m:e>
                                                  <m:r>
                                                    <m:t xml:space="preserve">s</m:t>
                                                  </m:r>
                                                </m:e>
                                              </m:mr>
                                            </m:m>
                                          </m:e>
                                        </m:d>
                                        <m:r>
                                          <m:t xml:space="preserve">−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m>
                                              <m:mr>
                                                <m:e>
                                                  <m:r>
                                                    <m:t xml:space="preserve">0</m:t>
                                                  </m:r>
                                                </m:e>
                                                <m:e>
                                                  <m:r>
                                                    <m:t xml:space="preserve">1</m:t>
                                                  </m:r>
                                                </m:e>
                                              </m:mr>
                                              <m:mr>
                                                <m:e>
                                                  <m:r>
                                                    <m:t xml:space="preserve">0</m:t>
                                                  </m:r>
                                                </m:e>
                                                <m:e>
                                                  <m:r>
                                                    <m:t xml:space="preserve">−</m:t>
                                                  </m:r>
                                                  <m:r>
                                                    <m:t xml:space="preserve">α</m:t>
                                                  </m:r>
                                                </m:e>
                                              </m:mr>
                                            </m:m>
                                          </m:e>
                                        </m:d>
                                      </m:e>
                                    </m:d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e>
                            </m:d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m>
                                          <m:m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e>
                                              <m:r>
                                                <m:t xml:space="preserve">−</m:t>
                                              </m:r>
                                              <m:r>
                                                <m:t xml:space="preserve">1</m:t>
                                              </m:r>
                                            </m:e>
                                          </m:mr>
                                          <m:mr>
                                            <m:e>
                                              <m:r>
                                                <m:t xml:space="preserve">0</m:t>
                                              </m:r>
                                            </m:e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  <m:r>
                                                <m:t xml:space="preserve">+</m:t>
                                              </m:r>
                                              <m:r>
                                                <m:t xml:space="preserve">α</m:t>
                                              </m:r>
                                            </m:e>
                                          </m:mr>
                                        </m:m>
                                      </m:e>
                                    </m:d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e>
                            </m:d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m>
                                      <m:mr>
                                        <m:e>
                                          <m:f>
                                            <m:num>
                                              <m:r>
                                                <m:t xml:space="preserve">1</m:t>
                                              </m:r>
                                            </m:num>
                                            <m:den>
                                              <m:r>
                                                <m:t xml:space="preserve">s</m:t>
                                              </m:r>
                                            </m:den>
                                          </m:f>
                                        </m:e>
                                        <m:e>
                                          <m:f>
                                            <m:num>
                                              <m:r>
                                                <m:t xml:space="preserve">1</m:t>
                                              </m:r>
                                            </m:num>
                                            <m:den>
                                              <m:r>
                                                <m:t xml:space="preserve">s</m:t>
                                              </m:r>
                                              <m:r>
                                                <m:t xml:space="preserve">(</m:t>
                                              </m:r>
                                              <m:r>
                                                <m:t xml:space="preserve">s</m:t>
                                              </m:r>
                                              <m:r>
                                                <m:t xml:space="preserve">+</m:t>
                                              </m:r>
                                              <m:r>
                                                <m:t xml:space="preserve">α</m:t>
                                              </m:r>
                                              <m:r>
                                                <m:t xml:space="preserve">)</m:t>
                                              </m:r>
                                            </m:den>
                                          </m:f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  <m:e>
                                          <m:f>
                                            <m:num>
                                              <m:r>
                                                <m:t xml:space="preserve">1</m:t>
                                              </m:r>
                                            </m:num>
                                            <m:den>
                                              <m:r>
                                                <m:t xml:space="preserve">s</m:t>
                                              </m:r>
                                              <m:r>
                                                <m:t xml:space="preserve">+</m:t>
                                              </m:r>
                                              <m:r>
                                                <m:t xml:space="preserve">α</m:t>
                                              </m:r>
                                            </m:den>
                                          </m:f>
                                        </m:e>
                                      </m:mr>
                                    </m:m>
                                  </m:e>
                                </m:d>
                              </m:e>
                            </m:d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αT</m:t>
                                      </m:r>
                                    </m:sup>
                                  </m:sSup>
                                  <m:r>
                                    <m:t xml:space="preserve">/</m:t>
                                  </m:r>
                                  <m:r>
                                    <m:t xml:space="preserve">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αT</m:t>
                                      </m:r>
                                    </m:sup>
                                  </m:sSup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8" name=""/>
          <p:cNvSpPr/>
          <p:nvPr/>
        </p:nvSpPr>
        <p:spPr>
          <a:xfrm>
            <a:off x="3635280" y="2637000"/>
            <a:ext cx="576360" cy="215640"/>
          </a:xfrm>
          <a:prstGeom prst="rightArrow">
            <a:avLst>
              <a:gd name="adj1" fmla="val 50000"/>
              <a:gd name="adj2" fmla="val 6682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mplo: Mo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250920" y="1700280"/>
                <a:ext cx="8750160" cy="23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Φ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αT</m:t>
                                      </m:r>
                                    </m:sup>
                                  </m:sSup>
                                  <m:r>
                                    <m:t xml:space="preserve">/</m:t>
                                  </m:r>
                                  <m:r>
                                    <m:t xml:space="preserve">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αT</m:t>
                                      </m:r>
                                    </m:sup>
                                  </m:sSup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Aτ</m:t>
                                </m:r>
                              </m:sup>
                            </m:sSup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−</m:t>
                                      </m:r>
                                      <m:sSup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  <m:sup>
                                          <m:r>
                                            <m:t xml:space="preserve">−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ατ</m:t>
                                          </m:r>
                                        </m:sup>
                                      </m:sSup>
                                      <m:r>
                                        <m:t xml:space="preserve">/</m:t>
                                      </m:r>
                                      <m:r>
                                        <m:t xml:space="preserve">α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sSup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  <m:sup>
                                          <m:r>
                                            <m:t xml:space="preserve">−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ατ</m:t>
                                          </m:r>
                                        </m:sup>
                                      </m:sSup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β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Γ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β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−</m:t>
                                      </m:r>
                                      <m:sSup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  <m:sup>
                                          <m:r>
                                            <m:t xml:space="preserve">−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ατ</m:t>
                                          </m:r>
                                        </m:sup>
                                      </m:sSup>
                                      <m:r>
                                        <m:t xml:space="preserve">)</m:t>
                                      </m:r>
                                      <m:r>
                                        <m:t xml:space="preserve">/</m:t>
                                      </m:r>
                                      <m:r>
                                        <m:t xml:space="preserve">α</m:t>
                                      </m:r>
                                    </m:e>
                                  </m:mr>
                                  <m:mr>
                                    <m:e>
                                      <m:sSup>
                                        <m:e>
                                          <m:r>
                                            <m:t xml:space="preserve">βe</m:t>
                                          </m:r>
                                        </m:e>
                                        <m:sup>
                                          <m:r>
                                            <m:t xml:space="preserve">−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ατ</m:t>
                                          </m:r>
                                        </m:sup>
                                      </m:sSup>
                                    </m:e>
                                  </m:mr>
                                </m:m>
                              </m:e>
                            </m:d>
                          </m:e>
                        </m:nary>
                        <m:r>
                          <m:t xml:space="preserve"> </m:t>
                        </m:r>
                        <m:r>
                          <m:t xml:space="preserve">dτ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α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α</m:t>
                                      </m:r>
                                    </m:den>
                                  </m:f>
                                  <m:r>
                                    <m:t xml:space="preserve">+</m:t>
                                  </m:r>
                                  <m:f>
                                    <m:num>
                                      <m:sSup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  <m:sup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αT</m:t>
                                          </m:r>
                                        </m:sup>
                                      </m:sSup>
                                    </m:num>
                                    <m:den>
                                      <m:r>
                                        <m:t xml:space="preserve">α</m:t>
                                      </m:r>
                                    </m:den>
                                  </m:f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αT</m:t>
                                      </m:r>
                                    </m:sup>
                                  </m:sSup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1" name=""/>
          <p:cNvSpPr/>
          <p:nvPr/>
        </p:nvSpPr>
        <p:spPr>
          <a:xfrm>
            <a:off x="468360" y="414972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= 5.108 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= 500  y  T =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1120680" y="4797360"/>
                <a:ext cx="6459480" cy="16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θ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78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θ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9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54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θ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θ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Times New Roman"/>
              </a:rPr>
              <a:t>Un proceso con retardo (de transporte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894280" y="2187720"/>
            <a:ext cx="1470240" cy="10382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894280" y="2162160"/>
            <a:ext cx="0" cy="105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345440" y="2192400"/>
            <a:ext cx="0" cy="105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881680" y="3225960"/>
            <a:ext cx="145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1415880" y="2560680"/>
            <a:ext cx="481320" cy="284040"/>
            <a:chOff x="1415880" y="2560680"/>
            <a:chExt cx="481320" cy="284040"/>
          </a:xfrm>
        </p:grpSpPr>
        <p:grpSp>
          <p:nvGrpSpPr>
            <p:cNvPr id="609" name=""/>
            <p:cNvGrpSpPr/>
            <p:nvPr/>
          </p:nvGrpSpPr>
          <p:grpSpPr>
            <a:xfrm>
              <a:off x="1415880" y="2560680"/>
              <a:ext cx="397080" cy="284040"/>
              <a:chOff x="1415880" y="2560680"/>
              <a:chExt cx="397080" cy="284040"/>
            </a:xfrm>
          </p:grpSpPr>
          <p:sp>
            <p:nvSpPr>
              <p:cNvPr id="610" name=""/>
              <p:cNvSpPr/>
              <p:nvPr/>
            </p:nvSpPr>
            <p:spPr>
              <a:xfrm>
                <a:off x="1662120" y="258912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1661760" y="2603520"/>
                <a:ext cx="150840" cy="20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662120" y="2603520"/>
                <a:ext cx="150840" cy="20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662120" y="281772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1520640" y="2703600"/>
                <a:ext cx="22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5400000">
                <a:off x="1313280" y="2662920"/>
                <a:ext cx="284040" cy="792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6" name=""/>
            <p:cNvSpPr/>
            <p:nvPr/>
          </p:nvSpPr>
          <p:spPr>
            <a:xfrm rot="16200000">
              <a:off x="1765440" y="2630520"/>
              <a:ext cx="125280" cy="13824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1743120" y="1989000"/>
            <a:ext cx="1116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1730520" y="282888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890720" y="2693880"/>
            <a:ext cx="396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351560" y="2187720"/>
            <a:ext cx="74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666200" y="2614680"/>
            <a:ext cx="45720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7351200" y="2854440"/>
            <a:ext cx="29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622920" y="2011320"/>
            <a:ext cx="0" cy="69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622920" y="2706840"/>
            <a:ext cx="196920" cy="45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426360" y="2706840"/>
            <a:ext cx="196560" cy="45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976320" y="2706840"/>
            <a:ext cx="407880" cy="1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5480" y="24462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174680" y="176688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42960" y="3236760"/>
            <a:ext cx="9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1-u)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890720" y="1828800"/>
            <a:ext cx="63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878120" y="3200400"/>
            <a:ext cx="61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386160" y="2162160"/>
            <a:ext cx="119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q , T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324240" y="285444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, v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327800" y="1717560"/>
            <a:ext cx="5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967360" y="2692440"/>
            <a:ext cx="8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669960" y="4240080"/>
                <a:ext cx="792468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ρc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qρc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qρc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Vρc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qρc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ρc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ol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7" name=""/>
          <p:cNvSpPr/>
          <p:nvPr/>
        </p:nvSpPr>
        <p:spPr>
          <a:xfrm>
            <a:off x="5202360" y="5584680"/>
            <a:ext cx="33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oniendo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07880" y="1557360"/>
            <a:ext cx="229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u: señal en tanto por u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ezcla con retar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894280" y="2187720"/>
            <a:ext cx="1470240" cy="10382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894280" y="2162160"/>
            <a:ext cx="0" cy="105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345440" y="2192400"/>
            <a:ext cx="0" cy="105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881680" y="3225960"/>
            <a:ext cx="145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1415880" y="2560680"/>
            <a:ext cx="481320" cy="284040"/>
            <a:chOff x="1415880" y="2560680"/>
            <a:chExt cx="481320" cy="284040"/>
          </a:xfrm>
        </p:grpSpPr>
        <p:grpSp>
          <p:nvGrpSpPr>
            <p:cNvPr id="645" name=""/>
            <p:cNvGrpSpPr/>
            <p:nvPr/>
          </p:nvGrpSpPr>
          <p:grpSpPr>
            <a:xfrm>
              <a:off x="1415880" y="2560680"/>
              <a:ext cx="397080" cy="284040"/>
              <a:chOff x="1415880" y="2560680"/>
              <a:chExt cx="397080" cy="284040"/>
            </a:xfrm>
          </p:grpSpPr>
          <p:sp>
            <p:nvSpPr>
              <p:cNvPr id="646" name=""/>
              <p:cNvSpPr/>
              <p:nvPr/>
            </p:nvSpPr>
            <p:spPr>
              <a:xfrm>
                <a:off x="1662120" y="258912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>
                <a:off x="1661760" y="2603520"/>
                <a:ext cx="150840" cy="20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662120" y="2603520"/>
                <a:ext cx="150840" cy="20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662120" y="281772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>
                <a:off x="1520640" y="2703600"/>
                <a:ext cx="22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5400000">
                <a:off x="1313280" y="2662920"/>
                <a:ext cx="284040" cy="792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2" name=""/>
            <p:cNvSpPr/>
            <p:nvPr/>
          </p:nvSpPr>
          <p:spPr>
            <a:xfrm rot="16200000">
              <a:off x="1765440" y="2630520"/>
              <a:ext cx="125280" cy="13824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1743120" y="1989000"/>
            <a:ext cx="1116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1730520" y="282888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890720" y="2693880"/>
            <a:ext cx="396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351560" y="2187720"/>
            <a:ext cx="74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666200" y="2614680"/>
            <a:ext cx="45720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7351200" y="2854440"/>
            <a:ext cx="29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622920" y="2011320"/>
            <a:ext cx="0" cy="69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622920" y="2706840"/>
            <a:ext cx="196920" cy="45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426360" y="2706840"/>
            <a:ext cx="196560" cy="45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976320" y="2706840"/>
            <a:ext cx="407880" cy="1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55480" y="24462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174680" y="176688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42960" y="3236760"/>
            <a:ext cx="9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1-u)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890720" y="1828800"/>
            <a:ext cx="63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878120" y="3200400"/>
            <a:ext cx="61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386160" y="2162160"/>
            <a:ext cx="119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q , T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324240" y="285444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, v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327800" y="1717560"/>
            <a:ext cx="5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967360" y="2692440"/>
            <a:ext cx="8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1082520" y="3824280"/>
                <a:ext cx="4354560" cy="27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 </m:t>
                            </m:r>
                            <m:r>
                              <m:t xml:space="preserve">ΔT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Δ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ΔT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ΔT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Δ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3" name=""/>
          <p:cNvSpPr/>
          <p:nvPr/>
        </p:nvSpPr>
        <p:spPr>
          <a:xfrm>
            <a:off x="5473800" y="4475160"/>
            <a:ext cx="3324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, u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punto de operación estacio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ñ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172200" y="2760840"/>
            <a:ext cx="1600200" cy="8809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772400" y="320040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153280" y="3200400"/>
            <a:ext cx="0" cy="12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105520" y="4419720"/>
            <a:ext cx="306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69040" y="4197240"/>
            <a:ext cx="444600" cy="444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3200400"/>
            <a:ext cx="27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3429000"/>
            <a:ext cx="76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075880" y="2666880"/>
            <a:ext cx="62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2819520"/>
            <a:ext cx="1663560" cy="82548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n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31939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124080" y="3034800"/>
            <a:ext cx="6372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319392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1280" y="2819520"/>
            <a:ext cx="901800" cy="82548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95680" y="3193920"/>
            <a:ext cx="106704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483080" y="441324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4038480"/>
            <a:ext cx="901800" cy="67320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/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892160" y="4413240"/>
            <a:ext cx="168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898640" y="3645000"/>
            <a:ext cx="0" cy="77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33520" y="3193920"/>
            <a:ext cx="44424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2320" y="3935520"/>
            <a:ext cx="763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(k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6640" y="1676520"/>
            <a:ext cx="763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(k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266688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800600" y="419076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2971800"/>
            <a:ext cx="291960" cy="444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198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590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724280" y="1904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2286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181480" y="2133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8148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2362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1752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1905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895480" y="18284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352680" y="2057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9880" y="2286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2057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2209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17160" y="4495680"/>
            <a:ext cx="763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(k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4724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5334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286000" y="4876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743200" y="5028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510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4876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75120" y="4648320"/>
            <a:ext cx="550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10080" y="4724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4120" y="5334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105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4838760"/>
            <a:ext cx="762120" cy="291960"/>
          </a:xfrm>
          <a:custGeom>
            <a:avLst/>
            <a:gdLst/>
            <a:ahLst/>
            <a:rect l="l" t="t" r="r" b="b"/>
            <a:pathLst>
              <a:path w="480" h="184">
                <a:moveTo>
                  <a:pt x="0" y="24"/>
                </a:moveTo>
                <a:cubicBezTo>
                  <a:pt x="48" y="12"/>
                  <a:pt x="96" y="0"/>
                  <a:pt x="144" y="24"/>
                </a:cubicBezTo>
                <a:cubicBezTo>
                  <a:pt x="192" y="48"/>
                  <a:pt x="240" y="152"/>
                  <a:pt x="288" y="168"/>
                </a:cubicBezTo>
                <a:cubicBezTo>
                  <a:pt x="336" y="184"/>
                  <a:pt x="400" y="128"/>
                  <a:pt x="432" y="120"/>
                </a:cubicBezTo>
                <a:cubicBezTo>
                  <a:pt x="464" y="112"/>
                  <a:pt x="472" y="120"/>
                  <a:pt x="480" y="1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55627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57913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información en el ordenador se actualiza cada T unidades de tiempo  (periodo de muestre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ezcla con retar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869080" y="2014560"/>
            <a:ext cx="1469880" cy="10382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869080" y="1989000"/>
            <a:ext cx="0" cy="105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319880" y="2019240"/>
            <a:ext cx="0" cy="105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856120" y="3052800"/>
            <a:ext cx="145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1390680" y="2387520"/>
            <a:ext cx="480600" cy="284040"/>
            <a:chOff x="1390680" y="2387520"/>
            <a:chExt cx="480600" cy="284040"/>
          </a:xfrm>
        </p:grpSpPr>
        <p:grpSp>
          <p:nvGrpSpPr>
            <p:cNvPr id="680" name=""/>
            <p:cNvGrpSpPr/>
            <p:nvPr/>
          </p:nvGrpSpPr>
          <p:grpSpPr>
            <a:xfrm>
              <a:off x="1390680" y="2387520"/>
              <a:ext cx="397080" cy="284040"/>
              <a:chOff x="1390680" y="2387520"/>
              <a:chExt cx="397080" cy="284040"/>
            </a:xfrm>
          </p:grpSpPr>
          <p:sp>
            <p:nvSpPr>
              <p:cNvPr id="681" name=""/>
              <p:cNvSpPr/>
              <p:nvPr/>
            </p:nvSpPr>
            <p:spPr>
              <a:xfrm>
                <a:off x="1636920" y="241596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H="1">
                <a:off x="1636560" y="2430360"/>
                <a:ext cx="150840" cy="20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636920" y="2430360"/>
                <a:ext cx="150840" cy="20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636920" y="264456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>
                <a:off x="1495440" y="2530440"/>
                <a:ext cx="22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5400000">
                <a:off x="1288080" y="2489760"/>
                <a:ext cx="284040" cy="792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7" name=""/>
            <p:cNvSpPr/>
            <p:nvPr/>
          </p:nvSpPr>
          <p:spPr>
            <a:xfrm rot="16200000">
              <a:off x="1739520" y="2457360"/>
              <a:ext cx="125280" cy="1378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8" name=""/>
          <p:cNvSpPr/>
          <p:nvPr/>
        </p:nvSpPr>
        <p:spPr>
          <a:xfrm>
            <a:off x="1717560" y="1816200"/>
            <a:ext cx="1116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1704960" y="265572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865160" y="2521080"/>
            <a:ext cx="396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326360" y="2014560"/>
            <a:ext cx="74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640640" y="2441520"/>
            <a:ext cx="45720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7326360" y="2681280"/>
            <a:ext cx="29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597720" y="1838160"/>
            <a:ext cx="0" cy="69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597720" y="2533680"/>
            <a:ext cx="196920" cy="46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400800" y="2533680"/>
            <a:ext cx="196920" cy="46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950760" y="2533680"/>
            <a:ext cx="40824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30280" y="227340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149480" y="159372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17400" y="3063960"/>
            <a:ext cx="9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1-u)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65160" y="1655640"/>
            <a:ext cx="63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52560" y="3027240"/>
            <a:ext cx="61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360600" y="1989000"/>
            <a:ext cx="119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q , T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298680" y="268128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, v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302600" y="1544760"/>
            <a:ext cx="56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942160" y="2519280"/>
            <a:ext cx="8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649440" y="3657600"/>
                <a:ext cx="7418160" cy="304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 </m:t>
                            </m:r>
                            <m:r>
                              <m:t xml:space="preserve">ΔT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Δ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τs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</m:den>
                            </m:f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 </m:t>
                            </m:r>
                            <m:r>
                              <m:t xml:space="preserve">ΔT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ΔT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Δ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ΔT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T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8" name=""/>
          <p:cNvSpPr/>
          <p:nvPr/>
        </p:nvSpPr>
        <p:spPr>
          <a:xfrm>
            <a:off x="246240" y="5548320"/>
            <a:ext cx="3682800" cy="114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584600" y="562284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elo con retardo a la 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tardo a la sal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125880" y="2225520"/>
            <a:ext cx="1469880" cy="10382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125880" y="2200320"/>
            <a:ext cx="0" cy="105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576680" y="2230560"/>
            <a:ext cx="0" cy="105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112920" y="3263760"/>
            <a:ext cx="145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1390680" y="2387520"/>
            <a:ext cx="480600" cy="284040"/>
            <a:chOff x="1390680" y="2387520"/>
            <a:chExt cx="480600" cy="284040"/>
          </a:xfrm>
        </p:grpSpPr>
        <p:grpSp>
          <p:nvGrpSpPr>
            <p:cNvPr id="716" name=""/>
            <p:cNvGrpSpPr/>
            <p:nvPr/>
          </p:nvGrpSpPr>
          <p:grpSpPr>
            <a:xfrm>
              <a:off x="1390680" y="2387520"/>
              <a:ext cx="397080" cy="284040"/>
              <a:chOff x="1390680" y="2387520"/>
              <a:chExt cx="397080" cy="284040"/>
            </a:xfrm>
          </p:grpSpPr>
          <p:sp>
            <p:nvSpPr>
              <p:cNvPr id="717" name=""/>
              <p:cNvSpPr/>
              <p:nvPr/>
            </p:nvSpPr>
            <p:spPr>
              <a:xfrm>
                <a:off x="1636920" y="241596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>
                <a:off x="1636560" y="2430360"/>
                <a:ext cx="150840" cy="20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636920" y="2430360"/>
                <a:ext cx="150840" cy="20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636920" y="264456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1495440" y="2530440"/>
                <a:ext cx="22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rot="5400000">
                <a:off x="1288080" y="2489760"/>
                <a:ext cx="284040" cy="792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3" name=""/>
            <p:cNvSpPr/>
            <p:nvPr/>
          </p:nvSpPr>
          <p:spPr>
            <a:xfrm rot="16200000">
              <a:off x="1739520" y="2457360"/>
              <a:ext cx="125280" cy="1378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1717560" y="1816200"/>
            <a:ext cx="1116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1704960" y="265572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65160" y="2521080"/>
            <a:ext cx="1249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583160" y="2225520"/>
            <a:ext cx="357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504200" y="2430360"/>
            <a:ext cx="45720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854520" y="2049480"/>
            <a:ext cx="0" cy="69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854520" y="2744640"/>
            <a:ext cx="196920" cy="46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657600" y="2744640"/>
            <a:ext cx="196920" cy="46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950760" y="2533680"/>
            <a:ext cx="40824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30280" y="227340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149480" y="159372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17400" y="3063960"/>
            <a:ext cx="9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1-u)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865160" y="1655640"/>
            <a:ext cx="63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852560" y="3027240"/>
            <a:ext cx="61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247840" y="2001960"/>
            <a:ext cx="119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q , T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834160" y="2320920"/>
            <a:ext cx="12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, v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965400" y="2236680"/>
            <a:ext cx="5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98960" y="2730600"/>
            <a:ext cx="8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763560" y="3840120"/>
                <a:ext cx="7188120" cy="26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 </m:t>
                            </m:r>
                            <m:r>
                              <m:t xml:space="preserve">ΔT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Δ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ΔT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 </m:t>
                            </m:r>
                            <m:r>
                              <m:t xml:space="preserve">ΔT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ΔT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Δ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T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3" name=""/>
          <p:cNvSpPr/>
          <p:nvPr/>
        </p:nvSpPr>
        <p:spPr>
          <a:xfrm>
            <a:off x="257040" y="5411880"/>
            <a:ext cx="3683160" cy="1149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584600" y="562284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elo con retardo a la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7736040" y="22366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462800" y="1668600"/>
            <a:ext cx="61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tar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414360" y="1741320"/>
                <a:ext cx="3817800" cy="15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9" name=""/>
          <p:cNvSpPr/>
          <p:nvPr/>
        </p:nvSpPr>
        <p:spPr>
          <a:xfrm>
            <a:off x="5364000" y="1773360"/>
            <a:ext cx="0" cy="17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189400" y="3311640"/>
            <a:ext cx="323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932360" y="2997360"/>
            <a:ext cx="406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5364000" y="2636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64000" y="2637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003640" y="1557360"/>
            <a:ext cx="3457800" cy="777960"/>
          </a:xfrm>
          <a:custGeom>
            <a:avLst/>
            <a:gdLst/>
            <a:ahLst/>
            <a:rect l="l" t="t" r="r" b="b"/>
            <a:pathLst>
              <a:path w="2178" h="490">
                <a:moveTo>
                  <a:pt x="0" y="460"/>
                </a:moveTo>
                <a:cubicBezTo>
                  <a:pt x="378" y="475"/>
                  <a:pt x="756" y="490"/>
                  <a:pt x="953" y="460"/>
                </a:cubicBezTo>
                <a:cubicBezTo>
                  <a:pt x="1150" y="430"/>
                  <a:pt x="1097" y="347"/>
                  <a:pt x="1180" y="279"/>
                </a:cubicBezTo>
                <a:cubicBezTo>
                  <a:pt x="1263" y="211"/>
                  <a:pt x="1331" y="97"/>
                  <a:pt x="1452" y="52"/>
                </a:cubicBezTo>
                <a:cubicBezTo>
                  <a:pt x="1573" y="7"/>
                  <a:pt x="1785" y="14"/>
                  <a:pt x="1906" y="7"/>
                </a:cubicBezTo>
                <a:cubicBezTo>
                  <a:pt x="2027" y="0"/>
                  <a:pt x="2102" y="3"/>
                  <a:pt x="2178" y="7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651640" y="213372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940360" y="213372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227640" y="213372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516720" y="213372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643280" y="242100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667640" y="1125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076720" y="364500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364000" y="3357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k+1)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580000" y="3645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k+2)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300720" y="3357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k+d)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68360" y="342900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so en que el retardo dT es un multiplo, del periodo de muestreo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846000" y="4508640"/>
                <a:ext cx="723600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σ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Bu</m:t>
                        </m:r>
                        <m:r>
                          <m:t xml:space="preserve">(</m:t>
                        </m:r>
                        <m:r>
                          <m:t xml:space="preserve">σ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)</m:t>
                        </m:r>
                        <m:r>
                          <m:t xml:space="preserve">dσ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67" name=""/>
          <p:cNvSpPr/>
          <p:nvPr/>
        </p:nvSpPr>
        <p:spPr>
          <a:xfrm>
            <a:off x="5364000" y="2997360"/>
            <a:ext cx="11527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6516720" y="2636640"/>
            <a:ext cx="0" cy="3603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516720" y="2637000"/>
            <a:ext cx="136836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524720" y="2205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(t-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tar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364000" y="1773360"/>
            <a:ext cx="0" cy="17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189400" y="3311640"/>
            <a:ext cx="323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932360" y="2997360"/>
            <a:ext cx="406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5364000" y="2636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364000" y="263700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003640" y="1557360"/>
            <a:ext cx="3457800" cy="777960"/>
          </a:xfrm>
          <a:custGeom>
            <a:avLst/>
            <a:gdLst/>
            <a:ahLst/>
            <a:rect l="l" t="t" r="r" b="b"/>
            <a:pathLst>
              <a:path w="2178" h="490">
                <a:moveTo>
                  <a:pt x="0" y="460"/>
                </a:moveTo>
                <a:cubicBezTo>
                  <a:pt x="378" y="475"/>
                  <a:pt x="756" y="490"/>
                  <a:pt x="953" y="460"/>
                </a:cubicBezTo>
                <a:cubicBezTo>
                  <a:pt x="1150" y="430"/>
                  <a:pt x="1097" y="347"/>
                  <a:pt x="1180" y="279"/>
                </a:cubicBezTo>
                <a:cubicBezTo>
                  <a:pt x="1263" y="211"/>
                  <a:pt x="1331" y="97"/>
                  <a:pt x="1452" y="52"/>
                </a:cubicBezTo>
                <a:cubicBezTo>
                  <a:pt x="1573" y="7"/>
                  <a:pt x="1785" y="14"/>
                  <a:pt x="1906" y="7"/>
                </a:cubicBezTo>
                <a:cubicBezTo>
                  <a:pt x="2027" y="0"/>
                  <a:pt x="2102" y="3"/>
                  <a:pt x="2178" y="7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51640" y="213372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940360" y="213372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227640" y="213372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516720" y="213372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643280" y="242100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67640" y="1125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148360" y="335772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300720" y="3357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k+d)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39640" y="191628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so en que el retardo dT es un multiplo, del periodo de muestreo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611280" y="3586320"/>
                <a:ext cx="6912000" cy="30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A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σ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Bu</m:t>
                            </m:r>
                            <m:r>
                              <m:t xml:space="preserve">(</m:t>
                            </m:r>
                            <m:r>
                              <m:t xml:space="preserve">σ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)</m:t>
                            </m:r>
                            <m:r>
                              <m:t xml:space="preserve">dσ</m:t>
                            </m:r>
                          </m:e>
                        </m:nary>
                      </m:e>
                      <m:e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σ</m:t>
                        </m:r>
                        <m:r>
                          <m:t xml:space="preserve">=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dσ</m:t>
                        </m:r>
                        <m:r>
                          <m:t xml:space="preserve">=</m:t>
                        </m:r>
                        <m:r>
                          <m:t xml:space="preserve">dτ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Aτ</m:t>
                                </m:r>
                              </m:sup>
                            </m:sSup>
                            <m:r>
                              <m:t xml:space="preserve">dσ</m:t>
                            </m:r>
                            <m:r>
                              <m:t xml:space="preserve"> 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Bu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Φx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9" name=""/>
          <p:cNvSpPr/>
          <p:nvPr/>
        </p:nvSpPr>
        <p:spPr>
          <a:xfrm>
            <a:off x="7380360" y="27082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(t-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940360" y="263700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940360" y="285264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6227640" y="2565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227640" y="2565360"/>
            <a:ext cx="11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364000" y="2997360"/>
            <a:ext cx="11271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6516720" y="2636640"/>
            <a:ext cx="0" cy="360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516720" y="2637000"/>
            <a:ext cx="5763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093080" y="2637000"/>
            <a:ext cx="0" cy="2156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093080" y="285264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7380360" y="2565360"/>
            <a:ext cx="0" cy="287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380360" y="2565360"/>
            <a:ext cx="11523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o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2" name=""/>
              <p:cNvSpPr txBox="1"/>
              <p:nvPr/>
            </p:nvSpPr>
            <p:spPr>
              <a:xfrm>
                <a:off x="2305080" y="1758960"/>
                <a:ext cx="4386240" cy="20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Φx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Φ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Aτ</m:t>
                                </m:r>
                              </m:sup>
                            </m:sSup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801720" y="4844880"/>
                <a:ext cx="35323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Φ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4" name=""/>
          <p:cNvSpPr/>
          <p:nvPr/>
        </p:nvSpPr>
        <p:spPr>
          <a:xfrm>
            <a:off x="4979880" y="4721400"/>
            <a:ext cx="32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k se refiere al primer, segundo, tercer, etc. periodo de muestr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839880" y="4065480"/>
            <a:ext cx="38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r simplicid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mplo: Mezc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869080" y="2014560"/>
            <a:ext cx="1469880" cy="10382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869080" y="1989000"/>
            <a:ext cx="0" cy="105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319880" y="2019240"/>
            <a:ext cx="0" cy="105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856120" y="3052800"/>
            <a:ext cx="145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1390680" y="2387520"/>
            <a:ext cx="480600" cy="284040"/>
            <a:chOff x="1390680" y="2387520"/>
            <a:chExt cx="480600" cy="284040"/>
          </a:xfrm>
        </p:grpSpPr>
        <p:grpSp>
          <p:nvGrpSpPr>
            <p:cNvPr id="812" name=""/>
            <p:cNvGrpSpPr/>
            <p:nvPr/>
          </p:nvGrpSpPr>
          <p:grpSpPr>
            <a:xfrm>
              <a:off x="1390680" y="2387520"/>
              <a:ext cx="397080" cy="284040"/>
              <a:chOff x="1390680" y="2387520"/>
              <a:chExt cx="397080" cy="284040"/>
            </a:xfrm>
          </p:grpSpPr>
          <p:sp>
            <p:nvSpPr>
              <p:cNvPr id="813" name=""/>
              <p:cNvSpPr/>
              <p:nvPr/>
            </p:nvSpPr>
            <p:spPr>
              <a:xfrm>
                <a:off x="1636920" y="241596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H="1">
                <a:off x="1636560" y="2430360"/>
                <a:ext cx="150840" cy="20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636920" y="2430360"/>
                <a:ext cx="150840" cy="20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636920" y="264456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H="1">
                <a:off x="1495440" y="2530440"/>
                <a:ext cx="22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5400000">
                <a:off x="1288080" y="2489760"/>
                <a:ext cx="284040" cy="792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9" name=""/>
            <p:cNvSpPr/>
            <p:nvPr/>
          </p:nvSpPr>
          <p:spPr>
            <a:xfrm rot="16200000">
              <a:off x="1739520" y="2457360"/>
              <a:ext cx="125280" cy="1378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1717560" y="1816200"/>
            <a:ext cx="1116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1704960" y="265572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865160" y="2521080"/>
            <a:ext cx="396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326360" y="2014560"/>
            <a:ext cx="74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640640" y="2441520"/>
            <a:ext cx="45720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7326360" y="2681280"/>
            <a:ext cx="29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597720" y="1838160"/>
            <a:ext cx="0" cy="69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597720" y="2533680"/>
            <a:ext cx="196920" cy="46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400800" y="2533680"/>
            <a:ext cx="196920" cy="46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950760" y="2533680"/>
            <a:ext cx="40824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30280" y="227340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149480" y="159372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17400" y="3063960"/>
            <a:ext cx="9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1-u)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865160" y="1655640"/>
            <a:ext cx="63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852560" y="3027240"/>
            <a:ext cx="61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360600" y="1989000"/>
            <a:ext cx="119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q , T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98680" y="268128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, v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302600" y="1544760"/>
            <a:ext cx="56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942160" y="2519280"/>
            <a:ext cx="8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9" name=""/>
              <p:cNvSpPr txBox="1"/>
              <p:nvPr/>
            </p:nvSpPr>
            <p:spPr>
              <a:xfrm>
                <a:off x="946080" y="4422600"/>
                <a:ext cx="6796080" cy="20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 </m:t>
                            </m:r>
                            <m:r>
                              <m:t xml:space="preserve">ΔT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ΔT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Δ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e>
                        <m:r>
                          <m:t xml:space="preserve">Φ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5</m:t>
                        </m:r>
                        <m:r>
                          <m:t xml:space="preserve"> 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4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den>
                                </m:f>
                                <m:r>
                                  <m:t xml:space="preserve">τ</m:t>
                                </m:r>
                              </m:sup>
                            </m:sSup>
                            <m:r>
                              <m:t xml:space="preserve">dτ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</m:e>
                        </m:nary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5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40" name=""/>
          <p:cNvSpPr/>
          <p:nvPr/>
        </p:nvSpPr>
        <p:spPr>
          <a:xfrm>
            <a:off x="4016520" y="3336840"/>
            <a:ext cx="4905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q=4 l/min, V=10 l, T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60ºC, T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10ºC, vol=4 l, periodo = 0.5 m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tardo no múltipo de 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2" name=""/>
              <p:cNvSpPr txBox="1"/>
              <p:nvPr/>
            </p:nvSpPr>
            <p:spPr>
              <a:xfrm>
                <a:off x="655560" y="3757680"/>
                <a:ext cx="6946920" cy="29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A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σ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Bu</m:t>
                            </m:r>
                            <m:r>
                              <m:t xml:space="preserve">(</m:t>
                            </m:r>
                            <m:r>
                              <m:t xml:space="preserve">σ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σ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  <m:r>
                              <m:t xml:space="preserve">+</m:t>
                            </m:r>
                            <m:r>
                              <m:t xml:space="preserve">τ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A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σ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dσ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u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  <m:r>
                              <m:t xml:space="preserve">+</m:t>
                            </m:r>
                            <m:r>
                              <m:t xml:space="preserve">τ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A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σ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dσ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u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3" name=""/>
              <p:cNvSpPr txBox="1"/>
              <p:nvPr/>
            </p:nvSpPr>
            <p:spPr>
              <a:xfrm>
                <a:off x="622440" y="1741320"/>
                <a:ext cx="31017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44" name=""/>
          <p:cNvSpPr/>
          <p:nvPr/>
        </p:nvSpPr>
        <p:spPr>
          <a:xfrm>
            <a:off x="5364000" y="1773360"/>
            <a:ext cx="0" cy="17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189400" y="3311640"/>
            <a:ext cx="323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932360" y="2997360"/>
            <a:ext cx="406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5364000" y="2636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64000" y="2637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224240" y="1619280"/>
            <a:ext cx="3457800" cy="777960"/>
          </a:xfrm>
          <a:custGeom>
            <a:avLst/>
            <a:gdLst/>
            <a:ahLst/>
            <a:rect l="l" t="t" r="r" b="b"/>
            <a:pathLst>
              <a:path w="2178" h="490">
                <a:moveTo>
                  <a:pt x="0" y="460"/>
                </a:moveTo>
                <a:cubicBezTo>
                  <a:pt x="378" y="475"/>
                  <a:pt x="756" y="490"/>
                  <a:pt x="953" y="460"/>
                </a:cubicBezTo>
                <a:cubicBezTo>
                  <a:pt x="1150" y="430"/>
                  <a:pt x="1097" y="347"/>
                  <a:pt x="1180" y="279"/>
                </a:cubicBezTo>
                <a:cubicBezTo>
                  <a:pt x="1263" y="211"/>
                  <a:pt x="1331" y="97"/>
                  <a:pt x="1452" y="52"/>
                </a:cubicBezTo>
                <a:cubicBezTo>
                  <a:pt x="1573" y="7"/>
                  <a:pt x="1785" y="14"/>
                  <a:pt x="1906" y="7"/>
                </a:cubicBezTo>
                <a:cubicBezTo>
                  <a:pt x="2027" y="0"/>
                  <a:pt x="2102" y="3"/>
                  <a:pt x="2178" y="7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940360" y="213372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516720" y="213372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643280" y="242100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667640" y="1125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991040" y="33735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573880" y="3381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k+1)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357960" y="3384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k+2)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364000" y="2997360"/>
            <a:ext cx="38592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5762520" y="2623680"/>
            <a:ext cx="0" cy="3603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516720" y="2637000"/>
            <a:ext cx="136836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61" name=""/>
          <p:cNvSpPr/>
          <p:nvPr/>
        </p:nvSpPr>
        <p:spPr>
          <a:xfrm>
            <a:off x="5549760" y="290340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412920" y="176040"/>
                <a:ext cx="8323200" cy="646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  <m:r>
                              <m:t xml:space="preserve">+</m:t>
                            </m:r>
                            <m:r>
                              <m:t xml:space="preserve">τ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A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σ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dσ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u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  <m:r>
                              <m:t xml:space="preserve">+</m:t>
                            </m:r>
                            <m:r>
                              <m:t xml:space="preserve">τ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A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σ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dσ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u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ambios de variable:   </m:t>
                        </m:r>
                        <m:r>
                          <m:t xml:space="preserve">ζ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+</m:t>
                        </m:r>
                        <m:r>
                          <m:t xml:space="preserve">τ</m:t>
                        </m:r>
                        <m:r>
                          <m:t xml:space="preserve">−</m:t>
                        </m:r>
                        <m:r>
                          <m:t xml:space="preserve">σ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ξ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T-</m:t>
                        </m:r>
                        <m:r>
                          <m:t xml:space="preserve">σ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 </m:t>
                        </m:r>
                        <m:r>
                          <m:t xml:space="preserve">dξ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dσ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</m:sup>
                        </m:sSup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τ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Aζ</m:t>
                                </m:r>
                              </m:sup>
                            </m:sSup>
                            <m:r>
                              <m:t xml:space="preserve">dζ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u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Aξ</m:t>
                                </m:r>
                              </m:sup>
                            </m:sSup>
                            <m:r>
                              <m:t xml:space="preserve">dξ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u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Φx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Φ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Aξ</m:t>
                                </m:r>
                              </m:sup>
                            </m:sSup>
                            <m:r>
                              <m:t xml:space="preserve">dξ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</m:sup>
                        </m:sSup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τ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Aζ</m:t>
                                </m:r>
                              </m:sup>
                            </m:sSup>
                            <m:r>
                              <m:t xml:space="preserve">dζ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u</m:t>
                                  </m:r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T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Φ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T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u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I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T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u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3" name=""/>
          <p:cNvSpPr/>
          <p:nvPr/>
        </p:nvSpPr>
        <p:spPr>
          <a:xfrm>
            <a:off x="4781520" y="5907240"/>
            <a:ext cx="25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ormato estand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odelo de variables de est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566640" y="1830240"/>
                <a:ext cx="35323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Φ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6" name=""/>
          <p:cNvSpPr/>
          <p:nvPr/>
        </p:nvSpPr>
        <p:spPr>
          <a:xfrm>
            <a:off x="4437000" y="1617840"/>
            <a:ext cx="379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modelo no es único: Existen múltiples modelos equivalentes entrada-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709560" y="3157560"/>
                <a:ext cx="5383440" cy="21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v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Φ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F</m:t>
                                  </m:r>
                                </m:e>
                                <m:e>
                                  <m:r>
                                    <m:t xml:space="preserve">G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v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Γ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H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v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8" name=""/>
          <p:cNvSpPr/>
          <p:nvPr/>
        </p:nvSpPr>
        <p:spPr>
          <a:xfrm>
            <a:off x="4522680" y="4572000"/>
            <a:ext cx="369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de menor dimensión se denomina realización mín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presentaciones equival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1023840" y="1841400"/>
                <a:ext cx="331020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Φ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4714920" y="1805040"/>
                <a:ext cx="401796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 invertible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979560" y="2951280"/>
                <a:ext cx="541800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Φ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Γ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sSup>
                          <m:e>
                            <m:r>
                              <m:t xml:space="preserve">PΦP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Γ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P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1434960" y="4637160"/>
                <a:ext cx="589932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PΦP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PΓ</m:t>
                            </m:r>
                          </m:e>
                        </m:d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P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O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2784600"/>
            <a:ext cx="1600200" cy="8571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772400" y="320040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3200400"/>
            <a:ext cx="27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3429000"/>
            <a:ext cx="76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075880" y="2666880"/>
            <a:ext cx="62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2819520"/>
            <a:ext cx="1663560" cy="82548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n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31939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124080" y="3034800"/>
            <a:ext cx="6372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319392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2819520"/>
            <a:ext cx="901800" cy="82548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3193920"/>
            <a:ext cx="106704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898640" y="3644640"/>
            <a:ext cx="0" cy="32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33520" y="3193920"/>
            <a:ext cx="44424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93320" y="3625920"/>
            <a:ext cx="763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(k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6640" y="1676520"/>
            <a:ext cx="763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(k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266688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2971800"/>
            <a:ext cx="291960" cy="444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198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19720" y="2590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9568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724280" y="1904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2286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181480" y="2133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2362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62520" y="1752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66880" y="1905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2514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895480" y="18284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352680" y="2057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2286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2057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2209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57913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ZOH  Zero Order Hold  mantenedor de orden c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53120" y="4175280"/>
            <a:ext cx="1600200" cy="8920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3320" y="459108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48200" y="4591080"/>
            <a:ext cx="27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29240" y="4819680"/>
            <a:ext cx="76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56800" y="4057560"/>
            <a:ext cx="62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71640" y="4210200"/>
            <a:ext cx="1663560" cy="82548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n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47800" y="45846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105000" y="4425480"/>
            <a:ext cx="6372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57640" y="458460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62200" y="4210200"/>
            <a:ext cx="901800" cy="82548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76600" y="4584600"/>
            <a:ext cx="106704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879560" y="5035320"/>
            <a:ext cx="0" cy="35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14440" y="4584600"/>
            <a:ext cx="44424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50120" y="5140440"/>
            <a:ext cx="763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(k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5840" y="405756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43640" y="4362480"/>
            <a:ext cx="291960" cy="444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72640" y="4648320"/>
            <a:ext cx="763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(k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09920" y="4003560"/>
            <a:ext cx="4510080" cy="1235160"/>
          </a:xfrm>
          <a:prstGeom prst="rect">
            <a:avLst/>
          </a:prstGeom>
          <a:noFill/>
          <a:ln w="1908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ropie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78040" y="1927080"/>
            <a:ext cx="766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ecuación característica  det[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-A ] = 0 es invariante en una represent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525600" y="4630680"/>
                <a:ext cx="7948440" cy="12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λI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ΦP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λ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P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ΦP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PλP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ΦP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λI</m:t>
                            </m:r>
                            <m:r>
                              <m:t xml:space="preserve">−</m:t>
                            </m:r>
                            <m:r>
                              <m:t xml:space="preserve">Φ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P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λI</m:t>
                            </m:r>
                            <m:r>
                              <m:t xml:space="preserve">−</m:t>
                            </m:r>
                            <m:r>
                              <m:t xml:space="preserve">Φ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λI</m:t>
                            </m:r>
                            <m:r>
                              <m:t xml:space="preserve">−</m:t>
                            </m:r>
                            <m:r>
                              <m:t xml:space="preserve">Φ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3906720" y="3138480"/>
                <a:ext cx="4616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PΦP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PΓ</m:t>
                            </m:r>
                          </m:e>
                        </m:d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P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709560" y="3184560"/>
                <a:ext cx="292104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Φ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spuesta temp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0" name=""/>
              <p:cNvSpPr txBox="1"/>
              <p:nvPr/>
            </p:nvSpPr>
            <p:spPr>
              <a:xfrm>
                <a:off x="344520" y="1681200"/>
                <a:ext cx="35323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Φ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81" name=""/>
          <p:cNvSpPr/>
          <p:nvPr/>
        </p:nvSpPr>
        <p:spPr>
          <a:xfrm>
            <a:off x="4375080" y="1693800"/>
            <a:ext cx="35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diciones iniciales: x(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2" name=""/>
              <p:cNvSpPr txBox="1"/>
              <p:nvPr/>
            </p:nvSpPr>
            <p:spPr>
              <a:xfrm>
                <a:off x="277920" y="2917800"/>
                <a:ext cx="8470800" cy="367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Φ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Φx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Φ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Φx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Γu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ΦΓ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Φ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Φ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Φ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ΦΓ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Γu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ΦΓ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Φ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Γu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CΦ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CΦ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Γu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83" name=""/>
          <p:cNvSpPr/>
          <p:nvPr/>
        </p:nvSpPr>
        <p:spPr>
          <a:xfrm>
            <a:off x="149400" y="5745240"/>
            <a:ext cx="8847000" cy="963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spuesta impulsional puls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5" name=""/>
              <p:cNvSpPr txBox="1"/>
              <p:nvPr/>
            </p:nvSpPr>
            <p:spPr>
              <a:xfrm>
                <a:off x="2482920" y="1684440"/>
                <a:ext cx="4186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CΦ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t xml:space="preserve">CΦ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86" name=""/>
          <p:cNvSpPr/>
          <p:nvPr/>
        </p:nvSpPr>
        <p:spPr>
          <a:xfrm>
            <a:off x="3236760" y="2976480"/>
            <a:ext cx="2384640" cy="119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273320" y="3657600"/>
            <a:ext cx="74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1989000" y="3471480"/>
            <a:ext cx="23508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262240" y="3693960"/>
            <a:ext cx="938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211480" y="33735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889280" y="3843360"/>
            <a:ext cx="4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495520" y="3213000"/>
            <a:ext cx="65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u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486240" y="334656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ZOH+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627520" y="3724200"/>
            <a:ext cx="74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6343560" y="3538080"/>
            <a:ext cx="23508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616800" y="3760920"/>
            <a:ext cx="938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566040" y="34401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243480" y="3909960"/>
            <a:ext cx="4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850080" y="3279600"/>
            <a:ext cx="65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58920" y="4324320"/>
            <a:ext cx="32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mpulso unitario en t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762120" y="2757600"/>
            <a:ext cx="1218960" cy="761760"/>
            <a:chOff x="762120" y="2757600"/>
            <a:chExt cx="1218960" cy="761760"/>
          </a:xfrm>
        </p:grpSpPr>
        <p:sp>
          <p:nvSpPr>
            <p:cNvPr id="902" name=""/>
            <p:cNvSpPr/>
            <p:nvPr/>
          </p:nvSpPr>
          <p:spPr>
            <a:xfrm>
              <a:off x="838080" y="275760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2120" y="33670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38080" y="29098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112760" y="3324240"/>
              <a:ext cx="88920" cy="88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13000" y="3327480"/>
              <a:ext cx="88920" cy="88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674720" y="3328920"/>
              <a:ext cx="88920" cy="88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63640" y="2766960"/>
              <a:ext cx="29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9" name=""/>
          <p:cNvSpPr/>
          <p:nvPr/>
        </p:nvSpPr>
        <p:spPr>
          <a:xfrm>
            <a:off x="4227480" y="4264200"/>
            <a:ext cx="42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puesta partiendo de condiciones iniciales n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652320" y="5092560"/>
                <a:ext cx="6255000" cy="17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CΦ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CΦ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Γu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sSup>
                          <m:e>
                            <m:r>
                              <m:t xml:space="preserve">CΦ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11" name=""/>
          <p:cNvGrpSpPr/>
          <p:nvPr/>
        </p:nvGrpSpPr>
        <p:grpSpPr>
          <a:xfrm>
            <a:off x="6997680" y="2395440"/>
            <a:ext cx="1600200" cy="1239120"/>
            <a:chOff x="6997680" y="2395440"/>
            <a:chExt cx="1600200" cy="1239120"/>
          </a:xfrm>
        </p:grpSpPr>
        <p:sp>
          <p:nvSpPr>
            <p:cNvPr id="912" name=""/>
            <p:cNvSpPr/>
            <p:nvPr/>
          </p:nvSpPr>
          <p:spPr>
            <a:xfrm>
              <a:off x="7074000" y="25495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997680" y="3159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V="1">
              <a:off x="7302600" y="2838600"/>
              <a:ext cx="0" cy="32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7759800" y="28544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217000" y="2930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531200" y="270036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999560" y="29433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734240" y="32734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023240" y="3106800"/>
              <a:ext cx="88920" cy="88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732800" y="3297240"/>
              <a:ext cx="42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658280" y="2395440"/>
              <a:ext cx="65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h(k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3730680" y="6005520"/>
            <a:ext cx="43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elo de respuesta impul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odelo respuesta impul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443640" y="19558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538960" y="2565360"/>
            <a:ext cx="264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6672240" y="2244240"/>
            <a:ext cx="0" cy="320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7129440" y="22600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8191440" y="2362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900840" y="2106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369200" y="23493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104240" y="26798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392880" y="25131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916600" y="1763640"/>
            <a:ext cx="65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h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114960" y="25066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781600" y="25178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597800" y="2467080"/>
            <a:ext cx="0" cy="9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8" name=""/>
              <p:cNvSpPr txBox="1"/>
              <p:nvPr/>
            </p:nvSpPr>
            <p:spPr>
              <a:xfrm>
                <a:off x="379440" y="1979640"/>
                <a:ext cx="7920000" cy="224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39" name=""/>
          <p:cNvSpPr/>
          <p:nvPr/>
        </p:nvSpPr>
        <p:spPr>
          <a:xfrm>
            <a:off x="4176720" y="3570120"/>
            <a:ext cx="474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o h(i) = 0 para i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0    y  para condiciones inociales nulas: u(i) = 0 para i &lt; 0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2281320" y="4929120"/>
                <a:ext cx="476712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41" name=""/>
          <p:cNvSpPr/>
          <p:nvPr/>
        </p:nvSpPr>
        <p:spPr>
          <a:xfrm>
            <a:off x="347760" y="6091200"/>
            <a:ext cx="854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salida es una combinación lineal de valores pasados de la 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mplo: Depós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703440" y="2117880"/>
            <a:ext cx="0" cy="11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22160" y="3249720"/>
            <a:ext cx="129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2035080" y="2146320"/>
            <a:ext cx="0" cy="11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09560" y="2589120"/>
            <a:ext cx="1320840" cy="6541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19040" y="1616040"/>
            <a:ext cx="93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370160" y="163368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539720" y="160488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143800" y="269388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370160" y="326700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844560" y="339084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1286280" y="3557520"/>
            <a:ext cx="374040" cy="214560"/>
            <a:chOff x="1286280" y="3557520"/>
            <a:chExt cx="374040" cy="214560"/>
          </a:xfrm>
        </p:grpSpPr>
        <p:sp>
          <p:nvSpPr>
            <p:cNvPr id="954" name=""/>
            <p:cNvSpPr/>
            <p:nvPr/>
          </p:nvSpPr>
          <p:spPr>
            <a:xfrm flipH="1">
              <a:off x="1292400" y="3582360"/>
              <a:ext cx="143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286280" y="3584880"/>
              <a:ext cx="155880" cy="15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>
              <a:off x="1292400" y="3584880"/>
              <a:ext cx="143280" cy="15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1292400" y="3746880"/>
              <a:ext cx="143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361160" y="3664800"/>
              <a:ext cx="19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rot="5400000">
              <a:off x="1499760" y="3611520"/>
              <a:ext cx="214560" cy="106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0" name=""/>
          <p:cNvSpPr/>
          <p:nvPr/>
        </p:nvSpPr>
        <p:spPr>
          <a:xfrm flipH="1">
            <a:off x="1343160" y="3753000"/>
            <a:ext cx="9360" cy="27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1657080" y="3675240"/>
            <a:ext cx="5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848040" y="2722680"/>
            <a:ext cx="7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(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3457440" y="1987560"/>
                <a:ext cx="46976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h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5</m:t>
                    </m:r>
                    <m:r>
                      <m:t xml:space="preserve">Δh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2</m:t>
                    </m:r>
                    <m:r>
                      <m:t xml:space="preserve">Δu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4" name=""/>
          <p:cNvSpPr/>
          <p:nvPr/>
        </p:nvSpPr>
        <p:spPr>
          <a:xfrm>
            <a:off x="3138480" y="383076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 = 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3111480" y="37465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209680" y="3371760"/>
            <a:ext cx="901800" cy="67320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/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3429000" y="35240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H="1">
            <a:off x="3730680" y="3768840"/>
            <a:ext cx="296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693960" y="34974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533840" y="2854440"/>
            <a:ext cx="0" cy="122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286160" y="3805200"/>
            <a:ext cx="17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546440" y="3384720"/>
            <a:ext cx="0" cy="4204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959360" y="3813120"/>
            <a:ext cx="0" cy="2001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211640" y="3236760"/>
            <a:ext cx="23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923000" y="3922560"/>
            <a:ext cx="6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-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967360" y="3300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452600" y="4070520"/>
            <a:ext cx="0" cy="122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204920" y="5021280"/>
            <a:ext cx="17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465200" y="4600440"/>
            <a:ext cx="0" cy="420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309760" y="5027760"/>
            <a:ext cx="0" cy="1872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130400" y="4452840"/>
            <a:ext cx="2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606680" y="4027320"/>
            <a:ext cx="2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459080" y="4606920"/>
            <a:ext cx="43164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871640" y="5219640"/>
            <a:ext cx="432000" cy="1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>
            <a:off x="1872720" y="4599000"/>
            <a:ext cx="11160" cy="6429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286000" y="5016600"/>
            <a:ext cx="4334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3544920" y="4290840"/>
                <a:ext cx="5346720" cy="23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CΦ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35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2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2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35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1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35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6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mplo: Mo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908440" y="4516560"/>
            <a:ext cx="1371600" cy="1218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2351160" y="3906360"/>
            <a:ext cx="685800" cy="167040"/>
            <a:chOff x="2351160" y="3906360"/>
            <a:chExt cx="685800" cy="167040"/>
          </a:xfrm>
        </p:grpSpPr>
        <p:sp>
          <p:nvSpPr>
            <p:cNvPr id="991" name=""/>
            <p:cNvSpPr/>
            <p:nvPr/>
          </p:nvSpPr>
          <p:spPr>
            <a:xfrm>
              <a:off x="2351160" y="3990600"/>
              <a:ext cx="17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2522520" y="3906360"/>
              <a:ext cx="6840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590920" y="3906720"/>
              <a:ext cx="6804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V="1">
              <a:off x="2658960" y="3906360"/>
              <a:ext cx="10332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762280" y="3906720"/>
              <a:ext cx="684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2830680" y="3990600"/>
              <a:ext cx="34920" cy="8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865600" y="3990600"/>
              <a:ext cx="17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8" name=""/>
          <p:cNvSpPr/>
          <p:nvPr/>
        </p:nvSpPr>
        <p:spPr>
          <a:xfrm flipV="1">
            <a:off x="2913120" y="3982680"/>
            <a:ext cx="22392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3137040" y="3830760"/>
            <a:ext cx="304200" cy="304560"/>
            <a:chOff x="3137040" y="3830760"/>
            <a:chExt cx="304200" cy="304560"/>
          </a:xfrm>
        </p:grpSpPr>
        <p:sp>
          <p:nvSpPr>
            <p:cNvPr id="1000" name=""/>
            <p:cNvSpPr/>
            <p:nvPr/>
          </p:nvSpPr>
          <p:spPr>
            <a:xfrm>
              <a:off x="3137040" y="3830760"/>
              <a:ext cx="10116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187440" y="3830760"/>
              <a:ext cx="10152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289320" y="3830760"/>
              <a:ext cx="10116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339720" y="3830760"/>
              <a:ext cx="10152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238200" y="3830760"/>
              <a:ext cx="10116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5" name=""/>
          <p:cNvSpPr/>
          <p:nvPr/>
        </p:nvSpPr>
        <p:spPr>
          <a:xfrm>
            <a:off x="3441600" y="398304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594240" y="39830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594240" y="573552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365640" y="6345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441600" y="6421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517920" y="64976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619440" y="5227560"/>
            <a:ext cx="12956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813200" y="5278320"/>
            <a:ext cx="317520" cy="470160"/>
          </a:xfrm>
          <a:custGeom>
            <a:avLst/>
            <a:gdLst/>
            <a:ahLst/>
            <a:rect l="l" t="t" r="r" b="b"/>
            <a:pathLst>
              <a:path w="200" h="296">
                <a:moveTo>
                  <a:pt x="0" y="288"/>
                </a:moveTo>
                <a:cubicBezTo>
                  <a:pt x="12" y="292"/>
                  <a:pt x="24" y="296"/>
                  <a:pt x="48" y="288"/>
                </a:cubicBezTo>
                <a:cubicBezTo>
                  <a:pt x="72" y="280"/>
                  <a:pt x="120" y="264"/>
                  <a:pt x="144" y="240"/>
                </a:cubicBezTo>
                <a:cubicBezTo>
                  <a:pt x="168" y="216"/>
                  <a:pt x="184" y="176"/>
                  <a:pt x="192" y="144"/>
                </a:cubicBezTo>
                <a:cubicBezTo>
                  <a:pt x="200" y="112"/>
                  <a:pt x="200" y="72"/>
                  <a:pt x="192" y="48"/>
                </a:cubicBezTo>
                <a:cubicBezTo>
                  <a:pt x="184" y="24"/>
                  <a:pt x="152" y="8"/>
                  <a:pt x="14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584600" y="48974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137040" y="33735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451240" y="3411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90680" y="3529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917720" y="4821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2445840" y="4968360"/>
            <a:ext cx="315360" cy="315000"/>
            <a:chOff x="2445840" y="4968360"/>
            <a:chExt cx="315360" cy="315000"/>
          </a:xfrm>
        </p:grpSpPr>
        <p:sp>
          <p:nvSpPr>
            <p:cNvPr id="1019" name=""/>
            <p:cNvSpPr/>
            <p:nvPr/>
          </p:nvSpPr>
          <p:spPr>
            <a:xfrm rot="5274000">
              <a:off x="2548800" y="4871880"/>
              <a:ext cx="10116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rot="5274000">
              <a:off x="2550600" y="4922640"/>
              <a:ext cx="10152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rot="5274000">
              <a:off x="2554560" y="5023800"/>
              <a:ext cx="10116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rot="5274000">
              <a:off x="2556360" y="5074560"/>
              <a:ext cx="10152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rot="5274000">
              <a:off x="2552760" y="4973040"/>
              <a:ext cx="10116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4" name=""/>
          <p:cNvSpPr/>
          <p:nvPr/>
        </p:nvSpPr>
        <p:spPr>
          <a:xfrm>
            <a:off x="2603520" y="48211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603520" y="5278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H="1">
            <a:off x="1917360" y="5583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670200" y="40593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956120" y="5748480"/>
            <a:ext cx="7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433520" y="3695760"/>
            <a:ext cx="890640" cy="593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400040" y="3768840"/>
            <a:ext cx="9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04880" y="2892600"/>
            <a:ext cx="950760" cy="529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Z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1162080" y="3435480"/>
            <a:ext cx="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149480" y="2557440"/>
            <a:ext cx="0" cy="322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136520" y="2063880"/>
            <a:ext cx="0" cy="28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125360" y="2360520"/>
            <a:ext cx="135000" cy="12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92280" y="231156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42960" y="642960"/>
            <a:ext cx="0" cy="122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95280" y="1593720"/>
            <a:ext cx="17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55560" y="1173240"/>
            <a:ext cx="0" cy="4204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081080" y="858960"/>
            <a:ext cx="0" cy="753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20760" y="1025640"/>
            <a:ext cx="2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797040" y="600120"/>
            <a:ext cx="2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076480" y="108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4" name=""/>
              <p:cNvSpPr txBox="1"/>
              <p:nvPr/>
            </p:nvSpPr>
            <p:spPr>
              <a:xfrm>
                <a:off x="3102120" y="1744560"/>
                <a:ext cx="5314680" cy="16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θ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78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θ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9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54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θ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θ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5" name=""/>
          <p:cNvSpPr/>
          <p:nvPr/>
        </p:nvSpPr>
        <p:spPr>
          <a:xfrm>
            <a:off x="6315120" y="28051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 = 0.1s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508040" y="1878120"/>
            <a:ext cx="8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(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943600" y="3583080"/>
            <a:ext cx="2655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lcular la respuesta temporal en posición, desde el reposo, a los dos pulsos de tensión de 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162080" y="3954600"/>
            <a:ext cx="260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73200" y="4219560"/>
            <a:ext cx="0" cy="122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25520" y="5170320"/>
            <a:ext cx="17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85800" y="4749840"/>
            <a:ext cx="0" cy="4204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111320" y="4435560"/>
            <a:ext cx="0" cy="3222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51000" y="4602240"/>
            <a:ext cx="2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826920" y="4176720"/>
            <a:ext cx="23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679320" y="4757400"/>
            <a:ext cx="432000" cy="111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104840" y="4454640"/>
            <a:ext cx="4320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512720" y="4452840"/>
            <a:ext cx="1800" cy="7048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506600" y="5165640"/>
            <a:ext cx="4334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rot="21316800">
            <a:off x="4565520" y="5372280"/>
            <a:ext cx="327240" cy="261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965400" y="5769000"/>
            <a:ext cx="11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mplo: Mo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1025640" y="1917720"/>
                <a:ext cx="5314680" cy="16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θ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78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θ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9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54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θ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θ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1125360" y="3824280"/>
                <a:ext cx="5726160" cy="23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CΦ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  <m:r>
                          <m:t xml:space="preserve">)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078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6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9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54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puesta sal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492360" y="1700280"/>
            <a:ext cx="2016360" cy="1008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484360" y="2203560"/>
            <a:ext cx="1008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508720" y="2203560"/>
            <a:ext cx="1008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044720" y="1555920"/>
            <a:ext cx="0" cy="10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84360" y="2419200"/>
            <a:ext cx="143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826920" y="2419200"/>
            <a:ext cx="216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042920" y="1916280"/>
            <a:ext cx="936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042920" y="1916280"/>
            <a:ext cx="0" cy="502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050920" y="2060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11280" y="16272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258920" y="234792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476360" y="234792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692360" y="234792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6948360" y="1555920"/>
            <a:ext cx="0" cy="10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588000" y="2419200"/>
            <a:ext cx="180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730920" y="2419200"/>
            <a:ext cx="216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380360" y="2060640"/>
            <a:ext cx="0" cy="3585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8459640" y="2060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515280" y="16272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162920" y="234792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7380360" y="234792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596360" y="234792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596360" y="1916280"/>
            <a:ext cx="0" cy="502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164360" y="2203560"/>
            <a:ext cx="0" cy="21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812000" y="1987560"/>
            <a:ext cx="0" cy="43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8028000" y="1916280"/>
            <a:ext cx="0" cy="502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877080" y="177156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164360" y="155592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7885080" y="141120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82560" y="3571920"/>
            <a:ext cx="187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969840" y="3571920"/>
            <a:ext cx="216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185840" y="3068640"/>
            <a:ext cx="936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185840" y="3068640"/>
            <a:ext cx="0" cy="503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401840" y="3500280"/>
            <a:ext cx="0" cy="7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619280" y="3500280"/>
            <a:ext cx="0" cy="7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835280" y="3500280"/>
            <a:ext cx="0" cy="7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flipV="1">
            <a:off x="1403280" y="3068640"/>
            <a:ext cx="0" cy="5032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185840" y="3571920"/>
            <a:ext cx="21744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898560" y="4435560"/>
            <a:ext cx="216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114560" y="3932280"/>
            <a:ext cx="21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114560" y="3932280"/>
            <a:ext cx="0" cy="503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330200" y="4363920"/>
            <a:ext cx="0" cy="7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547640" y="4363920"/>
            <a:ext cx="0" cy="7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763640" y="4363920"/>
            <a:ext cx="0" cy="7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82560" y="4437000"/>
            <a:ext cx="180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330200" y="3932280"/>
            <a:ext cx="0" cy="503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330200" y="4437000"/>
            <a:ext cx="936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203640" y="3068640"/>
            <a:ext cx="52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mpulso = diferencia de dos saltos retrasados un periodo de muestreo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3348000" y="4005360"/>
                <a:ext cx="15843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7" name=""/>
              <p:cNvSpPr txBox="1"/>
              <p:nvPr/>
            </p:nvSpPr>
            <p:spPr>
              <a:xfrm>
                <a:off x="738360" y="4462560"/>
                <a:ext cx="7759440" cy="22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Δ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Δ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Δ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Δ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8" name=""/>
          <p:cNvSpPr/>
          <p:nvPr/>
        </p:nvSpPr>
        <p:spPr>
          <a:xfrm>
            <a:off x="6804000" y="242100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1979640" y="5229000"/>
            <a:ext cx="720720" cy="3603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373480" y="312408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333520" y="395928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odelo de respuesta sal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467160" y="2349360"/>
            <a:ext cx="2016000" cy="1008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459160" y="2852640"/>
            <a:ext cx="1008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483160" y="2852640"/>
            <a:ext cx="1008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019160" y="2205000"/>
            <a:ext cx="0" cy="10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58800" y="3068640"/>
            <a:ext cx="1440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801720" y="3068640"/>
            <a:ext cx="216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017720" y="2565360"/>
            <a:ext cx="936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017720" y="2565360"/>
            <a:ext cx="0" cy="503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025720" y="270972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85720" y="2276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233360" y="2997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450800" y="2997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666800" y="2997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923160" y="2205000"/>
            <a:ext cx="0" cy="10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562800" y="3068640"/>
            <a:ext cx="1800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705720" y="3068640"/>
            <a:ext cx="21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354800" y="2709720"/>
            <a:ext cx="0" cy="358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8434440" y="270972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489720" y="2276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137360" y="2997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354800" y="2997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570800" y="2997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570800" y="2565360"/>
            <a:ext cx="0" cy="503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139160" y="2852640"/>
            <a:ext cx="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786800" y="2637000"/>
            <a:ext cx="0" cy="43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8002440" y="2565360"/>
            <a:ext cx="0" cy="503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851520" y="242100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139160" y="2205000"/>
            <a:ext cx="57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859880" y="2060640"/>
            <a:ext cx="57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778800" y="3070080"/>
            <a:ext cx="93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3" name=""/>
              <p:cNvSpPr txBox="1"/>
              <p:nvPr/>
            </p:nvSpPr>
            <p:spPr>
              <a:xfrm>
                <a:off x="3192480" y="3843360"/>
                <a:ext cx="26049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Δ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54" name=""/>
          <p:cNvSpPr/>
          <p:nvPr/>
        </p:nvSpPr>
        <p:spPr>
          <a:xfrm>
            <a:off x="689040" y="5049720"/>
            <a:ext cx="764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salida es una combinación lineal de cambios de valores pasados de la 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5" name=""/>
              <p:cNvSpPr txBox="1"/>
              <p:nvPr/>
            </p:nvSpPr>
            <p:spPr>
              <a:xfrm>
                <a:off x="3813120" y="5881680"/>
                <a:ext cx="10666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Operador desplazamiento q</a:t>
            </a:r>
            <a:r>
              <a:rPr b="0" lang="es-ES" sz="4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7" name=""/>
              <p:cNvSpPr txBox="1"/>
              <p:nvPr/>
            </p:nvSpPr>
            <p:spPr>
              <a:xfrm>
                <a:off x="1147680" y="1836720"/>
                <a:ext cx="5478480" cy="26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qz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q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Φ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I</m:t>
                            </m:r>
                            <m:r>
                              <m:t xml:space="preserve">−</m:t>
                            </m:r>
                            <m:r>
                              <m:t xml:space="preserve">Φ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Φ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Φ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8" name=""/>
              <p:cNvSpPr txBox="1"/>
              <p:nvPr/>
            </p:nvSpPr>
            <p:spPr>
              <a:xfrm>
                <a:off x="714240" y="4681440"/>
                <a:ext cx="751536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I</m:t>
                            </m:r>
                            <m:r>
                              <m:t xml:space="preserve">−</m:t>
                            </m:r>
                            <m:r>
                              <m:t xml:space="preserve">Φ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9" name=""/>
          <p:cNvSpPr/>
          <p:nvPr/>
        </p:nvSpPr>
        <p:spPr>
          <a:xfrm>
            <a:off x="1433520" y="6102360"/>
            <a:ext cx="313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unción racional de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482920" y="5450040"/>
            <a:ext cx="247680" cy="653760"/>
          </a:xfrm>
          <a:prstGeom prst="upArrow">
            <a:avLst>
              <a:gd name="adj1" fmla="val 50000"/>
              <a:gd name="adj2" fmla="val 6598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digi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1752480"/>
            <a:ext cx="78487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los </a:t>
            </a:r>
            <a:r>
              <a:rPr b="0" lang="es-ES_tradnl" sz="2400" spc="-1" strike="noStrike">
                <a:solidFill>
                  <a:srgbClr val="0000cc"/>
                </a:solidFill>
                <a:latin typeface="Times New Roman"/>
              </a:rPr>
              <a:t>sistemas discret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todas las señales son secuencia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úmeros,; Es decir, e{k}, que pueden cambiar los val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amente en los instantes de muestreo,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kT ((k=0,1,2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3048120"/>
            <a:ext cx="86104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el controlador digital, la secuencia de control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u(k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calcula normalmente por una ecuación de recurrencia ó ecuación en diferencias que usa los valores almacenados del control previo y muestras del </a:t>
            </a:r>
            <a:r>
              <a:rPr b="0" lang="es-ES_tradnl" sz="24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nsor o error anteriores y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1640" y="4724280"/>
            <a:ext cx="84837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(k) = </a:t>
            </a:r>
            <a:r>
              <a:rPr b="0" lang="es-ES_tradnl" sz="2400" spc="-1" strike="noStrike">
                <a:solidFill>
                  <a:srgbClr val="0000cc"/>
                </a:solidFill>
                <a:latin typeface="Times New Roman"/>
              </a:rPr>
              <a:t>-a</a:t>
            </a:r>
            <a:r>
              <a:rPr b="0" lang="es-ES_tradnl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0000cc"/>
                </a:solidFill>
                <a:latin typeface="Times New Roman"/>
              </a:rPr>
              <a:t> u(k-1)-a</a:t>
            </a:r>
            <a:r>
              <a:rPr b="0" lang="es-ES_tradnl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cc"/>
                </a:solidFill>
                <a:latin typeface="Times New Roman"/>
              </a:rPr>
              <a:t>u(k-1)...-a</a:t>
            </a:r>
            <a:r>
              <a:rPr b="0" lang="es-ES_tradnl" sz="2400" spc="-1" strike="noStrike" baseline="-25000">
                <a:solidFill>
                  <a:srgbClr val="0000cc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0000cc"/>
                </a:solidFill>
                <a:latin typeface="Times New Roman"/>
              </a:rPr>
              <a:t>(k-n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(k)+ 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(k-1)+...+ 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(k-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580536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el proceso las señales son continu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Función de tranferencia puls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295200" y="1662120"/>
                <a:ext cx="8586720" cy="33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Φ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[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</m:den>
                        </m:f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303120" y="5240160"/>
                <a:ext cx="8667720" cy="98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Función de transferencia puls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701640" y="1830240"/>
                <a:ext cx="7966080" cy="369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6" name=""/>
          <p:cNvSpPr/>
          <p:nvPr/>
        </p:nvSpPr>
        <p:spPr>
          <a:xfrm>
            <a:off x="728640" y="5659560"/>
            <a:ext cx="735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salida es una combinación lineal de valores pasados de la salida y de la entrada a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olos y Autoval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8" name=""/>
              <p:cNvSpPr txBox="1"/>
              <p:nvPr/>
            </p:nvSpPr>
            <p:spPr>
              <a:xfrm>
                <a:off x="893880" y="1687680"/>
                <a:ext cx="6276960" cy="31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Φ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dj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Φ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et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Φ</m:t>
                                </m:r>
                              </m:e>
                            </m:d>
                          </m:den>
                        </m:f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los de 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son las raices de  </m:t>
                        </m:r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I</m:t>
                            </m:r>
                            <m:r>
                              <m:t xml:space="preserve">−</m:t>
                            </m:r>
                            <m:r>
                              <m:t xml:space="preserve">Φ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 sea los autovalores de </m:t>
                        </m:r>
                        <m:r>
                          <m:t xml:space="preserve">Φ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9" name=""/>
          <p:cNvSpPr/>
          <p:nvPr/>
        </p:nvSpPr>
        <p:spPr>
          <a:xfrm>
            <a:off x="914400" y="533880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uede haber mas autovalores que polos en una realización no mínima por cancelación ceros-po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0" name=""/>
              <p:cNvSpPr txBox="1"/>
              <p:nvPr/>
            </p:nvSpPr>
            <p:spPr>
              <a:xfrm>
                <a:off x="5761080" y="5445000"/>
                <a:ext cx="292104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1" name=""/>
          <p:cNvSpPr/>
          <p:nvPr/>
        </p:nvSpPr>
        <p:spPr>
          <a:xfrm flipV="1">
            <a:off x="6289560" y="5362560"/>
            <a:ext cx="92736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V="1">
            <a:off x="5862600" y="5862600"/>
            <a:ext cx="92700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mplo: Depós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4" name=""/>
          <p:cNvGrpSpPr/>
          <p:nvPr/>
        </p:nvGrpSpPr>
        <p:grpSpPr>
          <a:xfrm>
            <a:off x="938160" y="1914480"/>
            <a:ext cx="2075400" cy="2422080"/>
            <a:chOff x="938160" y="1914480"/>
            <a:chExt cx="2075400" cy="2422080"/>
          </a:xfrm>
        </p:grpSpPr>
        <p:sp>
          <p:nvSpPr>
            <p:cNvPr id="1175" name=""/>
            <p:cNvSpPr/>
            <p:nvPr/>
          </p:nvSpPr>
          <p:spPr>
            <a:xfrm>
              <a:off x="1222920" y="2427120"/>
              <a:ext cx="0" cy="11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240560" y="3558240"/>
              <a:ext cx="129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2554200" y="2455920"/>
              <a:ext cx="0" cy="11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227960" y="2898000"/>
              <a:ext cx="1321200" cy="6548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938160" y="1925640"/>
              <a:ext cx="93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888560" y="1943280"/>
              <a:ext cx="0" cy="32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058840" y="191448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662920" y="300276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888560" y="3577320"/>
              <a:ext cx="0" cy="30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362960" y="3700440"/>
              <a:ext cx="42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5" name=""/>
            <p:cNvGrpSpPr/>
            <p:nvPr/>
          </p:nvGrpSpPr>
          <p:grpSpPr>
            <a:xfrm>
              <a:off x="1803960" y="3866760"/>
              <a:ext cx="375120" cy="214200"/>
              <a:chOff x="1803960" y="3866760"/>
              <a:chExt cx="375120" cy="214200"/>
            </a:xfrm>
          </p:grpSpPr>
          <p:sp>
            <p:nvSpPr>
              <p:cNvPr id="1186" name=""/>
              <p:cNvSpPr/>
              <p:nvPr/>
            </p:nvSpPr>
            <p:spPr>
              <a:xfrm flipH="1">
                <a:off x="1810080" y="3891600"/>
                <a:ext cx="143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1803960" y="3894120"/>
                <a:ext cx="156240" cy="15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flipH="1">
                <a:off x="1810080" y="3894120"/>
                <a:ext cx="143640" cy="15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flipH="1">
                <a:off x="1810080" y="4055760"/>
                <a:ext cx="143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879200" y="3973680"/>
                <a:ext cx="19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rot="5400000">
                <a:off x="2018880" y="3920760"/>
                <a:ext cx="214200" cy="1062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2" name=""/>
            <p:cNvSpPr/>
            <p:nvPr/>
          </p:nvSpPr>
          <p:spPr>
            <a:xfrm flipH="1">
              <a:off x="1861920" y="4062240"/>
              <a:ext cx="8640" cy="2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H="1">
              <a:off x="2175840" y="3984120"/>
              <a:ext cx="21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440800" y="3797640"/>
              <a:ext cx="35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95" name=""/>
              <p:cNvSpPr txBox="1"/>
              <p:nvPr/>
            </p:nvSpPr>
            <p:spPr>
              <a:xfrm>
                <a:off x="2889360" y="2235240"/>
                <a:ext cx="60325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h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5</m:t>
                    </m:r>
                    <m:r>
                      <m:t xml:space="preserve">Δh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2</m:t>
                    </m:r>
                    <m:r>
                      <m:t xml:space="preserve">Δu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6" name=""/>
              <p:cNvSpPr txBox="1"/>
              <p:nvPr/>
            </p:nvSpPr>
            <p:spPr>
              <a:xfrm>
                <a:off x="3448080" y="3051000"/>
                <a:ext cx="5133960" cy="234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Φ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1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q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35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2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62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35</m:t>
                            </m:r>
                          </m:den>
                        </m:f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62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35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7" name=""/>
          <p:cNvSpPr/>
          <p:nvPr/>
        </p:nvSpPr>
        <p:spPr>
          <a:xfrm>
            <a:off x="1717560" y="467028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 =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704880" y="5610240"/>
            <a:ext cx="746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lo = Autovalor = 0.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mplo: Mo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55480" y="2235240"/>
            <a:ext cx="8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V(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1" name=""/>
              <p:cNvSpPr txBox="1"/>
              <p:nvPr/>
            </p:nvSpPr>
            <p:spPr>
              <a:xfrm>
                <a:off x="2409840" y="1666800"/>
                <a:ext cx="490680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θ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78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θ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9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54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θ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θ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2" name=""/>
              <p:cNvSpPr txBox="1"/>
              <p:nvPr/>
            </p:nvSpPr>
            <p:spPr>
              <a:xfrm>
                <a:off x="3646440" y="3395520"/>
                <a:ext cx="5299200" cy="229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Φ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m>
                                      <m:m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mr>
                                    </m:m>
                                  </m:e>
                                </m:d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m>
                                      <m:mr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e>
                                          <m:r>
                                            <m:t xml:space="preserve">0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078</m:t>
                                          </m:r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  <m:e>
                                          <m:r>
                                            <m:t xml:space="preserve">0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  <m:r>
                                            <m:t xml:space="preserve">6</m:t>
                                          </m:r>
                                        </m:e>
                                      </m:mr>
                                    </m:m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9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54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3</m:t>
                            </m:r>
                            <m:r>
                              <m:t xml:space="preserve">q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9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t xml:space="preserve">q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3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92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03" name=""/>
          <p:cNvSpPr/>
          <p:nvPr/>
        </p:nvSpPr>
        <p:spPr>
          <a:xfrm>
            <a:off x="2281320" y="4673520"/>
            <a:ext cx="1049400" cy="9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1855800" y="4187880"/>
            <a:ext cx="523440" cy="133200"/>
            <a:chOff x="1855800" y="4187880"/>
            <a:chExt cx="523440" cy="133200"/>
          </a:xfrm>
        </p:grpSpPr>
        <p:sp>
          <p:nvSpPr>
            <p:cNvPr id="1205" name=""/>
            <p:cNvSpPr/>
            <p:nvPr/>
          </p:nvSpPr>
          <p:spPr>
            <a:xfrm>
              <a:off x="1855800" y="4254840"/>
              <a:ext cx="13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V="1">
              <a:off x="1986480" y="4187880"/>
              <a:ext cx="5220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038680" y="4187880"/>
              <a:ext cx="5184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V="1">
              <a:off x="2090880" y="4187880"/>
              <a:ext cx="7884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169720" y="4187880"/>
              <a:ext cx="5220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V="1">
              <a:off x="2221920" y="4254480"/>
              <a:ext cx="26640" cy="6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248560" y="4254840"/>
              <a:ext cx="13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2" name=""/>
          <p:cNvSpPr/>
          <p:nvPr/>
        </p:nvSpPr>
        <p:spPr>
          <a:xfrm flipV="1">
            <a:off x="2284560" y="4247640"/>
            <a:ext cx="17136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2455920" y="4127400"/>
            <a:ext cx="232920" cy="243000"/>
            <a:chOff x="2455920" y="4127400"/>
            <a:chExt cx="232920" cy="243000"/>
          </a:xfrm>
        </p:grpSpPr>
        <p:sp>
          <p:nvSpPr>
            <p:cNvPr id="1214" name=""/>
            <p:cNvSpPr/>
            <p:nvPr/>
          </p:nvSpPr>
          <p:spPr>
            <a:xfrm>
              <a:off x="2455920" y="4127400"/>
              <a:ext cx="77400" cy="2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494440" y="4127400"/>
              <a:ext cx="77760" cy="2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572560" y="4127400"/>
              <a:ext cx="77400" cy="2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611080" y="4127400"/>
              <a:ext cx="77760" cy="2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533320" y="4127400"/>
              <a:ext cx="77400" cy="2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9" name=""/>
          <p:cNvSpPr/>
          <p:nvPr/>
        </p:nvSpPr>
        <p:spPr>
          <a:xfrm>
            <a:off x="2689200" y="424800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806560" y="4248000"/>
            <a:ext cx="0" cy="42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806560" y="5645160"/>
            <a:ext cx="0" cy="4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2630520" y="6129360"/>
            <a:ext cx="35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806560" y="5219640"/>
            <a:ext cx="990720" cy="2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738600" y="5280120"/>
            <a:ext cx="243000" cy="374400"/>
          </a:xfrm>
          <a:custGeom>
            <a:avLst/>
            <a:gdLst/>
            <a:ahLst/>
            <a:rect l="l" t="t" r="r" b="b"/>
            <a:pathLst>
              <a:path w="200" h="296">
                <a:moveTo>
                  <a:pt x="0" y="288"/>
                </a:moveTo>
                <a:cubicBezTo>
                  <a:pt x="12" y="292"/>
                  <a:pt x="24" y="296"/>
                  <a:pt x="48" y="288"/>
                </a:cubicBezTo>
                <a:cubicBezTo>
                  <a:pt x="72" y="280"/>
                  <a:pt x="120" y="264"/>
                  <a:pt x="144" y="240"/>
                </a:cubicBezTo>
                <a:cubicBezTo>
                  <a:pt x="168" y="216"/>
                  <a:pt x="184" y="176"/>
                  <a:pt x="192" y="144"/>
                </a:cubicBezTo>
                <a:cubicBezTo>
                  <a:pt x="200" y="112"/>
                  <a:pt x="200" y="72"/>
                  <a:pt x="192" y="48"/>
                </a:cubicBezTo>
                <a:cubicBezTo>
                  <a:pt x="184" y="24"/>
                  <a:pt x="152" y="8"/>
                  <a:pt x="14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3564000" y="497664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455920" y="37623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932120" y="379260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31640" y="3886200"/>
            <a:ext cx="4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523880" y="4916520"/>
            <a:ext cx="52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0" name=""/>
          <p:cNvGrpSpPr/>
          <p:nvPr/>
        </p:nvGrpSpPr>
        <p:grpSpPr>
          <a:xfrm>
            <a:off x="1927440" y="5032800"/>
            <a:ext cx="242280" cy="251280"/>
            <a:chOff x="1927440" y="5032800"/>
            <a:chExt cx="242280" cy="251280"/>
          </a:xfrm>
        </p:grpSpPr>
        <p:sp>
          <p:nvSpPr>
            <p:cNvPr id="1231" name=""/>
            <p:cNvSpPr/>
            <p:nvPr/>
          </p:nvSpPr>
          <p:spPr>
            <a:xfrm rot="5274000">
              <a:off x="2005200" y="4960440"/>
              <a:ext cx="80640" cy="23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rot="5274000">
              <a:off x="2006640" y="5001120"/>
              <a:ext cx="81000" cy="23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rot="5274000">
              <a:off x="2009880" y="5081760"/>
              <a:ext cx="80640" cy="23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rot="5274000">
              <a:off x="2010960" y="5122440"/>
              <a:ext cx="81000" cy="23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rot="5274000">
              <a:off x="2008440" y="5041080"/>
              <a:ext cx="80640" cy="23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6" name=""/>
          <p:cNvSpPr/>
          <p:nvPr/>
        </p:nvSpPr>
        <p:spPr>
          <a:xfrm>
            <a:off x="2048040" y="4916520"/>
            <a:ext cx="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048040" y="5280120"/>
            <a:ext cx="0" cy="24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1523880" y="5522760"/>
            <a:ext cx="52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863800" y="4308480"/>
            <a:ext cx="29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225960" y="5937120"/>
            <a:ext cx="90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154160" y="4019400"/>
            <a:ext cx="681120" cy="473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128600" y="4078440"/>
            <a:ext cx="7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Amp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96880" y="3379680"/>
            <a:ext cx="727200" cy="42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ZO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946080" y="381168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936720" y="311292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927000" y="2719440"/>
            <a:ext cx="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917640" y="2955960"/>
            <a:ext cx="102960" cy="9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98360" y="2909880"/>
            <a:ext cx="8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=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946080" y="4226040"/>
            <a:ext cx="198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738600" y="5280120"/>
            <a:ext cx="243000" cy="374400"/>
          </a:xfrm>
          <a:custGeom>
            <a:avLst/>
            <a:gdLst/>
            <a:ahLst/>
            <a:rect l="l" t="t" r="r" b="b"/>
            <a:pathLst>
              <a:path w="200" h="296">
                <a:moveTo>
                  <a:pt x="0" y="288"/>
                </a:moveTo>
                <a:cubicBezTo>
                  <a:pt x="12" y="292"/>
                  <a:pt x="24" y="296"/>
                  <a:pt x="48" y="288"/>
                </a:cubicBezTo>
                <a:cubicBezTo>
                  <a:pt x="72" y="280"/>
                  <a:pt x="120" y="264"/>
                  <a:pt x="144" y="240"/>
                </a:cubicBezTo>
                <a:cubicBezTo>
                  <a:pt x="168" y="216"/>
                  <a:pt x="184" y="176"/>
                  <a:pt x="192" y="144"/>
                </a:cubicBezTo>
                <a:cubicBezTo>
                  <a:pt x="200" y="112"/>
                  <a:pt x="200" y="72"/>
                  <a:pt x="192" y="48"/>
                </a:cubicBezTo>
                <a:cubicBezTo>
                  <a:pt x="184" y="24"/>
                  <a:pt x="152" y="8"/>
                  <a:pt x="14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rot="21316800">
            <a:off x="3549240" y="5354280"/>
            <a:ext cx="249120" cy="209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090960" y="56707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757760" y="5918040"/>
            <a:ext cx="321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los q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 1.6q + 0.6 = 0  q= 1, 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127480" y="261936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utovalores: 1 , 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alización de 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038240" y="190332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ada la función de transfer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797040" y="2425680"/>
                <a:ext cx="73324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8" name=""/>
          <p:cNvSpPr/>
          <p:nvPr/>
        </p:nvSpPr>
        <p:spPr>
          <a:xfrm>
            <a:off x="839880" y="3645000"/>
            <a:ext cx="767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contrar un modelo en variables de estado que sea equivalente entrada -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2604960" y="4581360"/>
                <a:ext cx="332280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Φ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Forma canonica observ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1" name=""/>
              <p:cNvSpPr txBox="1"/>
              <p:nvPr/>
            </p:nvSpPr>
            <p:spPr>
              <a:xfrm>
                <a:off x="820800" y="1870200"/>
                <a:ext cx="73324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2" name=""/>
              <p:cNvSpPr txBox="1"/>
              <p:nvPr/>
            </p:nvSpPr>
            <p:spPr>
              <a:xfrm>
                <a:off x="1531800" y="2955960"/>
                <a:ext cx="5764320" cy="25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/>
                                <m:e/>
                                <m:e/>
                                <m:e/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/>
                                <m:e/>
                                <m:e>
                                  <m:r>
                                    <m:t xml:space="preserve">I</m:t>
                                  </m:r>
                                </m:e>
                                <m:e/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/>
                                <m:e/>
                                <m:e/>
                                <m:e/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/>
                                <m:e/>
                                <m:e/>
                                <m:e/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3" name=""/>
          <p:cNvSpPr/>
          <p:nvPr/>
        </p:nvSpPr>
        <p:spPr>
          <a:xfrm>
            <a:off x="3533760" y="3114720"/>
            <a:ext cx="0" cy="1901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854440" y="4719600"/>
            <a:ext cx="23112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338120" y="5778360"/>
            <a:ext cx="667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b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para j &lt; d se consideran n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>
            <a:off x="5513400" y="5128920"/>
            <a:ext cx="369720" cy="59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Forma canonica control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8" name=""/>
              <p:cNvSpPr txBox="1"/>
              <p:nvPr/>
            </p:nvSpPr>
            <p:spPr>
              <a:xfrm>
                <a:off x="820800" y="1870200"/>
                <a:ext cx="73324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9" name=""/>
              <p:cNvSpPr txBox="1"/>
              <p:nvPr/>
            </p:nvSpPr>
            <p:spPr>
              <a:xfrm>
                <a:off x="1204920" y="2955960"/>
                <a:ext cx="6419880" cy="25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/>
                                <m:e/>
                                <m:e/>
                                <m:e/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/>
                                <m:e>
                                  <m:r>
                                    <m:t xml:space="preserve">I</m:t>
                                  </m:r>
                                </m:e>
                                <m:e/>
                                <m:e/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/>
                                <m:e/>
                                <m:e/>
                                <m:e/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/>
                                <m:e/>
                                <m:e/>
                                <m:e/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70" name=""/>
          <p:cNvSpPr/>
          <p:nvPr/>
        </p:nvSpPr>
        <p:spPr>
          <a:xfrm>
            <a:off x="2495520" y="3422520"/>
            <a:ext cx="32623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5153040" y="3114720"/>
            <a:ext cx="0" cy="1816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338120" y="5778360"/>
            <a:ext cx="667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b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para j &lt; d se consideran n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mplo: Mo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4" name=""/>
              <p:cNvSpPr txBox="1"/>
              <p:nvPr/>
            </p:nvSpPr>
            <p:spPr>
              <a:xfrm>
                <a:off x="4362480" y="1785960"/>
                <a:ext cx="4533840" cy="18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3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92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θ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3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9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222120" y="1803240"/>
                <a:ext cx="3875040" cy="15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/>
                                <m:e/>
                                <m:e/>
                                <m:e/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/>
                                <m:e>
                                  <m:r>
                                    <m:t xml:space="preserve">I</m:t>
                                  </m:r>
                                </m:e>
                                <m:e/>
                                <m:e/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/>
                                <m:e/>
                                <m:e/>
                                <m:e/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/>
                                <m:e/>
                                <m:e/>
                                <m:e/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6" name=""/>
              <p:cNvSpPr txBox="1"/>
              <p:nvPr/>
            </p:nvSpPr>
            <p:spPr>
              <a:xfrm>
                <a:off x="501480" y="4505400"/>
                <a:ext cx="4714920" cy="16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λI</m:t>
                            </m:r>
                            <m:r>
                              <m:t xml:space="preserve">−</m:t>
                            </m:r>
                            <m:r>
                              <m:t xml:space="preserve">Φ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6</m:t>
                                      </m:r>
                                    </m:e>
                                    <m:e>
                                      <m:r>
                                        <m:t xml:space="preserve">−</m:t>
                                      </m:r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6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λ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6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6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λ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77" name=""/>
          <p:cNvSpPr/>
          <p:nvPr/>
        </p:nvSpPr>
        <p:spPr>
          <a:xfrm>
            <a:off x="457200" y="3855960"/>
            <a:ext cx="32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utovalo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8" name=""/>
              <p:cNvSpPr txBox="1"/>
              <p:nvPr/>
            </p:nvSpPr>
            <p:spPr>
              <a:xfrm>
                <a:off x="5989680" y="4437000"/>
                <a:ext cx="213516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79" name=""/>
          <p:cNvSpPr/>
          <p:nvPr/>
        </p:nvSpPr>
        <p:spPr>
          <a:xfrm>
            <a:off x="5170320" y="3948120"/>
            <a:ext cx="323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Observabi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534960" y="1751040"/>
                <a:ext cx="35323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Φ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2" name=""/>
          <p:cNvSpPr/>
          <p:nvPr/>
        </p:nvSpPr>
        <p:spPr>
          <a:xfrm>
            <a:off x="4710240" y="1725480"/>
            <a:ext cx="355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 observable si a partir de medidas de la entrada y la salida en N instantes de tiempo se puede calcular el estado inicial x(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3" name=""/>
              <p:cNvSpPr txBox="1"/>
              <p:nvPr/>
            </p:nvSpPr>
            <p:spPr>
              <a:xfrm>
                <a:off x="271440" y="3014640"/>
                <a:ext cx="8201160" cy="30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CΦ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Γu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CΦx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Γu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CΦ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Φx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Γu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CΓu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sSup>
                          <m:e>
                            <m:r>
                              <m:t xml:space="preserve">CΦ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ΦΓ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Γu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t xml:space="preserve">CΦ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CΦ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ΦΓ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Γu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84080" y="39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mplo de PID digi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360440" y="5227560"/>
                <a:ext cx="64533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38120" y="1542960"/>
                <a:ext cx="6158160" cy="357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e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τ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dτ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e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r>
                                  <m:t xml:space="preserve">e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T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e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e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t xml:space="preserve">e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T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e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e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Observabi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914400" y="1604880"/>
            <a:ext cx="46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forma matri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1093680" y="2160720"/>
                <a:ext cx="7156440" cy="17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C</m:t>
                              </m:r>
                            </m:e>
                          </m:mr>
                          <m:mr>
                            <m:e>
                              <m:r>
                                <m:t xml:space="preserve">CΦ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CΦ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CΓu</m:t>
                              </m:r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CΦ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u</m:t>
                              </m:r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+</m:t>
                              </m:r>
                              <m:r>
                                <m:t xml:space="preserve">CΓu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88" name=""/>
          <p:cNvSpPr/>
          <p:nvPr/>
        </p:nvSpPr>
        <p:spPr>
          <a:xfrm>
            <a:off x="500040" y="4363920"/>
            <a:ext cx="321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condición de existencia de solución para este sistema en las n componentes de x(0)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9" name=""/>
              <p:cNvSpPr txBox="1"/>
              <p:nvPr/>
            </p:nvSpPr>
            <p:spPr>
              <a:xfrm>
                <a:off x="3983040" y="4065480"/>
                <a:ext cx="2552760" cy="25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ngo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C</m:t>
                              </m:r>
                            </m:e>
                          </m:mr>
                          <m:mr>
                            <m:e>
                              <m:r>
                                <m:t xml:space="preserve">CΦ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CΦ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CΦ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0" name=""/>
          <p:cNvSpPr/>
          <p:nvPr/>
        </p:nvSpPr>
        <p:spPr>
          <a:xfrm>
            <a:off x="6918480" y="4795920"/>
            <a:ext cx="222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riz de observ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2" name=""/>
              <p:cNvSpPr txBox="1"/>
              <p:nvPr/>
            </p:nvSpPr>
            <p:spPr>
              <a:xfrm>
                <a:off x="1149480" y="1765440"/>
                <a:ext cx="490680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θ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78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θ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9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54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θ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θ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3" name=""/>
          <p:cNvSpPr/>
          <p:nvPr/>
        </p:nvSpPr>
        <p:spPr>
          <a:xfrm>
            <a:off x="6599160" y="1828800"/>
            <a:ext cx="216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tor 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Es observa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4" name=""/>
              <p:cNvSpPr txBox="1"/>
              <p:nvPr/>
            </p:nvSpPr>
            <p:spPr>
              <a:xfrm>
                <a:off x="673200" y="3532320"/>
                <a:ext cx="5813280" cy="25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ngo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C</m:t>
                              </m:r>
                            </m:e>
                          </m:mr>
                          <m:mr>
                            <m:e>
                              <m:r>
                                <m:t xml:space="preserve">CΦ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CΦ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CΦ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?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ango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78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5" name=""/>
          <p:cNvSpPr/>
          <p:nvPr/>
        </p:nvSpPr>
        <p:spPr>
          <a:xfrm>
            <a:off x="7020000" y="4422600"/>
            <a:ext cx="16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bservable con 2 med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ntrolabi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7" name=""/>
              <p:cNvSpPr txBox="1"/>
              <p:nvPr/>
            </p:nvSpPr>
            <p:spPr>
              <a:xfrm>
                <a:off x="534960" y="1751040"/>
                <a:ext cx="35323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Φ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8" name=""/>
          <p:cNvSpPr/>
          <p:nvPr/>
        </p:nvSpPr>
        <p:spPr>
          <a:xfrm>
            <a:off x="4710240" y="1563840"/>
            <a:ext cx="414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 controlable si existe una secuencia finita de controles u(0), u(1),...,u(N) capaz de hacer evolucionar el sistema desde cualquier estado inicial x(0) a cualquier x(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9" name=""/>
              <p:cNvSpPr txBox="1"/>
              <p:nvPr/>
            </p:nvSpPr>
            <p:spPr>
              <a:xfrm>
                <a:off x="876240" y="3827520"/>
                <a:ext cx="7210440" cy="22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Φ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Φx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Φ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Φx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Γu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ΦΓ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ΦΓ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7113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ntrolabi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479520" y="1446120"/>
                <a:ext cx="7210440" cy="468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ΦΓ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Γ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ΦΓ</m:t>
                                  </m: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p>
                                    <m:e>
                                      <m:r>
                                        <m:t xml:space="preserve">Φ</m:t>
                                      </m:r>
                                    </m:e>
                                    <m:sup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p>
                                  </m:sSup>
                                  <m:r>
                                    <m:t xml:space="preserve">Γ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u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u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u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Γ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ΦΓ</m:t>
                                  </m: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p>
                                    <m:e>
                                      <m:r>
                                        <m:t xml:space="preserve">Φ</m:t>
                                      </m:r>
                                    </m:e>
                                    <m:sup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p>
                                  </m:sSup>
                                  <m:r>
                                    <m:t xml:space="preserve">Γ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u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u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u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ango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Γ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ΦΓ</m:t>
                                  </m: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p>
                                    <m:e>
                                      <m:r>
                                        <m:t xml:space="preserve">Φ</m:t>
                                      </m:r>
                                    </m:e>
                                    <m:sup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p>
                                  </m:sSup>
                                  <m:r>
                                    <m:t xml:space="preserve">Γ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2" name=""/>
          <p:cNvSpPr/>
          <p:nvPr/>
        </p:nvSpPr>
        <p:spPr>
          <a:xfrm>
            <a:off x="1000080" y="414036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00"/>
                </a:solidFill>
                <a:latin typeface="Times New Roman"/>
              </a:rPr>
              <a:t>(n x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267000" y="345456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00"/>
                </a:solidFill>
                <a:latin typeface="Times New Roman"/>
              </a:rPr>
              <a:t>(N x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819840" y="4029120"/>
            <a:ext cx="2014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00"/>
                </a:solidFill>
                <a:latin typeface="Times New Roman"/>
              </a:rPr>
              <a:t>n ecuaciones y N incognitas, para que tenga solu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097600" y="398628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00"/>
                </a:solidFill>
                <a:latin typeface="Times New Roman"/>
              </a:rPr>
              <a:t>(n x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97000" y="5572080"/>
            <a:ext cx="4460760" cy="704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5473800" y="5646600"/>
            <a:ext cx="289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dición de control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9" name=""/>
              <p:cNvSpPr txBox="1"/>
              <p:nvPr/>
            </p:nvSpPr>
            <p:spPr>
              <a:xfrm>
                <a:off x="1149480" y="1765440"/>
                <a:ext cx="490680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θ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78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θ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9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54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θ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θ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10" name=""/>
          <p:cNvSpPr/>
          <p:nvPr/>
        </p:nvSpPr>
        <p:spPr>
          <a:xfrm>
            <a:off x="6599160" y="1828800"/>
            <a:ext cx="2397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tor 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Es controla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324000" y="3530520"/>
                <a:ext cx="856296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ngo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ΦΓ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Φ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r>
                                <m:t xml:space="preserve">Γ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?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ango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3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77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9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92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2" name=""/>
          <p:cNvSpPr/>
          <p:nvPr/>
        </p:nvSpPr>
        <p:spPr>
          <a:xfrm>
            <a:off x="6018120" y="4892760"/>
            <a:ext cx="237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trolable con 2 acciones d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alización míni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2019240" y="2027160"/>
                <a:ext cx="438624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Φx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15" name=""/>
          <p:cNvSpPr/>
          <p:nvPr/>
        </p:nvSpPr>
        <p:spPr>
          <a:xfrm>
            <a:off x="655560" y="3348000"/>
            <a:ext cx="788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realización que es completamente observable y completamente controlable se denomina realización mínima y corresponde a aquella realización equivalente entrada-salida de menor dimensión del es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  </a:t>
            </a:r>
            <a:r>
              <a:rPr b="0" lang="es-ES" sz="4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k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3995640" y="1844640"/>
                <a:ext cx="4386240" cy="20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Φx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Φ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Aτ</m:t>
                                </m:r>
                              </m:sup>
                            </m:sSup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"/>
              <p:cNvSpPr txBox="1"/>
              <p:nvPr/>
            </p:nvSpPr>
            <p:spPr>
              <a:xfrm>
                <a:off x="684360" y="1989000"/>
                <a:ext cx="2065320" cy="15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x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u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19" name=""/>
          <p:cNvSpPr/>
          <p:nvPr/>
        </p:nvSpPr>
        <p:spPr>
          <a:xfrm>
            <a:off x="3059280" y="2708280"/>
            <a:ext cx="576000" cy="28908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874960" y="3922560"/>
            <a:ext cx="1047600" cy="478080"/>
          </a:xfrm>
          <a:prstGeom prst="leftArrow">
            <a:avLst>
              <a:gd name="adj1" fmla="val 50000"/>
              <a:gd name="adj2" fmla="val 54782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220920" y="3484440"/>
            <a:ext cx="5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77720" y="4678200"/>
            <a:ext cx="820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ado un modelo lineal discreto no siempre puede encontrarse un sistema lineal continuo equivalente, o puede que haya muchas soluciones. Procedimiento: res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3" name=""/>
              <p:cNvSpPr txBox="1"/>
              <p:nvPr/>
            </p:nvSpPr>
            <p:spPr>
              <a:xfrm>
                <a:off x="5141880" y="5578560"/>
                <a:ext cx="307008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Γ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Aτ</m:t>
                            </m:r>
                          </m:sup>
                        </m:sSup>
                        <m:r>
                          <m:t xml:space="preserve">dτ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elos de procesos muestre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172200" y="2895480"/>
            <a:ext cx="1600200" cy="60984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72400" y="320040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153280" y="3200400"/>
            <a:ext cx="0" cy="12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105520" y="4419720"/>
            <a:ext cx="306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69040" y="4197240"/>
            <a:ext cx="444600" cy="444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3200400"/>
            <a:ext cx="27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48320" y="3429000"/>
            <a:ext cx="76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75880" y="2666880"/>
            <a:ext cx="62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0720" y="2819520"/>
            <a:ext cx="1663560" cy="82548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n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66880" y="31939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124080" y="3034800"/>
            <a:ext cx="6372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76720" y="319392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2819520"/>
            <a:ext cx="901800" cy="82548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95680" y="3193920"/>
            <a:ext cx="106704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4483080" y="441324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81280" y="4038480"/>
            <a:ext cx="901800" cy="67320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/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892160" y="4413240"/>
            <a:ext cx="168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1898640" y="3645000"/>
            <a:ext cx="0" cy="77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33520" y="3193920"/>
            <a:ext cx="44424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82320" y="3935520"/>
            <a:ext cx="763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(k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26640" y="1676520"/>
            <a:ext cx="763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(k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266688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800600" y="419076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2720" y="2971800"/>
            <a:ext cx="291960" cy="444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95680" y="198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19720" y="2590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49568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724280" y="1904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2286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5181480" y="2133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8148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791320" y="2362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62520" y="1752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666880" y="1905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90920" y="2514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895480" y="18284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352680" y="2057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9880" y="2286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666880" y="2057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2209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17160" y="4495680"/>
            <a:ext cx="763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(k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57400" y="4724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81080" y="5334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2286000" y="4876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743200" y="5028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00400" y="510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4876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1460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875120" y="4648320"/>
            <a:ext cx="550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10080" y="4724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34120" y="5334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5105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10080" y="4838760"/>
            <a:ext cx="762120" cy="291960"/>
          </a:xfrm>
          <a:custGeom>
            <a:avLst/>
            <a:gdLst/>
            <a:ahLst/>
            <a:rect l="l" t="t" r="r" b="b"/>
            <a:pathLst>
              <a:path w="480" h="184">
                <a:moveTo>
                  <a:pt x="0" y="24"/>
                </a:moveTo>
                <a:cubicBezTo>
                  <a:pt x="48" y="12"/>
                  <a:pt x="96" y="0"/>
                  <a:pt x="144" y="24"/>
                </a:cubicBezTo>
                <a:cubicBezTo>
                  <a:pt x="192" y="48"/>
                  <a:pt x="240" y="152"/>
                  <a:pt x="288" y="168"/>
                </a:cubicBezTo>
                <a:cubicBezTo>
                  <a:pt x="336" y="184"/>
                  <a:pt x="400" y="128"/>
                  <a:pt x="432" y="120"/>
                </a:cubicBezTo>
                <a:cubicBezTo>
                  <a:pt x="464" y="112"/>
                  <a:pt x="472" y="120"/>
                  <a:pt x="480" y="1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0" y="55627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42920" y="59500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ecesidad de modelos que relacionen y(kT) e u(k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7064280" y="4800600"/>
            <a:ext cx="1371600" cy="7621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ado. Recordato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03960" y="1828800"/>
            <a:ext cx="4093560" cy="1551960"/>
          </a:xfrm>
          <a:prstGeom prst="rect">
            <a:avLst/>
          </a:prstGeom>
          <a:noFill/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ción de m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umulación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ujo entrada q - flujo salida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1600" y="5334120"/>
            <a:ext cx="26881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 masa en el depós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 sección del depós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densidad,   k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29200" y="57913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cuación diferencial no-lin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284720" y="4653000"/>
            <a:ext cx="2851200" cy="10666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4830840" y="3691080"/>
                <a:ext cx="3173400" cy="17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 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d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</m:t>
                        </m:r>
                        <m:r>
                          <m:t xml:space="preserve">ρ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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</m:t>
                        </m:r>
                        <m:r>
                          <m:t xml:space="preserve">ρh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h</m:t>
                            </m:r>
                          </m:e>
                        </m:rad>
                      </m:e>
                      <m:e>
                        <m:r>
                          <m:t xml:space="preserve">A</m:t>
                        </m:r>
                        <m:r>
                          <m:t xml:space="preserve"></m:t>
                        </m:r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 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d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h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       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7238880" y="56386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cuación algebra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320840" y="1976400"/>
            <a:ext cx="2523960" cy="3052800"/>
            <a:chOff x="1320840" y="1976400"/>
            <a:chExt cx="2523960" cy="3052800"/>
          </a:xfrm>
        </p:grpSpPr>
        <p:sp>
          <p:nvSpPr>
            <p:cNvPr id="267" name=""/>
            <p:cNvSpPr/>
            <p:nvPr/>
          </p:nvSpPr>
          <p:spPr>
            <a:xfrm>
              <a:off x="1679400" y="2622600"/>
              <a:ext cx="0" cy="140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01720" y="4048200"/>
              <a:ext cx="163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3355920" y="2658600"/>
              <a:ext cx="0" cy="140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85880" y="3216240"/>
              <a:ext cx="1663920" cy="82548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320840" y="1990800"/>
              <a:ext cx="117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517840" y="2013120"/>
              <a:ext cx="0" cy="41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32040" y="19764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94160" y="3348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517840" y="40719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857240" y="4227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2412000" y="4437000"/>
              <a:ext cx="472320" cy="270000"/>
              <a:chOff x="2412000" y="4437000"/>
              <a:chExt cx="472320" cy="270000"/>
            </a:xfrm>
          </p:grpSpPr>
          <p:sp>
            <p:nvSpPr>
              <p:cNvPr id="278" name=""/>
              <p:cNvSpPr/>
              <p:nvPr/>
            </p:nvSpPr>
            <p:spPr>
              <a:xfrm flipH="1">
                <a:off x="2419560" y="4468320"/>
                <a:ext cx="18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412000" y="4471200"/>
                <a:ext cx="196920" cy="20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2419560" y="4471200"/>
                <a:ext cx="181080" cy="20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2419560" y="4675320"/>
                <a:ext cx="18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506320" y="4572000"/>
                <a:ext cx="244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5400000">
                <a:off x="2682360" y="4505040"/>
                <a:ext cx="270000" cy="13392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 flipH="1">
              <a:off x="2484000" y="4683240"/>
              <a:ext cx="1116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2879640" y="458460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213000" y="434988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odelos linealiz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roximaciones lineales de las ecuaciones no-line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s fáciles de manipular matemáticamente pero su rango de validez es mas limi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1447920" y="4343400"/>
                <a:ext cx="20574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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k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5334120" y="4343400"/>
                <a:ext cx="26161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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Δh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Δq</m:t>
                    </m:r>
                    <m:r>
                      <m:t xml:space="preserve">−</m:t>
                    </m:r>
                    <m:r>
                      <m:t xml:space="preserve">αΔ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4038480" y="457200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22:18:33Z</dcterms:created>
  <dc:creator>Ing. de Sistemas y Automatica</dc:creator>
  <dc:description/>
  <dc:language>en-US</dc:language>
  <cp:lastModifiedBy>Dpto. de Ing. de Sistemas y Automatica</cp:lastModifiedBy>
  <dcterms:modified xsi:type="dcterms:W3CDTF">2004-04-03T12:39:53Z</dcterms:modified>
  <cp:revision>36</cp:revision>
  <dc:subject/>
  <dc:title>Control por computador</dc:title>
</cp:coreProperties>
</file>