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0F4-5015-4BED-9CAA-57287D91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0AE-0181-4D97-8E9D-9748CF3C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36B-8738-4FC6-A367-E16B18B8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CA8-7384-46A5-B4F0-1C85BDD0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3F8-664C-4217-A7DA-749EBBCF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7D2-6532-4B7D-ADDB-5F059821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EFF-82AE-4763-8C50-0156C8A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53F-05CE-4207-8F9F-88A8063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D03-5CBF-46B8-B55B-AE9AE7B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F63-24D2-4E92-9262-BC5B5B2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327-457F-4698-851C-F3897B83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BB9-CA37-4C26-9102-0D2E4C8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31F6-CCEE-4402-9FAC-8253635F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SA-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ada@autom.uva.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943280" y="2822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98760" y="236376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96960" y="204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9800" y="2768760"/>
            <a:ext cx="25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6280" y="236376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49640" y="237024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1840" y="237492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20960" y="2505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3600" y="191772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20840" y="22226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6960" y="2363760"/>
            <a:ext cx="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89160" y="236844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2160" y="2530440"/>
            <a:ext cx="3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851040" y="3436920"/>
                <a:ext cx="5397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000680" y="1724040"/>
                <a:ext cx="36954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ctro de frecuencia de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357840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peri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Espectro de una señal muestreada y</a:t>
            </a:r>
            <a:r>
              <a:rPr b="0" lang="es-ES" sz="3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01880" y="1681200"/>
                <a:ext cx="7175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ω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987640" y="3573360"/>
                <a:ext cx="2718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042920" y="4653000"/>
            <a:ext cx="748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spectro de frecuencias de la señal muestreada se obtiene sumando infinitas veces el espectro de la señal continua desplazado n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1557360"/>
            <a:ext cx="1152360" cy="10080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0948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Espectro de una señal muestreada y</a:t>
            </a:r>
            <a:r>
              <a:rPr b="0" lang="es-ES" sz="3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565360"/>
                <a:ext cx="2717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3419640" y="3213000"/>
            <a:ext cx="22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ubChord"/>
          <p:cNvSpPr/>
          <p:nvPr/>
        </p:nvSpPr>
        <p:spPr>
          <a:xfrm rot="8135400">
            <a:off x="3779640" y="2349000"/>
            <a:ext cx="158400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53" y="2367"/>
                </a:moveTo>
                <a:arcTo wR="10800" hR="10800" stAng="-7719892" swAng="-11604649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00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ubChord"/>
          <p:cNvSpPr/>
          <p:nvPr/>
        </p:nvSpPr>
        <p:spPr>
          <a:xfrm rot="7771800">
            <a:off x="3877560" y="421452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08360" y="385272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96000" y="292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67640" y="500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08360" y="3852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84360" y="1557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pectr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964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32000" y="3421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Espectro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3141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76720" y="5013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ubChord"/>
          <p:cNvSpPr/>
          <p:nvPr/>
        </p:nvSpPr>
        <p:spPr>
          <a:xfrm rot="7771800">
            <a:off x="568728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ubChord"/>
          <p:cNvSpPr/>
          <p:nvPr/>
        </p:nvSpPr>
        <p:spPr>
          <a:xfrm rot="7771800">
            <a:off x="201528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ubChord"/>
          <p:cNvSpPr/>
          <p:nvPr/>
        </p:nvSpPr>
        <p:spPr>
          <a:xfrm rot="7771800">
            <a:off x="21528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ubChord"/>
          <p:cNvSpPr/>
          <p:nvPr/>
        </p:nvSpPr>
        <p:spPr>
          <a:xfrm rot="7771800">
            <a:off x="748764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2764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2800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1128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5076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51280" y="392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435280" y="2492280"/>
            <a:ext cx="64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1844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ima frecuencia de la señal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43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08720" y="458136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48360" y="422100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5734080"/>
            <a:ext cx="820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2 los espectros laterales no se superponen y el contenido de frecuencias de Y y de Y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on identicos en [-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60948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Espectro de una señal muestreada y</a:t>
            </a:r>
            <a:r>
              <a:rPr b="0" lang="es-ES" sz="3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50920" y="2637000"/>
                <a:ext cx="2717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419640" y="3213000"/>
            <a:ext cx="22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ubChord"/>
          <p:cNvSpPr/>
          <p:nvPr/>
        </p:nvSpPr>
        <p:spPr>
          <a:xfrm rot="8135400">
            <a:off x="3779640" y="2349000"/>
            <a:ext cx="158400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53" y="2367"/>
                </a:moveTo>
                <a:arcTo wR="10800" hR="10800" stAng="-7719892" swAng="-11604649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00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6000" y="292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67640" y="500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3573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56000" y="1628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pectr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8508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32000" y="3421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Espectro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76720" y="3141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19640" y="5013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24360" y="50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20000" y="50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50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19280" y="50846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435280" y="2492280"/>
            <a:ext cx="64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56360" y="1844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ima frecuencia de la señal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5300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5734080"/>
            <a:ext cx="820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2 los espectros laterales se superponen y el contenido de frecuencias de Y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distorsiona en [-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740720" y="4292640"/>
            <a:ext cx="430920" cy="168120"/>
            <a:chOff x="7740720" y="4292640"/>
            <a:chExt cx="430920" cy="168120"/>
          </a:xfrm>
        </p:grpSpPr>
        <p:sp>
          <p:nvSpPr>
            <p:cNvPr id="393" name=""/>
            <p:cNvSpPr/>
            <p:nvPr/>
          </p:nvSpPr>
          <p:spPr>
            <a:xfrm>
              <a:off x="7740720" y="42926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955640" y="42926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ubChord"/>
          <p:cNvSpPr/>
          <p:nvPr/>
        </p:nvSpPr>
        <p:spPr>
          <a:xfrm rot="7771800">
            <a:off x="1258200" y="422712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ubChord"/>
          <p:cNvSpPr/>
          <p:nvPr/>
        </p:nvSpPr>
        <p:spPr>
          <a:xfrm rot="7771800">
            <a:off x="6516000" y="422712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7964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600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ubChord"/>
          <p:cNvSpPr/>
          <p:nvPr/>
        </p:nvSpPr>
        <p:spPr>
          <a:xfrm rot="7771800">
            <a:off x="5218920" y="422712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ubChord"/>
          <p:cNvSpPr/>
          <p:nvPr/>
        </p:nvSpPr>
        <p:spPr>
          <a:xfrm rot="7771800">
            <a:off x="2555280" y="422712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036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ubChord"/>
          <p:cNvSpPr/>
          <p:nvPr/>
        </p:nvSpPr>
        <p:spPr>
          <a:xfrm rot="7771800">
            <a:off x="387756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19640" y="422100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360" y="385272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076720" y="4221000"/>
            <a:ext cx="432000" cy="168480"/>
            <a:chOff x="5076720" y="4221000"/>
            <a:chExt cx="432000" cy="168480"/>
          </a:xfrm>
        </p:grpSpPr>
        <p:sp>
          <p:nvSpPr>
            <p:cNvPr id="407" name=""/>
            <p:cNvSpPr/>
            <p:nvPr/>
          </p:nvSpPr>
          <p:spPr>
            <a:xfrm>
              <a:off x="5076720" y="422100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292720" y="422100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372360" y="4227480"/>
            <a:ext cx="430920" cy="168480"/>
            <a:chOff x="6372360" y="4227480"/>
            <a:chExt cx="430920" cy="168480"/>
          </a:xfrm>
        </p:grpSpPr>
        <p:sp>
          <p:nvSpPr>
            <p:cNvPr id="410" name=""/>
            <p:cNvSpPr/>
            <p:nvPr/>
          </p:nvSpPr>
          <p:spPr>
            <a:xfrm>
              <a:off x="6372360" y="422748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587280" y="422748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708360" y="4227480"/>
            <a:ext cx="432000" cy="168480"/>
            <a:chOff x="3708360" y="4227480"/>
            <a:chExt cx="432000" cy="168480"/>
          </a:xfrm>
        </p:grpSpPr>
        <p:sp>
          <p:nvSpPr>
            <p:cNvPr id="413" name=""/>
            <p:cNvSpPr/>
            <p:nvPr/>
          </p:nvSpPr>
          <p:spPr>
            <a:xfrm>
              <a:off x="370836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92436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411280" y="4227480"/>
            <a:ext cx="432000" cy="168480"/>
            <a:chOff x="2411280" y="4227480"/>
            <a:chExt cx="432000" cy="168480"/>
          </a:xfrm>
        </p:grpSpPr>
        <p:sp>
          <p:nvSpPr>
            <p:cNvPr id="416" name=""/>
            <p:cNvSpPr/>
            <p:nvPr/>
          </p:nvSpPr>
          <p:spPr>
            <a:xfrm>
              <a:off x="241128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27280" y="4227480"/>
              <a:ext cx="21600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116000" y="4221000"/>
            <a:ext cx="430920" cy="168480"/>
            <a:chOff x="1116000" y="4221000"/>
            <a:chExt cx="430920" cy="168480"/>
          </a:xfrm>
        </p:grpSpPr>
        <p:sp>
          <p:nvSpPr>
            <p:cNvPr id="419" name=""/>
            <p:cNvSpPr/>
            <p:nvPr/>
          </p:nvSpPr>
          <p:spPr>
            <a:xfrm>
              <a:off x="1116000" y="422100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330920" y="4221000"/>
              <a:ext cx="215640" cy="1684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136" y="0"/>
                  </a:moveTo>
                  <a:cubicBezTo>
                    <a:pt x="124" y="38"/>
                    <a:pt x="113" y="76"/>
                    <a:pt x="90" y="91"/>
                  </a:cubicBezTo>
                  <a:cubicBezTo>
                    <a:pt x="67" y="106"/>
                    <a:pt x="15" y="91"/>
                    <a:pt x="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eorema de Sha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9640" y="3213000"/>
            <a:ext cx="22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ubChord"/>
          <p:cNvSpPr/>
          <p:nvPr/>
        </p:nvSpPr>
        <p:spPr>
          <a:xfrm rot="8135400">
            <a:off x="3779640" y="2349000"/>
            <a:ext cx="158400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53" y="2367"/>
                </a:moveTo>
                <a:arcTo wR="10800" hR="10800" stAng="-7719892" swAng="-11604649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5005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ubChord"/>
          <p:cNvSpPr/>
          <p:nvPr/>
        </p:nvSpPr>
        <p:spPr>
          <a:xfrm rot="7771800">
            <a:off x="3877560" y="421452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08360" y="385272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96000" y="292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567640" y="500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08360" y="3852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5964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32000" y="3421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Espectro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76720" y="3141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6720" y="5013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ubChord"/>
          <p:cNvSpPr/>
          <p:nvPr/>
        </p:nvSpPr>
        <p:spPr>
          <a:xfrm rot="7771800">
            <a:off x="568728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ubChord"/>
          <p:cNvSpPr/>
          <p:nvPr/>
        </p:nvSpPr>
        <p:spPr>
          <a:xfrm rot="7771800">
            <a:off x="201528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ubChord"/>
          <p:cNvSpPr/>
          <p:nvPr/>
        </p:nvSpPr>
        <p:spPr>
          <a:xfrm rot="7771800">
            <a:off x="21528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ubChord"/>
          <p:cNvSpPr/>
          <p:nvPr/>
        </p:nvSpPr>
        <p:spPr>
          <a:xfrm rot="7771800">
            <a:off x="7487640" y="4220640"/>
            <a:ext cx="1476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50" y="1992"/>
                </a:moveTo>
                <a:arcTo wR="10800" hR="10800" stAng="-7521391" swAng="-11258959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2764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2800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07672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1280" y="5076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51280" y="392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435280" y="2492280"/>
            <a:ext cx="649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56360" y="184464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ima frecuencia de la señal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43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4400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71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08720" y="458136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422100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5589720"/>
            <a:ext cx="83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que no haya pérdida significativa de la información el periodo de muestreo ha de cumpli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2 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826920" y="1844640"/>
                <a:ext cx="1359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395280" y="2565360"/>
            <a:ext cx="252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Frecuenci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lias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2484360" y="1844640"/>
            <a:ext cx="4334040" cy="19717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26920" y="5229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ndo se muestrea incorrectamente una señal pueden aparecer frecuencias en la señal muestreada que no están en la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372360" y="2708280"/>
            <a:ext cx="1295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36000" y="184464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ñal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63640" y="328464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0920" y="256536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ñal muest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2781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64500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51280" y="2781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27640" y="198900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03640" y="27813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80000" y="36450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6360" y="2781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6920" y="4005360"/>
            <a:ext cx="756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Se muestrea a frecuencia menor que 2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En el ordenador se ve la señal como una de frecuenci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oma de datos, filtrado “antialiasing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24360" y="3068640"/>
            <a:ext cx="165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635280" y="3062160"/>
            <a:ext cx="1784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419800" y="2839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96120" y="178128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20920" y="190656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70280" y="19684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08360" y="270828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46640" y="2451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55880" y="2097000"/>
            <a:ext cx="128448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05400" y="3046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49920" y="2859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91360" y="223056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03960" y="2079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56440" y="280512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794720" y="2548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08880" y="222732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56280" y="243216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05840" y="2462040"/>
            <a:ext cx="14040" cy="34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1760" y="2768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27960" y="2506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5480" y="190656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840" y="19684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42920" y="2708280"/>
            <a:ext cx="14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81200" y="24512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0440" y="2097000"/>
            <a:ext cx="128448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84360" y="2852640"/>
            <a:ext cx="115092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00000" y="306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1976400"/>
            <a:ext cx="1152360" cy="457200"/>
          </a:xfrm>
          <a:custGeom>
            <a:avLst/>
            <a:gdLst/>
            <a:ahLst/>
            <a:rect l="l" t="t" r="r" b="b"/>
            <a:pathLst>
              <a:path w="726" h="288">
                <a:moveTo>
                  <a:pt x="0" y="99"/>
                </a:moveTo>
                <a:cubicBezTo>
                  <a:pt x="15" y="57"/>
                  <a:pt x="30" y="16"/>
                  <a:pt x="45" y="8"/>
                </a:cubicBezTo>
                <a:cubicBezTo>
                  <a:pt x="60" y="0"/>
                  <a:pt x="75" y="30"/>
                  <a:pt x="90" y="53"/>
                </a:cubicBezTo>
                <a:cubicBezTo>
                  <a:pt x="105" y="76"/>
                  <a:pt x="121" y="144"/>
                  <a:pt x="136" y="144"/>
                </a:cubicBezTo>
                <a:cubicBezTo>
                  <a:pt x="151" y="144"/>
                  <a:pt x="166" y="76"/>
                  <a:pt x="181" y="53"/>
                </a:cubicBezTo>
                <a:cubicBezTo>
                  <a:pt x="196" y="30"/>
                  <a:pt x="219" y="0"/>
                  <a:pt x="227" y="8"/>
                </a:cubicBezTo>
                <a:cubicBezTo>
                  <a:pt x="235" y="16"/>
                  <a:pt x="220" y="92"/>
                  <a:pt x="227" y="99"/>
                </a:cubicBezTo>
                <a:cubicBezTo>
                  <a:pt x="234" y="106"/>
                  <a:pt x="257" y="46"/>
                  <a:pt x="272" y="53"/>
                </a:cubicBezTo>
                <a:cubicBezTo>
                  <a:pt x="287" y="60"/>
                  <a:pt x="302" y="136"/>
                  <a:pt x="317" y="144"/>
                </a:cubicBezTo>
                <a:cubicBezTo>
                  <a:pt x="332" y="152"/>
                  <a:pt x="363" y="84"/>
                  <a:pt x="363" y="99"/>
                </a:cubicBezTo>
                <a:cubicBezTo>
                  <a:pt x="363" y="114"/>
                  <a:pt x="310" y="220"/>
                  <a:pt x="317" y="235"/>
                </a:cubicBezTo>
                <a:cubicBezTo>
                  <a:pt x="324" y="250"/>
                  <a:pt x="385" y="182"/>
                  <a:pt x="408" y="189"/>
                </a:cubicBezTo>
                <a:cubicBezTo>
                  <a:pt x="431" y="196"/>
                  <a:pt x="438" y="280"/>
                  <a:pt x="453" y="280"/>
                </a:cubicBezTo>
                <a:cubicBezTo>
                  <a:pt x="468" y="280"/>
                  <a:pt x="491" y="189"/>
                  <a:pt x="499" y="189"/>
                </a:cubicBezTo>
                <a:cubicBezTo>
                  <a:pt x="507" y="189"/>
                  <a:pt x="492" y="272"/>
                  <a:pt x="499" y="280"/>
                </a:cubicBezTo>
                <a:cubicBezTo>
                  <a:pt x="506" y="288"/>
                  <a:pt x="529" y="235"/>
                  <a:pt x="544" y="235"/>
                </a:cubicBezTo>
                <a:cubicBezTo>
                  <a:pt x="559" y="235"/>
                  <a:pt x="582" y="288"/>
                  <a:pt x="589" y="280"/>
                </a:cubicBezTo>
                <a:cubicBezTo>
                  <a:pt x="596" y="272"/>
                  <a:pt x="581" y="196"/>
                  <a:pt x="589" y="189"/>
                </a:cubicBezTo>
                <a:cubicBezTo>
                  <a:pt x="597" y="182"/>
                  <a:pt x="620" y="235"/>
                  <a:pt x="635" y="235"/>
                </a:cubicBezTo>
                <a:cubicBezTo>
                  <a:pt x="650" y="235"/>
                  <a:pt x="665" y="189"/>
                  <a:pt x="680" y="189"/>
                </a:cubicBezTo>
                <a:cubicBezTo>
                  <a:pt x="695" y="189"/>
                  <a:pt x="718" y="235"/>
                  <a:pt x="726" y="2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71640" y="3645000"/>
            <a:ext cx="72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es de muestrear una señal conviene pasarla por un filtro continuo pasa bajo (filtro “antialiasing”) para eliminar las frecuencias superiores 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que distorsionarian la señal muestreada con el 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.e. Filtro de Bessel de segundo o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2627280" y="5805360"/>
                <a:ext cx="3479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9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9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877080" y="5516640"/>
            <a:ext cx="187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ncho de 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ctro de frecu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3200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ubChord"/>
          <p:cNvSpPr/>
          <p:nvPr/>
        </p:nvSpPr>
        <p:spPr>
          <a:xfrm rot="8135400">
            <a:off x="1692000" y="2349360"/>
            <a:ext cx="158436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53" y="2367"/>
                </a:moveTo>
                <a:arcTo wR="10800" hR="10800" stAng="-7719892" swAng="-11604649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436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8436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89440" y="314172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191628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uele representar un rango de frecuencias superior 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porque es repetitivo y esas frecuencias no aparecen en la señal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528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42920" y="4149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s frecuencias del espectro no tienden a cero antes de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 ello es síntoma de un T in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iodo de muestreo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3200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ubChord"/>
          <p:cNvSpPr/>
          <p:nvPr/>
        </p:nvSpPr>
        <p:spPr>
          <a:xfrm rot="8135400">
            <a:off x="1692000" y="2349360"/>
            <a:ext cx="158436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53" y="2367"/>
                </a:moveTo>
                <a:arcTo wR="10800" hR="10800" stAng="-7719892" swAng="-11604649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84360" y="206064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84360" y="191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89440" y="314172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3528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48360" y="191628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eorema de Shanon nos da un criterio para elegir un T adecuado para muestrear una señal, pero a veces es difícil de apli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58920" y="3860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551664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00000" y="4352760"/>
            <a:ext cx="2592360" cy="817560"/>
          </a:xfrm>
          <a:custGeom>
            <a:avLst/>
            <a:gdLst/>
            <a:ahLst/>
            <a:rect l="l" t="t" r="r" b="b"/>
            <a:pathLst>
              <a:path w="1633" h="515">
                <a:moveTo>
                  <a:pt x="0" y="507"/>
                </a:moveTo>
                <a:cubicBezTo>
                  <a:pt x="83" y="511"/>
                  <a:pt x="166" y="515"/>
                  <a:pt x="226" y="507"/>
                </a:cubicBezTo>
                <a:cubicBezTo>
                  <a:pt x="286" y="499"/>
                  <a:pt x="317" y="484"/>
                  <a:pt x="363" y="461"/>
                </a:cubicBezTo>
                <a:cubicBezTo>
                  <a:pt x="409" y="438"/>
                  <a:pt x="446" y="416"/>
                  <a:pt x="499" y="371"/>
                </a:cubicBezTo>
                <a:cubicBezTo>
                  <a:pt x="552" y="326"/>
                  <a:pt x="620" y="242"/>
                  <a:pt x="680" y="189"/>
                </a:cubicBezTo>
                <a:cubicBezTo>
                  <a:pt x="740" y="136"/>
                  <a:pt x="794" y="83"/>
                  <a:pt x="862" y="53"/>
                </a:cubicBezTo>
                <a:cubicBezTo>
                  <a:pt x="930" y="23"/>
                  <a:pt x="997" y="16"/>
                  <a:pt x="1088" y="8"/>
                </a:cubicBezTo>
                <a:cubicBezTo>
                  <a:pt x="1179" y="0"/>
                  <a:pt x="1315" y="8"/>
                  <a:pt x="1406" y="8"/>
                </a:cubicBezTo>
                <a:cubicBezTo>
                  <a:pt x="1497" y="8"/>
                  <a:pt x="1595" y="8"/>
                  <a:pt x="163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5600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1128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68360" y="422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0328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9236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4280" y="51181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63680" y="509580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09840" y="5029200"/>
            <a:ext cx="7272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55640" y="49086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38480" y="44085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70240" y="43657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30440" y="434016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89680" y="4108320"/>
            <a:ext cx="329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iterio práctico: Escoger T de modo que corresponda a tomar entre 10 – 30 muestras del tiempo de asent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84280" y="5962680"/>
            <a:ext cx="2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0880" y="5923080"/>
            <a:ext cx="146160" cy="1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iod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85920" y="162072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1360" y="327672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7000" y="2112840"/>
            <a:ext cx="2592360" cy="817560"/>
          </a:xfrm>
          <a:custGeom>
            <a:avLst/>
            <a:gdLst/>
            <a:ahLst/>
            <a:rect l="l" t="t" r="r" b="b"/>
            <a:pathLst>
              <a:path w="1633" h="515">
                <a:moveTo>
                  <a:pt x="0" y="507"/>
                </a:moveTo>
                <a:cubicBezTo>
                  <a:pt x="83" y="511"/>
                  <a:pt x="166" y="515"/>
                  <a:pt x="226" y="507"/>
                </a:cubicBezTo>
                <a:cubicBezTo>
                  <a:pt x="286" y="499"/>
                  <a:pt x="317" y="484"/>
                  <a:pt x="363" y="461"/>
                </a:cubicBezTo>
                <a:cubicBezTo>
                  <a:pt x="409" y="438"/>
                  <a:pt x="446" y="416"/>
                  <a:pt x="499" y="371"/>
                </a:cubicBezTo>
                <a:cubicBezTo>
                  <a:pt x="552" y="326"/>
                  <a:pt x="620" y="242"/>
                  <a:pt x="680" y="189"/>
                </a:cubicBezTo>
                <a:cubicBezTo>
                  <a:pt x="740" y="136"/>
                  <a:pt x="794" y="83"/>
                  <a:pt x="862" y="53"/>
                </a:cubicBezTo>
                <a:cubicBezTo>
                  <a:pt x="930" y="23"/>
                  <a:pt x="997" y="16"/>
                  <a:pt x="1088" y="8"/>
                </a:cubicBezTo>
                <a:cubicBezTo>
                  <a:pt x="1179" y="0"/>
                  <a:pt x="1315" y="8"/>
                  <a:pt x="1406" y="8"/>
                </a:cubicBezTo>
                <a:cubicBezTo>
                  <a:pt x="1497" y="8"/>
                  <a:pt x="1595" y="8"/>
                  <a:pt x="163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83000" y="19810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19810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95360" y="19810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30280" y="21258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74640" y="21258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19360" y="21258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41280" y="28782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0680" y="285588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36840" y="2789280"/>
            <a:ext cx="7272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82640" y="266868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65480" y="21686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97240" y="21258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57440" y="21002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16680" y="1868400"/>
            <a:ext cx="32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zo cerrado normalmente los procesos son mas rápidos que en 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11280" y="3722760"/>
            <a:ext cx="2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77880" y="3683160"/>
            <a:ext cx="146160" cy="1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58920" y="3860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4360" y="551664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00000" y="4352760"/>
            <a:ext cx="2592360" cy="817560"/>
          </a:xfrm>
          <a:custGeom>
            <a:avLst/>
            <a:gdLst/>
            <a:ahLst/>
            <a:rect l="l" t="t" r="r" b="b"/>
            <a:pathLst>
              <a:path w="1633" h="515">
                <a:moveTo>
                  <a:pt x="0" y="507"/>
                </a:moveTo>
                <a:cubicBezTo>
                  <a:pt x="83" y="511"/>
                  <a:pt x="166" y="515"/>
                  <a:pt x="226" y="507"/>
                </a:cubicBezTo>
                <a:cubicBezTo>
                  <a:pt x="286" y="499"/>
                  <a:pt x="317" y="484"/>
                  <a:pt x="363" y="461"/>
                </a:cubicBezTo>
                <a:cubicBezTo>
                  <a:pt x="409" y="438"/>
                  <a:pt x="446" y="416"/>
                  <a:pt x="499" y="371"/>
                </a:cubicBezTo>
                <a:cubicBezTo>
                  <a:pt x="552" y="326"/>
                  <a:pt x="620" y="242"/>
                  <a:pt x="680" y="189"/>
                </a:cubicBezTo>
                <a:cubicBezTo>
                  <a:pt x="740" y="136"/>
                  <a:pt x="794" y="83"/>
                  <a:pt x="862" y="53"/>
                </a:cubicBezTo>
                <a:cubicBezTo>
                  <a:pt x="930" y="23"/>
                  <a:pt x="997" y="16"/>
                  <a:pt x="1088" y="8"/>
                </a:cubicBezTo>
                <a:cubicBezTo>
                  <a:pt x="1179" y="0"/>
                  <a:pt x="1315" y="8"/>
                  <a:pt x="1406" y="8"/>
                </a:cubicBezTo>
                <a:cubicBezTo>
                  <a:pt x="1497" y="8"/>
                  <a:pt x="1595" y="8"/>
                  <a:pt x="163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7560" y="4248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32040" y="42609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0328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54764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92360" y="4365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14280" y="51181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51080" y="471168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43005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43040" y="42465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14400" y="42228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33560" y="42609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84760" y="4189320"/>
            <a:ext cx="329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se escoge T para un sistema de control, debe aplicarse la regla al tiempo de asentamiento esperado en laz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85920" y="1969920"/>
            <a:ext cx="1709640" cy="932040"/>
          </a:xfrm>
          <a:custGeom>
            <a:avLst/>
            <a:gdLst/>
            <a:ahLst/>
            <a:rect l="l" t="t" r="r" b="b"/>
            <a:pathLst>
              <a:path w="1077" h="587">
                <a:moveTo>
                  <a:pt x="0" y="587"/>
                </a:moveTo>
                <a:cubicBezTo>
                  <a:pt x="24" y="532"/>
                  <a:pt x="49" y="477"/>
                  <a:pt x="75" y="395"/>
                </a:cubicBezTo>
                <a:cubicBezTo>
                  <a:pt x="101" y="313"/>
                  <a:pt x="116" y="159"/>
                  <a:pt x="158" y="95"/>
                </a:cubicBezTo>
                <a:cubicBezTo>
                  <a:pt x="200" y="31"/>
                  <a:pt x="267" y="22"/>
                  <a:pt x="325" y="11"/>
                </a:cubicBezTo>
                <a:cubicBezTo>
                  <a:pt x="383" y="0"/>
                  <a:pt x="417" y="27"/>
                  <a:pt x="509" y="28"/>
                </a:cubicBezTo>
                <a:cubicBezTo>
                  <a:pt x="601" y="29"/>
                  <a:pt x="781" y="21"/>
                  <a:pt x="876" y="20"/>
                </a:cubicBezTo>
                <a:cubicBezTo>
                  <a:pt x="971" y="19"/>
                  <a:pt x="1024" y="19"/>
                  <a:pt x="1077" y="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36600" y="4238640"/>
            <a:ext cx="1709640" cy="931680"/>
          </a:xfrm>
          <a:custGeom>
            <a:avLst/>
            <a:gdLst/>
            <a:ahLst/>
            <a:rect l="l" t="t" r="r" b="b"/>
            <a:pathLst>
              <a:path w="1077" h="587">
                <a:moveTo>
                  <a:pt x="0" y="587"/>
                </a:moveTo>
                <a:cubicBezTo>
                  <a:pt x="24" y="532"/>
                  <a:pt x="49" y="477"/>
                  <a:pt x="75" y="395"/>
                </a:cubicBezTo>
                <a:cubicBezTo>
                  <a:pt x="101" y="313"/>
                  <a:pt x="116" y="159"/>
                  <a:pt x="158" y="95"/>
                </a:cubicBezTo>
                <a:cubicBezTo>
                  <a:pt x="200" y="31"/>
                  <a:pt x="267" y="22"/>
                  <a:pt x="325" y="11"/>
                </a:cubicBezTo>
                <a:cubicBezTo>
                  <a:pt x="383" y="0"/>
                  <a:pt x="417" y="27"/>
                  <a:pt x="509" y="28"/>
                </a:cubicBezTo>
                <a:cubicBezTo>
                  <a:pt x="601" y="29"/>
                  <a:pt x="781" y="21"/>
                  <a:pt x="876" y="20"/>
                </a:cubicBezTo>
                <a:cubicBezTo>
                  <a:pt x="971" y="19"/>
                  <a:pt x="1024" y="19"/>
                  <a:pt x="1077" y="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05040" y="278460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29080" y="49896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74800" y="16574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376884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3200" y="2206440"/>
            <a:ext cx="777240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de señales muest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orema de Sha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formada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ones de transferencia en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los dominios s y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Se puede recuperar y(t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92360" y="6188040"/>
            <a:ext cx="22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ubChord"/>
          <p:cNvSpPr/>
          <p:nvPr/>
        </p:nvSpPr>
        <p:spPr>
          <a:xfrm rot="8135400">
            <a:off x="3852360" y="5324400"/>
            <a:ext cx="158436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053" y="2367"/>
                </a:moveTo>
                <a:arcTo wR="10800" hR="10800" stAng="-7719892" swAng="-11604649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5080" y="5035680"/>
            <a:ext cx="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69080" y="59007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5080" y="48927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|Y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49800" y="61167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-85320" y="1557360"/>
            <a:ext cx="9350640" cy="2577240"/>
            <a:chOff x="-85320" y="1557360"/>
            <a:chExt cx="9350640" cy="2577240"/>
          </a:xfrm>
        </p:grpSpPr>
        <p:sp>
          <p:nvSpPr>
            <p:cNvPr id="591" name=""/>
            <p:cNvSpPr/>
            <p:nvPr/>
          </p:nvSpPr>
          <p:spPr>
            <a:xfrm>
              <a:off x="0" y="3141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PubChord"/>
            <p:cNvSpPr/>
            <p:nvPr/>
          </p:nvSpPr>
          <p:spPr>
            <a:xfrm rot="7771800">
              <a:off x="3877560" y="2350800"/>
              <a:ext cx="1476360" cy="14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550" y="1992"/>
                  </a:moveTo>
                  <a:arcTo wR="10800" hR="10800" stAng="-7521391" swAng="-11258959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08360" y="1989000"/>
              <a:ext cx="0" cy="14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567640" y="3141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08360" y="198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|Y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2060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59640" y="1925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32000" y="155736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cc99"/>
                  </a:solidFill>
                  <a:latin typeface="Times New Roman"/>
                </a:rPr>
                <a:t>Espectro discr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76720" y="314964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PubChord"/>
            <p:cNvSpPr/>
            <p:nvPr/>
          </p:nvSpPr>
          <p:spPr>
            <a:xfrm rot="7771800">
              <a:off x="5687280" y="2356920"/>
              <a:ext cx="1476360" cy="14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550" y="1992"/>
                  </a:moveTo>
                  <a:arcTo wR="10800" hR="10800" stAng="-7521391" swAng="-11258959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PubChord"/>
            <p:cNvSpPr/>
            <p:nvPr/>
          </p:nvSpPr>
          <p:spPr>
            <a:xfrm rot="7771800">
              <a:off x="2015280" y="2356920"/>
              <a:ext cx="1476360" cy="14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550" y="1992"/>
                  </a:moveTo>
                  <a:arcTo wR="10800" hR="10800" stAng="-7521391" swAng="-11258959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PubChord"/>
            <p:cNvSpPr/>
            <p:nvPr/>
          </p:nvSpPr>
          <p:spPr>
            <a:xfrm rot="7771800">
              <a:off x="215280" y="2356920"/>
              <a:ext cx="1476360" cy="14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550" y="1992"/>
                  </a:moveTo>
                  <a:arcTo wR="10800" hR="10800" stAng="-7521391" swAng="-11258959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PubChord"/>
            <p:cNvSpPr/>
            <p:nvPr/>
          </p:nvSpPr>
          <p:spPr>
            <a:xfrm rot="7771800">
              <a:off x="7487640" y="2356920"/>
              <a:ext cx="1476360" cy="14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550" y="1992"/>
                  </a:moveTo>
                  <a:arcTo wR="10800" hR="10800" stAng="-7521391" swAng="-11258959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27640" y="321300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028000" y="321300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11280" y="321300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1280" y="3213000"/>
              <a:ext cx="79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51280" y="20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1/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43640" y="2070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44000" y="19969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71640" y="2070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71640" y="2070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08720" y="2717640"/>
              <a:ext cx="0" cy="1008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8360" y="235728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0" lang="es-ES" sz="20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s-ES" sz="2000" spc="-1" strike="noStrike">
                  <a:solidFill>
                    <a:srgbClr val="ff0000"/>
                  </a:solidFill>
                  <a:latin typeface="Times New Roman"/>
                </a:rPr>
                <a:t>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419640" y="4365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847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13040" y="3787920"/>
            <a:ext cx="17971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43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0920" y="4149720"/>
            <a:ext cx="295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teoría, 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, filtrando la señal muestreada con un filtro ideal se puede obtener la señal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32720" y="422100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filtro ideal no es realizable pero pueden hacerse aprox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3313080"/>
            <a:ext cx="212760" cy="265320"/>
          </a:xfrm>
          <a:prstGeom prst="downArrow">
            <a:avLst>
              <a:gd name="adj1" fmla="val 50000"/>
              <a:gd name="adj2" fmla="val 31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11720" y="4721400"/>
            <a:ext cx="212760" cy="264960"/>
          </a:xfrm>
          <a:prstGeom prst="downArrow">
            <a:avLst>
              <a:gd name="adj1" fmla="val 50000"/>
              <a:gd name="adj2" fmla="val 31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strucción de y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24360" y="1822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2070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61080" y="2797200"/>
            <a:ext cx="19476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19720" y="2198520"/>
            <a:ext cx="1284120" cy="30672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43040" y="281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84480" y="218592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97080" y="2035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17640" y="2773440"/>
            <a:ext cx="18288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02000" y="218268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49400" y="23875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98960" y="241776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21080" y="2462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11480" y="176220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868720" y="2344680"/>
            <a:ext cx="12600" cy="67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02480" y="2843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19760" y="2228760"/>
            <a:ext cx="423720" cy="185760"/>
          </a:xfrm>
          <a:custGeom>
            <a:avLst/>
            <a:gdLst/>
            <a:ahLst/>
            <a:rect l="l" t="t" r="r" b="b"/>
            <a:pathLst>
              <a:path w="267" h="117">
                <a:moveTo>
                  <a:pt x="267" y="0"/>
                </a:moveTo>
                <a:cubicBezTo>
                  <a:pt x="193" y="15"/>
                  <a:pt x="119" y="31"/>
                  <a:pt x="75" y="50"/>
                </a:cubicBezTo>
                <a:cubicBezTo>
                  <a:pt x="31" y="69"/>
                  <a:pt x="14" y="106"/>
                  <a:pt x="0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98640" y="2293920"/>
            <a:ext cx="0" cy="4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2371680"/>
            <a:ext cx="490320" cy="212760"/>
          </a:xfrm>
          <a:prstGeom prst="rightArrow">
            <a:avLst>
              <a:gd name="adj1" fmla="val 50000"/>
              <a:gd name="adj2" fmla="val 576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501920" y="3036960"/>
                <a:ext cx="60134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 Y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2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b>
                          <m:sup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b>
                          <m:sup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sub>
                              <m:sup>
                                <m:r>
                                  <m:t xml:space="preserve">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/2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512720" y="564984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5605560" y="5022720"/>
            <a:ext cx="33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oduce un retardo en el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infinit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str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702320" y="1535040"/>
            <a:ext cx="4273560" cy="32050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5460840" y="206676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(x) 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7920" y="2928960"/>
            <a:ext cx="383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oeficientes sinusoilades van decreciendo cuando nT de aparta del valor de t consid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4160" y="1913040"/>
                <a:ext cx="3416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00160" y="5359320"/>
                <a:ext cx="8766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330120" y="457200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ara t próximo a m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19640" y="3645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40560" y="3246480"/>
            <a:ext cx="1260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16840" y="306072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12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08760" y="150012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05840" y="449568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850160" y="4483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061480" y="3276720"/>
            <a:ext cx="12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62760" y="30654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07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str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4702320" y="1535040"/>
            <a:ext cx="4273560" cy="32050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5460840" y="206676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(x) 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00160" y="5359320"/>
                <a:ext cx="8766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5219640" y="3645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0560" y="3246480"/>
            <a:ext cx="1260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16840" y="306072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12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8760" y="150012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5840" y="449568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50160" y="448308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61480" y="3276720"/>
            <a:ext cx="12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862760" y="3065400"/>
            <a:ext cx="8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.07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1200" y="2259000"/>
            <a:ext cx="308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872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0508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7964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5600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32000" y="213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24000" y="213192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79640" y="249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63640" y="1771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68360" y="1771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+1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00000" y="22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-1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71640" y="2347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+2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6720" y="1771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m-2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395280" y="2997360"/>
                <a:ext cx="4013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461880" y="45086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on m=3        |coeficientes| &lt; 0.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ntene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592280" y="202716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42080" y="2243160"/>
            <a:ext cx="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13560" y="3381480"/>
            <a:ext cx="20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42080" y="252720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229440" y="2101680"/>
            <a:ext cx="0" cy="4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29440" y="2101680"/>
            <a:ext cx="385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15000" y="2101680"/>
            <a:ext cx="0" cy="71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15000" y="281304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002360" y="2527200"/>
            <a:ext cx="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02360" y="2527200"/>
            <a:ext cx="38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021520" y="307656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21440" y="203508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5400" y="2238480"/>
            <a:ext cx="0" cy="14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06520" y="3375000"/>
            <a:ext cx="20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820960" y="2095560"/>
            <a:ext cx="0" cy="12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595680" y="252252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68960" y="294948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35400" y="252252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08320" y="2806560"/>
            <a:ext cx="0" cy="56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99240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43320" y="4203720"/>
            <a:ext cx="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14440" y="5340240"/>
            <a:ext cx="20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828880" y="4060800"/>
            <a:ext cx="0" cy="12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603600" y="448776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43320" y="4487760"/>
            <a:ext cx="0" cy="8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16240" y="4772160"/>
            <a:ext cx="0" cy="56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59160" y="253224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817720" y="2098800"/>
            <a:ext cx="35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51160" y="2819520"/>
            <a:ext cx="35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10080" y="253224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78080" y="209880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78440" y="28195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459160" y="4043160"/>
            <a:ext cx="3585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851200" y="4075200"/>
            <a:ext cx="358560" cy="72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244680" y="4520880"/>
            <a:ext cx="34632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8320" y="4168800"/>
            <a:ext cx="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89440" y="5307120"/>
            <a:ext cx="20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97320" y="3960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54680" y="474516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829480" y="4008240"/>
            <a:ext cx="3585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08560" y="4011480"/>
            <a:ext cx="358920" cy="72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602400" y="4471560"/>
            <a:ext cx="34596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746840" y="48560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1960" y="2824200"/>
            <a:ext cx="17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5960" y="47451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25680" y="568476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en de pul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70560" y="292572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62440" y="2919240"/>
            <a:ext cx="13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265640" y="2696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41960" y="16383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53840" y="180504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03560" y="1866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2606760"/>
            <a:ext cx="25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79920" y="2349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89160" y="199548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51240" y="2903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95760" y="271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37200" y="20876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49800" y="1936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2280" y="266220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40560" y="2405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54720" y="20844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02480" y="22892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151680" y="23194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57600" y="2625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73800" y="23637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077920" y="4844880"/>
                <a:ext cx="53308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>
            <a:off x="982440" y="36655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31800" y="3727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46000" y="4464000"/>
            <a:ext cx="2160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17760" y="385596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30920" y="45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72360" y="386064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7236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72120" y="4443480"/>
            <a:ext cx="17622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89880" y="387828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37280" y="40831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86480" y="4113360"/>
            <a:ext cx="144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08600" y="4157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81320" y="39765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538960" y="39099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399360" y="345744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769840" y="3882960"/>
            <a:ext cx="12600" cy="67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49600" y="4487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00000" y="5516640"/>
                <a:ext cx="7488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585120" y="1467000"/>
                <a:ext cx="2327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1378080" y="2610000"/>
            <a:ext cx="83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27480" y="452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2960" y="4064040"/>
            <a:ext cx="180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1520" y="3743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41680" y="44686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0480" y="406404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33840" y="407052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56040" y="407520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05160" y="420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17800" y="361800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05040" y="39225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600360" y="406548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2280" y="4456080"/>
            <a:ext cx="83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81800" y="246528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ondiciones iniciales n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de y</a:t>
            </a:r>
            <a:r>
              <a:rPr b="0" lang="es-ES" sz="4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09680" y="1819440"/>
                <a:ext cx="847872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s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3067200" y="2771640"/>
                <a:ext cx="2350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s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2" name=""/>
          <p:cNvSpPr/>
          <p:nvPr/>
        </p:nvSpPr>
        <p:spPr>
          <a:xfrm>
            <a:off x="609480" y="384336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2001960" y="4390920"/>
                <a:ext cx="6705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022480" y="5423040"/>
                <a:ext cx="6512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539640" y="5013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042920" y="465264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42920" y="465300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03280" y="45086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0920" y="43657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lto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602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042920" y="5661000"/>
            <a:ext cx="0" cy="37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9280" y="537372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xp. Dec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1042920" y="5299920"/>
            <a:ext cx="12981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71640" y="54450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80000" y="623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resiones no racionales e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35840" y="3127320"/>
            <a:ext cx="249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No adecuadas para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01800" y="1736640"/>
            <a:ext cx="74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da la secuencia discreta f(0), f(1), f(2), ….f(k),… se define su transformada Z medi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2347920" y="2701800"/>
                <a:ext cx="2832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1112760" y="3684600"/>
            <a:ext cx="6626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z es una variable comp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ega en los sistemas discretos un papel equivalente al que la transformada s de Laplace juega en los 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uponen condiciones iniciales n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89880" y="3444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30960" y="28162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43560" y="2665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884920" y="339084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34320" y="3133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48480" y="28130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96240" y="301788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45440" y="304812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667560" y="30924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75240" y="23860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964120" y="3352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294600" y="2795760"/>
            <a:ext cx="8856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599160" y="2782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945480" y="29811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0" y="3008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92640" y="2840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048120" y="22622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46320" y="19414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06840" y="2666880"/>
            <a:ext cx="17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03560" y="17366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70200" y="21207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7640" y="2205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48000" y="26370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62280" y="26370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73680" y="262908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16200" y="264168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43320" y="2892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3280" y="197496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pulso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670280" y="1789200"/>
                <a:ext cx="3086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1" name=""/>
          <p:cNvSpPr/>
          <p:nvPr/>
        </p:nvSpPr>
        <p:spPr>
          <a:xfrm>
            <a:off x="3354480" y="43671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08160" y="34686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68680" y="421956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65400" y="326376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32040" y="36482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949480" y="3749760"/>
            <a:ext cx="88920" cy="473040"/>
            <a:chOff x="2949480" y="3749760"/>
            <a:chExt cx="88920" cy="473040"/>
          </a:xfrm>
        </p:grpSpPr>
        <p:sp>
          <p:nvSpPr>
            <p:cNvPr id="847" name=""/>
            <p:cNvSpPr/>
            <p:nvPr/>
          </p:nvSpPr>
          <p:spPr>
            <a:xfrm>
              <a:off x="300996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4948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678040" y="41688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00400" y="4419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3297240" y="3749760"/>
            <a:ext cx="88920" cy="473040"/>
            <a:chOff x="3297240" y="3749760"/>
            <a:chExt cx="88920" cy="473040"/>
          </a:xfrm>
        </p:grpSpPr>
        <p:sp>
          <p:nvSpPr>
            <p:cNvPr id="852" name=""/>
            <p:cNvSpPr/>
            <p:nvPr/>
          </p:nvSpPr>
          <p:spPr>
            <a:xfrm>
              <a:off x="335772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9724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602160" y="3749760"/>
            <a:ext cx="88920" cy="473040"/>
            <a:chOff x="3602160" y="3749760"/>
            <a:chExt cx="88920" cy="473040"/>
          </a:xfrm>
        </p:grpSpPr>
        <p:sp>
          <p:nvSpPr>
            <p:cNvPr id="855" name=""/>
            <p:cNvSpPr/>
            <p:nvPr/>
          </p:nvSpPr>
          <p:spPr>
            <a:xfrm>
              <a:off x="366264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0216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919680" y="3749760"/>
            <a:ext cx="88920" cy="473040"/>
            <a:chOff x="3919680" y="3749760"/>
            <a:chExt cx="88920" cy="473040"/>
          </a:xfrm>
        </p:grpSpPr>
        <p:sp>
          <p:nvSpPr>
            <p:cNvPr id="858" name=""/>
            <p:cNvSpPr/>
            <p:nvPr/>
          </p:nvSpPr>
          <p:spPr>
            <a:xfrm>
              <a:off x="3980160" y="3807000"/>
              <a:ext cx="144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19680" y="374976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06520" y="343692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alón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662360" y="2944800"/>
                <a:ext cx="321336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rie geometrica de razón z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3321000" y="4618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32160" y="609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86200" y="5194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46360" y="594504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3040" y="51609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a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709720" y="537372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927520" y="5475240"/>
            <a:ext cx="88560" cy="473040"/>
            <a:chOff x="2927520" y="5475240"/>
            <a:chExt cx="88560" cy="473040"/>
          </a:xfrm>
        </p:grpSpPr>
        <p:sp>
          <p:nvSpPr>
            <p:cNvPr id="869" name=""/>
            <p:cNvSpPr/>
            <p:nvPr/>
          </p:nvSpPr>
          <p:spPr>
            <a:xfrm>
              <a:off x="2987640" y="5532480"/>
              <a:ext cx="1080" cy="41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27520" y="5475240"/>
              <a:ext cx="8856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655720" y="589428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178080" y="6145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639960" y="5824440"/>
            <a:ext cx="180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92440" y="5765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57480" y="5891040"/>
            <a:ext cx="1800" cy="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09960" y="5805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4200" y="516240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onencial de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537080" y="5229360"/>
                <a:ext cx="3949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k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kT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k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a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a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9" name=""/>
          <p:cNvSpPr/>
          <p:nvPr/>
        </p:nvSpPr>
        <p:spPr>
          <a:xfrm flipH="1">
            <a:off x="3324240" y="5708520"/>
            <a:ext cx="9360" cy="2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87880" y="567864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200" y="6227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Funciones racionales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4864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ñales en control por comput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289548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3200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53280" y="32004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105520" y="44197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9040" y="41972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2004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429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5880" y="26668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8195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3193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0348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193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8195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31939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83080" y="4413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0384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892160" y="44132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898640" y="3645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3520" y="31939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82320" y="3935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6640" y="16765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66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800600" y="4190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9718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72428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8148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75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95480" y="1828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3526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7160" y="44956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2860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43200" y="5028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5120" y="464832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838760"/>
            <a:ext cx="762120" cy="2919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56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33560" y="17096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916360" y="1852560"/>
                <a:ext cx="36068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615960" y="2502000"/>
                <a:ext cx="7721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1103400" y="386064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Retar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71880" y="3894120"/>
                <a:ext cx="36194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650880" y="5170320"/>
                <a:ext cx="8153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 flipH="1">
            <a:off x="3855600" y="5221440"/>
            <a:ext cx="451080" cy="477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18160" y="5248440"/>
            <a:ext cx="450720" cy="46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224000" y="1762200"/>
                <a:ext cx="722484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ciendo k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1219320" y="4267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alor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808440" y="4471920"/>
                <a:ext cx="1930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95280" y="5299200"/>
                <a:ext cx="491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19320" y="17762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alor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448080" y="1809720"/>
                <a:ext cx="2730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797040" y="2511360"/>
                <a:ext cx="7721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 z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 flipH="1">
            <a:off x="2477880" y="3206880"/>
            <a:ext cx="277560" cy="384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443480" y="3249720"/>
            <a:ext cx="277920" cy="384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2681280" y="3608280"/>
            <a:ext cx="277920" cy="384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3806640" y="3262320"/>
            <a:ext cx="277560" cy="384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678280" y="3292560"/>
            <a:ext cx="277560" cy="384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095800" y="3292560"/>
            <a:ext cx="277920" cy="3841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902280" y="3297240"/>
            <a:ext cx="277920" cy="38412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58080" y="160344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puesta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78040" y="4363920"/>
            <a:ext cx="20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ransformada Z 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686040" y="4575240"/>
                <a:ext cx="2336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j</m:t>
                        </m:r>
                      </m:den>
                    </m:f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6696000" y="4362480"/>
            <a:ext cx="182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el camino cerrado encierra las singularidades de F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piedades de F(z)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81000" y="181620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433680" y="1722600"/>
                <a:ext cx="30481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233360" y="2808360"/>
                <a:ext cx="64897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ciendo k-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 ser 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Función de transferencia pulsada en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3320" y="2314440"/>
            <a:ext cx="2384280" cy="119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36640" y="2995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552680" y="2809440"/>
            <a:ext cx="2347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52560" y="30322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74800" y="2711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54040" y="306216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49520" y="31338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592440" y="26845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+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34080" y="30621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450120" y="2876400"/>
            <a:ext cx="23472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723000" y="3098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672240" y="2778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429240" y="31561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62840" y="320184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17880" y="2610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758960" y="19810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71560" y="1830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12920" y="25560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076480" y="19782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24240" y="218268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73440" y="221292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95560" y="22575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03240" y="15508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92120" y="25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722600" y="19605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27160" y="1947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73480" y="21463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743200" y="2173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41520" y="1581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67360" y="1584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313320" y="219384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0959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553160" y="18892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10360" y="196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673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24560" y="1965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95960" y="24224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095960" y="2346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119400" y="3836880"/>
                <a:ext cx="27860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363760" y="4730760"/>
                <a:ext cx="5635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327480" y="5797440"/>
                <a:ext cx="2463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198360" y="461340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nsformada de la con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54800" y="573876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(z) transformada Z de h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685800" y="609480"/>
            <a:ext cx="810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Función de transferencia pulsada en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43320" y="2314440"/>
            <a:ext cx="2636640" cy="119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17760" y="299736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49520" y="31338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972040" y="30621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450120" y="2876400"/>
            <a:ext cx="23472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23000" y="3098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672240" y="2778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350040" y="312912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062840" y="320184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17880" y="2610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758960" y="19810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771560" y="1830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312920" y="25560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19782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24240" y="218268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73440" y="221292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95560" y="22575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03240" y="15508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392120" y="25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22600" y="19605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27160" y="1947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73480" y="21463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2173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41520" y="1581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67360" y="1584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313320" y="219384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70959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553160" y="18892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10360" y="196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8673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24560" y="1965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095960" y="24224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95960" y="2346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398760" y="2521080"/>
                <a:ext cx="25891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1235160" y="3882960"/>
                <a:ext cx="64929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Γ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Φ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1098720" y="4756320"/>
            <a:ext cx="4678200" cy="56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212840" y="5662440"/>
                <a:ext cx="24098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3975120" y="561816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nción racional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143840" y="4557600"/>
            <a:ext cx="172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 condiciones iniciales n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36640" y="2995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552680" y="2809440"/>
            <a:ext cx="2347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52560" y="30322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74800" y="2711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con q</a:t>
            </a:r>
            <a:r>
              <a:rPr b="0" lang="es-ES" sz="4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195560" y="1920960"/>
                <a:ext cx="27604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4911840" y="2081160"/>
                <a:ext cx="37144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174680" y="3068640"/>
                <a:ext cx="3301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I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1058760" y="4121280"/>
            <a:ext cx="7169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resiones formalmente idénticas sin mas que sustituir q por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94040" y="5264280"/>
                <a:ext cx="4838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4716360" y="3247920"/>
            <a:ext cx="42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de H(z)= autovalores de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s de un Z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348000" y="1989000"/>
            <a:ext cx="1776600" cy="11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68360" y="2565360"/>
            <a:ext cx="10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48360" y="256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17800" y="26654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73280" y="20876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1480" y="17668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332000" y="2492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728720" y="15620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95360" y="1946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612800" y="2030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73160" y="246204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87440" y="246204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98840" y="24541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41360" y="246708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968480" y="27176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76880" y="266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56360" y="20606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148440" y="2079720"/>
            <a:ext cx="3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15636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96000" y="2492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192720" y="15620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859360" y="1946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116760" y="2057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7160" y="2462040"/>
            <a:ext cx="7164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51800" y="246204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062840" y="24541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805360" y="246708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94520" y="2730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470640" y="208764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94440" y="291456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impulso del 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87680" y="42321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66800" y="3627360"/>
            <a:ext cx="1800" cy="4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58880" y="3665520"/>
            <a:ext cx="1060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66800" y="3340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306440" y="405936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0160" y="35132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27200" y="3621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947960" y="3629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62240" y="3629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73280" y="36291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16160" y="403380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704960" y="429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663560" y="5376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43040" y="44845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82680" y="520380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46040" y="465768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76440" y="5153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38480" y="517356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49520" y="516564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92400" y="517860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81200" y="5442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38360" y="6316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617840" y="5711760"/>
            <a:ext cx="1440" cy="4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09560" y="5730840"/>
            <a:ext cx="3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17840" y="54244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257480" y="6143760"/>
            <a:ext cx="17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20840" y="55976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77880" y="5708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98640" y="611352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12920" y="611352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23960" y="610560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66840" y="611820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55640" y="63817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32120" y="573876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49400" y="4770360"/>
            <a:ext cx="1800" cy="41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941480" y="4808520"/>
            <a:ext cx="1060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09800" y="4764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30560" y="4772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44840" y="47721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855880" y="47721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08200" y="321948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63800" y="436248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t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982880" y="54752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4010040" y="4910040"/>
                <a:ext cx="361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4846680" y="5908680"/>
                <a:ext cx="182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O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679920" y="36338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función de transferencia es la transformada de la respuesta impul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o calcular H(z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17760" y="2660760"/>
            <a:ext cx="992160" cy="1119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24040" y="316872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539720" y="298260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39960" y="32050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762200" y="2884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41440" y="32353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36920" y="33066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21480" y="323532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7160" y="3049200"/>
            <a:ext cx="2350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710400" y="32716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59640" y="2951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16640" y="33289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50240" y="3375000"/>
            <a:ext cx="6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04920" y="2782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46360" y="215424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758960" y="2003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00320" y="27288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063880" y="21510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11280" y="23558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60840" y="23860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82960" y="24303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790640" y="17240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79520" y="2690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709640" y="2133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014560" y="2120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360520" y="2319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730600" y="2346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028560" y="17542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4760" y="175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300720" y="236700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7083360" y="1909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7540560" y="2061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97760" y="2138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4760" y="1909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11960" y="2138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83360" y="2595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3360" y="2519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51200" y="2637000"/>
            <a:ext cx="1087560" cy="1153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46640" y="322092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1177920" y="4016520"/>
                <a:ext cx="66294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3189240" y="5668920"/>
                <a:ext cx="2476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2"/>
          <a:stretch/>
        </p:blipFill>
        <p:spPr>
          <a:xfrm>
            <a:off x="241200" y="1604880"/>
            <a:ext cx="8688600" cy="502920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31840" y="1770120"/>
            <a:ext cx="7970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(s)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588000" y="1770120"/>
            <a:ext cx="1117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[G(s)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muest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ál debe ser el valor de T para no perder información esencial de y(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uede reconstruirse y(t) a partir de y(k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ontestar se debe investigar cuál es la relación entre los componentes de frecuencia de y(t) y de y*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uede utilizarse la transformada s para el análi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Hay otra formulación equival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0560" y="292572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62440" y="2919240"/>
            <a:ext cx="13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65640" y="2696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1960" y="16383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3840" y="180504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3560" y="1866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1640" y="26067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79920" y="234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89160" y="199548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10160" y="2878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5760" y="271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37200" y="20876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49800" y="1936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2280" y="266220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0560" y="2405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54720" y="20844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02480" y="22892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1680" y="23194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57600" y="2625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142920" y="2079720"/>
            <a:ext cx="8907480" cy="352908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44720" y="1682640"/>
            <a:ext cx="7966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(s)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58040" y="1595520"/>
            <a:ext cx="11174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[G(s)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114480" y="1198440"/>
            <a:ext cx="8910360" cy="5543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71400" y="17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bla de transformadas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85680" y="912960"/>
            <a:ext cx="7970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(s)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761160" y="1044720"/>
            <a:ext cx="11174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[G(s)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depo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371520" y="1679400"/>
            <a:ext cx="2075400" cy="2422440"/>
            <a:chOff x="371520" y="1679400"/>
            <a:chExt cx="2075400" cy="2422440"/>
          </a:xfrm>
        </p:grpSpPr>
        <p:sp>
          <p:nvSpPr>
            <p:cNvPr id="1145" name=""/>
            <p:cNvSpPr/>
            <p:nvPr/>
          </p:nvSpPr>
          <p:spPr>
            <a:xfrm>
              <a:off x="656280" y="21920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73920" y="332352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1987560" y="22208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1320" y="2663280"/>
              <a:ext cx="1321200" cy="65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1520" y="169056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21920" y="170820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92200" y="1679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096280" y="2767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21920" y="334224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6320" y="3465720"/>
              <a:ext cx="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1237320" y="3632040"/>
              <a:ext cx="375120" cy="214200"/>
              <a:chOff x="1237320" y="3632040"/>
              <a:chExt cx="375120" cy="214200"/>
            </a:xfrm>
          </p:grpSpPr>
          <p:sp>
            <p:nvSpPr>
              <p:cNvPr id="1156" name=""/>
              <p:cNvSpPr/>
              <p:nvPr/>
            </p:nvSpPr>
            <p:spPr>
              <a:xfrm flipH="1">
                <a:off x="1243440" y="365688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37320" y="3659400"/>
                <a:ext cx="1562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1243440" y="3659400"/>
                <a:ext cx="1436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1243440" y="382104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312560" y="373896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5400000">
                <a:off x="1452240" y="3686040"/>
                <a:ext cx="214200" cy="106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 flipH="1">
              <a:off x="1295280" y="3827520"/>
              <a:ext cx="86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1609200" y="374940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74160" y="356292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50920" y="44355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879640" y="1933560"/>
                <a:ext cx="53467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Δ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Δh</m:t>
                        </m:r>
                        <m:r>
                          <m:t xml:space="preserve">+</m:t>
                        </m:r>
                        <m:r>
                          <m:t xml:space="preserve">βΔu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7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2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3505320" y="4473720"/>
                <a:ext cx="51670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2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5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8" name=""/>
          <p:cNvSpPr/>
          <p:nvPr/>
        </p:nvSpPr>
        <p:spPr>
          <a:xfrm>
            <a:off x="4243320" y="6114960"/>
            <a:ext cx="33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lo = Autovalor = 0.5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385920" y="4975200"/>
                <a:ext cx="246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782640" y="2367000"/>
                <a:ext cx="3070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2" name=""/>
          <p:cNvSpPr/>
          <p:nvPr/>
        </p:nvSpPr>
        <p:spPr>
          <a:xfrm>
            <a:off x="6583320" y="2637000"/>
            <a:ext cx="137160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592600" y="2026800"/>
            <a:ext cx="685800" cy="167040"/>
            <a:chOff x="5592600" y="2026800"/>
            <a:chExt cx="685800" cy="167040"/>
          </a:xfrm>
        </p:grpSpPr>
        <p:sp>
          <p:nvSpPr>
            <p:cNvPr id="1174" name=""/>
            <p:cNvSpPr/>
            <p:nvPr/>
          </p:nvSpPr>
          <p:spPr>
            <a:xfrm>
              <a:off x="5592600" y="21110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63960" y="2026800"/>
              <a:ext cx="684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2360" y="2027160"/>
              <a:ext cx="6804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900400" y="2026800"/>
              <a:ext cx="10332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03720" y="2027160"/>
              <a:ext cx="68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6072120" y="2111040"/>
              <a:ext cx="349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07040" y="21110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6278400" y="2103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6811920" y="1951200"/>
            <a:ext cx="304560" cy="304560"/>
            <a:chOff x="6811920" y="1951200"/>
            <a:chExt cx="304560" cy="304560"/>
          </a:xfrm>
        </p:grpSpPr>
        <p:sp>
          <p:nvSpPr>
            <p:cNvPr id="1183" name=""/>
            <p:cNvSpPr/>
            <p:nvPr/>
          </p:nvSpPr>
          <p:spPr>
            <a:xfrm>
              <a:off x="681192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86232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6420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1496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13440" y="1951200"/>
              <a:ext cx="1015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7116840" y="2103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9120" y="2103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83120" y="2103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9120" y="385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040520" y="446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116840" y="4541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192800" y="4618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269120" y="3322800"/>
            <a:ext cx="1295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488440" y="3398760"/>
            <a:ext cx="317520" cy="4698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259840" y="3017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11920" y="149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668920" y="149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602240" y="2179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92600" y="2941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6120360" y="3088800"/>
            <a:ext cx="315720" cy="315000"/>
            <a:chOff x="6120360" y="3088800"/>
            <a:chExt cx="315720" cy="315000"/>
          </a:xfrm>
        </p:grpSpPr>
        <p:sp>
          <p:nvSpPr>
            <p:cNvPr id="1203" name=""/>
            <p:cNvSpPr/>
            <p:nvPr/>
          </p:nvSpPr>
          <p:spPr>
            <a:xfrm rot="5274000">
              <a:off x="6223680" y="299232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5274000">
              <a:off x="6225120" y="304272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274000">
              <a:off x="6229440" y="314424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5274000">
              <a:off x="6230880" y="3194640"/>
              <a:ext cx="1015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5274000">
              <a:off x="6227640" y="3093480"/>
              <a:ext cx="101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6278400" y="294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78400" y="3398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5592240" y="3703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45440" y="2179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259840" y="393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348760" y="2593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208080" y="4335480"/>
                <a:ext cx="87598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α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s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α</m:t>
                                      </m:r>
                                      <m:r>
                                        <m:t xml:space="preserve">)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α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β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55480" y="223524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09600" y="1558800"/>
                <a:ext cx="3375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8" name=""/>
          <p:cNvSpPr/>
          <p:nvPr/>
        </p:nvSpPr>
        <p:spPr>
          <a:xfrm>
            <a:off x="2281320" y="4673520"/>
            <a:ext cx="1049400" cy="9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855800" y="4187880"/>
            <a:ext cx="523440" cy="133200"/>
            <a:chOff x="1855800" y="4187880"/>
            <a:chExt cx="523440" cy="133200"/>
          </a:xfrm>
        </p:grpSpPr>
        <p:sp>
          <p:nvSpPr>
            <p:cNvPr id="1220" name=""/>
            <p:cNvSpPr/>
            <p:nvPr/>
          </p:nvSpPr>
          <p:spPr>
            <a:xfrm>
              <a:off x="185580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986480" y="4187880"/>
              <a:ext cx="522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38680" y="4187880"/>
              <a:ext cx="51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2090880" y="4187880"/>
              <a:ext cx="78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69720" y="4187880"/>
              <a:ext cx="52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221920" y="4254480"/>
              <a:ext cx="2664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4856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 flipV="1">
            <a:off x="2284560" y="4247640"/>
            <a:ext cx="171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2455920" y="4127400"/>
            <a:ext cx="232920" cy="243000"/>
            <a:chOff x="2455920" y="4127400"/>
            <a:chExt cx="232920" cy="243000"/>
          </a:xfrm>
        </p:grpSpPr>
        <p:sp>
          <p:nvSpPr>
            <p:cNvPr id="1229" name=""/>
            <p:cNvSpPr/>
            <p:nvPr/>
          </p:nvSpPr>
          <p:spPr>
            <a:xfrm>
              <a:off x="24559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9444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7256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1108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333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689200" y="42480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806560" y="424800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06560" y="564516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630520" y="612936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06560" y="5219640"/>
            <a:ext cx="99072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564000" y="49766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455920" y="3762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932120" y="37926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31640" y="38862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523880" y="491652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927440" y="5032800"/>
            <a:ext cx="242280" cy="251280"/>
            <a:chOff x="1927440" y="5032800"/>
            <a:chExt cx="242280" cy="251280"/>
          </a:xfrm>
        </p:grpSpPr>
        <p:sp>
          <p:nvSpPr>
            <p:cNvPr id="1246" name=""/>
            <p:cNvSpPr/>
            <p:nvPr/>
          </p:nvSpPr>
          <p:spPr>
            <a:xfrm rot="5274000">
              <a:off x="2005200" y="496044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5274000">
              <a:off x="2006640" y="500112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5274000">
              <a:off x="2009880" y="508176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5274000">
              <a:off x="2010960" y="512244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5274000">
              <a:off x="2008440" y="504108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2048040" y="49165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48040" y="528012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1523880" y="552276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863800" y="4308480"/>
            <a:ext cx="2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25960" y="59371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154160" y="4019400"/>
            <a:ext cx="681120" cy="47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128600" y="4078440"/>
            <a:ext cx="7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6880" y="3379680"/>
            <a:ext cx="727200" cy="42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Z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946080" y="381168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36720" y="311292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927000" y="27194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917640" y="2955960"/>
            <a:ext cx="10296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8360" y="290988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946080" y="4226040"/>
            <a:ext cx="19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rot="21316800">
            <a:off x="3549240" y="5354280"/>
            <a:ext cx="249120" cy="20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90960" y="5670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108840" y="6226200"/>
            <a:ext cx="27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los: 1 , 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4611600" y="1720800"/>
                <a:ext cx="4343400" cy="44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z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T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ezc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69080" y="2014560"/>
            <a:ext cx="1469880" cy="1038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69080" y="1989000"/>
            <a:ext cx="0" cy="105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319880" y="2019240"/>
            <a:ext cx="0" cy="10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56120" y="3052800"/>
            <a:ext cx="145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1390680" y="2387520"/>
            <a:ext cx="480600" cy="284040"/>
            <a:chOff x="1390680" y="2387520"/>
            <a:chExt cx="480600" cy="284040"/>
          </a:xfrm>
        </p:grpSpPr>
        <p:grpSp>
          <p:nvGrpSpPr>
            <p:cNvPr id="1276" name=""/>
            <p:cNvGrpSpPr/>
            <p:nvPr/>
          </p:nvGrpSpPr>
          <p:grpSpPr>
            <a:xfrm>
              <a:off x="1390680" y="2387520"/>
              <a:ext cx="397080" cy="284040"/>
              <a:chOff x="1390680" y="2387520"/>
              <a:chExt cx="397080" cy="284040"/>
            </a:xfrm>
          </p:grpSpPr>
          <p:sp>
            <p:nvSpPr>
              <p:cNvPr id="1277" name=""/>
              <p:cNvSpPr/>
              <p:nvPr/>
            </p:nvSpPr>
            <p:spPr>
              <a:xfrm>
                <a:off x="1636920" y="24159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163656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636920" y="2430360"/>
                <a:ext cx="15084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36920" y="26445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1495440" y="2530440"/>
                <a:ext cx="2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5400000">
                <a:off x="1288080" y="2489760"/>
                <a:ext cx="284040" cy="79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 rot="16200000">
              <a:off x="1739520" y="2457360"/>
              <a:ext cx="125280" cy="137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1717560" y="181620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704960" y="26557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865160" y="2521080"/>
            <a:ext cx="396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26360" y="2014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640640" y="244152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326360" y="268128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7720" y="183816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597720" y="253368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400800" y="2533680"/>
            <a:ext cx="196920" cy="46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950760" y="2533680"/>
            <a:ext cx="4082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0280" y="22734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149480" y="1593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7400" y="306396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-u)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65160" y="165564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852560" y="30272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60600" y="1989000"/>
            <a:ext cx="11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 ,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298680" y="2681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, 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302600" y="154476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942160" y="251928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08040" y="3933720"/>
                <a:ext cx="8302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Δ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eriodo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971640" y="4869000"/>
            <a:ext cx="2016000" cy="1368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643200" y="2602080"/>
                <a:ext cx="3970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s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2405160" y="1719360"/>
                <a:ext cx="3673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211640" y="4292640"/>
                <a:ext cx="1009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250920" y="2809800"/>
            <a:ext cx="31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porciona un enlace entre resultados obtenidos en el plano s y en el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87640" y="4724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26920" y="5589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24040" y="51847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6364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763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79280" y="4941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19280" y="47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43640" y="4581360"/>
            <a:ext cx="2089080" cy="180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356000" y="530064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24720" y="4292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6360" y="5516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40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028000" y="52293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8028000" y="4869000"/>
                <a:ext cx="792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132000" y="2492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5928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724040" y="3024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763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636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619280" y="263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8028000" y="30686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2987640" y="270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987640" y="342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68360" y="4375080"/>
            <a:ext cx="8070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ntos del semiplano izquierdo de s van al interior del cí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ntos del eje j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[-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] van a la circunferencia 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ntos del semiplano derecho de s van al exterior del ci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55960" y="32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421840" y="29401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928960" y="2664000"/>
            <a:ext cx="88920" cy="885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282160" y="2743200"/>
            <a:ext cx="145800" cy="1857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92" y="117"/>
                </a:moveTo>
                <a:cubicBezTo>
                  <a:pt x="70" y="93"/>
                  <a:pt x="49" y="70"/>
                  <a:pt x="34" y="50"/>
                </a:cubicBezTo>
                <a:cubicBezTo>
                  <a:pt x="19" y="30"/>
                  <a:pt x="9" y="15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132000" y="2492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5928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751040" y="266688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78040" y="2738520"/>
            <a:ext cx="9360" cy="712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68560" y="22255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6861240" y="330660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987640" y="270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87640" y="342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9360" y="4745160"/>
            <a:ext cx="80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frecuencias continuas de interés están limitadas al rango     [-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T]. Frecuencias mayores se superponen en el plano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928960" y="2664000"/>
            <a:ext cx="88920" cy="885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282160" y="2743200"/>
            <a:ext cx="145800" cy="1857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92" y="117"/>
                </a:moveTo>
                <a:cubicBezTo>
                  <a:pt x="70" y="93"/>
                  <a:pt x="49" y="70"/>
                  <a:pt x="34" y="50"/>
                </a:cubicBezTo>
                <a:cubicBezTo>
                  <a:pt x="19" y="30"/>
                  <a:pt x="9" y="15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860480" y="33926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735200" y="297180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>
            <a:off x="7854840" y="33098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7040" y="4583160"/>
            <a:ext cx="8325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n el eje real negativo de s (respuestas sobreamortiguadas estables) se corresponden con polos en el segmento real (0,1) de z  Polos en z mas cerca de 1 dan respuestas mas l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n el eje imaginario de s (oscilaciones mantenidas) se corresponden con polos sobre la circunferencia unidad de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494480" y="33098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922400" y="3436920"/>
            <a:ext cx="717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929720" y="3355920"/>
            <a:ext cx="41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951280" y="2986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340840" y="28083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051000" y="281772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mponentes de frecuencia de una señ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27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263680"/>
            <a:ext cx="1871640" cy="528840"/>
          </a:xfrm>
          <a:custGeom>
            <a:avLst/>
            <a:gdLst/>
            <a:ahLst/>
            <a:rect l="l" t="t" r="r" b="b"/>
            <a:pathLst>
              <a:path w="1179" h="333">
                <a:moveTo>
                  <a:pt x="0" y="280"/>
                </a:moveTo>
                <a:cubicBezTo>
                  <a:pt x="26" y="269"/>
                  <a:pt x="52" y="258"/>
                  <a:pt x="90" y="235"/>
                </a:cubicBezTo>
                <a:cubicBezTo>
                  <a:pt x="128" y="212"/>
                  <a:pt x="189" y="182"/>
                  <a:pt x="227" y="144"/>
                </a:cubicBezTo>
                <a:cubicBezTo>
                  <a:pt x="265" y="106"/>
                  <a:pt x="279" y="16"/>
                  <a:pt x="317" y="8"/>
                </a:cubicBezTo>
                <a:cubicBezTo>
                  <a:pt x="355" y="0"/>
                  <a:pt x="423" y="54"/>
                  <a:pt x="453" y="99"/>
                </a:cubicBezTo>
                <a:cubicBezTo>
                  <a:pt x="483" y="144"/>
                  <a:pt x="476" y="242"/>
                  <a:pt x="499" y="280"/>
                </a:cubicBezTo>
                <a:cubicBezTo>
                  <a:pt x="522" y="318"/>
                  <a:pt x="566" y="333"/>
                  <a:pt x="589" y="326"/>
                </a:cubicBezTo>
                <a:cubicBezTo>
                  <a:pt x="612" y="319"/>
                  <a:pt x="612" y="235"/>
                  <a:pt x="635" y="235"/>
                </a:cubicBezTo>
                <a:cubicBezTo>
                  <a:pt x="658" y="235"/>
                  <a:pt x="703" y="319"/>
                  <a:pt x="726" y="326"/>
                </a:cubicBezTo>
                <a:cubicBezTo>
                  <a:pt x="749" y="333"/>
                  <a:pt x="756" y="303"/>
                  <a:pt x="771" y="280"/>
                </a:cubicBezTo>
                <a:cubicBezTo>
                  <a:pt x="786" y="257"/>
                  <a:pt x="793" y="227"/>
                  <a:pt x="816" y="190"/>
                </a:cubicBezTo>
                <a:cubicBezTo>
                  <a:pt x="839" y="153"/>
                  <a:pt x="884" y="69"/>
                  <a:pt x="907" y="54"/>
                </a:cubicBezTo>
                <a:cubicBezTo>
                  <a:pt x="930" y="39"/>
                  <a:pt x="929" y="76"/>
                  <a:pt x="952" y="99"/>
                </a:cubicBezTo>
                <a:cubicBezTo>
                  <a:pt x="975" y="122"/>
                  <a:pt x="1005" y="183"/>
                  <a:pt x="1043" y="190"/>
                </a:cubicBezTo>
                <a:cubicBezTo>
                  <a:pt x="1081" y="197"/>
                  <a:pt x="1130" y="170"/>
                  <a:pt x="1179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2492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29080" y="227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997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27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00720" y="2059920"/>
            <a:ext cx="1122480" cy="431640"/>
            <a:chOff x="4500720" y="2059920"/>
            <a:chExt cx="1122480" cy="431640"/>
          </a:xfrm>
        </p:grpSpPr>
        <p:grpSp>
          <p:nvGrpSpPr>
            <p:cNvPr id="135" name=""/>
            <p:cNvGrpSpPr/>
            <p:nvPr/>
          </p:nvGrpSpPr>
          <p:grpSpPr>
            <a:xfrm>
              <a:off x="4947480" y="2059920"/>
              <a:ext cx="675720" cy="431640"/>
              <a:chOff x="4947480" y="2059920"/>
              <a:chExt cx="675720" cy="431640"/>
            </a:xfrm>
          </p:grpSpPr>
          <p:sp>
            <p:nvSpPr>
              <p:cNvPr id="136" name=""/>
              <p:cNvSpPr/>
              <p:nvPr/>
            </p:nvSpPr>
            <p:spPr>
              <a:xfrm>
                <a:off x="4947480" y="2060640"/>
                <a:ext cx="2296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5177520" y="2059560"/>
                <a:ext cx="229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163480" y="2059560"/>
                <a:ext cx="229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393520" y="2060640"/>
                <a:ext cx="2296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501440" y="2060640"/>
              <a:ext cx="228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4731120" y="2059560"/>
              <a:ext cx="229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717440" y="2059560"/>
              <a:ext cx="228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47120" y="2060640"/>
              <a:ext cx="229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00720" y="2060640"/>
              <a:ext cx="229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00720" y="2780640"/>
            <a:ext cx="1294920" cy="143640"/>
            <a:chOff x="4500720" y="2780640"/>
            <a:chExt cx="1294920" cy="143640"/>
          </a:xfrm>
        </p:grpSpPr>
        <p:grpSp>
          <p:nvGrpSpPr>
            <p:cNvPr id="146" name=""/>
            <p:cNvGrpSpPr/>
            <p:nvPr/>
          </p:nvGrpSpPr>
          <p:grpSpPr>
            <a:xfrm>
              <a:off x="4500720" y="2780640"/>
              <a:ext cx="698040" cy="143640"/>
              <a:chOff x="4500720" y="2780640"/>
              <a:chExt cx="698040" cy="1436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4699800" y="2780640"/>
                <a:ext cx="299880" cy="142920"/>
                <a:chOff x="4699800" y="2780640"/>
                <a:chExt cx="299880" cy="1429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69980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480168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79592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489816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50108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460332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59756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469944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50072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4898880" y="2780640"/>
                <a:ext cx="299880" cy="142920"/>
                <a:chOff x="4898880" y="2780640"/>
                <a:chExt cx="299880" cy="1429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89888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500076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499500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509724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5097600" y="2780640"/>
              <a:ext cx="698040" cy="143640"/>
              <a:chOff x="5097600" y="2780640"/>
              <a:chExt cx="698040" cy="1436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5296680" y="2780640"/>
                <a:ext cx="299880" cy="142920"/>
                <a:chOff x="5296680" y="2780640"/>
                <a:chExt cx="299880" cy="142920"/>
              </a:xfrm>
            </p:grpSpPr>
            <p:sp>
              <p:nvSpPr>
                <p:cNvPr id="164" name=""/>
                <p:cNvSpPr/>
                <p:nvPr/>
              </p:nvSpPr>
              <p:spPr>
                <a:xfrm flipH="1">
                  <a:off x="549504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539316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539892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9668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569376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559152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5597280" y="2781000"/>
                <a:ext cx="10152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9540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94120" y="278136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5097600" y="2780640"/>
                <a:ext cx="299880" cy="142920"/>
                <a:chOff x="5097600" y="2780640"/>
                <a:chExt cx="299880" cy="14292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529596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519408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199840" y="2780280"/>
                  <a:ext cx="10152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097600" y="2781360"/>
                  <a:ext cx="101520" cy="14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" name=""/>
          <p:cNvGrpSpPr/>
          <p:nvPr/>
        </p:nvGrpSpPr>
        <p:grpSpPr>
          <a:xfrm>
            <a:off x="4129920" y="3141360"/>
            <a:ext cx="2181240" cy="216000"/>
            <a:chOff x="4129920" y="3141360"/>
            <a:chExt cx="2181240" cy="216000"/>
          </a:xfrm>
        </p:grpSpPr>
        <p:sp>
          <p:nvSpPr>
            <p:cNvPr id="179" name=""/>
            <p:cNvSpPr/>
            <p:nvPr/>
          </p:nvSpPr>
          <p:spPr>
            <a:xfrm>
              <a:off x="4129920" y="3141720"/>
              <a:ext cx="7416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871160" y="3141000"/>
              <a:ext cx="7426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826520" y="3141000"/>
              <a:ext cx="7416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568120" y="3141720"/>
              <a:ext cx="74268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93236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32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26920" y="3573360"/>
                <a:ext cx="69598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se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plitud de la componente de frecuencia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258920" y="501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6165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01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5229360"/>
            <a:ext cx="3745080" cy="947520"/>
          </a:xfrm>
          <a:custGeom>
            <a:avLst/>
            <a:gdLst/>
            <a:ahLst/>
            <a:rect l="l" t="t" r="r" b="b"/>
            <a:pathLst>
              <a:path w="2359" h="597">
                <a:moveTo>
                  <a:pt x="0" y="227"/>
                </a:moveTo>
                <a:cubicBezTo>
                  <a:pt x="57" y="178"/>
                  <a:pt x="114" y="129"/>
                  <a:pt x="182" y="91"/>
                </a:cubicBezTo>
                <a:cubicBezTo>
                  <a:pt x="250" y="53"/>
                  <a:pt x="334" y="0"/>
                  <a:pt x="409" y="0"/>
                </a:cubicBezTo>
                <a:cubicBezTo>
                  <a:pt x="484" y="0"/>
                  <a:pt x="575" y="38"/>
                  <a:pt x="635" y="91"/>
                </a:cubicBezTo>
                <a:cubicBezTo>
                  <a:pt x="695" y="144"/>
                  <a:pt x="719" y="258"/>
                  <a:pt x="772" y="318"/>
                </a:cubicBezTo>
                <a:cubicBezTo>
                  <a:pt x="825" y="378"/>
                  <a:pt x="900" y="416"/>
                  <a:pt x="953" y="454"/>
                </a:cubicBezTo>
                <a:cubicBezTo>
                  <a:pt x="1006" y="492"/>
                  <a:pt x="1051" y="521"/>
                  <a:pt x="1089" y="544"/>
                </a:cubicBezTo>
                <a:cubicBezTo>
                  <a:pt x="1127" y="567"/>
                  <a:pt x="1127" y="597"/>
                  <a:pt x="1180" y="590"/>
                </a:cubicBezTo>
                <a:cubicBezTo>
                  <a:pt x="1233" y="583"/>
                  <a:pt x="1347" y="529"/>
                  <a:pt x="1407" y="499"/>
                </a:cubicBezTo>
                <a:cubicBezTo>
                  <a:pt x="1467" y="469"/>
                  <a:pt x="1505" y="423"/>
                  <a:pt x="1543" y="408"/>
                </a:cubicBezTo>
                <a:cubicBezTo>
                  <a:pt x="1581" y="393"/>
                  <a:pt x="1595" y="400"/>
                  <a:pt x="1633" y="408"/>
                </a:cubicBezTo>
                <a:cubicBezTo>
                  <a:pt x="1671" y="416"/>
                  <a:pt x="1724" y="439"/>
                  <a:pt x="1769" y="454"/>
                </a:cubicBezTo>
                <a:cubicBezTo>
                  <a:pt x="1814" y="469"/>
                  <a:pt x="1860" y="492"/>
                  <a:pt x="1905" y="499"/>
                </a:cubicBezTo>
                <a:cubicBezTo>
                  <a:pt x="1950" y="506"/>
                  <a:pt x="1989" y="506"/>
                  <a:pt x="2042" y="499"/>
                </a:cubicBezTo>
                <a:cubicBezTo>
                  <a:pt x="2095" y="492"/>
                  <a:pt x="2170" y="454"/>
                  <a:pt x="2223" y="454"/>
                </a:cubicBezTo>
                <a:cubicBezTo>
                  <a:pt x="2276" y="454"/>
                  <a:pt x="2317" y="476"/>
                  <a:pt x="2359" y="49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5157720"/>
            <a:ext cx="324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ormada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pectro de frecuencias de la señ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7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32000" y="2492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05928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24040" y="302436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763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763640" y="306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619280" y="263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j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5" name=""/>
          <p:cNvSpPr/>
          <p:nvPr/>
        </p:nvSpPr>
        <p:spPr>
          <a:xfrm>
            <a:off x="8028000" y="30686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79520" y="4583160"/>
            <a:ext cx="8070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complejos en el semiplano izquierdo de s (respuestas estables subamortiguadas) se corresponden con puntos en el interior del círculo unidad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n la parte derecha del plano s (respuestas inestables) se corresponden con polos en el exterior del circulo unidad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46280" y="265284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20396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035920" y="35053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716120" y="378000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>
            <a:off x="596880" y="483876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stables con la misma parte real en s (respuestas con el mismo tiempo de asentamiento) se corresponden con polos en z situados en una circunferencia interior al ci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911240" y="2777760"/>
            <a:ext cx="0" cy="13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107120" y="2905200"/>
            <a:ext cx="844560" cy="84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863720" y="3368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871640" y="2970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902720" y="3282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740720" y="2957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 flipV="1">
            <a:off x="7894440" y="3125880"/>
            <a:ext cx="45720" cy="11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>
            <a:off x="596880" y="483876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stables con la misma parte imaginaria en s (respuestas con la misma frecuencia de oscilación) se corresponden con polos en z situados en un radio del circulo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1504800" y="3009960"/>
            <a:ext cx="147024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419200" y="2963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871640" y="2970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627680" y="2697120"/>
            <a:ext cx="579240" cy="55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994520" y="2830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804080" y="3002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ón entre los planos s y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9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97640" y="21430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067280" y="2781360"/>
                <a:ext cx="18176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 flipH="1" flipV="1">
            <a:off x="1504800" y="3011400"/>
            <a:ext cx="1492560" cy="41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96880" y="4838760"/>
            <a:ext cx="80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s estables sobre la misma pendiente en s (respuestas con el mismo sobrepico) se corresponden con polos en z situados en una espiral logari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222640" y="3173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994520" y="2830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6178680" y="2170080"/>
          <a:ext cx="2660400" cy="13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8680" y="2170080"/>
                    <a:ext cx="26604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0" name=""/>
          <p:cNvSpPr/>
          <p:nvPr/>
        </p:nvSpPr>
        <p:spPr>
          <a:xfrm>
            <a:off x="6421320" y="2468520"/>
            <a:ext cx="1951200" cy="1800360"/>
          </a:xfrm>
          <a:prstGeom prst="ellipse">
            <a:avLst/>
          </a:prstGeom>
          <a:gradFill rotWithShape="0">
            <a:gsLst>
              <a:gs pos="0">
                <a:srgbClr val="ffcc00">
                  <a:alpha val="27058"/>
                </a:srgbClr>
              </a:gs>
              <a:gs pos="100000">
                <a:srgbClr val="755e00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59880" y="29289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21760" y="3379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825560" y="306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62880" y="2841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baco en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2411280" y="1743120"/>
          <a:ext cx="4951440" cy="447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743120"/>
                    <a:ext cx="495144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puesta temp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343320" y="2314440"/>
            <a:ext cx="2384280" cy="119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36640" y="29955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1552680" y="2809440"/>
            <a:ext cx="23472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852560" y="3032280"/>
            <a:ext cx="14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774800" y="2711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454040" y="306216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549520" y="313380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592440" y="26845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OH+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734080" y="306216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450120" y="2876400"/>
            <a:ext cx="23472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723000" y="3098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72240" y="2778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429240" y="31561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062840" y="320184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117880" y="2610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758960" y="198108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71560" y="1830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312920" y="255600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076480" y="19782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95560" y="22575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803240" y="15508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392120" y="25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722600" y="19605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027160" y="1947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041520" y="1581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67360" y="1584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313320" y="219384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70959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7553160" y="18892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010360" y="196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867360" y="1736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324560" y="1965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095960" y="24224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095960" y="2346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3328920" y="3726000"/>
                <a:ext cx="2463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5" name=""/>
          <p:cNvSpPr/>
          <p:nvPr/>
        </p:nvSpPr>
        <p:spPr>
          <a:xfrm>
            <a:off x="1087560" y="4340160"/>
            <a:ext cx="7373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e utilizarse la descomposición en fracciones simples de Y(z) y la transformada inversa d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ejo: desarrollar Y(z)/z  y despejar Y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ntradas conocidas puede deducirse la respuesta de los polos y ceros de H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414520" y="19764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732040" y="197316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78160" y="1955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682720" y="19432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 depos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7520" y="1895400"/>
            <a:ext cx="2075400" cy="2422080"/>
            <a:chOff x="587520" y="1895400"/>
            <a:chExt cx="2075400" cy="2422080"/>
          </a:xfrm>
        </p:grpSpPr>
        <p:sp>
          <p:nvSpPr>
            <p:cNvPr id="1572" name=""/>
            <p:cNvSpPr/>
            <p:nvPr/>
          </p:nvSpPr>
          <p:spPr>
            <a:xfrm>
              <a:off x="872280" y="24080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89920" y="353916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2203560" y="2436840"/>
              <a:ext cx="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77320" y="2878920"/>
              <a:ext cx="1321200" cy="654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87520" y="190656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537920" y="192420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708200" y="1895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12280" y="2983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537920" y="355824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12320" y="3681360"/>
              <a:ext cx="42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1453320" y="3847680"/>
              <a:ext cx="375120" cy="214200"/>
              <a:chOff x="1453320" y="3847680"/>
              <a:chExt cx="375120" cy="214200"/>
            </a:xfrm>
          </p:grpSpPr>
          <p:sp>
            <p:nvSpPr>
              <p:cNvPr id="1583" name=""/>
              <p:cNvSpPr/>
              <p:nvPr/>
            </p:nvSpPr>
            <p:spPr>
              <a:xfrm flipH="1">
                <a:off x="1459440" y="387252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53320" y="3875040"/>
                <a:ext cx="1562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1459440" y="3875040"/>
                <a:ext cx="143640" cy="1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1459440" y="4036680"/>
                <a:ext cx="14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528560" y="395460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5400000">
                <a:off x="1668240" y="3901680"/>
                <a:ext cx="214200" cy="1062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 flipH="1">
              <a:off x="1511280" y="4043160"/>
              <a:ext cx="86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1825200" y="39650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090160" y="377856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2870280" y="2255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4559400" y="2089080"/>
                <a:ext cx="2463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4" name=""/>
          <p:cNvSpPr/>
          <p:nvPr/>
        </p:nvSpPr>
        <p:spPr>
          <a:xfrm>
            <a:off x="5979960" y="3416400"/>
            <a:ext cx="208944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61040" y="31273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692680" y="43513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77040" y="29844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577280" y="4305240"/>
            <a:ext cx="7272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096400" y="39895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442280" y="202572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o = 0.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41240" y="465300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a un salto en u sobreamortiguada, de primer orden y de tiempo de asenta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878040" y="5832360"/>
                <a:ext cx="51688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s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41240" y="566100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281320" y="4673520"/>
            <a:ext cx="1049400" cy="9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1855800" y="4187880"/>
            <a:ext cx="523440" cy="133200"/>
            <a:chOff x="1855800" y="4187880"/>
            <a:chExt cx="523440" cy="133200"/>
          </a:xfrm>
        </p:grpSpPr>
        <p:sp>
          <p:nvSpPr>
            <p:cNvPr id="1607" name=""/>
            <p:cNvSpPr/>
            <p:nvPr/>
          </p:nvSpPr>
          <p:spPr>
            <a:xfrm>
              <a:off x="185580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986480" y="4187880"/>
              <a:ext cx="522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038680" y="4187880"/>
              <a:ext cx="51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090880" y="4187880"/>
              <a:ext cx="788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69720" y="4187880"/>
              <a:ext cx="52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221920" y="4254480"/>
              <a:ext cx="2664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48560" y="4254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 flipV="1">
            <a:off x="2284560" y="4247640"/>
            <a:ext cx="171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2455920" y="4127400"/>
            <a:ext cx="232920" cy="243000"/>
            <a:chOff x="2455920" y="4127400"/>
            <a:chExt cx="232920" cy="243000"/>
          </a:xfrm>
        </p:grpSpPr>
        <p:sp>
          <p:nvSpPr>
            <p:cNvPr id="1616" name=""/>
            <p:cNvSpPr/>
            <p:nvPr/>
          </p:nvSpPr>
          <p:spPr>
            <a:xfrm>
              <a:off x="24559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9444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57256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11080" y="4127400"/>
              <a:ext cx="7776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33320" y="4127400"/>
              <a:ext cx="7740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1" name=""/>
          <p:cNvSpPr/>
          <p:nvPr/>
        </p:nvSpPr>
        <p:spPr>
          <a:xfrm>
            <a:off x="2689200" y="42480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806560" y="424800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806560" y="564516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630520" y="612936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806560" y="5219640"/>
            <a:ext cx="99072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564000" y="49766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455920" y="3762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932120" y="37926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01480" y="37242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523880" y="491652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1927440" y="5032800"/>
            <a:ext cx="242280" cy="251280"/>
            <a:chOff x="1927440" y="5032800"/>
            <a:chExt cx="242280" cy="251280"/>
          </a:xfrm>
        </p:grpSpPr>
        <p:sp>
          <p:nvSpPr>
            <p:cNvPr id="1633" name=""/>
            <p:cNvSpPr/>
            <p:nvPr/>
          </p:nvSpPr>
          <p:spPr>
            <a:xfrm rot="5274000">
              <a:off x="2005200" y="496044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5274000">
              <a:off x="2006640" y="500112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5274000">
              <a:off x="2009880" y="508176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5274000">
              <a:off x="2010960" y="5122440"/>
              <a:ext cx="8100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5274000">
              <a:off x="2008440" y="5041080"/>
              <a:ext cx="80640" cy="23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2048040" y="49165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048040" y="528012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1523880" y="552276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863800" y="4308480"/>
            <a:ext cx="2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225960" y="59371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154160" y="4019400"/>
            <a:ext cx="681120" cy="473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128600" y="4078440"/>
            <a:ext cx="7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m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844560" y="516744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=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341280" y="4682520"/>
            <a:ext cx="727200" cy="42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690480" y="425880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681120" y="51166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671400" y="553896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662040" y="5430600"/>
            <a:ext cx="10296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90480" y="4259160"/>
            <a:ext cx="4539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738600" y="5280120"/>
            <a:ext cx="243000" cy="37440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88"/>
                </a:moveTo>
                <a:cubicBezTo>
                  <a:pt x="12" y="292"/>
                  <a:pt x="24" y="296"/>
                  <a:pt x="48" y="288"/>
                </a:cubicBezTo>
                <a:cubicBezTo>
                  <a:pt x="72" y="280"/>
                  <a:pt x="120" y="264"/>
                  <a:pt x="144" y="240"/>
                </a:cubicBezTo>
                <a:cubicBezTo>
                  <a:pt x="168" y="216"/>
                  <a:pt x="184" y="176"/>
                  <a:pt x="192" y="144"/>
                </a:cubicBezTo>
                <a:cubicBezTo>
                  <a:pt x="200" y="112"/>
                  <a:pt x="200" y="72"/>
                  <a:pt x="192" y="48"/>
                </a:cubicBezTo>
                <a:cubicBezTo>
                  <a:pt x="184" y="24"/>
                  <a:pt x="152" y="8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21316800">
            <a:off x="3549240" y="5354280"/>
            <a:ext cx="249120" cy="20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090960" y="5670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3278160" y="2357280"/>
                <a:ext cx="544212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4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zθ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4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6" name=""/>
          <p:cNvSpPr/>
          <p:nvPr/>
        </p:nvSpPr>
        <p:spPr>
          <a:xfrm>
            <a:off x="557280" y="1735200"/>
            <a:ext cx="73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 del motor en posición a un pulso de 1 voltio  V(z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138320" y="666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93800" y="60912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2000" y="5770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52520" y="649620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15880" y="595008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33320" y="603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093680" y="64659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407960" y="646596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719360" y="645804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61880" y="64706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147680" y="61898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4567320" y="4626000"/>
                <a:ext cx="42717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θ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87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4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7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5807160" y="577224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807240" y="62136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857920" y="58816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518080" y="6607080"/>
            <a:ext cx="25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581800" y="6060960"/>
            <a:ext cx="3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48560" y="6180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835600" y="65660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27800" y="6581880"/>
            <a:ext cx="712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213600" y="6300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6215040" y="6481800"/>
            <a:ext cx="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68960" y="6423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513480" y="6302520"/>
            <a:ext cx="180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467400" y="6281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1280" y="6175440"/>
            <a:ext cx="180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043760" y="6130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694640" y="61866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35960" y="6094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lección del periodo de muestr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2583000" y="1844640"/>
                <a:ext cx="383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8" name=""/>
          <p:cNvSpPr/>
          <p:nvPr/>
        </p:nvSpPr>
        <p:spPr>
          <a:xfrm>
            <a:off x="971640" y="2708280"/>
            <a:ext cx="2016000" cy="1441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987640" y="256392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2692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900000" y="270828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994120" y="2422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036960" y="3941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860480" y="3392640"/>
            <a:ext cx="7164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79280" y="27813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735200" y="297180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443640" y="2421000"/>
            <a:ext cx="2089080" cy="1800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356000" y="31399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24720" y="213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156360" y="3355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740720" y="1989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854840" y="33098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494480" y="33098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955960" y="33926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485200" y="3303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559720" y="2994120"/>
            <a:ext cx="2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05480" y="3303720"/>
            <a:ext cx="88920" cy="88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922400" y="3436920"/>
            <a:ext cx="717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929720" y="3355920"/>
            <a:ext cx="41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3475080" y="4357800"/>
                <a:ext cx="384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2" name=""/>
          <p:cNvSpPr/>
          <p:nvPr/>
        </p:nvSpPr>
        <p:spPr>
          <a:xfrm>
            <a:off x="754200" y="4354560"/>
            <a:ext cx="25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respondencia de polos y 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70040" y="5297400"/>
            <a:ext cx="38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T es muy pequeño todos los polos y ceros se agrupan en torno al val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4576680" y="5522760"/>
                <a:ext cx="24256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5" name=""/>
          <p:cNvSpPr/>
          <p:nvPr/>
        </p:nvSpPr>
        <p:spPr>
          <a:xfrm>
            <a:off x="7400880" y="5384880"/>
            <a:ext cx="15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s  numé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Señales muesteadas / Tren de pul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0560" y="292572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62440" y="2919240"/>
            <a:ext cx="13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5640" y="26967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41960" y="16383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66800" y="161928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3560" y="1866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41640" y="26067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79920" y="2349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89160" y="199548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1240" y="2903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95760" y="271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37200" y="208764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9800" y="1936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2280" y="266220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40560" y="2405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54720" y="208440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02480" y="22892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1680" y="2319480"/>
            <a:ext cx="1404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57600" y="2625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73800" y="23637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54360" y="4956120"/>
                <a:ext cx="5292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022040" y="3479760"/>
            <a:ext cx="5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1800" y="37274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9880" y="4467240"/>
            <a:ext cx="14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17760" y="3855960"/>
            <a:ext cx="1284120" cy="306360"/>
          </a:xfrm>
          <a:custGeom>
            <a:avLst/>
            <a:gdLst/>
            <a:ahLst/>
            <a:rect l="l" t="t" r="r" b="b"/>
            <a:pathLst>
              <a:path w="480" h="184">
                <a:moveTo>
                  <a:pt x="0" y="24"/>
                </a:moveTo>
                <a:cubicBezTo>
                  <a:pt x="48" y="12"/>
                  <a:pt x="96" y="0"/>
                  <a:pt x="144" y="24"/>
                </a:cubicBezTo>
                <a:cubicBezTo>
                  <a:pt x="192" y="48"/>
                  <a:pt x="240" y="152"/>
                  <a:pt x="288" y="168"/>
                </a:cubicBezTo>
                <a:cubicBezTo>
                  <a:pt x="336" y="184"/>
                  <a:pt x="400" y="128"/>
                  <a:pt x="432" y="120"/>
                </a:cubicBezTo>
                <a:cubicBezTo>
                  <a:pt x="464" y="112"/>
                  <a:pt x="472" y="120"/>
                  <a:pt x="48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45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388152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4960" y="37306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05520" y="4468680"/>
            <a:ext cx="1828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89880" y="387828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7280" y="40831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86480" y="4113360"/>
            <a:ext cx="144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8600" y="4157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27480" y="452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4064040"/>
            <a:ext cx="180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1520" y="3743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41680" y="44686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00480" y="406404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33840" y="407052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56040" y="407520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05160" y="420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24240" y="364824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81320" y="39765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38960" y="39099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5040" y="39225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9360" y="345744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69840" y="3882960"/>
            <a:ext cx="12600" cy="676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49600" y="4487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127160" y="5729400"/>
                <a:ext cx="7099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85120" y="1467000"/>
                <a:ext cx="2327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776240" y="2027160"/>
            <a:ext cx="424080" cy="185760"/>
          </a:xfrm>
          <a:custGeom>
            <a:avLst/>
            <a:gdLst/>
            <a:ahLst/>
            <a:rect l="l" t="t" r="r" b="b"/>
            <a:pathLst>
              <a:path w="267" h="117">
                <a:moveTo>
                  <a:pt x="267" y="0"/>
                </a:moveTo>
                <a:cubicBezTo>
                  <a:pt x="193" y="15"/>
                  <a:pt x="119" y="31"/>
                  <a:pt x="75" y="50"/>
                </a:cubicBezTo>
                <a:cubicBezTo>
                  <a:pt x="31" y="69"/>
                  <a:pt x="14" y="106"/>
                  <a:pt x="0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00360" y="4065480"/>
            <a:ext cx="180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17440" y="3886200"/>
            <a:ext cx="424080" cy="185760"/>
          </a:xfrm>
          <a:custGeom>
            <a:avLst/>
            <a:gdLst/>
            <a:ahLst/>
            <a:rect l="l" t="t" r="r" b="b"/>
            <a:pathLst>
              <a:path w="267" h="117">
                <a:moveTo>
                  <a:pt x="267" y="0"/>
                </a:moveTo>
                <a:cubicBezTo>
                  <a:pt x="193" y="15"/>
                  <a:pt x="119" y="31"/>
                  <a:pt x="75" y="50"/>
                </a:cubicBezTo>
                <a:cubicBezTo>
                  <a:pt x="31" y="69"/>
                  <a:pt x="14" y="106"/>
                  <a:pt x="0" y="1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6520" y="3989520"/>
            <a:ext cx="0" cy="4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09920" y="3414600"/>
            <a:ext cx="68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nsformada de Fourier discr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90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0480" y="2343240"/>
            <a:ext cx="1404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43080" y="21924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3640" y="2930400"/>
            <a:ext cx="18288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2340000"/>
            <a:ext cx="14400" cy="58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95400" y="254484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44600" y="2575080"/>
            <a:ext cx="1440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66720" y="26193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57480" y="1919160"/>
            <a:ext cx="62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2451240"/>
            <a:ext cx="0" cy="4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65280" y="3314880"/>
                <a:ext cx="80769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  <m:r>
                              <m:t xml:space="preserve">=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ñales periód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177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924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2920" y="1989000"/>
            <a:ext cx="3889440" cy="576360"/>
            <a:chOff x="1042920" y="1989000"/>
            <a:chExt cx="3889440" cy="576360"/>
          </a:xfrm>
        </p:grpSpPr>
        <p:sp>
          <p:nvSpPr>
            <p:cNvPr id="265" name=""/>
            <p:cNvSpPr/>
            <p:nvPr/>
          </p:nvSpPr>
          <p:spPr>
            <a:xfrm>
              <a:off x="1042920" y="1989000"/>
              <a:ext cx="1296360" cy="576360"/>
            </a:xfrm>
            <a:custGeom>
              <a:avLst/>
              <a:gdLst/>
              <a:ahLst/>
              <a:rect l="l" t="t" r="r" b="b"/>
              <a:pathLst>
                <a:path w="1089" h="310">
                  <a:moveTo>
                    <a:pt x="0" y="211"/>
                  </a:moveTo>
                  <a:cubicBezTo>
                    <a:pt x="61" y="135"/>
                    <a:pt x="122" y="60"/>
                    <a:pt x="182" y="30"/>
                  </a:cubicBezTo>
                  <a:cubicBezTo>
                    <a:pt x="242" y="0"/>
                    <a:pt x="310" y="7"/>
                    <a:pt x="363" y="30"/>
                  </a:cubicBezTo>
                  <a:cubicBezTo>
                    <a:pt x="416" y="53"/>
                    <a:pt x="454" y="128"/>
                    <a:pt x="499" y="166"/>
                  </a:cubicBezTo>
                  <a:cubicBezTo>
                    <a:pt x="544" y="204"/>
                    <a:pt x="597" y="250"/>
                    <a:pt x="635" y="257"/>
                  </a:cubicBezTo>
                  <a:cubicBezTo>
                    <a:pt x="673" y="264"/>
                    <a:pt x="696" y="211"/>
                    <a:pt x="726" y="211"/>
                  </a:cubicBezTo>
                  <a:cubicBezTo>
                    <a:pt x="756" y="211"/>
                    <a:pt x="787" y="242"/>
                    <a:pt x="817" y="257"/>
                  </a:cubicBezTo>
                  <a:cubicBezTo>
                    <a:pt x="847" y="272"/>
                    <a:pt x="863" y="310"/>
                    <a:pt x="908" y="302"/>
                  </a:cubicBezTo>
                  <a:cubicBezTo>
                    <a:pt x="953" y="294"/>
                    <a:pt x="1059" y="226"/>
                    <a:pt x="1089" y="21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39280" y="1989000"/>
              <a:ext cx="1296360" cy="576360"/>
            </a:xfrm>
            <a:custGeom>
              <a:avLst/>
              <a:gdLst/>
              <a:ahLst/>
              <a:rect l="l" t="t" r="r" b="b"/>
              <a:pathLst>
                <a:path w="1089" h="310">
                  <a:moveTo>
                    <a:pt x="0" y="211"/>
                  </a:moveTo>
                  <a:cubicBezTo>
                    <a:pt x="61" y="135"/>
                    <a:pt x="122" y="60"/>
                    <a:pt x="182" y="30"/>
                  </a:cubicBezTo>
                  <a:cubicBezTo>
                    <a:pt x="242" y="0"/>
                    <a:pt x="310" y="7"/>
                    <a:pt x="363" y="30"/>
                  </a:cubicBezTo>
                  <a:cubicBezTo>
                    <a:pt x="416" y="53"/>
                    <a:pt x="454" y="128"/>
                    <a:pt x="499" y="166"/>
                  </a:cubicBezTo>
                  <a:cubicBezTo>
                    <a:pt x="544" y="204"/>
                    <a:pt x="597" y="250"/>
                    <a:pt x="635" y="257"/>
                  </a:cubicBezTo>
                  <a:cubicBezTo>
                    <a:pt x="673" y="264"/>
                    <a:pt x="696" y="211"/>
                    <a:pt x="726" y="211"/>
                  </a:cubicBezTo>
                  <a:cubicBezTo>
                    <a:pt x="756" y="211"/>
                    <a:pt x="787" y="242"/>
                    <a:pt x="817" y="257"/>
                  </a:cubicBezTo>
                  <a:cubicBezTo>
                    <a:pt x="847" y="272"/>
                    <a:pt x="863" y="310"/>
                    <a:pt x="908" y="302"/>
                  </a:cubicBezTo>
                  <a:cubicBezTo>
                    <a:pt x="953" y="294"/>
                    <a:pt x="1059" y="226"/>
                    <a:pt x="1089" y="21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6000" y="1989000"/>
              <a:ext cx="1296360" cy="576360"/>
            </a:xfrm>
            <a:custGeom>
              <a:avLst/>
              <a:gdLst/>
              <a:ahLst/>
              <a:rect l="l" t="t" r="r" b="b"/>
              <a:pathLst>
                <a:path w="1089" h="310">
                  <a:moveTo>
                    <a:pt x="0" y="211"/>
                  </a:moveTo>
                  <a:cubicBezTo>
                    <a:pt x="61" y="135"/>
                    <a:pt x="122" y="60"/>
                    <a:pt x="182" y="30"/>
                  </a:cubicBezTo>
                  <a:cubicBezTo>
                    <a:pt x="242" y="0"/>
                    <a:pt x="310" y="7"/>
                    <a:pt x="363" y="30"/>
                  </a:cubicBezTo>
                  <a:cubicBezTo>
                    <a:pt x="416" y="53"/>
                    <a:pt x="454" y="128"/>
                    <a:pt x="499" y="166"/>
                  </a:cubicBezTo>
                  <a:cubicBezTo>
                    <a:pt x="544" y="204"/>
                    <a:pt x="597" y="250"/>
                    <a:pt x="635" y="257"/>
                  </a:cubicBezTo>
                  <a:cubicBezTo>
                    <a:pt x="673" y="264"/>
                    <a:pt x="696" y="211"/>
                    <a:pt x="726" y="211"/>
                  </a:cubicBezTo>
                  <a:cubicBezTo>
                    <a:pt x="756" y="211"/>
                    <a:pt x="787" y="242"/>
                    <a:pt x="817" y="257"/>
                  </a:cubicBezTo>
                  <a:cubicBezTo>
                    <a:pt x="847" y="272"/>
                    <a:pt x="863" y="310"/>
                    <a:pt x="908" y="302"/>
                  </a:cubicBezTo>
                  <a:cubicBezTo>
                    <a:pt x="953" y="294"/>
                    <a:pt x="1059" y="226"/>
                    <a:pt x="1089" y="21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14836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162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7280" y="17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17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0360" y="17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señal periódica de periodo T siempre admite una descomposición en seri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97120" y="48513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52600" y="439272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50800" y="40719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797360"/>
            <a:ext cx="25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70120" y="439272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03480" y="4398840"/>
            <a:ext cx="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25680" y="4403880"/>
            <a:ext cx="1440" cy="40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74800" y="45338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87440" y="394668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74680" y="425124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3357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Tren de pulsos de period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25520" y="5452920"/>
                <a:ext cx="806436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820800" y="439272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39740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16360" y="455940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359160" y="4124160"/>
                <a:ext cx="4600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90480" y="1862280"/>
                <a:ext cx="806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ctro de frecuencia de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840" y="3273480"/>
                <a:ext cx="854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series geométricas de razones 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j</m:t>
                            </m:r>
                            <m:r>
                              <m:t xml:space="preserve">ω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03280" y="2716200"/>
            <a:ext cx="339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≠ i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 2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4138560"/>
            <a:ext cx="25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 i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07920" y="4775040"/>
                <a:ext cx="285300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003720" y="59133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pectro dis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6920" y="5433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72400" y="4975200"/>
            <a:ext cx="144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70600" y="4654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43440" y="5380200"/>
            <a:ext cx="25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89920" y="4975200"/>
            <a:ext cx="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23280" y="4981680"/>
            <a:ext cx="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45480" y="498636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935840" y="481176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07240" y="45291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0600" y="4975200"/>
            <a:ext cx="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62800" y="4979880"/>
            <a:ext cx="1440" cy="40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81960" y="51544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45280" y="5451480"/>
            <a:ext cx="60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2:18:33Z</dcterms:created>
  <dc:creator>Ing. de Sistemas y Automatica</dc:creator>
  <dc:description/>
  <dc:language>en-US</dc:language>
  <cp:lastModifiedBy>Dpto. de Ing. de Sistemas y Automatica</cp:lastModifiedBy>
  <dcterms:modified xsi:type="dcterms:W3CDTF">2005-03-14T20:18:34Z</dcterms:modified>
  <cp:revision>57</cp:revision>
  <dc:subject/>
  <dc:title>Control por computador</dc:title>
</cp:coreProperties>
</file>