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0D4-8F7F-453B-BB2C-D97D43BD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797-50B2-4D17-9E32-7E6C3477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C8A-9553-4E2A-B473-E7BBEBA6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E3B-3C6C-4EF3-B79F-98227250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419-926C-4492-BC90-9CF49834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0A7-F8ED-4E7A-9888-4B116F41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D57-5003-4B0D-897E-B74A542D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BF2-35DB-4DCF-A76E-D1DFE71D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691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332-DFFF-41C2-AC65-33CF7812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4F7-8E87-4AA9-ABE8-16E14DEC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F68-1953-4F23-B942-14C64F0C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B59-FF34-4AB3-9C88-337CBAB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4768-9079-425D-A09E-9CB4131616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752400" cy="733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927000" cy="765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557360"/>
            <a:ext cx="504180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cesos Multi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Cesar de P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A-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2895480" y="3124080"/>
            <a:ext cx="3924360" cy="1179360"/>
            <a:chOff x="2895480" y="3124080"/>
            <a:chExt cx="3924360" cy="1179360"/>
          </a:xfrm>
        </p:grpSpPr>
        <p:sp>
          <p:nvSpPr>
            <p:cNvPr id="198" name=""/>
            <p:cNvSpPr/>
            <p:nvPr/>
          </p:nvSpPr>
          <p:spPr>
            <a:xfrm>
              <a:off x="4740120" y="3871800"/>
              <a:ext cx="407880" cy="43164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1880" y="4010040"/>
              <a:ext cx="141480" cy="15228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29200" y="3871800"/>
              <a:ext cx="411120" cy="43164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62400" y="4010040"/>
              <a:ext cx="144720" cy="15228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11440" y="3787560"/>
              <a:ext cx="458640" cy="9072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12960" y="3933720"/>
              <a:ext cx="311400" cy="5400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94080" y="4022640"/>
              <a:ext cx="552240" cy="9036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3579840"/>
              <a:ext cx="608040" cy="39672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97080" y="3849480"/>
              <a:ext cx="304920" cy="38736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2720" y="3124080"/>
              <a:ext cx="2697120" cy="94932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3920" y="3706560"/>
              <a:ext cx="66600" cy="13032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76720" y="3913200"/>
              <a:ext cx="118800" cy="1188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67480" y="3919320"/>
              <a:ext cx="163440" cy="10800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48280" y="3558960"/>
              <a:ext cx="998280" cy="44136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76760" y="3249360"/>
              <a:ext cx="376200" cy="27000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76720" y="3268440"/>
              <a:ext cx="395280" cy="22392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257800" y="4495680"/>
            <a:ext cx="274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ínculo ríg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733920"/>
            <a:ext cx="1523880" cy="1371600"/>
          </a:xfrm>
          <a:prstGeom prst="cube">
            <a:avLst>
              <a:gd name="adj" fmla="val 87796"/>
            </a:avLst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648320"/>
            <a:ext cx="3924360" cy="1179000"/>
            <a:chOff x="1676520" y="4648320"/>
            <a:chExt cx="3924360" cy="1179000"/>
          </a:xfrm>
        </p:grpSpPr>
        <p:sp>
          <p:nvSpPr>
            <p:cNvPr id="217" name=""/>
            <p:cNvSpPr/>
            <p:nvPr/>
          </p:nvSpPr>
          <p:spPr>
            <a:xfrm>
              <a:off x="3521160" y="5395680"/>
              <a:ext cx="407880" cy="43164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52920" y="5533920"/>
              <a:ext cx="141480" cy="15192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10240" y="5395680"/>
              <a:ext cx="411120" cy="43164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43440" y="5533920"/>
              <a:ext cx="144720" cy="15192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92480" y="5311800"/>
              <a:ext cx="458640" cy="9000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94000" y="5457600"/>
              <a:ext cx="311400" cy="536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75120" y="5546520"/>
              <a:ext cx="552240" cy="9036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76520" y="5103720"/>
              <a:ext cx="608040" cy="39636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78120" y="5373720"/>
              <a:ext cx="304920" cy="38700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3760" y="4648320"/>
              <a:ext cx="2697120" cy="94896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4960" y="5230800"/>
              <a:ext cx="66600" cy="12960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57760" y="5437080"/>
              <a:ext cx="118800" cy="1188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8520" y="5443560"/>
              <a:ext cx="163440" cy="10728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29320" y="5083200"/>
              <a:ext cx="998280" cy="44100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57800" y="4773600"/>
              <a:ext cx="376200" cy="26928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57760" y="4792680"/>
              <a:ext cx="395280" cy="22320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733920" y="5181480"/>
            <a:ext cx="533160" cy="381240"/>
          </a:xfrm>
          <a:prstGeom prst="cube">
            <a:avLst>
              <a:gd name="adj" fmla="val 50833"/>
            </a:avLst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628640"/>
            <a:ext cx="792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4120" indent="-44604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s autos de la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Son controlables de forma independ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Existe interac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244-18AC-4B64-950C-30F077DAC7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855800" y="3259080"/>
            <a:ext cx="5408280" cy="1195920"/>
            <a:chOff x="1855800" y="3259080"/>
            <a:chExt cx="5408280" cy="1195920"/>
          </a:xfrm>
        </p:grpSpPr>
        <p:sp>
          <p:nvSpPr>
            <p:cNvPr id="237" name=""/>
            <p:cNvSpPr/>
            <p:nvPr/>
          </p:nvSpPr>
          <p:spPr>
            <a:xfrm flipV="1">
              <a:off x="4038480" y="34668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379760" y="34668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038480" y="3468600"/>
              <a:ext cx="34128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038480" y="3467160"/>
              <a:ext cx="34128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205160" y="3450960"/>
              <a:ext cx="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91040" y="344808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4152960" y="3300480"/>
              <a:ext cx="79200" cy="216000"/>
            </a:xfrm>
            <a:custGeom>
              <a:avLst/>
              <a:gdLst/>
              <a:ahLst/>
              <a:rect l="l" t="t" r="r" b="b"/>
              <a:pathLst>
                <a:path w="200" h="396">
                  <a:moveTo>
                    <a:pt x="0" y="396"/>
                  </a:moveTo>
                  <a:cubicBezTo>
                    <a:pt x="32" y="388"/>
                    <a:pt x="64" y="380"/>
                    <a:pt x="96" y="348"/>
                  </a:cubicBezTo>
                  <a:cubicBezTo>
                    <a:pt x="128" y="316"/>
                    <a:pt x="184" y="252"/>
                    <a:pt x="192" y="204"/>
                  </a:cubicBezTo>
                  <a:cubicBezTo>
                    <a:pt x="200" y="156"/>
                    <a:pt x="176" y="94"/>
                    <a:pt x="144" y="60"/>
                  </a:cubicBezTo>
                  <a:cubicBezTo>
                    <a:pt x="112" y="26"/>
                    <a:pt x="56" y="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389480" y="3641760"/>
              <a:ext cx="85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647880" y="3641760"/>
              <a:ext cx="40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647880" y="3979440"/>
              <a:ext cx="1599480" cy="456840"/>
              <a:chOff x="3647880" y="3979440"/>
              <a:chExt cx="1599480" cy="45684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4040280" y="3979440"/>
                <a:ext cx="340560" cy="456840"/>
                <a:chOff x="4040280" y="3979440"/>
                <a:chExt cx="340560" cy="456840"/>
              </a:xfrm>
            </p:grpSpPr>
            <p:sp>
              <p:nvSpPr>
                <p:cNvPr id="248" name=""/>
                <p:cNvSpPr/>
                <p:nvPr/>
              </p:nvSpPr>
              <p:spPr>
                <a:xfrm flipV="1">
                  <a:off x="4041000" y="407880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4380840" y="407880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4040280" y="4079160"/>
                  <a:ext cx="34020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>
                  <a:off x="4040280" y="4078440"/>
                  <a:ext cx="340200" cy="35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4206960" y="4063680"/>
                  <a:ext cx="0" cy="18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093200" y="4059360"/>
                  <a:ext cx="20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6200000">
                  <a:off x="4154400" y="3911400"/>
                  <a:ext cx="79920" cy="215640"/>
                </a:xfrm>
                <a:custGeom>
                  <a:avLst/>
                  <a:gdLst/>
                  <a:ahLst/>
                  <a:rect l="l" t="t" r="r" b="b"/>
                  <a:pathLst>
                    <a:path w="200" h="396">
                      <a:moveTo>
                        <a:pt x="0" y="396"/>
                      </a:moveTo>
                      <a:cubicBezTo>
                        <a:pt x="32" y="388"/>
                        <a:pt x="64" y="380"/>
                        <a:pt x="96" y="348"/>
                      </a:cubicBezTo>
                      <a:cubicBezTo>
                        <a:pt x="128" y="316"/>
                        <a:pt x="184" y="252"/>
                        <a:pt x="192" y="204"/>
                      </a:cubicBezTo>
                      <a:cubicBezTo>
                        <a:pt x="200" y="156"/>
                        <a:pt x="176" y="94"/>
                        <a:pt x="144" y="60"/>
                      </a:cubicBezTo>
                      <a:cubicBezTo>
                        <a:pt x="112" y="26"/>
                        <a:pt x="56" y="13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 flipH="1">
                <a:off x="4389480" y="4250160"/>
                <a:ext cx="857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647880" y="4250160"/>
                <a:ext cx="400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257800" y="364032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57800" y="3944880"/>
              <a:ext cx="70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81760" y="3259080"/>
              <a:ext cx="92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55800" y="3944880"/>
              <a:ext cx="144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32600" y="3716280"/>
              <a:ext cx="113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81080" y="4714920"/>
                <a:ext cx="84772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1557360"/>
            <a:ext cx="8763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4120" indent="-4460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el  proceso de mezc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n controlables de forma independiente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e interacción en el proce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ntrolabi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20F-D59E-43D0-9B54-E81323E278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505240" y="333360"/>
            <a:ext cx="4185720" cy="1046520"/>
            <a:chOff x="2505240" y="333360"/>
            <a:chExt cx="4185720" cy="1046520"/>
          </a:xfrm>
        </p:grpSpPr>
        <p:sp>
          <p:nvSpPr>
            <p:cNvPr id="266" name=""/>
            <p:cNvSpPr/>
            <p:nvPr/>
          </p:nvSpPr>
          <p:spPr>
            <a:xfrm flipV="1">
              <a:off x="4183920" y="448920"/>
              <a:ext cx="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446360" y="448920"/>
              <a:ext cx="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183560" y="449640"/>
              <a:ext cx="262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183560" y="448560"/>
              <a:ext cx="2624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312080" y="43416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24600" y="431280"/>
              <a:ext cx="1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4265640" y="310680"/>
              <a:ext cx="73800" cy="165960"/>
            </a:xfrm>
            <a:custGeom>
              <a:avLst/>
              <a:gdLst/>
              <a:ahLst/>
              <a:rect l="l" t="t" r="r" b="b"/>
              <a:pathLst>
                <a:path w="200" h="396">
                  <a:moveTo>
                    <a:pt x="0" y="396"/>
                  </a:moveTo>
                  <a:cubicBezTo>
                    <a:pt x="32" y="388"/>
                    <a:pt x="64" y="380"/>
                    <a:pt x="96" y="348"/>
                  </a:cubicBezTo>
                  <a:cubicBezTo>
                    <a:pt x="128" y="316"/>
                    <a:pt x="184" y="252"/>
                    <a:pt x="192" y="204"/>
                  </a:cubicBezTo>
                  <a:cubicBezTo>
                    <a:pt x="200" y="156"/>
                    <a:pt x="176" y="94"/>
                    <a:pt x="144" y="60"/>
                  </a:cubicBezTo>
                  <a:cubicBezTo>
                    <a:pt x="112" y="26"/>
                    <a:pt x="56" y="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453560" y="612000"/>
              <a:ext cx="66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883320" y="612000"/>
              <a:ext cx="30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883680" y="928440"/>
              <a:ext cx="1230120" cy="426600"/>
              <a:chOff x="3883680" y="928440"/>
              <a:chExt cx="1230120" cy="42660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4185360" y="928440"/>
                <a:ext cx="262080" cy="426600"/>
                <a:chOff x="4185360" y="928440"/>
                <a:chExt cx="262080" cy="426600"/>
              </a:xfrm>
            </p:grpSpPr>
            <p:sp>
              <p:nvSpPr>
                <p:cNvPr id="277" name=""/>
                <p:cNvSpPr/>
                <p:nvPr/>
              </p:nvSpPr>
              <p:spPr>
                <a:xfrm flipV="1">
                  <a:off x="4186080" y="1020960"/>
                  <a:ext cx="0" cy="32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4447440" y="1020960"/>
                  <a:ext cx="0" cy="32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4185360" y="1020600"/>
                  <a:ext cx="261720" cy="32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 flipV="1">
                  <a:off x="4185360" y="1020600"/>
                  <a:ext cx="261720" cy="33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4313880" y="1006560"/>
                  <a:ext cx="0" cy="17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226040" y="1002960"/>
                  <a:ext cx="16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6200000">
                  <a:off x="4266720" y="882720"/>
                  <a:ext cx="74520" cy="165960"/>
                </a:xfrm>
                <a:custGeom>
                  <a:avLst/>
                  <a:gdLst/>
                  <a:ahLst/>
                  <a:rect l="l" t="t" r="r" b="b"/>
                  <a:pathLst>
                    <a:path w="200" h="396">
                      <a:moveTo>
                        <a:pt x="0" y="396"/>
                      </a:moveTo>
                      <a:cubicBezTo>
                        <a:pt x="32" y="388"/>
                        <a:pt x="64" y="380"/>
                        <a:pt x="96" y="348"/>
                      </a:cubicBezTo>
                      <a:cubicBezTo>
                        <a:pt x="128" y="316"/>
                        <a:pt x="184" y="252"/>
                        <a:pt x="192" y="204"/>
                      </a:cubicBezTo>
                      <a:cubicBezTo>
                        <a:pt x="200" y="156"/>
                        <a:pt x="176" y="94"/>
                        <a:pt x="144" y="60"/>
                      </a:cubicBezTo>
                      <a:cubicBezTo>
                        <a:pt x="112" y="26"/>
                        <a:pt x="56" y="13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 flipH="1">
                <a:off x="4453920" y="1180800"/>
                <a:ext cx="659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3883680" y="1180800"/>
                <a:ext cx="30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5122080" y="610920"/>
              <a:ext cx="0" cy="58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22080" y="895680"/>
              <a:ext cx="54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07360" y="333360"/>
              <a:ext cx="74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5240" y="974160"/>
              <a:ext cx="1128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S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94200" y="760680"/>
              <a:ext cx="896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187280" y="3716280"/>
                <a:ext cx="70218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2133720" y="4876920"/>
            <a:ext cx="4655880" cy="398880"/>
          </a:xfrm>
          <a:prstGeom prst="rect">
            <a:avLst/>
          </a:prstGeom>
          <a:solidFill>
            <a:srgbClr val="d3f1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í, este sistema es controla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5562720"/>
            <a:ext cx="7467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Sería controlable el sistema s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AS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 distinto de c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16040" y="2114640"/>
                <a:ext cx="61437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F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s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+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  <m:sSup>
                                            <m:e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</m:d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s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s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+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  <m:sSup>
                                            <m:e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</m:d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F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F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6A4-BED9-497C-9EE7-67F4D33D82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76920" y="205740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304812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403848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502920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2438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2286000"/>
            <a:ext cx="304920" cy="304920"/>
          </a:xfrm>
          <a:prstGeom prst="flowChar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36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23888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54100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257800"/>
            <a:ext cx="304920" cy="304920"/>
          </a:xfrm>
          <a:prstGeom prst="flowChar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4952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486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1828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1752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48720" y="47242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33520" y="3048120"/>
                <a:ext cx="28321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53352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zo a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1676520"/>
            <a:ext cx="4190760" cy="419076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0FD-7A3E-4553-93C0-CE7C44728D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205740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304812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403848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502920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2286000"/>
            <a:ext cx="304920" cy="304920"/>
          </a:xfrm>
          <a:prstGeom prst="flowChar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4360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23888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541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5257800"/>
            <a:ext cx="304920" cy="304920"/>
          </a:xfrm>
          <a:prstGeom prst="flowChar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0" y="4952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388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6708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29000" y="5410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1828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952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0" y="20574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28600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243828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243828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772400" y="1676520"/>
            <a:ext cx="0" cy="76176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520" y="1676520"/>
            <a:ext cx="624852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167652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50292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525780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41008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541008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5410080"/>
            <a:ext cx="0" cy="7621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523520" y="6172200"/>
            <a:ext cx="632484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523880" y="556236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1828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8006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34290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con lazos S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1828800"/>
            <a:ext cx="3429000" cy="411480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457-C7BE-473E-88AD-2E2B4ECB2C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zo cerr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962520" y="1828440"/>
            <a:ext cx="4952880" cy="2554560"/>
            <a:chOff x="3962520" y="1828440"/>
            <a:chExt cx="4952880" cy="2554560"/>
          </a:xfrm>
        </p:grpSpPr>
        <p:sp>
          <p:nvSpPr>
            <p:cNvPr id="374" name=""/>
            <p:cNvSpPr/>
            <p:nvPr/>
          </p:nvSpPr>
          <p:spPr>
            <a:xfrm>
              <a:off x="6653160" y="2044440"/>
              <a:ext cx="655560" cy="390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53160" y="260820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53160" y="3170160"/>
              <a:ext cx="655560" cy="389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53160" y="373356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67480" y="226188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12160" y="217476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08720" y="226188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08720" y="338760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8105760" y="2347560"/>
              <a:ext cx="0" cy="10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201160" y="226188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67480" y="394956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12160" y="386388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08720" y="394956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01160" y="394956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43680" y="226188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43680" y="2823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08720" y="2823840"/>
              <a:ext cx="5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72480" y="282384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72480" y="343044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72480" y="368928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05760" y="3689280"/>
              <a:ext cx="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3680" y="338760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43680" y="3387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2520" y="3949560"/>
              <a:ext cx="486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62520" y="1915920"/>
              <a:ext cx="4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34440" y="2303280"/>
              <a:ext cx="4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294760" y="3603240"/>
              <a:ext cx="54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57640" y="2044440"/>
              <a:ext cx="609840" cy="43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5680" y="217476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83240" y="226188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73400" y="22618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8434440" y="18284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589640" y="1828800"/>
              <a:ext cx="38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89640" y="182880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57640" y="3733560"/>
              <a:ext cx="609840" cy="43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95680" y="386388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83240" y="394956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3400" y="3949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81960" y="394956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589640" y="4383000"/>
              <a:ext cx="38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589640" y="40363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182880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79800" y="360324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380880" y="2057400"/>
                <a:ext cx="403884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133720" y="4800600"/>
                <a:ext cx="41148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ED8-4422-49DC-B9C9-0546C5D53C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28600" y="4876920"/>
                <a:ext cx="85741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3962520" y="1828440"/>
            <a:ext cx="4952880" cy="2554560"/>
            <a:chOff x="3962520" y="1828440"/>
            <a:chExt cx="4952880" cy="2554560"/>
          </a:xfrm>
        </p:grpSpPr>
        <p:sp>
          <p:nvSpPr>
            <p:cNvPr id="422" name=""/>
            <p:cNvSpPr/>
            <p:nvPr/>
          </p:nvSpPr>
          <p:spPr>
            <a:xfrm>
              <a:off x="6653160" y="2044440"/>
              <a:ext cx="655560" cy="390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53160" y="260820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53160" y="3170160"/>
              <a:ext cx="655560" cy="389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53160" y="373356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7480" y="226188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12160" y="217476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08720" y="226188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08720" y="338760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8105760" y="2347560"/>
              <a:ext cx="0" cy="10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01160" y="226188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67480" y="394956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12160" y="386388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08720" y="394956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201160" y="394956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43680" y="226188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43680" y="2823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08720" y="2823840"/>
              <a:ext cx="5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72480" y="282384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72480" y="343044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72480" y="368928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05760" y="3689280"/>
              <a:ext cx="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43680" y="338760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43680" y="3387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62520" y="3949560"/>
              <a:ext cx="486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62520" y="1915920"/>
              <a:ext cx="4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34440" y="2303280"/>
              <a:ext cx="4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294760" y="3603240"/>
              <a:ext cx="54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57640" y="2044440"/>
              <a:ext cx="609840" cy="43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95680" y="217476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83240" y="226188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73400" y="22618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8434440" y="18284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4589640" y="1828800"/>
              <a:ext cx="38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89640" y="182880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57640" y="3733560"/>
              <a:ext cx="609840" cy="43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95680" y="386388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83240" y="394956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73400" y="3949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81960" y="394956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589640" y="4383000"/>
              <a:ext cx="38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589640" y="40363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62520" y="182880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9800" y="360324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57200" y="2209680"/>
                <a:ext cx="41148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122-3A09-41BF-951E-134EC33647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 (Lazo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04920" y="4800600"/>
                <a:ext cx="8574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68" name=""/>
          <p:cNvGrpSpPr/>
          <p:nvPr/>
        </p:nvGrpSpPr>
        <p:grpSpPr>
          <a:xfrm>
            <a:off x="3962520" y="1828440"/>
            <a:ext cx="4952880" cy="2554560"/>
            <a:chOff x="3962520" y="1828440"/>
            <a:chExt cx="4952880" cy="2554560"/>
          </a:xfrm>
        </p:grpSpPr>
        <p:sp>
          <p:nvSpPr>
            <p:cNvPr id="469" name=""/>
            <p:cNvSpPr/>
            <p:nvPr/>
          </p:nvSpPr>
          <p:spPr>
            <a:xfrm>
              <a:off x="6653160" y="2044440"/>
              <a:ext cx="655560" cy="390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3160" y="260820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53160" y="3170160"/>
              <a:ext cx="655560" cy="389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53160" y="373356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67480" y="226188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12160" y="217476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08720" y="226188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08720" y="338760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8105760" y="2347560"/>
              <a:ext cx="0" cy="10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01160" y="226188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67480" y="394956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12160" y="386388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08720" y="394956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01160" y="394956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43680" y="226188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43680" y="2823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08720" y="2823840"/>
              <a:ext cx="5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872480" y="282384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72480" y="343044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72480" y="368928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05760" y="3689280"/>
              <a:ext cx="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43680" y="338760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43680" y="3387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62520" y="3949560"/>
              <a:ext cx="486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62520" y="1915920"/>
              <a:ext cx="4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34440" y="2303280"/>
              <a:ext cx="4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94760" y="3603240"/>
              <a:ext cx="54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57640" y="2044440"/>
              <a:ext cx="609840" cy="43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95680" y="217476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83240" y="226188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073400" y="22618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8434440" y="18284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589640" y="1828800"/>
              <a:ext cx="38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89640" y="182880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57640" y="3733560"/>
              <a:ext cx="609840" cy="43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95680" y="386388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83240" y="394956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73400" y="3949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81960" y="394956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4589640" y="4383000"/>
              <a:ext cx="38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589640" y="40363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62520" y="182880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79800" y="360324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457200" y="1981080"/>
            <a:ext cx="35053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fluyen en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ó 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n = 0  no hay cambio de dinámica sobre un sistema SISO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- 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sa a manual se modifica la dinámica del laz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395280" y="5661000"/>
                <a:ext cx="46004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796000" y="5661000"/>
                <a:ext cx="1866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4859280" y="5445000"/>
            <a:ext cx="217440" cy="289080"/>
          </a:xfrm>
          <a:prstGeom prst="downArrow">
            <a:avLst>
              <a:gd name="adj1" fmla="val 50000"/>
              <a:gd name="adj2" fmla="val 332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E36-E812-49BF-AFA9-7C8D477F82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3657600"/>
            <a:ext cx="2189160" cy="6318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420440" y="2362320"/>
            <a:ext cx="761040" cy="596880"/>
            <a:chOff x="4420440" y="2362320"/>
            <a:chExt cx="761040" cy="596880"/>
          </a:xfrm>
        </p:grpSpPr>
        <p:sp>
          <p:nvSpPr>
            <p:cNvPr id="519" name=""/>
            <p:cNvSpPr/>
            <p:nvPr/>
          </p:nvSpPr>
          <p:spPr>
            <a:xfrm flipH="1">
              <a:off x="4433040" y="243216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20440" y="2438640"/>
              <a:ext cx="31716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433040" y="2438640"/>
              <a:ext cx="2916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433040" y="288936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72720" y="2660760"/>
              <a:ext cx="39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5400000">
              <a:off x="4775040" y="2552760"/>
              <a:ext cx="596880" cy="21564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572000" y="19051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0" y="28954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9625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42670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81680" y="3124080"/>
            <a:ext cx="609840" cy="60984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62720" y="2133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1814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866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2920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5288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438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57960" y="442116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38480" y="2971800"/>
            <a:ext cx="45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752480" y="3352680"/>
            <a:ext cx="596880" cy="762120"/>
            <a:chOff x="1752480" y="3352680"/>
            <a:chExt cx="596880" cy="762120"/>
          </a:xfrm>
        </p:grpSpPr>
        <p:sp>
          <p:nvSpPr>
            <p:cNvPr id="544" name=""/>
            <p:cNvSpPr/>
            <p:nvPr/>
          </p:nvSpPr>
          <p:spPr>
            <a:xfrm>
              <a:off x="1822320" y="3809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828800" y="3797280"/>
              <a:ext cx="444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28800" y="3809880"/>
              <a:ext cx="4442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79520" y="3809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050920" y="35683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52480" y="3352680"/>
              <a:ext cx="596880" cy="2160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114300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574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26668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3124080"/>
            <a:ext cx="609480" cy="60984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485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5105520"/>
            <a:ext cx="190512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5410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95480" y="586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410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627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5638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5029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771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09880" y="5410080"/>
            <a:ext cx="16765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867280"/>
            <a:ext cx="16765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809880" y="5486400"/>
            <a:ext cx="1600200" cy="3808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951-6D0A-478D-A6E7-456A6FA91D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3505320"/>
            <a:ext cx="1968480" cy="1130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8120" y="3657600"/>
            <a:ext cx="21564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57800" y="3657600"/>
            <a:ext cx="21600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95280" y="410832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509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057400" y="4025520"/>
            <a:ext cx="2160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57400" y="403848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795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65400" y="38847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22480" y="3784680"/>
            <a:ext cx="284040" cy="7920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41083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105520" y="2793960"/>
            <a:ext cx="1739880" cy="406080"/>
            <a:chOff x="5105520" y="2793960"/>
            <a:chExt cx="1739880" cy="406080"/>
          </a:xfrm>
        </p:grpSpPr>
        <p:sp>
          <p:nvSpPr>
            <p:cNvPr id="580" name=""/>
            <p:cNvSpPr/>
            <p:nvPr/>
          </p:nvSpPr>
          <p:spPr>
            <a:xfrm>
              <a:off x="5105520" y="31176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611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867640" y="303480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67640" y="304776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897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975640" y="2894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32720" y="2793960"/>
              <a:ext cx="284040" cy="792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96240" y="311760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5099040" y="3124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60960" y="46483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29000" y="297180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75160" y="3276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35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36440" y="424008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ige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47080" y="469584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514836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trada salida en amb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 lazo a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864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290640" y="32086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10000" y="3000240"/>
            <a:ext cx="29232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56160" y="330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566-607E-4016-A770-43633C4AA4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de sistemas multivariables con lazos 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ón de lazos d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por desaco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multi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EB4-B641-487E-8240-11D1C50D90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76720" y="3505320"/>
            <a:ext cx="1968480" cy="1130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657600"/>
            <a:ext cx="21564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57800" y="3657600"/>
            <a:ext cx="21600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410832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09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057400" y="4025520"/>
            <a:ext cx="2160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7400" y="403848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795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165400" y="38847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022480" y="3784680"/>
            <a:ext cx="284040" cy="7920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41083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105520" y="2793960"/>
            <a:ext cx="1739880" cy="406080"/>
            <a:chOff x="5105520" y="2793960"/>
            <a:chExt cx="1739880" cy="406080"/>
          </a:xfrm>
        </p:grpSpPr>
        <p:sp>
          <p:nvSpPr>
            <p:cNvPr id="614" name=""/>
            <p:cNvSpPr/>
            <p:nvPr/>
          </p:nvSpPr>
          <p:spPr>
            <a:xfrm>
              <a:off x="5105520" y="31176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611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5867640" y="303480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7640" y="304776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897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975640" y="2894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32720" y="2793960"/>
              <a:ext cx="284040" cy="792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96240" y="311760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099040" y="3124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0960" y="46483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86440" y="2328840"/>
            <a:ext cx="0" cy="501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29000" y="297180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75160" y="3276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1280" y="16765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29000" y="35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36440" y="424008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ige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47080" y="469584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29000" y="213372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209680" y="2286000"/>
            <a:ext cx="1231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7008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5812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2120" y="514836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trada salida en amb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 laz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860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290640" y="32086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0000" y="3000240"/>
            <a:ext cx="29232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56160" y="330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62640" y="1704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10000" y="2162160"/>
            <a:ext cx="29232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562640" y="246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4700160" y="2297160"/>
            <a:ext cx="12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755-6B0A-484D-84BC-6927A12D63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r el grado de inte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Se puede funcionar con lazos simp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so afirmativo, ¿Cual es el mejor emparejamiento de variables entrada-sali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4648320"/>
            <a:ext cx="1600200" cy="1218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195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02920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62320" y="4648320"/>
            <a:ext cx="6094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791320" y="4724280"/>
            <a:ext cx="5331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843-5A1C-4134-A973-96F49775C8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z de ganancias estaciona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3124080" y="2209680"/>
                <a:ext cx="2387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1219320" y="3352680"/>
            <a:ext cx="6933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s una buena medida de inter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 de las unidades en las que se exp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fleja el hecho característico de la interacción multivariable: los cambios en un lazo cuando otros pasan de automático a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3CF-BB7D-4748-92DA-030D8A50C0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z de Ganancias Relativas (RGA)  Matriz de Brist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076480" y="2239920"/>
                <a:ext cx="17143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</m:t>
                                  </m:r>
                                  <m:r>
                                    <m:t xml:space="preserve">|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|</m:t>
                        </m:r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6275520" y="4816440"/>
            <a:ext cx="969840" cy="831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37120" y="5327640"/>
            <a:ext cx="431640" cy="32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68760" y="4943520"/>
            <a:ext cx="80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8760" y="5519880"/>
            <a:ext cx="80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683320" y="45594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83320" y="51354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52920" y="5519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45360" y="494352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45360" y="551988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45360" y="494352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45360" y="55198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161200" y="449568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161200" y="564840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999560" y="55198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76920" y="6095880"/>
            <a:ext cx="312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876920" y="55198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915080" y="2095560"/>
                <a:ext cx="147312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343400" y="4191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14400" y="4495680"/>
            <a:ext cx="3122640" cy="1523160"/>
            <a:chOff x="914400" y="4495680"/>
            <a:chExt cx="3122640" cy="1523160"/>
          </a:xfrm>
        </p:grpSpPr>
        <p:sp>
          <p:nvSpPr>
            <p:cNvPr id="678" name=""/>
            <p:cNvSpPr/>
            <p:nvPr/>
          </p:nvSpPr>
          <p:spPr>
            <a:xfrm>
              <a:off x="1720800" y="4816440"/>
              <a:ext cx="969840" cy="831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14400" y="494316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14400" y="551952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28600" y="455904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28600" y="513540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90640" y="4943160"/>
              <a:ext cx="80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90640" y="5519520"/>
              <a:ext cx="80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90640" y="4943160"/>
              <a:ext cx="10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90640" y="5519520"/>
              <a:ext cx="10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06840" y="4495680"/>
              <a:ext cx="430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06840" y="5648040"/>
              <a:ext cx="430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C29-A929-4CFC-B759-7AB168F84A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5264280" y="5746680"/>
                <a:ext cx="239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264280" y="5746680"/>
                <a:ext cx="239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6451560" y="3733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842080" y="39625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4737240" y="3865680"/>
                <a:ext cx="825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4724280" y="4495680"/>
                <a:ext cx="876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724280" y="5105520"/>
                <a:ext cx="939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6730920" y="4724280"/>
                <a:ext cx="1409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182880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emplearse para hacer una adecuada selección de pares entrada-salida para controlar un sistema MIMO escogiendo la mínima interacción en estado estacionario o a una frecuencia d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905120" y="3886200"/>
                <a:ext cx="147312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800600" y="5791320"/>
                <a:ext cx="7491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8A8-521C-4B56-9B73-4A8C1BFEDC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1905120"/>
            <a:ext cx="970200" cy="831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971640" y="2416320"/>
            <a:ext cx="431640" cy="32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03280" y="203184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03280" y="260820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17840" y="164772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17840" y="222408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87440" y="260820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79880" y="2031840"/>
            <a:ext cx="80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79880" y="2608200"/>
            <a:ext cx="80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179880" y="2031840"/>
            <a:ext cx="10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79880" y="2608200"/>
            <a:ext cx="10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95720" y="158436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95720" y="273672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33720" y="2608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11080" y="3184560"/>
            <a:ext cx="312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11080" y="26078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72200" y="1523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5486400" y="2362320"/>
                <a:ext cx="27306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33520" y="3657600"/>
                <a:ext cx="391140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4800600" y="3733920"/>
                <a:ext cx="38228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</m:t>
                                  </m:r>
                                  <m:r>
                                    <m:t xml:space="preserve">|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     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|</m:t>
                        </m:r>
                        <m:r>
                          <m:t xml:space="preserve"> </m:t>
                        </m:r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0EA-BC01-456D-B8BB-023C722B35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um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648320" y="1981080"/>
                <a:ext cx="2527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14300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623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74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52480" y="2514600"/>
            <a:ext cx="609840" cy="22096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2209680"/>
              <a:gd name="textAreaBottom" fmla="*/ 2180160 h 2209680"/>
            </a:gdLst>
            <a:ahLst/>
            <a:rect l="textAreaLeft" t="textAreaTop" r="textAreaRight" b="textAreaBottom"/>
            <a:pathLst>
              <a:path w="21600" h="78232">
                <a:moveTo>
                  <a:pt x="3600" y="0"/>
                </a:moveTo>
                <a:arcTo wR="3600" hR="3600" stAng="16200000" swAng="-5400000"/>
                <a:lnTo>
                  <a:pt x="0" y="74632"/>
                </a:lnTo>
                <a:arcTo wR="3600" hR="3600" stAng="10800000" swAng="-5400000"/>
                <a:lnTo>
                  <a:pt x="18000" y="78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133720" y="1905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38280" y="46483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5791320" y="2895480"/>
                <a:ext cx="19177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m>
                              <m:mr>
                                <m:e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bar>
                      </m:e>
                      <m:e>
                        <m:m>
                          <m:mr>
                            <m:e>
                              <m:r>
                                <m:t xml:space="preserve">L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3733920" y="4343400"/>
            <a:ext cx="426708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fuerte interacción con el emparejamiento ( L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V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stabilidad asegurada con el emparejamiento ( L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V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43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09D-E059-4124-B09D-F3A7C0BD4C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2235240" y="2017800"/>
                <a:ext cx="4657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A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025640" y="2876400"/>
                <a:ext cx="32893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9" name=""/>
          <p:cNvSpPr/>
          <p:nvPr/>
        </p:nvSpPr>
        <p:spPr>
          <a:xfrm>
            <a:off x="5084640" y="3068640"/>
            <a:ext cx="3524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uma de los elementos de una fila o columna de la RGA 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independiente del escalado de u 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5640" y="530064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procesos asimétricos, la inversa puede sustituirse por la pseudoinversa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03640" y="58053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lab     RGA = G.*pinv(G)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D24-F37A-4957-9457-24A28485BA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066680" y="2057400"/>
                <a:ext cx="2806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876920" y="1752480"/>
                <a:ext cx="28699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7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5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3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914400" y="3733920"/>
            <a:ext cx="74674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unico emparejamiento SISO admisible resulta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-  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-  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---- 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interacción mayor en el tercer 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DF0-88B9-42A7-8FCE-E4483811F2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8487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a de desti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414972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230-6E36-4A65-9284-5CF1178AAA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stemas M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1905120"/>
            <a:ext cx="16002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2743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905120"/>
            <a:ext cx="6098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1752480"/>
            <a:ext cx="53316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168560" y="4014720"/>
                <a:ext cx="4343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5913360" y="4243320"/>
            <a:ext cx="244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6BF-84EF-4902-ADAE-E42E37ABD5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ción  entre lazos de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1500120" y="1828800"/>
            <a:ext cx="65008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DD3-58E4-4EF4-9882-BF92DF45C8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ceso de mezc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15152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400800" y="1905120"/>
                <a:ext cx="1371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57150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lance glob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715000" y="243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lance de compon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5638680" y="297180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6" name=""/>
          <p:cNvSpPr/>
          <p:nvPr/>
        </p:nvSpPr>
        <p:spPr>
          <a:xfrm>
            <a:off x="685800" y="3886200"/>
            <a:ext cx="3200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iminand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tre las dos ecu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838080" y="4724280"/>
                <a:ext cx="21463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3352680" y="4952880"/>
            <a:ext cx="838440" cy="304920"/>
          </a:xfrm>
          <a:custGeom>
            <a:avLst/>
            <a:gdLst>
              <a:gd name="textAreaLeft" fmla="*/ 131040 w 838440"/>
              <a:gd name="textAreaRight" fmla="*/ 7336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800600" y="4343400"/>
                <a:ext cx="4038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324000" y="5989680"/>
                <a:ext cx="84978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F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CBE-E1A5-4B96-868F-BFBB5F2A24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ceso de mezcla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1752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matriz de ganancias relativas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RG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410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Cuál es el mejor emparejamiento entre variables manipuladas y controladas? ¿De qué dependerá la respues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600200" y="2205000"/>
            <a:ext cx="5715000" cy="3052800"/>
            <a:chOff x="1600200" y="2205000"/>
            <a:chExt cx="5715000" cy="3052800"/>
          </a:xfrm>
        </p:grpSpPr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3505320" y="2209680"/>
                  <a:ext cx="6858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5562720" y="2209680"/>
                  <a:ext cx="7380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7" name=""/>
            <p:cNvSpPr/>
            <p:nvPr/>
          </p:nvSpPr>
          <p:spPr>
            <a:xfrm>
              <a:off x="1600200" y="2286000"/>
              <a:ext cx="5715000" cy="29718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8" name=""/>
                <p:cNvSpPr txBox="1"/>
                <p:nvPr/>
              </p:nvSpPr>
              <p:spPr>
                <a:xfrm>
                  <a:off x="3333600" y="2919240"/>
                  <a:ext cx="6480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9" name=""/>
            <p:cNvSpPr/>
            <p:nvPr/>
          </p:nvSpPr>
          <p:spPr>
            <a:xfrm>
              <a:off x="3124080" y="2438280"/>
              <a:ext cx="0" cy="2743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905120" y="2819520"/>
              <a:ext cx="4800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1" name=""/>
                <p:cNvSpPr txBox="1"/>
                <p:nvPr/>
              </p:nvSpPr>
              <p:spPr>
                <a:xfrm>
                  <a:off x="5543640" y="4214880"/>
                  <a:ext cx="64764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2" name=""/>
                <p:cNvSpPr txBox="1"/>
                <p:nvPr/>
              </p:nvSpPr>
              <p:spPr>
                <a:xfrm>
                  <a:off x="5219640" y="2919240"/>
                  <a:ext cx="121932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3" name=""/>
                <p:cNvSpPr txBox="1"/>
                <p:nvPr/>
              </p:nvSpPr>
              <p:spPr>
                <a:xfrm>
                  <a:off x="3238560" y="4173480"/>
                  <a:ext cx="121932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057400" y="3048120"/>
                  <a:ext cx="68580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2136600" y="4368960"/>
                  <a:ext cx="5274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6" name=""/>
                <p:cNvSpPr txBox="1"/>
                <p:nvPr/>
              </p:nvSpPr>
              <p:spPr>
                <a:xfrm>
                  <a:off x="3419640" y="2208240"/>
                  <a:ext cx="6858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5527800" y="2205000"/>
                  <a:ext cx="7905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E49-FEE1-49A9-80C6-F31D19C865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roceso de mezc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03640" y="1916280"/>
            <a:ext cx="33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a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, F 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003640" y="2637000"/>
            <a:ext cx="3692520" cy="1923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3520" y="2712960"/>
            <a:ext cx="0" cy="1776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56200" y="2960640"/>
            <a:ext cx="3102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5154480" y="3108240"/>
                <a:ext cx="443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089760" y="2565360"/>
                <a:ext cx="4428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7419960" y="2565360"/>
                <a:ext cx="4762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205240" y="3962520"/>
                <a:ext cx="3416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5940360" y="306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308720" y="30686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38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308720" y="38606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95280" y="1700280"/>
            <a:ext cx="3959280" cy="1972800"/>
            <a:chOff x="395280" y="1700280"/>
            <a:chExt cx="3959280" cy="1972800"/>
          </a:xfrm>
        </p:grpSpPr>
        <mc:AlternateContent>
          <mc:Choice xmlns:a14="http://schemas.microsoft.com/office/drawing/2010/main" Requires="a14">
            <p:sp>
              <p:nvSpPr>
                <p:cNvPr id="792" name=""/>
                <p:cNvSpPr txBox="1"/>
                <p:nvPr/>
              </p:nvSpPr>
              <p:spPr>
                <a:xfrm>
                  <a:off x="1715040" y="1703160"/>
                  <a:ext cx="474840" cy="37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3" name=""/>
                <p:cNvSpPr txBox="1"/>
                <p:nvPr/>
              </p:nvSpPr>
              <p:spPr>
                <a:xfrm>
                  <a:off x="3140280" y="1703160"/>
                  <a:ext cx="511200" cy="37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4" name=""/>
            <p:cNvSpPr/>
            <p:nvPr/>
          </p:nvSpPr>
          <p:spPr>
            <a:xfrm>
              <a:off x="395280" y="1752480"/>
              <a:ext cx="3959280" cy="19206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5" name=""/>
                <p:cNvSpPr txBox="1"/>
                <p:nvPr/>
              </p:nvSpPr>
              <p:spPr>
                <a:xfrm>
                  <a:off x="1595880" y="2161800"/>
                  <a:ext cx="44892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96" name=""/>
            <p:cNvSpPr/>
            <p:nvPr/>
          </p:nvSpPr>
          <p:spPr>
            <a:xfrm>
              <a:off x="1450800" y="1850760"/>
              <a:ext cx="0" cy="1773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6240" y="2097360"/>
              <a:ext cx="3325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8" name=""/>
                <p:cNvSpPr txBox="1"/>
                <p:nvPr/>
              </p:nvSpPr>
              <p:spPr>
                <a:xfrm>
                  <a:off x="3127320" y="2999160"/>
                  <a:ext cx="4485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2902680" y="2161800"/>
                  <a:ext cx="8445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0" name=""/>
                <p:cNvSpPr txBox="1"/>
                <p:nvPr/>
              </p:nvSpPr>
              <p:spPr>
                <a:xfrm>
                  <a:off x="1530000" y="2972520"/>
                  <a:ext cx="8445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1" name=""/>
                <p:cNvSpPr txBox="1"/>
                <p:nvPr/>
              </p:nvSpPr>
              <p:spPr>
                <a:xfrm>
                  <a:off x="711720" y="2244960"/>
                  <a:ext cx="474840" cy="28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766800" y="3098880"/>
                  <a:ext cx="365040" cy="2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55640" y="1702080"/>
                  <a:ext cx="474840" cy="37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3116160" y="1700280"/>
                  <a:ext cx="547560" cy="37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5" name=""/>
          <p:cNvSpPr/>
          <p:nvPr/>
        </p:nvSpPr>
        <p:spPr>
          <a:xfrm>
            <a:off x="826920" y="3789360"/>
            <a:ext cx="33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a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3, F 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9640" y="4365720"/>
            <a:ext cx="3692520" cy="1923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79520" y="4441680"/>
            <a:ext cx="0" cy="1776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2200" y="4689360"/>
            <a:ext cx="310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690480" y="4836960"/>
                <a:ext cx="44316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625760" y="4294080"/>
                <a:ext cx="4428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55960" y="4294080"/>
                <a:ext cx="4762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741240" y="5691240"/>
                <a:ext cx="3412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1476360" y="4797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844720" y="4797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476360" y="5589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44720" y="5589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21C-8F1D-4AB7-9DA5-11B451EC11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GA(j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3657600" y="2438280"/>
                <a:ext cx="1784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A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1371600" y="3200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GA se formuló originalmente sobre la matriz de ganancias estacionarias, frecuencia 0, pero puede evaluarse y dar información útil a cualquier otra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AB7-421C-405A-9C6F-DA1025ACCF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611280" y="260280"/>
            <a:ext cx="83055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s enfoques altern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LTILOOP vs Centr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457200" y="3581280"/>
            <a:ext cx="3662280" cy="2895840"/>
            <a:chOff x="457200" y="3581280"/>
            <a:chExt cx="3662280" cy="2895840"/>
          </a:xfrm>
        </p:grpSpPr>
        <p:sp>
          <p:nvSpPr>
            <p:cNvPr id="822" name=""/>
            <p:cNvSpPr/>
            <p:nvPr/>
          </p:nvSpPr>
          <p:spPr>
            <a:xfrm>
              <a:off x="1371960" y="4336560"/>
              <a:ext cx="1081080" cy="1300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843280" y="5514480"/>
              <a:ext cx="290880" cy="125640"/>
            </a:xfrm>
            <a:prstGeom prst="flowChartManualOperation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60320" y="5176080"/>
              <a:ext cx="290880" cy="29376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38640" y="5176080"/>
              <a:ext cx="290880" cy="29376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88120" y="5176080"/>
              <a:ext cx="290880" cy="29376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871280" y="5176080"/>
              <a:ext cx="290880" cy="29376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95840" y="5176080"/>
              <a:ext cx="290880" cy="29376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38640" y="5343840"/>
              <a:ext cx="0" cy="62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87080" y="5343840"/>
              <a:ext cx="0" cy="62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2171880" y="5967720"/>
              <a:ext cx="256320" cy="252000"/>
              <a:chOff x="2171880" y="5967720"/>
              <a:chExt cx="256320" cy="252000"/>
            </a:xfrm>
          </p:grpSpPr>
          <p:sp>
            <p:nvSpPr>
              <p:cNvPr id="832" name=""/>
              <p:cNvSpPr/>
              <p:nvPr/>
            </p:nvSpPr>
            <p:spPr>
              <a:xfrm>
                <a:off x="2178360" y="5968440"/>
                <a:ext cx="19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178360" y="6219720"/>
                <a:ext cx="19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 flipV="1">
                <a:off x="2177280" y="5967720"/>
                <a:ext cx="19476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2171880" y="5967720"/>
                <a:ext cx="20088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5200" y="6091200"/>
                <a:ext cx="1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383560" y="6006960"/>
                <a:ext cx="0" cy="15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383560" y="6001920"/>
                <a:ext cx="44640" cy="15948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3556800" y="5108040"/>
              <a:ext cx="249840" cy="258120"/>
              <a:chOff x="3556800" y="5108040"/>
              <a:chExt cx="249840" cy="25812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3557520" y="516420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3806640" y="516420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3556800" y="5163840"/>
                <a:ext cx="24948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3556800" y="5163840"/>
                <a:ext cx="24948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3679200" y="5155200"/>
                <a:ext cx="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595680" y="5153040"/>
                <a:ext cx="15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6200000">
                <a:off x="3647520" y="505152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741600" y="3931200"/>
              <a:ext cx="249840" cy="258120"/>
              <a:chOff x="741600" y="3931200"/>
              <a:chExt cx="249840" cy="258120"/>
            </a:xfrm>
          </p:grpSpPr>
          <p:sp>
            <p:nvSpPr>
              <p:cNvPr id="848" name=""/>
              <p:cNvSpPr/>
              <p:nvPr/>
            </p:nvSpPr>
            <p:spPr>
              <a:xfrm flipV="1">
                <a:off x="742320" y="398736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991440" y="398736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41600" y="3987000"/>
                <a:ext cx="24948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>
                <a:off x="741600" y="3987000"/>
                <a:ext cx="24948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864000" y="3978360"/>
                <a:ext cx="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80480" y="3976200"/>
                <a:ext cx="15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832320" y="38746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2827440" y="5259960"/>
              <a:ext cx="332640" cy="293760"/>
            </a:xfrm>
            <a:prstGeom prst="ellipse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449080" y="5421600"/>
              <a:ext cx="54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80080" y="5265000"/>
              <a:ext cx="56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09520" y="5265000"/>
              <a:ext cx="30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87080" y="6225120"/>
              <a:ext cx="0" cy="8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621440" y="4084920"/>
              <a:ext cx="0" cy="46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997920" y="4084920"/>
              <a:ext cx="62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57200" y="4084920"/>
              <a:ext cx="29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556360" y="4756320"/>
              <a:ext cx="29088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02880" y="50500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453040" y="5259960"/>
              <a:ext cx="2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2715120" y="4639680"/>
              <a:ext cx="0" cy="10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453040" y="4630320"/>
              <a:ext cx="2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164240" y="3581280"/>
              <a:ext cx="290880" cy="29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56160" y="4756320"/>
              <a:ext cx="29088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34560" y="5186520"/>
              <a:ext cx="29088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88800" y="387468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32640" y="4930200"/>
              <a:ext cx="13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221480" y="5321160"/>
              <a:ext cx="15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866880" y="372420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56440" y="3735720"/>
              <a:ext cx="3092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3665520" y="4885200"/>
              <a:ext cx="0" cy="222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2835720" y="4885560"/>
              <a:ext cx="829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06320" y="4881960"/>
              <a:ext cx="2494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6680" y="4881960"/>
              <a:ext cx="0" cy="1594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6680" y="6477120"/>
              <a:ext cx="1954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661480" y="6057360"/>
              <a:ext cx="0" cy="419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427120" y="6068520"/>
              <a:ext cx="232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380880" y="2666880"/>
            <a:ext cx="4419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Multiloop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 varios controladores PID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91320" y="2819520"/>
            <a:ext cx="22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entr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4495320" y="3885840"/>
            <a:ext cx="4267800" cy="2667240"/>
            <a:chOff x="4495320" y="3885840"/>
            <a:chExt cx="4267800" cy="2667240"/>
          </a:xfrm>
        </p:grpSpPr>
        <p:sp>
          <p:nvSpPr>
            <p:cNvPr id="886" name=""/>
            <p:cNvSpPr/>
            <p:nvPr/>
          </p:nvSpPr>
          <p:spPr>
            <a:xfrm>
              <a:off x="5407200" y="4925880"/>
              <a:ext cx="1077840" cy="1073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872400" y="5896800"/>
              <a:ext cx="290520" cy="104760"/>
            </a:xfrm>
            <a:prstGeom prst="flowChartManualOperation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94480" y="5618160"/>
              <a:ext cx="290520" cy="24300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73880" y="5618160"/>
              <a:ext cx="288720" cy="24300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21200" y="5618160"/>
              <a:ext cx="290520" cy="24300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04000" y="5618160"/>
              <a:ext cx="290520" cy="24300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029280" y="5618160"/>
              <a:ext cx="289080" cy="24300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73880" y="5756400"/>
              <a:ext cx="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318360" y="5756400"/>
              <a:ext cx="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6203880" y="6271920"/>
              <a:ext cx="255600" cy="208080"/>
              <a:chOff x="6203880" y="6271920"/>
              <a:chExt cx="255600" cy="208080"/>
            </a:xfrm>
          </p:grpSpPr>
          <p:sp>
            <p:nvSpPr>
              <p:cNvPr id="896" name=""/>
              <p:cNvSpPr/>
              <p:nvPr/>
            </p:nvSpPr>
            <p:spPr>
              <a:xfrm>
                <a:off x="6210360" y="627228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210360" y="648000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6209640" y="6271920"/>
                <a:ext cx="19440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6203880" y="6271920"/>
                <a:ext cx="20016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306840" y="637380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414840" y="630432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414840" y="6300360"/>
                <a:ext cx="44640" cy="13176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7583040" y="5560920"/>
              <a:ext cx="249840" cy="214560"/>
              <a:chOff x="7583040" y="5560920"/>
              <a:chExt cx="249840" cy="21456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7583760" y="5607720"/>
                <a:ext cx="0" cy="1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7832880" y="5607720"/>
                <a:ext cx="0" cy="1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7583040" y="5608080"/>
                <a:ext cx="249480" cy="16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 flipV="1">
                <a:off x="7583040" y="5607360"/>
                <a:ext cx="2494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7705440" y="560052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21920" y="5598360"/>
                <a:ext cx="15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6200000">
                <a:off x="7677360" y="5500440"/>
                <a:ext cx="37440" cy="15804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780080" y="4590720"/>
              <a:ext cx="247680" cy="212760"/>
              <a:chOff x="4780080" y="4590720"/>
              <a:chExt cx="247680" cy="212760"/>
            </a:xfrm>
          </p:grpSpPr>
          <p:sp>
            <p:nvSpPr>
              <p:cNvPr id="912" name=""/>
              <p:cNvSpPr/>
              <p:nvPr/>
            </p:nvSpPr>
            <p:spPr>
              <a:xfrm flipV="1">
                <a:off x="4780080" y="4637160"/>
                <a:ext cx="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5027760" y="4637160"/>
                <a:ext cx="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4780080" y="4637520"/>
                <a:ext cx="24768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flipV="1">
                <a:off x="4780080" y="4636800"/>
                <a:ext cx="24768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4901400" y="4629960"/>
                <a:ext cx="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18240" y="4627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6200000">
                <a:off x="4873320" y="4530600"/>
                <a:ext cx="37080" cy="15696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6858000" y="5688000"/>
              <a:ext cx="330120" cy="241200"/>
            </a:xfrm>
            <a:prstGeom prst="ellipse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6480000" y="5821200"/>
              <a:ext cx="5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008840" y="5691240"/>
              <a:ext cx="5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835760" y="5691240"/>
              <a:ext cx="30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318360" y="6483240"/>
              <a:ext cx="0" cy="6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56320" y="47181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5033520" y="4718160"/>
              <a:ext cx="6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495320" y="4718160"/>
              <a:ext cx="29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586560" y="5272200"/>
              <a:ext cx="29052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732720" y="551340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485040" y="568800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745320" y="517500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6485040" y="516744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00560" y="4302000"/>
              <a:ext cx="28908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943600" y="4648320"/>
              <a:ext cx="29052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971960" y="5626080"/>
              <a:ext cx="28908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24400" y="454500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57800" y="5737320"/>
              <a:ext cx="1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30960" y="4164120"/>
              <a:ext cx="99396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ntrolad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entraliz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489640" y="4405320"/>
              <a:ext cx="1739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99400" y="541008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6981840" y="4544640"/>
              <a:ext cx="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81840" y="4545000"/>
              <a:ext cx="24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076800" y="4476600"/>
              <a:ext cx="1152720" cy="1800"/>
            </a:xfrm>
            <a:custGeom>
              <a:avLst/>
              <a:gdLst/>
              <a:ahLst/>
              <a:rect l="l" t="t" r="r" b="b"/>
              <a:pathLst>
                <a:path w="726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467400" y="6353280"/>
              <a:ext cx="2270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8737560" y="4379760"/>
              <a:ext cx="0" cy="1973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8218080" y="4379760"/>
              <a:ext cx="530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224920" y="454500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513640" y="4545000"/>
              <a:ext cx="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7684920" y="5410080"/>
              <a:ext cx="828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84920" y="541008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224920" y="4232160"/>
              <a:ext cx="538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8763120" y="3885840"/>
              <a:ext cx="0" cy="345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4951440" y="3886200"/>
              <a:ext cx="3811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906800" y="3895560"/>
              <a:ext cx="0" cy="692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9588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76800" y="4476600"/>
              <a:ext cx="0" cy="17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1773360"/>
            <a:ext cx="569880" cy="369720"/>
          </a:xfrm>
          <a:custGeom>
            <a:avLst/>
            <a:gdLst/>
            <a:ahLst/>
            <a:rect l="l" t="t" r="r" b="b"/>
            <a:pathLst>
              <a:path w="359" h="233">
                <a:moveTo>
                  <a:pt x="359" y="0"/>
                </a:moveTo>
                <a:lnTo>
                  <a:pt x="0" y="2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7F6-D630-4611-8366-F6A897C4E2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acop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38680" y="2666880"/>
            <a:ext cx="16002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0292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0292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2388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2388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29200" y="24382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001000" y="2666880"/>
            <a:ext cx="5335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886200" y="2666880"/>
            <a:ext cx="1143000" cy="12956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286000" y="243828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371600" y="266688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76520" y="281952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81952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23880" y="205740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0880" y="2209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86000" y="34290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371600" y="365760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76520" y="380988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85800" y="380988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1523880" y="396216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3520" y="32004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767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105520" y="358128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523880" y="2057400"/>
            <a:ext cx="59436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523880" y="4572000"/>
            <a:ext cx="59436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467480" y="2057400"/>
            <a:ext cx="0" cy="9144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467480" y="3505320"/>
            <a:ext cx="0" cy="1066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267080" y="312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066680" y="5029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ntrar la matriz D, tal que GD se comporte como una matriz diagonal o casi diag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113-7838-406E-9FD5-9771245520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acoplo en estado estacion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638680" y="2666880"/>
            <a:ext cx="16002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0292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0292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2388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388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029200" y="24382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001000" y="2666880"/>
            <a:ext cx="5335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86200" y="2666880"/>
            <a:ext cx="1143000" cy="12956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286000" y="243828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71600" y="266688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676520" y="281952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" y="281952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523880" y="205740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0880" y="2209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86000" y="34290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71600" y="365760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76520" y="380988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380988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1523880" y="396216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33520" y="32004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2767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105520" y="358128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2057400"/>
            <a:ext cx="59436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523880" y="4572000"/>
            <a:ext cx="59436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467480" y="2057400"/>
            <a:ext cx="0" cy="9144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467480" y="3505320"/>
            <a:ext cx="0" cy="1066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66680" y="48769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D = G(0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, entonces G(s) G(0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diagonal en estado estacionario de modo que, en reposo, no hay interacción.  Fácíl de implementar y calcular, G(0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inversa de la matriz de ganancias estacio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BC4-E3BB-4A45-B75E-A997A4EC54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ructura de control con desac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05360" cy="48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91D-0B25-4136-B1F9-A474DA26E2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2 Multivariable Decoup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 4 modelos diná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11 (como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acta en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 12 (como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acta en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 21 (como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acta en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22 (como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acta en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s models deben construirse a partir de datos de planta, validados e incluidos en el diseño del control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desacople de lazos no es una técnica muy empleada industrialmente porque su empleo  requiere un esfuerzo significativo de modelado, sintonía y mantenimi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538-59D7-4DB7-B869-D2DF9F89B8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3505320"/>
            <a:ext cx="1968480" cy="1130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3657600"/>
            <a:ext cx="21564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3657600"/>
            <a:ext cx="21600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10832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057400" y="4025520"/>
            <a:ext cx="2160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03848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95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65400" y="38847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2480" y="3784680"/>
            <a:ext cx="284040" cy="7920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1083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105520" y="2793960"/>
            <a:ext cx="1739880" cy="406080"/>
            <a:chOff x="5105520" y="2793960"/>
            <a:chExt cx="1739880" cy="406080"/>
          </a:xfrm>
        </p:grpSpPr>
        <p:sp>
          <p:nvSpPr>
            <p:cNvPr id="72" name=""/>
            <p:cNvSpPr/>
            <p:nvPr/>
          </p:nvSpPr>
          <p:spPr>
            <a:xfrm>
              <a:off x="5105520" y="31176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11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67640" y="303480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7640" y="304776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897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975640" y="2894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32720" y="2793960"/>
              <a:ext cx="284040" cy="792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6240" y="311760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099040" y="3124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0960" y="46483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97180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75160" y="3276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5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6440" y="424008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ige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47080" y="469584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514836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trada salida en amb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 lazo a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90640" y="32086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0000" y="3000240"/>
            <a:ext cx="29232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56160" y="330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E16-AF32-4225-81D7-581C725869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rol multi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638680" y="2666880"/>
            <a:ext cx="16002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767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276720" y="35053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2388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2388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724280" y="25146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01000" y="2666880"/>
            <a:ext cx="5335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76520" y="304812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743200" y="2057400"/>
            <a:ext cx="0" cy="4572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14400" y="2743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86000" y="2514600"/>
            <a:ext cx="16765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676520" y="358128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743200" y="4191120"/>
            <a:ext cx="0" cy="3808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990720" y="33526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800600" y="358128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743200" y="2057400"/>
            <a:ext cx="47242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743200" y="4572000"/>
            <a:ext cx="47242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467480" y="2057400"/>
            <a:ext cx="0" cy="9144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467480" y="3505320"/>
            <a:ext cx="0" cy="1066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752480" y="50292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ontrolador recibe señales de todas las salidas y simultáneamente calcula todas las señales de control teniendo en cuenta la 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784-B4EC-4766-8C42-ABB08C887C2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3282840" y="4654440"/>
            <a:ext cx="1968480" cy="1130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054240" y="4807080"/>
            <a:ext cx="216000" cy="977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264280" y="4807080"/>
            <a:ext cx="215640" cy="977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301760" y="52578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5740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2063880" y="5175360"/>
            <a:ext cx="2156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063880" y="5187960"/>
            <a:ext cx="2156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28600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2171880" y="503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028960" y="4933800"/>
            <a:ext cx="284040" cy="79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92480" y="52578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5111640" y="3943440"/>
            <a:ext cx="1739880" cy="406080"/>
            <a:chOff x="5111640" y="3943440"/>
            <a:chExt cx="1739880" cy="406080"/>
          </a:xfrm>
        </p:grpSpPr>
        <p:sp>
          <p:nvSpPr>
            <p:cNvPr id="1053" name=""/>
            <p:cNvSpPr/>
            <p:nvPr/>
          </p:nvSpPr>
          <p:spPr>
            <a:xfrm>
              <a:off x="5111640" y="426708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6728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5873760" y="418428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873760" y="419724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9588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5981760" y="4043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38840" y="3943440"/>
              <a:ext cx="284040" cy="792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102360" y="4267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5105520" y="4273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67080" y="5797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54040" y="4807080"/>
            <a:ext cx="29232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60020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9560" y="3816360"/>
            <a:ext cx="29196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05720" y="4121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063880" y="4349880"/>
            <a:ext cx="29196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1600200" y="448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606680" y="44956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09680" y="4654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09680" y="31305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797440" y="3435480"/>
            <a:ext cx="29232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4360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102360" y="35812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7057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43600" y="3054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35480" y="4121280"/>
            <a:ext cx="29196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49880" y="4121280"/>
            <a:ext cx="29196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9568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978280" y="2673360"/>
            <a:ext cx="2044440" cy="825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358128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449568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2203560" y="31240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035680" y="30481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581280" y="2216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19720" y="2216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034080" y="17398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76360" y="17398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50840" y="539604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ige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537960" y="432900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319720" y="2577960"/>
            <a:ext cx="4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97080" y="2502000"/>
            <a:ext cx="4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rol Predictivo  multi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019920" y="5105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C, GPC, EPSAC, HITO, PFC,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AF8-7EE5-40E2-848F-79EABA13782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89000"/>
            <a:ext cx="6696000" cy="174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Cómo se determina el máximo número de variables que pueden ser controladas en un proceso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1120" y="2163600"/>
          <a:ext cx="8534520" cy="385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2163600"/>
                    <a:ext cx="85345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FFA-F60C-4E90-AB27-98CE3AE672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08000" y="260280"/>
            <a:ext cx="583272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requisito básic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l número de válvulas (actuadores)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número de variables controlad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4360" y="2492280"/>
          <a:ext cx="7554600" cy="341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492280"/>
                    <a:ext cx="7554600" cy="34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"/>
          <p:cNvGrpSpPr/>
          <p:nvPr/>
        </p:nvGrpSpPr>
        <p:grpSpPr>
          <a:xfrm>
            <a:off x="839880" y="4941720"/>
            <a:ext cx="956520" cy="1176480"/>
            <a:chOff x="839880" y="4941720"/>
            <a:chExt cx="956520" cy="1176480"/>
          </a:xfrm>
        </p:grpSpPr>
        <p:sp>
          <p:nvSpPr>
            <p:cNvPr id="100" name=""/>
            <p:cNvSpPr/>
            <p:nvPr/>
          </p:nvSpPr>
          <p:spPr>
            <a:xfrm>
              <a:off x="1108080" y="4941720"/>
              <a:ext cx="279360" cy="271440"/>
            </a:xfrm>
            <a:custGeom>
              <a:avLst/>
              <a:gdLst/>
              <a:ahLst/>
              <a:rect l="l" t="t" r="r" b="b"/>
              <a:pathLst>
                <a:path w="529" h="513">
                  <a:moveTo>
                    <a:pt x="109" y="24"/>
                  </a:moveTo>
                  <a:lnTo>
                    <a:pt x="168" y="0"/>
                  </a:lnTo>
                  <a:lnTo>
                    <a:pt x="211" y="17"/>
                  </a:lnTo>
                  <a:lnTo>
                    <a:pt x="255" y="73"/>
                  </a:lnTo>
                  <a:lnTo>
                    <a:pt x="284" y="153"/>
                  </a:lnTo>
                  <a:lnTo>
                    <a:pt x="288" y="210"/>
                  </a:lnTo>
                  <a:lnTo>
                    <a:pt x="291" y="282"/>
                  </a:lnTo>
                  <a:lnTo>
                    <a:pt x="480" y="279"/>
                  </a:lnTo>
                  <a:lnTo>
                    <a:pt x="529" y="290"/>
                  </a:lnTo>
                  <a:lnTo>
                    <a:pt x="523" y="324"/>
                  </a:lnTo>
                  <a:lnTo>
                    <a:pt x="421" y="310"/>
                  </a:lnTo>
                  <a:lnTo>
                    <a:pt x="288" y="332"/>
                  </a:lnTo>
                  <a:lnTo>
                    <a:pt x="260" y="404"/>
                  </a:lnTo>
                  <a:lnTo>
                    <a:pt x="221" y="467"/>
                  </a:lnTo>
                  <a:lnTo>
                    <a:pt x="175" y="492"/>
                  </a:lnTo>
                  <a:lnTo>
                    <a:pt x="126" y="513"/>
                  </a:lnTo>
                  <a:lnTo>
                    <a:pt x="91" y="499"/>
                  </a:lnTo>
                  <a:lnTo>
                    <a:pt x="42" y="443"/>
                  </a:lnTo>
                  <a:lnTo>
                    <a:pt x="7" y="373"/>
                  </a:lnTo>
                  <a:lnTo>
                    <a:pt x="0" y="314"/>
                  </a:lnTo>
                  <a:lnTo>
                    <a:pt x="18" y="195"/>
                  </a:lnTo>
                  <a:lnTo>
                    <a:pt x="60" y="105"/>
                  </a:lnTo>
                  <a:lnTo>
                    <a:pt x="91" y="53"/>
                  </a:lnTo>
                  <a:lnTo>
                    <a:pt x="129" y="20"/>
                  </a:lnTo>
                  <a:lnTo>
                    <a:pt x="10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854800">
              <a:off x="1219320" y="5168520"/>
              <a:ext cx="573120" cy="99720"/>
            </a:xfrm>
            <a:custGeom>
              <a:avLst/>
              <a:gdLst/>
              <a:ahLst/>
              <a:rect l="l" t="t" r="r" b="b"/>
              <a:pathLst>
                <a:path w="1083" h="191">
                  <a:moveTo>
                    <a:pt x="0" y="122"/>
                  </a:moveTo>
                  <a:lnTo>
                    <a:pt x="91" y="91"/>
                  </a:lnTo>
                  <a:lnTo>
                    <a:pt x="284" y="77"/>
                  </a:lnTo>
                  <a:lnTo>
                    <a:pt x="445" y="63"/>
                  </a:lnTo>
                  <a:lnTo>
                    <a:pt x="624" y="35"/>
                  </a:lnTo>
                  <a:lnTo>
                    <a:pt x="757" y="31"/>
                  </a:lnTo>
                  <a:lnTo>
                    <a:pt x="932" y="11"/>
                  </a:lnTo>
                  <a:lnTo>
                    <a:pt x="1080" y="0"/>
                  </a:lnTo>
                  <a:lnTo>
                    <a:pt x="1083" y="21"/>
                  </a:lnTo>
                  <a:lnTo>
                    <a:pt x="1048" y="49"/>
                  </a:lnTo>
                  <a:lnTo>
                    <a:pt x="915" y="49"/>
                  </a:lnTo>
                  <a:lnTo>
                    <a:pt x="926" y="83"/>
                  </a:lnTo>
                  <a:lnTo>
                    <a:pt x="908" y="125"/>
                  </a:lnTo>
                  <a:lnTo>
                    <a:pt x="872" y="153"/>
                  </a:lnTo>
                  <a:lnTo>
                    <a:pt x="817" y="153"/>
                  </a:lnTo>
                  <a:lnTo>
                    <a:pt x="771" y="139"/>
                  </a:lnTo>
                  <a:lnTo>
                    <a:pt x="754" y="94"/>
                  </a:lnTo>
                  <a:lnTo>
                    <a:pt x="754" y="66"/>
                  </a:lnTo>
                  <a:lnTo>
                    <a:pt x="628" y="69"/>
                  </a:lnTo>
                  <a:lnTo>
                    <a:pt x="575" y="83"/>
                  </a:lnTo>
                  <a:lnTo>
                    <a:pt x="469" y="111"/>
                  </a:lnTo>
                  <a:lnTo>
                    <a:pt x="319" y="129"/>
                  </a:lnTo>
                  <a:lnTo>
                    <a:pt x="192" y="133"/>
                  </a:lnTo>
                  <a:lnTo>
                    <a:pt x="109" y="150"/>
                  </a:lnTo>
                  <a:lnTo>
                    <a:pt x="32" y="191"/>
                  </a:lnTo>
                  <a:lnTo>
                    <a:pt x="0" y="150"/>
                  </a:lnTo>
                  <a:lnTo>
                    <a:pt x="21" y="111"/>
                  </a:lnTo>
                  <a:lnTo>
                    <a:pt x="38" y="10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50840" y="5224320"/>
              <a:ext cx="223920" cy="466560"/>
            </a:xfrm>
            <a:custGeom>
              <a:avLst/>
              <a:gdLst/>
              <a:ahLst/>
              <a:rect l="l" t="t" r="r" b="b"/>
              <a:pathLst>
                <a:path w="423" h="880">
                  <a:moveTo>
                    <a:pt x="188" y="0"/>
                  </a:moveTo>
                  <a:lnTo>
                    <a:pt x="241" y="9"/>
                  </a:lnTo>
                  <a:lnTo>
                    <a:pt x="304" y="9"/>
                  </a:lnTo>
                  <a:lnTo>
                    <a:pt x="388" y="51"/>
                  </a:lnTo>
                  <a:lnTo>
                    <a:pt x="419" y="136"/>
                  </a:lnTo>
                  <a:lnTo>
                    <a:pt x="423" y="251"/>
                  </a:lnTo>
                  <a:lnTo>
                    <a:pt x="391" y="379"/>
                  </a:lnTo>
                  <a:lnTo>
                    <a:pt x="336" y="502"/>
                  </a:lnTo>
                  <a:lnTo>
                    <a:pt x="294" y="607"/>
                  </a:lnTo>
                  <a:lnTo>
                    <a:pt x="251" y="754"/>
                  </a:lnTo>
                  <a:lnTo>
                    <a:pt x="202" y="841"/>
                  </a:lnTo>
                  <a:lnTo>
                    <a:pt x="140" y="880"/>
                  </a:lnTo>
                  <a:lnTo>
                    <a:pt x="87" y="880"/>
                  </a:lnTo>
                  <a:lnTo>
                    <a:pt x="25" y="841"/>
                  </a:lnTo>
                  <a:lnTo>
                    <a:pt x="0" y="785"/>
                  </a:lnTo>
                  <a:lnTo>
                    <a:pt x="0" y="694"/>
                  </a:lnTo>
                  <a:lnTo>
                    <a:pt x="34" y="575"/>
                  </a:lnTo>
                  <a:lnTo>
                    <a:pt x="63" y="411"/>
                  </a:lnTo>
                  <a:lnTo>
                    <a:pt x="73" y="208"/>
                  </a:lnTo>
                  <a:lnTo>
                    <a:pt x="56" y="55"/>
                  </a:lnTo>
                  <a:lnTo>
                    <a:pt x="108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1040" y="5243400"/>
              <a:ext cx="255600" cy="417600"/>
            </a:xfrm>
            <a:custGeom>
              <a:avLst/>
              <a:gdLst/>
              <a:ahLst/>
              <a:rect l="l" t="t" r="r" b="b"/>
              <a:pathLst>
                <a:path w="483" h="787">
                  <a:moveTo>
                    <a:pt x="367" y="31"/>
                  </a:moveTo>
                  <a:lnTo>
                    <a:pt x="420" y="0"/>
                  </a:lnTo>
                  <a:lnTo>
                    <a:pt x="458" y="0"/>
                  </a:lnTo>
                  <a:lnTo>
                    <a:pt x="483" y="25"/>
                  </a:lnTo>
                  <a:lnTo>
                    <a:pt x="469" y="73"/>
                  </a:lnTo>
                  <a:lnTo>
                    <a:pt x="437" y="105"/>
                  </a:lnTo>
                  <a:lnTo>
                    <a:pt x="378" y="136"/>
                  </a:lnTo>
                  <a:lnTo>
                    <a:pt x="263" y="182"/>
                  </a:lnTo>
                  <a:lnTo>
                    <a:pt x="115" y="262"/>
                  </a:lnTo>
                  <a:lnTo>
                    <a:pt x="59" y="265"/>
                  </a:lnTo>
                  <a:lnTo>
                    <a:pt x="90" y="339"/>
                  </a:lnTo>
                  <a:lnTo>
                    <a:pt x="154" y="419"/>
                  </a:lnTo>
                  <a:lnTo>
                    <a:pt x="206" y="518"/>
                  </a:lnTo>
                  <a:lnTo>
                    <a:pt x="227" y="619"/>
                  </a:lnTo>
                  <a:lnTo>
                    <a:pt x="217" y="650"/>
                  </a:lnTo>
                  <a:lnTo>
                    <a:pt x="186" y="672"/>
                  </a:lnTo>
                  <a:lnTo>
                    <a:pt x="143" y="685"/>
                  </a:lnTo>
                  <a:lnTo>
                    <a:pt x="101" y="716"/>
                  </a:lnTo>
                  <a:lnTo>
                    <a:pt x="84" y="749"/>
                  </a:lnTo>
                  <a:lnTo>
                    <a:pt x="73" y="787"/>
                  </a:lnTo>
                  <a:lnTo>
                    <a:pt x="41" y="787"/>
                  </a:lnTo>
                  <a:lnTo>
                    <a:pt x="31" y="758"/>
                  </a:lnTo>
                  <a:lnTo>
                    <a:pt x="52" y="713"/>
                  </a:lnTo>
                  <a:lnTo>
                    <a:pt x="112" y="682"/>
                  </a:lnTo>
                  <a:lnTo>
                    <a:pt x="147" y="650"/>
                  </a:lnTo>
                  <a:lnTo>
                    <a:pt x="178" y="633"/>
                  </a:lnTo>
                  <a:lnTo>
                    <a:pt x="189" y="601"/>
                  </a:lnTo>
                  <a:lnTo>
                    <a:pt x="175" y="518"/>
                  </a:lnTo>
                  <a:lnTo>
                    <a:pt x="126" y="455"/>
                  </a:lnTo>
                  <a:lnTo>
                    <a:pt x="84" y="399"/>
                  </a:lnTo>
                  <a:lnTo>
                    <a:pt x="31" y="336"/>
                  </a:lnTo>
                  <a:lnTo>
                    <a:pt x="0" y="276"/>
                  </a:lnTo>
                  <a:lnTo>
                    <a:pt x="0" y="241"/>
                  </a:lnTo>
                  <a:lnTo>
                    <a:pt x="27" y="224"/>
                  </a:lnTo>
                  <a:lnTo>
                    <a:pt x="136" y="161"/>
                  </a:lnTo>
                  <a:lnTo>
                    <a:pt x="241" y="105"/>
                  </a:lnTo>
                  <a:lnTo>
                    <a:pt x="346" y="53"/>
                  </a:lnTo>
                  <a:lnTo>
                    <a:pt x="36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01600" y="5651280"/>
              <a:ext cx="169920" cy="451080"/>
            </a:xfrm>
            <a:custGeom>
              <a:avLst/>
              <a:gdLst/>
              <a:ahLst/>
              <a:rect l="l" t="t" r="r" b="b"/>
              <a:pathLst>
                <a:path w="322" h="852">
                  <a:moveTo>
                    <a:pt x="60" y="98"/>
                  </a:moveTo>
                  <a:lnTo>
                    <a:pt x="18" y="43"/>
                  </a:lnTo>
                  <a:lnTo>
                    <a:pt x="32" y="0"/>
                  </a:lnTo>
                  <a:lnTo>
                    <a:pt x="74" y="0"/>
                  </a:lnTo>
                  <a:lnTo>
                    <a:pt x="123" y="46"/>
                  </a:lnTo>
                  <a:lnTo>
                    <a:pt x="186" y="140"/>
                  </a:lnTo>
                  <a:lnTo>
                    <a:pt x="221" y="231"/>
                  </a:lnTo>
                  <a:lnTo>
                    <a:pt x="252" y="319"/>
                  </a:lnTo>
                  <a:lnTo>
                    <a:pt x="263" y="399"/>
                  </a:lnTo>
                  <a:lnTo>
                    <a:pt x="260" y="440"/>
                  </a:lnTo>
                  <a:lnTo>
                    <a:pt x="228" y="493"/>
                  </a:lnTo>
                  <a:lnTo>
                    <a:pt x="176" y="633"/>
                  </a:lnTo>
                  <a:lnTo>
                    <a:pt x="116" y="713"/>
                  </a:lnTo>
                  <a:lnTo>
                    <a:pt x="102" y="748"/>
                  </a:lnTo>
                  <a:lnTo>
                    <a:pt x="158" y="755"/>
                  </a:lnTo>
                  <a:lnTo>
                    <a:pt x="231" y="755"/>
                  </a:lnTo>
                  <a:lnTo>
                    <a:pt x="322" y="786"/>
                  </a:lnTo>
                  <a:lnTo>
                    <a:pt x="316" y="810"/>
                  </a:lnTo>
                  <a:lnTo>
                    <a:pt x="302" y="838"/>
                  </a:lnTo>
                  <a:lnTo>
                    <a:pt x="274" y="852"/>
                  </a:lnTo>
                  <a:lnTo>
                    <a:pt x="217" y="832"/>
                  </a:lnTo>
                  <a:lnTo>
                    <a:pt x="158" y="801"/>
                  </a:lnTo>
                  <a:lnTo>
                    <a:pt x="74" y="796"/>
                  </a:lnTo>
                  <a:lnTo>
                    <a:pt x="22" y="807"/>
                  </a:lnTo>
                  <a:lnTo>
                    <a:pt x="0" y="790"/>
                  </a:lnTo>
                  <a:lnTo>
                    <a:pt x="0" y="765"/>
                  </a:lnTo>
                  <a:lnTo>
                    <a:pt x="29" y="738"/>
                  </a:lnTo>
                  <a:lnTo>
                    <a:pt x="74" y="692"/>
                  </a:lnTo>
                  <a:lnTo>
                    <a:pt x="154" y="576"/>
                  </a:lnTo>
                  <a:lnTo>
                    <a:pt x="189" y="476"/>
                  </a:lnTo>
                  <a:lnTo>
                    <a:pt x="200" y="377"/>
                  </a:lnTo>
                  <a:lnTo>
                    <a:pt x="197" y="325"/>
                  </a:lnTo>
                  <a:lnTo>
                    <a:pt x="169" y="231"/>
                  </a:lnTo>
                  <a:lnTo>
                    <a:pt x="95" y="129"/>
                  </a:lnTo>
                  <a:lnTo>
                    <a:pt x="43" y="77"/>
                  </a:lnTo>
                  <a:lnTo>
                    <a:pt x="6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9880" y="5621040"/>
              <a:ext cx="249120" cy="497160"/>
            </a:xfrm>
            <a:custGeom>
              <a:avLst/>
              <a:gdLst/>
              <a:ahLst/>
              <a:rect l="l" t="t" r="r" b="b"/>
              <a:pathLst>
                <a:path w="473" h="940">
                  <a:moveTo>
                    <a:pt x="276" y="165"/>
                  </a:moveTo>
                  <a:lnTo>
                    <a:pt x="347" y="74"/>
                  </a:lnTo>
                  <a:lnTo>
                    <a:pt x="410" y="0"/>
                  </a:lnTo>
                  <a:lnTo>
                    <a:pt x="451" y="8"/>
                  </a:lnTo>
                  <a:lnTo>
                    <a:pt x="473" y="39"/>
                  </a:lnTo>
                  <a:lnTo>
                    <a:pt x="473" y="94"/>
                  </a:lnTo>
                  <a:lnTo>
                    <a:pt x="434" y="126"/>
                  </a:lnTo>
                  <a:lnTo>
                    <a:pt x="367" y="168"/>
                  </a:lnTo>
                  <a:lnTo>
                    <a:pt x="314" y="220"/>
                  </a:lnTo>
                  <a:lnTo>
                    <a:pt x="256" y="290"/>
                  </a:lnTo>
                  <a:lnTo>
                    <a:pt x="231" y="342"/>
                  </a:lnTo>
                  <a:lnTo>
                    <a:pt x="203" y="405"/>
                  </a:lnTo>
                  <a:lnTo>
                    <a:pt x="188" y="490"/>
                  </a:lnTo>
                  <a:lnTo>
                    <a:pt x="188" y="566"/>
                  </a:lnTo>
                  <a:lnTo>
                    <a:pt x="203" y="661"/>
                  </a:lnTo>
                  <a:lnTo>
                    <a:pt x="242" y="752"/>
                  </a:lnTo>
                  <a:lnTo>
                    <a:pt x="273" y="804"/>
                  </a:lnTo>
                  <a:lnTo>
                    <a:pt x="294" y="838"/>
                  </a:lnTo>
                  <a:lnTo>
                    <a:pt x="294" y="867"/>
                  </a:lnTo>
                  <a:lnTo>
                    <a:pt x="273" y="877"/>
                  </a:lnTo>
                  <a:lnTo>
                    <a:pt x="224" y="877"/>
                  </a:lnTo>
                  <a:lnTo>
                    <a:pt x="147" y="891"/>
                  </a:lnTo>
                  <a:lnTo>
                    <a:pt x="87" y="912"/>
                  </a:lnTo>
                  <a:lnTo>
                    <a:pt x="53" y="940"/>
                  </a:lnTo>
                  <a:lnTo>
                    <a:pt x="20" y="929"/>
                  </a:lnTo>
                  <a:lnTo>
                    <a:pt x="0" y="891"/>
                  </a:lnTo>
                  <a:lnTo>
                    <a:pt x="3" y="860"/>
                  </a:lnTo>
                  <a:lnTo>
                    <a:pt x="63" y="835"/>
                  </a:lnTo>
                  <a:lnTo>
                    <a:pt x="157" y="829"/>
                  </a:lnTo>
                  <a:lnTo>
                    <a:pt x="245" y="829"/>
                  </a:lnTo>
                  <a:lnTo>
                    <a:pt x="210" y="786"/>
                  </a:lnTo>
                  <a:lnTo>
                    <a:pt x="193" y="734"/>
                  </a:lnTo>
                  <a:lnTo>
                    <a:pt x="168" y="661"/>
                  </a:lnTo>
                  <a:lnTo>
                    <a:pt x="140" y="584"/>
                  </a:lnTo>
                  <a:lnTo>
                    <a:pt x="140" y="493"/>
                  </a:lnTo>
                  <a:lnTo>
                    <a:pt x="147" y="405"/>
                  </a:lnTo>
                  <a:lnTo>
                    <a:pt x="179" y="325"/>
                  </a:lnTo>
                  <a:lnTo>
                    <a:pt x="234" y="220"/>
                  </a:lnTo>
                  <a:lnTo>
                    <a:pt x="276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835280" y="5856120"/>
            <a:ext cx="6172200" cy="533520"/>
          </a:xfrm>
          <a:prstGeom prst="wedgeRoundRectCallout">
            <a:avLst>
              <a:gd name="adj1" fmla="val -54527"/>
              <a:gd name="adj2" fmla="val -15893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o es una condición  nec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o no suficiente para satisfacer los objetivos de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CE9-DB55-4959-ACE6-FC5AA545C2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6920" y="981000"/>
            <a:ext cx="6913800" cy="211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NTROL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proceso es controlable si las variables controladas pueden ser mantenidas en sus valores de consigna, en estado estacionario, a pesar de las perturbaciones que afectan la pl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5040360"/>
            <a:ext cx="815328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temáticamente, un proceso es controlable cuando la matriz of ganancias del proceso puede invertirse, i.e., cuando el determinante de 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3668760"/>
                <a:ext cx="67816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3745080"/>
            <a:ext cx="91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o para un sistema 2x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45D-9145-4D8B-8F61-165D4E11DF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276720" y="3573360"/>
            <a:ext cx="3924360" cy="1179360"/>
            <a:chOff x="3276720" y="3573360"/>
            <a:chExt cx="3924360" cy="1179360"/>
          </a:xfrm>
        </p:grpSpPr>
        <p:sp>
          <p:nvSpPr>
            <p:cNvPr id="112" name=""/>
            <p:cNvSpPr/>
            <p:nvPr/>
          </p:nvSpPr>
          <p:spPr>
            <a:xfrm>
              <a:off x="5121360" y="4321080"/>
              <a:ext cx="407880" cy="43164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3120" y="4459320"/>
              <a:ext cx="141480" cy="15228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10440" y="4321080"/>
              <a:ext cx="411120" cy="43164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43640" y="4459320"/>
              <a:ext cx="144720" cy="15228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2680" y="4236840"/>
              <a:ext cx="458640" cy="9072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4200" y="4383000"/>
              <a:ext cx="311400" cy="5400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75320" y="4471920"/>
              <a:ext cx="552240" cy="9036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6720" y="4029120"/>
              <a:ext cx="608040" cy="39672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78320" y="4298760"/>
              <a:ext cx="304920" cy="38736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03960" y="3573360"/>
              <a:ext cx="2697120" cy="94932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85160" y="4155840"/>
              <a:ext cx="66600" cy="13032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57960" y="4362480"/>
              <a:ext cx="118800" cy="1188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48720" y="4368600"/>
              <a:ext cx="163440" cy="10800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9520" y="4008240"/>
              <a:ext cx="998280" cy="44136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58000" y="3698640"/>
              <a:ext cx="376200" cy="27000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57960" y="3717720"/>
              <a:ext cx="395280" cy="22392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619280" y="4724280"/>
            <a:ext cx="3924360" cy="1179720"/>
            <a:chOff x="1619280" y="4724280"/>
            <a:chExt cx="3924360" cy="1179720"/>
          </a:xfrm>
        </p:grpSpPr>
        <p:sp>
          <p:nvSpPr>
            <p:cNvPr id="129" name=""/>
            <p:cNvSpPr/>
            <p:nvPr/>
          </p:nvSpPr>
          <p:spPr>
            <a:xfrm>
              <a:off x="3463920" y="5472000"/>
              <a:ext cx="407880" cy="43200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95680" y="5610240"/>
              <a:ext cx="141480" cy="15228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53000" y="5472000"/>
              <a:ext cx="411120" cy="43200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86200" y="5610240"/>
              <a:ext cx="144720" cy="15228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5240" y="5388120"/>
              <a:ext cx="458640" cy="9036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6760" y="5533920"/>
              <a:ext cx="311400" cy="5400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17880" y="5622840"/>
              <a:ext cx="552240" cy="9072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19280" y="5180040"/>
              <a:ext cx="608040" cy="39672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20880" y="5450040"/>
              <a:ext cx="304920" cy="38736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46520" y="4724280"/>
              <a:ext cx="2697120" cy="94932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27720" y="5307120"/>
              <a:ext cx="66600" cy="12996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00520" y="5513400"/>
              <a:ext cx="118800" cy="11916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91280" y="5519880"/>
              <a:ext cx="163440" cy="10764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72080" y="5159520"/>
              <a:ext cx="998280" cy="44136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00560" y="4849920"/>
              <a:ext cx="376200" cy="26964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0520" y="4869000"/>
              <a:ext cx="395280" cy="22356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900000" y="1557360"/>
            <a:ext cx="7620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4120" indent="-4460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s autos de la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Son controlables de forma independ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Existe interac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62120" y="2971800"/>
          <a:ext cx="83808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971800"/>
                    <a:ext cx="838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57200" y="1600200"/>
            <a:ext cx="1600200" cy="838080"/>
          </a:xfrm>
          <a:prstGeom prst="wedgeRoundRectCallout">
            <a:avLst>
              <a:gd name="adj1" fmla="val -13291"/>
              <a:gd name="adj2" fmla="val 9109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 ejemp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uitivo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C23-5471-48F9-8B77-B669E5F9E4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895480" y="3124080"/>
            <a:ext cx="3924360" cy="1179360"/>
            <a:chOff x="2895480" y="3124080"/>
            <a:chExt cx="3924360" cy="1179360"/>
          </a:xfrm>
        </p:grpSpPr>
        <p:sp>
          <p:nvSpPr>
            <p:cNvPr id="151" name=""/>
            <p:cNvSpPr/>
            <p:nvPr/>
          </p:nvSpPr>
          <p:spPr>
            <a:xfrm>
              <a:off x="4740120" y="3871800"/>
              <a:ext cx="407880" cy="43164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1880" y="4010040"/>
              <a:ext cx="141480" cy="15228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29200" y="3871800"/>
              <a:ext cx="411120" cy="43164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62400" y="4010040"/>
              <a:ext cx="144720" cy="15228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11440" y="3787560"/>
              <a:ext cx="458640" cy="9072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12960" y="3933720"/>
              <a:ext cx="311400" cy="5400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94080" y="4022640"/>
              <a:ext cx="552240" cy="9036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5480" y="3579840"/>
              <a:ext cx="608040" cy="39672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97080" y="3849480"/>
              <a:ext cx="304920" cy="38736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22720" y="3124080"/>
              <a:ext cx="2697120" cy="94932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3920" y="3706560"/>
              <a:ext cx="66600" cy="13032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76720" y="3913200"/>
              <a:ext cx="118800" cy="1188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67480" y="3919320"/>
              <a:ext cx="163440" cy="10800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48280" y="3558960"/>
              <a:ext cx="998280" cy="44136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76760" y="3249360"/>
              <a:ext cx="376200" cy="27000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76720" y="3268440"/>
              <a:ext cx="395280" cy="22392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40080" y="3634200"/>
            <a:ext cx="1577880" cy="1647000"/>
            <a:chOff x="4240080" y="3634200"/>
            <a:chExt cx="1577880" cy="1647000"/>
          </a:xfrm>
        </p:grpSpPr>
        <p:sp>
          <p:nvSpPr>
            <p:cNvPr id="168" name=""/>
            <p:cNvSpPr/>
            <p:nvPr/>
          </p:nvSpPr>
          <p:spPr>
            <a:xfrm rot="20800200">
              <a:off x="4296240" y="4710960"/>
              <a:ext cx="38052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800200">
              <a:off x="4426560" y="4601880"/>
              <a:ext cx="38088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800200">
              <a:off x="4557600" y="4492800"/>
              <a:ext cx="380520" cy="53316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800200">
              <a:off x="4687920" y="4383360"/>
              <a:ext cx="38052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800200">
              <a:off x="4818600" y="4273920"/>
              <a:ext cx="38088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800200">
              <a:off x="5006160" y="4073040"/>
              <a:ext cx="38088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800200">
              <a:off x="5136840" y="3963600"/>
              <a:ext cx="38052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800200">
              <a:off x="5267520" y="3854520"/>
              <a:ext cx="380520" cy="53316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800200">
              <a:off x="5380560" y="3670920"/>
              <a:ext cx="38088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600200" y="4648320"/>
            <a:ext cx="3924360" cy="1179000"/>
            <a:chOff x="1600200" y="4648320"/>
            <a:chExt cx="3924360" cy="1179000"/>
          </a:xfrm>
        </p:grpSpPr>
        <p:sp>
          <p:nvSpPr>
            <p:cNvPr id="178" name=""/>
            <p:cNvSpPr/>
            <p:nvPr/>
          </p:nvSpPr>
          <p:spPr>
            <a:xfrm>
              <a:off x="3444840" y="5395680"/>
              <a:ext cx="407880" cy="43164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6600" y="5533920"/>
              <a:ext cx="141480" cy="15192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33920" y="5395680"/>
              <a:ext cx="411120" cy="43164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67120" y="5533920"/>
              <a:ext cx="144720" cy="15192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16160" y="5311800"/>
              <a:ext cx="458640" cy="9000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17680" y="5457600"/>
              <a:ext cx="311400" cy="536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8800" y="5546520"/>
              <a:ext cx="552240" cy="9036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00200" y="5103720"/>
              <a:ext cx="608040" cy="39636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01800" y="5373720"/>
              <a:ext cx="304920" cy="38700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27440" y="4648320"/>
              <a:ext cx="2697120" cy="94896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08640" y="5230800"/>
              <a:ext cx="66600" cy="12960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81440" y="5437080"/>
              <a:ext cx="118800" cy="1188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2200" y="5443560"/>
              <a:ext cx="163440" cy="10728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53000" y="5083200"/>
              <a:ext cx="998280" cy="44100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81480" y="4773600"/>
              <a:ext cx="376200" cy="26928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81440" y="4792680"/>
              <a:ext cx="395280" cy="22320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410080" y="4572000"/>
            <a:ext cx="2743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nculados por un res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84280"/>
            <a:ext cx="79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4120" indent="-4460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s autos de la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Son controlables de forma independ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e interac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763-EA87-46F9-BABD-6366C56732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0:02:22Z</dcterms:created>
  <dc:creator>Ing. de Sistemas y Automatica</dc:creator>
  <dc:description/>
  <dc:language>en-US</dc:language>
  <cp:lastModifiedBy>isa</cp:lastModifiedBy>
  <dcterms:modified xsi:type="dcterms:W3CDTF">2007-05-25T10:53:41Z</dcterms:modified>
  <cp:revision>30</cp:revision>
  <dc:subject/>
  <dc:title>Procesos Multivariables</dc:title>
</cp:coreProperties>
</file>